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7F1C-7B55-4D64-A8DC-D775D0BFFF4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05C-6D2B-4711-883A-38FF1C5D914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EED5-E075-4953-8E0F-6857F5AC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B20-BAD4-4C9F-AE51-9C789461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AEF7-7178-47E6-B1A3-64F062FB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BD9-7485-4DE8-84E6-B076C8E0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E77B-16D3-4035-943F-6E870C8D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C6BE-70FF-4B94-A719-7D209B46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37B-BF61-4947-8A01-AA7EC9E8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ABC-2F41-46D4-8EC0-BB96EFAE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FDD-3370-4A12-9DD6-A63D16F6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18D-D74F-48ED-AD51-504E38A9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7F2B-C5E8-4175-A8A9-BA61535C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7410-E8F7-495C-9542-91DA579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0521-C2A6-498B-83B8-AA4683B0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1DD-AD01-4794-8B9A-BE497C6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20CE-26AA-4D7F-8508-7BE07392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6602-5CEC-4DED-A743-F909C4CE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E673-E161-481C-B2E5-22C4F53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D4B-CFF5-452A-84A6-296F2A42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0FE7-0402-4B1D-8A81-7AD752D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725-B31F-4B9F-9E2A-01063C41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8468-035F-4E29-963D-F891DDCA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3B1-C855-4117-ADC1-F58A5B89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7EF8-FFA2-445D-AF02-8D26D6FA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0C65-5726-4E8D-BCF3-E583E78C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91FE-4E36-4615-AD62-3ECC9B66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E0ED-31AE-4A2D-8975-E5443586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7805-6F18-4C6E-9077-45C7C06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6A10-482E-48CF-87A9-DBBDE316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CF9-D930-4752-A133-0310A29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FBC9-70F9-424C-A988-758C8B38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75B8-19E6-4D21-A496-74C85B5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DF80-AFFA-4AE5-9AB0-065962C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E404-68D6-4A62-BF80-25B6138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09EE-BB40-4D7D-8B7A-278882C8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9273-2C3F-4104-AEFC-E2476C62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FC51-7F07-45BE-9472-47A1ED26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7B20-A266-481B-9966-94B432EE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67D7-9B3E-4CED-8F3C-69C1FA38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A076-62A8-4681-8982-8D198368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A80-B667-4DEA-B7EF-6987A0F0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2CD9-09FF-49F8-BB80-999F487D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18E4A-E780-400D-85E2-449447C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96A7-0FC7-4BE2-8ECE-1FD625A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833F1-0809-4362-9C08-B1E7382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91E6-8E38-4A36-B8CE-DD4243DB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ADA0-FB7A-4A5C-8CA8-3FBD276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1A03-0694-4D9A-804A-2B4AEC8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D4F6-4CE5-45B1-AB4D-68B7A163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D4D3-639B-42B2-93EA-E1C66820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A370-CCA9-42DF-926E-907E780D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EF3-8388-4557-93C3-9BB30DF4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AC13-30AE-4D7E-A186-BC42C17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8C0F-51F0-4785-9D02-98B8B1BF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99B0-C24E-4FB7-9FC9-E31F5CF4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2292-1DFF-47E7-8CD0-6D2416A0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4F924-538F-4112-AB9C-651B4B4A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8D2E-00A6-4E37-9FC4-F89CF6B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09DC-EEB6-4579-9BAF-3DD44AC2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9DC0-6E0C-40DE-8E7F-6F2177B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97530-B8B8-4E97-93D9-CE34D70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E5A9B-3999-4218-94A7-3192CC75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6E6-F2F5-44B3-97C7-DCD89219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04C92-BC18-40C3-901F-38735154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37A-8CFB-4941-8868-F1CED732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945-D4E8-4A0E-89BD-2829DDC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B93-9870-4393-B37A-EA5F721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4662-80F8-45F0-8E32-130D69663FC5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9625-49EF-4718-ABD6-2BF81051F70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0577-EF1B-4C56-94B3-1E573F802B6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20F9-F293-4AEA-B558-B36AD46759E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45A-78A3-491D-90BD-32B2DBC0FB8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7A0-D424-4E0D-86A2-B475E907DB2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C913-0E62-455F-8AA3-206BF66333F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F3D-2F44-40D4-88C3-3146EBB756E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71F9-0FD4-4782-8014-2E568E3F05D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AF15-20F5-42CA-8CDF-8B07DFADB4F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8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="string1 = " &amp;  string1 &amp; VbCrlf &amp; "string1 as an array of character =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 &amp;=" " &amp; charArray(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52ED-3A2E-4067-8AEB-949B6F18474C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30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CCFE-8E14-4649-9476-7C95164DCE35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Textbox1.Tex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Not 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880-28F6-4AF9-BED8-6E64B4BC6AD0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BFB-46B1-4456-8411-B23EF8F87CA7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BD3F-8DDD-4303-A624-0753F70DACB1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1F3B-47C0-4CF1-BDBD-B56BE0F4C6BA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D0A5-E331-4C78-BAC2-71ED412C3B62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8313-DA4C-4F69-A341-8614489B6729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User</cp:lastModifiedBy>
  <dcterms:modified xsi:type="dcterms:W3CDTF">2016-01-23T20:02:29Z</dcterms:modified>
  <cp:revision>4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