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AF1D-79F2-4F52-9A3C-5D2E8F01679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6C75-C4A9-45B6-87B6-E2648AE40AA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450-D696-4A78-BBC4-F7057EA6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0176-50AD-4112-AAF1-90B8FD00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0743-8BD1-4C52-955A-3D642B8C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AB1F-3D8F-4618-92CB-D3170EA9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E87E-2702-45F0-A79B-AA3B3738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02A5-1A53-40CD-AE18-8CC29C4D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CC9-D597-45D9-8F87-67BDA3D6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144-11EC-4377-95CC-CD25F70F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035-F622-41AA-97BE-BB250A7D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375-F745-49A4-B9D1-96A5AE31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6C3-D0CE-4471-B036-92ED8B3E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D52-F5EC-40E9-BD35-F0EF083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6899-91E1-4ABE-A892-C0DFA2FD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F909-CE2C-4FF1-96DD-ACF79313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810C-2640-4893-BD3D-78B513BA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350B-5802-4CE1-98DF-711FF6A7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DE97-00CA-4E7A-B401-25296C1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1F6-BED4-4B0B-B16E-5DF521F1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392-3FFF-4F3A-8B2A-896E5F1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8052-FC2E-495D-BE62-6357F49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F3A-1104-4B86-9529-0C9FB788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53C6-288D-431B-A872-5EBF1E4A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781-9F0B-4166-9F1D-E2B2F53F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0C89-2665-4DAE-81A3-DD96D491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9757-9792-4AAD-859F-C19CB192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27F8-78AB-462D-B013-0EB60720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9B8B-A42C-4275-8839-6FC62656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7CF4-D323-4699-93E4-BA0AC28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6B7-8822-4AE9-88AE-A693EECF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7B43-C814-4C2D-8940-09D6741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7BAB-7B7D-4662-AD22-72BB6409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B2F6-A0F4-4829-A94F-ED1D2E51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5DFB-DBC4-47FA-B71C-01DDABE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E9D2-566F-4B70-8E77-165F5E70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2313-FD0D-4FD6-B0CF-1F8F3481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3276-6A68-42B3-A68C-956B4130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C0A2-373B-49C3-827E-7CA6E2D0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4029-FE6E-441B-8F2F-4EF1FACF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5A6F-5685-44F8-B2D5-13935C8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D37-CA54-422E-AEB2-4E38B2C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548F-8249-44B1-93A1-898731DA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6D2B-07F3-4284-BD5F-B796D2A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D8F8-9652-4333-B1C7-060DAC16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0DE9-E770-46B6-B61E-3BE320DB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A22F-A868-4707-92DE-DE55AA4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DDC7-7860-492E-8777-D1870B87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4CD8-3C54-4344-A588-D7984D1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48E5-7BD1-4113-9BB0-1407168C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21E4-B169-431D-9EEE-752B07A7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DBC5-8563-4AE5-85ED-7625C1B8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8C4-51FC-488B-B318-7DF7809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33CD-BC66-46AD-B592-BAFEE29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22CC-D556-4802-BE32-DD6F75BA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40916-A14B-4CE1-8A27-85737444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9527-77C0-4E79-80AA-43871AD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A5CE-01B6-4D8F-92BE-54D37265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35BE-10DE-47FC-9B60-E3C1C3B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DA454-076E-44BA-9B92-4A359AED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A11F-5B6E-42CB-A1B4-CB6ABF7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F13F-FA8E-4F20-B8B6-592E15C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EA25-C0D7-409D-8AFA-EAF15376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2C6-E17F-43F2-863B-051B802D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60C54-030B-4365-BF4A-56287A43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5F2-D6EC-4393-ADDC-51B01AE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DAE-8A30-4C85-9FAD-573B501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101-439C-48EF-9452-79257C9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96C2-DFFE-4ED1-8FD7-8BB10377DA4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46B-9B81-487D-92B5-88A6645B65D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F24-F787-405B-943B-15EE7D3E24E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DF3B-12D7-428B-93AF-17AE1E31CF3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E162-6B8D-4428-8357-79935C3AE8F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CD71-3B90-4185-BA17-EDE155AAA38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AE0-2313-44D2-AAED-B601D995A3B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95F2-BC30-44FA-B372-F58C94760C2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3A39-9E20-49C5-A86D-D130D30CCE1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563-C342-4485-8E04-021242E00FB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8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="string1 = " &amp;  string1 &amp; VbCrlf &amp; "string1 as an array of character =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 &amp;=" " &amp; charArray(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04D2-00A8-432A-B349-6E020C08888C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31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D64A-3C8D-4D40-A56E-DD32A5AFBBD0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Textbox1.Tex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Not 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DF20-1FDB-45BC-830C-3599E4D7101B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01B-F0EF-484E-B722-F526CF84644F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D419-B142-4D2C-B11E-AFD48537F5F6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24DD-19B8-464A-85DE-FE2B5AE60969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A4E8-0167-4967-9DB0-FE0725349F7E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DA18-E4CE-4920-937B-1970D4645D65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User</cp:lastModifiedBy>
  <dcterms:modified xsi:type="dcterms:W3CDTF">2016-01-23T20:02:29Z</dcterms:modified>
  <cp:revision>4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