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604A-7A07-48B8-B597-8050A545E0F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92D4-5F14-4A74-92D9-EAA93F60335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240-B1B0-4E04-A8E8-4AAE49F8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2BFE-AE0B-4059-8F51-091BF9D9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F76-78BC-43A2-9247-4A579C0FE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B27F-A800-4987-A927-2D515A091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9CB-00D9-4C85-AE60-92146FE6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2CB-1B07-4B1F-9282-623DAFDE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701-DEE9-451B-BA07-0040FA0B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673-9767-4791-9C9F-C2DF8995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297-F5F3-4B4A-9C62-C8173D27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6A0-6D28-4965-9C0C-356DF171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B482-8A57-4E31-9BAF-19E03E9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0784-4567-43C3-81EF-AEDE7F6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B46-CD49-4FB6-87C7-B798254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25C-5ECA-4DB4-A903-CE1B00C6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A61F-B762-4CED-B589-C23E10B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477-8095-41BA-93C6-9E66C65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1E0-E464-4E4D-A550-BC39F6F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E70-DD86-48B8-88F5-6B4C1C70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42A3-9F78-43F5-B465-5BF98BA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F84-5AAC-4FEF-8DBF-AD2F8A5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8994-BD77-4407-8547-498F5A0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A9A-5162-45BE-9CE8-9FBFD4D7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7C70-147A-48A5-8BDA-354A8D09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EDD7-FDDE-43DC-BB41-D9788C77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4C16-0944-4273-BBF4-0EBCBE6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1F8B-B680-413B-9D86-E167E1B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95B3-7A29-4ED8-977F-92F2371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6B21-A944-4DA4-9A95-C6EBB93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8A8-27EB-4EF4-A3EC-FC5EB58B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9BA2-76BA-470D-8BED-D32309F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650D1-6FDD-4C28-9C58-6DF351FF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4C38-46B1-499A-8F6F-42D0963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F875-377F-49B3-A098-0EF94FD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9AF7-B017-4B66-AA2F-EB94FC50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8992-9BFE-4442-BD33-68E898FB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2C25-BD25-4471-A590-5F5E4E74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2ADB-ECC0-4EB7-997A-83C1971A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3B7C-1567-48BC-8A8C-B5A844E6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BA780-0241-497A-9451-23B17A4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9E8-4AED-4384-9513-DF73308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77B6-A813-438C-84B5-FF3308E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9177-DE13-4122-84CF-B68CE815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D023-6FB4-4F80-B8F0-F854739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6458-0E3D-4874-902B-4DC1CFE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C457-BDED-4530-B697-B5D22A2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1168-ED14-4D7A-90F9-C468A9F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F5E7-95E8-466C-90CB-2F43AD1C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456B7-EDCC-4B45-BF05-FC14529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E379-A1ED-40E1-9E13-2FBDA64E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2E4B-5738-434D-8970-02F3E06A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A5B-B57C-4A04-B2FB-95C2E77C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A4A2-A466-47F2-AA9D-657A8C6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397D8-22CC-4511-B51C-092DB72A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DB9B-78FC-4037-AA15-18AF7C2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80EE-1CFE-4375-9383-D126D0B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6E19-DB6A-429B-A4EF-9AE0E7B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6210-EE3D-4F40-9CC3-B35728B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4E0C-06DE-4E4C-9DEF-54EE9C1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8082-20B4-43F9-84C6-6C9126E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9A393-D4F7-47A5-8AAE-5C842FFF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3249-933A-4F62-9105-26F8BE42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CFA-ADDB-4AE8-B3A5-BC2EBE02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0DDB-2441-4321-BC0A-73785F43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6B1-C98F-4989-9B4E-3301D34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5E4-E01C-4A4C-9951-BBBF9838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23E-29C8-4252-BA31-AA9AADF0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2EC-B5C3-4924-810C-0B43F960845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CB86-14FB-45F3-80CA-FF8E1363156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2CD-9A0E-421E-A452-54A9E2C374A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919C-B53A-4A62-9EE4-CCAC8DFF839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EA8-6154-4F2B-A023-7CC490E8C3A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3194-E097-4C0E-807B-00D0DBBCC78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0FA-7159-4252-A22D-07BE4FAD75B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60E7-AE7E-4797-911A-424D421B3FE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3A0-1F93-4D22-BCD4-2687D5FD3CA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A982-1F2B-4AF2-8DA9-542D753C9EF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8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="string1 = " &amp;  string1 &amp; VbCrlf &amp; "string1 as an array of character =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 &amp;=" " &amp; charArray(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BBB-D9F2-4787-BD0A-9480F36F3BEB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30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3F2-9A12-4E1B-9798-6DA99FD3F275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Textbox1.Tex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Not 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51C-330D-4084-8BC6-741FA99D930D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A48-ABF2-43C4-A3B9-47871055C887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43E5-95DE-4A70-9BA0-093FDD37DB84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137-B1E2-4766-A927-0EBDE6CAEBCE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814-461E-48F2-8395-691FFC9BF8E6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8F5-3488-4B9C-9162-27999D6E8DF0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User</cp:lastModifiedBy>
  <dcterms:modified xsi:type="dcterms:W3CDTF">2016-01-23T20:02:29Z</dcterms:modified>
  <cp:revision>4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