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A612-C956-4FB1-8FE7-CCF999845F4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KW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5D2F-2395-4DB7-B6A8-BEDC76D3311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B65B-2419-426F-B6F2-A976F376F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8E5C-7BA4-41B6-99D3-2C916964A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4C01-084F-44DA-B2D9-75355C6AD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F8FA-2CA3-4F65-A144-B9B725516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33EF-BC7D-48D3-9235-6C5D58FFB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4899-2CB9-48DD-AEC8-3FF4F370B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AE45-CF73-499D-8001-13576C937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2FAE-48A4-4CCC-94EC-D128625F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AD34-2863-4F47-8890-C296C927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D638-7CB4-421A-A687-C4F9D4A40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9213-D075-48C0-8E46-C8715B48F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DED2-F80F-4C84-8623-6294D57B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19CF-77F8-4F89-BED7-34FA98F7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13CB-F73F-4CFB-B336-F7B65D9B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5E4E-3D75-4F92-9AA9-06C2FE33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CF63-293D-443C-B56D-47DFE413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A27C-4521-4715-B9A6-BD0E72E6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8FA1-9ABB-48B8-AFF8-C7575E7C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AF9E-8864-4252-9D2D-223359BA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EE29-B639-490A-8340-83FD4B5C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2283-D3B3-45FC-9877-6124AAEA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8298-1142-4867-9F2D-34F72764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F58A-8A12-466F-BE54-536E08BD8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11655-DB9B-42F4-B570-3F375BAD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49C97-68C5-4332-91D1-082B1EDF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CBC5F-5270-4BF3-82E2-D3C59F8B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96434-A85C-4074-A051-EE4B7644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5E960-E0C4-4008-9BB8-1E61EFBF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09EC-7EFC-476B-97F7-17420057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3A671-8176-485B-9D44-87950DA4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DD662-145C-49D8-B4AA-B3B5B077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7ABE5-553C-4859-B383-E68F7064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5B47D-ECAD-4C62-AB17-7DACC2B9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ECD36-CA1E-4C2E-9AC8-3EE1F5A0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CF18C-30A1-405A-8BE1-BEB808681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0F42F-6303-409B-8069-3FA79D5B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DA4F4-2446-42C6-B486-766E8F07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E2B5B-8566-413B-9548-0EDDA83E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F7360-1617-4B02-BE05-FCE49F20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1B45-E597-40EF-80A4-F16831E6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FA1F1-151F-4C3F-93F3-B1A33203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DF59A-DFB9-4E28-93EC-8AB17AD4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D24B7-2FA9-4CF0-A540-3564ED5D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61255-AD73-40C0-BE61-338A189C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B3813-B61B-4EAD-8067-91782BF3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868CC-A951-4C7C-8992-971C61E3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A4241-C626-4060-99B3-7D7BB227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EB9FB-68FE-4519-A7EC-F7F2E5C3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AC7AD-4862-4F09-ACDF-58FF48B6C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F3801-A138-4946-8EB4-10A856A85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F9F5-1C9A-482D-B882-18E0D7EA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3CF79-B45D-4264-B3C1-EE2F4852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6FA97-FCBC-499F-8ED0-3CFDA97E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334B3-A46B-4C12-8EC2-DCA12118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51389-A34F-4C81-B89F-F2ABE27A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B2800-56D3-4D67-B662-EAB9C17C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30536-4610-43F0-AF16-4E1D5789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B198F-E21E-4F1B-B582-84D0DA36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8EFDA-BACA-4F68-81CF-63A0FBDB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25E6B-83FE-4A46-B01F-41545388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BF43D-B5A8-4BF2-AA43-31C0F370B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E7E2-CEF2-4042-BF19-FDD198C5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43FDC-99D7-4E31-ACAD-6F6C710D0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E7D6-E667-40C8-A35B-16F7DEA0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A9F2-E5E7-495B-A2A7-20B7B013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C433-8906-4BC4-8209-B106C617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098F-D648-448D-B93C-58B11922FCE7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BECB-9E20-4C09-AD0A-239AC30FE440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ستطيل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مستطيل مستدير الزوايا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مستطيل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مستطيل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مستطيل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4099-0CD3-4C35-A3E1-8E3E07E02A5C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FD8B-D59E-4D87-9AFC-9CE62FF907AA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90" name="مستطيل مستدير الزوايا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مستطيل مستدير الزوايا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93" name="مستطيل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" name="مستطيل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" name="مستطيل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7360-2628-41D5-877B-28806B26004D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A005-1116-45DC-B7D5-C4D81852EF35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8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9" name="مستطيل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" name="مستطيل مستدير الزوايا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1A9B-D463-42C2-B1BE-226F9ED072AE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E517-6098-409E-8A19-29BD651B0E9F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3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4" name="مستطيل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" name="مستطيل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6" name="مستطيل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B0DF-FF7A-474C-A38F-78FE7B6D820F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F4A9-4C84-4ACA-81EE-CAF2C2F814B9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msdn.microsoft.com/en-us/library/aa903372(VS.71).aspx" TargetMode="External"/><Relationship Id="rId2" Type="http://schemas.openxmlformats.org/officeDocument/2006/relationships/hyperlink" Target="http://www.a1vbcode.com/code.asp?type=strings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itle 1"/>
          <p:cNvSpPr/>
          <p:nvPr/>
        </p:nvSpPr>
        <p:spPr>
          <a:xfrm>
            <a:off x="304920" y="4800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36" name="Picture 3" descr="VB_cover"/>
          <p:cNvPicPr/>
          <p:nvPr/>
        </p:nvPicPr>
        <p:blipFill>
          <a:blip r:embed="rId1"/>
          <a:stretch/>
        </p:blipFill>
        <p:spPr>
          <a:xfrm rot="20445000">
            <a:off x="838080" y="837720"/>
            <a:ext cx="1981440" cy="19814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5"/>
          <p:cNvSpPr/>
          <p:nvPr/>
        </p:nvSpPr>
        <p:spPr>
          <a:xfrm>
            <a:off x="533520" y="28195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9b2d1f"/>
                </a:solidFill>
                <a:latin typeface="Calibri"/>
                <a:ea typeface="Times New Roman"/>
              </a:rPr>
              <a:t>String Manipulation</a:t>
            </a:r>
            <a:endParaRPr b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eference: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ectur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ham O. Al-Abdul Jabba lectures for cap211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854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This allows you to grab one string within another. (For example, if you wanted to grab the “.com” from the email address “me@me.com.”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In between the round brackets of Substring( ), you specify a starting position and then how many characters you want to grab (the count starts at zero again). Like thi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Email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DotCom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Email = “me@me.com”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otCom = Email.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</a:rPr>
              <a:t>Substring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(5, 4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DotCom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Substring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00100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You could also do a check to see if the email address ended in “.com” like this. Here’s some code to do the job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Email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DotCom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Email = "me@me.com"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otCom = Email.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</a:rPr>
              <a:t>Substring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(Email.Length - 4, 4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If DotCom = ".com" The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"Ends in Dot Com"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"Doesn't End in Dot Com"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Substring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Substring method  could do the same function as Chars() method and the result would be the same. Like thi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For i = 0 To TextLength - 1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OneCharacter = FirstName.</a:t>
            </a:r>
            <a:r>
              <a:rPr b="1" lang="en-US" sz="2800" spc="-1" strike="noStrike">
                <a:solidFill>
                  <a:srgbClr val="ff0066"/>
                </a:solidFill>
                <a:latin typeface="Perpetua"/>
              </a:rPr>
              <a:t>Substring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(i, 1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MsgBox OneCharacte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Next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Substring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304560" y="13712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Dim s As String = "Welcome to the world"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s = s.</a:t>
            </a:r>
            <a:r>
              <a:rPr b="0" lang="en-US" sz="2600" spc="-1" strike="noStrike">
                <a:solidFill>
                  <a:srgbClr val="ff0066"/>
                </a:solidFill>
                <a:latin typeface="Perpetua"/>
              </a:rPr>
              <a:t>Substring</a:t>
            </a: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(8)                </a:t>
            </a:r>
            <a:r>
              <a:rPr b="0" lang="en-US" sz="2600" spc="-1" strike="noStrike">
                <a:solidFill>
                  <a:srgbClr val="33cc33"/>
                </a:solidFill>
                <a:latin typeface="Perpetua"/>
              </a:rPr>
              <a:t>‘ “to the world 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Dim r As String = "Welcome to the world"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r = r.</a:t>
            </a:r>
            <a:r>
              <a:rPr b="0" lang="en-US" sz="2600" spc="-1" strike="noStrike">
                <a:solidFill>
                  <a:srgbClr val="ff0066"/>
                </a:solidFill>
                <a:latin typeface="Perpetua"/>
              </a:rPr>
              <a:t>SubString</a:t>
            </a: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(8, 6)                   </a:t>
            </a:r>
            <a:r>
              <a:rPr b="0" lang="en-US" sz="2600" spc="-1" strike="noStrike">
                <a:solidFill>
                  <a:srgbClr val="33cc33"/>
                </a:solidFill>
                <a:latin typeface="Perpetua"/>
              </a:rPr>
              <a:t>‘ “to the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Substring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You can replace text in one string with some other tex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OldText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NewText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OldText = "This is some test"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NewText = OldText.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</a:rPr>
              <a:t>Replace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("test", "text"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OldText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NewText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When you run the program, the first message box will say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"This is some test" 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and the second box will say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"This is some text"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Repla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05920" cy="53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can also insert some new text into an string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Dim SomeText As Str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Dim NewText As Str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SomeText = "This some text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NewText = SomeText.</a:t>
            </a:r>
            <a:r>
              <a:rPr b="1" lang="en-US" sz="2000" spc="-1" strike="noStrike">
                <a:solidFill>
                  <a:srgbClr val="ff0066"/>
                </a:solidFill>
                <a:latin typeface="Perpetua"/>
                <a:ea typeface="Arial"/>
              </a:rPr>
              <a:t>Insert</a:t>
            </a: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(5, "is "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MsgBox(SomeText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MsgBox(NewText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5 in round brackets means start at position 5 in the string variable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SomeText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(the count starts at zero). You then type the text that you want inserted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first message box </a:t>
            </a:r>
            <a:r>
              <a:rPr b="0" lang="en-US" sz="2800" spc="-1" strike="noStrike">
                <a:solidFill>
                  <a:srgbClr val="696464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 This some tex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second message box </a:t>
            </a:r>
            <a:r>
              <a:rPr b="0" lang="en-US" sz="2800" spc="-1" strike="noStrike">
                <a:solidFill>
                  <a:srgbClr val="696464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 This is some tex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Inser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295280" y="1218960"/>
            <a:ext cx="64008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Split allows you to split a line of text and put each element (word or phrase) into an array;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Join allows you to join elements of an array into one line of tex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Split and Join</a:t>
            </a: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can read the text file line by line, and each line might be something like thi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“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UserName1, Password1, UserName2, Password2, UserName3, Password3”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programming problem is to separate each word. You can use Split for this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Each word would then be separated, ready for you to place into an array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Spli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6840" y="990720"/>
            <a:ext cx="845820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LineOfText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i As Integ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aryTextFile()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LineOfText = "UserName1, Password1, UserName2, Password2"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aryTextFile = LineOfText.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</a:rPr>
              <a:t>Split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(","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For i = 0 To UBound(aryTextFil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    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aryTextFile(i)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Next 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When VB finishes the splitting, it fills up your array. Each element will occupy one slot in your array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So in our example,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aryTextFile(0) 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will hold a value of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UserName1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,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aryTextFile(1) 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will hold a value of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Password1, 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Spli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0" y="990720"/>
            <a:ext cx="822960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464"/>
                </a:solidFill>
                <a:latin typeface="Perpetua"/>
              </a:rPr>
              <a:t>The Join method is used when you want to join the elements of an array back together again. Here’s some code which does exactly that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Dim LineOfText As Str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Dim i As Intege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Dim aryTextFile(3) As Str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aryTextFile(0) = "UserName1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aryTextFile(1) = "Password1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aryTextFile(2) = "UserName2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aryTextFile(3) = "Password2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LineOfText = LineOfText.</a:t>
            </a:r>
            <a:r>
              <a:rPr b="1" lang="en-US" sz="2000" spc="-1" strike="noStrike">
                <a:solidFill>
                  <a:srgbClr val="ff0066"/>
                </a:solidFill>
                <a:latin typeface="Perpetua"/>
              </a:rPr>
              <a:t>Join</a:t>
            </a: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("-", aryTextFile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MsgBox(LineOfText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464"/>
                </a:solidFill>
                <a:latin typeface="Perpetua"/>
              </a:rPr>
              <a:t>you first type what you want to use as a separator. Here, we’re using an hyphen as a separator. Next, you put the name of your array. The variable </a:t>
            </a: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LineOfText </a:t>
            </a:r>
            <a:r>
              <a:rPr b="0" lang="en-US" sz="2000" spc="-1" strike="noStrike">
                <a:solidFill>
                  <a:srgbClr val="696464"/>
                </a:solidFill>
                <a:latin typeface="Perpetua"/>
              </a:rPr>
              <a:t>will hold the following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                   </a:t>
            </a: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"UserName1-Password1-UserName2-Password2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228600" y="-7632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Join</a:t>
            </a: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Strings have their own properties and methods, just like a textbox or label or form does</a:t>
            </a: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56840" y="1447920"/>
            <a:ext cx="3886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ffffff"/>
              </a:solidFill>
              <a:latin typeface="Franklin Gothic Book"/>
              <a:ea typeface="Tahom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rcRect l="8467" t="2832" r="27059" b="24494"/>
          <a:stretch/>
        </p:blipFill>
        <p:spPr>
          <a:xfrm>
            <a:off x="4191120" y="533520"/>
            <a:ext cx="1741320" cy="586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1" name="Picture 5" descr=""/>
          <p:cNvPicPr/>
          <p:nvPr/>
        </p:nvPicPr>
        <p:blipFill>
          <a:blip r:embed="rId2"/>
          <a:srcRect l="12035" t="0" r="18750" b="8179"/>
          <a:stretch/>
        </p:blipFill>
        <p:spPr>
          <a:xfrm>
            <a:off x="6095880" y="533520"/>
            <a:ext cx="1847880" cy="586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Dim string1 As String = "hello"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Dim charArray() As Char = string1.</a:t>
            </a:r>
            <a:r>
              <a:rPr b="0" sz="2800" spc="-1" strike="noStrike">
                <a:solidFill>
                  <a:srgbClr val="ff0066"/>
                </a:solidFill>
                <a:latin typeface="Perpetua"/>
              </a:rPr>
              <a:t>ToCharArray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Dim i As Intege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Label1.Text="string1 = " &amp;  string1 &amp; VbCrlf &amp; "string1 as an array of character ="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For i = 0 To charArray.Length - 1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            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Label1.Text &amp;=" " &amp; charArray(i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Nex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228600" y="-7632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ToCharArra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914400" y="5791320"/>
            <a:ext cx="7010280" cy="82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ing1 = hello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ing1 as an array of character = h e l l o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n code previously, we had thi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If DotCom = ".com" The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MsgBox("Ends in Dot Com"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MsgBox("Doesn't End in Dot Com"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End If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can use the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Equals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method of string variables in the first line, instead of an equals sign: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If DotCom.</a:t>
            </a:r>
            <a:r>
              <a:rPr b="1" lang="en-US" sz="2800" spc="-1" strike="noStrike">
                <a:solidFill>
                  <a:srgbClr val="ff0066"/>
                </a:solidFill>
                <a:latin typeface="Perpetua"/>
              </a:rPr>
              <a:t>Equals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(“.com”) The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Equals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304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Str1.</a:t>
            </a:r>
            <a:r>
              <a:rPr b="0" lang="en-US" sz="3800" spc="-1" strike="noStrike">
                <a:solidFill>
                  <a:srgbClr val="ff0066"/>
                </a:solidFill>
                <a:latin typeface="Perpetua"/>
              </a:rPr>
              <a:t>Equals</a:t>
            </a: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(Str2)</a:t>
            </a: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      </a:t>
            </a:r>
            <a:r>
              <a:rPr b="0" lang="en-US" sz="3800" spc="-1" strike="noStrike">
                <a:solidFill>
                  <a:srgbClr val="00cc99"/>
                </a:solidFill>
                <a:latin typeface="Perpetua"/>
              </a:rPr>
              <a:t>variable</a:t>
            </a: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String.</a:t>
            </a:r>
            <a:r>
              <a:rPr b="0" lang="en-US" sz="3800" spc="-1" strike="noStrike">
                <a:solidFill>
                  <a:srgbClr val="ff0066"/>
                </a:solidFill>
                <a:latin typeface="Perpetua"/>
              </a:rPr>
              <a:t>Equals</a:t>
            </a: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(Str1,Str2) </a:t>
            </a: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	</a:t>
            </a: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  </a:t>
            </a: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cc99"/>
                </a:solidFill>
                <a:latin typeface="Perpetua"/>
              </a:rPr>
              <a:t>      </a:t>
            </a:r>
            <a:r>
              <a:rPr b="0" lang="en-US" sz="3800" spc="-1" strike="noStrike">
                <a:solidFill>
                  <a:srgbClr val="00cc99"/>
                </a:solidFill>
                <a:latin typeface="Perpetua"/>
              </a:rPr>
              <a:t>namespace</a:t>
            </a: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Equal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5" name="Line 4"/>
          <p:cNvSpPr/>
          <p:nvPr/>
        </p:nvSpPr>
        <p:spPr>
          <a:xfrm flipH="1" flipV="1">
            <a:off x="1142640" y="4266720"/>
            <a:ext cx="152280" cy="30492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6" name="Line 5"/>
          <p:cNvSpPr/>
          <p:nvPr/>
        </p:nvSpPr>
        <p:spPr>
          <a:xfrm flipH="1" flipV="1">
            <a:off x="990360" y="2819520"/>
            <a:ext cx="152280" cy="30456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7" name="AutoShape 6"/>
          <p:cNvSpPr/>
          <p:nvPr/>
        </p:nvSpPr>
        <p:spPr>
          <a:xfrm>
            <a:off x="5638680" y="2362320"/>
            <a:ext cx="533520" cy="2590560"/>
          </a:xfrm>
          <a:custGeom>
            <a:avLst/>
            <a:gdLst>
              <a:gd name="textAreaLeft" fmla="*/ 0 w 533520"/>
              <a:gd name="textAreaRight" fmla="*/ 192600 w 533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Both returns true or false</a:t>
            </a: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Perpetua"/>
              </a:rPr>
              <a:t>Str1.</a:t>
            </a:r>
            <a:r>
              <a:rPr b="1" lang="en-US" sz="4000" spc="-1" strike="noStrike">
                <a:solidFill>
                  <a:srgbClr val="ff0066"/>
                </a:solidFill>
                <a:latin typeface="Perpetua"/>
              </a:rPr>
              <a:t>compareTo</a:t>
            </a:r>
            <a:r>
              <a:rPr b="1" lang="en-US" sz="4000" spc="-1" strike="noStrike">
                <a:solidFill>
                  <a:srgbClr val="696464"/>
                </a:solidFill>
                <a:latin typeface="Perpetua"/>
              </a:rPr>
              <a:t> (str2)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Perpetua"/>
              </a:rPr>
              <a:t>Returns: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Perpetua"/>
                <a:ea typeface="Arial"/>
              </a:rPr>
              <a:t>0         if equa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Perpetua"/>
                <a:ea typeface="Arial"/>
              </a:rPr>
              <a:t>-1 </a:t>
            </a:r>
            <a:r>
              <a:rPr b="1" lang="en-US" sz="3600" spc="-1" strike="noStrike">
                <a:solidFill>
                  <a:srgbClr val="696464"/>
                </a:solidFill>
                <a:latin typeface="Perpetua"/>
                <a:ea typeface="Arial"/>
              </a:rPr>
              <a:t>	</a:t>
            </a:r>
            <a:r>
              <a:rPr b="1" lang="en-US" sz="3600" spc="-1" strike="noStrike">
                <a:solidFill>
                  <a:srgbClr val="696464"/>
                </a:solidFill>
                <a:latin typeface="Perpetua"/>
                <a:ea typeface="Arial"/>
              </a:rPr>
              <a:t>  if str1 &lt; str2  …. ASCII code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Perpetua"/>
                <a:ea typeface="Arial"/>
              </a:rPr>
              <a:t>1         if str1 &gt; str2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CompareT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m a As String = "Ahmad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Dim b As String = "Ali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(a.CompareTo(b) = 0) The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abel1.Text = "equals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nd 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(a.CompareTo(b) = -1) The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abel1.Text = "ahmad &lt;ali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nd 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(a.CompareTo(b) = 1) The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abel1.Text = "ahmad&gt;ali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nd 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1DE8-38E7-47C8-95D1-E93F48C5964F}" type="datetime">
              <a:rPr b="1" lang="en-US" sz="1400" spc="-1" strike="noStrike" u="sng">
                <a:solidFill>
                  <a:srgbClr val="696464"/>
                </a:solidFill>
                <a:uFillTx/>
                <a:latin typeface="Arial"/>
              </a:rPr>
              <a:t>07/30/26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 u="sng">
                <a:solidFill>
                  <a:srgbClr val="696464"/>
                </a:solidFill>
                <a:uFillTx/>
                <a:latin typeface="Arial"/>
              </a:rPr>
              <a:t> </a:t>
            </a:r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4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03A4-3B3B-4FA6-BD11-1F9EC2E887CB}" type="slidenum">
              <a:rPr b="1" lang="ar-SA" sz="1400" spc="-1" strike="noStrike" u="sng">
                <a:solidFill>
                  <a:srgbClr val="ffffff"/>
                </a:solidFill>
                <a:uFillTx/>
                <a:latin typeface="Franklin Gothic Book"/>
                <a:ea typeface="Tahoma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533520" y="1294920"/>
            <a:ext cx="807696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If you wish to flip around the front and back end of a string, then the  </a:t>
            </a:r>
            <a:r>
              <a:rPr b="1" lang="en-US" sz="2600" spc="-1" strike="noStrike">
                <a:solidFill>
                  <a:srgbClr val="696464"/>
                </a:solidFill>
                <a:latin typeface="Courier New"/>
                <a:ea typeface="Courier New"/>
              </a:rPr>
              <a:t>StrReverse(string)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is for you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It is used in the following way. This would pop up a message saying ‘looc si 112pac’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                 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</a:rPr>
              <a:t>StrReverse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(“cap211 is cool"))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Courier New"/>
                <a:ea typeface="Courier New"/>
              </a:rPr>
              <a:t>StrRevers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83772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</a:t>
            </a:r>
            <a:r>
              <a:rPr b="0" lang="en-US" sz="4000" spc="-1" strike="noStrike">
                <a:solidFill>
                  <a:srgbClr val="ff0066"/>
                </a:solidFill>
                <a:latin typeface="Perpetua"/>
              </a:rPr>
              <a:t>Chr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(65)  </a:t>
            </a:r>
            <a:r>
              <a:rPr b="0" lang="en-US" sz="4000" spc="-1" strike="noStrike">
                <a:solidFill>
                  <a:srgbClr val="696464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           </a:t>
            </a:r>
            <a:r>
              <a:rPr b="1" lang="en-US" sz="4000" spc="-1" strike="noStrike">
                <a:solidFill>
                  <a:srgbClr val="696464"/>
                </a:solidFill>
                <a:latin typeface="Courier New"/>
                <a:ea typeface="Courier New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</a:t>
            </a:r>
            <a:r>
              <a:rPr b="0" lang="en-US" sz="4000" spc="-1" strike="noStrike">
                <a:solidFill>
                  <a:srgbClr val="ff0066"/>
                </a:solidFill>
                <a:latin typeface="Perpetua"/>
              </a:rPr>
              <a:t>Asc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(“Apple”) </a:t>
            </a:r>
            <a:r>
              <a:rPr b="0" lang="en-US" sz="4000" spc="-1" strike="noStrike">
                <a:solidFill>
                  <a:srgbClr val="696464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 </a:t>
            </a:r>
            <a:r>
              <a:rPr b="1" lang="en-US" sz="4000" spc="-1" strike="noStrike">
                <a:solidFill>
                  <a:srgbClr val="696464"/>
                </a:solidFill>
                <a:latin typeface="Courier New"/>
                <a:ea typeface="Courier New"/>
              </a:rPr>
              <a:t>65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Perpetua"/>
              </a:rPr>
              <a:t>Asc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(“Ahmad”) </a:t>
            </a:r>
            <a:r>
              <a:rPr b="0" lang="en-US" sz="4000" spc="-1" strike="noStrike">
                <a:solidFill>
                  <a:srgbClr val="696464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 </a:t>
            </a:r>
            <a:r>
              <a:rPr b="1" lang="en-US" sz="4000" spc="-1" strike="noStrike">
                <a:solidFill>
                  <a:srgbClr val="696464"/>
                </a:solidFill>
                <a:latin typeface="Courier New"/>
                <a:ea typeface="Courier New"/>
              </a:rPr>
              <a:t>65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“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32”  &amp;  </a:t>
            </a:r>
            <a:r>
              <a:rPr b="0" lang="en-US" sz="4000" spc="-1" strike="noStrike">
                <a:solidFill>
                  <a:srgbClr val="ff0066"/>
                </a:solidFill>
                <a:latin typeface="Perpetua"/>
              </a:rPr>
              <a:t>chr(176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) &amp; “Fahrenheit” </a:t>
            </a:r>
            <a:r>
              <a:rPr b="0" lang="en-US" sz="4000" spc="-1" strike="noStrike">
                <a:solidFill>
                  <a:srgbClr val="696464"/>
                </a:solidFill>
                <a:latin typeface="Wingdings"/>
                <a:ea typeface="Wingdings"/>
              </a:rPr>
              <a:t>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                                           </a:t>
            </a:r>
            <a:r>
              <a:rPr b="1" lang="en-US" sz="2600" spc="-1" strike="noStrike">
                <a:solidFill>
                  <a:srgbClr val="696464"/>
                </a:solidFill>
                <a:latin typeface="Courier New"/>
                <a:ea typeface="Courier New"/>
              </a:rPr>
              <a:t>32°Fahrenhei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String Method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4"/>
          <p:cNvSpPr/>
          <p:nvPr/>
        </p:nvSpPr>
        <p:spPr>
          <a:xfrm>
            <a:off x="228600" y="1447920"/>
            <a:ext cx="38862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69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696464"/>
                </a:solidFill>
                <a:latin typeface="Calibri"/>
              </a:rPr>
              <a:t>Test characters to determine whether they are of specific character type  and that  perform case conversions on characters. </a:t>
            </a:r>
            <a:endParaRPr b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4724280" y="1676520"/>
            <a:ext cx="3429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IsDigit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IsLetter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IsLetterOrDigit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IsLower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IsUpper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ToUpper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ToLower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914400" y="38088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9b2d1f"/>
                </a:solidFill>
                <a:latin typeface="Calibri"/>
              </a:rPr>
              <a:t>Char</a:t>
            </a:r>
            <a:r>
              <a:rPr b="1" lang="en-US" sz="4400" spc="-1" strike="noStrike">
                <a:solidFill>
                  <a:srgbClr val="9b2d1f"/>
                </a:solidFill>
                <a:latin typeface="Calibri"/>
              </a:rPr>
              <a:t> </a:t>
            </a:r>
            <a:r>
              <a:rPr b="1" sz="4400" spc="-1" strike="noStrike">
                <a:solidFill>
                  <a:srgbClr val="9b2d1f"/>
                </a:solidFill>
                <a:latin typeface="Calibri"/>
              </a:rPr>
              <a:t>Methods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4"/>
          <p:cNvSpPr/>
          <p:nvPr/>
        </p:nvSpPr>
        <p:spPr>
          <a:xfrm>
            <a:off x="457200" y="1752480"/>
            <a:ext cx="7848720" cy="35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Dim ch As Char = Textbox1.Text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If Char.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IsDigit</a:t>
            </a: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( ch ) then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Label1.Text=“Digit”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Else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Label1.Text=“Not Digit”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End If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914400" y="38088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9b2d1f"/>
                </a:solidFill>
                <a:latin typeface="Calibri"/>
              </a:rPr>
              <a:t>Char</a:t>
            </a:r>
            <a:r>
              <a:rPr b="1" lang="en-US" sz="4400" spc="-1" strike="noStrike">
                <a:solidFill>
                  <a:srgbClr val="9b2d1f"/>
                </a:solidFill>
                <a:latin typeface="Calibri"/>
              </a:rPr>
              <a:t> </a:t>
            </a:r>
            <a:r>
              <a:rPr b="1" sz="4400" spc="-1" strike="noStrike">
                <a:solidFill>
                  <a:srgbClr val="9b2d1f"/>
                </a:solidFill>
                <a:latin typeface="Calibri"/>
              </a:rPr>
              <a:t>Methods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ing Properties and Methods</a:t>
            </a: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Visual".Length is 6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Visual".ToUpper is VISUA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123 Hike".Length is 8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123 Hike".ToLower is 123 hik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a" &amp; " bcd ".Trim &amp; "efg" is abcdefg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DE03-975F-4F79-AFFA-DD42CB1B7DDD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To get the length of a string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TextLength = FirstName.</a:t>
            </a:r>
            <a:r>
              <a:rPr b="1" lang="en-US" sz="2600" spc="-1" strike="noStrike">
                <a:solidFill>
                  <a:srgbClr val="ff0066"/>
                </a:solidFill>
                <a:latin typeface="Perpetua"/>
              </a:rPr>
              <a:t>Leng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Length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Positions in a String</a:t>
            </a: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800" y="1981080"/>
            <a:ext cx="82296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ositions of characters in a string are numbered 0, 1, 2, …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sider the string “Visual Basic”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osition 0:  V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osition 1:  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osition 7:  B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bstring “al” begins at position 4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9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23C9-2265-4D62-A6D5-3AA78DEBF105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Substring Method</a:t>
            </a: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t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str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be a string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.Substring(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s the substring of length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, beginning at position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str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isual Basic”.Substring(2, 3) is “sua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isual Basic”.Substring(0, 1) is “V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6327-38C5-4CD7-96DA-D59F21ECA5F4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IndexOf Method</a:t>
            </a: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Let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1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2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 be strings.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1.IndexOf(str2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is the position of the first occurrence of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2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 in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1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1" lang="en-US" sz="2900" spc="-1" strike="noStrike">
                <a:solidFill>
                  <a:srgbClr val="000000"/>
                </a:solidFill>
                <a:latin typeface="Perpetua"/>
              </a:rPr>
              <a:t>Note: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 Has value -1 if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2 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is not a substring of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1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.)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Visual Basic".IndexOf("is")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is 1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Visual Basic".IndexOf("si")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Visual Basic".IndexOf("ab")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5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C75A-2D88-4EC7-8CEB-4B63275A5351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Empty St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28600" y="1904760"/>
            <a:ext cx="868680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6964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string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""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, which has no characters, is called the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empty string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r the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zero-length string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6964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statement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Box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kips a line in the list box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6964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ontents of a text box can be cleared with either the stat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xtBox.Clear(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or the statement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xtBox.Text =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"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606E-8318-4CC1-A08A-630A7E3223E7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680" y="259920"/>
            <a:ext cx="7840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nitial Value of a String Variable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6964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y default the initial value is the keyword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Noth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6964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rings can be given a different initial value as follow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96a9a9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ame </a:t>
            </a:r>
            <a:r>
              <a:rPr b="1" lang="en-US" sz="2400" spc="-1" strike="noStrike">
                <a:solidFill>
                  <a:srgbClr val="96a9a9"/>
                </a:solidFill>
                <a:latin typeface="Courier New"/>
              </a:rPr>
              <a:t>As 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Fred"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88A2-5BAA-439D-99AE-8F16B619098D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121896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For more information on String methods check </a:t>
            </a:r>
            <a:r>
              <a:rPr b="1" lang="en-US" sz="2800" spc="-1" strike="noStrike" u="sng">
                <a:solidFill>
                  <a:srgbClr val="ff0066"/>
                </a:solidFill>
                <a:uFillTx/>
                <a:latin typeface="Perpetua"/>
              </a:rPr>
              <a:t>Deitel’s book</a:t>
            </a:r>
            <a:r>
              <a:rPr b="1" lang="en-US" sz="2800" spc="-1" strike="noStrike" u="sng">
                <a:solidFill>
                  <a:srgbClr val="ff0066"/>
                </a:solidFill>
                <a:uFillTx/>
                <a:latin typeface="Perpet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t is helpful for validating inputs, you may need it when coding your project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must practice lots of string manipulation examples check the following websites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http://msdn.microsoft.com/en-us/library/aa903372(VS.71).aspx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00"/>
                </a:solidFill>
                <a:uFillTx/>
                <a:latin typeface="Perpetua"/>
                <a:hlinkClick r:id="rId2"/>
              </a:rPr>
              <a:t>http://www.a1vbcode.com/code.asp?type=string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More on Str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533160" y="1922040"/>
            <a:ext cx="7924680" cy="43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To get the character at a specified position.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Dim OneCharacter As Ch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For i = 0 To TextLength - 1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    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OneCharacter = FirstName.</a:t>
            </a:r>
            <a:r>
              <a:rPr b="1" lang="en-US" sz="2600" spc="-1" strike="noStrike">
                <a:solidFill>
                  <a:srgbClr val="ff0066"/>
                </a:solidFill>
                <a:latin typeface="Perpetua"/>
              </a:rPr>
              <a:t>Chars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(i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   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MsgBox(OneCharacter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Next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Chars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0" y="1295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Dim strUpper As Str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strUpper = TextBox1.Tex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TextBox2.Text = strUpper.</a:t>
            </a:r>
            <a:r>
              <a:rPr b="1" lang="en-US" sz="2600" spc="-1" strike="noStrike">
                <a:solidFill>
                  <a:srgbClr val="ff0066"/>
                </a:solidFill>
                <a:latin typeface="Perpetua"/>
              </a:rPr>
              <a:t>ToUpp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TextBox3.Text = strUpper.</a:t>
            </a:r>
            <a:r>
              <a:rPr b="1" lang="en-US" sz="2600" spc="-1" strike="noStrike">
                <a:solidFill>
                  <a:srgbClr val="ff0066"/>
                </a:solidFill>
                <a:latin typeface="Perpetua"/>
              </a:rPr>
              <a:t>ToLow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ToUpper, ToLowe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228600" y="3657600"/>
            <a:ext cx="5257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Notice that the name of the variable you want to do something with comes first. Then, after the full stop, you add the name of the method.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/>
          <a:stretch/>
        </p:blipFill>
        <p:spPr>
          <a:xfrm>
            <a:off x="6248520" y="3733920"/>
            <a:ext cx="223812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609120" y="1752120"/>
            <a:ext cx="7086600" cy="441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One of the methods on our list is Trim. What this does is to trim any </a:t>
            </a:r>
            <a:r>
              <a:rPr b="0" lang="en-US" sz="2800" spc="-1" strike="noStrike" u="sng">
                <a:solidFill>
                  <a:srgbClr val="696464"/>
                </a:solidFill>
                <a:uFillTx/>
                <a:latin typeface="Perpetua"/>
              </a:rPr>
              <a:t>leading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 or </a:t>
            </a:r>
            <a:r>
              <a:rPr b="0" lang="en-US" sz="2800" spc="-1" strike="noStrike" u="sng">
                <a:solidFill>
                  <a:srgbClr val="696464"/>
                </a:solidFill>
                <a:uFillTx/>
                <a:latin typeface="Perpetua"/>
              </a:rPr>
              <a:t>trailing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 blank spaces from a string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So if the string was “ Text  ”, then Trim would delete those spaces for you, leaving just “Text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use it in your code like this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7200" rt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FirstName = txtFirst.Tex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7200" rt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FirstName = FirstName.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  <a:ea typeface="Arial"/>
              </a:rPr>
              <a:t>Tri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Tri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07732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InStr( )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method of string variables tells you what the position of one string is inside another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For example, if your string was “me@me.com” and you wanted to know if the string contained the @ symbol, you could use InStr( ) Method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would use it like this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7200" rt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FirstString = “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me@me.com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7200" rt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SecondString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 = “@”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7200" rt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position = 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  <a:ea typeface="Arial"/>
              </a:rPr>
              <a:t>InStr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(FirstString, SecondString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InStr</a:t>
            </a: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( 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762120" y="1676160"/>
            <a:ext cx="77724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variable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FirstString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s the string we want to search;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SecondString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s what we want to search for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can specify a starting position for the search to begin. If you do, this number goes at the start (the default is zero)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position = </a:t>
            </a:r>
            <a:r>
              <a:rPr b="1" lang="en-US" sz="2800" spc="-1" strike="noStrike">
                <a:solidFill>
                  <a:srgbClr val="ff0066"/>
                </a:solidFill>
                <a:latin typeface="Perpetua"/>
              </a:rPr>
              <a:t>InStr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(1, FirstString, SecondString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n the code above,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position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would have a value of 3. That’s because the @ symbols starts at the third letter of “me@me.com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InStr</a:t>
            </a: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( 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609480" y="1447560"/>
            <a:ext cx="77724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Note: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InStr() Method starts counting at 1, and not zero like Chars(), which is very confusing!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f the string you’re searching for is not found, then the value placed inside of your integer variable (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position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n our case) is zero. That enables you to code something like thi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If position = 0 The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   </a:t>
            </a: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MsgBox (“Not a Valid email address: There was No @ Sign”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End If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InStr</a:t>
            </a: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( 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9:04:19Z</dcterms:created>
  <dc:creator>wagait</dc:creator>
  <dc:description/>
  <dc:language>en-US</dc:language>
  <cp:lastModifiedBy>User</cp:lastModifiedBy>
  <dcterms:modified xsi:type="dcterms:W3CDTF">2016-01-23T20:02:29Z</dcterms:modified>
  <cp:revision>49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مستند</vt:lpwstr>
  </property>
  <property fmtid="{D5CDD505-2E9C-101B-9397-08002B2CF9AE}" pid="6" name="ContentTypeId">
    <vt:lpwstr>0x0101005130AFAA5D399E489E1819B440698DE2</vt:lpwstr>
  </property>
  <property fmtid="{D5CDD505-2E9C-101B-9397-08002B2CF9AE}" pid="7" name="Keywords">
    <vt:lpwstr/>
  </property>
  <property fmtid="{D5CDD505-2E9C-101B-9397-08002B2CF9AE}" pid="8" name="PublishingExpirationDate">
    <vt:lpwstr/>
  </property>
  <property fmtid="{D5CDD505-2E9C-101B-9397-08002B2CF9AE}" pid="9" name="PublishingStartDate">
    <vt:lpwstr/>
  </property>
  <property fmtid="{D5CDD505-2E9C-101B-9397-08002B2CF9AE}" pid="10" name="Slides">
    <vt:lpwstr>28</vt:lpwstr>
  </property>
  <property fmtid="{D5CDD505-2E9C-101B-9397-08002B2CF9AE}" pid="11" name="Subject">
    <vt:lpwstr/>
  </property>
  <property fmtid="{D5CDD505-2E9C-101B-9397-08002B2CF9AE}" pid="12" name="_Author">
    <vt:lpwstr>wagait</vt:lpwstr>
  </property>
  <property fmtid="{D5CDD505-2E9C-101B-9397-08002B2CF9AE}" pid="13" name="_Category">
    <vt:lpwstr/>
  </property>
  <property fmtid="{D5CDD505-2E9C-101B-9397-08002B2CF9AE}" pid="14" name="_Comments">
    <vt:lpwstr/>
  </property>
</Properties>
</file>