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E035-7DA9-47BF-BB50-A524A170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6377-3F74-48CD-A6BE-18239A45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7670-E90D-4C0C-A59E-68C675EA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F93A-6BCD-4F03-A8D0-29BF0DE9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BD5B-D3A5-45FA-A443-B1C8C0E6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49B-CBFA-4A21-8C84-70FBB70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5EB5-C915-46C6-8ECC-A40D57C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168-F0F4-4487-ACCC-E6A41AD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3A9C-70EF-414C-9535-ABE748F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FF90-9717-4A0A-937B-3BD5E85E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30E8-40FF-4AD1-80C7-2FCA6EB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2C98-9039-422F-9C39-2A5EDD98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61A5-0168-49D3-B5B5-BD1FCCDE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860-5F8A-4E18-B4F7-4BF91D8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770-C41D-4EC7-B804-D58AB8BF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E1D-B083-4E5D-BA1B-95D5CAB3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BF66-2D0A-40DC-8057-9EA7D15E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E98C-8119-4521-ABB6-2BC04524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0159-C873-4106-A481-F0669BA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D97E-0F02-41ED-8CA5-02238ED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2975-73F9-4209-96E5-C8C2545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084-281A-4646-A4BA-E580C88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563D-5BDC-499C-BC02-E26440FB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6FC6-70CB-4259-8F49-F4D3273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24DE-6DB6-4AF9-9BBF-0EDAB5501A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f27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7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f27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dc7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2D09-DDB1-42D2-A324-174D71FCEF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Arial"/>
              </a:rPr>
              <a:t>الوحدة التاسعة: </a:t>
            </a:r>
            <a:r>
              <a:rPr b="1" lang="ar-SA" sz="4800" spc="-1" strike="noStrike">
                <a:solidFill>
                  <a:srgbClr val="800000"/>
                </a:solidFill>
                <a:latin typeface="Arial"/>
              </a:rPr>
              <a:t>ماهية تكنولوجيا التعليم</a:t>
            </a:r>
            <a:endParaRPr b="1" lang="en-US" sz="4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101" name="Picture 13" descr="شعار الجمعية"/>
          <p:cNvPicPr/>
          <p:nvPr/>
        </p:nvPicPr>
        <p:blipFill>
          <a:blip r:embed="rId1"/>
          <a:stretch/>
        </p:blipFill>
        <p:spPr>
          <a:xfrm>
            <a:off x="6084720" y="3429000"/>
            <a:ext cx="1548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94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مربع نص 9"/>
          <p:cNvSpPr/>
          <p:nvPr/>
        </p:nvSpPr>
        <p:spPr>
          <a:xfrm>
            <a:off x="193680" y="214200"/>
            <a:ext cx="977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قنيات التعليم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مستطيل 20"/>
          <p:cNvSpPr/>
          <p:nvPr/>
        </p:nvSpPr>
        <p:spPr>
          <a:xfrm>
            <a:off x="642960" y="1357200"/>
            <a:ext cx="850104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تعريف تقنيات التعليم (الوسائل التعليمية):</a:t>
            </a:r>
            <a:br>
              <a:rPr sz="2800"/>
            </a:b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منظومة فرعية من منظومة تكنولوجيا التعلي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ضم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المواد والأدوات والأجهزة التعليمية وطرق العرض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ي يستخدمها المعلم أو المتعلم أو كليهما في المواقف التعليمية بطريقة منظومية لتسهيل عملية التعليم والتع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ستطيل 21"/>
          <p:cNvSpPr/>
          <p:nvPr/>
        </p:nvSpPr>
        <p:spPr>
          <a:xfrm>
            <a:off x="2392200" y="142884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36a"/>
                </a:solidFill>
                <a:latin typeface="Times New Roman"/>
                <a:cs typeface="Times New Roman"/>
              </a:rPr>
              <a:t>التعريف ص </a:t>
            </a:r>
            <a:r>
              <a:rPr b="1" lang="ar-SA" sz="24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572000" y="3357720"/>
            <a:ext cx="457200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ولوجيا التعليم تجمع بين النظرية والتطب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نيات التعلي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ل الجانب التطبيقي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رسم تخطيطي 27" descr=""/>
          <p:cNvPicPr/>
          <p:nvPr/>
        </p:nvPicPr>
        <p:blipFill>
          <a:blip r:embed="rId2"/>
          <a:stretch/>
        </p:blipFill>
        <p:spPr>
          <a:xfrm>
            <a:off x="573120" y="3176640"/>
            <a:ext cx="4284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202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مربع نص 9"/>
          <p:cNvSpPr/>
          <p:nvPr/>
        </p:nvSpPr>
        <p:spPr>
          <a:xfrm>
            <a:off x="101520" y="214200"/>
            <a:ext cx="104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كنولوجيا التربية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رسم تخطيطي 13" descr=""/>
          <p:cNvPicPr/>
          <p:nvPr/>
        </p:nvPicPr>
        <p:blipFill>
          <a:blip r:embed="rId2"/>
          <a:stretch/>
        </p:blipFill>
        <p:spPr>
          <a:xfrm>
            <a:off x="2146320" y="2889360"/>
            <a:ext cx="4284720" cy="3114720"/>
          </a:xfrm>
          <a:prstGeom prst="rect">
            <a:avLst/>
          </a:prstGeom>
          <a:ln w="0">
            <a:noFill/>
          </a:ln>
        </p:spPr>
      </p:pic>
      <p:sp>
        <p:nvSpPr>
          <p:cNvPr id="206" name="مربع نص 14"/>
          <p:cNvSpPr/>
          <p:nvPr/>
        </p:nvSpPr>
        <p:spPr>
          <a:xfrm>
            <a:off x="2353320" y="135720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أيهم أعم مصطلح التربية أم مصطلح التعليم؟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مربع نص 15"/>
          <p:cNvSpPr/>
          <p:nvPr/>
        </p:nvSpPr>
        <p:spPr>
          <a:xfrm>
            <a:off x="857160" y="192888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عملية تربية تؤدي إلى تعليم، لكن ليست كل عملية تعليم تؤدي بالضرورة إلى تر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0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مربع نص 9"/>
          <p:cNvSpPr/>
          <p:nvPr/>
        </p:nvSpPr>
        <p:spPr>
          <a:xfrm>
            <a:off x="-563040" y="0"/>
            <a:ext cx="115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كنولوجيا المعلومات و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رسم تخطيطي 13" descr=""/>
          <p:cNvPicPr/>
          <p:nvPr/>
        </p:nvPicPr>
        <p:blipFill>
          <a:blip r:embed="rId2"/>
          <a:stretch/>
        </p:blipFill>
        <p:spPr>
          <a:xfrm>
            <a:off x="712800" y="2749680"/>
            <a:ext cx="4286160" cy="3108240"/>
          </a:xfrm>
          <a:prstGeom prst="rect">
            <a:avLst/>
          </a:prstGeom>
          <a:ln w="0">
            <a:noFill/>
          </a:ln>
        </p:spPr>
      </p:pic>
      <p:sp>
        <p:nvSpPr>
          <p:cNvPr id="213" name="مربع نص 14"/>
          <p:cNvSpPr/>
          <p:nvPr/>
        </p:nvSpPr>
        <p:spPr>
          <a:xfrm>
            <a:off x="714240" y="1143000"/>
            <a:ext cx="823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99"/>
                </a:solidFill>
                <a:latin typeface="Times New Roman"/>
                <a:cs typeface="Times New Roman"/>
              </a:rPr>
              <a:t>تكنولوجيا المعلومات: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تخدام الأجهزة الإلكترونية كالكمبيوتر وأجهزة الاتصال عن بعد للحصول على المعلومات ومعالجتها وتخزينها واسترجاعها ونشرها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رسم تخطيطي 15" descr=""/>
          <p:cNvPicPr/>
          <p:nvPr/>
        </p:nvPicPr>
        <p:blipFill>
          <a:blip r:embed="rId3"/>
          <a:stretch/>
        </p:blipFill>
        <p:spPr>
          <a:xfrm>
            <a:off x="4857840" y="2749680"/>
            <a:ext cx="4286160" cy="3108240"/>
          </a:xfrm>
          <a:prstGeom prst="rect">
            <a:avLst/>
          </a:prstGeom>
          <a:ln w="0">
            <a:noFill/>
          </a:ln>
        </p:spPr>
      </p:pic>
      <p:sp>
        <p:nvSpPr>
          <p:cNvPr id="215" name="مربع نص 8"/>
          <p:cNvSpPr/>
          <p:nvPr/>
        </p:nvSpPr>
        <p:spPr>
          <a:xfrm>
            <a:off x="1143000" y="57150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د تطبيق تكنولوجيا المعلومات في المواقف التعلي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مربع نص 10"/>
          <p:cNvSpPr/>
          <p:nvPr/>
        </p:nvSpPr>
        <p:spPr>
          <a:xfrm>
            <a:off x="5357880" y="5786280"/>
            <a:ext cx="3143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جال تكنولوجيا المعلومات أشمل وأعمل من مجال تكنولوجيا التعل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18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مربع نص 9"/>
          <p:cNvSpPr/>
          <p:nvPr/>
        </p:nvSpPr>
        <p:spPr>
          <a:xfrm>
            <a:off x="3928320" y="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2f2f2"/>
                </a:solidFill>
                <a:latin typeface="Arial"/>
              </a:rPr>
              <a:t>رتبي؟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رسم تخطيطي 15" descr=""/>
          <p:cNvPicPr/>
          <p:nvPr/>
        </p:nvPicPr>
        <p:blipFill>
          <a:blip r:embed="rId2"/>
          <a:stretch/>
        </p:blipFill>
        <p:spPr>
          <a:xfrm>
            <a:off x="858960" y="1322280"/>
            <a:ext cx="6095880" cy="4170600"/>
          </a:xfrm>
          <a:prstGeom prst="rect">
            <a:avLst/>
          </a:prstGeom>
          <a:ln w="0">
            <a:noFill/>
          </a:ln>
        </p:spPr>
      </p:pic>
      <p:sp>
        <p:nvSpPr>
          <p:cNvPr id="222" name="مربع نص 17"/>
          <p:cNvSpPr/>
          <p:nvPr/>
        </p:nvSpPr>
        <p:spPr>
          <a:xfrm>
            <a:off x="6870240" y="37530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تر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مربع نص 23"/>
          <p:cNvSpPr/>
          <p:nvPr/>
        </p:nvSpPr>
        <p:spPr>
          <a:xfrm>
            <a:off x="6746400" y="43578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ربع نص 24"/>
          <p:cNvSpPr/>
          <p:nvPr/>
        </p:nvSpPr>
        <p:spPr>
          <a:xfrm>
            <a:off x="6470640" y="314316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نولوجيا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ربع نص 25"/>
          <p:cNvSpPr/>
          <p:nvPr/>
        </p:nvSpPr>
        <p:spPr>
          <a:xfrm>
            <a:off x="6805440" y="25718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وسائل التعلي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26"/>
          <p:cNvSpPr/>
          <p:nvPr/>
        </p:nvSpPr>
        <p:spPr>
          <a:xfrm>
            <a:off x="7086960" y="492912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قنيات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مربع نص 27"/>
          <p:cNvSpPr/>
          <p:nvPr/>
        </p:nvSpPr>
        <p:spPr>
          <a:xfrm>
            <a:off x="6345720" y="200016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كنولوجيا في التعل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43073 -0.31181 E">
                                      <p:cBhvr>
                                        <p:cTn id="12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42708 -0.30555 E">
                                      <p:cBhvr>
                                        <p:cTn id="12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-0.43038 0.04954 E">
                                      <p:cBhvr>
                                        <p:cTn id="12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-0.40121 0.18519 E">
                                      <p:cBhvr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-0.44931 -0.19976 E">
                                      <p:cBhvr>
                                        <p:cTn id="13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42604 0.19699 E">
                                      <p:cBhvr>
                                        <p:cTn id="14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2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مربع نص 9"/>
          <p:cNvSpPr/>
          <p:nvPr/>
        </p:nvSpPr>
        <p:spPr>
          <a:xfrm>
            <a:off x="1097280" y="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857160" y="1357200"/>
            <a:ext cx="77868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تصور الأول: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تصور رابطة الاتصالات التربوية والتكنولوجية في أمريكا عام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1979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نظر هذا التصور إلى تكنولوجيا التعليم على أنها ثلاثة أجزاء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مج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- عملية              ج – مه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34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رسم تخطيطي 13" descr=""/>
          <p:cNvPicPr/>
          <p:nvPr/>
        </p:nvPicPr>
        <p:blipFill>
          <a:blip r:embed="rId2"/>
          <a:stretch/>
        </p:blipFill>
        <p:spPr>
          <a:xfrm>
            <a:off x="712800" y="1609560"/>
            <a:ext cx="7858080" cy="4888080"/>
          </a:xfrm>
          <a:prstGeom prst="rect">
            <a:avLst/>
          </a:prstGeom>
          <a:ln w="0">
            <a:noFill/>
          </a:ln>
        </p:spPr>
      </p:pic>
      <p:grpSp>
        <p:nvGrpSpPr>
          <p:cNvPr id="237" name="مجموعة 27"/>
          <p:cNvGrpSpPr/>
          <p:nvPr/>
        </p:nvGrpSpPr>
        <p:grpSpPr>
          <a:xfrm>
            <a:off x="4466520" y="4641120"/>
            <a:ext cx="376560" cy="655200"/>
            <a:chOff x="4466520" y="4641120"/>
            <a:chExt cx="376560" cy="655200"/>
          </a:xfrm>
        </p:grpSpPr>
        <p:sp>
          <p:nvSpPr>
            <p:cNvPr id="238" name="سهم إلى اليمين 28"/>
            <p:cNvSpPr/>
            <p:nvPr/>
          </p:nvSpPr>
          <p:spPr>
            <a:xfrm rot="16189800">
              <a:off x="4327560" y="4781160"/>
              <a:ext cx="654120" cy="374760"/>
            </a:xfrm>
            <a:prstGeom prst="rightArrow">
              <a:avLst>
                <a:gd name="adj1" fmla="val 60000"/>
                <a:gd name="adj2" fmla="val 50205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سهم إلى اليمين 4"/>
            <p:cNvSpPr/>
            <p:nvPr/>
          </p:nvSpPr>
          <p:spPr>
            <a:xfrm rot="5389800">
              <a:off x="4383720" y="4912200"/>
              <a:ext cx="541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مجموعة 30"/>
          <p:cNvGrpSpPr/>
          <p:nvPr/>
        </p:nvGrpSpPr>
        <p:grpSpPr>
          <a:xfrm>
            <a:off x="3641400" y="4433040"/>
            <a:ext cx="703800" cy="743400"/>
            <a:chOff x="3641400" y="4433040"/>
            <a:chExt cx="703800" cy="743400"/>
          </a:xfrm>
        </p:grpSpPr>
        <p:sp>
          <p:nvSpPr>
            <p:cNvPr id="241" name="سهم إلى اليمين 31"/>
            <p:cNvSpPr/>
            <p:nvPr/>
          </p:nvSpPr>
          <p:spPr>
            <a:xfrm rot="18552600">
              <a:off x="3666960" y="4616280"/>
              <a:ext cx="652320" cy="376200"/>
            </a:xfrm>
            <a:prstGeom prst="rightArrow">
              <a:avLst>
                <a:gd name="adj1" fmla="val 60000"/>
                <a:gd name="adj2" fmla="val 49876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سهم إلى اليمين 4"/>
            <p:cNvSpPr/>
            <p:nvPr/>
          </p:nvSpPr>
          <p:spPr>
            <a:xfrm rot="7753200">
              <a:off x="3679920" y="4726080"/>
              <a:ext cx="539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مجموعة 33"/>
          <p:cNvGrpSpPr/>
          <p:nvPr/>
        </p:nvGrpSpPr>
        <p:grpSpPr>
          <a:xfrm>
            <a:off x="5175360" y="3740760"/>
            <a:ext cx="683640" cy="433080"/>
            <a:chOff x="5175360" y="3740760"/>
            <a:chExt cx="683640" cy="433080"/>
          </a:xfrm>
        </p:grpSpPr>
        <p:sp>
          <p:nvSpPr>
            <p:cNvPr id="244" name="سهم إلى اليمين 34"/>
            <p:cNvSpPr/>
            <p:nvPr/>
          </p:nvSpPr>
          <p:spPr>
            <a:xfrm rot="11115600">
              <a:off x="5190840" y="3769920"/>
              <a:ext cx="652320" cy="374760"/>
            </a:xfrm>
            <a:prstGeom prst="rightArrow">
              <a:avLst>
                <a:gd name="adj1" fmla="val 60000"/>
                <a:gd name="adj2" fmla="val 50067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سهم إلى اليمين 4"/>
            <p:cNvSpPr/>
            <p:nvPr/>
          </p:nvSpPr>
          <p:spPr>
            <a:xfrm rot="315600">
              <a:off x="5303880" y="3849480"/>
              <a:ext cx="5396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مجموعة 36"/>
          <p:cNvGrpSpPr/>
          <p:nvPr/>
        </p:nvGrpSpPr>
        <p:grpSpPr>
          <a:xfrm>
            <a:off x="4866480" y="3043800"/>
            <a:ext cx="748080" cy="696960"/>
            <a:chOff x="4866480" y="3043800"/>
            <a:chExt cx="748080" cy="696960"/>
          </a:xfrm>
        </p:grpSpPr>
        <p:sp>
          <p:nvSpPr>
            <p:cNvPr id="247" name="سهم إلى اليمين 37"/>
            <p:cNvSpPr/>
            <p:nvPr/>
          </p:nvSpPr>
          <p:spPr>
            <a:xfrm rot="8548800">
              <a:off x="4913280" y="3204000"/>
              <a:ext cx="654120" cy="376200"/>
            </a:xfrm>
            <a:prstGeom prst="rightArrow">
              <a:avLst>
                <a:gd name="adj1" fmla="val 60000"/>
                <a:gd name="adj2" fmla="val 50013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سهم إلى اليمين 4"/>
            <p:cNvSpPr/>
            <p:nvPr/>
          </p:nvSpPr>
          <p:spPr>
            <a:xfrm rot="19349400">
              <a:off x="5005800" y="3237480"/>
              <a:ext cx="541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مجموعة 39"/>
          <p:cNvGrpSpPr/>
          <p:nvPr/>
        </p:nvGrpSpPr>
        <p:grpSpPr>
          <a:xfrm>
            <a:off x="2705040" y="3121560"/>
            <a:ext cx="544320" cy="579600"/>
            <a:chOff x="2705040" y="3121560"/>
            <a:chExt cx="544320" cy="579600"/>
          </a:xfrm>
        </p:grpSpPr>
        <p:sp>
          <p:nvSpPr>
            <p:cNvPr id="250" name="سهم إلى اليمين 40"/>
            <p:cNvSpPr/>
            <p:nvPr/>
          </p:nvSpPr>
          <p:spPr>
            <a:xfrm rot="17808000">
              <a:off x="2747520" y="3222360"/>
              <a:ext cx="458640" cy="378000"/>
            </a:xfrm>
            <a:prstGeom prst="rightArrow">
              <a:avLst>
                <a:gd name="adj1" fmla="val 60000"/>
                <a:gd name="adj2" fmla="val 49359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سهم إلى اليمين 4"/>
            <p:cNvSpPr/>
            <p:nvPr/>
          </p:nvSpPr>
          <p:spPr>
            <a:xfrm rot="7008000">
              <a:off x="2763000" y="3344040"/>
              <a:ext cx="3470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مجموعة 42"/>
          <p:cNvGrpSpPr/>
          <p:nvPr/>
        </p:nvGrpSpPr>
        <p:grpSpPr>
          <a:xfrm>
            <a:off x="3606840" y="2061360"/>
            <a:ext cx="569520" cy="550080"/>
            <a:chOff x="3606840" y="2061360"/>
            <a:chExt cx="569520" cy="550080"/>
          </a:xfrm>
        </p:grpSpPr>
        <p:sp>
          <p:nvSpPr>
            <p:cNvPr id="253" name="سهم إلى اليمين 43"/>
            <p:cNvSpPr/>
            <p:nvPr/>
          </p:nvSpPr>
          <p:spPr>
            <a:xfrm rot="19766400">
              <a:off x="3673080" y="2145960"/>
              <a:ext cx="436680" cy="380880"/>
            </a:xfrm>
            <a:prstGeom prst="rightArrow">
              <a:avLst>
                <a:gd name="adj1" fmla="val 60000"/>
                <a:gd name="adj2" fmla="val 46640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سهم إلى اليمين 4"/>
            <p:cNvSpPr/>
            <p:nvPr/>
          </p:nvSpPr>
          <p:spPr>
            <a:xfrm rot="8967000">
              <a:off x="3680640" y="2249280"/>
              <a:ext cx="33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مجموعة 45"/>
          <p:cNvGrpSpPr/>
          <p:nvPr/>
        </p:nvGrpSpPr>
        <p:grpSpPr>
          <a:xfrm>
            <a:off x="5147640" y="5479560"/>
            <a:ext cx="453240" cy="437040"/>
            <a:chOff x="5147640" y="5479560"/>
            <a:chExt cx="453240" cy="437040"/>
          </a:xfrm>
        </p:grpSpPr>
        <p:sp>
          <p:nvSpPr>
            <p:cNvPr id="256" name="سهم إلى اليمين 46"/>
            <p:cNvSpPr/>
            <p:nvPr/>
          </p:nvSpPr>
          <p:spPr>
            <a:xfrm rot="9045000">
              <a:off x="5200200" y="5544720"/>
              <a:ext cx="347760" cy="306360"/>
            </a:xfrm>
            <a:prstGeom prst="rightArrow">
              <a:avLst>
                <a:gd name="adj1" fmla="val 60000"/>
                <a:gd name="adj2" fmla="val 50256"/>
              </a:avLst>
            </a:prstGeom>
            <a:solidFill>
              <a:srgbClr val="ae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سهم إلى اليمين 4"/>
            <p:cNvSpPr/>
            <p:nvPr/>
          </p:nvSpPr>
          <p:spPr>
            <a:xfrm rot="19845000">
              <a:off x="5276520" y="557640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مجال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شكل بيضاوي 4"/>
          <p:cNvGrpSpPr/>
          <p:nvPr/>
        </p:nvGrpSpPr>
        <p:grpSpPr>
          <a:xfrm>
            <a:off x="5546880" y="2408400"/>
            <a:ext cx="688680" cy="688680"/>
            <a:chOff x="5546880" y="2408400"/>
            <a:chExt cx="688680" cy="688680"/>
          </a:xfrm>
        </p:grpSpPr>
        <p:pic>
          <p:nvPicPr>
            <p:cNvPr id="262" name="شكل بيضاوي 4" descr=""/>
            <p:cNvPicPr/>
            <p:nvPr/>
          </p:nvPicPr>
          <p:blipFill>
            <a:blip r:embed="rId3"/>
            <a:stretch/>
          </p:blipFill>
          <p:spPr>
            <a:xfrm>
              <a:off x="5546880" y="2408400"/>
              <a:ext cx="6886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565600" y="2421000"/>
              <a:ext cx="65736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160" rIns="20160" tIns="20160" bIns="2016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مواد تعلي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6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عملية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33"/>
          <p:cNvSpPr/>
          <p:nvPr/>
        </p:nvSpPr>
        <p:spPr>
          <a:xfrm>
            <a:off x="1071720" y="1785960"/>
            <a:ext cx="764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كنولوجيا التعليم هي عملية استخدام منهجي للمكونات الثمانية للمجال بحيث ينتج عن ذلك بيئة تعليمية صالحة لتحقيق تعليم أكثر فاع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72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مربع نص 49"/>
          <p:cNvSpPr/>
          <p:nvPr/>
        </p:nvSpPr>
        <p:spPr>
          <a:xfrm>
            <a:off x="1597320" y="-21420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214960" y="1143000"/>
            <a:ext cx="37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أ- تكنولوجيا التعليم كمهنة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ربع نص 30"/>
          <p:cNvSpPr/>
          <p:nvPr/>
        </p:nvSpPr>
        <p:spPr>
          <a:xfrm>
            <a:off x="2705760" y="428760"/>
            <a:ext cx="48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أو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مربع نص 33"/>
          <p:cNvSpPr/>
          <p:nvPr/>
        </p:nvSpPr>
        <p:spPr>
          <a:xfrm>
            <a:off x="714240" y="178596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أشخاص ذوي كفاءة عالية وخلفية نظرية لأد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أنشطة مثل المصمم التعليمي, المبرمج, أخصائي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57320" y="1671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تصور الثاني: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تصور رابطة الاتصالات التربوية والتكنولوجية في أمريكا عام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1994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مجموعة 5"/>
          <p:cNvGrpSpPr/>
          <p:nvPr/>
        </p:nvGrpSpPr>
        <p:grpSpPr>
          <a:xfrm>
            <a:off x="0" y="-214200"/>
            <a:ext cx="9144000" cy="1214280"/>
            <a:chOff x="0" y="-214200"/>
            <a:chExt cx="9144000" cy="1214280"/>
          </a:xfrm>
        </p:grpSpPr>
        <p:pic>
          <p:nvPicPr>
            <p:cNvPr id="28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-21420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مستطيل مستدير الزوايا 7"/>
            <p:cNvSpPr/>
            <p:nvPr/>
          </p:nvSpPr>
          <p:spPr>
            <a:xfrm>
              <a:off x="2071440" y="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مربع نص 6"/>
          <p:cNvSpPr/>
          <p:nvPr/>
        </p:nvSpPr>
        <p:spPr>
          <a:xfrm>
            <a:off x="1097280" y="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28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سهم إلى الأعلى والأسفل 15"/>
          <p:cNvSpPr/>
          <p:nvPr/>
        </p:nvSpPr>
        <p:spPr>
          <a:xfrm>
            <a:off x="4300560" y="3214800"/>
            <a:ext cx="342720" cy="47124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مجموعة 31"/>
          <p:cNvGrpSpPr/>
          <p:nvPr/>
        </p:nvGrpSpPr>
        <p:grpSpPr>
          <a:xfrm>
            <a:off x="1000080" y="1357200"/>
            <a:ext cx="7215120" cy="4643640"/>
            <a:chOff x="1000080" y="1357200"/>
            <a:chExt cx="7215120" cy="4643640"/>
          </a:xfrm>
        </p:grpSpPr>
        <p:pic>
          <p:nvPicPr>
            <p:cNvPr id="290" name="رسم تخطيطي 13" descr=""/>
            <p:cNvPicPr/>
            <p:nvPr/>
          </p:nvPicPr>
          <p:blipFill>
            <a:blip r:embed="rId2"/>
            <a:stretch/>
          </p:blipFill>
          <p:spPr>
            <a:xfrm>
              <a:off x="1000080" y="1357200"/>
              <a:ext cx="7215120" cy="464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مجموعة 30"/>
            <p:cNvGrpSpPr/>
            <p:nvPr/>
          </p:nvGrpSpPr>
          <p:grpSpPr>
            <a:xfrm>
              <a:off x="3504960" y="2732760"/>
              <a:ext cx="2206800" cy="2077920"/>
              <a:chOff x="3504960" y="2732760"/>
              <a:chExt cx="2206800" cy="2077920"/>
            </a:xfrm>
          </p:grpSpPr>
          <p:grpSp>
            <p:nvGrpSpPr>
              <p:cNvPr id="292" name="مجموعة 5"/>
              <p:cNvGrpSpPr/>
              <p:nvPr/>
            </p:nvGrpSpPr>
            <p:grpSpPr>
              <a:xfrm>
                <a:off x="3898440" y="3174480"/>
                <a:ext cx="1272240" cy="1244520"/>
                <a:chOff x="3898440" y="3174480"/>
                <a:chExt cx="1272240" cy="1244520"/>
              </a:xfrm>
            </p:grpSpPr>
            <p:grpSp>
              <p:nvGrpSpPr>
                <p:cNvPr id="293" name="شكل بيضاوي 17"/>
                <p:cNvGrpSpPr/>
                <p:nvPr/>
              </p:nvGrpSpPr>
              <p:grpSpPr>
                <a:xfrm>
                  <a:off x="3898440" y="3174480"/>
                  <a:ext cx="1272240" cy="1244520"/>
                  <a:chOff x="3898440" y="3174480"/>
                  <a:chExt cx="1272240" cy="1244520"/>
                </a:xfrm>
              </p:grpSpPr>
              <p:pic>
                <p:nvPicPr>
                  <p:cNvPr id="294" name="شكل بيضاوي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8440" y="3174480"/>
                    <a:ext cx="1272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4119120" y="3368520"/>
                    <a:ext cx="830880" cy="80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شكل بيضاوي 4"/>
                <p:cNvSpPr/>
                <p:nvPr/>
              </p:nvSpPr>
              <p:spPr>
                <a:xfrm>
                  <a:off x="4102200" y="3354120"/>
                  <a:ext cx="828360" cy="81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600" rIns="30600" tIns="30600" bIns="3060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876"/>
                    </a:spcAft>
                    <a:tabLst>
                      <a:tab algn="l" pos="0"/>
                      <a:tab algn="l" pos="1066680"/>
                      <a:tab algn="l" pos="2133720"/>
                      <a:tab algn="l" pos="3200400"/>
                      <a:tab algn="l" pos="4267080"/>
                      <a:tab algn="l" pos="5334120"/>
                      <a:tab algn="l" pos="6400800"/>
                      <a:tab algn="l" pos="7467480"/>
                      <a:tab algn="l" pos="8534520"/>
                      <a:tab algn="l" pos="9601200"/>
                      <a:tab algn="l" pos="1066788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Arial"/>
                    </a:rPr>
                    <a:t>النظرية والتطبي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سهم إلى الأعلى والأسفل 19"/>
              <p:cNvSpPr/>
              <p:nvPr/>
            </p:nvSpPr>
            <p:spPr>
              <a:xfrm rot="3985800">
                <a:off x="5238000" y="3309120"/>
                <a:ext cx="349200" cy="499680"/>
              </a:xfrm>
              <a:prstGeom prst="upDownArrow">
                <a:avLst>
                  <a:gd name="adj1" fmla="val 50000"/>
                  <a:gd name="adj2" fmla="val 51102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سهم إلى الأعلى والأسفل 20"/>
              <p:cNvSpPr/>
              <p:nvPr/>
            </p:nvSpPr>
            <p:spPr>
              <a:xfrm rot="19164000">
                <a:off x="4897440" y="4264560"/>
                <a:ext cx="356760" cy="488880"/>
              </a:xfrm>
              <a:prstGeom prst="upDownArrow">
                <a:avLst>
                  <a:gd name="adj1" fmla="val 50000"/>
                  <a:gd name="adj2" fmla="val 4893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سهم إلى الأعلى والأسفل 21"/>
              <p:cNvSpPr/>
              <p:nvPr/>
            </p:nvSpPr>
            <p:spPr>
              <a:xfrm rot="17156400">
                <a:off x="3603240" y="3329280"/>
                <a:ext cx="313560" cy="441000"/>
              </a:xfrm>
              <a:prstGeom prst="upDownArrow">
                <a:avLst>
                  <a:gd name="adj1" fmla="val 50000"/>
                  <a:gd name="adj2" fmla="val 51093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سهم إلى الأعلى والأسفل 27"/>
              <p:cNvSpPr/>
              <p:nvPr/>
            </p:nvSpPr>
            <p:spPr>
              <a:xfrm rot="2605800">
                <a:off x="3684960" y="4210200"/>
                <a:ext cx="356760" cy="488880"/>
              </a:xfrm>
              <a:prstGeom prst="upDownArrow">
                <a:avLst>
                  <a:gd name="adj1" fmla="val 50000"/>
                  <a:gd name="adj2" fmla="val 4893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سهم إلى الأعلى والأسفل 28"/>
              <p:cNvSpPr/>
              <p:nvPr/>
            </p:nvSpPr>
            <p:spPr>
              <a:xfrm rot="225600">
                <a:off x="4368960" y="2743200"/>
                <a:ext cx="331560" cy="398880"/>
              </a:xfrm>
              <a:prstGeom prst="upDownArrow">
                <a:avLst>
                  <a:gd name="adj1" fmla="val 50000"/>
                  <a:gd name="adj2" fmla="val 48918"/>
                </a:avLst>
              </a:prstGeom>
              <a:solidFill>
                <a:srgbClr val="ffffff"/>
              </a:solidFill>
              <a:ln w="25560">
                <a:solidFill>
                  <a:srgbClr val="feb8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مربع نص 24"/>
          <p:cNvSpPr/>
          <p:nvPr/>
        </p:nvSpPr>
        <p:spPr>
          <a:xfrm>
            <a:off x="1597320" y="-71280"/>
            <a:ext cx="74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ربع نص 25"/>
          <p:cNvSpPr/>
          <p:nvPr/>
        </p:nvSpPr>
        <p:spPr>
          <a:xfrm>
            <a:off x="2750040" y="57168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سب التصور الثا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03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مربع نص 8"/>
          <p:cNvSpPr/>
          <p:nvPr/>
        </p:nvSpPr>
        <p:spPr>
          <a:xfrm>
            <a:off x="-506160" y="1214280"/>
            <a:ext cx="98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التكنولوج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ونات العملية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طور مفهوم تكنولوجيا التعليم وأسسه النظرية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بين مدخل النظم وتكنولوجيا التعليم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ولوجيا التعليم أم تقنيات التعليم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تكنولوجيا التعليم ببعض المفاهيم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ونات مجال  تكنولوجيا 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ظائف تكنولوجيا التعليم 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محذو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 تكنولوجيا التعليم في التكيف مع تغيرات التر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ربع نص 10"/>
          <p:cNvSpPr/>
          <p:nvPr/>
        </p:nvSpPr>
        <p:spPr>
          <a:xfrm>
            <a:off x="2399400" y="285840"/>
            <a:ext cx="50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عناصر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مجموعة 5"/>
          <p:cNvGrpSpPr/>
          <p:nvPr/>
        </p:nvGrpSpPr>
        <p:grpSpPr>
          <a:xfrm>
            <a:off x="0" y="0"/>
            <a:ext cx="9144000" cy="1500120"/>
            <a:chOff x="0" y="0"/>
            <a:chExt cx="9144000" cy="1500120"/>
          </a:xfrm>
        </p:grpSpPr>
        <p:pic>
          <p:nvPicPr>
            <p:cNvPr id="305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مستطيل مستدير الزوايا 7"/>
            <p:cNvSpPr/>
            <p:nvPr/>
          </p:nvSpPr>
          <p:spPr>
            <a:xfrm>
              <a:off x="2071440" y="264600"/>
              <a:ext cx="6786720" cy="97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8" name="مربع نص 12"/>
          <p:cNvSpPr/>
          <p:nvPr/>
        </p:nvSpPr>
        <p:spPr>
          <a:xfrm>
            <a:off x="896760" y="0"/>
            <a:ext cx="824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دور تكنولوجيا التعليم في التكيف م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التغيرات الحادثة في التر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1700280"/>
            <a:ext cx="91440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حل الكثير من المشكلات التربوية و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غير دور المعلم من ملقن إلى موجه ومر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غير دور المتعلم من متلقي إلى مشارك في تنفيذ المواقف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استخدام مصادر التعلم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تطبيق نظريات التصميم التعليمي ونظريات التعلم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اهتمام بصياغة أهداف سلوكية قابلة للقيا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مجموعة 5"/>
          <p:cNvGrpSpPr/>
          <p:nvPr/>
        </p:nvGrpSpPr>
        <p:grpSpPr>
          <a:xfrm>
            <a:off x="0" y="0"/>
            <a:ext cx="9144000" cy="1500120"/>
            <a:chOff x="0" y="0"/>
            <a:chExt cx="9144000" cy="1500120"/>
          </a:xfrm>
        </p:grpSpPr>
        <p:pic>
          <p:nvPicPr>
            <p:cNvPr id="31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مستطيل مستدير الزوايا 7"/>
            <p:cNvSpPr/>
            <p:nvPr/>
          </p:nvSpPr>
          <p:spPr>
            <a:xfrm>
              <a:off x="2071440" y="264600"/>
              <a:ext cx="6786720" cy="970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4" name="مربع نص 12"/>
          <p:cNvSpPr/>
          <p:nvPr/>
        </p:nvSpPr>
        <p:spPr>
          <a:xfrm>
            <a:off x="896760" y="0"/>
            <a:ext cx="824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دور تكنولوجيا التعليم في التكيف م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التغيرات الحادثة في التر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14240" y="1643040"/>
            <a:ext cx="82155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نويع في استخدام استراتيجيات وطرق التدريس ال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اهتمام بالتقويم القبلي والبنائي والبع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أخذ بأساليب ونماذج التعلم الحديث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فهوم التكنولوجيا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08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09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مربع نص 6"/>
          <p:cNvSpPr/>
          <p:nvPr/>
        </p:nvSpPr>
        <p:spPr>
          <a:xfrm>
            <a:off x="2085840" y="214200"/>
            <a:ext cx="55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فهوم التكنولوج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9"/>
          <p:cNvSpPr/>
          <p:nvPr/>
        </p:nvSpPr>
        <p:spPr>
          <a:xfrm>
            <a:off x="1428840" y="1285920"/>
            <a:ext cx="62150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o</a:t>
            </a: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g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مستدير الزوايا 10"/>
          <p:cNvSpPr/>
          <p:nvPr/>
        </p:nvSpPr>
        <p:spPr>
          <a:xfrm>
            <a:off x="714240" y="2214720"/>
            <a:ext cx="507204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bbe0"/>
              </a:gs>
              <a:gs pos="100000">
                <a:srgbClr val="eaecf7"/>
              </a:gs>
            </a:gsLst>
            <a:lin ang="16200000"/>
          </a:gradFill>
          <a:ln w="9360">
            <a:solidFill>
              <a:srgbClr val="4357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قة من الكلمة اليوناني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(حرفة أو صنعة أو ف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مستدير الزوايا 11"/>
          <p:cNvSpPr/>
          <p:nvPr/>
        </p:nvSpPr>
        <p:spPr>
          <a:xfrm>
            <a:off x="5857920" y="2214720"/>
            <a:ext cx="32148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b2a4"/>
              </a:gs>
              <a:gs pos="100000">
                <a:srgbClr val="faeae7"/>
              </a:gs>
            </a:gsLst>
            <a:lin ang="16200000"/>
          </a:gradFill>
          <a:ln w="9360">
            <a:solidFill>
              <a:srgbClr val="96410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(عل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مستدير الزوايا 12"/>
          <p:cNvSpPr/>
          <p:nvPr/>
        </p:nvSpPr>
        <p:spPr>
          <a:xfrm>
            <a:off x="1785960" y="3357720"/>
            <a:ext cx="64292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: علم الحرفة أو علم الصن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مستدير الزوايا 14"/>
          <p:cNvSpPr/>
          <p:nvPr/>
        </p:nvSpPr>
        <p:spPr>
          <a:xfrm>
            <a:off x="714240" y="4071960"/>
            <a:ext cx="52149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bbe0"/>
              </a:gs>
              <a:gs pos="100000">
                <a:srgbClr val="eaecf7"/>
              </a:gs>
            </a:gsLst>
            <a:lin ang="16200000"/>
          </a:gradFill>
          <a:ln w="9360">
            <a:solidFill>
              <a:srgbClr val="4357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قة من الكلمة الإنجليزي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عنى التقنية أو الأداء التطب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مستدير الزوايا 16"/>
          <p:cNvSpPr/>
          <p:nvPr/>
        </p:nvSpPr>
        <p:spPr>
          <a:xfrm>
            <a:off x="2000160" y="5143680"/>
            <a:ext cx="650088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: علم التقنية أو الأداء التطبيقي. 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فهوم التكنولوجيا</a:t>
            </a: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19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20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مربع نص 6"/>
          <p:cNvSpPr/>
          <p:nvPr/>
        </p:nvSpPr>
        <p:spPr>
          <a:xfrm>
            <a:off x="2077560" y="214200"/>
            <a:ext cx="559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Arial"/>
              </a:rPr>
              <a:t>مفهوم التكنولوج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8"/>
          <p:cNvSpPr/>
          <p:nvPr/>
        </p:nvSpPr>
        <p:spPr>
          <a:xfrm>
            <a:off x="642960" y="14130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عريف التكنولوجيا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علم الذي يهتم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تطبيق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ظريات ونتائج البحوث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ي توصلت إليها العلوم الأخرى في أي مجال من مجالات الحياة الإنسا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ال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ـيا الطـبية، التكنولوجـيا الزراعية، تكنولوجـيا التصـنيع، تكنولوجـيا المعلومات، تكنولوجـيا الفضـاء، تكنولوجـيا التربية، تكنولوجـيا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ريف جالبريث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braith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التكنولوجيا هي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تطبيق المنظم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لمعرفة العل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7424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ع مفهوم التكنولوجيا</a:t>
            </a:r>
            <a:endParaRPr b="1" lang="en-US" sz="4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125" name="صورة 3" descr="Arnoud999_Right_or_wrong_.png"/>
          <p:cNvPicPr/>
          <p:nvPr/>
        </p:nvPicPr>
        <p:blipFill>
          <a:blip r:embed="rId1"/>
          <a:srcRect l="54564" t="41669" r="0" b="39585"/>
          <a:stretch/>
        </p:blipFill>
        <p:spPr>
          <a:xfrm>
            <a:off x="571680" y="2714760"/>
            <a:ext cx="142524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مربع نص 5"/>
          <p:cNvSpPr/>
          <p:nvPr/>
        </p:nvSpPr>
        <p:spPr>
          <a:xfrm>
            <a:off x="1785960" y="3071880"/>
            <a:ext cx="6643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 هي الأجهزة والأدوات الحديث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6"/>
          <p:cNvSpPr/>
          <p:nvPr/>
        </p:nvSpPr>
        <p:spPr>
          <a:xfrm>
            <a:off x="1785960" y="3786120"/>
            <a:ext cx="664380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طأ لأن الأجهزة والأدوات هي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تج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. والتكنولوجيا لاتقتصر على المنتجات وإنما تشمل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7"/>
          <p:cNvSpPr/>
          <p:nvPr/>
        </p:nvSpPr>
        <p:spPr>
          <a:xfrm>
            <a:off x="1714680" y="1143000"/>
            <a:ext cx="671508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ما سب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نولوجيا تجمع بين </a:t>
            </a:r>
            <a:r>
              <a:rPr b="1" lang="ar-SA" sz="32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عمليات (التطبيق) </a:t>
            </a:r>
            <a:r>
              <a:rPr b="1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ونواتج هذا التطبيق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دوات وأجهز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f271c"/>
              </a:solidFill>
              <a:latin typeface="Arial"/>
            </a:endParaRPr>
          </a:p>
        </p:txBody>
      </p:sp>
      <p:grpSp>
        <p:nvGrpSpPr>
          <p:cNvPr id="13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3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مربع نص 9"/>
          <p:cNvSpPr/>
          <p:nvPr/>
        </p:nvSpPr>
        <p:spPr>
          <a:xfrm>
            <a:off x="812160" y="214200"/>
            <a:ext cx="80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كونات العملية التكنولوج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8760" y="55720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نسان مكتشف المواد – الإنسان مصمم للأد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2214360" y="1428840"/>
            <a:ext cx="4849920" cy="3684600"/>
            <a:chOff x="2214360" y="1428840"/>
            <a:chExt cx="4849920" cy="3684600"/>
          </a:xfrm>
        </p:grpSpPr>
        <p:sp>
          <p:nvSpPr>
            <p:cNvPr id="136" name="AutoShape 10"/>
            <p:cNvSpPr/>
            <p:nvPr/>
          </p:nvSpPr>
          <p:spPr>
            <a:xfrm>
              <a:off x="2214720" y="1428840"/>
              <a:ext cx="4849560" cy="3684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4639320" y="1464840"/>
              <a:ext cx="0" cy="197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4639320" y="3441240"/>
              <a:ext cx="2424600" cy="167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H="1">
              <a:off x="2214360" y="3441240"/>
              <a:ext cx="2424600" cy="167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357360" y="2357280"/>
            <a:ext cx="2982960" cy="2135520"/>
            <a:chOff x="3357360" y="2357280"/>
            <a:chExt cx="2982960" cy="2135520"/>
          </a:xfrm>
        </p:grpSpPr>
        <p:sp>
          <p:nvSpPr>
            <p:cNvPr id="141" name="AutoShape 15"/>
            <p:cNvSpPr/>
            <p:nvPr/>
          </p:nvSpPr>
          <p:spPr>
            <a:xfrm>
              <a:off x="3643200" y="2357280"/>
              <a:ext cx="2697120" cy="21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5981400" y="250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17"/>
            <p:cNvSpPr txBox="1"/>
            <p:nvPr/>
          </p:nvSpPr>
          <p:spPr>
            <a:xfrm rot="2902200">
              <a:off x="4770000" y="2984040"/>
              <a:ext cx="1120680" cy="45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1347"/>
                </a:avLst>
              </a:prstTxWarp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مواد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WordArt 18"/>
            <p:cNvSpPr txBox="1"/>
            <p:nvPr/>
          </p:nvSpPr>
          <p:spPr>
            <a:xfrm rot="18712800">
              <a:off x="3368160" y="2907720"/>
              <a:ext cx="1146240" cy="54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4653"/>
                </a:avLst>
              </a:prstTxWarp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الأدوات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Group 19"/>
          <p:cNvGrpSpPr/>
          <p:nvPr/>
        </p:nvGrpSpPr>
        <p:grpSpPr>
          <a:xfrm>
            <a:off x="4000680" y="4286160"/>
            <a:ext cx="1456920" cy="424080"/>
            <a:chOff x="4000680" y="4286160"/>
            <a:chExt cx="1456920" cy="424080"/>
          </a:xfrm>
        </p:grpSpPr>
        <p:sp>
          <p:nvSpPr>
            <p:cNvPr id="146" name="Freeform 20"/>
            <p:cNvSpPr/>
            <p:nvPr/>
          </p:nvSpPr>
          <p:spPr>
            <a:xfrm>
              <a:off x="4000680" y="4377240"/>
              <a:ext cx="325080" cy="312840"/>
            </a:xfrm>
            <a:custGeom>
              <a:avLst/>
              <a:gdLst>
                <a:gd name="textAreaLeft" fmla="*/ 0 w 325080"/>
                <a:gd name="textAreaRight" fmla="*/ 325080 w 3250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480" h="1776">
                  <a:moveTo>
                    <a:pt x="2196" y="113"/>
                  </a:moveTo>
                  <a:cubicBezTo>
                    <a:pt x="2110" y="180"/>
                    <a:pt x="2022" y="244"/>
                    <a:pt x="1937" y="310"/>
                  </a:cubicBezTo>
                  <a:cubicBezTo>
                    <a:pt x="1757" y="270"/>
                    <a:pt x="1578" y="232"/>
                    <a:pt x="1398" y="192"/>
                  </a:cubicBezTo>
                  <a:cubicBezTo>
                    <a:pt x="1480" y="127"/>
                    <a:pt x="1564" y="65"/>
                    <a:pt x="1647" y="0"/>
                  </a:cubicBezTo>
                  <a:cubicBezTo>
                    <a:pt x="1830" y="39"/>
                    <a:pt x="2013" y="75"/>
                    <a:pt x="2196" y="113"/>
                  </a:cubicBezTo>
                  <a:close/>
                  <a:moveTo>
                    <a:pt x="3480" y="1169"/>
                  </a:moveTo>
                  <a:cubicBezTo>
                    <a:pt x="3480" y="1374"/>
                    <a:pt x="3328" y="1522"/>
                    <a:pt x="3028" y="1620"/>
                  </a:cubicBezTo>
                  <a:cubicBezTo>
                    <a:pt x="2704" y="1725"/>
                    <a:pt x="2178" y="1776"/>
                    <a:pt x="1457" y="1776"/>
                  </a:cubicBezTo>
                  <a:cubicBezTo>
                    <a:pt x="998" y="1776"/>
                    <a:pt x="645" y="1745"/>
                    <a:pt x="400" y="1679"/>
                  </a:cubicBezTo>
                  <a:cubicBezTo>
                    <a:pt x="135" y="1608"/>
                    <a:pt x="0" y="1500"/>
                    <a:pt x="0" y="1354"/>
                  </a:cubicBezTo>
                  <a:cubicBezTo>
                    <a:pt x="0" y="1276"/>
                    <a:pt x="25" y="1197"/>
                    <a:pt x="72" y="1115"/>
                  </a:cubicBezTo>
                  <a:cubicBezTo>
                    <a:pt x="120" y="1034"/>
                    <a:pt x="187" y="954"/>
                    <a:pt x="269" y="871"/>
                  </a:cubicBezTo>
                  <a:cubicBezTo>
                    <a:pt x="320" y="821"/>
                    <a:pt x="408" y="747"/>
                    <a:pt x="531" y="643"/>
                  </a:cubicBezTo>
                  <a:cubicBezTo>
                    <a:pt x="578" y="652"/>
                    <a:pt x="623" y="659"/>
                    <a:pt x="670" y="668"/>
                  </a:cubicBezTo>
                  <a:cubicBezTo>
                    <a:pt x="508" y="801"/>
                    <a:pt x="403" y="904"/>
                    <a:pt x="352" y="980"/>
                  </a:cubicBezTo>
                  <a:cubicBezTo>
                    <a:pt x="301" y="1056"/>
                    <a:pt x="272" y="1126"/>
                    <a:pt x="272" y="1190"/>
                  </a:cubicBezTo>
                  <a:cubicBezTo>
                    <a:pt x="272" y="1304"/>
                    <a:pt x="376" y="1388"/>
                    <a:pt x="580" y="1448"/>
                  </a:cubicBezTo>
                  <a:cubicBezTo>
                    <a:pt x="783" y="1508"/>
                    <a:pt x="1074" y="1538"/>
                    <a:pt x="1450" y="1538"/>
                  </a:cubicBezTo>
                  <a:cubicBezTo>
                    <a:pt x="1885" y="1538"/>
                    <a:pt x="2272" y="1508"/>
                    <a:pt x="2607" y="1445"/>
                  </a:cubicBezTo>
                  <a:cubicBezTo>
                    <a:pt x="3024" y="1368"/>
                    <a:pt x="3232" y="1262"/>
                    <a:pt x="3232" y="1126"/>
                  </a:cubicBezTo>
                  <a:cubicBezTo>
                    <a:pt x="3232" y="1033"/>
                    <a:pt x="3196" y="946"/>
                    <a:pt x="3128" y="865"/>
                  </a:cubicBezTo>
                  <a:cubicBezTo>
                    <a:pt x="3070" y="792"/>
                    <a:pt x="2982" y="732"/>
                    <a:pt x="2872" y="677"/>
                  </a:cubicBezTo>
                  <a:cubicBezTo>
                    <a:pt x="2967" y="582"/>
                    <a:pt x="3065" y="490"/>
                    <a:pt x="3159" y="395"/>
                  </a:cubicBezTo>
                  <a:cubicBezTo>
                    <a:pt x="3279" y="471"/>
                    <a:pt x="3367" y="545"/>
                    <a:pt x="3411" y="622"/>
                  </a:cubicBezTo>
                  <a:cubicBezTo>
                    <a:pt x="3455" y="700"/>
                    <a:pt x="3480" y="801"/>
                    <a:pt x="3480" y="929"/>
                  </a:cubicBezTo>
                  <a:cubicBezTo>
                    <a:pt x="3480" y="1009"/>
                    <a:pt x="3480" y="1089"/>
                    <a:pt x="3480" y="116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4331880" y="4286160"/>
              <a:ext cx="145440" cy="297000"/>
            </a:xfrm>
            <a:custGeom>
              <a:avLst/>
              <a:gdLst>
                <a:gd name="textAreaLeft" fmla="*/ 0 w 145440"/>
                <a:gd name="textAreaRight" fmla="*/ 145440 w 145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57" h="1683">
                  <a:moveTo>
                    <a:pt x="1557" y="1683"/>
                  </a:moveTo>
                  <a:cubicBezTo>
                    <a:pt x="1396" y="1683"/>
                    <a:pt x="1235" y="1683"/>
                    <a:pt x="1074" y="1683"/>
                  </a:cubicBezTo>
                  <a:cubicBezTo>
                    <a:pt x="918" y="1683"/>
                    <a:pt x="790" y="1659"/>
                    <a:pt x="697" y="1607"/>
                  </a:cubicBezTo>
                  <a:cubicBezTo>
                    <a:pt x="615" y="1562"/>
                    <a:pt x="552" y="1497"/>
                    <a:pt x="511" y="1410"/>
                  </a:cubicBezTo>
                  <a:cubicBezTo>
                    <a:pt x="467" y="1323"/>
                    <a:pt x="434" y="1216"/>
                    <a:pt x="411" y="1088"/>
                  </a:cubicBezTo>
                  <a:cubicBezTo>
                    <a:pt x="397" y="985"/>
                    <a:pt x="383" y="878"/>
                    <a:pt x="369" y="769"/>
                  </a:cubicBezTo>
                  <a:cubicBezTo>
                    <a:pt x="352" y="660"/>
                    <a:pt x="334" y="577"/>
                    <a:pt x="310" y="520"/>
                  </a:cubicBezTo>
                  <a:cubicBezTo>
                    <a:pt x="287" y="463"/>
                    <a:pt x="251" y="419"/>
                    <a:pt x="211" y="382"/>
                  </a:cubicBezTo>
                  <a:cubicBezTo>
                    <a:pt x="159" y="338"/>
                    <a:pt x="89" y="300"/>
                    <a:pt x="0" y="267"/>
                  </a:cubicBezTo>
                  <a:cubicBezTo>
                    <a:pt x="141" y="176"/>
                    <a:pt x="284" y="90"/>
                    <a:pt x="424" y="0"/>
                  </a:cubicBezTo>
                  <a:cubicBezTo>
                    <a:pt x="513" y="111"/>
                    <a:pt x="577" y="242"/>
                    <a:pt x="614" y="395"/>
                  </a:cubicBezTo>
                  <a:cubicBezTo>
                    <a:pt x="638" y="490"/>
                    <a:pt x="660" y="715"/>
                    <a:pt x="683" y="1072"/>
                  </a:cubicBezTo>
                  <a:cubicBezTo>
                    <a:pt x="724" y="1236"/>
                    <a:pt x="784" y="1340"/>
                    <a:pt x="863" y="1385"/>
                  </a:cubicBezTo>
                  <a:cubicBezTo>
                    <a:pt x="928" y="1425"/>
                    <a:pt x="998" y="1443"/>
                    <a:pt x="1074" y="1443"/>
                  </a:cubicBezTo>
                  <a:cubicBezTo>
                    <a:pt x="1235" y="1443"/>
                    <a:pt x="1396" y="1443"/>
                    <a:pt x="1557" y="1443"/>
                  </a:cubicBezTo>
                  <a:cubicBezTo>
                    <a:pt x="1557" y="1523"/>
                    <a:pt x="1557" y="1603"/>
                    <a:pt x="1557" y="1683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4454640" y="4455000"/>
              <a:ext cx="373320" cy="1281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995" h="727">
                  <a:moveTo>
                    <a:pt x="3995" y="727"/>
                  </a:moveTo>
                  <a:cubicBezTo>
                    <a:pt x="3907" y="727"/>
                    <a:pt x="3818" y="727"/>
                    <a:pt x="3729" y="727"/>
                  </a:cubicBezTo>
                  <a:cubicBezTo>
                    <a:pt x="3581" y="727"/>
                    <a:pt x="3457" y="719"/>
                    <a:pt x="3350" y="702"/>
                  </a:cubicBezTo>
                  <a:cubicBezTo>
                    <a:pt x="3243" y="687"/>
                    <a:pt x="3146" y="664"/>
                    <a:pt x="3059" y="635"/>
                  </a:cubicBezTo>
                  <a:cubicBezTo>
                    <a:pt x="2953" y="670"/>
                    <a:pt x="2856" y="691"/>
                    <a:pt x="2776" y="702"/>
                  </a:cubicBezTo>
                  <a:cubicBezTo>
                    <a:pt x="2659" y="719"/>
                    <a:pt x="2497" y="727"/>
                    <a:pt x="2293" y="727"/>
                  </a:cubicBezTo>
                  <a:cubicBezTo>
                    <a:pt x="2218" y="727"/>
                    <a:pt x="2143" y="727"/>
                    <a:pt x="2069" y="727"/>
                  </a:cubicBezTo>
                  <a:cubicBezTo>
                    <a:pt x="1948" y="727"/>
                    <a:pt x="1830" y="718"/>
                    <a:pt x="1710" y="699"/>
                  </a:cubicBezTo>
                  <a:cubicBezTo>
                    <a:pt x="1630" y="687"/>
                    <a:pt x="1533" y="668"/>
                    <a:pt x="1419" y="640"/>
                  </a:cubicBezTo>
                  <a:cubicBezTo>
                    <a:pt x="1309" y="674"/>
                    <a:pt x="1209" y="695"/>
                    <a:pt x="1116" y="708"/>
                  </a:cubicBezTo>
                  <a:cubicBezTo>
                    <a:pt x="1022" y="720"/>
                    <a:pt x="874" y="727"/>
                    <a:pt x="667" y="727"/>
                  </a:cubicBezTo>
                  <a:cubicBezTo>
                    <a:pt x="445" y="727"/>
                    <a:pt x="222" y="727"/>
                    <a:pt x="0" y="727"/>
                  </a:cubicBezTo>
                  <a:cubicBezTo>
                    <a:pt x="0" y="647"/>
                    <a:pt x="0" y="567"/>
                    <a:pt x="0" y="487"/>
                  </a:cubicBezTo>
                  <a:cubicBezTo>
                    <a:pt x="222" y="487"/>
                    <a:pt x="445" y="487"/>
                    <a:pt x="667" y="487"/>
                  </a:cubicBezTo>
                  <a:cubicBezTo>
                    <a:pt x="853" y="487"/>
                    <a:pt x="988" y="481"/>
                    <a:pt x="1067" y="468"/>
                  </a:cubicBezTo>
                  <a:cubicBezTo>
                    <a:pt x="1202" y="447"/>
                    <a:pt x="1268" y="405"/>
                    <a:pt x="1268" y="341"/>
                  </a:cubicBezTo>
                  <a:cubicBezTo>
                    <a:pt x="1268" y="315"/>
                    <a:pt x="1264" y="288"/>
                    <a:pt x="1257" y="262"/>
                  </a:cubicBezTo>
                  <a:cubicBezTo>
                    <a:pt x="1250" y="235"/>
                    <a:pt x="1236" y="205"/>
                    <a:pt x="1219" y="172"/>
                  </a:cubicBezTo>
                  <a:cubicBezTo>
                    <a:pt x="1266" y="144"/>
                    <a:pt x="1314" y="118"/>
                    <a:pt x="1361" y="90"/>
                  </a:cubicBezTo>
                  <a:cubicBezTo>
                    <a:pt x="1426" y="174"/>
                    <a:pt x="1478" y="235"/>
                    <a:pt x="1520" y="274"/>
                  </a:cubicBezTo>
                  <a:cubicBezTo>
                    <a:pt x="1591" y="342"/>
                    <a:pt x="1675" y="390"/>
                    <a:pt x="1761" y="425"/>
                  </a:cubicBezTo>
                  <a:cubicBezTo>
                    <a:pt x="1868" y="467"/>
                    <a:pt x="1993" y="487"/>
                    <a:pt x="2141" y="487"/>
                  </a:cubicBezTo>
                  <a:cubicBezTo>
                    <a:pt x="2218" y="487"/>
                    <a:pt x="2295" y="487"/>
                    <a:pt x="2373" y="487"/>
                  </a:cubicBezTo>
                  <a:cubicBezTo>
                    <a:pt x="2545" y="487"/>
                    <a:pt x="2673" y="477"/>
                    <a:pt x="2756" y="456"/>
                  </a:cubicBezTo>
                  <a:cubicBezTo>
                    <a:pt x="2849" y="432"/>
                    <a:pt x="2894" y="394"/>
                    <a:pt x="2894" y="341"/>
                  </a:cubicBezTo>
                  <a:cubicBezTo>
                    <a:pt x="2894" y="313"/>
                    <a:pt x="2890" y="285"/>
                    <a:pt x="2880" y="259"/>
                  </a:cubicBezTo>
                  <a:cubicBezTo>
                    <a:pt x="2870" y="233"/>
                    <a:pt x="2859" y="204"/>
                    <a:pt x="2842" y="172"/>
                  </a:cubicBezTo>
                  <a:cubicBezTo>
                    <a:pt x="2890" y="144"/>
                    <a:pt x="2939" y="118"/>
                    <a:pt x="2987" y="90"/>
                  </a:cubicBezTo>
                  <a:cubicBezTo>
                    <a:pt x="3011" y="133"/>
                    <a:pt x="3036" y="176"/>
                    <a:pt x="3059" y="219"/>
                  </a:cubicBezTo>
                  <a:cubicBezTo>
                    <a:pt x="3121" y="321"/>
                    <a:pt x="3198" y="390"/>
                    <a:pt x="3288" y="431"/>
                  </a:cubicBezTo>
                  <a:cubicBezTo>
                    <a:pt x="3367" y="466"/>
                    <a:pt x="3470" y="483"/>
                    <a:pt x="3605" y="483"/>
                  </a:cubicBezTo>
                  <a:cubicBezTo>
                    <a:pt x="3667" y="483"/>
                    <a:pt x="3719" y="475"/>
                    <a:pt x="3757" y="460"/>
                  </a:cubicBezTo>
                  <a:cubicBezTo>
                    <a:pt x="3795" y="444"/>
                    <a:pt x="3812" y="425"/>
                    <a:pt x="3812" y="402"/>
                  </a:cubicBezTo>
                  <a:cubicBezTo>
                    <a:pt x="3812" y="351"/>
                    <a:pt x="3763" y="297"/>
                    <a:pt x="3671" y="240"/>
                  </a:cubicBezTo>
                  <a:cubicBezTo>
                    <a:pt x="3653" y="230"/>
                    <a:pt x="3598" y="202"/>
                    <a:pt x="3502" y="150"/>
                  </a:cubicBezTo>
                  <a:cubicBezTo>
                    <a:pt x="3576" y="100"/>
                    <a:pt x="3651" y="51"/>
                    <a:pt x="3726" y="0"/>
                  </a:cubicBezTo>
                  <a:cubicBezTo>
                    <a:pt x="3819" y="57"/>
                    <a:pt x="3885" y="106"/>
                    <a:pt x="3919" y="147"/>
                  </a:cubicBezTo>
                  <a:cubicBezTo>
                    <a:pt x="3970" y="210"/>
                    <a:pt x="3995" y="293"/>
                    <a:pt x="3995" y="396"/>
                  </a:cubicBezTo>
                  <a:cubicBezTo>
                    <a:pt x="3995" y="507"/>
                    <a:pt x="3995" y="617"/>
                    <a:pt x="3995" y="727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4805280" y="4337640"/>
              <a:ext cx="183960" cy="245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968" h="1389">
                  <a:moveTo>
                    <a:pt x="1692" y="116"/>
                  </a:moveTo>
                  <a:cubicBezTo>
                    <a:pt x="1605" y="183"/>
                    <a:pt x="1516" y="248"/>
                    <a:pt x="1429" y="315"/>
                  </a:cubicBezTo>
                  <a:cubicBezTo>
                    <a:pt x="1243" y="276"/>
                    <a:pt x="1056" y="239"/>
                    <a:pt x="870" y="200"/>
                  </a:cubicBezTo>
                  <a:cubicBezTo>
                    <a:pt x="954" y="132"/>
                    <a:pt x="1041" y="68"/>
                    <a:pt x="1125" y="0"/>
                  </a:cubicBezTo>
                  <a:cubicBezTo>
                    <a:pt x="1314" y="40"/>
                    <a:pt x="1503" y="76"/>
                    <a:pt x="1692" y="116"/>
                  </a:cubicBezTo>
                  <a:close/>
                  <a:moveTo>
                    <a:pt x="1968" y="1389"/>
                  </a:moveTo>
                  <a:cubicBezTo>
                    <a:pt x="1312" y="1389"/>
                    <a:pt x="656" y="1389"/>
                    <a:pt x="0" y="1389"/>
                  </a:cubicBezTo>
                  <a:cubicBezTo>
                    <a:pt x="0" y="1309"/>
                    <a:pt x="0" y="1229"/>
                    <a:pt x="0" y="1149"/>
                  </a:cubicBezTo>
                  <a:cubicBezTo>
                    <a:pt x="572" y="1149"/>
                    <a:pt x="1144" y="1149"/>
                    <a:pt x="1716" y="1149"/>
                  </a:cubicBezTo>
                  <a:cubicBezTo>
                    <a:pt x="1716" y="1041"/>
                    <a:pt x="1684" y="959"/>
                    <a:pt x="1619" y="902"/>
                  </a:cubicBezTo>
                  <a:cubicBezTo>
                    <a:pt x="1574" y="861"/>
                    <a:pt x="1466" y="807"/>
                    <a:pt x="1294" y="731"/>
                  </a:cubicBezTo>
                  <a:cubicBezTo>
                    <a:pt x="1383" y="655"/>
                    <a:pt x="1475" y="582"/>
                    <a:pt x="1564" y="507"/>
                  </a:cubicBezTo>
                  <a:cubicBezTo>
                    <a:pt x="1729" y="592"/>
                    <a:pt x="1833" y="655"/>
                    <a:pt x="1874" y="702"/>
                  </a:cubicBezTo>
                  <a:cubicBezTo>
                    <a:pt x="1936" y="773"/>
                    <a:pt x="1968" y="889"/>
                    <a:pt x="1968" y="1053"/>
                  </a:cubicBezTo>
                  <a:cubicBezTo>
                    <a:pt x="1968" y="1165"/>
                    <a:pt x="1968" y="1277"/>
                    <a:pt x="1968" y="13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5016240" y="4294800"/>
              <a:ext cx="308160" cy="415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298" h="2353">
                  <a:moveTo>
                    <a:pt x="3298" y="183"/>
                  </a:moveTo>
                  <a:cubicBezTo>
                    <a:pt x="3243" y="266"/>
                    <a:pt x="3186" y="348"/>
                    <a:pt x="3132" y="431"/>
                  </a:cubicBezTo>
                  <a:cubicBezTo>
                    <a:pt x="3064" y="417"/>
                    <a:pt x="2996" y="404"/>
                    <a:pt x="2928" y="391"/>
                  </a:cubicBezTo>
                  <a:cubicBezTo>
                    <a:pt x="2931" y="433"/>
                    <a:pt x="2933" y="474"/>
                    <a:pt x="2935" y="516"/>
                  </a:cubicBezTo>
                  <a:cubicBezTo>
                    <a:pt x="2935" y="639"/>
                    <a:pt x="2896" y="758"/>
                    <a:pt x="2818" y="874"/>
                  </a:cubicBezTo>
                  <a:cubicBezTo>
                    <a:pt x="2733" y="1002"/>
                    <a:pt x="2596" y="1124"/>
                    <a:pt x="2414" y="1250"/>
                  </a:cubicBezTo>
                  <a:cubicBezTo>
                    <a:pt x="2499" y="1315"/>
                    <a:pt x="2563" y="1364"/>
                    <a:pt x="2597" y="1401"/>
                  </a:cubicBezTo>
                  <a:cubicBezTo>
                    <a:pt x="2648" y="1460"/>
                    <a:pt x="2676" y="1518"/>
                    <a:pt x="2676" y="1577"/>
                  </a:cubicBezTo>
                  <a:cubicBezTo>
                    <a:pt x="2676" y="1612"/>
                    <a:pt x="2673" y="1640"/>
                    <a:pt x="2669" y="1664"/>
                  </a:cubicBezTo>
                  <a:cubicBezTo>
                    <a:pt x="2666" y="1687"/>
                    <a:pt x="2655" y="1716"/>
                    <a:pt x="2638" y="1748"/>
                  </a:cubicBezTo>
                  <a:cubicBezTo>
                    <a:pt x="2393" y="1770"/>
                    <a:pt x="2134" y="1786"/>
                    <a:pt x="1858" y="1799"/>
                  </a:cubicBezTo>
                  <a:cubicBezTo>
                    <a:pt x="1578" y="1811"/>
                    <a:pt x="1309" y="1818"/>
                    <a:pt x="1046" y="1818"/>
                  </a:cubicBezTo>
                  <a:cubicBezTo>
                    <a:pt x="1050" y="1800"/>
                    <a:pt x="1050" y="1786"/>
                    <a:pt x="1050" y="1774"/>
                  </a:cubicBezTo>
                  <a:cubicBezTo>
                    <a:pt x="1060" y="1704"/>
                    <a:pt x="1089" y="1640"/>
                    <a:pt x="1133" y="1580"/>
                  </a:cubicBezTo>
                  <a:cubicBezTo>
                    <a:pt x="1523" y="1494"/>
                    <a:pt x="1856" y="1391"/>
                    <a:pt x="2124" y="1255"/>
                  </a:cubicBezTo>
                  <a:cubicBezTo>
                    <a:pt x="1963" y="1132"/>
                    <a:pt x="1844" y="1049"/>
                    <a:pt x="1772" y="998"/>
                  </a:cubicBezTo>
                  <a:cubicBezTo>
                    <a:pt x="1693" y="942"/>
                    <a:pt x="1553" y="859"/>
                    <a:pt x="1361" y="741"/>
                  </a:cubicBezTo>
                  <a:cubicBezTo>
                    <a:pt x="1289" y="700"/>
                    <a:pt x="1226" y="669"/>
                    <a:pt x="1171" y="646"/>
                  </a:cubicBezTo>
                  <a:cubicBezTo>
                    <a:pt x="1095" y="613"/>
                    <a:pt x="1036" y="597"/>
                    <a:pt x="991" y="597"/>
                  </a:cubicBezTo>
                  <a:cubicBezTo>
                    <a:pt x="960" y="597"/>
                    <a:pt x="912" y="604"/>
                    <a:pt x="843" y="618"/>
                  </a:cubicBezTo>
                  <a:cubicBezTo>
                    <a:pt x="805" y="625"/>
                    <a:pt x="774" y="629"/>
                    <a:pt x="750" y="629"/>
                  </a:cubicBezTo>
                  <a:cubicBezTo>
                    <a:pt x="698" y="629"/>
                    <a:pt x="618" y="609"/>
                    <a:pt x="511" y="568"/>
                  </a:cubicBezTo>
                  <a:cubicBezTo>
                    <a:pt x="418" y="532"/>
                    <a:pt x="318" y="489"/>
                    <a:pt x="214" y="436"/>
                  </a:cubicBezTo>
                  <a:cubicBezTo>
                    <a:pt x="132" y="393"/>
                    <a:pt x="76" y="359"/>
                    <a:pt x="45" y="330"/>
                  </a:cubicBezTo>
                  <a:cubicBezTo>
                    <a:pt x="14" y="303"/>
                    <a:pt x="0" y="270"/>
                    <a:pt x="0" y="230"/>
                  </a:cubicBezTo>
                  <a:cubicBezTo>
                    <a:pt x="0" y="174"/>
                    <a:pt x="11" y="128"/>
                    <a:pt x="28" y="96"/>
                  </a:cubicBezTo>
                  <a:cubicBezTo>
                    <a:pt x="55" y="48"/>
                    <a:pt x="104" y="24"/>
                    <a:pt x="170" y="24"/>
                  </a:cubicBezTo>
                  <a:cubicBezTo>
                    <a:pt x="263" y="24"/>
                    <a:pt x="401" y="58"/>
                    <a:pt x="580" y="131"/>
                  </a:cubicBezTo>
                  <a:cubicBezTo>
                    <a:pt x="739" y="197"/>
                    <a:pt x="916" y="278"/>
                    <a:pt x="1112" y="384"/>
                  </a:cubicBezTo>
                  <a:cubicBezTo>
                    <a:pt x="1284" y="478"/>
                    <a:pt x="1455" y="575"/>
                    <a:pt x="1623" y="684"/>
                  </a:cubicBezTo>
                  <a:cubicBezTo>
                    <a:pt x="1740" y="760"/>
                    <a:pt x="1859" y="833"/>
                    <a:pt x="1975" y="910"/>
                  </a:cubicBezTo>
                  <a:cubicBezTo>
                    <a:pt x="2078" y="978"/>
                    <a:pt x="2187" y="1053"/>
                    <a:pt x="2293" y="1141"/>
                  </a:cubicBezTo>
                  <a:cubicBezTo>
                    <a:pt x="2447" y="1016"/>
                    <a:pt x="2553" y="892"/>
                    <a:pt x="2611" y="765"/>
                  </a:cubicBezTo>
                  <a:cubicBezTo>
                    <a:pt x="2662" y="655"/>
                    <a:pt x="2687" y="515"/>
                    <a:pt x="2687" y="344"/>
                  </a:cubicBezTo>
                  <a:cubicBezTo>
                    <a:pt x="2621" y="329"/>
                    <a:pt x="2555" y="314"/>
                    <a:pt x="2490" y="299"/>
                  </a:cubicBezTo>
                  <a:cubicBezTo>
                    <a:pt x="2490" y="238"/>
                    <a:pt x="2504" y="183"/>
                    <a:pt x="2531" y="134"/>
                  </a:cubicBezTo>
                  <a:cubicBezTo>
                    <a:pt x="2555" y="85"/>
                    <a:pt x="2594" y="41"/>
                    <a:pt x="2642" y="0"/>
                  </a:cubicBezTo>
                  <a:cubicBezTo>
                    <a:pt x="2668" y="3"/>
                    <a:pt x="2695" y="6"/>
                    <a:pt x="2721" y="8"/>
                  </a:cubicBezTo>
                  <a:cubicBezTo>
                    <a:pt x="2731" y="48"/>
                    <a:pt x="2787" y="80"/>
                    <a:pt x="2887" y="103"/>
                  </a:cubicBezTo>
                  <a:cubicBezTo>
                    <a:pt x="2942" y="116"/>
                    <a:pt x="3015" y="130"/>
                    <a:pt x="3101" y="147"/>
                  </a:cubicBezTo>
                  <a:cubicBezTo>
                    <a:pt x="3187" y="164"/>
                    <a:pt x="3253" y="176"/>
                    <a:pt x="3298" y="183"/>
                  </a:cubicBezTo>
                  <a:close/>
                  <a:moveTo>
                    <a:pt x="2400" y="1522"/>
                  </a:moveTo>
                  <a:cubicBezTo>
                    <a:pt x="2400" y="1502"/>
                    <a:pt x="2389" y="1481"/>
                    <a:pt x="2372" y="1459"/>
                  </a:cubicBezTo>
                  <a:cubicBezTo>
                    <a:pt x="2352" y="1438"/>
                    <a:pt x="2306" y="1403"/>
                    <a:pt x="2241" y="1353"/>
                  </a:cubicBezTo>
                  <a:cubicBezTo>
                    <a:pt x="2172" y="1389"/>
                    <a:pt x="2068" y="1429"/>
                    <a:pt x="1934" y="1477"/>
                  </a:cubicBezTo>
                  <a:cubicBezTo>
                    <a:pt x="1796" y="1524"/>
                    <a:pt x="1661" y="1563"/>
                    <a:pt x="1526" y="1597"/>
                  </a:cubicBezTo>
                  <a:cubicBezTo>
                    <a:pt x="1799" y="1597"/>
                    <a:pt x="1993" y="1594"/>
                    <a:pt x="2106" y="1587"/>
                  </a:cubicBezTo>
                  <a:cubicBezTo>
                    <a:pt x="2303" y="1576"/>
                    <a:pt x="2400" y="1554"/>
                    <a:pt x="2400" y="1522"/>
                  </a:cubicBezTo>
                  <a:close/>
                  <a:moveTo>
                    <a:pt x="1865" y="2165"/>
                  </a:moveTo>
                  <a:cubicBezTo>
                    <a:pt x="1865" y="2188"/>
                    <a:pt x="1830" y="2209"/>
                    <a:pt x="1758" y="2227"/>
                  </a:cubicBezTo>
                  <a:cubicBezTo>
                    <a:pt x="1709" y="2239"/>
                    <a:pt x="1637" y="2251"/>
                    <a:pt x="1540" y="2265"/>
                  </a:cubicBezTo>
                  <a:cubicBezTo>
                    <a:pt x="1326" y="2295"/>
                    <a:pt x="1112" y="2323"/>
                    <a:pt x="898" y="2353"/>
                  </a:cubicBezTo>
                  <a:cubicBezTo>
                    <a:pt x="898" y="2311"/>
                    <a:pt x="1012" y="2274"/>
                    <a:pt x="1243" y="2242"/>
                  </a:cubicBezTo>
                  <a:cubicBezTo>
                    <a:pt x="1171" y="2226"/>
                    <a:pt x="1119" y="2213"/>
                    <a:pt x="1081" y="2199"/>
                  </a:cubicBezTo>
                  <a:cubicBezTo>
                    <a:pt x="1033" y="2181"/>
                    <a:pt x="1009" y="2163"/>
                    <a:pt x="1009" y="2144"/>
                  </a:cubicBezTo>
                  <a:cubicBezTo>
                    <a:pt x="1009" y="2115"/>
                    <a:pt x="1071" y="2076"/>
                    <a:pt x="1191" y="2024"/>
                  </a:cubicBezTo>
                  <a:cubicBezTo>
                    <a:pt x="1326" y="1967"/>
                    <a:pt x="1447" y="1939"/>
                    <a:pt x="1551" y="1939"/>
                  </a:cubicBezTo>
                  <a:cubicBezTo>
                    <a:pt x="1595" y="1939"/>
                    <a:pt x="1637" y="1944"/>
                    <a:pt x="1672" y="1957"/>
                  </a:cubicBezTo>
                  <a:cubicBezTo>
                    <a:pt x="1702" y="1970"/>
                    <a:pt x="1720" y="1986"/>
                    <a:pt x="1720" y="2007"/>
                  </a:cubicBezTo>
                  <a:cubicBezTo>
                    <a:pt x="1720" y="2019"/>
                    <a:pt x="1713" y="2033"/>
                    <a:pt x="1699" y="2047"/>
                  </a:cubicBezTo>
                  <a:cubicBezTo>
                    <a:pt x="1685" y="2059"/>
                    <a:pt x="1664" y="2074"/>
                    <a:pt x="1640" y="2091"/>
                  </a:cubicBezTo>
                  <a:cubicBezTo>
                    <a:pt x="1568" y="2064"/>
                    <a:pt x="1492" y="2052"/>
                    <a:pt x="1409" y="2052"/>
                  </a:cubicBezTo>
                  <a:cubicBezTo>
                    <a:pt x="1357" y="2052"/>
                    <a:pt x="1309" y="2056"/>
                    <a:pt x="1260" y="2064"/>
                  </a:cubicBezTo>
                  <a:cubicBezTo>
                    <a:pt x="1209" y="2073"/>
                    <a:pt x="1185" y="2082"/>
                    <a:pt x="1185" y="2093"/>
                  </a:cubicBezTo>
                  <a:cubicBezTo>
                    <a:pt x="1185" y="2107"/>
                    <a:pt x="1240" y="2126"/>
                    <a:pt x="1347" y="2150"/>
                  </a:cubicBezTo>
                  <a:cubicBezTo>
                    <a:pt x="1454" y="2174"/>
                    <a:pt x="1544" y="2186"/>
                    <a:pt x="1620" y="2186"/>
                  </a:cubicBezTo>
                  <a:cubicBezTo>
                    <a:pt x="1672" y="2186"/>
                    <a:pt x="1706" y="2186"/>
                    <a:pt x="1730" y="2184"/>
                  </a:cubicBezTo>
                  <a:cubicBezTo>
                    <a:pt x="1751" y="2183"/>
                    <a:pt x="1796" y="2176"/>
                    <a:pt x="1865" y="216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5396040" y="4286160"/>
              <a:ext cx="61560" cy="3042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659" h="1720">
                  <a:moveTo>
                    <a:pt x="659" y="1332"/>
                  </a:moveTo>
                  <a:cubicBezTo>
                    <a:pt x="659" y="1405"/>
                    <a:pt x="624" y="1476"/>
                    <a:pt x="559" y="1545"/>
                  </a:cubicBezTo>
                  <a:cubicBezTo>
                    <a:pt x="525" y="1583"/>
                    <a:pt x="448" y="1639"/>
                    <a:pt x="335" y="1720"/>
                  </a:cubicBezTo>
                  <a:cubicBezTo>
                    <a:pt x="314" y="1715"/>
                    <a:pt x="293" y="1711"/>
                    <a:pt x="272" y="1706"/>
                  </a:cubicBezTo>
                  <a:cubicBezTo>
                    <a:pt x="279" y="1680"/>
                    <a:pt x="286" y="1649"/>
                    <a:pt x="293" y="1614"/>
                  </a:cubicBezTo>
                  <a:cubicBezTo>
                    <a:pt x="297" y="1579"/>
                    <a:pt x="300" y="1556"/>
                    <a:pt x="300" y="1544"/>
                  </a:cubicBezTo>
                  <a:cubicBezTo>
                    <a:pt x="300" y="1449"/>
                    <a:pt x="282" y="1315"/>
                    <a:pt x="245" y="1143"/>
                  </a:cubicBezTo>
                  <a:cubicBezTo>
                    <a:pt x="208" y="972"/>
                    <a:pt x="158" y="794"/>
                    <a:pt x="107" y="608"/>
                  </a:cubicBezTo>
                  <a:cubicBezTo>
                    <a:pt x="76" y="495"/>
                    <a:pt x="37" y="380"/>
                    <a:pt x="0" y="263"/>
                  </a:cubicBezTo>
                  <a:cubicBezTo>
                    <a:pt x="44" y="222"/>
                    <a:pt x="100" y="179"/>
                    <a:pt x="159" y="132"/>
                  </a:cubicBezTo>
                  <a:cubicBezTo>
                    <a:pt x="217" y="85"/>
                    <a:pt x="273" y="41"/>
                    <a:pt x="324" y="0"/>
                  </a:cubicBezTo>
                  <a:cubicBezTo>
                    <a:pt x="362" y="105"/>
                    <a:pt x="408" y="247"/>
                    <a:pt x="466" y="429"/>
                  </a:cubicBezTo>
                  <a:cubicBezTo>
                    <a:pt x="520" y="611"/>
                    <a:pt x="567" y="774"/>
                    <a:pt x="597" y="920"/>
                  </a:cubicBezTo>
                  <a:cubicBezTo>
                    <a:pt x="638" y="1102"/>
                    <a:pt x="659" y="1240"/>
                    <a:pt x="659" y="1332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000680" y="4377240"/>
              <a:ext cx="325080" cy="312840"/>
            </a:xfrm>
            <a:custGeom>
              <a:avLst/>
              <a:gdLst>
                <a:gd name="textAreaLeft" fmla="*/ 0 w 325080"/>
                <a:gd name="textAreaRight" fmla="*/ 325080 w 3250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480" h="1776">
                  <a:moveTo>
                    <a:pt x="2196" y="113"/>
                  </a:moveTo>
                  <a:cubicBezTo>
                    <a:pt x="2110" y="180"/>
                    <a:pt x="2022" y="244"/>
                    <a:pt x="1937" y="310"/>
                  </a:cubicBezTo>
                  <a:cubicBezTo>
                    <a:pt x="1757" y="270"/>
                    <a:pt x="1578" y="232"/>
                    <a:pt x="1398" y="192"/>
                  </a:cubicBezTo>
                  <a:cubicBezTo>
                    <a:pt x="1480" y="127"/>
                    <a:pt x="1564" y="65"/>
                    <a:pt x="1647" y="0"/>
                  </a:cubicBezTo>
                  <a:cubicBezTo>
                    <a:pt x="1830" y="39"/>
                    <a:pt x="2013" y="75"/>
                    <a:pt x="2196" y="113"/>
                  </a:cubicBezTo>
                  <a:close/>
                  <a:moveTo>
                    <a:pt x="3480" y="1169"/>
                  </a:moveTo>
                  <a:cubicBezTo>
                    <a:pt x="3480" y="1374"/>
                    <a:pt x="3328" y="1522"/>
                    <a:pt x="3028" y="1620"/>
                  </a:cubicBezTo>
                  <a:cubicBezTo>
                    <a:pt x="2704" y="1725"/>
                    <a:pt x="2178" y="1776"/>
                    <a:pt x="1457" y="1776"/>
                  </a:cubicBezTo>
                  <a:cubicBezTo>
                    <a:pt x="998" y="1776"/>
                    <a:pt x="645" y="1745"/>
                    <a:pt x="400" y="1679"/>
                  </a:cubicBezTo>
                  <a:cubicBezTo>
                    <a:pt x="135" y="1608"/>
                    <a:pt x="0" y="1500"/>
                    <a:pt x="0" y="1354"/>
                  </a:cubicBezTo>
                  <a:cubicBezTo>
                    <a:pt x="0" y="1276"/>
                    <a:pt x="25" y="1197"/>
                    <a:pt x="72" y="1115"/>
                  </a:cubicBezTo>
                  <a:cubicBezTo>
                    <a:pt x="120" y="1034"/>
                    <a:pt x="187" y="954"/>
                    <a:pt x="269" y="871"/>
                  </a:cubicBezTo>
                  <a:cubicBezTo>
                    <a:pt x="320" y="821"/>
                    <a:pt x="408" y="747"/>
                    <a:pt x="531" y="643"/>
                  </a:cubicBezTo>
                  <a:cubicBezTo>
                    <a:pt x="578" y="652"/>
                    <a:pt x="623" y="659"/>
                    <a:pt x="670" y="668"/>
                  </a:cubicBezTo>
                  <a:cubicBezTo>
                    <a:pt x="508" y="801"/>
                    <a:pt x="403" y="904"/>
                    <a:pt x="352" y="980"/>
                  </a:cubicBezTo>
                  <a:cubicBezTo>
                    <a:pt x="301" y="1056"/>
                    <a:pt x="272" y="1126"/>
                    <a:pt x="272" y="1190"/>
                  </a:cubicBezTo>
                  <a:cubicBezTo>
                    <a:pt x="272" y="1304"/>
                    <a:pt x="376" y="1388"/>
                    <a:pt x="580" y="1448"/>
                  </a:cubicBezTo>
                  <a:cubicBezTo>
                    <a:pt x="783" y="1508"/>
                    <a:pt x="1074" y="1538"/>
                    <a:pt x="1450" y="1538"/>
                  </a:cubicBezTo>
                  <a:cubicBezTo>
                    <a:pt x="1885" y="1538"/>
                    <a:pt x="2272" y="1508"/>
                    <a:pt x="2607" y="1445"/>
                  </a:cubicBezTo>
                  <a:cubicBezTo>
                    <a:pt x="3024" y="1368"/>
                    <a:pt x="3232" y="1262"/>
                    <a:pt x="3232" y="1126"/>
                  </a:cubicBezTo>
                  <a:cubicBezTo>
                    <a:pt x="3232" y="1033"/>
                    <a:pt x="3196" y="946"/>
                    <a:pt x="3128" y="865"/>
                  </a:cubicBezTo>
                  <a:cubicBezTo>
                    <a:pt x="3070" y="792"/>
                    <a:pt x="2982" y="732"/>
                    <a:pt x="2872" y="677"/>
                  </a:cubicBezTo>
                  <a:cubicBezTo>
                    <a:pt x="2967" y="582"/>
                    <a:pt x="3065" y="490"/>
                    <a:pt x="3159" y="395"/>
                  </a:cubicBezTo>
                  <a:cubicBezTo>
                    <a:pt x="3279" y="471"/>
                    <a:pt x="3367" y="545"/>
                    <a:pt x="3411" y="622"/>
                  </a:cubicBezTo>
                  <a:cubicBezTo>
                    <a:pt x="3455" y="700"/>
                    <a:pt x="3480" y="801"/>
                    <a:pt x="3480" y="929"/>
                  </a:cubicBezTo>
                  <a:cubicBezTo>
                    <a:pt x="3480" y="1009"/>
                    <a:pt x="3480" y="1089"/>
                    <a:pt x="3480" y="1169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4331880" y="4286160"/>
              <a:ext cx="145440" cy="29700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24" h="241">
                  <a:moveTo>
                    <a:pt x="224" y="241"/>
                  </a:moveTo>
                  <a:cubicBezTo>
                    <a:pt x="201" y="241"/>
                    <a:pt x="178" y="241"/>
                    <a:pt x="155" y="241"/>
                  </a:cubicBezTo>
                  <a:cubicBezTo>
                    <a:pt x="132" y="241"/>
                    <a:pt x="114" y="238"/>
                    <a:pt x="100" y="230"/>
                  </a:cubicBezTo>
                  <a:cubicBezTo>
                    <a:pt x="89" y="224"/>
                    <a:pt x="80" y="215"/>
                    <a:pt x="74" y="202"/>
                  </a:cubicBezTo>
                  <a:cubicBezTo>
                    <a:pt x="67" y="190"/>
                    <a:pt x="63" y="174"/>
                    <a:pt x="59" y="156"/>
                  </a:cubicBezTo>
                  <a:cubicBezTo>
                    <a:pt x="57" y="141"/>
                    <a:pt x="55" y="126"/>
                    <a:pt x="53" y="110"/>
                  </a:cubicBezTo>
                  <a:cubicBezTo>
                    <a:pt x="51" y="95"/>
                    <a:pt x="48" y="83"/>
                    <a:pt x="45" y="75"/>
                  </a:cubicBezTo>
                  <a:cubicBezTo>
                    <a:pt x="42" y="67"/>
                    <a:pt x="36" y="60"/>
                    <a:pt x="31" y="55"/>
                  </a:cubicBezTo>
                  <a:cubicBezTo>
                    <a:pt x="23" y="49"/>
                    <a:pt x="13" y="43"/>
                    <a:pt x="0" y="39"/>
                  </a:cubicBezTo>
                  <a:cubicBezTo>
                    <a:pt x="21" y="25"/>
                    <a:pt x="41" y="13"/>
                    <a:pt x="61" y="0"/>
                  </a:cubicBezTo>
                  <a:cubicBezTo>
                    <a:pt x="74" y="16"/>
                    <a:pt x="83" y="35"/>
                    <a:pt x="89" y="57"/>
                  </a:cubicBezTo>
                  <a:cubicBezTo>
                    <a:pt x="92" y="70"/>
                    <a:pt x="95" y="103"/>
                    <a:pt x="98" y="154"/>
                  </a:cubicBezTo>
                  <a:cubicBezTo>
                    <a:pt x="104" y="177"/>
                    <a:pt x="113" y="192"/>
                    <a:pt x="124" y="199"/>
                  </a:cubicBezTo>
                  <a:cubicBezTo>
                    <a:pt x="134" y="204"/>
                    <a:pt x="144" y="207"/>
                    <a:pt x="155" y="207"/>
                  </a:cubicBezTo>
                  <a:cubicBezTo>
                    <a:pt x="178" y="207"/>
                    <a:pt x="201" y="207"/>
                    <a:pt x="224" y="207"/>
                  </a:cubicBezTo>
                  <a:cubicBezTo>
                    <a:pt x="224" y="218"/>
                    <a:pt x="224" y="230"/>
                    <a:pt x="224" y="241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4454640" y="4455000"/>
              <a:ext cx="373320" cy="1281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74" h="104">
                  <a:moveTo>
                    <a:pt x="574" y="104"/>
                  </a:moveTo>
                  <a:cubicBezTo>
                    <a:pt x="561" y="104"/>
                    <a:pt x="549" y="104"/>
                    <a:pt x="536" y="104"/>
                  </a:cubicBezTo>
                  <a:cubicBezTo>
                    <a:pt x="515" y="104"/>
                    <a:pt x="497" y="103"/>
                    <a:pt x="481" y="101"/>
                  </a:cubicBezTo>
                  <a:cubicBezTo>
                    <a:pt x="466" y="99"/>
                    <a:pt x="452" y="95"/>
                    <a:pt x="440" y="91"/>
                  </a:cubicBezTo>
                  <a:cubicBezTo>
                    <a:pt x="424" y="96"/>
                    <a:pt x="410" y="99"/>
                    <a:pt x="399" y="101"/>
                  </a:cubicBezTo>
                  <a:cubicBezTo>
                    <a:pt x="382" y="103"/>
                    <a:pt x="359" y="104"/>
                    <a:pt x="330" y="104"/>
                  </a:cubicBezTo>
                  <a:cubicBezTo>
                    <a:pt x="319" y="104"/>
                    <a:pt x="308" y="104"/>
                    <a:pt x="297" y="104"/>
                  </a:cubicBezTo>
                  <a:cubicBezTo>
                    <a:pt x="280" y="104"/>
                    <a:pt x="263" y="103"/>
                    <a:pt x="246" y="100"/>
                  </a:cubicBezTo>
                  <a:cubicBezTo>
                    <a:pt x="234" y="99"/>
                    <a:pt x="220" y="96"/>
                    <a:pt x="204" y="92"/>
                  </a:cubicBezTo>
                  <a:cubicBezTo>
                    <a:pt x="188" y="97"/>
                    <a:pt x="174" y="100"/>
                    <a:pt x="160" y="102"/>
                  </a:cubicBezTo>
                  <a:cubicBezTo>
                    <a:pt x="147" y="103"/>
                    <a:pt x="126" y="104"/>
                    <a:pt x="96" y="104"/>
                  </a:cubicBezTo>
                  <a:cubicBezTo>
                    <a:pt x="64" y="104"/>
                    <a:pt x="32" y="104"/>
                    <a:pt x="0" y="104"/>
                  </a:cubicBezTo>
                  <a:cubicBezTo>
                    <a:pt x="0" y="93"/>
                    <a:pt x="0" y="81"/>
                    <a:pt x="0" y="70"/>
                  </a:cubicBezTo>
                  <a:cubicBezTo>
                    <a:pt x="32" y="70"/>
                    <a:pt x="64" y="70"/>
                    <a:pt x="96" y="70"/>
                  </a:cubicBezTo>
                  <a:cubicBezTo>
                    <a:pt x="123" y="70"/>
                    <a:pt x="142" y="69"/>
                    <a:pt x="153" y="67"/>
                  </a:cubicBezTo>
                  <a:cubicBezTo>
                    <a:pt x="173" y="64"/>
                    <a:pt x="182" y="58"/>
                    <a:pt x="182" y="49"/>
                  </a:cubicBezTo>
                  <a:cubicBezTo>
                    <a:pt x="182" y="45"/>
                    <a:pt x="182" y="41"/>
                    <a:pt x="181" y="38"/>
                  </a:cubicBezTo>
                  <a:cubicBezTo>
                    <a:pt x="180" y="34"/>
                    <a:pt x="178" y="30"/>
                    <a:pt x="175" y="25"/>
                  </a:cubicBezTo>
                  <a:cubicBezTo>
                    <a:pt x="182" y="21"/>
                    <a:pt x="189" y="17"/>
                    <a:pt x="196" y="13"/>
                  </a:cubicBezTo>
                  <a:cubicBezTo>
                    <a:pt x="205" y="25"/>
                    <a:pt x="212" y="34"/>
                    <a:pt x="219" y="39"/>
                  </a:cubicBezTo>
                  <a:cubicBezTo>
                    <a:pt x="229" y="49"/>
                    <a:pt x="241" y="56"/>
                    <a:pt x="253" y="61"/>
                  </a:cubicBezTo>
                  <a:cubicBezTo>
                    <a:pt x="268" y="67"/>
                    <a:pt x="286" y="70"/>
                    <a:pt x="308" y="70"/>
                  </a:cubicBezTo>
                  <a:cubicBezTo>
                    <a:pt x="319" y="70"/>
                    <a:pt x="330" y="70"/>
                    <a:pt x="341" y="70"/>
                  </a:cubicBezTo>
                  <a:cubicBezTo>
                    <a:pt x="366" y="70"/>
                    <a:pt x="384" y="68"/>
                    <a:pt x="396" y="65"/>
                  </a:cubicBezTo>
                  <a:cubicBezTo>
                    <a:pt x="409" y="62"/>
                    <a:pt x="416" y="57"/>
                    <a:pt x="416" y="49"/>
                  </a:cubicBezTo>
                  <a:cubicBezTo>
                    <a:pt x="416" y="45"/>
                    <a:pt x="415" y="41"/>
                    <a:pt x="414" y="37"/>
                  </a:cubicBezTo>
                  <a:cubicBezTo>
                    <a:pt x="412" y="34"/>
                    <a:pt x="411" y="29"/>
                    <a:pt x="408" y="25"/>
                  </a:cubicBezTo>
                  <a:cubicBezTo>
                    <a:pt x="415" y="21"/>
                    <a:pt x="422" y="17"/>
                    <a:pt x="429" y="13"/>
                  </a:cubicBezTo>
                  <a:cubicBezTo>
                    <a:pt x="433" y="19"/>
                    <a:pt x="436" y="25"/>
                    <a:pt x="440" y="32"/>
                  </a:cubicBezTo>
                  <a:cubicBezTo>
                    <a:pt x="448" y="46"/>
                    <a:pt x="460" y="56"/>
                    <a:pt x="472" y="62"/>
                  </a:cubicBezTo>
                  <a:cubicBezTo>
                    <a:pt x="484" y="67"/>
                    <a:pt x="499" y="69"/>
                    <a:pt x="518" y="69"/>
                  </a:cubicBezTo>
                  <a:cubicBezTo>
                    <a:pt x="527" y="69"/>
                    <a:pt x="534" y="68"/>
                    <a:pt x="540" y="66"/>
                  </a:cubicBezTo>
                  <a:cubicBezTo>
                    <a:pt x="545" y="64"/>
                    <a:pt x="548" y="61"/>
                    <a:pt x="548" y="58"/>
                  </a:cubicBezTo>
                  <a:cubicBezTo>
                    <a:pt x="548" y="50"/>
                    <a:pt x="541" y="43"/>
                    <a:pt x="527" y="35"/>
                  </a:cubicBezTo>
                  <a:cubicBezTo>
                    <a:pt x="525" y="33"/>
                    <a:pt x="517" y="29"/>
                    <a:pt x="503" y="22"/>
                  </a:cubicBezTo>
                  <a:cubicBezTo>
                    <a:pt x="514" y="14"/>
                    <a:pt x="525" y="7"/>
                    <a:pt x="535" y="0"/>
                  </a:cubicBezTo>
                  <a:cubicBezTo>
                    <a:pt x="549" y="8"/>
                    <a:pt x="558" y="15"/>
                    <a:pt x="563" y="21"/>
                  </a:cubicBezTo>
                  <a:cubicBezTo>
                    <a:pt x="570" y="30"/>
                    <a:pt x="574" y="42"/>
                    <a:pt x="574" y="57"/>
                  </a:cubicBezTo>
                  <a:cubicBezTo>
                    <a:pt x="574" y="73"/>
                    <a:pt x="574" y="88"/>
                    <a:pt x="574" y="104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4805280" y="4337640"/>
              <a:ext cx="183960" cy="245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968" h="1389">
                  <a:moveTo>
                    <a:pt x="1692" y="116"/>
                  </a:moveTo>
                  <a:cubicBezTo>
                    <a:pt x="1605" y="183"/>
                    <a:pt x="1516" y="248"/>
                    <a:pt x="1429" y="315"/>
                  </a:cubicBezTo>
                  <a:cubicBezTo>
                    <a:pt x="1243" y="276"/>
                    <a:pt x="1056" y="239"/>
                    <a:pt x="870" y="200"/>
                  </a:cubicBezTo>
                  <a:cubicBezTo>
                    <a:pt x="954" y="132"/>
                    <a:pt x="1041" y="68"/>
                    <a:pt x="1125" y="0"/>
                  </a:cubicBezTo>
                  <a:cubicBezTo>
                    <a:pt x="1314" y="40"/>
                    <a:pt x="1503" y="76"/>
                    <a:pt x="1692" y="116"/>
                  </a:cubicBezTo>
                  <a:close/>
                  <a:moveTo>
                    <a:pt x="1968" y="1389"/>
                  </a:moveTo>
                  <a:cubicBezTo>
                    <a:pt x="1312" y="1389"/>
                    <a:pt x="656" y="1389"/>
                    <a:pt x="0" y="1389"/>
                  </a:cubicBezTo>
                  <a:cubicBezTo>
                    <a:pt x="0" y="1309"/>
                    <a:pt x="0" y="1229"/>
                    <a:pt x="0" y="1149"/>
                  </a:cubicBezTo>
                  <a:cubicBezTo>
                    <a:pt x="572" y="1149"/>
                    <a:pt x="1144" y="1149"/>
                    <a:pt x="1716" y="1149"/>
                  </a:cubicBezTo>
                  <a:cubicBezTo>
                    <a:pt x="1716" y="1041"/>
                    <a:pt x="1684" y="959"/>
                    <a:pt x="1619" y="902"/>
                  </a:cubicBezTo>
                  <a:cubicBezTo>
                    <a:pt x="1574" y="861"/>
                    <a:pt x="1466" y="807"/>
                    <a:pt x="1294" y="731"/>
                  </a:cubicBezTo>
                  <a:cubicBezTo>
                    <a:pt x="1383" y="655"/>
                    <a:pt x="1475" y="582"/>
                    <a:pt x="1564" y="507"/>
                  </a:cubicBezTo>
                  <a:cubicBezTo>
                    <a:pt x="1729" y="592"/>
                    <a:pt x="1833" y="655"/>
                    <a:pt x="1874" y="702"/>
                  </a:cubicBezTo>
                  <a:cubicBezTo>
                    <a:pt x="1936" y="773"/>
                    <a:pt x="1968" y="889"/>
                    <a:pt x="1968" y="1053"/>
                  </a:cubicBezTo>
                  <a:cubicBezTo>
                    <a:pt x="1968" y="1165"/>
                    <a:pt x="1968" y="1277"/>
                    <a:pt x="1968" y="1389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5016240" y="4294800"/>
              <a:ext cx="308160" cy="415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3298" h="2353">
                  <a:moveTo>
                    <a:pt x="3298" y="183"/>
                  </a:moveTo>
                  <a:cubicBezTo>
                    <a:pt x="3243" y="266"/>
                    <a:pt x="3186" y="348"/>
                    <a:pt x="3132" y="431"/>
                  </a:cubicBezTo>
                  <a:cubicBezTo>
                    <a:pt x="3064" y="417"/>
                    <a:pt x="2996" y="404"/>
                    <a:pt x="2928" y="391"/>
                  </a:cubicBezTo>
                  <a:cubicBezTo>
                    <a:pt x="2931" y="433"/>
                    <a:pt x="2933" y="474"/>
                    <a:pt x="2935" y="516"/>
                  </a:cubicBezTo>
                  <a:cubicBezTo>
                    <a:pt x="2935" y="639"/>
                    <a:pt x="2896" y="758"/>
                    <a:pt x="2818" y="874"/>
                  </a:cubicBezTo>
                  <a:cubicBezTo>
                    <a:pt x="2733" y="1002"/>
                    <a:pt x="2596" y="1124"/>
                    <a:pt x="2414" y="1250"/>
                  </a:cubicBezTo>
                  <a:cubicBezTo>
                    <a:pt x="2499" y="1315"/>
                    <a:pt x="2563" y="1364"/>
                    <a:pt x="2597" y="1401"/>
                  </a:cubicBezTo>
                  <a:cubicBezTo>
                    <a:pt x="2648" y="1460"/>
                    <a:pt x="2676" y="1518"/>
                    <a:pt x="2676" y="1577"/>
                  </a:cubicBezTo>
                  <a:cubicBezTo>
                    <a:pt x="2676" y="1612"/>
                    <a:pt x="2673" y="1640"/>
                    <a:pt x="2669" y="1664"/>
                  </a:cubicBezTo>
                  <a:cubicBezTo>
                    <a:pt x="2666" y="1687"/>
                    <a:pt x="2655" y="1716"/>
                    <a:pt x="2638" y="1748"/>
                  </a:cubicBezTo>
                  <a:cubicBezTo>
                    <a:pt x="2393" y="1770"/>
                    <a:pt x="2134" y="1786"/>
                    <a:pt x="1858" y="1799"/>
                  </a:cubicBezTo>
                  <a:cubicBezTo>
                    <a:pt x="1578" y="1811"/>
                    <a:pt x="1309" y="1818"/>
                    <a:pt x="1046" y="1818"/>
                  </a:cubicBezTo>
                  <a:cubicBezTo>
                    <a:pt x="1050" y="1800"/>
                    <a:pt x="1050" y="1786"/>
                    <a:pt x="1050" y="1774"/>
                  </a:cubicBezTo>
                  <a:cubicBezTo>
                    <a:pt x="1060" y="1704"/>
                    <a:pt x="1089" y="1640"/>
                    <a:pt x="1133" y="1580"/>
                  </a:cubicBezTo>
                  <a:cubicBezTo>
                    <a:pt x="1523" y="1494"/>
                    <a:pt x="1856" y="1391"/>
                    <a:pt x="2124" y="1255"/>
                  </a:cubicBezTo>
                  <a:cubicBezTo>
                    <a:pt x="1963" y="1132"/>
                    <a:pt x="1844" y="1049"/>
                    <a:pt x="1772" y="998"/>
                  </a:cubicBezTo>
                  <a:cubicBezTo>
                    <a:pt x="1693" y="942"/>
                    <a:pt x="1553" y="859"/>
                    <a:pt x="1361" y="741"/>
                  </a:cubicBezTo>
                  <a:cubicBezTo>
                    <a:pt x="1289" y="700"/>
                    <a:pt x="1226" y="669"/>
                    <a:pt x="1171" y="646"/>
                  </a:cubicBezTo>
                  <a:cubicBezTo>
                    <a:pt x="1095" y="613"/>
                    <a:pt x="1036" y="597"/>
                    <a:pt x="991" y="597"/>
                  </a:cubicBezTo>
                  <a:cubicBezTo>
                    <a:pt x="960" y="597"/>
                    <a:pt x="912" y="604"/>
                    <a:pt x="843" y="618"/>
                  </a:cubicBezTo>
                  <a:cubicBezTo>
                    <a:pt x="805" y="625"/>
                    <a:pt x="774" y="629"/>
                    <a:pt x="750" y="629"/>
                  </a:cubicBezTo>
                  <a:cubicBezTo>
                    <a:pt x="698" y="629"/>
                    <a:pt x="618" y="609"/>
                    <a:pt x="511" y="568"/>
                  </a:cubicBezTo>
                  <a:cubicBezTo>
                    <a:pt x="418" y="532"/>
                    <a:pt x="318" y="489"/>
                    <a:pt x="214" y="436"/>
                  </a:cubicBezTo>
                  <a:cubicBezTo>
                    <a:pt x="132" y="393"/>
                    <a:pt x="76" y="359"/>
                    <a:pt x="45" y="330"/>
                  </a:cubicBezTo>
                  <a:cubicBezTo>
                    <a:pt x="14" y="303"/>
                    <a:pt x="0" y="270"/>
                    <a:pt x="0" y="230"/>
                  </a:cubicBezTo>
                  <a:cubicBezTo>
                    <a:pt x="0" y="174"/>
                    <a:pt x="11" y="128"/>
                    <a:pt x="28" y="96"/>
                  </a:cubicBezTo>
                  <a:cubicBezTo>
                    <a:pt x="55" y="48"/>
                    <a:pt x="104" y="24"/>
                    <a:pt x="170" y="24"/>
                  </a:cubicBezTo>
                  <a:cubicBezTo>
                    <a:pt x="263" y="24"/>
                    <a:pt x="401" y="58"/>
                    <a:pt x="580" y="131"/>
                  </a:cubicBezTo>
                  <a:cubicBezTo>
                    <a:pt x="739" y="197"/>
                    <a:pt x="916" y="278"/>
                    <a:pt x="1112" y="384"/>
                  </a:cubicBezTo>
                  <a:cubicBezTo>
                    <a:pt x="1284" y="478"/>
                    <a:pt x="1455" y="575"/>
                    <a:pt x="1623" y="684"/>
                  </a:cubicBezTo>
                  <a:cubicBezTo>
                    <a:pt x="1740" y="760"/>
                    <a:pt x="1859" y="833"/>
                    <a:pt x="1975" y="910"/>
                  </a:cubicBezTo>
                  <a:cubicBezTo>
                    <a:pt x="2078" y="978"/>
                    <a:pt x="2187" y="1053"/>
                    <a:pt x="2293" y="1141"/>
                  </a:cubicBezTo>
                  <a:cubicBezTo>
                    <a:pt x="2447" y="1016"/>
                    <a:pt x="2553" y="892"/>
                    <a:pt x="2611" y="765"/>
                  </a:cubicBezTo>
                  <a:cubicBezTo>
                    <a:pt x="2662" y="655"/>
                    <a:pt x="2687" y="515"/>
                    <a:pt x="2687" y="344"/>
                  </a:cubicBezTo>
                  <a:cubicBezTo>
                    <a:pt x="2621" y="329"/>
                    <a:pt x="2555" y="314"/>
                    <a:pt x="2490" y="299"/>
                  </a:cubicBezTo>
                  <a:cubicBezTo>
                    <a:pt x="2490" y="238"/>
                    <a:pt x="2504" y="183"/>
                    <a:pt x="2531" y="134"/>
                  </a:cubicBezTo>
                  <a:cubicBezTo>
                    <a:pt x="2555" y="85"/>
                    <a:pt x="2594" y="41"/>
                    <a:pt x="2642" y="0"/>
                  </a:cubicBezTo>
                  <a:cubicBezTo>
                    <a:pt x="2668" y="3"/>
                    <a:pt x="2695" y="6"/>
                    <a:pt x="2721" y="8"/>
                  </a:cubicBezTo>
                  <a:cubicBezTo>
                    <a:pt x="2731" y="48"/>
                    <a:pt x="2787" y="80"/>
                    <a:pt x="2887" y="103"/>
                  </a:cubicBezTo>
                  <a:cubicBezTo>
                    <a:pt x="2942" y="116"/>
                    <a:pt x="3015" y="130"/>
                    <a:pt x="3101" y="147"/>
                  </a:cubicBezTo>
                  <a:cubicBezTo>
                    <a:pt x="3187" y="164"/>
                    <a:pt x="3253" y="176"/>
                    <a:pt x="3298" y="183"/>
                  </a:cubicBezTo>
                  <a:close/>
                  <a:moveTo>
                    <a:pt x="2400" y="1522"/>
                  </a:moveTo>
                  <a:cubicBezTo>
                    <a:pt x="2400" y="1502"/>
                    <a:pt x="2389" y="1481"/>
                    <a:pt x="2372" y="1459"/>
                  </a:cubicBezTo>
                  <a:cubicBezTo>
                    <a:pt x="2352" y="1438"/>
                    <a:pt x="2306" y="1403"/>
                    <a:pt x="2241" y="1353"/>
                  </a:cubicBezTo>
                  <a:cubicBezTo>
                    <a:pt x="2172" y="1389"/>
                    <a:pt x="2068" y="1429"/>
                    <a:pt x="1934" y="1477"/>
                  </a:cubicBezTo>
                  <a:cubicBezTo>
                    <a:pt x="1796" y="1524"/>
                    <a:pt x="1661" y="1563"/>
                    <a:pt x="1526" y="1597"/>
                  </a:cubicBezTo>
                  <a:cubicBezTo>
                    <a:pt x="1799" y="1597"/>
                    <a:pt x="1993" y="1594"/>
                    <a:pt x="2106" y="1587"/>
                  </a:cubicBezTo>
                  <a:cubicBezTo>
                    <a:pt x="2303" y="1576"/>
                    <a:pt x="2400" y="1554"/>
                    <a:pt x="2400" y="1522"/>
                  </a:cubicBezTo>
                  <a:close/>
                  <a:moveTo>
                    <a:pt x="1865" y="2165"/>
                  </a:moveTo>
                  <a:cubicBezTo>
                    <a:pt x="1865" y="2188"/>
                    <a:pt x="1830" y="2209"/>
                    <a:pt x="1758" y="2227"/>
                  </a:cubicBezTo>
                  <a:cubicBezTo>
                    <a:pt x="1709" y="2239"/>
                    <a:pt x="1637" y="2251"/>
                    <a:pt x="1540" y="2265"/>
                  </a:cubicBezTo>
                  <a:cubicBezTo>
                    <a:pt x="1326" y="2295"/>
                    <a:pt x="1112" y="2323"/>
                    <a:pt x="898" y="2353"/>
                  </a:cubicBezTo>
                  <a:cubicBezTo>
                    <a:pt x="898" y="2311"/>
                    <a:pt x="1012" y="2274"/>
                    <a:pt x="1243" y="2242"/>
                  </a:cubicBezTo>
                  <a:cubicBezTo>
                    <a:pt x="1171" y="2226"/>
                    <a:pt x="1119" y="2213"/>
                    <a:pt x="1081" y="2199"/>
                  </a:cubicBezTo>
                  <a:cubicBezTo>
                    <a:pt x="1033" y="2181"/>
                    <a:pt x="1009" y="2163"/>
                    <a:pt x="1009" y="2144"/>
                  </a:cubicBezTo>
                  <a:cubicBezTo>
                    <a:pt x="1009" y="2115"/>
                    <a:pt x="1071" y="2076"/>
                    <a:pt x="1191" y="2024"/>
                  </a:cubicBezTo>
                  <a:cubicBezTo>
                    <a:pt x="1326" y="1967"/>
                    <a:pt x="1447" y="1939"/>
                    <a:pt x="1551" y="1939"/>
                  </a:cubicBezTo>
                  <a:cubicBezTo>
                    <a:pt x="1595" y="1939"/>
                    <a:pt x="1637" y="1944"/>
                    <a:pt x="1672" y="1957"/>
                  </a:cubicBezTo>
                  <a:cubicBezTo>
                    <a:pt x="1702" y="1970"/>
                    <a:pt x="1720" y="1986"/>
                    <a:pt x="1720" y="2007"/>
                  </a:cubicBezTo>
                  <a:cubicBezTo>
                    <a:pt x="1720" y="2019"/>
                    <a:pt x="1713" y="2033"/>
                    <a:pt x="1699" y="2047"/>
                  </a:cubicBezTo>
                  <a:cubicBezTo>
                    <a:pt x="1685" y="2059"/>
                    <a:pt x="1664" y="2074"/>
                    <a:pt x="1640" y="2091"/>
                  </a:cubicBezTo>
                  <a:cubicBezTo>
                    <a:pt x="1568" y="2064"/>
                    <a:pt x="1492" y="2052"/>
                    <a:pt x="1409" y="2052"/>
                  </a:cubicBezTo>
                  <a:cubicBezTo>
                    <a:pt x="1357" y="2052"/>
                    <a:pt x="1309" y="2056"/>
                    <a:pt x="1260" y="2064"/>
                  </a:cubicBezTo>
                  <a:cubicBezTo>
                    <a:pt x="1209" y="2073"/>
                    <a:pt x="1185" y="2082"/>
                    <a:pt x="1185" y="2093"/>
                  </a:cubicBezTo>
                  <a:cubicBezTo>
                    <a:pt x="1185" y="2107"/>
                    <a:pt x="1240" y="2126"/>
                    <a:pt x="1347" y="2150"/>
                  </a:cubicBezTo>
                  <a:cubicBezTo>
                    <a:pt x="1454" y="2174"/>
                    <a:pt x="1544" y="2186"/>
                    <a:pt x="1620" y="2186"/>
                  </a:cubicBezTo>
                  <a:cubicBezTo>
                    <a:pt x="1672" y="2186"/>
                    <a:pt x="1706" y="2186"/>
                    <a:pt x="1730" y="2184"/>
                  </a:cubicBezTo>
                  <a:cubicBezTo>
                    <a:pt x="1751" y="2183"/>
                    <a:pt x="1796" y="2176"/>
                    <a:pt x="1865" y="2165"/>
                  </a:cubicBezTo>
                  <a:close/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5396040" y="4286160"/>
              <a:ext cx="61560" cy="3042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95" h="247">
                  <a:moveTo>
                    <a:pt x="95" y="191"/>
                  </a:moveTo>
                  <a:cubicBezTo>
                    <a:pt x="95" y="201"/>
                    <a:pt x="90" y="212"/>
                    <a:pt x="81" y="221"/>
                  </a:cubicBezTo>
                  <a:cubicBezTo>
                    <a:pt x="76" y="227"/>
                    <a:pt x="65" y="235"/>
                    <a:pt x="48" y="247"/>
                  </a:cubicBezTo>
                  <a:cubicBezTo>
                    <a:pt x="45" y="246"/>
                    <a:pt x="42" y="245"/>
                    <a:pt x="39" y="245"/>
                  </a:cubicBezTo>
                  <a:cubicBezTo>
                    <a:pt x="40" y="241"/>
                    <a:pt x="41" y="236"/>
                    <a:pt x="42" y="231"/>
                  </a:cubicBezTo>
                  <a:cubicBezTo>
                    <a:pt x="43" y="226"/>
                    <a:pt x="43" y="223"/>
                    <a:pt x="43" y="221"/>
                  </a:cubicBezTo>
                  <a:cubicBezTo>
                    <a:pt x="43" y="208"/>
                    <a:pt x="41" y="189"/>
                    <a:pt x="36" y="164"/>
                  </a:cubicBezTo>
                  <a:cubicBezTo>
                    <a:pt x="30" y="139"/>
                    <a:pt x="23" y="114"/>
                    <a:pt x="16" y="87"/>
                  </a:cubicBezTo>
                  <a:cubicBezTo>
                    <a:pt x="11" y="71"/>
                    <a:pt x="6" y="55"/>
                    <a:pt x="0" y="38"/>
                  </a:cubicBezTo>
                  <a:cubicBezTo>
                    <a:pt x="7" y="32"/>
                    <a:pt x="15" y="26"/>
                    <a:pt x="23" y="19"/>
                  </a:cubicBezTo>
                  <a:cubicBezTo>
                    <a:pt x="32" y="12"/>
                    <a:pt x="40" y="6"/>
                    <a:pt x="47" y="0"/>
                  </a:cubicBezTo>
                  <a:cubicBezTo>
                    <a:pt x="52" y="15"/>
                    <a:pt x="59" y="36"/>
                    <a:pt x="67" y="62"/>
                  </a:cubicBezTo>
                  <a:cubicBezTo>
                    <a:pt x="75" y="88"/>
                    <a:pt x="82" y="111"/>
                    <a:pt x="86" y="132"/>
                  </a:cubicBezTo>
                  <a:cubicBezTo>
                    <a:pt x="92" y="158"/>
                    <a:pt x="95" y="178"/>
                    <a:pt x="95" y="191"/>
                  </a:cubicBezTo>
                </a:path>
              </a:pathLst>
            </a:cu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CEFB-27F5-4090-8171-A96C0770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6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مربع نص 9"/>
          <p:cNvSpPr/>
          <p:nvPr/>
        </p:nvSpPr>
        <p:spPr>
          <a:xfrm>
            <a:off x="1263240" y="169920"/>
            <a:ext cx="728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مفهوم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Diagram 9" descr=""/>
          <p:cNvPicPr/>
          <p:nvPr/>
        </p:nvPicPr>
        <p:blipFill>
          <a:blip r:embed="rId2"/>
          <a:stretch/>
        </p:blipFill>
        <p:spPr>
          <a:xfrm>
            <a:off x="2000160" y="1500120"/>
            <a:ext cx="5407200" cy="37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66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مربع نص 9"/>
          <p:cNvSpPr/>
          <p:nvPr/>
        </p:nvSpPr>
        <p:spPr>
          <a:xfrm>
            <a:off x="1077120" y="285840"/>
            <a:ext cx="71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تعريف تكنولوجيا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ربع نص 8"/>
          <p:cNvSpPr/>
          <p:nvPr/>
        </p:nvSpPr>
        <p:spPr>
          <a:xfrm>
            <a:off x="571680" y="1643040"/>
            <a:ext cx="85406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كنولوجيا التعليم هي</a:t>
            </a:r>
            <a:r>
              <a:rPr b="1" lang="ar-S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يبحث في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نظرية والتطبيق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خاصة 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تصميم </a:t>
            </a:r>
            <a:r>
              <a:rPr b="1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عمليات والمصادر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طوير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ستخدام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دارا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و</a:t>
            </a:r>
            <a:r>
              <a:rPr b="1" lang="ar-SA" sz="3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ويم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88631"/>
                </a:solidFill>
                <a:latin typeface="Times New Roman"/>
                <a:cs typeface="Times New Roman"/>
              </a:rPr>
              <a:t>من أجل ال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مجموعة 5"/>
          <p:cNvGrpSpPr/>
          <p:nvPr/>
        </p:nvGrpSpPr>
        <p:grpSpPr>
          <a:xfrm>
            <a:off x="0" y="0"/>
            <a:ext cx="9144000" cy="1214280"/>
            <a:chOff x="0" y="0"/>
            <a:chExt cx="9144000" cy="1214280"/>
          </a:xfrm>
        </p:grpSpPr>
        <p:pic>
          <p:nvPicPr>
            <p:cNvPr id="171" name="Picture 2" descr="Click to view next slide"/>
            <p:cNvPicPr/>
            <p:nvPr/>
          </p:nvPicPr>
          <p:blipFill>
            <a:blip r:embed="rId1"/>
            <a:srcRect l="0" t="0" r="0" b="82299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مستطيل مستدير الزوايا 7"/>
            <p:cNvSpPr/>
            <p:nvPr/>
          </p:nvSpPr>
          <p:spPr>
            <a:xfrm>
              <a:off x="2071440" y="214200"/>
              <a:ext cx="6786720" cy="785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مربع نص 9"/>
          <p:cNvSpPr/>
          <p:nvPr/>
        </p:nvSpPr>
        <p:spPr>
          <a:xfrm>
            <a:off x="-475560" y="285840"/>
            <a:ext cx="1143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2f2f2"/>
                </a:solidFill>
                <a:latin typeface="Times New Roman"/>
                <a:cs typeface="Times New Roman"/>
              </a:rPr>
              <a:t>علاقة تكنولوجيا التعليم ببعض المفاهيم ال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مستطيل مستدير الزوايا 11"/>
          <p:cNvGrpSpPr/>
          <p:nvPr/>
        </p:nvGrpSpPr>
        <p:grpSpPr>
          <a:xfrm>
            <a:off x="5694480" y="1474920"/>
            <a:ext cx="2973240" cy="1189080"/>
            <a:chOff x="5694480" y="1474920"/>
            <a:chExt cx="2973240" cy="1189080"/>
          </a:xfrm>
        </p:grpSpPr>
        <p:pic>
          <p:nvPicPr>
            <p:cNvPr id="175" name="مستطيل مستدير الزوايا 11" descr=""/>
            <p:cNvPicPr/>
            <p:nvPr/>
          </p:nvPicPr>
          <p:blipFill>
            <a:blip r:embed="rId2"/>
            <a:stretch/>
          </p:blipFill>
          <p:spPr>
            <a:xfrm>
              <a:off x="5694480" y="1474920"/>
              <a:ext cx="297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964120" y="1749600"/>
              <a:ext cx="2430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ترب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مستطيل مستدير الزوايا 12"/>
          <p:cNvGrpSpPr/>
          <p:nvPr/>
        </p:nvGrpSpPr>
        <p:grpSpPr>
          <a:xfrm>
            <a:off x="689040" y="2762280"/>
            <a:ext cx="3260520" cy="1260360"/>
            <a:chOff x="689040" y="2762280"/>
            <a:chExt cx="3260520" cy="1260360"/>
          </a:xfrm>
        </p:grpSpPr>
        <p:pic>
          <p:nvPicPr>
            <p:cNvPr id="178" name="مستطيل مستدير الزوايا 12" descr=""/>
            <p:cNvPicPr/>
            <p:nvPr/>
          </p:nvPicPr>
          <p:blipFill>
            <a:blip r:embed="rId3"/>
            <a:stretch/>
          </p:blipFill>
          <p:spPr>
            <a:xfrm>
              <a:off x="689040" y="2762280"/>
              <a:ext cx="326052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66960" y="3038400"/>
              <a:ext cx="27097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تكنولوجيا في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مستطيل مستدير الزوايا 13"/>
          <p:cNvGrpSpPr/>
          <p:nvPr/>
        </p:nvGrpSpPr>
        <p:grpSpPr>
          <a:xfrm>
            <a:off x="762120" y="4260960"/>
            <a:ext cx="2835000" cy="1189080"/>
            <a:chOff x="762120" y="4260960"/>
            <a:chExt cx="2835000" cy="1189080"/>
          </a:xfrm>
        </p:grpSpPr>
        <p:pic>
          <p:nvPicPr>
            <p:cNvPr id="181" name="مستطيل مستدير الزوايا 13" descr=""/>
            <p:cNvPicPr/>
            <p:nvPr/>
          </p:nvPicPr>
          <p:blipFill>
            <a:blip r:embed="rId4"/>
            <a:stretch/>
          </p:blipFill>
          <p:spPr>
            <a:xfrm>
              <a:off x="762120" y="4260960"/>
              <a:ext cx="28350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35000" y="4535640"/>
              <a:ext cx="22878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وسائل التعلي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مستطيل مستدير الزوايا 14"/>
          <p:cNvGrpSpPr/>
          <p:nvPr/>
        </p:nvGrpSpPr>
        <p:grpSpPr>
          <a:xfrm>
            <a:off x="622440" y="1474920"/>
            <a:ext cx="3114360" cy="1189080"/>
            <a:chOff x="622440" y="1474920"/>
            <a:chExt cx="3114360" cy="1189080"/>
          </a:xfrm>
        </p:grpSpPr>
        <p:pic>
          <p:nvPicPr>
            <p:cNvPr id="184" name="مستطيل مستدير الزوايا 14" descr=""/>
            <p:cNvPicPr/>
            <p:nvPr/>
          </p:nvPicPr>
          <p:blipFill>
            <a:blip r:embed="rId5"/>
            <a:stretch/>
          </p:blipFill>
          <p:spPr>
            <a:xfrm>
              <a:off x="622440" y="1474920"/>
              <a:ext cx="3114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92080" y="17496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معلو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مستطيل مستدير الزوايا 15"/>
          <p:cNvGrpSpPr/>
          <p:nvPr/>
        </p:nvGrpSpPr>
        <p:grpSpPr>
          <a:xfrm>
            <a:off x="5907240" y="4260960"/>
            <a:ext cx="2835000" cy="1189080"/>
            <a:chOff x="5907240" y="4260960"/>
            <a:chExt cx="2835000" cy="1189080"/>
          </a:xfrm>
        </p:grpSpPr>
        <p:pic>
          <p:nvPicPr>
            <p:cNvPr id="187" name="مستطيل مستدير الزوايا 15" descr=""/>
            <p:cNvPicPr/>
            <p:nvPr/>
          </p:nvPicPr>
          <p:blipFill>
            <a:blip r:embed="rId6"/>
            <a:stretch/>
          </p:blipFill>
          <p:spPr>
            <a:xfrm>
              <a:off x="5907240" y="4260960"/>
              <a:ext cx="28350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178680" y="4535640"/>
              <a:ext cx="22874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نيات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مربع نص 16"/>
          <p:cNvSpPr/>
          <p:nvPr/>
        </p:nvSpPr>
        <p:spPr>
          <a:xfrm>
            <a:off x="428760" y="589608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رجعي إلى الكتاب صفح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أشيري إلى المفاهيم المتراد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مستطيل مستدير الزوايا 16"/>
          <p:cNvGrpSpPr/>
          <p:nvPr/>
        </p:nvGrpSpPr>
        <p:grpSpPr>
          <a:xfrm>
            <a:off x="5546880" y="2687760"/>
            <a:ext cx="3262320" cy="1261800"/>
            <a:chOff x="5546880" y="2687760"/>
            <a:chExt cx="3262320" cy="1261800"/>
          </a:xfrm>
        </p:grpSpPr>
        <p:pic>
          <p:nvPicPr>
            <p:cNvPr id="191" name="مستطيل مستدير الزوايا 16" descr=""/>
            <p:cNvPicPr/>
            <p:nvPr/>
          </p:nvPicPr>
          <p:blipFill>
            <a:blip r:embed="rId7"/>
            <a:stretch/>
          </p:blipFill>
          <p:spPr>
            <a:xfrm>
              <a:off x="5546880" y="2687760"/>
              <a:ext cx="32623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824440" y="2967120"/>
              <a:ext cx="27100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كنولوجيا التعل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0:29:39Z</dcterms:created>
  <dc:creator>ss</dc:creator>
  <dc:description/>
  <dc:language>en-US</dc:language>
  <cp:lastModifiedBy>areej moh</cp:lastModifiedBy>
  <dcterms:modified xsi:type="dcterms:W3CDTF">2016-04-05T05:40:16Z</dcterms:modified>
  <cp:revision>14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