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577-6647-4939-99F0-4A569EBF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CBA-383B-4F13-84AB-D16E4F7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1F3-06D9-4481-9E52-FAE628F5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6C8-B036-47C3-B9F1-AB1E9FD5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1340-61C8-4910-98D2-9067CE44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4A61-6BA1-4C79-B3D8-AF23465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5CFA-B01B-4B2C-8A22-09EBD35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A2E0-4800-460A-99F8-716FC59D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0BA5-D61E-4201-9C79-EFCB1B3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8B56-F3BC-4769-A3BA-C2299BD2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C1F8-9D04-4616-9385-215EE82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09E-E9B5-4C08-AC28-DF09E68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A7B5-D44F-418B-BC32-014703A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5F7-0942-4BB1-9C4F-A1244585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EA0A-763E-4132-9F31-E35D41E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C489-F8F8-4DE2-AE79-008ED553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1219-7DDC-44CB-A4BA-E71C08D9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5EE-4348-4417-B956-9A12580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823-39EF-4874-8180-DB27A63F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ABD-423E-42A3-834D-3D81B080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A7C-3A3C-4D18-B9F2-80CB5A4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3C3-749A-4A40-9665-2EBC1FD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F03-F010-436B-ADE9-65949AB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A76-6E41-4437-B9B0-6254235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AFAB-BEFC-49CC-98A4-E822B5B4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A4E-6F04-4FD3-8A26-46F4EBD2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37260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eading from &amp; Writing to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219320" y="11430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size,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,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=size-1,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size,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[i] = i *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22220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8440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2220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067680" y="6343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22200" y="11430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o compute the sum and the sum of the squares of all data elements in an arra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cma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 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int x[5] = {1,2,3,4,5}, i, sum=0, sum_sqr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5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sum+=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um_sqr+=pow(x[i],2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sum of the array elements are“ &lt;&lt;sum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sum of their squares are “ &lt;&lt; sum_sqr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>
            <a:off x="1258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211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589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58920" y="1066680"/>
            <a:ext cx="876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hat reads 10 integers and prints them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verse orde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number [10]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=9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ber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9; i&gt;=0; i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 number[i]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1044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19320" y="1066680"/>
            <a:ext cx="8762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hat calculates the price of four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int i, qua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loat total=0, price[4]={5.77, 3.15, 2.50, 1.3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=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the quantity of item : “ &lt;&lt; i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quantity; /*read quantity of item 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otal+=quantity*price[i]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total cost is “&lt;&lt;total 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0648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219320" y="1066680"/>
            <a:ext cx="876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hat determines the maximum element in an arra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x [5] = {12, 5, 21, 6, 4},i,ma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x = x[0]; /* assume that max is the first elemen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1; i&lt;=4; i++) /* finding the maximum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f (x[i] &gt; 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x 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maximum is“ &lt;&lt; max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90648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12960" y="1905120"/>
            <a:ext cx="6859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Contiguous lo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86600" y="3657600"/>
          <a:ext cx="167652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85" name="Text Box 24"/>
          <p:cNvSpPr/>
          <p:nvPr/>
        </p:nvSpPr>
        <p:spPr>
          <a:xfrm>
            <a:off x="7026840" y="320040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2895480"/>
          <a:ext cx="4648320" cy="3613320"/>
        </p:xfrm>
        <a:graphic>
          <a:graphicData uri="http://schemas.openxmlformats.org/drawingml/2006/table">
            <a:tbl>
              <a:tblPr/>
              <a:tblGrid>
                <a:gridCol w="1668600"/>
                <a:gridCol w="1549440"/>
                <a:gridCol w="1430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81"/>
          <p:cNvSpPr/>
          <p:nvPr/>
        </p:nvSpPr>
        <p:spPr>
          <a:xfrm>
            <a:off x="1242720" y="259092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2"/>
          <p:cNvSpPr/>
          <p:nvPr/>
        </p:nvSpPr>
        <p:spPr>
          <a:xfrm>
            <a:off x="6553080" y="2133720"/>
            <a:ext cx="22654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Verdana"/>
              </a:rPr>
              <a:t>int score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83"/>
          <p:cNvSpPr/>
          <p:nvPr/>
        </p:nvSpPr>
        <p:spPr>
          <a:xfrm flipH="1">
            <a:off x="4800600" y="25909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4"/>
          <p:cNvSpPr/>
          <p:nvPr/>
        </p:nvSpPr>
        <p:spPr>
          <a:xfrm>
            <a:off x="4976640" y="24382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Verdan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we do with Arr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score_w[4] = {60, 60, 60, 60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   score_x[4] = {‘A’, ‘A’,’A’,’A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score_y[4] = {100, 100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score_z[] = {100, 100, 100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4495680"/>
          <a:ext cx="1676160" cy="206244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24"/>
          <p:cNvSpPr/>
          <p:nvPr/>
        </p:nvSpPr>
        <p:spPr>
          <a:xfrm>
            <a:off x="731160" y="40384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819520" y="4495680"/>
          <a:ext cx="1676160" cy="201636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Text Box 45"/>
          <p:cNvSpPr/>
          <p:nvPr/>
        </p:nvSpPr>
        <p:spPr>
          <a:xfrm>
            <a:off x="2792880" y="40384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76920" y="4495680"/>
          <a:ext cx="1676160" cy="201636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66"/>
          <p:cNvSpPr/>
          <p:nvPr/>
        </p:nvSpPr>
        <p:spPr>
          <a:xfrm>
            <a:off x="4852440" y="403848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934320" y="4495680"/>
          <a:ext cx="1676160" cy="162108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84"/>
          <p:cNvSpPr/>
          <p:nvPr/>
        </p:nvSpPr>
        <p:spPr>
          <a:xfrm>
            <a:off x="6906600" y="4038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tep through all indexed variables of an array, use a for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index = 0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&lt; Declared_size_of_Array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something to your_array[inde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26"/>
          <p:cNvSpPr/>
          <p:nvPr/>
        </p:nvSpPr>
        <p:spPr>
          <a:xfrm>
            <a:off x="1295280" y="1600200"/>
            <a:ext cx="84582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i, score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&lt;&lt; "Enter 4 scores: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(i=0; i&lt;4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n &gt;&gt; score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(score[i] &gt;= 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 &lt;&lt; "Student in position " &lt;&lt; i &lt;&lt;" passed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 &lt;&lt; "Student in position " &lt;&lt; i &lt;&lt;" failed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27"/>
          <p:cNvSpPr/>
          <p:nvPr/>
        </p:nvSpPr>
        <p:spPr>
          <a:xfrm>
            <a:off x="60948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28"/>
          <p:cNvSpPr/>
          <p:nvPr/>
        </p:nvSpPr>
        <p:spPr>
          <a:xfrm>
            <a:off x="762120" y="114300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1029"/>
          <p:cNvGraphicFramePr/>
          <p:nvPr/>
        </p:nvGraphicFramePr>
        <p:xfrm>
          <a:off x="5181480" y="1371600"/>
          <a:ext cx="393876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371600"/>
                    <a:ext cx="393876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Data all of which is of the sam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0" y="3733920"/>
          <a:ext cx="1676520" cy="290016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410080" y="3733920"/>
          <a:ext cx="1676520" cy="290016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44"/>
          <p:cNvSpPr/>
          <p:nvPr/>
        </p:nvSpPr>
        <p:spPr>
          <a:xfrm>
            <a:off x="1970280" y="32004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Array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5"/>
          <p:cNvSpPr/>
          <p:nvPr/>
        </p:nvSpPr>
        <p:spPr>
          <a:xfrm>
            <a:off x="5180400" y="320040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Array of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gram that reads 4 positive integers from the user, stores them into an array then finds the maximum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14600" y="4648320"/>
          <a:ext cx="4286160" cy="17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648320"/>
                    <a:ext cx="4286160" cy="17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6680" y="1905120"/>
            <a:ext cx="7772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i, my_list[4], </a:t>
            </a: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&lt;&lt; "Enter 4 numbers: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(i=0; i&lt;4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n &gt;&gt; my_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(my_list[i] &gt;= ma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y_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&lt;&lt; " The largest number entered is: " &lt;&lt;</a:t>
            </a: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066680" y="137160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4952880" y="1447920"/>
          <a:ext cx="3905280" cy="16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447920"/>
                    <a:ext cx="390528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143000" y="1790640"/>
            <a:ext cx="80010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indexed variables or entire arrays as arguments to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_function(array[3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_scores(score, number_of_scor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143000" y="15238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give_bo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 old_scor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score[4], numb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t &lt;&lt; "Enter 4 scores: \n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(number = 0; number &lt; 4; number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n&gt;&gt; score[number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(number = 0; number &lt; 4; number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[number] = </a:t>
            </a: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give_bo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score[number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t&lt;&lt; "New Scores: \n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(number = 0; number &lt; 4; number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t&lt;&lt; score[number]&lt;&lt; endl;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give_bo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 old_s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return (old_score+5)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486400" y="1523880"/>
          <a:ext cx="342900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3880"/>
                    <a:ext cx="342900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143000" y="1790640"/>
            <a:ext cx="77724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_returned  Function_name (.., BaseType Array_Name[], 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sum_array (double a[], int 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: sum_array (a,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sum_array (const double a[], int 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638680" y="3657600"/>
            <a:ext cx="114300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629400" y="4343400"/>
            <a:ext cx="2276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 the size because only the address of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lement is pa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61722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617220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Partially Fill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6668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int Declared_Size=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ll_array(int a[], int size, int&amp; number_us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arch(const int a[], int number_used, int targ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2438280" y="1981080"/>
          <a:ext cx="4762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4762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rr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143000" y="12952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rr[Declared_Size], list_size,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fill_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Declared_Size, li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 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Enter a number to search for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 = 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list_size, targ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result==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&lt;&lt; " is not on the li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 &lt;&lt; " is in position " &lt;&lt; result 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"Search again?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while((ans!='n')&amp;&amp;(ans!='N'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 &lt;&lt;"End of program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rr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143000" y="12952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rr[Declared_Size], list_size,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fill_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Declared_Size, li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 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Enter a number to search for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 = 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list_size, targ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result==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&lt;&lt; " is not on the li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 &lt;&lt; " is in position " &lt;&lt; result 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"Search again?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while((ans!='n')&amp;&amp;(ans!='N'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 &lt;&lt;"End of program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rr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14300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t int a[], int number_used, int tar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ndex 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foun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(!found)&amp;&amp; (index&lt;number_use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target==a[index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foun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inde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3880" y="2590920"/>
          <a:ext cx="4876920" cy="457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244" name="Group 18"/>
          <p:cNvGrpSpPr/>
          <p:nvPr/>
        </p:nvGrpSpPr>
        <p:grpSpPr>
          <a:xfrm>
            <a:off x="1523880" y="3200400"/>
            <a:ext cx="4876560" cy="838080"/>
            <a:chOff x="1523880" y="3200400"/>
            <a:chExt cx="4876560" cy="838080"/>
          </a:xfrm>
        </p:grpSpPr>
        <p:sp>
          <p:nvSpPr>
            <p:cNvPr id="245" name="Rectangle 19"/>
            <p:cNvSpPr/>
            <p:nvPr/>
          </p:nvSpPr>
          <p:spPr>
            <a:xfrm>
              <a:off x="5181480" y="3581280"/>
              <a:ext cx="121896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0"/>
            <p:cNvSpPr/>
            <p:nvPr/>
          </p:nvSpPr>
          <p:spPr>
            <a:xfrm>
              <a:off x="3962160" y="3581280"/>
              <a:ext cx="1219320" cy="45720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1"/>
            <p:cNvSpPr/>
            <p:nvPr/>
          </p:nvSpPr>
          <p:spPr>
            <a:xfrm>
              <a:off x="2742840" y="3581280"/>
              <a:ext cx="1219320" cy="45720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2"/>
            <p:cNvSpPr/>
            <p:nvPr/>
          </p:nvSpPr>
          <p:spPr>
            <a:xfrm>
              <a:off x="1523880" y="3581280"/>
              <a:ext cx="121896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3"/>
            <p:cNvSpPr/>
            <p:nvPr/>
          </p:nvSpPr>
          <p:spPr>
            <a:xfrm>
              <a:off x="1523880" y="358128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>
              <a:off x="1523880" y="403848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1523880" y="358128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274284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396216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>
              <a:off x="518148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>
              <a:off x="6400440" y="358128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>
              <a:off x="2209680" y="32004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31"/>
            <p:cNvSpPr/>
            <p:nvPr/>
          </p:nvSpPr>
          <p:spPr>
            <a:xfrm>
              <a:off x="563868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2"/>
            <p:cNvSpPr/>
            <p:nvPr/>
          </p:nvSpPr>
          <p:spPr>
            <a:xfrm>
              <a:off x="220968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1523880" y="4267080"/>
          <a:ext cx="4876920" cy="457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260" name="Group 45"/>
          <p:cNvGrpSpPr/>
          <p:nvPr/>
        </p:nvGrpSpPr>
        <p:grpSpPr>
          <a:xfrm>
            <a:off x="1523880" y="4876920"/>
            <a:ext cx="4876560" cy="838080"/>
            <a:chOff x="1523880" y="4876920"/>
            <a:chExt cx="4876560" cy="838080"/>
          </a:xfrm>
        </p:grpSpPr>
        <p:sp>
          <p:nvSpPr>
            <p:cNvPr id="261" name="Rectangle 46"/>
            <p:cNvSpPr/>
            <p:nvPr/>
          </p:nvSpPr>
          <p:spPr>
            <a:xfrm>
              <a:off x="5181480" y="5257800"/>
              <a:ext cx="1218960" cy="45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47"/>
            <p:cNvSpPr/>
            <p:nvPr/>
          </p:nvSpPr>
          <p:spPr>
            <a:xfrm>
              <a:off x="3962160" y="5257800"/>
              <a:ext cx="1219320" cy="45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48"/>
            <p:cNvSpPr/>
            <p:nvPr/>
          </p:nvSpPr>
          <p:spPr>
            <a:xfrm>
              <a:off x="2742840" y="5257800"/>
              <a:ext cx="1219320" cy="4568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49"/>
            <p:cNvSpPr/>
            <p:nvPr/>
          </p:nvSpPr>
          <p:spPr>
            <a:xfrm>
              <a:off x="1523880" y="5257800"/>
              <a:ext cx="1218960" cy="4568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0"/>
            <p:cNvSpPr/>
            <p:nvPr/>
          </p:nvSpPr>
          <p:spPr>
            <a:xfrm>
              <a:off x="1523880" y="525780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1"/>
            <p:cNvSpPr/>
            <p:nvPr/>
          </p:nvSpPr>
          <p:spPr>
            <a:xfrm>
              <a:off x="1523880" y="571500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2"/>
            <p:cNvSpPr/>
            <p:nvPr/>
          </p:nvSpPr>
          <p:spPr>
            <a:xfrm>
              <a:off x="1523880" y="5257800"/>
              <a:ext cx="0" cy="456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3"/>
            <p:cNvSpPr/>
            <p:nvPr/>
          </p:nvSpPr>
          <p:spPr>
            <a:xfrm>
              <a:off x="2742840" y="52578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4"/>
            <p:cNvSpPr/>
            <p:nvPr/>
          </p:nvSpPr>
          <p:spPr>
            <a:xfrm>
              <a:off x="3962160" y="52578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55"/>
            <p:cNvSpPr/>
            <p:nvPr/>
          </p:nvSpPr>
          <p:spPr>
            <a:xfrm>
              <a:off x="5181480" y="52578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56"/>
            <p:cNvSpPr/>
            <p:nvPr/>
          </p:nvSpPr>
          <p:spPr>
            <a:xfrm>
              <a:off x="6400440" y="5257800"/>
              <a:ext cx="0" cy="456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57"/>
            <p:cNvSpPr/>
            <p:nvPr/>
          </p:nvSpPr>
          <p:spPr>
            <a:xfrm>
              <a:off x="571464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58"/>
            <p:cNvSpPr/>
            <p:nvPr/>
          </p:nvSpPr>
          <p:spPr>
            <a:xfrm>
              <a:off x="457164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59"/>
            <p:cNvSpPr/>
            <p:nvPr/>
          </p:nvSpPr>
          <p:spPr>
            <a:xfrm>
              <a:off x="457164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1523880" y="6019920"/>
          <a:ext cx="4876920" cy="457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nd 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Type_name  Array_Name[Declared_siz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int score[4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24280" y="4495680"/>
          <a:ext cx="1676520" cy="201636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4"/>
          <p:cNvSpPr/>
          <p:nvPr/>
        </p:nvSpPr>
        <p:spPr>
          <a:xfrm>
            <a:off x="4499280" y="41148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Array of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7395480" y="4800600"/>
            <a:ext cx="13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</a:t>
            </a:r>
            <a:r>
              <a:rPr b="1" lang="en-US" sz="2400" spc="-1" strike="noStrike">
                <a:solidFill>
                  <a:srgbClr val="5f5f5f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64771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64771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6477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9"/>
          <p:cNvSpPr/>
          <p:nvPr/>
        </p:nvSpPr>
        <p:spPr>
          <a:xfrm>
            <a:off x="64771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 program that sorts an array of up to 10 positiv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1371600" y="3200400"/>
          <a:ext cx="693432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200400"/>
                    <a:ext cx="693432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Line 5"/>
          <p:cNvSpPr/>
          <p:nvPr/>
        </p:nvSpPr>
        <p:spPr>
          <a:xfrm>
            <a:off x="457200" y="4191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57200" y="47242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143000" y="12952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fill_array(int a[], int size, int&amp;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sort(int a[], int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swap_values (int&amp; v1, int&amp; v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index_of_smallest(const int a[], int start_index, int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This program sorts numbers from lowest to highest.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sample_array[10], number_us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l_array(sample_array, 10,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rt (sample_array,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In sorted order the numbers are: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ndex=0; index&lt;number_used; index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sample_array[index] &lt;&lt; " "; cout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43000" y="15238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ort(int a[], int number_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ndex_of_next_small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ndex = 0; index&lt;number_used-1; index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_of_next_smallest= index_of_smallest(a, index, number_us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_values(a[index], a[index_of_next_smallest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1143000" y="137160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swap_values (int&amp; v1, int&amp; v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1=v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=temp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ndex_of_smallest (const int a[], int start_index, int number_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min= a[start_index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_of_min = start_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(int index=start_index+1; index&lt;number_used; inde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a[index]&lt;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 = a[inde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_of_min = 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index_of_mi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Structs o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Name[1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Major[2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School[50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248520" y="4724280"/>
            <a:ext cx="2209680" cy="1600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334120" y="2819520"/>
          <a:ext cx="3581280" cy="1603080"/>
        </p:xfrm>
        <a:graphic>
          <a:graphicData uri="http://schemas.openxmlformats.org/drawingml/2006/table">
            <a:tbl>
              <a:tblPr/>
              <a:tblGrid>
                <a:gridCol w="914400"/>
                <a:gridCol w="761760"/>
                <a:gridCol w="99072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92" name="Text Box 32"/>
          <p:cNvSpPr/>
          <p:nvPr/>
        </p:nvSpPr>
        <p:spPr>
          <a:xfrm>
            <a:off x="1219320" y="2362320"/>
            <a:ext cx="3809880" cy="30384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 Name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 Major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School[50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&lt;50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cout&lt;&lt;“Enter id: “;cin&gt;&gt;School[i].i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t&lt;&lt;“Name: “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in&gt;&gt;School[i].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t&lt;&lt;“Major: “;  cin&gt;&gt;School[i].Maj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array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Grades[1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ads data into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5 items where each item is a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mber functions to read/write data as well as constructors in your class defini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&amp;Price should be privat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343400" y="350532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400800" y="3352680"/>
          <a:ext cx="2514600" cy="1360440"/>
        </p:xfrm>
        <a:graphic>
          <a:graphicData uri="http://schemas.openxmlformats.org/drawingml/2006/table">
            <a:tbl>
              <a:tblPr/>
              <a:tblGrid>
                <a:gridCol w="838080"/>
                <a:gridCol w="768600"/>
                <a:gridCol w="90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01" name="Text Box 27"/>
          <p:cNvSpPr/>
          <p:nvPr/>
        </p:nvSpPr>
        <p:spPr>
          <a:xfrm>
            <a:off x="1297440" y="4419720"/>
            <a:ext cx="28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Verdana"/>
              </a:rPr>
              <a:t>Make </a:t>
            </a:r>
            <a:r>
              <a:rPr b="0" i="1" lang="en-US" sz="2400" spc="-1" strike="noStrike" u="sng">
                <a:solidFill>
                  <a:srgbClr val="990000"/>
                </a:solidFill>
                <a:uFillTx/>
                <a:latin typeface="Verdana"/>
              </a:rPr>
              <a:t>item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Verdana"/>
              </a:rPr>
              <a:t> an AD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12985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607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1440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985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Declaring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298520" y="1143000"/>
            <a:ext cx="8305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atatype name [size]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                     /* not initialize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atatype name [size] = {initialization list} /* initialize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 [5] = {2,4,6,8,10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5], num=0, x[10]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ouble j[] = {1.0,4.2,6.5,8.1,10.4}, d, k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 flipV="1">
            <a:off x="3508200" y="274284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279600" y="2666880"/>
            <a:ext cx="5335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12760" y="27050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3508200" y="2971800"/>
            <a:ext cx="2286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122220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8440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67680" y="6343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22220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eferencing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22200" y="3886200"/>
            <a:ext cx="830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ad as: even sub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ad as: x sub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347360" y="1828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 rot="5354400">
            <a:off x="4879440" y="11430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658320" y="10666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ubscript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 flipH="1">
            <a:off x="4041720" y="2362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5261040" y="2362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2920" y="2971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56360" y="29718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integer enclosed in brack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36520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236520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1182600" y="63198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144800" y="6415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336240" y="6415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182600" y="4525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Declaring and Referencing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2600" y="1214280"/>
            <a:ext cx="8305920" cy="54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5]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l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tarts from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ntil siz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] = {2,4,6,8,10}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0]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1]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2]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4]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011400" y="1366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611600" y="4110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37260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erci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19320" y="11430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har grades 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How many memory cells are reserved in mem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What type of data will be stored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How do we refer to the first array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How fo we refer to the last array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430280" y="24033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 memory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446840" y="3505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447920" y="4648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grades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447920" y="5715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grades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10666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2888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22032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666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6680" y="1143000"/>
            <a:ext cx="9144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clare one array for storing the square roots of the inte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rom 0  through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clare one array for storing the cubes of the same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ouble sr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3276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cb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26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nd 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27"/>
          <p:cNvSpPr/>
          <p:nvPr/>
        </p:nvSpPr>
        <p:spPr>
          <a:xfrm>
            <a:off x="1143000" y="1523880"/>
            <a:ext cx="6859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&amp; Referenc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of the array are called index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anyplace that an ordinary variable of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 &gt;&gt; score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score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g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[3]= score[1] + score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[student_id] = score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086600" y="2971800"/>
          <a:ext cx="167652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1048"/>
          <p:cNvSpPr/>
          <p:nvPr/>
        </p:nvSpPr>
        <p:spPr>
          <a:xfrm>
            <a:off x="7026840" y="251460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1:40Z</dcterms:created>
  <dc:creator>mwakil</dc:creator>
  <dc:description/>
  <dc:language>en-US</dc:language>
  <cp:lastModifiedBy>Auditorium27</cp:lastModifiedBy>
  <dcterms:modified xsi:type="dcterms:W3CDTF">2011-02-26T01:34:09Z</dcterms:modified>
  <cp:revision>6</cp:revision>
  <dc:subject/>
  <dc:title>PowerPoint Presentation</dc:title>
</cp:coreProperties>
</file>