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F3AA-8093-4905-8C55-220125FB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4E6-7BA9-42CE-9F2A-FB2B7794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6657-EDB4-450B-BF0D-408211B6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028-9068-42F6-BE53-FF1746C6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B739-5379-4C59-83AC-A72921F2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DE00-D38D-4243-B2B1-DC9FF9BB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1215-75FC-458E-9B5B-8E3576A8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4C16-93DB-468C-A45C-7F75F3F5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4EBC-39DB-4843-AED0-DABEFE36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A81F-C55D-4FCA-B2DD-A6336E1A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AC49-6980-4A92-9A6C-A9B12EE6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732E-733F-4ADB-8410-6CB86F9D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4084-3058-4E18-AEE4-E0E931D2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22BE-D53C-4DB4-81F6-C3675FD4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C772-5A28-4424-BC85-47A9E44F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9C77-62A2-440F-8C69-E5F21044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A638-1635-4CE3-BC28-31E9C2E0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7608-01D7-42B5-8AE0-D0F21840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931A-7C56-49D8-8576-55AC38E8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080D-E2E1-47EA-A2EC-F5C8D9F8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6398-0F78-4516-9591-E1905F91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66B-33B2-4E61-BA8D-47C33478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34F-DE0C-43BD-BD97-525DAB76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40D5-92E0-49CF-B62B-96A06EA0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71D0-DA86-4F2D-84D9-4C816997E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1C9E-8B2E-4953-9398-2DDA56072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85800" y="21337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181520" y="63435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9372600" y="634356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21932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Reading from &amp; Writing to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219320" y="11430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or (i=0; i&lt;size,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, x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or (i=0; i&lt;=size-1,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in &gt;&gt; x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or (i=0; i&lt;size,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x[i] = i *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122220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184400" y="63435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22220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9067680" y="63435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1222200" y="114300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/* program to compute the sum and the sum of the squares of all data elements in an array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 &lt;iostre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 &lt;cmat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 (vo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int x[5] = {1,2,3,4,5}, i, sum=0, sum_sqr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or (i=0; i&lt;5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sum+=x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sum_sqr+=pow(x[i],2)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The sum of the array elements are“ &lt;&lt;sum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The sum of their squares are “ &lt;&lt; sum_sqr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Line 2"/>
          <p:cNvSpPr/>
          <p:nvPr/>
        </p:nvSpPr>
        <p:spPr>
          <a:xfrm>
            <a:off x="12589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221120" y="63435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25892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258920" y="1066680"/>
            <a:ext cx="8763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/* program that reads 10 integers and prints them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verse orde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iostre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number [10]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or (i=0; i&lt;=9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in &gt;&gt; number[i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or (i=9; i&gt;=0; i-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 number[i]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(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9104400" y="6343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181520" y="63435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21932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219320" y="1066680"/>
            <a:ext cx="8762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/* Program that calculates the price of four item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iostre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int i, quantit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loat total=0, price[4]={5.77, 3.15, 2.50, 1.35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or (i=0; i&lt;=3; i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Enter the quantity of item : “ &lt;&lt; i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in &gt;&gt; quantity; /*read quantity of item i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total+=quantity*price[i]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The total cost is “&lt;&lt;total 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064800" y="6343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181520" y="63435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21932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219320" y="1066680"/>
            <a:ext cx="876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/* Program that determines the maximum element in an array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 &lt;iostre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x [5] = {12, 5, 21, 6, 4},i,ma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max = x[0]; /* assume that max is the first element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or (i=1; i&lt;=4; i++) /* finding the maximum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f (x[i] &gt; m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max = x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The maximum is“ &lt;&lt; max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9064800" y="6343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990720" y="669960"/>
            <a:ext cx="8001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 in Mem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912960" y="1905120"/>
            <a:ext cx="68594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Contiguous lo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086600" y="3657600"/>
          <a:ext cx="1676520" cy="2016000"/>
        </p:xfrm>
        <a:graphic>
          <a:graphicData uri="http://schemas.openxmlformats.org/drawingml/2006/table">
            <a:tbl>
              <a:tblPr/>
              <a:tblGrid>
                <a:gridCol w="649440"/>
                <a:gridCol w="1027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</a:tbl>
          </a:graphicData>
        </a:graphic>
      </p:graphicFrame>
      <p:sp>
        <p:nvSpPr>
          <p:cNvPr id="185" name="Text Box 24"/>
          <p:cNvSpPr/>
          <p:nvPr/>
        </p:nvSpPr>
        <p:spPr>
          <a:xfrm>
            <a:off x="7026840" y="3200400"/>
            <a:ext cx="8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71600" y="2895480"/>
          <a:ext cx="4648320" cy="3613320"/>
        </p:xfrm>
        <a:graphic>
          <a:graphicData uri="http://schemas.openxmlformats.org/drawingml/2006/table">
            <a:tbl>
              <a:tblPr/>
              <a:tblGrid>
                <a:gridCol w="1668600"/>
                <a:gridCol w="1549440"/>
                <a:gridCol w="14302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ore[0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ore[1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ore[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ore[3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Text Box 81"/>
          <p:cNvSpPr/>
          <p:nvPr/>
        </p:nvSpPr>
        <p:spPr>
          <a:xfrm>
            <a:off x="1242720" y="259092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82"/>
          <p:cNvSpPr/>
          <p:nvPr/>
        </p:nvSpPr>
        <p:spPr>
          <a:xfrm>
            <a:off x="6553080" y="2133720"/>
            <a:ext cx="22654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Verdana"/>
              </a:rPr>
              <a:t>int score[4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83"/>
          <p:cNvSpPr/>
          <p:nvPr/>
        </p:nvSpPr>
        <p:spPr>
          <a:xfrm flipH="1">
            <a:off x="4800600" y="25909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84"/>
          <p:cNvSpPr/>
          <p:nvPr/>
        </p:nvSpPr>
        <p:spPr>
          <a:xfrm>
            <a:off x="4976640" y="243828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Verdana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we do with Array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/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ipulate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iz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score_w[4] = {60, 60, 60, 60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   score_x[4] = {‘A’, ‘A’,’A’,’A’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score_y[4] = {100, 100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score_z[] = {100, 100, 100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62120" y="4495680"/>
          <a:ext cx="1676160" cy="2062440"/>
        </p:xfrm>
        <a:graphic>
          <a:graphicData uri="http://schemas.openxmlformats.org/drawingml/2006/table">
            <a:tbl>
              <a:tblPr/>
              <a:tblGrid>
                <a:gridCol w="649080"/>
                <a:gridCol w="1027080"/>
              </a:tblGrid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Text Box 24"/>
          <p:cNvSpPr/>
          <p:nvPr/>
        </p:nvSpPr>
        <p:spPr>
          <a:xfrm>
            <a:off x="731160" y="403848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score_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819520" y="4495680"/>
          <a:ext cx="1676160" cy="2016360"/>
        </p:xfrm>
        <a:graphic>
          <a:graphicData uri="http://schemas.openxmlformats.org/drawingml/2006/table">
            <a:tbl>
              <a:tblPr/>
              <a:tblGrid>
                <a:gridCol w="649080"/>
                <a:gridCol w="1027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8" name="Text Box 45"/>
          <p:cNvSpPr/>
          <p:nvPr/>
        </p:nvSpPr>
        <p:spPr>
          <a:xfrm>
            <a:off x="2792880" y="40384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score_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876920" y="4495680"/>
          <a:ext cx="1676160" cy="2016360"/>
        </p:xfrm>
        <a:graphic>
          <a:graphicData uri="http://schemas.openxmlformats.org/drawingml/2006/table">
            <a:tbl>
              <a:tblPr/>
              <a:tblGrid>
                <a:gridCol w="649080"/>
                <a:gridCol w="1027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0" name="Text Box 66"/>
          <p:cNvSpPr/>
          <p:nvPr/>
        </p:nvSpPr>
        <p:spPr>
          <a:xfrm>
            <a:off x="4852440" y="4038480"/>
            <a:ext cx="10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score_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934320" y="4495680"/>
          <a:ext cx="1676160" cy="1621080"/>
        </p:xfrm>
        <a:graphic>
          <a:graphicData uri="http://schemas.openxmlformats.org/drawingml/2006/table">
            <a:tbl>
              <a:tblPr/>
              <a:tblGrid>
                <a:gridCol w="649080"/>
                <a:gridCol w="1027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2" name="Text Box 84"/>
          <p:cNvSpPr/>
          <p:nvPr/>
        </p:nvSpPr>
        <p:spPr>
          <a:xfrm>
            <a:off x="6906600" y="403848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score_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tep through all indexed variables of an array, use a for stat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(int index = 0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&lt; Declared_size_of_Array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something to your_array[index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26"/>
          <p:cNvSpPr/>
          <p:nvPr/>
        </p:nvSpPr>
        <p:spPr>
          <a:xfrm>
            <a:off x="1295280" y="1600200"/>
            <a:ext cx="84582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 i, score[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ut&lt;&lt; "Enter 4 scores: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(i=0; i&lt;4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n &gt;&gt; score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(score[i] &gt;= 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ut &lt;&lt; "Student in position " &lt;&lt; i &lt;&lt;" passed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ut &lt;&lt; "Student in position " &lt;&lt; i &lt;&lt;" failed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027"/>
          <p:cNvSpPr/>
          <p:nvPr/>
        </p:nvSpPr>
        <p:spPr>
          <a:xfrm>
            <a:off x="60948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028"/>
          <p:cNvSpPr/>
          <p:nvPr/>
        </p:nvSpPr>
        <p:spPr>
          <a:xfrm>
            <a:off x="762120" y="114300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Object 1029"/>
          <p:cNvGraphicFramePr/>
          <p:nvPr/>
        </p:nvGraphicFramePr>
        <p:xfrm>
          <a:off x="5181480" y="1371600"/>
          <a:ext cx="3938760" cy="19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371600"/>
                    <a:ext cx="393876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Arr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Data all of which is of the same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286000" y="3733920"/>
          <a:ext cx="1676520" cy="2900160"/>
        </p:xfrm>
        <a:graphic>
          <a:graphicData uri="http://schemas.openxmlformats.org/drawingml/2006/table">
            <a:tbl>
              <a:tblPr/>
              <a:tblGrid>
                <a:gridCol w="649440"/>
                <a:gridCol w="1027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410080" y="3733920"/>
          <a:ext cx="1676520" cy="2900160"/>
        </p:xfrm>
        <a:graphic>
          <a:graphicData uri="http://schemas.openxmlformats.org/drawingml/2006/table">
            <a:tbl>
              <a:tblPr/>
              <a:tblGrid>
                <a:gridCol w="649440"/>
                <a:gridCol w="1027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44"/>
          <p:cNvSpPr/>
          <p:nvPr/>
        </p:nvSpPr>
        <p:spPr>
          <a:xfrm>
            <a:off x="1970280" y="32004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Array of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5"/>
          <p:cNvSpPr/>
          <p:nvPr/>
        </p:nvSpPr>
        <p:spPr>
          <a:xfrm>
            <a:off x="5180400" y="320040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Array of Le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h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program that reads 4 positive integers from the user, stores them into an array then finds the maximum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2514600" y="4648320"/>
          <a:ext cx="4286160" cy="179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4648320"/>
                    <a:ext cx="4286160" cy="17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066680" y="1905120"/>
            <a:ext cx="77724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 i, my_list[4], </a:t>
            </a: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=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ut&lt;&lt; "Enter 4 numbers: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(i=0; i&lt;4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n &gt;&gt; my_list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(my_list[i] &gt;= ma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= my_list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ut&lt;&lt; " The largest number entered is: " &lt;&lt;</a:t>
            </a:r>
            <a:r>
              <a:rPr b="0" lang="en-US" sz="1600" spc="-1" strike="noStrike">
                <a:solidFill>
                  <a:srgbClr val="990000"/>
                </a:solidFill>
                <a:latin typeface="Verdana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&lt;&lt;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1066680" y="137160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Solu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Object 5"/>
          <p:cNvGraphicFramePr/>
          <p:nvPr/>
        </p:nvGraphicFramePr>
        <p:xfrm>
          <a:off x="4952880" y="1447920"/>
          <a:ext cx="3905280" cy="16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447920"/>
                    <a:ext cx="3905280" cy="16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 in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143000" y="1790640"/>
            <a:ext cx="80010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use indexed variables or entire arrays as arguments to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ed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_function(array[3]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r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_scores(score, number_of_score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 in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143000" y="152388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ed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give_bon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 old_scor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namespace st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 score[4], numb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t &lt;&lt; "Enter 4 scores: \n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(number = 0; number &lt; 4; number+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n&gt;&gt; score[number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(number = 0; number &lt; 4; number+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[number] = </a:t>
            </a: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give_bon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33cc"/>
                </a:solidFill>
                <a:latin typeface="Times New Roman"/>
              </a:rPr>
              <a:t>score[number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t&lt;&lt; "New Scores: \n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(number = 0; number &lt; 4; number+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t&lt;&lt; score[number]&lt;&lt; endl;;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give_bon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 old_s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{return (old_score+5);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5486400" y="1523880"/>
          <a:ext cx="3429000" cy="22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523880"/>
                    <a:ext cx="3429000" cy="22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 in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143000" y="1790640"/>
            <a:ext cx="777240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re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_returned  Function_name (.., BaseType Array_Name[], 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d sum_array (double a[], int siz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: sum_array (a,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d sum_array (const double a[], int siz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638680" y="3657600"/>
            <a:ext cx="1143000" cy="609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6629400" y="4343400"/>
            <a:ext cx="227664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e the size because only the address of the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lement is pa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617220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6172200" y="4267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Partially Filled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1066680" y="144792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include&lt;iostre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 int Declared_Size=2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fill_array(int a[], int size, int&amp; number_us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search(const int a[], int number_used, int targe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Object 4"/>
          <p:cNvGraphicFramePr/>
          <p:nvPr/>
        </p:nvGraphicFramePr>
        <p:xfrm>
          <a:off x="2438280" y="1981080"/>
          <a:ext cx="476280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476280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Array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…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1143000" y="129528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rr[Declared_Size], list_size, targ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fill_arr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rr, Declared_Size, list_siz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r an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resu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&lt;&lt;"Enter a number to search for: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n&gt;&gt; targ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ult = </a:t>
            </a:r>
            <a:r>
              <a:rPr b="1" lang="en-US" sz="1600" spc="-1" strike="noStrike">
                <a:solidFill>
                  <a:srgbClr val="0033cc"/>
                </a:solidFill>
                <a:latin typeface="Times New Roman"/>
              </a:rPr>
              <a:t>sear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rr, list_size, targ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result==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&lt;&lt; target&lt;&lt; " is not on the list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&lt;&lt; target &lt;&lt; " is in position " &lt;&lt; result &lt;&lt;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&lt;&lt; "Search again?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n&gt;&gt;an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while((ans!='n')&amp;&amp;(ans!='N'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 &lt;&lt;"End of program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Array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…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143000" y="129528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rr[Declared_Size], list_size, targ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fill_arr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rr, Declared_Size, list_siz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r an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resu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&lt;&lt;"Enter a number to search for: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n&gt;&gt; targ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ult = </a:t>
            </a:r>
            <a:r>
              <a:rPr b="1" lang="en-US" sz="1600" spc="-1" strike="noStrike">
                <a:solidFill>
                  <a:srgbClr val="0033cc"/>
                </a:solidFill>
                <a:latin typeface="Times New Roman"/>
              </a:rPr>
              <a:t>sear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rr, list_size, targ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result==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&lt;&lt; target&lt;&lt; " is not on the list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&lt;&lt; target &lt;&lt; " is in position " &lt;&lt; result &lt;&lt;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&lt;&lt; "Search again?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n&gt;&gt;an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while((ans!='n')&amp;&amp;(ans!='N'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 &lt;&lt;"End of program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ing Array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…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143000" y="160020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ar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st int a[], int number_used, int targ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index 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l found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(!found)&amp;&amp; (index&lt;number_used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target==a[index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foun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inde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S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523880" y="2590920"/>
          <a:ext cx="4876920" cy="4572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pSp>
        <p:nvGrpSpPr>
          <p:cNvPr id="244" name="Group 18"/>
          <p:cNvGrpSpPr/>
          <p:nvPr/>
        </p:nvGrpSpPr>
        <p:grpSpPr>
          <a:xfrm>
            <a:off x="1523880" y="3200400"/>
            <a:ext cx="4876560" cy="838080"/>
            <a:chOff x="1523880" y="3200400"/>
            <a:chExt cx="4876560" cy="838080"/>
          </a:xfrm>
        </p:grpSpPr>
        <p:sp>
          <p:nvSpPr>
            <p:cNvPr id="245" name="Rectangle 19"/>
            <p:cNvSpPr/>
            <p:nvPr/>
          </p:nvSpPr>
          <p:spPr>
            <a:xfrm>
              <a:off x="5181480" y="3581280"/>
              <a:ext cx="1218960" cy="457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20"/>
            <p:cNvSpPr/>
            <p:nvPr/>
          </p:nvSpPr>
          <p:spPr>
            <a:xfrm>
              <a:off x="3962160" y="3581280"/>
              <a:ext cx="1219320" cy="45720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21"/>
            <p:cNvSpPr/>
            <p:nvPr/>
          </p:nvSpPr>
          <p:spPr>
            <a:xfrm>
              <a:off x="2742840" y="3581280"/>
              <a:ext cx="1219320" cy="45720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22"/>
            <p:cNvSpPr/>
            <p:nvPr/>
          </p:nvSpPr>
          <p:spPr>
            <a:xfrm>
              <a:off x="1523880" y="3581280"/>
              <a:ext cx="1218960" cy="457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23"/>
            <p:cNvSpPr/>
            <p:nvPr/>
          </p:nvSpPr>
          <p:spPr>
            <a:xfrm>
              <a:off x="1523880" y="3581280"/>
              <a:ext cx="4876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24"/>
            <p:cNvSpPr/>
            <p:nvPr/>
          </p:nvSpPr>
          <p:spPr>
            <a:xfrm>
              <a:off x="1523880" y="4038480"/>
              <a:ext cx="4876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25"/>
            <p:cNvSpPr/>
            <p:nvPr/>
          </p:nvSpPr>
          <p:spPr>
            <a:xfrm>
              <a:off x="1523880" y="3581280"/>
              <a:ext cx="0" cy="457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26"/>
            <p:cNvSpPr/>
            <p:nvPr/>
          </p:nvSpPr>
          <p:spPr>
            <a:xfrm>
              <a:off x="2742840" y="3581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27"/>
            <p:cNvSpPr/>
            <p:nvPr/>
          </p:nvSpPr>
          <p:spPr>
            <a:xfrm>
              <a:off x="3962160" y="3581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28"/>
            <p:cNvSpPr/>
            <p:nvPr/>
          </p:nvSpPr>
          <p:spPr>
            <a:xfrm>
              <a:off x="5181480" y="3581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29"/>
            <p:cNvSpPr/>
            <p:nvPr/>
          </p:nvSpPr>
          <p:spPr>
            <a:xfrm>
              <a:off x="6400440" y="3581280"/>
              <a:ext cx="0" cy="457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30"/>
            <p:cNvSpPr/>
            <p:nvPr/>
          </p:nvSpPr>
          <p:spPr>
            <a:xfrm>
              <a:off x="2209680" y="32004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31"/>
            <p:cNvSpPr/>
            <p:nvPr/>
          </p:nvSpPr>
          <p:spPr>
            <a:xfrm>
              <a:off x="5638680" y="3200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32"/>
            <p:cNvSpPr/>
            <p:nvPr/>
          </p:nvSpPr>
          <p:spPr>
            <a:xfrm>
              <a:off x="2209680" y="3200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9" name=""/>
          <p:cNvGraphicFramePr/>
          <p:nvPr/>
        </p:nvGraphicFramePr>
        <p:xfrm>
          <a:off x="1523880" y="4267080"/>
          <a:ext cx="4876920" cy="4572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pSp>
        <p:nvGrpSpPr>
          <p:cNvPr id="260" name="Group 45"/>
          <p:cNvGrpSpPr/>
          <p:nvPr/>
        </p:nvGrpSpPr>
        <p:grpSpPr>
          <a:xfrm>
            <a:off x="1523880" y="4876920"/>
            <a:ext cx="4876560" cy="838080"/>
            <a:chOff x="1523880" y="4876920"/>
            <a:chExt cx="4876560" cy="838080"/>
          </a:xfrm>
        </p:grpSpPr>
        <p:sp>
          <p:nvSpPr>
            <p:cNvPr id="261" name="Rectangle 46"/>
            <p:cNvSpPr/>
            <p:nvPr/>
          </p:nvSpPr>
          <p:spPr>
            <a:xfrm>
              <a:off x="5181480" y="5257800"/>
              <a:ext cx="1218960" cy="456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47"/>
            <p:cNvSpPr/>
            <p:nvPr/>
          </p:nvSpPr>
          <p:spPr>
            <a:xfrm>
              <a:off x="3962160" y="5257800"/>
              <a:ext cx="1219320" cy="456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48"/>
            <p:cNvSpPr/>
            <p:nvPr/>
          </p:nvSpPr>
          <p:spPr>
            <a:xfrm>
              <a:off x="2742840" y="5257800"/>
              <a:ext cx="1219320" cy="45684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49"/>
            <p:cNvSpPr/>
            <p:nvPr/>
          </p:nvSpPr>
          <p:spPr>
            <a:xfrm>
              <a:off x="1523880" y="5257800"/>
              <a:ext cx="1218960" cy="45684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50"/>
            <p:cNvSpPr/>
            <p:nvPr/>
          </p:nvSpPr>
          <p:spPr>
            <a:xfrm>
              <a:off x="1523880" y="5257800"/>
              <a:ext cx="4876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51"/>
            <p:cNvSpPr/>
            <p:nvPr/>
          </p:nvSpPr>
          <p:spPr>
            <a:xfrm>
              <a:off x="1523880" y="5715000"/>
              <a:ext cx="4876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52"/>
            <p:cNvSpPr/>
            <p:nvPr/>
          </p:nvSpPr>
          <p:spPr>
            <a:xfrm>
              <a:off x="1523880" y="5257800"/>
              <a:ext cx="0" cy="456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53"/>
            <p:cNvSpPr/>
            <p:nvPr/>
          </p:nvSpPr>
          <p:spPr>
            <a:xfrm>
              <a:off x="2742840" y="525780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54"/>
            <p:cNvSpPr/>
            <p:nvPr/>
          </p:nvSpPr>
          <p:spPr>
            <a:xfrm>
              <a:off x="3962160" y="525780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55"/>
            <p:cNvSpPr/>
            <p:nvPr/>
          </p:nvSpPr>
          <p:spPr>
            <a:xfrm>
              <a:off x="5181480" y="525780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56"/>
            <p:cNvSpPr/>
            <p:nvPr/>
          </p:nvSpPr>
          <p:spPr>
            <a:xfrm>
              <a:off x="6400440" y="5257800"/>
              <a:ext cx="0" cy="456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57"/>
            <p:cNvSpPr/>
            <p:nvPr/>
          </p:nvSpPr>
          <p:spPr>
            <a:xfrm>
              <a:off x="5714640" y="4876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58"/>
            <p:cNvSpPr/>
            <p:nvPr/>
          </p:nvSpPr>
          <p:spPr>
            <a:xfrm>
              <a:off x="4571640" y="4876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59"/>
            <p:cNvSpPr/>
            <p:nvPr/>
          </p:nvSpPr>
          <p:spPr>
            <a:xfrm>
              <a:off x="4571640" y="4876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1523880" y="6019920"/>
          <a:ext cx="4876920" cy="4572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990720" y="669960"/>
            <a:ext cx="8001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nd Us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Type_name  Array_Name[Declared_siz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int score[4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24280" y="4495680"/>
          <a:ext cx="1676520" cy="2016360"/>
        </p:xfrm>
        <a:graphic>
          <a:graphicData uri="http://schemas.openxmlformats.org/drawingml/2006/table">
            <a:tbl>
              <a:tblPr/>
              <a:tblGrid>
                <a:gridCol w="649440"/>
                <a:gridCol w="1027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</a:tbl>
          </a:graphicData>
        </a:graphic>
      </p:graphicFrame>
      <p:sp>
        <p:nvSpPr>
          <p:cNvPr id="101" name="Text Box 24"/>
          <p:cNvSpPr/>
          <p:nvPr/>
        </p:nvSpPr>
        <p:spPr>
          <a:xfrm>
            <a:off x="4499280" y="411480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Array of Inte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5"/>
          <p:cNvSpPr/>
          <p:nvPr/>
        </p:nvSpPr>
        <p:spPr>
          <a:xfrm>
            <a:off x="7395480" y="4800600"/>
            <a:ext cx="133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score[</a:t>
            </a:r>
            <a:r>
              <a:rPr b="1" lang="en-US" sz="2400" spc="-1" strike="noStrike">
                <a:solidFill>
                  <a:srgbClr val="5f5f5f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score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score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score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6"/>
          <p:cNvSpPr/>
          <p:nvPr/>
        </p:nvSpPr>
        <p:spPr>
          <a:xfrm>
            <a:off x="6477120" y="5029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6477120" y="5410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8"/>
          <p:cNvSpPr/>
          <p:nvPr/>
        </p:nvSpPr>
        <p:spPr>
          <a:xfrm>
            <a:off x="6477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29"/>
          <p:cNvSpPr/>
          <p:nvPr/>
        </p:nvSpPr>
        <p:spPr>
          <a:xfrm>
            <a:off x="6477120" y="6248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A program that sorts an array of up to 10 positive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Object 4"/>
          <p:cNvGraphicFramePr/>
          <p:nvPr/>
        </p:nvGraphicFramePr>
        <p:xfrm>
          <a:off x="1371600" y="3200400"/>
          <a:ext cx="693432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200400"/>
                    <a:ext cx="693432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Line 5"/>
          <p:cNvSpPr/>
          <p:nvPr/>
        </p:nvSpPr>
        <p:spPr>
          <a:xfrm>
            <a:off x="457200" y="419112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6"/>
          <p:cNvSpPr/>
          <p:nvPr/>
        </p:nvSpPr>
        <p:spPr>
          <a:xfrm>
            <a:off x="457200" y="4724280"/>
            <a:ext cx="8380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1143000" y="129528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#include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id fill_array(int a[], int size, int&amp; number_use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id sort(int a[], int number_use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id swap_values (int&amp; v1, int&amp; v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index_of_smallest(const int a[], int start_index, int number_use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&lt;&lt;"This program sorts numbers from lowest to highest.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sample_array[10], number_use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l_array(sample_array, 10, number_use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rt (sample_array, number_use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&lt;&lt;"In sorted order the numbers are:\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(int index=0; index&lt;number_used; index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t&lt;&lt;sample_array[index] &lt;&lt; " "; cout&lt;&lt;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1143000" y="152388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(continue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sort(int a[], int number_u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index_of_next_smalle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index = 0; index&lt;number_used-1; index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_of_next_smallest= index_of_smallest(a, index, number_us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_values(a[index], a[index_of_next_smallest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1143000" y="137160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(continue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id swap_values (int&amp; v1, int&amp; v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 =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1=v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2=temp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 index_of_smallest (const int a[], int start_index, int number_us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 min= a[start_index]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_of_min = start_inde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(int index=start_index+1; index&lt;number_used; index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a[index]&lt;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 = a[index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_of_min = inde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index_of_mi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 an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of Structs or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 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 i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 Name[10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 Major[2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School[500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6248520" y="4724280"/>
            <a:ext cx="2209680" cy="160020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a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5334120" y="2819520"/>
          <a:ext cx="3581280" cy="1603080"/>
        </p:xfrm>
        <a:graphic>
          <a:graphicData uri="http://schemas.openxmlformats.org/drawingml/2006/table">
            <a:tbl>
              <a:tblPr/>
              <a:tblGrid>
                <a:gridCol w="914400"/>
                <a:gridCol w="761760"/>
                <a:gridCol w="990720"/>
                <a:gridCol w="914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292" name="Text Box 32"/>
          <p:cNvSpPr/>
          <p:nvPr/>
        </p:nvSpPr>
        <p:spPr>
          <a:xfrm>
            <a:off x="1219320" y="2362320"/>
            <a:ext cx="3809880" cy="303840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{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 i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r Name[1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r Major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 an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School[500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t i=0; i&lt;500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cout&lt;&lt;“Enter id: “;cin&gt;&gt;School[i].i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t&lt;&lt;“Name: “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in&gt;&gt;School[i].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t&lt;&lt;“Major: “;  cin&gt;&gt;School[i].Majo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 an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with array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Stu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Grades[10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 an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h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program that reads data into 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of 5 items where each item is a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as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member functions to read/write data as well as constructors in your class defini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&amp;Price should be private me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343400" y="3505320"/>
            <a:ext cx="207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990000"/>
                </a:solidFill>
                <a:latin typeface="Verdana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400800" y="3352680"/>
          <a:ext cx="2514600" cy="1360440"/>
        </p:xfrm>
        <a:graphic>
          <a:graphicData uri="http://schemas.openxmlformats.org/drawingml/2006/table">
            <a:tbl>
              <a:tblPr/>
              <a:tblGrid>
                <a:gridCol w="838080"/>
                <a:gridCol w="768600"/>
                <a:gridCol w="90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301" name="Text Box 27"/>
          <p:cNvSpPr/>
          <p:nvPr/>
        </p:nvSpPr>
        <p:spPr>
          <a:xfrm>
            <a:off x="1297440" y="4419720"/>
            <a:ext cx="28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00"/>
                </a:solidFill>
                <a:uFillTx/>
                <a:latin typeface="Verdana"/>
              </a:rPr>
              <a:t>Make </a:t>
            </a:r>
            <a:r>
              <a:rPr b="0" i="1" lang="en-US" sz="2400" spc="-1" strike="noStrike" u="sng">
                <a:solidFill>
                  <a:srgbClr val="990000"/>
                </a:solidFill>
                <a:uFillTx/>
                <a:latin typeface="Verdana"/>
              </a:rPr>
              <a:t>item</a:t>
            </a:r>
            <a:r>
              <a:rPr b="0" lang="en-US" sz="2400" spc="-1" strike="noStrike" u="sng">
                <a:solidFill>
                  <a:srgbClr val="990000"/>
                </a:solidFill>
                <a:uFillTx/>
                <a:latin typeface="Verdana"/>
              </a:rPr>
              <a:t> an AD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12985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60720" y="63435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9144000" y="6343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29852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Declaring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298520" y="1143000"/>
            <a:ext cx="83059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atatype name [size]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                         /* not initialized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atatype name [size] = {initialization list} /* initialized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even[5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even [5] = {2,4,6,8,10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even[5], num=0, x[10],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ouble j[] = {1.0,4.2,6.5,8.1,10.4}, d, k[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 flipV="1">
            <a:off x="3508200" y="2742840"/>
            <a:ext cx="0" cy="22860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3279600" y="2666880"/>
            <a:ext cx="53352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812760" y="270504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0"/>
          <p:cNvSpPr/>
          <p:nvPr/>
        </p:nvSpPr>
        <p:spPr>
          <a:xfrm>
            <a:off x="3508200" y="2971800"/>
            <a:ext cx="2286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2"/>
          <p:cNvSpPr/>
          <p:nvPr/>
        </p:nvSpPr>
        <p:spPr>
          <a:xfrm>
            <a:off x="1222200" y="63244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184400" y="63435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067680" y="63435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22220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Referencing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222200" y="3886200"/>
            <a:ext cx="8305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ven[3]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ad as: even sub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x[0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ad as: x sub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347360" y="1828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ven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8"/>
          <p:cNvSpPr/>
          <p:nvPr/>
        </p:nvSpPr>
        <p:spPr>
          <a:xfrm rot="5354400">
            <a:off x="4879440" y="1143000"/>
            <a:ext cx="75960" cy="1143000"/>
          </a:xfrm>
          <a:custGeom>
            <a:avLst/>
            <a:gdLst>
              <a:gd name="textAreaLeft" fmla="*/ 48600 w 75960"/>
              <a:gd name="textAreaRight" fmla="*/ 7632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658320" y="10666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subscripted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"/>
          <p:cNvSpPr/>
          <p:nvPr/>
        </p:nvSpPr>
        <p:spPr>
          <a:xfrm flipH="1">
            <a:off x="4041720" y="23623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5261040" y="23623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3202920" y="29718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ray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256360" y="2971800"/>
            <a:ext cx="37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ray sub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integer enclosed in brack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2365200" y="4648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2365200" y="5257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2"/>
          <p:cNvSpPr/>
          <p:nvPr/>
        </p:nvSpPr>
        <p:spPr>
          <a:xfrm>
            <a:off x="1182600" y="63198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144800" y="64152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9336240" y="64152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182600" y="4525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Declaring and Referencing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82600" y="1214280"/>
            <a:ext cx="8305920" cy="54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even[5]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ven[0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sub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ven[1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lw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ven[2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starts from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ven[3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ntil siz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ven[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even[] = {2,4,6,8,10}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ven[0]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ven[1] =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ven[2] =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ven[3] =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ven[4]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3011400" y="1366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4611600" y="4110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181520" y="63435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372600" y="634356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21932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erci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219320" y="114300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har grades [5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How many memory cells are reserved in memo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What type of data will be stored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How do we refer to the first array el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How fo we refer to the last array el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430280" y="240336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5 memory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1446840" y="3505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1447920" y="46483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grades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447920" y="57150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grades[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10666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28880" y="63435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9220320" y="634356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066680" y="380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ercis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066680" y="1143000"/>
            <a:ext cx="914400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eclare one array for storing the square roots of the integ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rom 0  through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eclare one array for storing the cubes of the same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219320" y="20574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ouble sr[1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219320" y="327672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cb[1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26"/>
          <p:cNvSpPr/>
          <p:nvPr/>
        </p:nvSpPr>
        <p:spPr>
          <a:xfrm>
            <a:off x="990720" y="669960"/>
            <a:ext cx="8001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nd Us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27"/>
          <p:cNvSpPr/>
          <p:nvPr/>
        </p:nvSpPr>
        <p:spPr>
          <a:xfrm>
            <a:off x="1143000" y="1523880"/>
            <a:ext cx="68594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&amp; Referencing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of the array are called index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anyplace that an ordinary variable of the s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i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n &gt;&gt; score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rit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 score[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ig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re[3]= score[1] + score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re[student_id] = score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086600" y="2971800"/>
          <a:ext cx="1676520" cy="2016000"/>
        </p:xfrm>
        <a:graphic>
          <a:graphicData uri="http://schemas.openxmlformats.org/drawingml/2006/table">
            <a:tbl>
              <a:tblPr/>
              <a:tblGrid>
                <a:gridCol w="649440"/>
                <a:gridCol w="1027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bcbcb"/>
                          </a:solidFill>
                          <a:latin typeface="Times New Roman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</a:tbl>
          </a:graphicData>
        </a:graphic>
      </p:graphicFrame>
      <p:sp>
        <p:nvSpPr>
          <p:cNvPr id="156" name="Text Box 1048"/>
          <p:cNvSpPr/>
          <p:nvPr/>
        </p:nvSpPr>
        <p:spPr>
          <a:xfrm>
            <a:off x="7026840" y="2514600"/>
            <a:ext cx="8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1:40Z</dcterms:created>
  <dc:creator>mwakil</dc:creator>
  <dc:description/>
  <dc:language>en-US</dc:language>
  <cp:lastModifiedBy>Auditorium27</cp:lastModifiedBy>
  <dcterms:modified xsi:type="dcterms:W3CDTF">2011-02-26T01:34:09Z</dcterms:modified>
  <cp:revision>6</cp:revision>
  <dc:subject/>
  <dc:title>PowerPoint Presentation</dc:title>
</cp:coreProperties>
</file>