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/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A3BB11-0886-412C-9F4A-E25FB3654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8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E223FD0-326E-46A6-8881-9FF1C38B2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9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4F719C5-7BF8-48B6-819F-B9E49387B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50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4219B25-C602-4A29-996A-A7CA41698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47"/>
          </p:nvPr>
        </p:nvSpPr>
        <p:spPr>
          <a:xfrm>
            <a:off x="144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06D3333-FADE-43E0-B820-42AF71FD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24F-FBA6-42BA-A4B7-D6C0456D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291-32DB-4921-A436-8EBE74EC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0B5-FCBA-4D3F-82B6-CB2B8627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0A3-1BD1-4DCB-BB9B-82EB5BE81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514D-D07C-4313-801C-536E1479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2585-2684-4A2A-AC26-9F76D55D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7855-6902-4F63-8281-FD31C80D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B844-9034-4C0A-8F13-3D0CADD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85AA-70E7-4E24-B49E-9CD9BF99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8D8-CB99-4063-9872-36DB3DED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7A2A-B693-4F70-B644-66E028E1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5E6-17E4-487E-B16A-9EADF912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CFB1-0B59-4535-BB1D-B3163B8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7D89-26FF-4E81-89B9-1BD20513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F057-8BD0-4D1B-99B5-C23573C0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B0E4-40C7-49F5-9590-9A4278E1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1A3F-6BFB-4F7E-B563-C5074F91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DFE64-B02B-46D7-B37A-2CA23F59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6B49-B34D-4F04-933B-E5FCAE2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DB95D-D516-4E8D-8261-95337960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A7CC-FB49-4F13-8F1E-DA9FCFF7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4334-50CB-4590-AC6F-473A021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32F-0EA1-4524-AFF4-25596242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CF45F-A475-4ABA-AA4F-8F58902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7DA7-6F3B-4E28-86E1-F5033F7F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39EC-7130-4B68-B197-BDD5F936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068A0-E3CF-43A7-8219-60195ADA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4E140-830C-4505-A073-8434477C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6891-9CF9-44BB-8355-98383EA2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EB0FF-AAC7-4C29-9124-148F322D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040-DDC1-4219-BC2F-39433334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D6BF-BF16-4E21-A96D-A1C709E0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599-8159-4912-AC18-4FBA2262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BE8-4D99-4158-8869-F98E156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783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13DB-D8A4-4CDD-825D-FEDD2BA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960"/>
            <a:ext cx="8229240" cy="23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8C0-12BB-422A-B0FE-63C3117A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9159D70C-F12E-48E8-8C12-C8BD816E1BA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Isosceles Triangle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46EAEBB8-0319-43E5-BB82-A80349A12A34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4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Isosceles Triangle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traight Connector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Straight Connector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Isosceles Triangle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a2b4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9fb8cd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81223863-9A14-4D98-9114-135B07773785}" type="slidenum">
              <a:rPr b="0" lang="en-US" sz="14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3380e6"/>
                </a:solidFill>
                <a:latin typeface="Goudy Sans Medium"/>
              </a:rPr>
              <a:t>Object-Oriented Programming: Classes and Objects   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219320" y="5124600"/>
            <a:ext cx="6857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3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38320" cy="5180400"/>
          </a:xfrm>
          <a:prstGeom prst="rect">
            <a:avLst/>
          </a:prstGeom>
          <a:ln w="9525">
            <a:noFill/>
          </a:ln>
        </p:spPr>
      </p:pic>
      <p:sp>
        <p:nvSpPr>
          <p:cNvPr id="175" name="PlaceHolder 3"/>
          <p:cNvSpPr>
            <a:spLocks noGrp="1"/>
          </p:cNvSpPr>
          <p:nvPr>
            <p:ph type="ftr" idx="2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2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you create an object of a class, the class’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called to initialize the ob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must be nam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nd are generally declared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structors are implemented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ub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procedures, because they cannot return valu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Rounded Rectangle 4"/>
          <p:cNvSpPr/>
          <p:nvPr/>
        </p:nvSpPr>
        <p:spPr>
          <a:xfrm>
            <a:off x="914400" y="1219320"/>
            <a:ext cx="7162560" cy="22093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umber As Integ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Public Sub New( ByVal  n As Integ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	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number = 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      </a:t>
            </a:r>
            <a:r>
              <a:rPr b="0" lang="en-US" sz="2300" spc="-1" strike="noStrike">
                <a:solidFill>
                  <a:srgbClr val="da1f28"/>
                </a:solidFill>
                <a:latin typeface="Times New Roman"/>
              </a:rPr>
              <a:t>End Sub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2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Constructor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onstructor call is required for every object that’s creat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You can provide a parameterless constructor that contains code and takes no parameters, or that takes only Optional parameters so you can call it with no argumen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2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reate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object in Visual Basic is defined by a 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describes the variables, properties, procedures, and events of an objec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are instances of classes; you can create as many objects you need once you have defined a clas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can also specify Public, Protected, Friend, Protected Friend, Private, Shared, or Static in the declaration. 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2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86" name="Rounded Rectangle 4"/>
          <p:cNvSpPr/>
          <p:nvPr/>
        </p:nvSpPr>
        <p:spPr>
          <a:xfrm>
            <a:off x="1371600" y="3733920"/>
            <a:ext cx="5943240" cy="11426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Dim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VariableName As [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New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] ClassNa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e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represents a bank account that has a balance, deposit and withdraw money trans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Te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lass creates and uses an object of class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Accou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2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190" name="Picture 1" descr="vbhtp5_09_ClassesAndObjectsImges_Page_04.png"/>
          <p:cNvPicPr/>
          <p:nvPr/>
        </p:nvPicPr>
        <p:blipFill>
          <a:blip r:embed="rId1"/>
          <a:srcRect l="4165" t="8240" r="24168" b="65147"/>
          <a:stretch/>
        </p:blipFill>
        <p:spPr>
          <a:xfrm>
            <a:off x="-36360" y="3573000"/>
            <a:ext cx="8940960" cy="2016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class can have references to objects of other classes as member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calle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compos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is sometimes referred to as a </a:t>
            </a:r>
            <a:r>
              <a:rPr b="1" i="1" lang="en-US" sz="2600" spc="-1" strike="noStrike">
                <a:solidFill>
                  <a:srgbClr val="3380e6"/>
                </a:solidFill>
                <a:latin typeface="Times New Roman"/>
              </a:rPr>
              <a:t>has-a</a:t>
            </a: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 relationship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2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Scop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instance variables and methods have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cop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ithin this scope, a class’s members are accessible to all of the class’s other members and can be referenced simp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utside a class’s scope, class members cannot be referenced directly by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ose class members that are visible (such a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) can be accessed through a variable that refers to an object of the cla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ftr" idx="2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Object initialize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use the </a:t>
            </a:r>
            <a:r>
              <a:rPr b="0" lang="en-US" sz="2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</a:rPr>
              <a:t> keywor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allow you to create an object and initialize its properties in the same state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is useful when a class does not provide an appropriate constructor to meet your nee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2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o use object initializers, you follow the object creation expression with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keyword and an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object initializer li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—a comma-separated list in curly braces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}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of properties and their values as in the following statements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1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33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.Second=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im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Obj2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Time()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{.Minute = </a:t>
            </a:r>
            <a:r>
              <a:rPr b="0" lang="en-US" sz="1600" spc="-1" strike="noStrike">
                <a:solidFill>
                  <a:srgbClr val="128aff"/>
                </a:solidFill>
                <a:latin typeface="Lucida Console"/>
              </a:rPr>
              <a:t>45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With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indicates that the new object is used to access the properties specified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property name must be preceded by the dot separator (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 and can appear only once in the object-initializer list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3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Object Initializ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-initializer list cannot be empty and cannot contain properties that are declared as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object initializer then executes the property initializers in the order in which they appear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3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vbhtp5_09_ClassesAndObjectsImges_Page_02.png"/>
          <p:cNvPicPr/>
          <p:nvPr/>
        </p:nvPicPr>
        <p:blipFill>
          <a:blip r:embed="rId1"/>
          <a:stretch/>
        </p:blipFill>
        <p:spPr>
          <a:xfrm>
            <a:off x="0" y="652320"/>
            <a:ext cx="9143640" cy="5551200"/>
          </a:xfrm>
          <a:prstGeom prst="rect">
            <a:avLst/>
          </a:prstGeom>
          <a:ln w="9525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ftr" idx="1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uto-Implemented Propert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rite properties that do not have any additional logic in their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cessors, there is a new feature in Visual Basic 2010 call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uto-implemented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allows you to write one line of code and have the compiler to generate the property’s code for yo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0280" indent="-2602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operty did not require validation in, we could have replaced line 5 and lines 29–41 wit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81560" indent="-21708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20920" indent="-2602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mpiler would then generate a Private instance variable of type Integer named _Hour and the following property cod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8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ublic Property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G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_H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G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value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_Hour =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Set</a:t>
            </a:r>
            <a:br>
              <a:rPr sz="1400"/>
            </a:b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End Property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3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object of a class shares one copy of the class’s method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bject’s methods can manipulate the object’s data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ut how do methods know which object’s instance variables to manipulate? Every object can access itself through it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Me referen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 every call to a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, the compiler passes an object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ence as an implicit argumen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3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Shadowed Instance Variables with M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a method has a parameter or local variable with the same name as one of the class’s instance variables, the instance variable is “hidden” until the method terminates execution—this is called </a:t>
            </a:r>
            <a:r>
              <a:rPr b="0" lang="en-US" sz="2100" spc="-1" strike="noStrike">
                <a:solidFill>
                  <a:srgbClr val="0000ff"/>
                </a:solidFill>
                <a:latin typeface="Times New Roman"/>
              </a:rPr>
              <a:t>shadow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 to access the shadowed instance variabl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ume that we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with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hou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inut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econ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nstance variabl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3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Using </a:t>
            </a: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Me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to Access the Current Objec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lvl="1" marL="343080" indent="-3430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 constructor’s parameters shadow (have the same name as) the class’s instance variables, so we use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access each shadowed instance variabl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hour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minute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second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hour = hour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hou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minute = minute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 ' initialize instance var minu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.second = second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initialize instance var second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bf00"/>
                </a:solidFill>
                <a:latin typeface="Lucida Console"/>
              </a:rPr>
              <a:t>' New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Lucida Console"/>
              </a:rPr>
              <a:t>Shared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ch object has its own copy of the instance variables of its class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 certain cases, all objects of a class should share only one copy of a particular variabl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 variabl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represent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classwide inform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—all objects of the class share the same variable, no matter how many objects of the class have been instantiated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ogether, a class’s instance variables and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variables are know as the class’s </a:t>
            </a:r>
            <a:r>
              <a:rPr b="0" lang="en-US" sz="2500" spc="-1" strike="noStrike">
                <a:solidFill>
                  <a:srgbClr val="0000ff"/>
                </a:solidFill>
                <a:latin typeface="Times New Roman"/>
              </a:rPr>
              <a:t>field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3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vbhtp5_09_ClassesAndObjectsImges_Page_38.png"/>
          <p:cNvPicPr/>
          <p:nvPr/>
        </p:nvPicPr>
        <p:blipFill>
          <a:blip r:embed="rId1"/>
          <a:srcRect l="8263" t="14995" r="25987" b="24045"/>
          <a:stretch/>
        </p:blipFill>
        <p:spPr>
          <a:xfrm>
            <a:off x="1296000" y="404640"/>
            <a:ext cx="6011640" cy="3384000"/>
          </a:xfrm>
          <a:prstGeom prst="rect">
            <a:avLst/>
          </a:prstGeom>
          <a:ln w="9525">
            <a:noFill/>
          </a:ln>
        </p:spPr>
      </p:pic>
      <p:pic>
        <p:nvPicPr>
          <p:cNvPr id="222" name="Picture 1" descr="vbhtp5_09_ClassesAndObjectsImges_Page_39.png"/>
          <p:cNvPicPr/>
          <p:nvPr/>
        </p:nvPicPr>
        <p:blipFill>
          <a:blip r:embed="rId2"/>
          <a:srcRect l="8263" t="0" r="25200" b="46820"/>
          <a:stretch/>
        </p:blipFill>
        <p:spPr>
          <a:xfrm>
            <a:off x="1296000" y="3213000"/>
            <a:ext cx="6083640" cy="2952000"/>
          </a:xfrm>
          <a:prstGeom prst="rect">
            <a:avLst/>
          </a:prstGeom>
          <a:ln w="9525">
            <a:noFill/>
          </a:ln>
        </p:spPr>
      </p:pic>
      <p:sp>
        <p:nvSpPr>
          <p:cNvPr id="223" name="Title 1"/>
          <p:cNvSpPr/>
          <p:nvPr/>
        </p:nvSpPr>
        <p:spPr>
          <a:xfrm rot="16200000">
            <a:off x="-472680" y="553680"/>
            <a:ext cx="21600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rgbClr val="3380e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ftr" idx="3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ope of </a:t>
            </a:r>
            <a:r>
              <a:rPr b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 members have class scop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via the class name using the dot separato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class’s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mbers can be accessed by clients only indirectly through the class’s non-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methods and propertie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Members and the </a:t>
            </a:r>
            <a:r>
              <a:rPr b="1" i="1" lang="en-US" sz="25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Referenc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methods and properties do not have access to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reference, which can be used to directly access only non-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lass member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Class Member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i="1" lang="en-US" sz="26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Constructo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s are often initialized to their default values or to other values in their declar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When a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variable requires initialization that cannot be accomplished in its declaration (such as complex calculations or constructor arguments), you can perform the initialization in a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Shared constructo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hared constructor preceded by the shared modifier and must be declared public, without parameter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4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Share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ath provides a collection of Shared methods that enable to perform common mathematical calculation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Math.Sqrt(900.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4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applications consist of one or more classes, each containing one or more method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become part of a development team in industry, you may work on applications that contain hundreds, or even thousands, of class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chapter, we motivate the notion of classes with real-world examples and use complete working applications to demonstrate creating your own classes and manipulating objects of those class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ftr" idx="1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an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re fields whose values cannot change during program execu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reate a constant in a class, declare an identifier as eithe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6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ither type of constant can be modified once initializ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42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identifier must be initialized at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ompile time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n its declaration and can be initialized only to constant values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Private Const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NUMBER_OF_CARDS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 = </a:t>
            </a:r>
            <a:r>
              <a:rPr b="0" lang="en-US" sz="1800" spc="-1" strike="noStrike">
                <a:solidFill>
                  <a:srgbClr val="128aff"/>
                </a:solidFill>
                <a:latin typeface="Lucida Console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48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43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some cases, a constant’s value is not known until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ecution ti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is initialized with a non-constant value (such as a vari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stant must be initialized with a (possibly) different value on a per-object basi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identifier declared as </a:t>
            </a:r>
            <a:r>
              <a:rPr b="0" lang="en-US" sz="2200" spc="-1" strike="noStrike">
                <a:solidFill>
                  <a:srgbClr val="0000ff"/>
                </a:solidFill>
                <a:latin typeface="Times New Roman"/>
              </a:rPr>
              <a:t>ReadOnl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 be initialized either in its declaration or in the class’s constructor(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44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following declaration creates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I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onstant that might be part of an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Employe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	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rivate ReadOnly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employee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o initialize the constant employee-by-employee, you can use the constructor: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82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bf00"/>
                </a:solidFill>
                <a:latin typeface="Lucida Console"/>
              </a:rPr>
              <a:t>	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Public Sub New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(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ByVal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ID </a:t>
            </a: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As Integer</a:t>
            </a: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Lucida Console"/>
              </a:rPr>
              <a:t>   employeeID = ID</a:t>
            </a:r>
            <a:r>
              <a:rPr b="0" lang="en-US" sz="1900" spc="-1" strike="noStrike">
                <a:solidFill>
                  <a:srgbClr val="00bf00"/>
                </a:solidFill>
                <a:latin typeface="Lucida Console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ff"/>
                </a:solidFill>
                <a:latin typeface="Lucida Console"/>
              </a:rPr>
              <a:t>End Sub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4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onst and ReadOnly Fiel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essing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Constants from Client Cod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 are implicitly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value, client code can access it with the class name followed by the dot separator and the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Cons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’s name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ach object of a class with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has a separate copy of the constant, unless you explicitly declare the constant as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Share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Lucida Console"/>
              </a:rPr>
              <a:t>ReadOnl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constant in your class, client code can access it via a reference to an object of that class. 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4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 </a:t>
            </a: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es and Object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n abstract representation of something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is a usable example of the thing the class represent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 is a structure containing data and methods that manipulate the dat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16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Fields, Properties and metho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mad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perties represent information that an object contai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s are like variables in that they can be read or set directl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 Car color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retrieved and set like fields, but are implemented using property Get and property Set procedur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actions that an object can perfo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xample, a "Car" object could have "StartEngine," "Drive," and "Stop" method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ftr" idx="17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Declar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access modifi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lang="en-US" sz="2300" spc="-1" strike="noStrike">
                <a:solidFill>
                  <a:srgbClr val="000000"/>
                </a:solidFill>
                <a:latin typeface="Lucida Console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lasses can be reused in other project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 declaration contains keyword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ollowed immediately by the class’s name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very class’s body ends with the keywords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2362320" y="1447920"/>
            <a:ext cx="32000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 Cla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8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Access Levels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 access level of a declared element is the extent of the ability to access it, that is, what code has permission to read it or write to 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from code anywhere within the same project, from other projects that reference the project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class, or from a class derived from this class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elements are accessible only from within the same module, class, or structure. 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9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Member Variable (Field)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 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only within the class, which gives the class complete control over how those members are used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ass members declared with member-access modifier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ublic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re accessible wherever the program has a reference to an Account object.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Member variables declared with Dim default to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cces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Rounded Rectangle 4"/>
          <p:cNvSpPr/>
          <p:nvPr/>
        </p:nvSpPr>
        <p:spPr>
          <a:xfrm>
            <a:off x="2362320" y="1447920"/>
            <a:ext cx="3657240" cy="1752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38100">
            <a:solidFill>
              <a:srgbClr val="fada7a"/>
            </a:solidFill>
            <a:prstDash val="dash"/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2300" spc="-1" strike="noStrike">
                <a:solidFill>
                  <a:srgbClr val="0000ff"/>
                </a:solidFill>
                <a:latin typeface="Times New Roman"/>
              </a:rPr>
              <a:t>Privat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lor As St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End Cla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20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3380e6"/>
                </a:solidFill>
                <a:latin typeface="Arial"/>
              </a:rPr>
              <a:t>Class Property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property procedure wh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control when and how a value is set or retriev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validate valu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ing the property causes changes to other internal variables or to the values of other properti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Basic provides for the following property procedur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returns the value of a property. It is called when you access the property in an expressio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procedure sets a property to a value, including an object reference. It is called when you assign a value to the propert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usually define property procedures in pairs, using the Get and Set statements, but you can define either procedure alone if the property is read-only (Get Statement) or write-only (Set Statement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1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1478</Words>
  <Paragraphs>1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20:00:59Z</dcterms:created>
  <dc:creator>Nasser</dc:creator>
  <dc:description/>
  <dc:language>en-US</dc:language>
  <cp:lastModifiedBy>Aseel</cp:lastModifiedBy>
  <dcterms:modified xsi:type="dcterms:W3CDTF">2013-09-09T16:41:14Z</dcterms:modified>
  <cp:revision>5</cp:revision>
  <dc:subject/>
  <dc:title>Object-Oriented Programming: Classes and Objec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On-screen Show (4:3)</vt:lpwstr>
  </property>
  <property fmtid="{D5CDD505-2E9C-101B-9397-08002B2CF9AE}" pid="4" name="Slides">
    <vt:r8>34</vt:r8>
  </property>
</Properties>
</file>