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170BB3-DAEA-42FC-9E0C-4ECE8B7B5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8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FA91F52-9D26-4CCA-B160-7D45CA214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9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EF4BA50-1B19-4908-ADF7-D9C00D04E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50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57F785B-0CFC-440D-A588-0717E4EA7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47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38FA866-3A5E-4678-801D-5492A3D76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773-2A97-4A4D-AE0C-B50BEAAD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221-3A61-4929-9B8D-BFF6AFBA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6C2-2015-4D6D-B860-5AD832C3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1ED-83ED-4934-AC72-C5A45CD7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EA38-35D5-46C0-BC5F-59B1C74B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587F-2C41-4D53-B0C8-296B81DE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9CB5-DFA1-41F2-AE29-19A3114C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B414-8054-44D4-97F9-B198A8A9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9E43-64C8-475C-9CE1-1DC508E8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5163-75CD-4990-B9E1-A462BCD7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32DD-0F95-4416-B67C-94455B28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30C-D9F6-4639-A0B6-6E15ADA4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6050-BB1E-4BBA-96A5-2F0FDB4D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BE5C-8318-40B7-93CF-5F7AA3BC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23BB-4C0B-4E01-BEC9-208749EF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0B06-13F5-49F8-8FF4-6AE6B98F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95F6-B452-4E6E-845E-663724A2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787B2-0FEA-42D7-9F76-6D96BAF3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D1E8-B4A1-4C13-BCAC-A63749FC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51B3-D86D-40C6-8A9E-4239F419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F2FC-B4DF-4B87-A768-86AFD7F5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E1D57-9F71-48B6-8A11-A00739C7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311-1585-48F0-AEE7-D0CE0D8B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CAF0D-5F5B-4306-8557-ECCFC70E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89FD2-52DA-45F3-87A6-AC257A96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6CB91-EE6A-4D89-869E-0C26BE93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5952F-AE90-47CE-B02B-35CE10FB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98C3D-3F2D-4AC1-A755-D11F61B8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B026-9989-416C-A7CD-FE35FCB5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D39C6-0BE0-4F81-A1AC-0F76AE73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C3F-87DD-469C-AC34-E475E758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4CB-0810-4425-BACC-B5D65EDF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7A8-EB0A-4092-AA12-9F32886E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8BE-CEF7-4695-A415-3D348784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D0C-5F3C-4CD6-97B4-D946379D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75B-444B-469C-831B-F593A8D6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D6CCB6D4-1686-41FE-8AAB-66546E0281F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58F21CEB-1F63-4D34-960D-005FF6D0944C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3524DA2-05DC-439D-945F-E6A1377CE49F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380e6"/>
                </a:solidFill>
                <a:latin typeface="Goudy Sans Medium"/>
              </a:rPr>
              <a:t>Object-Oriented Programming: Classes and Objects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3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638320" cy="5180400"/>
          </a:xfrm>
          <a:prstGeom prst="rect">
            <a:avLst/>
          </a:prstGeom>
          <a:ln w="9525">
            <a:noFill/>
          </a:ln>
        </p:spPr>
      </p:pic>
      <p:sp>
        <p:nvSpPr>
          <p:cNvPr id="175" name="PlaceHolder 3"/>
          <p:cNvSpPr>
            <a:spLocks noGrp="1"/>
          </p:cNvSpPr>
          <p:nvPr>
            <p:ph type="ftr" idx="2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you create an object of a class, the class’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called to initialize the ob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must be nam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nd are generally declar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are implemented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u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procedures, because they cannot return valu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Rounded Rectangle 4"/>
          <p:cNvSpPr/>
          <p:nvPr/>
        </p:nvSpPr>
        <p:spPr>
          <a:xfrm>
            <a:off x="914400" y="1219320"/>
            <a:ext cx="7162560" cy="22093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ber As 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Public Sub New( ByVal  n As Integ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number = 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End Sub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2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onstructor call is required for every object that’s creat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You can provide a parameterless constructor that contains code and takes no parameters, or that takes only Optional parameters so you can call it with no argumen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2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reate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object in Visual Basic is defined by a 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describes the variables, properties, procedures, and events of an o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s are instances of classes; you can create as many objects you need once you have defined a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also specify Public, Protected, Friend, Protected Friend, Private, Shared, or Static in the declaration.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2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86" name="Rounded Rectangle 4"/>
          <p:cNvSpPr/>
          <p:nvPr/>
        </p:nvSpPr>
        <p:spPr>
          <a:xfrm>
            <a:off x="1371600" y="3733920"/>
            <a:ext cx="5943240" cy="1142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Dim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ariableName As [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] Class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represents a bank account that has a balance, deposit and withdraw money transac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creates and uses an object of 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2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190" name="Picture 1" descr="vbhtp5_09_ClassesAndObjectsImges_Page_04.png"/>
          <p:cNvPicPr/>
          <p:nvPr/>
        </p:nvPicPr>
        <p:blipFill>
          <a:blip r:embed="rId1"/>
          <a:srcRect l="4165" t="8240" r="24168" b="65147"/>
          <a:stretch/>
        </p:blipFill>
        <p:spPr>
          <a:xfrm>
            <a:off x="-36360" y="3573000"/>
            <a:ext cx="8940960" cy="201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mposi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can have references to objects of other classes as memb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compos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is sometimes referred to as a </a:t>
            </a:r>
            <a:r>
              <a:rPr b="1" i="1" lang="en-US" sz="2600" spc="-1" strike="noStrike">
                <a:solidFill>
                  <a:srgbClr val="3380e6"/>
                </a:solidFill>
                <a:latin typeface="Times New Roman"/>
              </a:rPr>
              <a:t>has-a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 relationship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2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Scop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instance variables and methods hav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cop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ithin this scope, a class’s members are accessible to all of the class’s other members and can be referenced simp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utside a class’s scope, class members cannot be referenced direct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ose class members that are visible (such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) can be accessed through a variable that refers to an object of the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2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Object initialize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use the </a:t>
            </a:r>
            <a:r>
              <a:rPr b="0" lang="en-US" sz="2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keywor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allow you to create an object and initialize its properties in the same state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useful when a class does not provide an appropriate constructor to meet your nee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2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use object initializers, you follow the object creation expression with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keyword and an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object initializer li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—a comma-separated list in curly braces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{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of properties and their values as in the following statements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1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33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.Second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2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eyword indicates that the new object is used to access the properties specified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property name must be preceded by the dot separator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and can appear only once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3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-initializer list cannot be empty and cannot contain properties that are declared as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 initializer then executes the property initializers in the order in which they appear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3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vbhtp5_09_ClassesAndObjectsImges_Page_02.png"/>
          <p:cNvPicPr/>
          <p:nvPr/>
        </p:nvPicPr>
        <p:blipFill>
          <a:blip r:embed="rId1"/>
          <a:stretch/>
        </p:blipFill>
        <p:spPr>
          <a:xfrm>
            <a:off x="0" y="652320"/>
            <a:ext cx="9143640" cy="5551200"/>
          </a:xfrm>
          <a:prstGeom prst="rect">
            <a:avLst/>
          </a:prstGeom>
          <a:ln w="9525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uto-Implemented Propert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rite properties that do not have any additional logic in their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ssors, there is a new feature in Visual Basic 2010 call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uto-implemented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llows you to write one line of code and have the compiler to generate the property’s code for you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perty did not require validation in, we could have replaced line 5 and lines 29–41 wit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1560" indent="-21708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mpiler would then generate a Private instance variable of type Integer named _Hour and the following property co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G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_H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G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value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_Hour =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Set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Propert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3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object of a class shares one copy of the class’s method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bject’s methods can manipulate the object’s data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ut how do methods know which object’s instance variables to manipulate? Every object can access itself through it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Me referen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 every call to a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, the compiler passes an object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eference as an implicit argumen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3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Shadowed Instance Variables with M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hen a method has a parameter or local variable with the same name as one of the class’s instance variables, the instance variable is “hidden” until the method terminates execution—this is called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shadowi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 to access the shadowed instance variabl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ssume that we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inu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econ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nstance variabl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3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constructor’s parameters shadow (have the same name as) the class’s instance variables, so we us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cess each shadowed instance variabl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minute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second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hour = hour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ho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minute = minute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 ' initialize instance var minu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second = second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second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New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3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Shared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ach object has its own copy of the instance variables of its clas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certain cases, all objects of a class should share only one copy of a particular variable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 varia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represent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wide informa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—all objects of the class share the same variable, no matter how many objects of the class have been instantia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gether, a class’s instance variables a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variables are know as the class’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field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3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vbhtp5_09_ClassesAndObjectsImges_Page_38.png"/>
          <p:cNvPicPr/>
          <p:nvPr/>
        </p:nvPicPr>
        <p:blipFill>
          <a:blip r:embed="rId1"/>
          <a:srcRect l="8263" t="14995" r="25987" b="24045"/>
          <a:stretch/>
        </p:blipFill>
        <p:spPr>
          <a:xfrm>
            <a:off x="1296000" y="404640"/>
            <a:ext cx="6011640" cy="3384000"/>
          </a:xfrm>
          <a:prstGeom prst="rect">
            <a:avLst/>
          </a:prstGeom>
          <a:ln w="9525">
            <a:noFill/>
          </a:ln>
        </p:spPr>
      </p:pic>
      <p:pic>
        <p:nvPicPr>
          <p:cNvPr id="222" name="Picture 1" descr="vbhtp5_09_ClassesAndObjectsImges_Page_39.png"/>
          <p:cNvPicPr/>
          <p:nvPr/>
        </p:nvPicPr>
        <p:blipFill>
          <a:blip r:embed="rId2"/>
          <a:srcRect l="8263" t="0" r="25200" b="46820"/>
          <a:stretch/>
        </p:blipFill>
        <p:spPr>
          <a:xfrm>
            <a:off x="1296000" y="3213000"/>
            <a:ext cx="6083640" cy="2952000"/>
          </a:xfrm>
          <a:prstGeom prst="rect">
            <a:avLst/>
          </a:prstGeom>
          <a:ln w="9525">
            <a:noFill/>
          </a:ln>
        </p:spPr>
      </p:pic>
      <p:sp>
        <p:nvSpPr>
          <p:cNvPr id="223" name="Title 1"/>
          <p:cNvSpPr/>
          <p:nvPr/>
        </p:nvSpPr>
        <p:spPr>
          <a:xfrm rot="16200000">
            <a:off x="-472680" y="553680"/>
            <a:ext cx="21600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ftr" idx="3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ope of 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 members have class scop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via the class name using the dot separato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by clients only indirectly through the class’s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s and properti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Members and the </a:t>
            </a: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methods and properties do not have access to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, which can be used to directly access only non-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member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Construc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s are often initialized to their default values or to other values in their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 requires initialization that cannot be accomplished in its declaration (such as complex calculations or constructor arguments), you can perform the initialization in a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hared 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hared constructor preceded by the shared modifier and must be declared public, without paramete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4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ath provides a collection of Shared methods that enable to perform common mathematical calcul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Math.Sqrt(900.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4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applications consist of one or more classes, each containing one or more metho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become part of a development team in industry, you may work on applications that contain hundreds, or even thousands, of class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is chapter, we motivate the notion of classes with real-world examples and use complete working applications to demonstrate creating your own classes and manipulating objects of those class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a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fields whose values cannot change during program execu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reate a constant in a class, declare an identifier as eithe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ither type of constant can be modified once initializ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4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dentifier must be initialized at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mpile tim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its declaration and can be initialized only to constant valu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 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Private Const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NUMBER_OF_CARD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4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ome cases, a constant’s value is not known unti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ecution 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is initialized with a non-constant value (such as a variab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must be initialized with a (possibly) different value on a per-object basi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identifier declared as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ReadOnl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initialized either in its declaration or in the class’s constructor(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4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following declaration creates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I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onstant that might be part of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	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rivate ReadOnly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employee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initialize the constant employee-by-employee, you can use the constructor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bf00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employeeID = ID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4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onstants from Client Cod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 are implicitly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value, client code can access it with the class name followed by the dot separator and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’s nam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object of a class with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has a separate copy of the constant, unless you explicitly declare the constant as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in your class, client code can access it via a reference to an object of that class.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4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es and Objec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n abstract representation of someth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 usable example of the thing the class repres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 is a structure containing data and methods that manipulate the da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Fields, Properties an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are mad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roperties represent information that an object contai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s are like variables in that they can be read or set direct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 Car colo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trieved and set like fields, but are implemented using property Get and property Set procedur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actions that an object can perfor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a "Car" object could have "StartEngine," "Drive," and "Stop" method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Declar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ccess modifi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es can be reused in other projec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 declaration contain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ollowed immediately by the class’s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’s body ends with the keyword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2362320" y="1447920"/>
            <a:ext cx="32000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 Clas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ccess Level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 access level of a declared element is the extent of the ability to access it, that is, what code has permission to read it or write to 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from code anywhere within the same project, from other projects that reference the pro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class, or from a class derived from this clas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module, class, or structure. 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Member Variable (Field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 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only within the class, which gives the class complete control over how those members are us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-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wherever the program has a reference to an Account object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mber variables declared with Dim default to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cce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2362320" y="1447920"/>
            <a:ext cx="36572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lor As 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2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perty procedure wh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control when and how a value is set or retrieve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validate valu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ting the property causes changes to other internal variables or to the values of other properti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 Basic provides for the following property procedur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returns the value of a property. It is called when you access the property in an express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sets a property to a value, including an object reference. It is called when you assign a value to the prope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usually define property procedures in pairs, using the Get and Set statements, but you can define either procedure alone if the property is read-only (Get Statement) or write-only (Set Statement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2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  <Words>1478</Words>
  <Paragraphs>1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20:00:59Z</dcterms:created>
  <dc:creator>Nasser</dc:creator>
  <dc:description/>
  <dc:language>en-US</dc:language>
  <cp:lastModifiedBy>Aseel</cp:lastModifiedBy>
  <dcterms:modified xsi:type="dcterms:W3CDTF">2013-09-09T16:41:14Z</dcterms:modified>
  <cp:revision>5</cp:revision>
  <dc:subject/>
  <dc:title>Object-Oriented Programming: Classes and Obj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4</vt:r8>
  </property>
</Properties>
</file>