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78FD-1E72-41BE-B811-94CFD623E56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1665-A391-468E-BDDB-F7E95FA6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0A48-30E3-451D-ACE9-A23BB9F1A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F6A-E819-4CB1-9221-504DA157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56B-82CC-469B-B7FA-C6995192B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FF8D-39B6-457F-8015-0BAFD7C0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E23-F849-4FEC-93E2-553CBE5E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400D-3DBD-44BA-A8EC-5DFDCFAEE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28B7-F1B3-41FF-84B5-E9187682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854-E6F0-4DE1-8BC5-A602B5D4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EDF5-CDD3-4221-ADDE-6E8AB8275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E261-4739-4B98-B4A8-0BD63AC6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F38D-3580-46F7-9CF6-C4BD850B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29F8-82A8-4EA9-BB28-F7786C3E0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89D5-D1E2-432B-AABD-3D614EDD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CAD-242A-463A-9456-5838EB69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D54-68C1-440A-B128-1CCCF63C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4A4F-FC8B-4DEA-A3EB-6A42DCA0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64EA-16F9-4508-BDA4-6F3443EB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61BD-9FF5-4200-BE60-EAF98536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FDD-FC36-4B5C-A642-018410FB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0CF-04CE-4F99-A698-83A3DDC1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4FBA-9F91-45CF-8703-22169B01C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1F37-49A3-4E10-9B24-6D3CC96D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982-6C59-4A8F-8E40-D0E13538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1B40-E78D-4B81-85DD-8CADEF8B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89C9-0202-483C-BAC7-E449CBA8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4D81-9DA3-4722-B1D3-CAD261EA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AD2E-75D5-48C4-A16A-66A51AF31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25D0-BDE6-4DE2-8977-7E47B28BE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A95-BCA0-4B0E-9C0B-2370E43F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B5B2-BFBE-4116-9C60-8A1F546C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0EB-918F-4AF5-9B1B-A36D85BD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64AC-FD5A-4EFE-A4A5-F17FBB49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9617-C652-4FA8-A594-EE625F385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5F6-6506-4EB3-BC45-F27BD683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E9D-3357-43B1-B523-3F0AC1C4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E7C-CDD1-42B3-8567-30DF433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4A8B3-BB31-4840-9189-107577B1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979C-5734-4BBD-9726-A046D97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52FB8-1003-4690-8365-7230E43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14AB7-C884-4A26-B3E5-302FEBE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73877-68FB-44A1-9163-BC460E5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130F9-FD98-46F1-8D12-3039D608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6EC3-A31E-4491-A3C2-B8D6643B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28796-3FDD-46DE-8B71-B8649D08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16A5A-EEF3-4A1B-A472-809A98B9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712CA-C430-4BFB-8D06-12E4F631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91E-1531-4883-891C-F00FF1B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48A4E-5FD4-4BEC-A1D3-F3BB822D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AA2D7-C6B5-41D5-8C72-46AB46F3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78936-0166-481B-AB3D-D7A54723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FE38C-F2C3-4710-97F5-FF291BB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5334F-F8A8-4CFD-BF64-E180B76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5CF83-3382-4FB1-AE7D-841CC97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5EA50-1668-4106-83E3-4B68A4F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929F0-A52E-464D-A403-C2B292F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E1ECA-50BF-47D3-B378-31C0E770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09A5C-5068-42C1-B702-DC83CE1F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B60-B18B-4CA3-BC40-47050C2B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BEDA3-24FC-4858-8DBB-4ECC6BD1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BB1BE-B14B-4833-9BEE-EF8AB541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6154E-FA75-47DC-A37F-FA45E91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FAEC0-2CD7-4F77-BAA7-39E4653D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66A4-20FD-4579-A65D-3BF3DC33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9C557-55B9-405C-9C9C-8C5C523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939BD-DF08-4D66-827F-4440B816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03904-AB0E-4FD9-97E3-2A80DBE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C9F96-A3CE-4F69-812D-CF7830F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FE76B-8E38-43AA-9747-5670B658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62A3-4BDE-4CA0-8B1E-BD68D03D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78CEF-0F14-4DB9-96AE-712B518B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DDE6D-DA9A-49F6-A5D3-9E87C2FA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9E899-B5B3-417F-8784-892D07F2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41922-9931-44EA-86AE-31950EB4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69789-0D53-4FB2-8F99-13ABC9B9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C3975-F2F9-473F-804C-58EA241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E2C1C-0E8A-4787-AF2E-7A12E15F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43F93-65E1-4589-9247-CE2275C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81EDE-BEE9-4137-9F2D-9373FD0F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BA0BC-ABAF-46B2-B8D1-3C5D772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473A-8121-4A03-B4EF-FB818A40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E70B2-D54C-4715-B5D0-FD5E4A79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D8148-A798-41E0-B5B0-DE4D2B7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19205-0BE2-4BC8-991F-F0E6175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BF9C7-1DF8-4D5E-BE8D-24EBCCF1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FFC56-BF2E-4FBE-8353-1E410E70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651C-E5ED-49E4-AA7A-1529164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896-9851-4C22-ACF0-14FA2236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F130-E661-4DAD-8E3A-00D688E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750D-8758-4B81-A2EB-4DFC50FF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918B-42EE-45B0-8AFE-B237511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B5D-BF87-4ECA-A681-CC8C38D1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390A-2B9B-4F3A-A83F-DE20137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05A8-35D5-459F-8F0F-15FD5BC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A9FF-432A-474A-87E1-5D4D5CBC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0AA4-6CB4-4F35-A50A-4A2E9E8A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3422-BFDB-4572-835C-1926F660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24C5-3253-41D0-8E3E-D55CE4B6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95F5-2E4F-4C2E-8DBC-C50A3CD8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2A08-D57D-4185-A7B5-1A629021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33D1-FBE2-437B-B50A-32A8A322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8CD8-0194-4A0B-BDED-2BBD1148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53F-2DC6-4A67-A6C5-4921D6AF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A156-2B37-4CD5-A3D4-E8D6CDC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8D87-66F4-4DF5-BF3C-9D29F29C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20C4-E0B0-46D6-9B5C-5349856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0D1B-03BC-4A44-8F20-729CAFC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3D0F-C166-4521-85EA-38E83D6A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BD43-24E9-4430-9BFC-76A43788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065B-EE0F-4BC4-A660-95E6AAD1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5513-D2DC-47B1-8B26-74C08A60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D509-CB32-48D2-9DAF-0655450E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FE04-4564-4CDB-A336-DDED4619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204-0AA5-4950-8743-0ED6FA29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A6D5-A34F-45DD-A899-5B06416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61F47-7CA5-4DD9-A88D-9BCB0017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FC0C-C7C7-4991-8FA4-1204C412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F6FE-24FE-4407-9B42-5616C55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57C7-1122-494F-BC78-67050AB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0E7B7-1F08-4385-A0D5-BE8DF8D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0EB28-C650-4266-9651-FEC3CD2A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EA1B-3EDD-4C4B-8CED-4128979E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251A-3DFB-4015-87CB-E9EAC9F2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784F-65B6-4155-AC78-8DA9E4F5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FFC-BF07-4377-847C-2E15CB24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1760-7AB0-421A-802D-F392061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A99D-0164-4FF8-BC3B-6EB5704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BBCD-D913-4B15-BE71-BAA0FFF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63BB-5755-417E-A75B-7BD0AFF6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146EA-B4A3-479D-A9B9-47524078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6145-0C29-48AE-A9EC-6FF9E94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C36F3-B9D8-40F6-AC87-5050E83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E2F6-EF4E-4C1D-9930-E533DE3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9C88-F40B-4459-981E-559C3981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9A2D-C916-4A0F-AB28-439B9595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5CE-AE29-4CAD-8EA2-4A09BF55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C1D8-977B-45FE-8B66-27C25569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8DF9B-A95A-4BD5-9480-343B9609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D12A7-A124-4B29-859D-1884502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5E1B-6204-4840-8518-02202ABD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849A-F96F-40A1-8AB8-23DE1A59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2FDD-E73A-4E41-9CF6-C2D047CA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D0BE5-1EC3-44B3-A4F2-BCA445A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2A0FA-A1F4-4654-ACC9-F486DB3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28D9-2CB3-4D9B-B8D7-8BF1195C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E1DF-A6F1-433E-84DA-9F880F1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046-4A81-4BF6-A6FD-87F83619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9708-31CC-4C84-80BC-A22FAB06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39C4-671A-4FED-A39A-B1EC7C58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4B4B-EAC3-435B-8552-17340AFC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3A779-9FF6-4466-9ED1-641E09DC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9A4C-C437-4349-AF62-66385B93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A170-C22E-4871-B688-216B48E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1004-D295-4BCA-9561-777EF3A6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E9E4-91AA-4DBD-9AC3-F52A71B6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A58A-E5B9-44C4-ABFD-DB7D5D66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47C1-0976-4FEF-8056-0DC7D84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6B5-0224-4BDE-A1E5-315DE63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463B5-8323-49B0-AE7A-A09A22C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E91E-2D70-42CD-A569-85A2C698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553E-5A5C-4BD8-9F41-B4C71E8D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B6160-DD37-4E59-8CA9-A5803F21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04ECC-356D-4C9D-A349-5A8E6389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4A913-24AE-4091-B6D4-78B3BCD9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E604E-559E-4172-8CF7-8AFB6AE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AE619-F439-40E1-A783-C5C16D6E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FDA0F-CC33-494B-BA17-43614E42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592BA-6460-4DDA-B9A3-71800DB5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1A5-D590-48DD-9DE0-7E13AA4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FA31D-AB28-4456-A722-D40904C6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7CCBC-D37C-410F-9E6B-80147D6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390C0-A6EF-4500-B424-98E9B41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40A2-9A93-41F3-AC00-F7F4E98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BB132-FC81-40E1-9B2D-F12AD759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17F4-C540-4F07-9034-2EE53121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E701-CE06-4359-9C4D-A1D3C9D9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A65D6-1C3C-4421-BA69-44835692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DDB00-3CD2-4B7E-8D34-CF84229C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70604-4DF0-4A5F-8F3E-A3C1E230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7BE4-C11D-452D-BC32-429A9C0AE1F4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2C71-D7CB-40DA-9899-719D6597622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E6FB-34A6-4F64-AD20-C3D5EFBD5AFE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E0F-8D02-430B-96F2-E751F68ED85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9A8-4757-4F00-8375-B1D5E2802690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DF61-10F1-4F05-B271-96F14751125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CCB1-1438-43E1-A3C4-943854B5585B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F5F-38AB-4215-A3D6-48A113893FB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413C-6C99-4E33-9AB2-788F285934BB}" type="datetime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897-4899-4761-92D3-ACB156C2AB8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A0A-1DE8-44FF-BFDF-D1DB14EA62E0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1E2A-3DB4-445B-A173-278E1B52387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BAF-404A-435C-8D04-8FAC6428E427}" type="datetime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F812-BAEC-49AA-BF8A-3E33888EA5C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AE8-8C6E-4954-9E5E-EF863EC755E0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0A6F-67A8-4463-9D92-5903CEC9F5C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C726-F898-43A3-9535-E818691F8ACC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E49F-A4EB-4862-BB4E-100B3A5C51F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5D0-9168-4714-B71C-A23AA987BE0C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B5E-E453-47B2-B922-D8BE46E60B0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E44-F977-496C-AEC1-BDF918488CDE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515-6ABF-4A4E-8D7F-46CB7A9D430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1CD2-686D-4AE5-BC69-574E8166741D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B1A-4591-4715-B796-A07ACD11A90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15920" y="1365120"/>
            <a:ext cx="8547120" cy="189576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3D24-C239-47B9-99CC-5B7CDD7C9674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466C-FCA7-478D-9D01-B8DE792AE48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ED6F-2052-4C2B-8F95-915BC97ED73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B25F-8461-4CB2-B7C9-B51E1DCA34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34A-F7DE-455D-ADF5-2B97610ED76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C4F6-54EE-468B-9F36-1C7E239B5CE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8F3-0464-47E8-8053-5B224F2DAB5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D71B-0AEE-4723-B594-75891D6E8C8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83D-7988-4C0C-82E4-0124310E57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6A02-C484-47A4-9D19-5704F44727B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EB98-4090-4FB1-8966-3F0FEBFB162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1DE-EC13-4D61-BECE-56EB8587239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0DC1-1B07-44E6-AAE9-37EE8A39660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4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95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Pay(hourlyWage, hoursWorked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DA23-E314-49BC-B754-EB1B78B3B2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A878-AAC4-4DF8-BF85-1E40D919016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9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5D4-CAD5-40F3-BCB7-8F03063E947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01E6-D913-438F-8F4D-484018EF13E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6090-2E0D-48F3-A1D0-BE0EBA9BAF9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F530-EC06-4BA5-8FA6-3E807A2B5B5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5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7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AD2C-EDAE-4F4F-B33B-2F45B1EAA1F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6E4-676F-4F78-841A-9DA8770B0F5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A705-D407-4FD8-A17A-C9C2E260259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2C9-379E-4E21-8FFC-FCD6EAAEC5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D09B-8A54-4A9C-9D02-F4CA2C87047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4152-C411-4454-8C7E-5120CAA520B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3A4-6160-4B6F-8C24-4F7348542A0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3830-76E4-49A4-88BF-110F364527F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52E-AF9B-4D3B-A814-DB5CFE6F75D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CEA5-DEAD-42BE-947E-4C1831ECD89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2C12-78C6-428C-B5AD-085719EEEC9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03CF-DC86-455F-A956-9074DA85D2C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E11-65C6-4086-843C-940E043E759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299F-1AC0-4846-8205-7145168FFC2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3A58-7AE7-4B68-AB32-5A2F53C8313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6785-8D91-417C-8EAB-551DA7B31C9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01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8804-DD3B-4493-8DE7-96A87A8EEF1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6AAC-BA44-48EA-8A56-7B65FCDD92E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FE1D-051A-4A2D-B1EF-35DE516CAA5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30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31" name="Straight Arrow Connector 5"/>
          <p:cNvCxnSpPr>
            <a:stCxn id="832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32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37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38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6858-7663-45D9-B1AB-DBEBBDAC8E1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43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44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45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51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52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A624-7AD1-4FA8-982F-B45685590E9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A97F-5CA1-40C9-B3F7-ED1570FCF9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5E7-1BFD-46C5-AE45-53401C6F433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969B-B5E3-4497-BA71-F7BC672917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Math.Rou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DDA-8D95-4639-BC8B-9A603BE7A79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Perc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1AC-7304-4E7C-88FD-3A0FA40C33A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ka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7FE0-A903-4CC6-AA1F-278BDB64074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181E-5F8B-4D2B-B1F3-23BB3CDADC0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sara</cp:lastModifiedBy>
  <dcterms:modified xsi:type="dcterms:W3CDTF">2014-04-02T20:07:07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