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F10A-66C4-45D3-933D-0AF66C583DB7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A12D-CE7B-4824-B682-F755FD93F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C05C-9E08-4DB2-9634-06BBCFCF9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A9AF-CCA9-4464-9894-BE9B27F09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959E-A90D-4AB2-907E-2D6135122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D1C7-08DF-4997-9432-A16DE4761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2673-D4B7-409D-B652-1BB07AD7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5D7D-ED49-4243-B3BD-CB8545525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85B3-1FC3-43F5-9BDF-99CAA2C43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B2B6-46BD-4898-9B92-DDADA849F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E671-6F05-4542-A39E-A60B2BF35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109F-B2F5-48C9-85E0-CE89FAD27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ACA4-A126-4E9E-ADDB-A592934AB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06AB-5BD1-4195-A988-72900CA9D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872A-B32B-435F-833C-0DAEA0CBA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36A3-271B-452D-8000-9A923148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4749-B8CC-41EA-80DB-A6B3A39B6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BD79-B5F7-4D84-BBFD-ACEB40CF0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7005-2ED8-461F-B628-9D8BAC150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4932-F16C-4BBA-B36C-8A3FA942C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8906-7870-4FFC-9BB9-F94D2EA5E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B291-0170-4093-A137-33C26ECF2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24B1-E977-4B16-AD1A-67CC0903C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2861-DC6B-48E8-B84C-5A1175245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7FCA-3068-4C37-8C1D-19A899DE9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BE7-14D9-404A-B3C9-F7303F664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ADAB-B64E-4A2C-861B-D03C5203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8B9D-642D-4602-9954-6D855F62D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3782-01D2-4869-B741-8A1727338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5A8D-FE4B-4235-8C90-A8935A41D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ECBF-9DBE-4AC0-93E2-F8F28FA5A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5B9A-8F77-4E34-9765-BCE862A1D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A9A9-BC7E-47F6-B6CF-3A77C88B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0452-92F1-450E-BDEC-660850425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AFAC-DD43-47AE-85C0-CACE92B11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113A-C4A3-4B6A-954F-207866859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C2A-F40D-4BEE-AA56-1CB4FCEB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847-86FC-40FB-91BA-9388BE90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A7598-364C-4061-AD7A-B12BC73F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082A8-47AD-411B-A753-CD7A16F3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E88A5-B68C-4549-AC68-BA50CBBB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606D3-C646-46CB-80C1-86BDCB78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2B206-A8C3-4A95-98AA-8932DC7F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811EB-8D32-4667-BEB4-C0209E59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CA390-45FE-4F67-B72A-E036E33F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8921D-85A4-4549-9EEC-0D34D296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AB3D3-3DB7-455F-A6F2-9C29CCB7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F8AB8-A09B-43FE-B045-30527808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DB5-49B5-484B-A849-01EE687B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C9A62-21C8-4AA7-B2FA-CF1A1794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88815-1A6D-40D5-A019-7A53F0E1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BEBDD-9764-42E8-8098-E3349D8C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E7D37-367B-4FC1-BC3E-7395DB7B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FA566-0AEB-4852-A015-C8C79968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75CED-8E2F-4D8E-B908-88C2B412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7D077-F3B3-43D3-AA8F-91B31C95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9D55C-BD6A-4408-9F06-BAC9E973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3AE5E-8FFE-4C9C-8EAC-5031A221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F81D3-672A-4AB1-BE98-57A9357E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1AC-5F03-44B4-BEC4-45565A56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D0EA5-9CB1-498E-99C2-B799EBE1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509DC-3729-4F64-9902-C82FACD5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98FDB-F88D-45AB-B5EB-5D5AABA9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CCAF7-7D76-4E0B-850D-49D192D6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C545E-47B3-44B2-AE3F-129F5F8D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DE66A-0AF7-4AAB-9EE7-7CDDA850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64C10-99C1-4119-A83A-1B324746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9D678-C191-483D-853A-E1BE4D76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CA153-F9B5-4B5D-8810-747F16E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E3EC8-6D2F-45A1-B0C9-890326F0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9BD2-794B-42C0-9146-A6FAADFE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5DAAE-613D-433B-A7D2-5BEC424F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D833A-41A5-4237-9EA1-953BAFB6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EE21B-F8FF-4689-803F-6D56E94F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E2D30-BB52-4DA8-8A5F-697E8317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AF14B-C1ED-424C-9B27-93DF87F7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66BA6-A535-4B3A-AFF4-B392B8D2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0D8D5-97AE-4806-B37D-3C2B7564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77903-116B-4792-8F3D-0ADEA40C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A5726-B9C3-483D-BDC4-1287A039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EAEF1-989E-4809-8691-FE85C954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5301-91E9-4A6E-8E2A-5DA22081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28445-6DD3-4210-8BEB-5E18E302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0C304-A9EC-4DDF-A1E2-272214DE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95347-D6C8-4181-A929-9C3224B6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94466-9432-494A-BBCA-5C0D7C8A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A008C-E524-4727-854D-416E8BEF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4802-3BCF-455F-B446-B452F493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B912-4D9A-4590-9909-6B168121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3AEB-9C7E-4D4F-902D-D673FC57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C890-EEC6-468F-AAEE-207EFA8D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11D4-4841-45F4-AF71-23A43559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B6D-2AC2-47CA-8C44-450C316B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1CEC-9541-49FE-B280-87595810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9D06-B858-48F5-AE87-054C467F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CB1B-37CD-4A00-932F-1386E59F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068F-C592-4996-99BF-5AB8DFF8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7711-EEF5-48CD-A5E2-184A010B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91953-D974-44AA-8EF9-66F53635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BF05-FE9F-4FC6-8EB6-A9A6CF22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814A-34DA-4277-9CB0-0C31DDC9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BDB3-16E3-4182-984A-F9B42B67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02BD-4ECA-4EC2-87C6-30F95551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0DD-2807-476D-B602-00B54F17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DED0A-95DB-4D07-A69E-93529191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4E62-4913-4972-B75B-3240DA38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BA8C-2233-44C2-A2F1-76ABEF69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DE80-A309-4914-B901-B1EA8BEA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4CBE2-3435-4D4B-8FEF-60674F07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AC6FA-13C7-45AF-80AA-90AE441B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FC960-58C1-4E5C-ACDC-6D02628D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92FF4-8BA7-4886-8508-29176478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D224-D41C-4A05-8ACA-96394061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40601-6F49-4549-B703-A3CA4951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D2E-BA6F-43AC-9A74-2DA8C39A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7E64-CE69-47E3-98CB-82E37A57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D06CE-9E8D-446A-B2DF-25D6382D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B071A-91F8-40E2-B463-77172D21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F29E-51FA-4A9A-8A12-6A25BAC5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6CDE6-6D56-4F59-9AE7-9618F452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7C805-F6CC-4B13-BCC6-12BC70CD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F8407-FFA7-41BB-959A-32A112EC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42FC-55D8-463B-A7C2-519F01DB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B71C8-5D48-4E87-8A99-FEA8205C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29C68-811C-4E0D-8000-952163A7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00C-0160-43D8-AF05-8FC5CE16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C6030-7390-4160-BF34-98EF5011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D53E6-091E-45B7-972E-3DADCE3F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DE8F3-BB49-49FA-890E-B1512256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7D9D3-1279-4A81-A3BC-A5B4B035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CF42-08F1-4FE0-876F-542D97A1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3D5DE-D938-4070-B42C-88DE45EA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578F4-6616-4B0D-A8CD-43772134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5B2FA-C37A-4A68-9D6B-425D4A1A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D5351-99CB-4793-BCD7-6A942160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6FF1-87A8-4DB9-B2E4-DBD8CB7C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EAC-05D4-4790-8601-C642AE40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04E7A-8731-4D7C-9EDB-5EDD213E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6424F-5A28-4D4C-A7ED-5CE240E5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520D6-6151-4810-BB61-7388A773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D25B-6CBB-445F-9484-3CA24C3D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AB390-2332-47BC-A5F4-D889F35E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02CC1-0653-424F-9B46-F48D1C3C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C7CA5-06C5-42E6-BDE9-6F84A077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AD760-8E81-4860-9327-078CC6E3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B9590-21E8-419E-9BF2-639F3B7D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275F4-EDA0-4EB3-ACCE-F9D8A4C3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745-2FD4-40C2-BF61-5E2EBF1A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6A2CC-1C9B-4659-A478-177AF288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CD833-ED62-415E-8837-647772BF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2AFB7-8876-49D8-AE3F-7FF9F177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9EF85-EB86-4569-837E-7CAEBAA2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D6E44-D67C-4AC8-9BC7-7331E495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6532C-023C-473C-B3A4-F838681A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F6048-D298-4C1E-88AB-FB3753FB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8911A-9FB0-4714-9CAB-33483CBC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A7A30-5C9B-4684-B5AC-B063CB5C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EFB4-F14E-40F0-8AB8-3FD01CD5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B9B-BECC-46C3-BB5B-E7D3625A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419A6-E003-4F57-B1DE-361C85FB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8B4C5-610B-4B47-B7EC-28641451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02BC1-8B68-488B-AF10-D3869326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7B90C-F9D8-4E62-855C-4496248E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5FC41-B08C-4085-9D4E-947267ED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1D104-BF14-495F-B17E-E871B30A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29AAD-EF66-457D-836F-38DC3914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18EDD-7D08-4D47-A934-B4D3CD66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CDF23-2FD1-415B-B7BE-E5E2DC5C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0D075-B564-4BC0-9EBB-BD42C818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4EE-AA8E-45B1-9AD9-9175489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02FF1-618B-4EE9-A155-C98B0E9A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6D57B-62C7-46CE-AA36-63F5B536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F63E7-0E4C-4EEF-80A6-4E3217DC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FF875-D0E6-4241-8AD0-E1E8A943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677C-DA3A-44B6-9600-2173E928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6B8AA-A2EB-4DDF-9153-3A55DBAA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06E7F-6407-45D6-8AD9-1AF5ECBF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FE083-62CD-4E8C-8DD0-C12FB75A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BD523-CD6D-4334-8281-233D7034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10502-8B38-42FD-A6DF-37643806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E760-A1DE-41DE-A8D2-D2C103420DB6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99EF-039F-4440-BE37-0A5426E4BC3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17C2-3110-4C2B-9DB5-D7ED60BC9BA1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D0B7-F314-4FCA-B97F-6A1D0CF53625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F86F-24CB-4E1C-A3C6-A835E93466AA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1C09-50CB-4933-AEF1-0B3D88105EE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CAA8-1305-4BB1-A102-07EFE96618F1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7000-072C-40DA-B131-611D33C7BA1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BF5F-F766-49C1-9F1B-BA5AD9BA4D7F}" type="datetime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DF84-D3D1-4F5D-ADBF-009F734F514E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A10F-7CDB-48F7-9591-8DED57F1D723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B5ED-97DA-4BE5-B326-A7A39AE61D5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4F0F-FA9C-455C-B1F2-8CF68927DA56}" type="datetime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0840-656F-4B71-BC78-DF6AFA52E2F6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E6E4-A789-4C31-82EE-BC92AB15C60E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698D-33B4-480D-B868-6B9B405FC4F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8A29-185F-4816-A4EB-282FA9C05AA6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4171-04AB-4370-839B-5EA2FDC33A3A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4539-C74E-4E61-ABDC-8439AF5A15D0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8165-4F68-4D57-A213-71DE86CF565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DA03-1421-4440-860D-3EA738B5554B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527E-4EB0-47F6-AFA3-F2BAEC3B73D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6EFF-E86D-462A-A75A-8655E8B9E268}" type="datetime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87AD-9019-4AD0-BEBA-1D74EEDD18A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115920" y="1365120"/>
            <a:ext cx="8547120" cy="189576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648F-9ACC-4ACD-8CEA-072E74E89F72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7842-054C-4889-AEB8-59F77B201A6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7086600" y="3195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7086600" y="4871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41" name="Content Placeholder 10" descr="5-1-1.tif"/>
          <p:cNvPicPr/>
          <p:nvPr/>
        </p:nvPicPr>
        <p:blipFill>
          <a:blip r:embed="rId1"/>
          <a:stretch/>
        </p:blipFill>
        <p:spPr>
          <a:xfrm>
            <a:off x="380880" y="2286000"/>
            <a:ext cx="6616800" cy="3429000"/>
          </a:xfrm>
          <a:prstGeom prst="rect">
            <a:avLst/>
          </a:prstGeom>
          <a:ln w="0">
            <a:noFill/>
          </a:ln>
        </p:spPr>
      </p:pic>
      <p:sp>
        <p:nvSpPr>
          <p:cNvPr id="642" name="Line 6"/>
          <p:cNvSpPr/>
          <p:nvPr/>
        </p:nvSpPr>
        <p:spPr>
          <a:xfrm flipH="1">
            <a:off x="6019920" y="34243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Line 8"/>
          <p:cNvSpPr/>
          <p:nvPr/>
        </p:nvSpPr>
        <p:spPr>
          <a:xfrm flipH="1">
            <a:off x="6095520" y="5100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Footer Placeholder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Using Func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nvert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nv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FtoC(fTemp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3CE6-253E-445B-B281-D755AEC0202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52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ithout Using Fun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85A0-8622-4CA6-ADEA-D7E4DDDF4BF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520" y="1981080"/>
            <a:ext cx="85741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_Click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_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5 / 9) *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C405-9600-4BB7-8BA4-F626153F625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5" name="Content Placeholder 6" descr="5-1-1R.tif"/>
          <p:cNvPicPr/>
          <p:nvPr/>
        </p:nvPicPr>
        <p:blipFill>
          <a:blip r:embed="rId1"/>
          <a:stretch/>
        </p:blipFill>
        <p:spPr>
          <a:xfrm>
            <a:off x="1308240" y="2514600"/>
            <a:ext cx="6616440" cy="3429000"/>
          </a:xfrm>
          <a:prstGeom prst="rect">
            <a:avLst/>
          </a:prstGeom>
          <a:ln w="0">
            <a:noFill/>
          </a:ln>
        </p:spPr>
      </p:pic>
      <p:sp>
        <p:nvSpPr>
          <p:cNvPr id="6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1346-E6AE-4880-979E-A25B110CF00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Several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ay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age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uble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 Total amount of salary per ho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elect 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=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h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the wage (salary/hour) increases 50% per every extra hour (extra hours &gt;4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40 +(0.5 * wage * (hrs – 40)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el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3DCC-6136-422A-B34E-72BC0F4EE0C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56386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W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5791320" y="3805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5" name="Content Placeholder 10" descr="5-1-3.tif"/>
          <p:cNvPicPr/>
          <p:nvPr/>
        </p:nvPicPr>
        <p:blipFill>
          <a:blip r:embed="rId1"/>
          <a:stretch/>
        </p:blipFill>
        <p:spPr>
          <a:xfrm>
            <a:off x="717480" y="2209680"/>
            <a:ext cx="4692600" cy="3961080"/>
          </a:xfrm>
          <a:prstGeom prst="rect">
            <a:avLst/>
          </a:prstGeom>
          <a:ln w="0">
            <a:noFill/>
          </a:ln>
        </p:spPr>
      </p:pic>
      <p:sp>
        <p:nvSpPr>
          <p:cNvPr id="666" name="Line 8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Line 6"/>
          <p:cNvSpPr/>
          <p:nvPr/>
        </p:nvSpPr>
        <p:spPr>
          <a:xfrm flipH="1">
            <a:off x="4800240" y="3357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5867280" y="5329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Earning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Line 8"/>
          <p:cNvSpPr/>
          <p:nvPr/>
        </p:nvSpPr>
        <p:spPr>
          <a:xfrm flipH="1">
            <a:off x="480024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Partial C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28600" y="1981080"/>
            <a:ext cx="87631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_Click(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_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.Click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hourlyWage, hoursWorkded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lyWage = txtWage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sWorked = txtHours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xtEarnings.Text =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ormatCurrency(Pay(hourlyWage, hoursWorked)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84C4-E34E-4B7A-BD5E-4B88DE4F7CF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33526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Up Arrow 6"/>
          <p:cNvSpPr/>
          <p:nvPr/>
        </p:nvSpPr>
        <p:spPr>
          <a:xfrm>
            <a:off x="3886200" y="495288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97BD-7494-4471-B4ED-515571ED9B3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5410080" y="51055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0" name="Content Placeholder 7" descr="5-1-3R.tif"/>
          <p:cNvPicPr/>
          <p:nvPr/>
        </p:nvPicPr>
        <p:blipFill>
          <a:blip r:embed="rId1"/>
          <a:stretch/>
        </p:blipFill>
        <p:spPr>
          <a:xfrm>
            <a:off x="2286000" y="2286000"/>
            <a:ext cx="4335480" cy="3657600"/>
          </a:xfrm>
          <a:prstGeom prst="rect">
            <a:avLst/>
          </a:prstGeom>
          <a:ln w="0">
            <a:noFill/>
          </a:ln>
        </p:spPr>
      </p:pic>
      <p:sp>
        <p:nvSpPr>
          <p:cNvPr id="68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3A6-487B-49F7-B425-2F99EBB596C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600" y="209700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OfItem(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ic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Pric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quantity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Quantity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 = price *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84BA-A845-4599-BFA7-1E02D29D84A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Several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ay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age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uble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 Total amount of salar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elect 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=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h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the wage (salary/hour) increases 50% per every extra hour (extra hours &gt;4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40 +(0.5 * wage * (hrs – 40)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el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B2CD-C1B7-4F45-A426-9317872F2D5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73604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ular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881D-7942-4395-A261-E4D74C958E8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56386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W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5791320" y="3805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4" name="Content Placeholder 10" descr="5-1-3.tif"/>
          <p:cNvPicPr/>
          <p:nvPr/>
        </p:nvPicPr>
        <p:blipFill>
          <a:blip r:embed="rId1"/>
          <a:stretch/>
        </p:blipFill>
        <p:spPr>
          <a:xfrm>
            <a:off x="717480" y="2209680"/>
            <a:ext cx="4692600" cy="3961080"/>
          </a:xfrm>
          <a:prstGeom prst="rect">
            <a:avLst/>
          </a:prstGeom>
          <a:ln w="0">
            <a:noFill/>
          </a:ln>
        </p:spPr>
      </p:pic>
      <p:sp>
        <p:nvSpPr>
          <p:cNvPr id="695" name="Line 8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Line 6"/>
          <p:cNvSpPr/>
          <p:nvPr/>
        </p:nvSpPr>
        <p:spPr>
          <a:xfrm flipH="1">
            <a:off x="4800240" y="3357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TextBox 11"/>
          <p:cNvSpPr/>
          <p:nvPr/>
        </p:nvSpPr>
        <p:spPr>
          <a:xfrm>
            <a:off x="5867280" y="5329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Earning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Line 8"/>
          <p:cNvSpPr/>
          <p:nvPr/>
        </p:nvSpPr>
        <p:spPr>
          <a:xfrm flipH="1">
            <a:off x="480024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Partial C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28600" y="1981080"/>
            <a:ext cx="87631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_Click(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_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.Click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hourlyWage, hoursWorkded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lyWage = txtWage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sWorked = txtHours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xtEarnings.Text = Pay(hourlyWage, hoursWorked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3C06-3B82-4569-9D0D-6EAEA9CE956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TextBox 5"/>
          <p:cNvSpPr/>
          <p:nvPr/>
        </p:nvSpPr>
        <p:spPr>
          <a:xfrm>
            <a:off x="33526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Up Arrow 6"/>
          <p:cNvSpPr/>
          <p:nvPr/>
        </p:nvSpPr>
        <p:spPr>
          <a:xfrm>
            <a:off x="3886200" y="495288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110E-0B05-4FE0-AFB5-F2FEAD89444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5410080" y="51055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9" name="Content Placeholder 7" descr="5-1-3R.tif"/>
          <p:cNvPicPr/>
          <p:nvPr/>
        </p:nvPicPr>
        <p:blipFill>
          <a:blip r:embed="rId1"/>
          <a:stretch/>
        </p:blipFill>
        <p:spPr>
          <a:xfrm>
            <a:off x="2286000" y="2286000"/>
            <a:ext cx="4335480" cy="3657600"/>
          </a:xfrm>
          <a:prstGeom prst="rect">
            <a:avLst/>
          </a:prstGeom>
          <a:ln w="0">
            <a:noFill/>
          </a:ln>
        </p:spPr>
      </p:pic>
      <p:sp>
        <p:nvSpPr>
          <p:cNvPr id="710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CDDC-51AE-4F5B-B8FE-CDFE75026A7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28600" y="209700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OfItem(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ic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Pric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quantity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Quantity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 = price *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6074-9614-46F6-BFB6-DBF1FD835AC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Boolean-Valued Fun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IsVowelWord(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word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A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                               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Boolea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A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U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72D0-AF97-42FA-B44C-580BBF7A955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ing and Calling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riables and Expressions as Argu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Calling Other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9F41-7607-4080-9878-AF02C7B2B0C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Form of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25" name="Picture 5" descr="DefineSub.tif"/>
          <p:cNvPicPr/>
          <p:nvPr/>
        </p:nvPicPr>
        <p:blipFill>
          <a:blip r:embed="rId1"/>
          <a:stretch/>
        </p:blipFill>
        <p:spPr>
          <a:xfrm>
            <a:off x="609480" y="2438280"/>
            <a:ext cx="6842160" cy="2503440"/>
          </a:xfrm>
          <a:prstGeom prst="rect">
            <a:avLst/>
          </a:prstGeom>
          <a:ln w="0">
            <a:noFill/>
          </a:ln>
        </p:spPr>
      </p:pic>
      <p:sp>
        <p:nvSpPr>
          <p:cNvPr id="72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7730-4658-4F26-ADA1-E2D2E17F62F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ling a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214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tement that invokes /calls a Sub procedure is referred to as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lling state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lling statement looks like th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Name(arg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...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EECF-85F6-43AB-8090-59C605AD54F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ming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ules for naming Sub procedures are the same as the rules for naming vari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1653-9FC1-4032-96DE-86FADF96B5F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Val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 2, 3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z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 = num1 + num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sum of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num1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and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amp; num2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is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z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 Sub procedure, 2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3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4"/>
          <p:cNvSpPr/>
          <p:nvPr/>
        </p:nvSpPr>
        <p:spPr>
          <a:xfrm flipH="1">
            <a:off x="4648320" y="2276640"/>
            <a:ext cx="86040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Line 5"/>
          <p:cNvSpPr/>
          <p:nvPr/>
        </p:nvSpPr>
        <p:spPr>
          <a:xfrm>
            <a:off x="6300720" y="2276640"/>
            <a:ext cx="17002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F3EE-DF63-4EA5-A45A-EFE647E7985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vices for Modula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ual Basic has two ways for breaking problems into smaller pie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unction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ub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1BCB-8D86-4DD2-BCD1-C1FF4DA5C98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guments and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Line 6"/>
          <p:cNvSpPr/>
          <p:nvPr/>
        </p:nvSpPr>
        <p:spPr>
          <a:xfrm flipV="1">
            <a:off x="335268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Line 7"/>
          <p:cNvSpPr/>
          <p:nvPr/>
        </p:nvSpPr>
        <p:spPr>
          <a:xfrm flipV="1">
            <a:off x="388620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Line 8"/>
          <p:cNvSpPr/>
          <p:nvPr/>
        </p:nvSpPr>
        <p:spPr>
          <a:xfrm>
            <a:off x="335268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457200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5181480" y="3213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Line 11"/>
          <p:cNvSpPr/>
          <p:nvPr/>
        </p:nvSpPr>
        <p:spPr>
          <a:xfrm>
            <a:off x="2895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4267080" y="36450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Line 13"/>
          <p:cNvSpPr/>
          <p:nvPr/>
        </p:nvSpPr>
        <p:spPr>
          <a:xfrm>
            <a:off x="8229600" y="3645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Line 14"/>
          <p:cNvSpPr/>
          <p:nvPr/>
        </p:nvSpPr>
        <p:spPr>
          <a:xfrm>
            <a:off x="4267080" y="364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Line 15"/>
          <p:cNvSpPr/>
          <p:nvPr/>
        </p:nvSpPr>
        <p:spPr>
          <a:xfrm>
            <a:off x="7086600" y="3645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038480" y="50371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play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Line 17"/>
          <p:cNvSpPr/>
          <p:nvPr/>
        </p:nvSpPr>
        <p:spPr>
          <a:xfrm flipV="1">
            <a:off x="3352680" y="4655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Line 18"/>
          <p:cNvSpPr/>
          <p:nvPr/>
        </p:nvSpPr>
        <p:spPr>
          <a:xfrm flipV="1">
            <a:off x="7086600" y="4655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Line 19"/>
          <p:cNvSpPr/>
          <p:nvPr/>
        </p:nvSpPr>
        <p:spPr>
          <a:xfrm>
            <a:off x="3352680" y="5265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Line 21"/>
          <p:cNvSpPr/>
          <p:nvPr/>
        </p:nvSpPr>
        <p:spPr>
          <a:xfrm>
            <a:off x="6019920" y="534204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Footer Placeholder 19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FA58-8879-4666-A653-81CE083FDE3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veral Calling Stat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4, 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7, 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Constantia"/>
              </a:rPr>
              <a:t>Outpu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2 and 3 is 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4 and 6 is 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7 and 8 is 1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CA3D-AB5C-4133-A413-41324E8911B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Strings and Numb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  <a:ea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3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stat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38,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uld not be valid. The types of the arguments must be in the same order as the types of the parame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Line 6"/>
          <p:cNvSpPr/>
          <p:nvPr/>
        </p:nvSpPr>
        <p:spPr>
          <a:xfrm flipH="1">
            <a:off x="3419280" y="2362320"/>
            <a:ext cx="1076040" cy="20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Line 7"/>
          <p:cNvSpPr/>
          <p:nvPr/>
        </p:nvSpPr>
        <p:spPr>
          <a:xfrm>
            <a:off x="5562720" y="236232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7145-7F25-41AF-A2F6-12AB048E976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ariables and Expressions as Argu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s, 2 * 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argument names need not match the parameter names. For instance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versu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 Procedure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228600" y="1981080"/>
            <a:ext cx="87264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Clear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is program displays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name and populati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of a state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6C6B-1BC0-49A7-AB6E-0C49C852519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6F40-E3BD-4B32-96EC-D05CFEF3F89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617b"/>
                </a:solidFill>
                <a:latin typeface="Calibri"/>
              </a:rPr>
              <a:t>Sub Procedure Calling Another Sub Procedure</a:t>
            </a: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26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tnDisplay_Click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_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tnDisplay.Cli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37)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program displ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ame and pop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f a st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 has population 37 mill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E2D9-678E-4F0C-A0F6-EABD9844E9F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6642-FFAA-4624-968F-E562618C443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Valu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that Return a Singl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 and Scope of Variables and Consta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bug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9B9C-19C9-4C01-B319-73403EAED3B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yVal and ByRe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249280"/>
            <a:ext cx="796464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meters in Sub procedure headers are proceeded by ByVal or ByRe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Val stands for By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Ref stands for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AD5C-E7BB-4296-A845-CC8FFFA1979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Valu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Val parameter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just the value of the argument is pass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ends, the variable has its original val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7769-453C-44DE-85D1-806387D32FE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One Param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Several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No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Boolean-Valued Fun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FB40-5A9B-4EB3-9A73-1B38ABF269D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324000" y="1341360"/>
            <a:ext cx="8496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801" name="Straight Arrow Connector 5"/>
          <p:cNvCxnSpPr/>
          <p:nvPr/>
        </p:nvCxnSpPr>
        <p:spPr>
          <a:xfrm flipH="1">
            <a:off x="2050560" y="2637000"/>
            <a:ext cx="3601440" cy="7200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02" name="Straight Arrow Connector 6"/>
          <p:cNvCxnSpPr/>
          <p:nvPr/>
        </p:nvCxnSpPr>
        <p:spPr>
          <a:xfrm flipH="1">
            <a:off x="3419280" y="2636640"/>
            <a:ext cx="2232720" cy="1152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03" name="TextBox 9"/>
          <p:cNvSpPr/>
          <p:nvPr/>
        </p:nvSpPr>
        <p:spPr>
          <a:xfrm>
            <a:off x="565164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TextBox 10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TextBox 11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TextBox 12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TextBox 13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TextBox 14"/>
          <p:cNvSpPr/>
          <p:nvPr/>
        </p:nvSpPr>
        <p:spPr>
          <a:xfrm>
            <a:off x="7380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Footer Placeholder 1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5EE8-53D0-4237-AA3B-A918F3A7DAA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ame Example: n    num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324000" y="1268280"/>
            <a:ext cx="835164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5796000" y="981000"/>
            <a:ext cx="380880" cy="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814" name="Straight Arrow Connector 5"/>
          <p:cNvCxnSpPr/>
          <p:nvPr/>
        </p:nvCxnSpPr>
        <p:spPr>
          <a:xfrm flipH="1">
            <a:off x="2410920" y="2636640"/>
            <a:ext cx="3674160" cy="1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15" name="Straight Arrow Connector 6"/>
          <p:cNvCxnSpPr/>
          <p:nvPr/>
        </p:nvCxnSpPr>
        <p:spPr>
          <a:xfrm flipH="1">
            <a:off x="3418920" y="3068640"/>
            <a:ext cx="2665800" cy="72144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16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same as the parameter name (num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TextBox 12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TextBox 13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TextBox 14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TextBox 15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TextBox 16"/>
          <p:cNvSpPr/>
          <p:nvPr/>
        </p:nvSpPr>
        <p:spPr>
          <a:xfrm>
            <a:off x="738036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Footer Placeholder 1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CB26-FAA7-46B5-BB88-6E2D759C5D8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Referenc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Ref parameter, the parameter is given the same memory location as the arg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terminates, the variable has the value of the parame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AB64-D2C5-4AD3-B09E-8DFFD17DE96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457200" y="1341360"/>
            <a:ext cx="822960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.Clic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830" name="Straight Arrow Connector 4"/>
          <p:cNvCxnSpPr/>
          <p:nvPr/>
        </p:nvCxnSpPr>
        <p:spPr>
          <a:xfrm flipH="1" flipV="1">
            <a:off x="2555640" y="2565000"/>
            <a:ext cx="3529440" cy="216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31" name="Straight Arrow Connector 5"/>
          <p:cNvCxnSpPr>
            <a:stCxn id="832" idx="1"/>
          </p:cNvCxnSpPr>
          <p:nvPr/>
        </p:nvCxnSpPr>
        <p:spPr>
          <a:xfrm flipH="1">
            <a:off x="3491640" y="3182400"/>
            <a:ext cx="2520360" cy="3913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32" name="TextBox 6"/>
          <p:cNvSpPr/>
          <p:nvPr/>
        </p:nvSpPr>
        <p:spPr>
          <a:xfrm>
            <a:off x="6012000" y="27208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the same as parameter name (num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TextBox 15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TextBox 17"/>
          <p:cNvSpPr/>
          <p:nvPr/>
        </p:nvSpPr>
        <p:spPr>
          <a:xfrm>
            <a:off x="6804000" y="573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TextBox 18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837" name="Straight Arrow Connector 22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38" name="Footer Placeholder 1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527E-9FFF-48B3-B029-AAA9882B853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ample: num     n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Text Box 3"/>
          <p:cNvSpPr/>
          <p:nvPr/>
        </p:nvSpPr>
        <p:spPr>
          <a:xfrm>
            <a:off x="457200" y="1268280"/>
            <a:ext cx="829152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tnOne_Click(...)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_Clic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Line 4"/>
          <p:cNvSpPr/>
          <p:nvPr/>
        </p:nvSpPr>
        <p:spPr>
          <a:xfrm>
            <a:off x="5796000" y="907920"/>
            <a:ext cx="533520" cy="0"/>
          </a:xfrm>
          <a:prstGeom prst="line">
            <a:avLst/>
          </a:prstGeom>
          <a:ln w="255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843" name="Straight Arrow Connector 5"/>
          <p:cNvCxnSpPr/>
          <p:nvPr/>
        </p:nvCxnSpPr>
        <p:spPr>
          <a:xfrm flipH="1" flipV="1">
            <a:off x="2267640" y="2564640"/>
            <a:ext cx="3744360" cy="7236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44" name="Straight Arrow Connector 6"/>
          <p:cNvCxnSpPr/>
          <p:nvPr/>
        </p:nvCxnSpPr>
        <p:spPr>
          <a:xfrm flipH="1">
            <a:off x="3563640" y="3068280"/>
            <a:ext cx="2521440" cy="577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45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TextBox 16"/>
          <p:cNvSpPr/>
          <p:nvPr/>
        </p:nvSpPr>
        <p:spPr>
          <a:xfrm>
            <a:off x="651672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TextBox 17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TextBox 18"/>
          <p:cNvSpPr/>
          <p:nvPr/>
        </p:nvSpPr>
        <p:spPr>
          <a:xfrm>
            <a:off x="7236000" y="566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TextBox 19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851" name="Straight Arrow Connector 21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52" name="Footer Placeholder 1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ost Common Use of ByRef: Get Input (Read Inpu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Data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  <a:ea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Wag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rs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Hours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694D-0BA0-4D4C-A97F-2955B41F1EF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2C3A-B657-4132-8009-24F5460D9B2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ifetime and Scope of a Variable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: Period during which it remains in memo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ope: In Sub procedures, defined same as in event proced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a variable is declared in procedure A that calls procedure B. While procedure B executes, the variable is alive, but out of sco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1802-49AE-4FE9-9801-2F14D3C6DE4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 vs.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perform similar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call other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 function when you want to return one and only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A19D-F136-4295-8A34-CF60FA94B09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ome Built-In Func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TextBox 66"/>
          <p:cNvSpPr/>
          <p:nvPr/>
        </p:nvSpPr>
        <p:spPr>
          <a:xfrm>
            <a:off x="380880" y="1828800"/>
            <a:ext cx="6934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I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t(2.6) is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Math.Roun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Math.Round(1.23, 1) is 1.2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98A8-2DD7-4511-AF07-530B3FF283B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ome Built-In Functions (continue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TextBox 66"/>
          <p:cNvSpPr/>
          <p:nvPr/>
        </p:nvSpPr>
        <p:spPr>
          <a:xfrm>
            <a:off x="0" y="1981080"/>
            <a:ext cx="88390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FormatPerc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FormatPercent(0.12, 2) is 12.00%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Format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FormatNumber(12.62, 1) is 12.6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3EE9-499E-4219-9780-4E81AD04B1F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s (aka user-defined functions) always return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ntax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unctionN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1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2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ReturnD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ataT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With One Parame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'Convert Fahrenheit temp to Celsi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5E56-7469-431C-95E2-4D00DBD13CE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66978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eader of the FtoC Function Procedu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34" name="Content Placeholder 5" descr="fig5-1.tif"/>
          <p:cNvPicPr/>
          <p:nvPr/>
        </p:nvPicPr>
        <p:blipFill>
          <a:blip r:embed="rId1"/>
          <a:stretch/>
        </p:blipFill>
        <p:spPr>
          <a:xfrm>
            <a:off x="41400" y="2895480"/>
            <a:ext cx="9026280" cy="2025720"/>
          </a:xfrm>
          <a:prstGeom prst="rect">
            <a:avLst/>
          </a:prstGeom>
          <a:ln w="0">
            <a:noFill/>
          </a:ln>
        </p:spPr>
      </p:pic>
      <p:sp>
        <p:nvSpPr>
          <p:cNvPr id="63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D40-781F-4581-9FCC-F72BD0758A7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2:39:50Z</dcterms:created>
  <dc:creator>Maysoon</dc:creator>
  <dc:description/>
  <dc:language>en-US</dc:language>
  <cp:lastModifiedBy>sara</cp:lastModifiedBy>
  <dcterms:modified xsi:type="dcterms:W3CDTF">2014-04-02T20:07:07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