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FE38-3BA3-4A65-8F06-9668981FC49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BD9C-A56F-4795-8DB3-87B3846796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96E1-F3EF-4E83-A035-3049BCE448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79CD-44B9-4047-B6E5-E933880783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2FE9-33E2-409F-AAA5-BEA8787AEB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7B6B-123E-4853-82AB-92C919B497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E087-6E44-4CF4-92FE-E53F0BB832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71C4-655C-4FC7-B59C-B18940F17D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262F-0B66-4638-9C76-68D18E41EA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7659-CBCE-4E3C-A685-47A388E5D3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52A4-5B02-4D72-B69D-B6FD808025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44DF-F97C-4FA7-91E6-EE4FE6AA4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AC0D-AC5F-411D-BB75-D945CEF32F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70D9-7FB6-4979-A1CF-DDD585B726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75E1-9C0D-4DF1-9B0E-13CD45C47D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DCB8-4BA9-42E0-A18A-60647B39B0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2826-063E-47C0-80C1-BE5B02FAC8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EDE4-B736-4667-98BF-57E0CA1BBC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BD65-73B4-498E-8338-FFC4B6F549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752A-AFD8-484C-B5E6-F8EEEAF896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09D6-D531-4B91-A095-DCBCAF7F68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6C75-7E44-4E27-A246-7D9291AD09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DF42-1C84-4202-B678-17E763B88A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55F2-3A24-4532-834E-9B17DD1CE9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DAE8-E00B-4568-A090-6AA55502D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FEEC-45B3-4C43-B05D-33E10AACC3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0C73-98C1-42BF-AABD-BA57FA2F05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CB82-A9CA-43E3-9506-204DB83CAD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C179-A187-442B-8E94-ED8334145B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3630-2365-4B48-8DA0-245A7D1266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38D2-2637-426B-A745-A62DE4DA26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E56F-6E1D-44E7-96F9-5CB1EBCEB5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E5F-8D4B-4BA2-9D33-DB0C5C92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1EB-755C-4889-92EF-1461A0A8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F8B4F-72C2-47AB-B8C2-C5F51AA6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9A54B-4CE7-4B46-9E07-DD9E6336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E86B9-183D-41E3-9E0E-3CCD1DD4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3AFD3-C865-4D24-A25C-99B0DFF0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3DFB0-801C-4DD1-8A32-FDA4C591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EFE5E-4E9E-4795-A3A0-443711D6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19DDB-2159-4679-9A43-86AD9BA2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F8FDB-AEEB-4133-8B16-27AB43DE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0B442-BD5F-49F3-B3EA-5910D547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B6F2D-8CF9-433F-B3F7-EE5551D8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707-C911-49D7-A675-9285A7A5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06EC0-D52C-45AF-8E43-723B29B3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815D7-6A42-4166-A6B5-68CBDD3B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FFB41-67EB-451B-A348-A91694A4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38A2E-CA60-4CA2-872F-FDAE9338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A99B7-5E21-4490-860E-219A6407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38EA7-E659-47A1-854D-BABDF655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FF5F5-B8CB-44B6-8E97-4145E00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029B9-828E-4EF1-9F8B-8E68C5FE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A9336-A91C-4417-AD29-9DFDFFF9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CAF20-30F7-4CE2-A99E-CE32D486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D13-2603-4318-B994-AB7D8821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D4F06-2FCF-4473-8E41-C2E42D79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B776E-148D-488A-AB37-DA98E457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F9DDF-F8B4-4E94-ACDC-4975382C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42804-57D1-41B1-B7F6-45BAD5E7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71C14-1627-4627-8EB5-75F2F94A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B7DA6-0C76-48D5-8991-AF230990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D9D98-0377-427D-8193-EDF907ED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7C3C0-5C30-49FE-8909-41923249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49C85-4C6A-4AF6-98D1-37FAB938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9A383-AD0B-44E4-B665-BE25AF3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2B90-3598-4BA8-B0EF-DFEF5401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6C060-12A8-44B1-8FDD-C1FD64C4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737C5-66F3-4F3A-9575-3174F651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3693F-0547-451C-B74F-C0FD7604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4B3C2-F6B9-4BF7-A35E-F6A37CD3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C21E2-882B-457B-96DE-684DDD1A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85E0E-F532-4F72-B2F2-CEDC1185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CBD62-9A91-418B-92AB-E3D79B26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B33F3-298E-424A-B549-9CEDBDE9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4C9C7-FAD6-4179-B753-9C0C8E71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24F8F-66E9-4DB2-8052-F7C4683B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1C20-DEE2-4E0E-9BEA-81648860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C33D6-3B9C-439D-BC7B-C30A0ADD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BC3C0-DA7D-4051-9133-7C2351B3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C51A8-90A0-4351-B556-64605AA9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5BAAA-4BDD-4D16-8FA8-5683321C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D6B87-5572-41E1-8690-046446EC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3785-2427-4100-A0F4-77613283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79E4-9D27-420F-B3CA-EEB288F1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6A94-C888-43D6-9B34-7D7AA4A8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B5C9-0850-4F0E-9EC2-27E4BFC2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237F-AA19-4967-B13C-FFA993A4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991-36F0-405D-AA8E-492F538E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349D-55EA-4518-8D35-EFBAA88F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9FD3-012B-4B5F-B529-AEA1ADF9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4C40-C35A-47CD-AA90-2550E1D5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1DEA-C2B6-45E5-B58C-83577268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B106-ECE1-49BB-A9A6-411676D9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E904-AE80-42FA-AED3-3E9E5F05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6E5F-DD20-429E-90DC-979EE439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9805-796E-485F-952D-34DEC70F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205C-06B5-48B4-8D57-C78764DA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6243-744E-4980-AE7F-22D5721E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94F-FCF2-47B3-9459-ACABE06C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A8C99-AC5B-4F7D-9D43-26EF9C08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0A3C-3179-446D-95B8-C869A3D7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B8E7-3348-43BE-BD69-163A67FD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67EF-E230-4739-A52A-9454306B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A195-DC1E-4FD7-A5EB-B0590053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C15D-D0D7-437D-B4E1-C4DB0017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315D1-B643-467B-A2B5-B8A6B949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29858-CDF8-40F5-A0F2-4E734188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7C09-C2FC-472C-8AB9-E6AF51D1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87B7-2F6A-4D99-A543-2CA8DFB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55B-9DFC-445F-B650-A6926336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EBEE9-B019-4DF3-9D5A-6E019F85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1876-2EF2-4EF2-8BC5-4A0B3FE1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9AB2-596C-4A66-9B87-56F84BD9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C2D3-A59F-4316-A903-322D91CD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9847C-449E-4BBA-836B-4F6DC9A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CF108-1C29-418A-B9F9-B9542893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21B8-6CD3-46B4-BB7C-AA048731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8AD61-08BD-463C-92F3-C0AD50DA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1542-A82B-4614-B9AE-0DE8F2F9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2E428-BFE0-429E-BFE4-C7CD9C7C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ACE-6EDB-4E29-810E-BE717A26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AFD55-8AF3-4626-AF5D-D1EEE051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6DD5-62D7-4B2C-B5BB-221F3A2A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E29F-4214-4365-A8D0-1DF6BFF5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F4D32-E256-4A41-A940-C747ACB0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9065-9603-4245-A9FD-6BED5FF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2E4EE-DC1E-4220-AACD-7201090C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7B15A-35AF-4C84-A2CC-CA89F837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24A09-16AA-4344-8C68-85CCF298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04728-016C-4267-8B78-A24CEF39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C8AA9-6285-40C0-AC2C-ACE08AB2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956-710C-472C-B9D5-D0B54655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6B89D-4C92-48EC-9F21-59C02267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CB65A-9B63-4CAC-9F22-B66C8C05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B31AE-2846-4B2F-9BA0-4A8FE285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61FCB-72E8-4598-A64B-385AB33A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9D8D5-6317-4564-ACA8-16BAF85F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14D1A-BE8F-4021-8C5F-B06CC2EA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545CC-0658-4640-96E2-DA357806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0ACC-4ED1-4A38-A7DF-D26F473B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C70CF-BF0A-4580-9A10-2F505111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FFD39-7718-4DD9-9211-856B1DB7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3E8-B7F9-4F30-A7AE-3454582D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4579F-53B6-4957-A37D-2429218E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913BA-A1DA-4DCF-AA5C-A8D01D82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DE76A-7E1E-48EE-A8F8-19710BE2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E5052-D2CD-4AE8-986C-32529C6A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42989-9BE3-44BE-B5D4-EDF243F9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DDED5-BAED-4FD5-B9DC-A8EB87B0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601C9-AC50-4BAB-86E4-68329786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89C8F-4E5E-4310-B5D1-2D79B4AA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E894C-CE3B-43CB-B079-DD59335D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99C1D-00B4-4070-AEBC-46384E44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856-5288-478E-B4F1-836B2A2D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E8B89-C1C9-4A6A-B49E-F5BDD4E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5EB45-39EA-4C83-906C-C4CFC452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F664-6E91-4945-8777-3E384934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808BC-D1E4-4FF8-A24C-49BB2DE3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9EB66-2347-4B8D-B474-D183DC55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45FD6-544B-4139-B0A7-337BA378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C2413-3079-459D-95AA-0357DD4C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467C6-A62C-44F9-B06E-51B158F2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98F30-4D55-46E3-A573-211519D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477AF-7C8C-4C2E-88C2-43E2723B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604-6B3E-4482-AF9E-BC6AE5CE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B31C6-DD39-44B7-ABCC-E17407E0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E98D3-995D-44B7-86F7-A94D7119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CC129-6188-444C-8F19-18D16E8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5F875-F3E8-4154-8E9A-997F2177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DF1C5-936B-42E8-959E-1CA5BFD2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8EFC6-363D-4B0F-A2E2-14A66F01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F95E0-A0E6-416C-A8B2-4FB1A513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03171-1C3C-4E1F-B376-52315390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3E8A0-91B7-40E4-AA72-19827F04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B9FC6-10CD-4AD2-AEFD-83619C7A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000D-41D6-43B0-BC8A-51446A508429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0734-A741-4D99-BE01-8CE4DB34C2F7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7539-10F9-42B1-8808-575BDFDEEBFE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4AEF-4453-4324-BF95-BB2DD6B980D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F316-136C-4D7A-8A34-D59F1748FD57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A403-5B9E-434F-B1A2-3AEA6794FFCE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F128-DFA2-494C-AEAD-9A1F5D4C28A1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DA9A-C034-49DC-8C19-12FB5242F170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4DC7-ED3C-45D4-AA15-01BF6887DFBC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0407-6E8B-49B6-854A-E939C89744CC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F364-CAAA-4149-971A-41ACA8A8EEE8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F280-EE17-47FD-BD59-F15D6D76E3DA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5018-3C5A-450A-8BD0-5C67B9BB60B3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1E09-0084-4251-8BC1-9152A49E7986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BE06-C0E9-4741-BF6B-E11B9C9C587C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EF80-BC14-48CB-A989-B42727AAAB60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A360-6E81-4807-BEBC-72975F4CEE75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FF8C-D6D6-4FD4-82DE-63CD69C2E0C9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1790-40A1-4711-BA44-6255D48F77FD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4846-E107-4403-8AAF-7AEF8274AC0A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CD46-C92A-4DC7-96B2-52F32DF5F4A4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F961-1DD1-4BB0-9F66-235D2C4D945D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EE24-E0ED-4A66-B22A-7363433DAA1A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784E-2D58-4780-BF4C-9EFF4096CDDF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128520" y="1371600"/>
            <a:ext cx="8534520" cy="219384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4054-476E-4EEA-A5C8-CCBB31F51126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B7AA-361D-4642-9E3B-78EC57681EB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086600" y="3195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7086600" y="4871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Content Placeholder 10" descr="5-1-1.tif"/>
          <p:cNvPicPr/>
          <p:nvPr/>
        </p:nvPicPr>
        <p:blipFill>
          <a:blip r:embed="rId1"/>
          <a:stretch/>
        </p:blipFill>
        <p:spPr>
          <a:xfrm>
            <a:off x="380880" y="2286000"/>
            <a:ext cx="6616800" cy="3429000"/>
          </a:xfrm>
          <a:prstGeom prst="rect">
            <a:avLst/>
          </a:prstGeom>
          <a:ln w="0">
            <a:noFill/>
          </a:ln>
        </p:spPr>
      </p:pic>
      <p:sp>
        <p:nvSpPr>
          <p:cNvPr id="642" name="Line 6"/>
          <p:cNvSpPr/>
          <p:nvPr/>
        </p:nvSpPr>
        <p:spPr>
          <a:xfrm flipH="1">
            <a:off x="6019920" y="34243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"/>
          <p:cNvSpPr/>
          <p:nvPr/>
        </p:nvSpPr>
        <p:spPr>
          <a:xfrm flipH="1">
            <a:off x="6095520" y="5100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Using Func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vert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nv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FtoC(fTemp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A54B-6C5C-477C-86BC-6969F264DB8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52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ithout Using Fun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F53B-B60B-4DC2-A905-23BA07EA67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520" y="1981080"/>
            <a:ext cx="8574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_Click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_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5 / 9) *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FF53-A369-4AE9-AC77-CC3CB8195B2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5" name="Content Placeholder 6" descr="5-1-1R.tif"/>
          <p:cNvPicPr/>
          <p:nvPr/>
        </p:nvPicPr>
        <p:blipFill>
          <a:blip r:embed="rId1"/>
          <a:stretch/>
        </p:blipFill>
        <p:spPr>
          <a:xfrm>
            <a:off x="1308240" y="2514600"/>
            <a:ext cx="6616440" cy="3429000"/>
          </a:xfrm>
          <a:prstGeom prst="rect">
            <a:avLst/>
          </a:prstGeom>
          <a:ln w="0">
            <a:noFill/>
          </a:ln>
        </p:spPr>
      </p:pic>
      <p:sp>
        <p:nvSpPr>
          <p:cNvPr id="6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D531-A954-4293-8FB3-C3AC467568C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Several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ay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age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 Total amount of salary per ho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lect 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h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the wage (salary/hour) increases 50% per every extra hour (extra hours &gt;4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40 +(0.5 * wage * (hrs – 40)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el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2B03-814B-4F8B-8CD8-9EE321649D6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5638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5791320" y="3805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Content Placeholder 10" descr="5-1-3.tif"/>
          <p:cNvPicPr/>
          <p:nvPr/>
        </p:nvPicPr>
        <p:blipFill>
          <a:blip r:embed="rId1"/>
          <a:stretch/>
        </p:blipFill>
        <p:spPr>
          <a:xfrm>
            <a:off x="717480" y="2209680"/>
            <a:ext cx="4692600" cy="3961080"/>
          </a:xfrm>
          <a:prstGeom prst="rect">
            <a:avLst/>
          </a:prstGeom>
          <a:ln w="0">
            <a:noFill/>
          </a:ln>
        </p:spPr>
      </p:pic>
      <p:sp>
        <p:nvSpPr>
          <p:cNvPr id="666" name="Line 8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6"/>
          <p:cNvSpPr/>
          <p:nvPr/>
        </p:nvSpPr>
        <p:spPr>
          <a:xfrm flipH="1">
            <a:off x="4800240" y="3357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5867280" y="5329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Earning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8"/>
          <p:cNvSpPr/>
          <p:nvPr/>
        </p:nvSpPr>
        <p:spPr>
          <a:xfrm flipH="1">
            <a:off x="480024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Partial C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28600" y="1981080"/>
            <a:ext cx="8763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_Click(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.Click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hourlyWage, hoursWorkded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lyWage = txtWage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sWorked = txtHours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xtEarnings.Text =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ormatCurrency(Pay(hourlyWage, hoursWorked)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2263-5C7E-4B92-9ED4-FF72C56CDE6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33526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Up Arrow 6"/>
          <p:cNvSpPr/>
          <p:nvPr/>
        </p:nvSpPr>
        <p:spPr>
          <a:xfrm>
            <a:off x="3886200" y="495288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E114-86B1-42F6-B8B4-617F50B6696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5410080" y="51055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Content Placeholder 7" descr="5-1-3R.tif"/>
          <p:cNvPicPr/>
          <p:nvPr/>
        </p:nvPicPr>
        <p:blipFill>
          <a:blip r:embed="rId1"/>
          <a:stretch/>
        </p:blipFill>
        <p:spPr>
          <a:xfrm>
            <a:off x="2286000" y="2286000"/>
            <a:ext cx="4335480" cy="3657600"/>
          </a:xfrm>
          <a:prstGeom prst="rect">
            <a:avLst/>
          </a:prstGeom>
          <a:ln w="0">
            <a:noFill/>
          </a:ln>
        </p:spPr>
      </p:pic>
      <p:sp>
        <p:nvSpPr>
          <p:cNvPr id="68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08BE-CAB0-4BD8-8C57-0838D5B3FA7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600" y="209700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OfItem(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c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Pric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quantity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Quantity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 = price *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641A-A3CF-4283-B96E-E5C49A43993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Boolean-Valued Fun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IsVowelWord(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A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                               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Boole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A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U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9B59-B69D-4F01-B9AC-520EA99A2A1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7360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ular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7F30-C5EF-44F8-BF1B-CE47CC77835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ing and Calling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ables and Expressions as Argu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Calling Other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2AB4-877D-4B57-80E4-E82B3EB02A5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Form of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6" name="Picture 5" descr="DefineSub.tif"/>
          <p:cNvPicPr/>
          <p:nvPr/>
        </p:nvPicPr>
        <p:blipFill>
          <a:blip r:embed="rId1"/>
          <a:stretch/>
        </p:blipFill>
        <p:spPr>
          <a:xfrm>
            <a:off x="609480" y="2438280"/>
            <a:ext cx="6842160" cy="250344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3547-5008-4805-85D9-6C23D4089B1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ling a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21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tement that invokes /calls a Sub procedure is referred to as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lling state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lling statement looks like th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Name(arg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4C3E-6AAB-4DC2-A601-C5D6B3A55EF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ming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ules for naming Sub procedures are the same as the rules for naming vari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453F-ECB0-4826-8AA5-48266991E60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Val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 2, 3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z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 = num1 + num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sum of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num1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and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amp; num2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is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z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 Sub procedure, 2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3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Line 4"/>
          <p:cNvSpPr/>
          <p:nvPr/>
        </p:nvSpPr>
        <p:spPr>
          <a:xfrm flipH="1">
            <a:off x="4648320" y="2276640"/>
            <a:ext cx="86040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6300720" y="2276640"/>
            <a:ext cx="17002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515D-C571-401F-88B8-AD148F00A15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guments and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6"/>
          <p:cNvSpPr/>
          <p:nvPr/>
        </p:nvSpPr>
        <p:spPr>
          <a:xfrm flipV="1">
            <a:off x="335268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 flipV="1">
            <a:off x="388620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35268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457200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5181480" y="3213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1"/>
          <p:cNvSpPr/>
          <p:nvPr/>
        </p:nvSpPr>
        <p:spPr>
          <a:xfrm>
            <a:off x="2895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2"/>
          <p:cNvSpPr/>
          <p:nvPr/>
        </p:nvSpPr>
        <p:spPr>
          <a:xfrm>
            <a:off x="4267080" y="36450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3"/>
          <p:cNvSpPr/>
          <p:nvPr/>
        </p:nvSpPr>
        <p:spPr>
          <a:xfrm>
            <a:off x="8229600" y="3645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4"/>
          <p:cNvSpPr/>
          <p:nvPr/>
        </p:nvSpPr>
        <p:spPr>
          <a:xfrm>
            <a:off x="4267080" y="364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7086600" y="364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6"/>
          <p:cNvSpPr/>
          <p:nvPr/>
        </p:nvSpPr>
        <p:spPr>
          <a:xfrm>
            <a:off x="4038480" y="50371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play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3352680" y="4655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8"/>
          <p:cNvSpPr/>
          <p:nvPr/>
        </p:nvSpPr>
        <p:spPr>
          <a:xfrm flipV="1">
            <a:off x="7086600" y="4655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9"/>
          <p:cNvSpPr/>
          <p:nvPr/>
        </p:nvSpPr>
        <p:spPr>
          <a:xfrm>
            <a:off x="3352680" y="5265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1"/>
          <p:cNvSpPr/>
          <p:nvPr/>
        </p:nvSpPr>
        <p:spPr>
          <a:xfrm>
            <a:off x="6019920" y="53420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ooter Placeholder 1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EB1B-9932-4CA6-82CC-A3CB694A43D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veral Calling Stat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4, 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7, 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Constantia"/>
              </a:rPr>
              <a:t>Outpu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2 and 3 is 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4 and 6 is 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7 and 8 is 1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20D4-0C77-432D-88DA-6398882B879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Strings and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  <a:ea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3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stat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38,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uld not be valid. The types of the arguments must be in the same order as the types of the parame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6"/>
          <p:cNvSpPr/>
          <p:nvPr/>
        </p:nvSpPr>
        <p:spPr>
          <a:xfrm flipH="1">
            <a:off x="3419280" y="2362320"/>
            <a:ext cx="1076040" cy="20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7"/>
          <p:cNvSpPr/>
          <p:nvPr/>
        </p:nvSpPr>
        <p:spPr>
          <a:xfrm>
            <a:off x="5562720" y="236232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C00B-223D-45D4-9190-135AD8852EB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ariables and Expressions as Argu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s, 2 * 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argument names need not match the parameter names. For instanc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versu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 Procedure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" y="1981080"/>
            <a:ext cx="8726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Clear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is program displays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name and populati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of a state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41F4-EDFE-4626-A2DC-DF1DC5B321A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B1BA-CF08-45EB-ACB9-06FA31DD00C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ices for Modula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ual Basic has two ways for breaking problems into smaller pie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unction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ub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C1D7-A37E-49C8-BA03-2455950C019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617b"/>
                </a:solidFill>
                <a:latin typeface="Calibri"/>
              </a:rPr>
              <a:t>Sub Procedure Calling Another Sub Procedure</a:t>
            </a: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tnDisplay_Click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_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tnDisplay.Cli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37)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program displ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ame and 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f a st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 has population 37 mill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D61F-9C9D-4B6E-AB4B-6CC0503F0C4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EB13-DD17-436E-A074-49CBB89FCC8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that Return a Singl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 and Scope of Variables and Consta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u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CA13-BD10-4241-8706-0E5B6C29621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yVal and ByRe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2249280"/>
            <a:ext cx="79646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meters in Sub procedure headers are proceeded by ByVal or ByRe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Val stands for By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Ref stands for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ADB9-3B76-48A1-B302-67CC60D85A9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Val parameter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just the value of the argument is pass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ends, the variable has its original val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DA22-E598-4FD9-85BB-FB967D2C36C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324000" y="1341360"/>
            <a:ext cx="8496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Straight Arrow Connector 5"/>
          <p:cNvCxnSpPr/>
          <p:nvPr/>
        </p:nvCxnSpPr>
        <p:spPr>
          <a:xfrm flipH="1">
            <a:off x="2050560" y="2637000"/>
            <a:ext cx="3601440" cy="7200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73" name="Straight Arrow Connector 6"/>
          <p:cNvCxnSpPr/>
          <p:nvPr/>
        </p:nvCxnSpPr>
        <p:spPr>
          <a:xfrm flipH="1">
            <a:off x="3419280" y="2636640"/>
            <a:ext cx="2232720" cy="1152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74" name="TextBox 9"/>
          <p:cNvSpPr/>
          <p:nvPr/>
        </p:nvSpPr>
        <p:spPr>
          <a:xfrm>
            <a:off x="565164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1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4"/>
          <p:cNvSpPr/>
          <p:nvPr/>
        </p:nvSpPr>
        <p:spPr>
          <a:xfrm>
            <a:off x="7380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1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73B-7A1E-4152-85C9-535C2E7E4C8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ame Example: n    num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Text Box 3"/>
          <p:cNvSpPr/>
          <p:nvPr/>
        </p:nvSpPr>
        <p:spPr>
          <a:xfrm>
            <a:off x="324000" y="1268280"/>
            <a:ext cx="835164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4"/>
          <p:cNvSpPr/>
          <p:nvPr/>
        </p:nvSpPr>
        <p:spPr>
          <a:xfrm>
            <a:off x="5796000" y="981000"/>
            <a:ext cx="380880" cy="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Straight Arrow Connector 5"/>
          <p:cNvCxnSpPr/>
          <p:nvPr/>
        </p:nvCxnSpPr>
        <p:spPr>
          <a:xfrm flipH="1">
            <a:off x="2410920" y="2636640"/>
            <a:ext cx="3674160" cy="1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86" name="Straight Arrow Connector 6"/>
          <p:cNvCxnSpPr/>
          <p:nvPr/>
        </p:nvCxnSpPr>
        <p:spPr>
          <a:xfrm flipH="1">
            <a:off x="3418920" y="3068640"/>
            <a:ext cx="2665800" cy="72144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87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same as the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4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5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6"/>
          <p:cNvSpPr/>
          <p:nvPr/>
        </p:nvSpPr>
        <p:spPr>
          <a:xfrm>
            <a:off x="738036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1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F7EE-5EFB-4A1B-AD60-73B53B866A1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Referenc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Ref parameter, the parameter is given the same memory location as the arg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terminates, the variable has the value of the parame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3F47-602F-4575-92EB-6F712E503F5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457200" y="1341360"/>
            <a:ext cx="822960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1" name="Straight Arrow Connector 4"/>
          <p:cNvCxnSpPr/>
          <p:nvPr/>
        </p:nvCxnSpPr>
        <p:spPr>
          <a:xfrm flipH="1" flipV="1">
            <a:off x="2555640" y="2565000"/>
            <a:ext cx="3529440" cy="216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02" name="Straight Arrow Connector 5"/>
          <p:cNvCxnSpPr>
            <a:stCxn id="803" idx="1"/>
          </p:cNvCxnSpPr>
          <p:nvPr/>
        </p:nvCxnSpPr>
        <p:spPr>
          <a:xfrm flipH="1">
            <a:off x="3491640" y="3182400"/>
            <a:ext cx="2520360" cy="3913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03" name="TextBox 6"/>
          <p:cNvSpPr/>
          <p:nvPr/>
        </p:nvSpPr>
        <p:spPr>
          <a:xfrm>
            <a:off x="6012000" y="27208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the same as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5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7"/>
          <p:cNvSpPr/>
          <p:nvPr/>
        </p:nvSpPr>
        <p:spPr>
          <a:xfrm>
            <a:off x="680400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8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Straight Arrow Connector 22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09" name="Footer Placeholder 1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7CB3-95F9-496C-9F86-BD9682F0480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num     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457200" y="1268280"/>
            <a:ext cx="829152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tnOne_Click(...)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_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5796000" y="907920"/>
            <a:ext cx="533520" cy="0"/>
          </a:xfrm>
          <a:prstGeom prst="line">
            <a:avLst/>
          </a:prstGeom>
          <a:ln w="255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Straight Arrow Connector 5"/>
          <p:cNvCxnSpPr/>
          <p:nvPr/>
        </p:nvCxnSpPr>
        <p:spPr>
          <a:xfrm flipH="1" flipV="1">
            <a:off x="2267640" y="2564640"/>
            <a:ext cx="3744360" cy="7236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15" name="Straight Arrow Connector 6"/>
          <p:cNvCxnSpPr/>
          <p:nvPr/>
        </p:nvCxnSpPr>
        <p:spPr>
          <a:xfrm flipH="1">
            <a:off x="3563640" y="3068280"/>
            <a:ext cx="2521440" cy="577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16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6"/>
          <p:cNvSpPr/>
          <p:nvPr/>
        </p:nvSpPr>
        <p:spPr>
          <a:xfrm>
            <a:off x="651672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7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8"/>
          <p:cNvSpPr/>
          <p:nvPr/>
        </p:nvSpPr>
        <p:spPr>
          <a:xfrm>
            <a:off x="7236000" y="566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9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21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23" name="Footer Placeholder 1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D720-17E0-403E-82A0-D544D6699FA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One Par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Several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No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Boolean-Valued Fun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st Common Use of ByRef: Get Input (Read Inpu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Data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  <a:ea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Wag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rs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Hours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B3CF-ECAC-4F4B-B237-DB14D409A8C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0229-34BB-4C70-B56E-F803565481E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ifetime and Scope of a Variabl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: Period during which it remains in memo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ope: In Sub procedures, defined same as in event proced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a variable is declared in procedure A that calls procedure B. While procedure B executes, the variable is alive, but out of sco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FB74-10D7-4C9D-ACC0-93EFAAC66AC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 vs.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perform similar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call other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 function when you want to return one and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7A00-75C4-4300-A1EE-11172AAD32C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ome Built-In Func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TextBox 66"/>
          <p:cNvSpPr/>
          <p:nvPr/>
        </p:nvSpPr>
        <p:spPr>
          <a:xfrm>
            <a:off x="380880" y="1828800"/>
            <a:ext cx="6934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t(2.6) i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Math.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Math.Round(1.23, 1) is 1.2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7423-D4B6-4C5B-AEC2-92CA6390F87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ome Built-In Functions (continue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TextBox 66"/>
          <p:cNvSpPr/>
          <p:nvPr/>
        </p:nvSpPr>
        <p:spPr>
          <a:xfrm>
            <a:off x="0" y="1981080"/>
            <a:ext cx="88390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Format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Percent(0.12, 2) is 12.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Format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Number(12.62, 1) is 12.6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14EB-D547-4E84-92CD-DFEDFD0EBA1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s (also known as user-defined functions) always return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ntax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unctionN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1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2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ReturnD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ata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With One Parame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'Convert Fahrenheit temp to Celsi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6EDD-1FC8-4961-94B6-931446E9187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66978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eader of the FtoC Function Procedu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34" name="Content Placeholder 5" descr="fig5-1.tif"/>
          <p:cNvPicPr/>
          <p:nvPr/>
        </p:nvPicPr>
        <p:blipFill>
          <a:blip r:embed="rId1"/>
          <a:stretch/>
        </p:blipFill>
        <p:spPr>
          <a:xfrm>
            <a:off x="41400" y="2895480"/>
            <a:ext cx="9026280" cy="202572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5752-7FC6-439C-9BFF-D383610F182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2:39:50Z</dcterms:created>
  <dc:creator>Maysoon</dc:creator>
  <dc:description/>
  <dc:language>en-US</dc:language>
  <cp:lastModifiedBy>FrEeDoM</cp:lastModifiedBy>
  <dcterms:modified xsi:type="dcterms:W3CDTF">2015-03-21T21:08:40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