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80A1-296C-416A-884D-99BD24B7EA7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6011-1B5A-4CD4-A679-828037DA37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CEF6-CC6A-40E9-8403-E66F815D45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6AFE-EE87-4173-99E3-FE2F7BAC74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18CE-1290-4C46-83E5-9593942559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4777-BB1E-4810-8915-262B50E2C4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788F-502A-4055-9248-0E3A25D640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F17-CDAE-4D67-A4D7-6B6705AF7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8005-AE0A-4965-88A5-BFEAEDD747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AE3F-BB17-4B20-A22A-D6C228AEE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657D-4AE2-48AC-8A43-B24132CE37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3F23-7C00-4B79-9152-CB42C3767B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AA27-B925-4E6E-8DC9-4A501F5575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7715-AE0B-404E-A99A-E5B7F9EF4D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AF10-5AEC-48A2-8AE5-E2FF3D1994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3D84-5645-423D-A81F-4A18960E1A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806-8D03-4DE3-8F00-619BC021A2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ED95-E7EC-49BB-AF7A-C5D6A18EA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415-CE11-40F6-92FC-B93B6F4467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D4BE-39AA-4153-9B5F-A18958349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291E-2A5B-4E99-92E1-906FA8FBB8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A4F-DF46-4BE4-9419-3A8BBE00B4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89D7-9A79-462A-BBE2-B764968749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BFF-06E2-4855-9E11-BB49A898FD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EA68-72D9-49E4-ADAB-14C768AFD4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ADBE-6C94-4195-BB89-40D35CA71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ED03-DDBE-48BD-86C0-C613C9E243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CAB-F679-45C7-9214-206F9F18E9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76CC-C9B5-4DC7-99F8-DB9C598437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3C26-06EE-4118-A961-1B680F9803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E7BB-924D-4CF7-B130-7FFFBFF833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BCE3-ADDE-44DC-A07F-24A010002F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489-6A4F-4186-B7CA-D9C00767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05F-749B-41C7-BF38-B50BD047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BFD6E-9149-4DE7-8F20-1A42EB80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4ECDE-166C-4011-9E66-1580B7B3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A7711-D67C-499D-84CA-437E206D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AE20D-E81A-49E9-8F7B-8710D5C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B3DD4-DED0-42E0-870E-8EA55C88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716FB-E299-422B-A4EA-C92E3AE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B1DA2-0F87-4257-BE83-C2333114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F6816-3293-4005-A887-47B4E65F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CE985-2EE7-4534-BA0E-842C0F1E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3ED8A-8704-4A51-AA52-D842BCD5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4AF-CA92-4A0B-BFBF-1E5A417D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9ABF8-A9A9-465F-B30D-5CF27779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BBC1A-28CA-4FA0-BFA1-E1EEE49D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5738C-2DD5-4081-9EC2-10A359A8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ED7B9-921A-4442-BED7-4918C06D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392AE-0267-4FDF-A2A3-A0C22225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FA8D5-2005-4DA0-936F-96D87B1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0A6D8-979F-4130-8921-6F09BC3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3697B-8DB8-4B3D-9305-DBE5C4D0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E4573-898D-424C-9C5C-D3FCCBC7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EEEE3-4042-4529-9B75-8D12F054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523-6396-4936-AD56-E152CEB4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77655-E89F-4712-AD04-D872A4CB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574F8-4B5C-4473-A778-B1969C0C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7DC5C-0A4C-42FC-B7C5-494F81C2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B1410-C44A-48D1-9ACE-9E371322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24FD-7AD8-4B0D-AA44-B99899DD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59CAE-87A6-4F33-A378-B946F595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A0199-BEE7-4E3D-AB70-7258F516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98E6C-8A82-4082-A07E-C4DB744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900E4-CD76-4886-AE29-BDB38C2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DC425-553D-4C16-9A0D-0F42C356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E868-E72C-4F78-8E8F-A8051BA6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30A03-8EC3-4388-9FA7-DB061B6B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B2F75-8ADA-4BD2-8171-4F9DF062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0E771-A9E9-481E-AABE-2828D391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AC9D7-A055-4CBB-B478-E97B3A3F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AF61C-A8C4-412C-8C32-5D36306E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EF784-AA66-4661-80BF-9775ABC4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4129D-849F-4EEE-A0B7-0A9F696E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0694A-0336-493A-8FBA-7D328EBE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BE26A-D3A6-4ED8-A0E0-E73936F7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27020-E3F9-4F5E-ADA8-F99CC58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9764-D368-43BA-9E31-BFEB0CFE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A4ED8-CB72-4BBC-94B2-6ACD741A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D69BA-48F0-4A68-9125-558E8341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C1815-320A-4A7F-A8FC-74A4E11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3E968-3CFB-4098-9AAC-C0B4FBA2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1EDA8-CF38-48AE-9163-7B2C204B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1AE2-96F3-48CB-B253-94567183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A860-5027-4916-AD5D-24570FF2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4C0B-634B-4098-BF60-D935F14B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9DE8-E985-45BC-B571-159A1E07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FFF1-A510-47FA-873B-9A254F0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7CA-5F80-4AB7-B802-9468E2F7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4042-B64E-4744-9AFC-838F371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838E-CFA9-4A3D-A634-C526DAF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BBA7-5197-4911-8B8D-9A664F6B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E4C1-FB01-46DC-B711-FC3D3532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39FC-D5E0-437F-88F5-A61C4908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06C7-1629-405B-9B40-C29DC153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C817-C770-4CDF-B819-004CDB1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8CD2-AB9F-4A98-8858-B78F93EC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12E5-FF6C-400E-8D17-67A77F2A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22F0-9935-4B14-94A4-25293436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3D5-BD60-4CAE-AD3F-82617105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71D6-FBF8-4203-9217-99321919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E94F-1A1D-4FA0-B378-AC4A15F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E21A-608C-4073-A798-F92E4F7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74A8D-D68E-4D36-8A65-D2C068F7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6A26-309D-4019-BB40-61E2FFE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03EB-DA8D-4077-A390-2DDC5F0F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868B-B794-4997-A599-6A695AE1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92B1-F2A0-4DAB-A8DD-B1675CE9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BA08-05C7-4F82-B331-B7418057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FC84-7B9A-4854-8072-A24B3F86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E90-0D2F-4026-B685-1CFF1A18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F985-B135-4CEC-B988-E7276A44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8F0D-307E-4D80-A8B2-5F3447DD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88DD7-ECA9-4ED0-8DC2-D65F561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60AB-5EB6-4531-A45D-44390D1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6DEE-2ECA-4CC7-91F2-F030F105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0D09-2D29-4372-AC8A-EC512F86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3778-6A16-48E6-8C6A-C7B5FAB1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92C6-6FDA-4886-B0FD-C1108BB3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59BA-A78F-4B93-AE40-57A1D261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184E-3160-4F42-85F7-54ABF6F5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5FC-BC2E-4CDE-890B-BB892CC5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28AF-58E3-4629-A90A-867FE8B5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FB22-0EFC-4339-AA76-6ED2A814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5F0C-173C-4823-98C8-5F80DC3F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32264-8DDA-4E27-810D-23BE3D1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8344E-F279-48C1-868A-BAD8E18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4346-BBAA-4A23-862D-10F232E1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E7DD-9E29-4A1D-B160-B6A88EB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68A4-2160-44FA-838D-D8B88F5E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4146C-1EBD-4434-A33E-D17BFB8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AFD76-B5CB-4B94-BB53-74A8A321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250-3624-430A-A9FE-69E0F915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9B98-F69C-4708-A3ED-C8510008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ED63-38B7-40EF-95A3-3B483F76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5BB40-8494-4EC9-B9CA-D802E725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380A4-AAB8-43B3-9E15-8DA63D41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790F0-76F6-4FAF-9CDD-AAD5D014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3097-2178-4F65-9175-69241699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6B8CC-EFEE-4AD8-B04A-8ED95738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E9EF-2A9A-4BB4-AC62-55216BB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831B6-7EAB-42AC-B6A8-CC7D5273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F3AC9-4E21-4B16-9861-AAFBD94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6CC-777C-4DC5-957C-E538AE9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523ED-B716-4FF9-AC40-F8D389C5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F67F-6B45-4401-A336-E5189104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D25A-DDDE-45E8-BAE4-C088C7B7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8D38-2EC1-4891-9146-AD2C58D6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2EF9-2E46-428C-8E72-8DEEFCCF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A738-E032-4A33-99A5-2CA86AC5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EAD78-6719-4709-B573-7BC231F9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2B12A-3B42-47FB-8A12-46E5E8F0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EFC2-4DD5-4191-851B-5FE2C8BC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B882F-FBF0-4755-B5FE-8AF1C780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D43-BF4C-4978-AB44-8F6F324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4E7A2-E4A8-4FC4-A8B6-A38B127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7D2EA-B540-4B80-8FD6-27C8A8A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D224-E649-4F4E-8525-54BDD1A2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5EAAE-8F99-4DFF-96B1-05D54884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199BB-66BD-4572-B884-FF690110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7338-9469-4517-BD20-221EBDDB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D19D8-8465-4BB6-8619-5EF8A6E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421DC-34FF-4BC5-BA8C-A3DEDF5B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82E2F-4683-4014-9CB8-F7966BA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BBCC-1DFC-4D96-9523-59D2FCE2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39A-ADBC-4F3F-AB6E-95C654AB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7D2B-6651-4270-B5DC-DBB45AB0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31A13-48F9-4553-9AD0-BF5F1E8B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925DF-E845-4F6C-9474-C5C74B7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AA4F2-D349-40BA-A0A4-B9FFE73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F1783-BDD9-433F-A135-77B00534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D2121-0C22-478F-BBCF-8FDE174F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75031-AA40-4B01-8593-CAFF7670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2A49C-8F3D-41F4-938E-89D95A69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3D79F-53DE-460D-983C-A1C991FB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2A2AD-7ACE-46FB-B173-594543BF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7116-B597-4142-BE3B-FC11A055B3C9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4951-73ED-4A54-8DC3-E4A3EE84C38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C8F3-40AE-4E53-945F-713C9238D814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9E5-3DC8-43E7-94B4-5463884C204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D746-F4E5-4043-8941-0B34EC63CAA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5EA2-47E3-4A82-A19C-3C6E13E6A8CB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D0AC-98F3-4DB9-A9E4-708ED58846F7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4C2A-EDA4-4C4C-934F-867ADD713E2D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6DB5-D544-4A2C-8E01-687EAAC468FB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B3C6-9E6F-41D6-AD37-79C1AF64E521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1772-E000-435B-B3E2-1011F7EDAAC5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177-896D-4844-A6C2-757C1561DA2D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11A4-9E8E-44E6-B011-5F944662FD43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2617-8702-48F8-A14F-38F4F31ADD35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6300-8654-4B22-8BA3-7D9F99836B0C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5EF4-4638-4BAF-95E4-593F34FC462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7F8E-F507-47F0-960C-3331147ADD63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F35-D390-4486-80C2-4DFEF65847B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26B-9EE0-488A-8E62-6F8D6797845E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A72-C031-4529-95C3-12084016A32B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0318-DB24-420F-A88D-56807CEFF256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7866-5960-4FC2-A427-6A759B433BD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4F8C-115B-4D65-9966-6413E5E04AFB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B719-CAA7-4BA4-8BD4-E9D66450C8F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128520" y="137160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794F-515E-40BB-8D01-6A40E75D72B4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96E-B231-47E1-9019-FCD68FA09C1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086600" y="319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086600" y="487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10" descr="5-1-1.tif"/>
          <p:cNvPicPr/>
          <p:nvPr/>
        </p:nvPicPr>
        <p:blipFill>
          <a:blip r:embed="rId1"/>
          <a:stretch/>
        </p:blipFill>
        <p:spPr>
          <a:xfrm>
            <a:off x="380880" y="2286000"/>
            <a:ext cx="6616800" cy="3429000"/>
          </a:xfrm>
          <a:prstGeom prst="rect">
            <a:avLst/>
          </a:prstGeom>
          <a:ln w="0">
            <a:noFill/>
          </a:ln>
        </p:spPr>
      </p:pic>
      <p:sp>
        <p:nvSpPr>
          <p:cNvPr id="642" name="Line 6"/>
          <p:cNvSpPr/>
          <p:nvPr/>
        </p:nvSpPr>
        <p:spPr>
          <a:xfrm flipH="1">
            <a:off x="6019920" y="3424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6095520" y="5100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Using Fun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vert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nv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FtoC(fTemp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6EAE-9265-4C31-81AC-B1FF95AF5D7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52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ithout Using Fun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7671-2C8A-498B-90F1-6C53E113A59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520" y="1981080"/>
            <a:ext cx="8574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_Click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_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5 / 9) 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584F-B8E6-46F2-85F8-47605B7BDE5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Content Placeholder 6" descr="5-1-1R.tif"/>
          <p:cNvPicPr/>
          <p:nvPr/>
        </p:nvPicPr>
        <p:blipFill>
          <a:blip r:embed="rId1"/>
          <a:stretch/>
        </p:blipFill>
        <p:spPr>
          <a:xfrm>
            <a:off x="1308240" y="2514600"/>
            <a:ext cx="6616440" cy="3429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E352-0B0E-4705-8B60-5E64A9BCB13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per ho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FAD-012F-4143-83B4-C0038C79A15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66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ormatCurrency(Pay(hourlyWage, hoursWorked)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AB0B-9837-4636-951B-52F00C530E5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23C7-DCF5-44D1-AD11-E58822B9EF7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3D63-1437-4544-8FC2-44C46D06914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FC9-8DA0-43B3-9696-7E106E9EA3A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Boolean-Valued Fun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IsVowelWord(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               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Boole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A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U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FBE-A1E6-490F-AA26-1E1CA3D87E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7360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ula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92A-32D9-406D-BBE4-193C0FA4151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ing and Calling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 and Expressions as Arg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Calling Other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9315-DC63-4013-B62A-17D760F8282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Form of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6" name="Picture 5" descr="DefineSub.tif"/>
          <p:cNvPicPr/>
          <p:nvPr/>
        </p:nvPicPr>
        <p:blipFill>
          <a:blip r:embed="rId1"/>
          <a:stretch/>
        </p:blipFill>
        <p:spPr>
          <a:xfrm>
            <a:off x="609480" y="2438280"/>
            <a:ext cx="6842160" cy="250344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753-5E70-406D-9D2A-444115A4C11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ling a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ment that invokes /calls a Sub procedure is referred to as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lling stat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lling statement looks like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Name(arg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5D6A-0308-4632-9158-0129DEC01D7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ming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ules for naming Sub procedures are the same as the rules for naming vari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9F5D-5E50-47D2-81AD-802E7558EBC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Val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 2, 3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z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 = num1 + num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sum of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num1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and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amp; num2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is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z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ub procedure, 2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3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Line 4"/>
          <p:cNvSpPr/>
          <p:nvPr/>
        </p:nvSpPr>
        <p:spPr>
          <a:xfrm flipH="1">
            <a:off x="4648320" y="2276640"/>
            <a:ext cx="8604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6300720" y="2276640"/>
            <a:ext cx="1700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6DA7-799C-4989-8614-2112B373E5D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guments and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6"/>
          <p:cNvSpPr/>
          <p:nvPr/>
        </p:nvSpPr>
        <p:spPr>
          <a:xfrm flipV="1">
            <a:off x="335268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35268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45720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5181480" y="321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>
            <a:off x="2895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4267080" y="3645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3"/>
          <p:cNvSpPr/>
          <p:nvPr/>
        </p:nvSpPr>
        <p:spPr>
          <a:xfrm>
            <a:off x="8229600" y="364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4"/>
          <p:cNvSpPr/>
          <p:nvPr/>
        </p:nvSpPr>
        <p:spPr>
          <a:xfrm>
            <a:off x="4267080" y="364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7086600" y="364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4038480" y="5037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play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3352680" y="4655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 flipV="1">
            <a:off x="7086600" y="465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3352680" y="5265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1"/>
          <p:cNvSpPr/>
          <p:nvPr/>
        </p:nvSpPr>
        <p:spPr>
          <a:xfrm>
            <a:off x="6019920" y="53420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1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E8E2-9328-4257-A9F2-24C0744DB3D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veral Calling Stat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4,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7, 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Constantia"/>
              </a:rPr>
              <a:t>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2 and 3 is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4 and 6 is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7 and 8 is 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D022-EC53-4B94-8068-AFA4FAA2AEB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Strings and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  <a:ea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3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stat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38,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not be valid. The types of the arguments must be in the same order as the types of the para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6"/>
          <p:cNvSpPr/>
          <p:nvPr/>
        </p:nvSpPr>
        <p:spPr>
          <a:xfrm flipH="1">
            <a:off x="3419280" y="2362320"/>
            <a:ext cx="10760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>
            <a:off x="5562720" y="23623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117E-9D31-4945-BF7D-556A9670E27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ariables and Expressions as Argu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s, 2 * 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argument names need not match the parameter names. For instanc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ersu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 Procedure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" y="1981080"/>
            <a:ext cx="8726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Clear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is program display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name and populati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of a state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B26-FA29-450F-88FB-FCB5BA4C40B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DC8B-E6AC-4517-B9C8-286AB101050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ices for Modul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Basic has two ways for breaking problems into smaller pie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nction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637C-151A-4096-9A08-FC07B9A4CFA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617b"/>
                </a:solidFill>
                <a:latin typeface="Calibri"/>
              </a:rPr>
              <a:t>Sub Procedure Calling Another Sub Procedure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tnDisplay_Click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_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tnDisplay.Cl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37)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program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ame and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 a st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 has population 37 mill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83F5-9772-41CA-8A21-1E68C22EB8A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B807-7C05-4C15-89FF-30434BAC82C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that Return a Singl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 and Scope of Variables and Const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A649-4677-43E7-A4CE-DABCD102479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yVal and ByRe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249280"/>
            <a:ext cx="79646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meters in Sub procedure headers are proceeded by ByVal or ByR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Val stands for By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Ref stands for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CAFC-1080-4C7F-85C1-EBB13FBD1B3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Val parameter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ust the value of the argument is pas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ends, the variable has its original val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DB37-E684-4504-9406-570CD464FE3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324000" y="1341360"/>
            <a:ext cx="8496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traight Arrow Connector 5"/>
          <p:cNvCxnSpPr/>
          <p:nvPr/>
        </p:nvCxnSpPr>
        <p:spPr>
          <a:xfrm flipH="1">
            <a:off x="2050560" y="2637000"/>
            <a:ext cx="3601440" cy="7200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73" name="Straight Arrow Connector 6"/>
          <p:cNvCxnSpPr/>
          <p:nvPr/>
        </p:nvCxnSpPr>
        <p:spPr>
          <a:xfrm flipH="1">
            <a:off x="3419280" y="2636640"/>
            <a:ext cx="2232720" cy="1152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74" name="TextBox 9"/>
          <p:cNvSpPr/>
          <p:nvPr/>
        </p:nvSpPr>
        <p:spPr>
          <a:xfrm>
            <a:off x="565164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4"/>
          <p:cNvSpPr/>
          <p:nvPr/>
        </p:nvSpPr>
        <p:spPr>
          <a:xfrm>
            <a:off x="7380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0DE4-A85A-4215-BE73-59CB568064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ame Example: n    num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324000" y="1268280"/>
            <a:ext cx="835164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"/>
          <p:cNvSpPr/>
          <p:nvPr/>
        </p:nvSpPr>
        <p:spPr>
          <a:xfrm>
            <a:off x="5796000" y="98100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5"/>
          <p:cNvCxnSpPr/>
          <p:nvPr/>
        </p:nvCxnSpPr>
        <p:spPr>
          <a:xfrm flipH="1">
            <a:off x="2410920" y="2636640"/>
            <a:ext cx="3674160" cy="1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86" name="Straight Arrow Connector 6"/>
          <p:cNvCxnSpPr/>
          <p:nvPr/>
        </p:nvCxnSpPr>
        <p:spPr>
          <a:xfrm flipH="1">
            <a:off x="3418920" y="3068640"/>
            <a:ext cx="2665800" cy="72144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87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same as the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4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5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6"/>
          <p:cNvSpPr/>
          <p:nvPr/>
        </p:nvSpPr>
        <p:spPr>
          <a:xfrm>
            <a:off x="738036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5439-3465-4EC8-BDC0-D3BDC02C264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Referen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Ref parameter, the parameter is given the same memory location as the arg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terminates, the variable has the value of the parame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229D-5243-45C1-A57A-C8C1FA36A7B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457200" y="1341360"/>
            <a:ext cx="822960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Straight Arrow Connector 4"/>
          <p:cNvCxnSpPr/>
          <p:nvPr/>
        </p:nvCxnSpPr>
        <p:spPr>
          <a:xfrm flipH="1" flipV="1">
            <a:off x="2555640" y="2565000"/>
            <a:ext cx="3529440" cy="216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02" name="Straight Arrow Connector 5"/>
          <p:cNvCxnSpPr>
            <a:stCxn id="803" idx="1"/>
          </p:cNvCxnSpPr>
          <p:nvPr/>
        </p:nvCxnSpPr>
        <p:spPr>
          <a:xfrm flipH="1">
            <a:off x="3491640" y="3182400"/>
            <a:ext cx="2520360" cy="3913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03" name="TextBox 6"/>
          <p:cNvSpPr/>
          <p:nvPr/>
        </p:nvSpPr>
        <p:spPr>
          <a:xfrm>
            <a:off x="6012000" y="27208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the same as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7"/>
          <p:cNvSpPr/>
          <p:nvPr/>
        </p:nvSpPr>
        <p:spPr>
          <a:xfrm>
            <a:off x="680400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8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22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09" name="Footer Placeholder 1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FC8A-F7EB-463E-B4ED-C8ACD3860C7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num     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457200" y="1268280"/>
            <a:ext cx="829152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tnOne_Click(...)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_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5796000" y="907920"/>
            <a:ext cx="533520" cy="0"/>
          </a:xfrm>
          <a:prstGeom prst="line">
            <a:avLst/>
          </a:prstGeom>
          <a:ln w="255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5"/>
          <p:cNvCxnSpPr/>
          <p:nvPr/>
        </p:nvCxnSpPr>
        <p:spPr>
          <a:xfrm flipH="1" flipV="1">
            <a:off x="2267640" y="2564640"/>
            <a:ext cx="3744360" cy="7236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15" name="Straight Arrow Connector 6"/>
          <p:cNvCxnSpPr/>
          <p:nvPr/>
        </p:nvCxnSpPr>
        <p:spPr>
          <a:xfrm flipH="1">
            <a:off x="3563640" y="3068280"/>
            <a:ext cx="2521440" cy="577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16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6"/>
          <p:cNvSpPr/>
          <p:nvPr/>
        </p:nvSpPr>
        <p:spPr>
          <a:xfrm>
            <a:off x="651672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8"/>
          <p:cNvSpPr/>
          <p:nvPr/>
        </p:nvSpPr>
        <p:spPr>
          <a:xfrm>
            <a:off x="7236000" y="566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9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21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23" name="Footer Placeholder 1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11E9-C86B-439A-AB57-626544CE445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One Par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Several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No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Boolean-Valu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st Common Use of ByRef: Get Input (Read Inpu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Data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  <a:ea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Wag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Hours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6A16-0995-475B-BDCF-8194725637E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F1D2-D9F7-46C8-AE2B-62F8708B007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fetime and Scope of a Variabl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: Period during which it remains in mem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ope: In Sub procedures, defined same as in event proced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a variable is declared in procedure A that calls procedure B. While procedure B executes, the variable is alive, but out of sco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0B23-51E7-4E89-8B2D-B243764EBA1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 vs.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perform similar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call other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 function when you want to return one and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53F3-1FBB-4B58-9836-95EB2C991C4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ome Built-In Func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TextBox 66"/>
          <p:cNvSpPr/>
          <p:nvPr/>
        </p:nvSpPr>
        <p:spPr>
          <a:xfrm>
            <a:off x="380880" y="182880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(2.6) i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Math.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Math.Round(1.23, 1) is 1.2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FD9-BFA7-4002-AD5D-A6D576BF79B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me Built-In Functions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TextBox 66"/>
          <p:cNvSpPr/>
          <p:nvPr/>
        </p:nvSpPr>
        <p:spPr>
          <a:xfrm>
            <a:off x="0" y="1981080"/>
            <a:ext cx="8839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Format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Percent(0.12, 2) is 12.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Format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Number(12.62, 1) is 12.6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CDC6-EE5C-4DE4-B8E7-F0309628A8F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s (also known as user-defined functions) always return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unctionN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1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2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ReturnD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ata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With One Parame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'Convert Fahrenheit temp to Celsi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99B1-6662-4C94-A71E-1511109B8E3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6697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eader of the FtoC Function Procedu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4" name="Content Placeholder 5" descr="fig5-1.tif"/>
          <p:cNvPicPr/>
          <p:nvPr/>
        </p:nvPicPr>
        <p:blipFill>
          <a:blip r:embed="rId1"/>
          <a:stretch/>
        </p:blipFill>
        <p:spPr>
          <a:xfrm>
            <a:off x="41400" y="2895480"/>
            <a:ext cx="9026280" cy="202572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FFA-D6D5-47F9-8AEE-2DB842CBDC0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39:50Z</dcterms:created>
  <dc:creator>Maysoon</dc:creator>
  <dc:description/>
  <dc:language>en-US</dc:language>
  <cp:lastModifiedBy>FrEeDoM</cp:lastModifiedBy>
  <dcterms:modified xsi:type="dcterms:W3CDTF">2015-03-21T21:08:40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