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2966-C6B8-4E57-BF25-03A6D2584C7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E755-ECCA-48FE-A827-B8E82203F6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0C2D-33E7-40FB-9D29-BDD06DAF22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B3C6-50E7-49BA-AE35-D9A578D5E0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7821-B3D7-40E3-8BF6-09ECF0A2E3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7C15-73D2-4F60-8105-B6A36D289C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8C5B-1346-44B0-8B2F-ACCDF8E673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4C30-5F24-4F16-9162-8AC05BED9B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A36F-C66B-4780-A7CE-413C5E2D96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2488-51B9-4495-9FE6-16B5FDBCCA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EF4E-4F13-4BDB-9FCD-16A495A6C5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F2AD-4E8D-471F-AC1C-5744A3470E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BC70-D137-4455-9A68-69CE401197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C8C9-49C6-4781-B3EA-BED3219391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B1B3-C893-4C9A-86C9-0162D02A01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B63F-B8F7-406F-9714-C3CFC37D1D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CE46-7371-4F3B-9181-2A00A233BA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DEA6-DF1D-4BA0-906B-8838319B4A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C663-BF14-4D82-801C-F2E34869D0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1B4A-6811-4954-BCF2-8713B8C5F2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7873-00DE-4EF4-9455-2D27ECC55F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7E58-6200-4226-9E51-65F7AA6771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223F-4E7A-41B5-A092-57C870CF9C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0A4E-0BBE-453E-BC7F-61BADB3BF4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F5E3-E6DE-4AF2-877C-09E0DE174A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2516-053E-484B-9043-A0FC9BDB9A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FAF0-DD4A-41C9-89A2-9B93D5B7FF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FA51-FED3-4893-B936-1C3457B48D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26E7-6A2F-48DD-A7AD-9DA5B9CDF9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421E-CEEA-4443-80C4-E9FEB6250B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5755-DBF2-4DC2-8A5F-3E5F348F5D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C056-5553-42BD-B1AB-651CD4026C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258-9D4D-4857-B700-290EB9FD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A4B-6E72-4C83-A0D8-5E4C9FE2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6ECE7-7D47-455D-9FEF-96D16798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2E6D3-A9BE-4DFF-9A1A-6C8339C6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26643-9CB2-46C1-A43B-218EF459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664B8-F526-4084-9450-26148059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6B1A3-3312-4131-A5C1-302EE533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0D541-B65B-4FB0-8E33-A03228F8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11D1D-A6C3-4CE2-B4FE-173611FB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7D5A7-F528-4F7E-B0CD-18DE7EE1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EAFDD-F21E-40EF-B77B-C23E0D6E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09C71-929F-4047-A66B-15057F4B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68C-15F8-42DA-B772-5334DBE9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1C1D1-E590-4242-948F-5E002963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F233B-CA9A-4508-8C26-84CEC854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D37B0-2C0B-4453-AC4A-87045FFD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E7A36-6D18-4E54-BFCC-246C0860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7CE74-A50D-4559-A055-9DF2EABF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9D744-FE8C-4301-983F-6409BE39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FC95D-4050-4E97-9381-2CDBC421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D8230-DB48-4472-8A18-01514E0B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E8199-207D-4B07-AC93-CA83C55D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C5E01-56D2-4944-A49F-7003B224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1BF-6B62-4C56-8081-8475D925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4D2D1-BC49-497D-8014-60016B1F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1CA42-8C57-4A75-9A37-28DEFF27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C523E-2E4C-4A1C-960F-23D3E62E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F1109-A61F-4877-9213-8B804A58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AEB2C-47DB-4CC1-ADED-033A40D1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5C1D9-7777-407A-ADCA-02C103AE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A9213-5DB5-4EA6-B238-A6EDCF20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CC476-D98A-4D17-ABDB-1346C07E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15CDC-7205-4376-BA57-E0AD7724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7F47E-80DA-454A-B93A-D2B1B4F8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AF1F-0976-409F-9FC7-F881F98D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3ADB3-688A-4CF9-B99B-0C5CD6B3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9B3A8-5DEC-455F-BBCE-38CE447F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1D488-600E-481F-B42D-2ACC23F7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751ED-60F6-40EA-BBB9-612E8589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EC135-6FFA-4341-B873-F0ABA9C2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33A0E-3CC0-430D-A388-4A5CAA7E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9D5C8-C96C-4211-AC1C-7D32DAD2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6EBD7-B802-4DA8-AB7E-5ADDABC3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7AD0B-9EA5-4061-AAF7-3D6376EC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73D41-28AB-4EC2-9413-020B16E8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B632-4E2B-409B-8218-1BAAED99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4BECC-B92A-4604-A5B5-B1DA94E9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4FEC7-D465-41A6-A3D8-CB572E1B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90B20-6FCE-409F-99E3-5AE2902C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A96DB-9290-4C19-8E51-F1FF64B6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0A05C-60D4-4E24-AE54-FA959678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67F2-12D1-4790-BC52-7D96CEF9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C78B-5460-41A9-A663-C66ECD76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8A4F-0FB1-4605-99BC-BFCE0AB4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5DB3-D1AF-4445-BE83-9F47F3A8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833A-8D58-44FD-A017-D7EE077F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344-BDFD-469F-80DA-F8F29163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7E0C-61F6-4F46-905C-AB3ED050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9515-C560-43EE-8AED-28CC6016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6A97-AAAF-4473-866A-0E9DBC31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AD68-EA20-4752-B590-9AD418AC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200D-8098-45CD-86D3-45D55C50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F99D3-C7BC-4A40-BFF0-5D1AAC52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D71E2-A0CA-48D1-BAE5-9801351A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70E9E-3D05-4AA1-B33D-7615FAEF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4B0D-8873-46AB-A898-C3350051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F6F88-44BA-44BA-BE15-4DCB3CD3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041-41BE-4167-BD07-1FEC0C02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1E9C1-2C6C-4D35-B33F-C5FD0F8C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F7440-199F-462B-A066-0E313052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036B-AF57-4E97-8125-CA3A34D9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C05E3-40E7-4064-8D44-4FB03905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CA684-F0F2-456D-B764-F1B43A3A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54990-D6F5-42D5-9D33-F74DAC8D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1BAC5-F5D2-4E0A-875F-D7767B76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2082F-5CCA-41BC-9DDE-A37AADF0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8D496-09D8-4123-AF4D-0C9D6351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308C9-81CC-47F6-BAD9-0663472E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A9C-5977-4FEC-A26A-2D20C9CB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75322-2AB5-47BD-9E89-63B95C61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E18EB-6F05-46ED-911E-7EB86E7B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24B6B-7569-45B9-B81E-8696B513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FD421-FD8A-4342-A030-AE05DAF7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69F21-901B-4A01-AE6C-5EAA2B83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B9EFA-4339-45B5-A5AE-40986181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FFB9A-3104-4F4F-98FC-686E2617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EA5C9-20E1-4E45-A535-01686863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FDD71-DF9A-4C5A-A840-E313EF9A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5E731-11F8-4BA3-9B5C-4EDFEF1A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A93-800D-4ABF-A9B1-F011CC59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6FD1D-8DF9-47F4-9848-6C504C73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AFBE0-1E53-42DD-9399-EB3B4C07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A2B40-A9BC-40BB-81DC-FD51766F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338CB-0996-403B-9D34-31131467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F0897-7C8D-4D1A-B2E5-D795AB4D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BE3A1-D5FB-45FA-AA9C-1316E9FC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21C56-F75A-4518-896C-BC6F9265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F029A-7BA0-415A-849E-718845A2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86FE2-F0C3-4DF7-B44F-93D1CE4A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EE068-F59E-4B46-BF92-CB1229FD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B10-DF8A-49B4-BC02-32CD2C1A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19B9C-A010-4C66-80D3-73DAA513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D3EE1-C20D-4A0A-8142-0F1D01D4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F8FFC-1CC9-47D6-A787-4426D74E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311B5-261F-4367-8BE9-3669D78D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B66E8-8C38-421C-851D-3489C117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C82D3-D000-427C-823E-0E55FE52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D0D2B-63B6-4A94-91D8-16D5BA2F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8E2A6-6974-4329-9D30-2C6888DF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A67F8-B1CE-48D0-B789-35A133C0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9D45A-F78D-47A4-9E01-2DFE02A0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A80-8E32-4407-AB3E-1363CFFB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E78F2-0280-4ECB-9DD8-AE7BB34C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9EFED-962A-41A3-8596-69A64868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0A98F-5E39-41EF-A3F4-9B261FB4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8B35E-FC85-474F-9677-BD1A17E9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6E11B-C750-49A9-94BE-759FC383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647DE-D6D8-4262-ABCE-2308C3BB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18312-7534-4CF4-AC2F-2689118D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8FCF8-021C-486A-BDFF-40C99688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18C42-78A1-4808-9D69-D1B3E29C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A3787-2C00-46CB-8D7E-DD5425B7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B35-B649-47AA-BF60-3F3A542C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266A8-04F7-4FB2-837A-652852AD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661B8-D5BE-441E-9FEE-A9ABADA5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FE561-EB81-4652-AE40-02DBDDF0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A3365-DAF2-4879-BD5A-0FB247D8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82F0A-6833-4DA9-AD40-32A1C813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D6863-3257-4E7E-9050-9B67A828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F4324-9328-413D-9FF0-8CD25804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41999-F34D-4A0B-B1F8-A67CC459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32C6F-6AB5-4719-BA44-E6B73102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009FF-B205-4176-82E4-DE3EBE33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DE5-BE37-4F15-B111-D7D1BEE2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571E4-4258-44C0-A10F-BCD9CE87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0B651-9664-41DF-8B90-957CCF17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19B56-F0C9-4E0C-8244-F5BDB6FC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40E05-FF87-40A7-B60B-410BB60B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F73D3-BB43-4AD6-A597-46628621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3C8A7-3B70-47BC-A6E1-21D19602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42DFC-54ED-4E68-8F7C-FBFC7256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1BED5-5711-457E-ADED-19C7C0F1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7E067-42D6-4B59-B264-DD9EB0A7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16C13-88B9-4C09-B9CB-2246BB52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4315-CA0C-44BE-8C94-858AA0BCEDE6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9AB5-3320-4CC7-95F7-4CF94159DF12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0810-EAEE-4E26-9EEC-065246915F9E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6C98-2152-4D04-8BE5-A8595010BC3E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826F-AA7B-4ACC-B1D5-3B2E25EDC7B5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023D-8CA2-472A-81A7-C75B40221DF1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6AEB-5AA2-4DBD-8380-D190AE04094B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B7A8-147B-4A0B-908B-877023A8E078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F0E8-AD6B-4BD2-B875-9B5E26A7F684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3B9B-C23C-4026-A681-3F9CD578C7DC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E4AE-3835-4ECE-B4C3-836B8C45BCAB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3AD8-C705-4759-AF56-0D8A87BB9A3B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F674-165B-4DC8-B464-0D789763D24B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6BDD-B77C-424F-9F38-100842DA9CDB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222B-E406-4E8F-9C14-F310EBDD115E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1E5E-0967-4DB8-A035-AA666BF23EBA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DB4C-E4E5-4EB1-A08C-185DBB98ABB1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4B94-BA7D-4619-815D-AD829D1440CF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27C0-3BCA-4C9E-8FAA-DA8EB2C29F78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8040-81D0-43F7-A6C4-833D99999F19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11EE-A077-4C14-A4D3-32E76404F614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7F53-6A73-4E67-9CA7-12AC57A98B9B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B527-9A09-472A-BA30-7E7151524CC5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6690-F5C6-4D25-BD76-019570792808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128520" y="1371600"/>
            <a:ext cx="8534520" cy="219384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0114-316F-4916-8EE7-101FB54A7D22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6E28-850C-41FC-A08B-550691D32D2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7086600" y="3195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Tem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7086600" y="4871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Tem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Content Placeholder 10" descr="5-1-1.tif"/>
          <p:cNvPicPr/>
          <p:nvPr/>
        </p:nvPicPr>
        <p:blipFill>
          <a:blip r:embed="rId1"/>
          <a:stretch/>
        </p:blipFill>
        <p:spPr>
          <a:xfrm>
            <a:off x="380880" y="2286000"/>
            <a:ext cx="6616800" cy="3429000"/>
          </a:xfrm>
          <a:prstGeom prst="rect">
            <a:avLst/>
          </a:prstGeom>
          <a:ln w="0">
            <a:noFill/>
          </a:ln>
        </p:spPr>
      </p:pic>
      <p:sp>
        <p:nvSpPr>
          <p:cNvPr id="642" name="Line 6"/>
          <p:cNvSpPr/>
          <p:nvPr/>
        </p:nvSpPr>
        <p:spPr>
          <a:xfrm flipH="1">
            <a:off x="6019920" y="34243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8"/>
          <p:cNvSpPr/>
          <p:nvPr/>
        </p:nvSpPr>
        <p:spPr>
          <a:xfrm flipH="1">
            <a:off x="6095520" y="5100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ooter Placeholder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ample 1: Code Using Func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nvert(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nvrt.Cli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Temp, cTemp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 = txtTempF.Tex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emp = FtoC(fTemp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TempC.Text = cTe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toC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By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5 / 9) * (t - 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C400-048A-4913-AFB8-741E42D6B1E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852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ample 1: Code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ithout Using Fun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F2BD-0614-41AA-B84B-11F71F0A196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0520" y="1981080"/>
            <a:ext cx="85741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onvert_Click(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_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onvert.Cli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Temp, cTemp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 = txtTempF.Tex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e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5 / 9) *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- 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TempC.Text = cTe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4999-94FD-425B-92E9-7DB8ECC54BD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55" name="Content Placeholder 6" descr="5-1-1R.tif"/>
          <p:cNvPicPr/>
          <p:nvPr/>
        </p:nvPicPr>
        <p:blipFill>
          <a:blip r:embed="rId1"/>
          <a:stretch/>
        </p:blipFill>
        <p:spPr>
          <a:xfrm>
            <a:off x="1308240" y="2514600"/>
            <a:ext cx="6616440" cy="3429000"/>
          </a:xfrm>
          <a:prstGeom prst="rect">
            <a:avLst/>
          </a:prstGeom>
          <a:ln w="0">
            <a:noFill/>
          </a:ln>
        </p:spPr>
      </p:pic>
      <p:sp>
        <p:nvSpPr>
          <p:cNvPr id="65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E356-6F69-4EA5-9086-2C889202D7B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Several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ay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age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ouble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 Total amount of salary per ho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elect 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r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=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h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the wage (salary/hour) increases 50% per every extra hour (extra hours &gt;4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40 +(0.5 * wage * (hrs – 40)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el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B16F-0A4B-4679-99C3-4EDE32EDB92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563868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W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5791320" y="3805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Content Placeholder 10" descr="5-1-3.tif"/>
          <p:cNvPicPr/>
          <p:nvPr/>
        </p:nvPicPr>
        <p:blipFill>
          <a:blip r:embed="rId1"/>
          <a:stretch/>
        </p:blipFill>
        <p:spPr>
          <a:xfrm>
            <a:off x="717480" y="2209680"/>
            <a:ext cx="4692600" cy="3961080"/>
          </a:xfrm>
          <a:prstGeom prst="rect">
            <a:avLst/>
          </a:prstGeom>
          <a:ln w="0">
            <a:noFill/>
          </a:ln>
        </p:spPr>
      </p:pic>
      <p:sp>
        <p:nvSpPr>
          <p:cNvPr id="666" name="Line 8"/>
          <p:cNvSpPr/>
          <p:nvPr/>
        </p:nvSpPr>
        <p:spPr>
          <a:xfrm flipH="1">
            <a:off x="4800240" y="4038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6"/>
          <p:cNvSpPr/>
          <p:nvPr/>
        </p:nvSpPr>
        <p:spPr>
          <a:xfrm flipH="1">
            <a:off x="4800240" y="3357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1"/>
          <p:cNvSpPr/>
          <p:nvPr/>
        </p:nvSpPr>
        <p:spPr>
          <a:xfrm>
            <a:off x="5867280" y="5329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Earning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8"/>
          <p:cNvSpPr/>
          <p:nvPr/>
        </p:nvSpPr>
        <p:spPr>
          <a:xfrm flipH="1">
            <a:off x="480024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Partial Co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228600" y="1981080"/>
            <a:ext cx="87631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_Click(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_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.Click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hourlyWage, hoursWorkded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lyWage = txtWage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sWorked = txtHours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xtEarnings.Text =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ormatCurrency(Pay(hourlyWage, hoursWorked)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1374-09E8-43F7-B100-B70F86205BB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33526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Function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Up Arrow 6"/>
          <p:cNvSpPr/>
          <p:nvPr/>
        </p:nvSpPr>
        <p:spPr>
          <a:xfrm>
            <a:off x="3886200" y="4952880"/>
            <a:ext cx="457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898C-B84D-4229-8BA1-376E8DD1B27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5410080" y="51055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Content Placeholder 7" descr="5-1-3R.tif"/>
          <p:cNvPicPr/>
          <p:nvPr/>
        </p:nvPicPr>
        <p:blipFill>
          <a:blip r:embed="rId1"/>
          <a:stretch/>
        </p:blipFill>
        <p:spPr>
          <a:xfrm>
            <a:off x="2286000" y="2286000"/>
            <a:ext cx="4335480" cy="3657600"/>
          </a:xfrm>
          <a:prstGeom prst="rect">
            <a:avLst/>
          </a:prstGeom>
          <a:ln w="0">
            <a:noFill/>
          </a:ln>
        </p:spPr>
      </p:pic>
      <p:sp>
        <p:nvSpPr>
          <p:cNvPr id="68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D1EB-A41E-45A2-AAFC-AFCA8873256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600" y="209700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OfItem(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ric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Pric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quantity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Quantity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 = price * 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F736-B2AF-4D93-A991-AC4E9575FBF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Boolean-Valued Fun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IsVowelWord(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word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A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                               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Boolea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ord.IndexOf(</a:t>
            </a:r>
            <a:r>
              <a:rPr b="1" lang="en-US" sz="2100" spc="-1" strike="noStrike">
                <a:solidFill>
                  <a:srgbClr val="a31515"/>
                </a:solidFill>
                <a:latin typeface="Courier New"/>
              </a:rPr>
              <a:t>"A"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= -1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I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ord.IndexOf(</a:t>
            </a:r>
            <a:r>
              <a:rPr b="1" lang="en-US" sz="2100" spc="-1" strike="noStrike">
                <a:solidFill>
                  <a:srgbClr val="a31515"/>
                </a:solidFill>
                <a:latin typeface="Courier New"/>
              </a:rPr>
              <a:t>"U"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= -1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I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r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EE4F-3AD3-44B3-9F24-F808FCD6304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73604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Proced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, Part 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, Part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dular 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4E4A-5F69-4D8C-9684-B7F0A5901BA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 Procedures, Part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ning and Calling Sub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riables and Expressions as Argu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 Calling Other Sub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21CF-690F-458C-BA4F-745E46533B0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Form of Sub Proced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96" name="Picture 5" descr="DefineSub.tif"/>
          <p:cNvPicPr/>
          <p:nvPr/>
        </p:nvPicPr>
        <p:blipFill>
          <a:blip r:embed="rId1"/>
          <a:stretch/>
        </p:blipFill>
        <p:spPr>
          <a:xfrm>
            <a:off x="609480" y="2438280"/>
            <a:ext cx="6842160" cy="2503440"/>
          </a:xfrm>
          <a:prstGeom prst="rect">
            <a:avLst/>
          </a:prstGeom>
          <a:ln w="0">
            <a:noFill/>
          </a:ln>
        </p:spPr>
      </p:pic>
      <p:sp>
        <p:nvSpPr>
          <p:cNvPr id="6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8C17-EDA6-4DC9-9915-D5833F302D2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ling a Sub Proced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21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tement that invokes /calls a Sub procedure is referred to as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alling statem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alling statement looks like thi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Name(arg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g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...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g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9E42-BB73-4E44-AF68-9695529A6F0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ming Sub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698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ules for naming Sub procedures are the same as the rules for naming vari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6B89-BC9B-4B0E-8128-32934F189CA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Val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 2, 3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2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z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 = num1 + num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e sum of "</a:t>
            </a:r>
            <a:r>
              <a:rPr b="1" lang="en-US" sz="2400" spc="-1" strike="noStrike">
                <a:solidFill>
                  <a:srgbClr val="e2d7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num1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and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amp; num2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is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z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 Sub procedure, 2 will be store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um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3 will be store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u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Line 4"/>
          <p:cNvSpPr/>
          <p:nvPr/>
        </p:nvSpPr>
        <p:spPr>
          <a:xfrm flipH="1">
            <a:off x="4648320" y="2276640"/>
            <a:ext cx="86040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6300720" y="2276640"/>
            <a:ext cx="170028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6E6F-CA08-462F-93A3-94F1E221EDB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guments and Paramet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(2, 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2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Line 6"/>
          <p:cNvSpPr/>
          <p:nvPr/>
        </p:nvSpPr>
        <p:spPr>
          <a:xfrm flipV="1">
            <a:off x="3352680" y="2437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7"/>
          <p:cNvSpPr/>
          <p:nvPr/>
        </p:nvSpPr>
        <p:spPr>
          <a:xfrm flipV="1">
            <a:off x="3886200" y="2437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35268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457200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0"/>
          <p:cNvSpPr/>
          <p:nvPr/>
        </p:nvSpPr>
        <p:spPr>
          <a:xfrm>
            <a:off x="5181480" y="3213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1"/>
          <p:cNvSpPr/>
          <p:nvPr/>
        </p:nvSpPr>
        <p:spPr>
          <a:xfrm>
            <a:off x="2895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2"/>
          <p:cNvSpPr/>
          <p:nvPr/>
        </p:nvSpPr>
        <p:spPr>
          <a:xfrm>
            <a:off x="4267080" y="36450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3"/>
          <p:cNvSpPr/>
          <p:nvPr/>
        </p:nvSpPr>
        <p:spPr>
          <a:xfrm>
            <a:off x="8229600" y="3645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4"/>
          <p:cNvSpPr/>
          <p:nvPr/>
        </p:nvSpPr>
        <p:spPr>
          <a:xfrm>
            <a:off x="4267080" y="3645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7086600" y="3645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6"/>
          <p:cNvSpPr/>
          <p:nvPr/>
        </p:nvSpPr>
        <p:spPr>
          <a:xfrm>
            <a:off x="4038480" y="503712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play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7"/>
          <p:cNvSpPr/>
          <p:nvPr/>
        </p:nvSpPr>
        <p:spPr>
          <a:xfrm flipV="1">
            <a:off x="3352680" y="4655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8"/>
          <p:cNvSpPr/>
          <p:nvPr/>
        </p:nvSpPr>
        <p:spPr>
          <a:xfrm flipV="1">
            <a:off x="7086600" y="4655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9"/>
          <p:cNvSpPr/>
          <p:nvPr/>
        </p:nvSpPr>
        <p:spPr>
          <a:xfrm>
            <a:off x="3352680" y="5265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21"/>
          <p:cNvSpPr/>
          <p:nvPr/>
        </p:nvSpPr>
        <p:spPr>
          <a:xfrm>
            <a:off x="6019920" y="534204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ooter Placeholder 19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17F7-2EEB-4463-9FAB-F328D268924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veral Calling State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2, 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4, 6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7, 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Constantia"/>
              </a:rPr>
              <a:t>Outpu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2 and 3 is 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4 and 6 is 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7 and 8 is 1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30D6-D3F7-4898-AEFA-846D2D0DAED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Strings and Numb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mo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  <a:ea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3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</a:t>
            </a:r>
            <a:r>
              <a:rPr b="1" lang="en-US" sz="2400" spc="-1" strike="noStrike">
                <a:solidFill>
                  <a:srgbClr val="e2d7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stat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38,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uld not be valid. The types of the arguments must be in the same order as the types of the parame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Line 6"/>
          <p:cNvSpPr/>
          <p:nvPr/>
        </p:nvSpPr>
        <p:spPr>
          <a:xfrm flipH="1">
            <a:off x="3419280" y="2362320"/>
            <a:ext cx="1076040" cy="20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7"/>
          <p:cNvSpPr/>
          <p:nvPr/>
        </p:nvSpPr>
        <p:spPr>
          <a:xfrm>
            <a:off x="5562720" y="236232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A60E-17F7-49FC-9246-06445518282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ariables and Expressions as Argu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s, 2 * p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argument names need not match the parameter names. For instance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versu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 Procedure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" y="1981080"/>
            <a:ext cx="8726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ribeTask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Clear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is program displays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e name and populatio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of a state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6557-D941-455A-B415-A43D79540C1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D460-D401-48C9-99AC-9B467485AA9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vices for Modular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ual Basic has two ways for breaking problems into smaller piec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unction procedur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ub procedur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12A3-6124-4AC5-98C1-4DB7FB7A2CA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617b"/>
                </a:solidFill>
                <a:latin typeface="Calibri"/>
              </a:rPr>
              <a:t>Sub Procedure Calling Another Sub Procedure</a:t>
            </a:r>
            <a:endParaRPr b="0" lang="en-US" sz="3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26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tnDisplay_Click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_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tnDisplay.Cli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37)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ribeTask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program displ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ame and pop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f a st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A has population 37 mill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6F61-9618-4D6A-85E1-D1B5F5B28AA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728D-373F-4023-8F76-B507B04337D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 Procedures, Part 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by Valu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by Refe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 that Return a Singl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etime and Scope of Variables and Consta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bugg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795C-5929-4265-B97F-11E5E74B37E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yVal and ByRe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2249280"/>
            <a:ext cx="796464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meters in Sub procedure headers are proceeded by ByVal or ByRe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Val stands for By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Ref stands for By Refe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86DE-162A-4F98-BC3E-1E47635365C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by Valu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698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variable argument is passed to a ByVal parameter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just the value of the argument is pass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e Sub procedure ends, the variable has its original val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7B7C-41AC-4553-8D02-84A53587B6D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324000" y="1341360"/>
            <a:ext cx="8496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Handles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2" name="Straight Arrow Connector 5"/>
          <p:cNvCxnSpPr/>
          <p:nvPr/>
        </p:nvCxnSpPr>
        <p:spPr>
          <a:xfrm flipH="1">
            <a:off x="2050560" y="2637000"/>
            <a:ext cx="3601440" cy="7200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773" name="Straight Arrow Connector 6"/>
          <p:cNvCxnSpPr/>
          <p:nvPr/>
        </p:nvCxnSpPr>
        <p:spPr>
          <a:xfrm flipH="1">
            <a:off x="3419280" y="2636640"/>
            <a:ext cx="2232720" cy="11527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774" name="TextBox 9"/>
          <p:cNvSpPr/>
          <p:nvPr/>
        </p:nvSpPr>
        <p:spPr>
          <a:xfrm>
            <a:off x="565164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) is different than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644364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1"/>
          <p:cNvSpPr/>
          <p:nvPr/>
        </p:nvSpPr>
        <p:spPr>
          <a:xfrm>
            <a:off x="738036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"/>
          <p:cNvSpPr/>
          <p:nvPr/>
        </p:nvSpPr>
        <p:spPr>
          <a:xfrm>
            <a:off x="6443640" y="566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4"/>
          <p:cNvSpPr/>
          <p:nvPr/>
        </p:nvSpPr>
        <p:spPr>
          <a:xfrm>
            <a:off x="7380360" y="566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oter Placeholder 1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8AFB-85DB-4C24-8AC5-D77A940016B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ame Example: n    num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Text Box 3"/>
          <p:cNvSpPr/>
          <p:nvPr/>
        </p:nvSpPr>
        <p:spPr>
          <a:xfrm>
            <a:off x="324000" y="1268280"/>
            <a:ext cx="835164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2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1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 num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4"/>
          <p:cNvSpPr/>
          <p:nvPr/>
        </p:nvSpPr>
        <p:spPr>
          <a:xfrm>
            <a:off x="5796000" y="981000"/>
            <a:ext cx="380880" cy="0"/>
          </a:xfrm>
          <a:prstGeom prst="line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5" name="Straight Arrow Connector 5"/>
          <p:cNvCxnSpPr/>
          <p:nvPr/>
        </p:nvCxnSpPr>
        <p:spPr>
          <a:xfrm flipH="1">
            <a:off x="2410920" y="2636640"/>
            <a:ext cx="3674160" cy="108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786" name="Straight Arrow Connector 6"/>
          <p:cNvCxnSpPr/>
          <p:nvPr/>
        </p:nvCxnSpPr>
        <p:spPr>
          <a:xfrm flipH="1">
            <a:off x="3418920" y="3068640"/>
            <a:ext cx="2665800" cy="72144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787" name="TextBox 7"/>
          <p:cNvSpPr/>
          <p:nvPr/>
        </p:nvSpPr>
        <p:spPr>
          <a:xfrm>
            <a:off x="601200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um) is same as the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2"/>
          <p:cNvSpPr/>
          <p:nvPr/>
        </p:nvSpPr>
        <p:spPr>
          <a:xfrm>
            <a:off x="644364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738036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4"/>
          <p:cNvSpPr/>
          <p:nvPr/>
        </p:nvSpPr>
        <p:spPr>
          <a:xfrm>
            <a:off x="6443640" y="566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5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6"/>
          <p:cNvSpPr/>
          <p:nvPr/>
        </p:nvSpPr>
        <p:spPr>
          <a:xfrm>
            <a:off x="7380360" y="566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ooter Placeholder 1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5A16-0160-4B24-AECD-1B976EAFAFD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by Referenc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642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variable argument is passed to a ByRef parameter, the parameter is given the same memory location as the arg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e Sub procedure terminates, the variable has the value of the parame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2E81-878A-434F-84BE-D35621E51F7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Text Box 3"/>
          <p:cNvSpPr/>
          <p:nvPr/>
        </p:nvSpPr>
        <p:spPr>
          <a:xfrm>
            <a:off x="457200" y="1341360"/>
            <a:ext cx="8229600" cy="68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2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1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1" name="Straight Arrow Connector 4"/>
          <p:cNvCxnSpPr/>
          <p:nvPr/>
        </p:nvCxnSpPr>
        <p:spPr>
          <a:xfrm flipH="1" flipV="1">
            <a:off x="2555640" y="2565000"/>
            <a:ext cx="3529440" cy="2167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02" name="Straight Arrow Connector 5"/>
          <p:cNvCxnSpPr>
            <a:stCxn id="803" idx="1"/>
          </p:cNvCxnSpPr>
          <p:nvPr/>
        </p:nvCxnSpPr>
        <p:spPr>
          <a:xfrm flipH="1">
            <a:off x="3491640" y="3182400"/>
            <a:ext cx="2520360" cy="3913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03" name="TextBox 6"/>
          <p:cNvSpPr/>
          <p:nvPr/>
        </p:nvSpPr>
        <p:spPr>
          <a:xfrm>
            <a:off x="6012000" y="27208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um) is the same as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5"/>
          <p:cNvSpPr/>
          <p:nvPr/>
        </p:nvSpPr>
        <p:spPr>
          <a:xfrm>
            <a:off x="6588000" y="5272200"/>
            <a:ext cx="107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7"/>
          <p:cNvSpPr/>
          <p:nvPr/>
        </p:nvSpPr>
        <p:spPr>
          <a:xfrm>
            <a:off x="6804000" y="573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8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20"/>
          <p:cNvSpPr/>
          <p:nvPr/>
        </p:nvSpPr>
        <p:spPr>
          <a:xfrm>
            <a:off x="6659640" y="5364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Straight Arrow Connector 22"/>
          <p:cNvCxnSpPr/>
          <p:nvPr/>
        </p:nvCxnSpPr>
        <p:spPr>
          <a:xfrm>
            <a:off x="6948000" y="5516280"/>
            <a:ext cx="288360" cy="1080"/>
          </a:xfrm>
          <a:prstGeom prst="straightConnector1">
            <a:avLst/>
          </a:prstGeom>
          <a:ln w="9360">
            <a:solidFill>
              <a:srgbClr val="0073a1"/>
            </a:solidFill>
            <a:miter/>
            <a:tailEnd len="med" type="arrow" w="med"/>
          </a:ln>
        </p:spPr>
      </p:cxnSp>
      <p:sp>
        <p:nvSpPr>
          <p:cNvPr id="809" name="Footer Placeholder 1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340D-EC5C-4182-9314-DD4D8A96F64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Example: num     n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457200" y="1268280"/>
            <a:ext cx="8291520" cy="57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tnOne_Click(...)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_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5796000" y="907920"/>
            <a:ext cx="533520" cy="0"/>
          </a:xfrm>
          <a:prstGeom prst="line">
            <a:avLst/>
          </a:prstGeom>
          <a:ln w="255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Straight Arrow Connector 5"/>
          <p:cNvCxnSpPr/>
          <p:nvPr/>
        </p:nvCxnSpPr>
        <p:spPr>
          <a:xfrm flipH="1" flipV="1">
            <a:off x="2267640" y="2564640"/>
            <a:ext cx="3744360" cy="7236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15" name="Straight Arrow Connector 6"/>
          <p:cNvCxnSpPr/>
          <p:nvPr/>
        </p:nvCxnSpPr>
        <p:spPr>
          <a:xfrm flipH="1">
            <a:off x="3563640" y="3068280"/>
            <a:ext cx="2521440" cy="57708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16" name="TextBox 7"/>
          <p:cNvSpPr/>
          <p:nvPr/>
        </p:nvSpPr>
        <p:spPr>
          <a:xfrm>
            <a:off x="601200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) is different than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16"/>
          <p:cNvSpPr/>
          <p:nvPr/>
        </p:nvSpPr>
        <p:spPr>
          <a:xfrm>
            <a:off x="6516720" y="566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7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18"/>
          <p:cNvSpPr/>
          <p:nvPr/>
        </p:nvSpPr>
        <p:spPr>
          <a:xfrm>
            <a:off x="7236000" y="5661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9"/>
          <p:cNvSpPr/>
          <p:nvPr/>
        </p:nvSpPr>
        <p:spPr>
          <a:xfrm>
            <a:off x="6588000" y="5272200"/>
            <a:ext cx="107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0"/>
          <p:cNvSpPr/>
          <p:nvPr/>
        </p:nvSpPr>
        <p:spPr>
          <a:xfrm>
            <a:off x="6659640" y="5364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Straight Arrow Connector 21"/>
          <p:cNvCxnSpPr/>
          <p:nvPr/>
        </p:nvCxnSpPr>
        <p:spPr>
          <a:xfrm>
            <a:off x="6948000" y="5516280"/>
            <a:ext cx="288360" cy="1080"/>
          </a:xfrm>
          <a:prstGeom prst="straightConnector1">
            <a:avLst/>
          </a:prstGeom>
          <a:ln w="9360">
            <a:solidFill>
              <a:srgbClr val="0073a1"/>
            </a:solidFill>
            <a:miter/>
            <a:tailEnd len="med" type="arrow" w="med"/>
          </a:ln>
        </p:spPr>
      </p:cxnSp>
      <p:sp>
        <p:nvSpPr>
          <p:cNvPr id="823" name="Footer Placeholder 1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3107-3F15-4B9A-AC22-FF4BEA50BDD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One Parame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Several Parame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No Parame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Boolean-Valued Fun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ost Common Use of ByRef: Get Input (Read Inpu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609480" y="1981080"/>
            <a:ext cx="83455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u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Data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  <a:ea typeface="Courier New"/>
              </a:rPr>
              <a:t>By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Wag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rs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Hours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C077-4BC5-43AF-9664-A64A5D04BAD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6757-6A6B-4F33-8DD9-6F87166627D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Lifetime and Scope of a Variable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etime: Period during which it remains in memo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ope: In Sub procedures, defined same as in event procedu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se a variable is declared in procedure A that calls procedure B. While procedure B executes, the variable is alive, but out of scop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05AC-D398-490D-AD61-B7803923EEE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 vs. Sub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642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can perform similar ta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can call other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a function when you want to return one and only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C7C8-09CD-4018-8FAA-94E29E849F9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Some Built-In Func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TextBox 66"/>
          <p:cNvSpPr/>
          <p:nvPr/>
        </p:nvSpPr>
        <p:spPr>
          <a:xfrm>
            <a:off x="380880" y="1828800"/>
            <a:ext cx="6934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Function: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t(2.6) i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: Math.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Math.Round(1.23, 1) is 1.2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41E1-7C92-45DA-9EFB-5B72BA5E762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ome Built-In Functions (continued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TextBox 66"/>
          <p:cNvSpPr/>
          <p:nvPr/>
        </p:nvSpPr>
        <p:spPr>
          <a:xfrm>
            <a:off x="0" y="1981080"/>
            <a:ext cx="88390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: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FormatPer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FormatPercent(0.12, 2) is 12.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: Format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FormatNumber(12.62, 1) is 12.6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FFC6-0AF9-4624-B683-DEA25362869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procedures (also known as user-defined functions) always return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ntax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unctionNa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ar1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ar2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ReturnD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ataT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(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With One Paramet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FtoC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'Convert Fahrenheit temp to Celsi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5 / 9) * (t - 3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EA78-53AA-4815-A6E1-BD2CB5E1115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669780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eader of the FtoC Function Procedu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34" name="Content Placeholder 5" descr="fig5-1.tif"/>
          <p:cNvPicPr/>
          <p:nvPr/>
        </p:nvPicPr>
        <p:blipFill>
          <a:blip r:embed="rId1"/>
          <a:stretch/>
        </p:blipFill>
        <p:spPr>
          <a:xfrm>
            <a:off x="41400" y="2895480"/>
            <a:ext cx="9026280" cy="2025720"/>
          </a:xfrm>
          <a:prstGeom prst="rect">
            <a:avLst/>
          </a:prstGeom>
          <a:ln w="0">
            <a:noFill/>
          </a:ln>
        </p:spPr>
      </p:pic>
      <p:sp>
        <p:nvSpPr>
          <p:cNvPr id="63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117D-A901-4FC8-BD56-43C467A8994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22:39:50Z</dcterms:created>
  <dc:creator>Maysoon</dc:creator>
  <dc:description/>
  <dc:language>en-US</dc:language>
  <cp:lastModifiedBy>FrEeDoM</cp:lastModifiedBy>
  <dcterms:modified xsi:type="dcterms:W3CDTF">2015-03-21T21:08:40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