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notesSlide3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dt" idx="37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 type="ftr" idx="38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 type="sldNum" idx="39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035D4-D504-4EA5-AA06-50C367BF63ED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A4F0C-1788-4322-8A2D-92DBA0BF1FE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B26CF-0E0B-4F9F-8CC5-AABD526C130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BDB06-6FA6-4D50-B26D-5E825C0E6AD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F350B-592E-413F-A366-69D406B5589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76C9F-887A-4C32-9389-DDDF7869CA0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EB571-79E6-4DAF-9499-C316A6EDF30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3192A-378E-4D16-BF88-7054E79B68A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914CC-F7C5-4079-A936-775A69FAE64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3623D-6A69-40F8-8B79-9C7C9BC8E33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AFA4E-FC69-48A8-A094-653B5A3071E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E2A3C-ECFE-482A-9248-1992F6BB227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A10EE-2EF5-4571-9626-6C8335BC3F0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D90B4-A119-4FB5-A032-95C6A5A043A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0203E-8906-4555-9DAA-BE4D1D64B9C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F0CAE-F8F1-4295-880D-0C594C66EC5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9B227-831E-4282-9493-2C36162F9BE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C1FC3-1813-4036-B328-6AF93FD4556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A454D-29B2-441A-9CE3-D007D112580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84F9F-DF54-412F-8E49-C1D0ECFAD14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9B5CD-1F12-4E9E-9EAB-CC3A8A577D2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83959-4E27-40C4-BB9D-0EC2DC577D2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6FD45-8B62-4C1F-AE84-EFA1619B9CE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5E4C5-D1EB-4C09-9184-0255B69A6F5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B17C0-01F5-405D-9053-443CFB259CB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7B34D-03B0-49C0-AF55-A2DB76AF816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0542E-BBD8-4607-AC5C-B73D3DF8BBD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6A720-0891-4EBD-9D37-242D890D7A8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3FF45-2E06-4E10-8383-9F45572BC71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F5402-12B6-4810-BFAF-F37EC5DFE51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C4DA1-253A-4F3E-9535-53DC5AEE469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E114C-F174-4230-A4D5-2C135B9AC64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DE1C-8251-411F-ACCF-D57F901BF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0D04-CC62-4B93-954F-4143EA47F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A82AA7-928C-41EA-8264-615252C51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80DB9C-5830-4836-93AA-0DA90C817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20BFF3-D17A-48C5-8798-0A12195C7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DD17FE-860F-4182-A88D-3947AB973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AC63BA-B2B0-4F9E-93BB-FD76643D6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FE37F1-784F-4062-825C-A32CD86CA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EEFBA7-2F13-49AF-87E8-55DC554FA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1AB7E3-EA87-414B-95B8-8003B202A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7BDE9A-C473-4002-9C2D-785A32533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A082B8-D868-4445-BBC3-43F8E55EF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0EBB-E5B8-4EA1-9953-7C40A49DB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59797D-DB8A-4FE2-80C2-50F5710EA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B44DC5-D158-4D05-A267-ED1341C28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5664DA-D993-4E0F-ADB9-850E87C7C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1139D4-A56A-4150-861D-8AB41183B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A0B6FB-C08E-4E93-8D2D-C55FCFAC5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412322-E7B2-41C2-BE90-CAE61F636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613D11-622D-45E2-9F7C-637BAEC6A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85B03E-9901-4EBD-B380-B55F9BC99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31E581-0D8D-43D3-B244-C90C82C67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1B9727-B7E6-4F30-BAEE-64FA07CA4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C30B-A216-4D7B-8C91-A1095EBA9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16DCE1-8298-46C6-8E15-227D8F689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BA5D7F-09B5-4A06-9D90-1EECF0D1A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BAC0B2-F179-400F-B958-3E09DB186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207EC6-1DD5-4B70-899A-0224DF65F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F9D913-AE9A-4826-8C95-9EB7F1116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D76008-8B43-4AD2-9968-1EF6942D6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94BF83-C3FB-449B-8248-83E7CD894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03B921-7DF0-46E7-BD0F-E64D594D7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4237F3-8167-4B3A-A7A7-533EEDE76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5407DF-C615-4C09-9502-A830B349A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AB2CD-55B0-4954-8DF4-087F15637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D22D41-A8A4-425B-9A74-75423AB16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EA9ED6-D529-4B56-AEA4-E38812BC9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7665C5-8431-42E6-A4B6-AA3B41FEB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2E4B2B-95E6-46A3-9255-EA850AF62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39BA7E-6EF5-4E8F-8F09-8625930ED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7F8FD4-82FC-4286-897C-514E84194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1C71B3-2AD4-48B8-97E8-F26EE1F5E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352CBD-642B-4320-8B3C-678C75DE1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C248E2-8047-4F23-A67A-1A8412B96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7CBD59-1E2B-488F-8631-49D878B4E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CBE71-C915-477F-80FA-724356CAB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8F75CD-7642-495C-AC12-78D5A08D9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B26965-13F5-4646-9BD9-692458832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64299C-A5A7-490E-964D-1516A8C0E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F1D5B4-9402-41BF-AD27-EE14F0229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379246-BFD7-4EB7-BE54-368B0D441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D987E-2462-4B45-8E84-5B2977EA1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7198F-8A1F-447D-8FFA-D94BEF822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BD4A0-F2AC-4153-AD2E-97CAC792C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26E38-EEFD-4FF6-8D66-D5D6109D7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87C67-A2AC-4F47-9934-C8E6B0EBC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59A9-B8D1-4151-983D-742B92CB3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388DF-F218-40DD-BADE-3992CFD36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A9C59-E7C4-43C3-B7FD-935F2643A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CF667-09C0-498C-9E7B-3C8E05D06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FB802-EA69-47EE-891A-69606EAC1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ABAE2-69E4-42A7-A6E6-EFCD7B595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FD19EA-CBBD-4892-ADA6-095EEE75F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74CBD8-0285-4557-AA5A-2C117F5ED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8367BB-86A6-4177-93B0-19665B979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29999D-8BB7-4EFD-B8CA-C482592DB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9D4C1E-C2DC-4757-A3E9-ED7CF63C2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1289-0C7F-4A26-8419-A004EDCD8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AF8119-D092-4363-8D76-5432456E5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963F3F-B788-4D49-936C-277001F86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369780-588B-48C2-9ADA-A199CA5DC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161920-7CF0-4693-B3C9-2B45F38A7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64C781-3071-4A23-994C-8D21CBD18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A253C6-94A7-447F-B2B4-6E910C81F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4C566A-269B-4A1F-8D46-FE48E8100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0B760C-7C29-42BC-AA80-FAFC292C9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A623BB-7EB9-4B18-B0A9-9F55329BD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A559B1-D21E-440B-AC80-80ABAF46A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8785-2A7F-42D5-89D6-A4EBE6AC8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025625-BA49-4008-A943-DB97722C6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AC6E6A-5846-44A6-BEC8-538CF4B5E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E71024-E057-4614-AD32-88332A71A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978111-E56A-4666-81A8-F6D953F32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041C81-9591-467E-8ABC-21686FFD2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6BE8DA-8E7B-4A4C-ACDD-2F89440F6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CD5935-EC31-49B4-A042-C52D85242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08732D-FD1A-442F-8D49-593EB6448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6E183B-C6D9-4181-BD26-39A90CB53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5A8C97-0B32-4419-B02C-9808FB29A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6226-FE8C-4246-BAE6-580D95EE5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505883-0D80-4753-8CFB-5F845A513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549054-8753-4AF2-B9EA-80EF12A3E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9FB627-1DD7-45DE-B9A3-F03947E67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EDE0A5-E5C2-419C-87C0-58F346730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E3E602-C297-4BDF-9572-386392875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D0AEF7-1713-4402-BDF0-C3EBE535D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B3DEE8-7AA4-4326-94F4-F96563242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E46A71-3F18-4C71-BBFB-B18FD4793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D9F4B7-F803-4BA8-A3C2-A9DA861DF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EFF953-B440-4CC7-95D6-5C0EAA0A5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7938-966F-4078-84D8-9B05ED33E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3F95B8-B7CA-4E85-A2B7-41AD07923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774F08-1EA7-4E88-8F40-DC2107823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F5A40D-4AF5-4F08-9BBE-E9C80CBC6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6CF1A7-ACC2-43EE-A126-E640B1F90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6E9CE6-2F47-424F-8D81-AA290E132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4DC0A0-3C75-44A1-B23D-CE88841AD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B8D3FF-F5F8-49F2-BCE6-69EDE4D8B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0E683E-1DE5-4202-8B78-96CF5153F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E0F046-9F5C-417D-9CE9-6DF2DE336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66124A-6235-45EB-866F-22623F9E3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D6E6-AA5D-4C2E-B49C-F0DD31E8C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1FC4AC-DFCA-46FE-8E2F-0CC9E6FEE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C7C7C8-1ABE-4027-B805-EDDD0DDBF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BF9C71-7834-4E32-82D6-E57D8D141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B7C731-2658-4C42-8689-679471FFD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3403A5-25E8-4BB9-95C7-8E83AA39E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8C1251-9572-4D7F-8088-EBE7F5F80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A17366-B322-407A-BB42-9D8675A02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C1F1D9-874E-4778-B80A-0375C52CB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5DC9DD-6B76-4F04-B489-56ADDEAEC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66C8B6-162F-414E-BF75-3A4DEE2DD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376E-C61D-498B-A40D-4FCAFAC9D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46EA4C-7DD4-4F1F-ACE6-447CA5959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23590D-45DF-491D-B9FB-EC6115E22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5F8F77-7C41-4E32-BC25-856FB8B0B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50177E-049D-4340-977C-C80981A03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D0059C-EFE2-4A3D-B649-F989A1454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783275-80E7-403E-BA6C-8480D67E5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2D7247-A7FB-435E-B5FF-48D30D35B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27E91B-8CE0-4A17-9D46-41DF1FE58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86D8D8-08BA-4BF8-BA32-7C1B67BEA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B5431E-893E-486F-8050-CEE29A781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B691-DC92-47D7-ACCB-01969596F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46A95E-8E50-4909-8776-9CC0E59CF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2C396B-D90A-4399-BB9B-4252A73DD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A53D27-BC9E-4378-A233-911A1D4BB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DC6077-89C8-425A-A897-C2648D0CD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453609-F346-4232-AC99-C03E6DF5E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39D1C1-3843-4215-A6F7-5EF9B219B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723EE4-D174-4602-8621-14B32C187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2C3B37-7BC3-499B-AF85-7B88D1CA0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15E859-D81A-4486-8D04-328BC550B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689F9F-942F-4F6A-AAB7-851C4B0C0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BF5AB-C80C-41A7-9EEB-B83B4AECA0A6}" type="datetime">
              <a:rPr b="0" lang="ar-SA" sz="1200" spc="-1" strike="noStrike">
                <a:solidFill>
                  <a:srgbClr val="045c75"/>
                </a:solidFill>
                <a:latin typeface="Constantia"/>
              </a:rPr>
              <a:t>١٤٤٨/٠٢/١٦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328C5-F6BC-4B83-8402-6DCB639885AC}" type="slidenum">
              <a:rPr b="0" lang="ar-S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72A7F-4C24-41A5-8513-612722E2115A}" type="datetime">
              <a:rPr b="0" lang="ar-SA" sz="1200" spc="-1" strike="noStrike">
                <a:solidFill>
                  <a:srgbClr val="045c75"/>
                </a:solidFill>
                <a:latin typeface="Constantia"/>
              </a:rPr>
              <a:t>١٤٤٨/٠٢/١٦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0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7BD52-F597-48D3-8BE3-6CBE080C8C6A}" type="slidenum">
              <a:rPr b="0" lang="ar-S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9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4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CE81F-BD7B-47F8-B22A-A1320A4F06B8}" type="datetime">
              <a:rPr b="0" lang="ar-SA" sz="1200" spc="-1" strike="noStrike">
                <a:solidFill>
                  <a:srgbClr val="045c75"/>
                </a:solidFill>
                <a:latin typeface="Constantia"/>
              </a:rPr>
              <a:t>١٤٤٨/٠٢/١٦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 type="ftr" idx="3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 type="sldNum" idx="3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866F9-FB10-48FA-AD67-E313165ECA64}" type="slidenum">
              <a:rPr b="0" lang="ar-S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4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5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5D0A7-ED1A-4AC8-BA77-BC941802A9C9}" type="datetime">
              <a:rPr b="0" lang="ar-SA" sz="1200" spc="-1" strike="noStrike">
                <a:solidFill>
                  <a:srgbClr val="045c75"/>
                </a:solidFill>
                <a:latin typeface="Constantia"/>
              </a:rPr>
              <a:t>١٤٤٨/٠٢/١٦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3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3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A263E-49D2-43FC-A555-68E56FD04993}" type="slidenum">
              <a:rPr b="0" lang="ar-S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A6103-2F0C-45FD-A9BD-B6A092AF610B}" type="datetime">
              <a:rPr b="0" lang="ar-SA" sz="1200" spc="-1" strike="noStrike">
                <a:solidFill>
                  <a:srgbClr val="d1eaee"/>
                </a:solidFill>
                <a:latin typeface="Constantia"/>
              </a:rPr>
              <a:t>١٤٤٨/٠٢/١٦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F59B7-9084-411C-8195-A3CBC80A24E7}" type="slidenum">
              <a:rPr b="0" lang="ar-SA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E74B7-CB12-49AA-BF1D-DC00B0EC968A}" type="datetime">
              <a:rPr b="0" lang="ar-SA" sz="1200" spc="-1" strike="noStrike">
                <a:solidFill>
                  <a:srgbClr val="045c75"/>
                </a:solidFill>
                <a:latin typeface="Constantia"/>
              </a:rPr>
              <a:t>١٤٤٨/٠٢/١٦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AB69D-B04C-4AED-A9BF-C626BDDC0E58}" type="slidenum">
              <a:rPr b="0" lang="ar-S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7D02D-9098-4D62-904B-303709BD3ED6}" type="datetime">
              <a:rPr b="0" lang="ar-SA" sz="1200" spc="-1" strike="noStrike">
                <a:solidFill>
                  <a:srgbClr val="d1eaee"/>
                </a:solidFill>
                <a:latin typeface="Constantia"/>
              </a:rPr>
              <a:t>١٤٤٨/٠٢/١٦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419BB-8201-4AF9-B5DB-C92D15256535}" type="slidenum">
              <a:rPr b="0" lang="ar-SA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1FDBC-A344-41BF-B6E4-2D8C08127CA1}" type="datetime">
              <a:rPr b="0" lang="ar-SA" sz="1200" spc="-1" strike="noStrike">
                <a:solidFill>
                  <a:srgbClr val="045c75"/>
                </a:solidFill>
                <a:latin typeface="Constantia"/>
              </a:rPr>
              <a:t>١٤٤٨/٠٢/١٦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78547-AABB-409B-9E12-B05C15786A10}" type="slidenum">
              <a:rPr b="0" lang="ar-S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608DB-F02D-4503-93BF-433BCA6F1CBD}" type="datetime">
              <a:rPr b="0" lang="ar-SA" sz="1200" spc="-1" strike="noStrike">
                <a:solidFill>
                  <a:srgbClr val="045c75"/>
                </a:solidFill>
                <a:latin typeface="Constantia"/>
              </a:rPr>
              <a:t>١٤٤٨/٠٢/١٦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1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A0F46-09B8-4D48-9892-A0FAC5E33C02}" type="slidenum">
              <a:rPr b="0" lang="ar-S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3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018CE-11B7-4B9B-A4A5-E383D43BF228}" type="datetime">
              <a:rPr b="0" lang="ar-SA" sz="1200" spc="-1" strike="noStrike">
                <a:solidFill>
                  <a:srgbClr val="045c75"/>
                </a:solidFill>
                <a:latin typeface="Constantia"/>
              </a:rPr>
              <a:t>١٤٤٨/٠٢/١٦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CAE61-121A-4DD7-983A-CA6AE4670116}" type="slidenum">
              <a:rPr b="0" lang="ar-S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3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E26BE-1F53-4284-8ECC-72BF3BD1C914}" type="datetime">
              <a:rPr b="0" lang="ar-SA" sz="1200" spc="-1" strike="noStrike">
                <a:solidFill>
                  <a:srgbClr val="045c75"/>
                </a:solidFill>
                <a:latin typeface="Constantia"/>
              </a:rPr>
              <a:t>١٤٤٨/٠٢/١٦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2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24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0FB83-889B-4662-A7A8-FF78C7B7A1A3}" type="slidenum">
              <a:rPr b="0" lang="ar-S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4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58A59-72E4-42B8-84AC-7FDBB61109FF}" type="datetime">
              <a:rPr b="0" lang="ar-SA" sz="1200" spc="-1" strike="noStrike">
                <a:solidFill>
                  <a:srgbClr val="045c75"/>
                </a:solidFill>
                <a:latin typeface="Constantia"/>
              </a:rPr>
              <a:t>١٤٤٨/٠٢/١٦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27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0ABF7-D278-46EE-93A8-8C74A9E00380}" type="slidenum">
              <a:rPr b="0" lang="ar-S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2" name="Title 1" descr=""/>
          <p:cNvPicPr/>
          <p:nvPr/>
        </p:nvPicPr>
        <p:blipFill>
          <a:blip r:embed="rId1"/>
          <a:stretch/>
        </p:blipFill>
        <p:spPr>
          <a:xfrm>
            <a:off x="128520" y="1371600"/>
            <a:ext cx="8534520" cy="2193840"/>
          </a:xfrm>
          <a:prstGeom prst="rect">
            <a:avLst/>
          </a:prstGeom>
          <a:ln w="0">
            <a:noFill/>
          </a:ln>
        </p:spPr>
      </p:pic>
      <p:sp>
        <p:nvSpPr>
          <p:cNvPr id="603" name="Slide Number Placeholder 2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2A939-1912-44EE-B474-6F5DEEB388AD}" type="slidenum">
              <a:rPr b="0" lang="ar-SA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Footer Placeholder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847C0-4171-45CC-B72F-5DCD08024332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xample 1: Form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9" name="Text Box 7"/>
          <p:cNvSpPr/>
          <p:nvPr/>
        </p:nvSpPr>
        <p:spPr>
          <a:xfrm>
            <a:off x="7086600" y="3195720"/>
            <a:ext cx="167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xtTemp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 Box 10"/>
          <p:cNvSpPr/>
          <p:nvPr/>
        </p:nvSpPr>
        <p:spPr>
          <a:xfrm>
            <a:off x="7086600" y="48718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xtTem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1" name="Content Placeholder 10" descr="5-1-1.tif"/>
          <p:cNvPicPr/>
          <p:nvPr/>
        </p:nvPicPr>
        <p:blipFill>
          <a:blip r:embed="rId1"/>
          <a:stretch/>
        </p:blipFill>
        <p:spPr>
          <a:xfrm>
            <a:off x="380880" y="2286000"/>
            <a:ext cx="6616800" cy="3429000"/>
          </a:xfrm>
          <a:prstGeom prst="rect">
            <a:avLst/>
          </a:prstGeom>
          <a:ln w="0">
            <a:noFill/>
          </a:ln>
        </p:spPr>
      </p:pic>
      <p:sp>
        <p:nvSpPr>
          <p:cNvPr id="642" name="Line 6"/>
          <p:cNvSpPr/>
          <p:nvPr/>
        </p:nvSpPr>
        <p:spPr>
          <a:xfrm flipH="1">
            <a:off x="6019920" y="3424320"/>
            <a:ext cx="12189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Line 8"/>
          <p:cNvSpPr/>
          <p:nvPr/>
        </p:nvSpPr>
        <p:spPr>
          <a:xfrm flipH="1">
            <a:off x="6095520" y="510048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Footer Placeholder 8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Example 1: Code Using Function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6" name=""/>
          <p:cNvSpPr txBox="1"/>
          <p:nvPr/>
        </p:nvSpPr>
        <p:spPr>
          <a:xfrm>
            <a:off x="456840" y="1981080"/>
            <a:ext cx="8497800" cy="41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5dfd0"/>
                </a:solidFill>
                <a:latin typeface="Courier New"/>
              </a:rPr>
              <a:t>Private Su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onvert(</a:t>
            </a:r>
            <a:r>
              <a:rPr b="1" lang="en-US" sz="1800" spc="-1" strike="noStrike">
                <a:solidFill>
                  <a:srgbClr val="85dfd0"/>
                </a:solidFill>
                <a:latin typeface="Courier New"/>
              </a:rPr>
              <a:t>..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en-US" sz="1800" spc="-1" strike="noStrike">
                <a:solidFill>
                  <a:srgbClr val="85dfd0"/>
                </a:solidFill>
                <a:latin typeface="Courier New"/>
              </a:rPr>
              <a:t>Handle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tnCnvrt.Click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85dfd0"/>
                </a:solidFill>
                <a:latin typeface="Courier New"/>
              </a:rPr>
              <a:t>Dim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Temp, cTemp </a:t>
            </a:r>
            <a:r>
              <a:rPr b="1" lang="en-US" sz="1800" spc="-1" strike="noStrike">
                <a:solidFill>
                  <a:srgbClr val="85dfd0"/>
                </a:solidFill>
                <a:latin typeface="Courier New"/>
              </a:rPr>
              <a:t>As Doubl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Temp = txtTempF.Text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Temp = FtoC(fTemp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xtTempC.Text = cTem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5dfd0"/>
                </a:solidFill>
                <a:latin typeface="Courier New"/>
              </a:rPr>
              <a:t>End Sub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Functio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FtoC(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ByVal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t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A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)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A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(5 / 9) * (t - 32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En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Function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7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D40CE-A7A0-46A7-A039-70D5261CF3EE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990720" y="617040"/>
            <a:ext cx="8526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Example 1: Code </a:t>
            </a: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Without Using Function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0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DA5FE-0898-4A89-B1C2-D517F7E27C40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 txBox="1"/>
          <p:nvPr/>
        </p:nvSpPr>
        <p:spPr>
          <a:xfrm>
            <a:off x="380520" y="1981080"/>
            <a:ext cx="8574120" cy="41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5dfd0"/>
                </a:solidFill>
                <a:latin typeface="Courier New"/>
              </a:rPr>
              <a:t>Private Su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tnConvert_Click(</a:t>
            </a:r>
            <a:r>
              <a:rPr b="1" lang="en-US" sz="1800" spc="-1" strike="noStrike">
                <a:solidFill>
                  <a:srgbClr val="85dfd0"/>
                </a:solidFill>
                <a:latin typeface="Courier New"/>
              </a:rPr>
              <a:t>..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 _</a:t>
            </a:r>
            <a:r>
              <a:rPr b="1" lang="en-US" sz="1800" spc="-1" strike="noStrike">
                <a:solidFill>
                  <a:srgbClr val="85dfd0"/>
                </a:solidFill>
                <a:latin typeface="Courier New"/>
              </a:rPr>
              <a:t>Handle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tnConvert.Click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85dfd0"/>
                </a:solidFill>
                <a:latin typeface="Courier New"/>
              </a:rPr>
              <a:t>Dim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Temp, cTemp </a:t>
            </a:r>
            <a:r>
              <a:rPr b="1" lang="en-US" sz="1800" spc="-1" strike="noStrike">
                <a:solidFill>
                  <a:srgbClr val="85dfd0"/>
                </a:solidFill>
                <a:latin typeface="Courier New"/>
              </a:rPr>
              <a:t>As Doubl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Temp = txtTempF.Text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Temp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(5 / 9) *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Temp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- 32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xtTempC.Text = cTem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5dfd0"/>
                </a:solidFill>
                <a:latin typeface="Courier New"/>
              </a:rPr>
              <a:t>End Sub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2" name="Footer Placeholder 5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96BB6-EA67-45D0-A051-946FD2D5BE1D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xample 1: Outpu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655" name="Content Placeholder 6" descr="5-1-1R.tif"/>
          <p:cNvPicPr/>
          <p:nvPr/>
        </p:nvPicPr>
        <p:blipFill>
          <a:blip r:embed="rId1"/>
          <a:stretch/>
        </p:blipFill>
        <p:spPr>
          <a:xfrm>
            <a:off x="1308240" y="2514600"/>
            <a:ext cx="6616440" cy="3429000"/>
          </a:xfrm>
          <a:prstGeom prst="rect">
            <a:avLst/>
          </a:prstGeom>
          <a:ln w="0">
            <a:noFill/>
          </a:ln>
        </p:spPr>
      </p:pic>
      <p:sp>
        <p:nvSpPr>
          <p:cNvPr id="656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B91B2-2FF1-4E17-B199-5DEA3D0BE0C7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User-Defined Function Having Several Parameter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86800" cy="41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Functi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Pay(</a:t>
            </a: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ByVal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wage </a:t>
            </a: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As 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ByVal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hrs </a:t>
            </a: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As 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As Doubl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Di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amt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A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Double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‘ Total amount of salary per hour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Select Ca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rs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Case I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= 40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mt = wage * hr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Case I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gt; 40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‘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the wage (salary/hour) increases 50% per every extra hour (extra hours &gt;40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mt = wage * 40 +(0.5 * wage * (hrs – 40)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End Selec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Retur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mt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End Functio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0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F9C43-3B1A-44ED-9CC7-769EEC2DC6FA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xample 3: Form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3" name="Text Box 7"/>
          <p:cNvSpPr/>
          <p:nvPr/>
        </p:nvSpPr>
        <p:spPr>
          <a:xfrm>
            <a:off x="5638680" y="31240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xtW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 Box 10"/>
          <p:cNvSpPr/>
          <p:nvPr/>
        </p:nvSpPr>
        <p:spPr>
          <a:xfrm>
            <a:off x="5791320" y="38052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xtH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Content Placeholder 10" descr="5-1-3.tif"/>
          <p:cNvPicPr/>
          <p:nvPr/>
        </p:nvPicPr>
        <p:blipFill>
          <a:blip r:embed="rId1"/>
          <a:stretch/>
        </p:blipFill>
        <p:spPr>
          <a:xfrm>
            <a:off x="717480" y="2209680"/>
            <a:ext cx="4692600" cy="3961080"/>
          </a:xfrm>
          <a:prstGeom prst="rect">
            <a:avLst/>
          </a:prstGeom>
          <a:ln w="0">
            <a:noFill/>
          </a:ln>
        </p:spPr>
      </p:pic>
      <p:sp>
        <p:nvSpPr>
          <p:cNvPr id="666" name="Line 8"/>
          <p:cNvSpPr/>
          <p:nvPr/>
        </p:nvSpPr>
        <p:spPr>
          <a:xfrm flipH="1">
            <a:off x="4800240" y="403848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Line 6"/>
          <p:cNvSpPr/>
          <p:nvPr/>
        </p:nvSpPr>
        <p:spPr>
          <a:xfrm flipH="1">
            <a:off x="4800240" y="335772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Box 11"/>
          <p:cNvSpPr/>
          <p:nvPr/>
        </p:nvSpPr>
        <p:spPr>
          <a:xfrm>
            <a:off x="5867280" y="53290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xtEarnings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Line 8"/>
          <p:cNvSpPr/>
          <p:nvPr/>
        </p:nvSpPr>
        <p:spPr>
          <a:xfrm flipH="1">
            <a:off x="4800240" y="556272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Footer Placeholder 10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xample 3: Partial Co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2" name=""/>
          <p:cNvSpPr txBox="1"/>
          <p:nvPr/>
        </p:nvSpPr>
        <p:spPr>
          <a:xfrm>
            <a:off x="228600" y="1981080"/>
            <a:ext cx="8763120" cy="41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5dfd0"/>
                </a:solidFill>
                <a:latin typeface="Courier New"/>
              </a:rPr>
              <a:t>Private Sub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btnCalculate_Click(</a:t>
            </a:r>
            <a:r>
              <a:rPr b="1" lang="en-US" sz="2300" spc="-1" strike="noStrike">
                <a:solidFill>
                  <a:srgbClr val="85dfd0"/>
                </a:solidFill>
                <a:latin typeface="Courier New"/>
              </a:rPr>
              <a:t>...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) _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1" lang="en-US" sz="2300" spc="-1" strike="noStrike">
                <a:solidFill>
                  <a:srgbClr val="85dfd0"/>
                </a:solidFill>
                <a:latin typeface="Courier New"/>
              </a:rPr>
              <a:t>Handles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btnCalculate.Click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300" spc="-1" strike="noStrike">
                <a:solidFill>
                  <a:srgbClr val="85dfd0"/>
                </a:solidFill>
                <a:latin typeface="Courier New"/>
              </a:rPr>
              <a:t>Dim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hourlyWage, hoursWorkded </a:t>
            </a:r>
            <a:r>
              <a:rPr b="1" lang="en-US" sz="2300" spc="-1" strike="noStrike">
                <a:solidFill>
                  <a:srgbClr val="85dfd0"/>
                </a:solidFill>
                <a:latin typeface="Courier New"/>
              </a:rPr>
              <a:t>As Double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hourlyWage = txtWage.Text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hoursWorked = txtHours.Text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txtEarnings.Text = 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FormatCurrency(Pay(hourlyWage, hoursWorked))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5dfd0"/>
                </a:solidFill>
                <a:latin typeface="Courier New"/>
              </a:rPr>
              <a:t>End Sub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3" name="Slide Number Placeholder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EC8D0-5AF5-4A7D-87A2-91D7AAD9D4AB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Box 5"/>
          <p:cNvSpPr/>
          <p:nvPr/>
        </p:nvSpPr>
        <p:spPr>
          <a:xfrm>
            <a:off x="3352680" y="54864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Constantia"/>
              </a:rPr>
              <a:t>Function c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Up Arrow 6"/>
          <p:cNvSpPr/>
          <p:nvPr/>
        </p:nvSpPr>
        <p:spPr>
          <a:xfrm>
            <a:off x="3886200" y="4952880"/>
            <a:ext cx="457200" cy="4572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0f6fc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Footer Placeholder 6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6022B-0E46-4225-A309-CD67119086D4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xample 3: Outpu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9" name="Text Box 13"/>
          <p:cNvSpPr/>
          <p:nvPr/>
        </p:nvSpPr>
        <p:spPr>
          <a:xfrm>
            <a:off x="5410080" y="5105520"/>
            <a:ext cx="9144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0" name="Content Placeholder 7" descr="5-1-3R.tif"/>
          <p:cNvPicPr/>
          <p:nvPr/>
        </p:nvPicPr>
        <p:blipFill>
          <a:blip r:embed="rId1"/>
          <a:stretch/>
        </p:blipFill>
        <p:spPr>
          <a:xfrm>
            <a:off x="2286000" y="2286000"/>
            <a:ext cx="4335480" cy="3657600"/>
          </a:xfrm>
          <a:prstGeom prst="rect">
            <a:avLst/>
          </a:prstGeom>
          <a:ln w="0">
            <a:noFill/>
          </a:ln>
        </p:spPr>
      </p:pic>
      <p:sp>
        <p:nvSpPr>
          <p:cNvPr id="681" name="Footer Placeholder 5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B312A-CD8B-4769-84A3-C3D95F39EE1F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User-Defined Function Having No Parameter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228600" y="2097000"/>
            <a:ext cx="8686800" cy="41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Func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CostOfItem()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As Doubl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Dim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price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A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Doubl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CDb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txtPrice.Text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Dim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quantity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A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Integ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CDb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txtQuantity.Text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Dim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cost = price * quantit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Return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End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Func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5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1563B-15F5-44CC-8F37-3CB02562288A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User-Defined Boolean-Valued Function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7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Courier New"/>
              </a:rPr>
              <a:t>Functio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IsVowelWord(</a:t>
            </a:r>
            <a:r>
              <a:rPr b="1" lang="en-US" sz="2100" spc="-1" strike="noStrike">
                <a:solidFill>
                  <a:srgbClr val="85dfd0"/>
                </a:solidFill>
                <a:latin typeface="Courier New"/>
              </a:rPr>
              <a:t>ByVal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word </a:t>
            </a:r>
            <a:r>
              <a:rPr b="1" lang="en-US" sz="2100" spc="-1" strike="noStrike">
                <a:solidFill>
                  <a:srgbClr val="85dfd0"/>
                </a:solidFill>
                <a:latin typeface="Courier New"/>
              </a:rPr>
              <a:t>As String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en-US" sz="2100" spc="-1" strike="noStrike">
                <a:solidFill>
                  <a:srgbClr val="0000ff"/>
                </a:solidFill>
                <a:latin typeface="Courier New"/>
              </a:rPr>
              <a:t>A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Courier New"/>
              </a:rPr>
              <a:t>                                       </a:t>
            </a:r>
            <a:r>
              <a:rPr b="1" lang="en-US" sz="2100" spc="-1" strike="noStrike">
                <a:solidFill>
                  <a:srgbClr val="0000ff"/>
                </a:solidFill>
                <a:latin typeface="Courier New"/>
              </a:rPr>
              <a:t>Boolean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85dfd0"/>
                </a:solidFill>
                <a:latin typeface="Courier New"/>
              </a:rPr>
              <a:t>If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word.IndexOf(</a:t>
            </a:r>
            <a:r>
              <a:rPr b="1" lang="en-US" sz="2100" spc="-1" strike="noStrike">
                <a:solidFill>
                  <a:srgbClr val="a31515"/>
                </a:solidFill>
                <a:latin typeface="Courier New"/>
              </a:rPr>
              <a:t>"A"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) = -1 </a:t>
            </a:r>
            <a:r>
              <a:rPr b="1" lang="en-US" sz="2100" spc="-1" strike="noStrike">
                <a:solidFill>
                  <a:srgbClr val="0000ff"/>
                </a:solidFill>
                <a:latin typeface="Courier New"/>
              </a:rPr>
              <a:t>Then</a:t>
            </a:r>
            <a:r>
              <a:rPr b="1" lang="en-US" sz="2100" spc="-1" strike="noStrike">
                <a:solidFill>
                  <a:srgbClr val="85dfd0"/>
                </a:solidFill>
                <a:latin typeface="Courier New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ff"/>
                </a:solidFill>
                <a:latin typeface="Courier New"/>
              </a:rPr>
              <a:t>Return</a:t>
            </a:r>
            <a:r>
              <a:rPr b="1" lang="en-US" sz="2100" spc="-1" strike="noStrike">
                <a:solidFill>
                  <a:srgbClr val="85dfd0"/>
                </a:solidFill>
                <a:latin typeface="Courier New"/>
              </a:rPr>
              <a:t> </a:t>
            </a:r>
            <a:r>
              <a:rPr b="1" lang="en-US" sz="2100" spc="-1" strike="noStrike">
                <a:solidFill>
                  <a:srgbClr val="0000ff"/>
                </a:solidFill>
                <a:latin typeface="Courier New"/>
              </a:rPr>
              <a:t>False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ff"/>
                </a:solidFill>
                <a:latin typeface="Courier New"/>
              </a:rPr>
              <a:t>End If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ff"/>
                </a:solidFill>
                <a:latin typeface="Courier New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ff"/>
                </a:solidFill>
                <a:latin typeface="Courier New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85dfd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85dfd0"/>
                </a:solidFill>
                <a:latin typeface="Courier New"/>
              </a:rPr>
              <a:t>If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word.IndexOf(</a:t>
            </a:r>
            <a:r>
              <a:rPr b="1" lang="en-US" sz="2100" spc="-1" strike="noStrike">
                <a:solidFill>
                  <a:srgbClr val="a31515"/>
                </a:solidFill>
                <a:latin typeface="Courier New"/>
              </a:rPr>
              <a:t>"U"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) = -1 </a:t>
            </a:r>
            <a:r>
              <a:rPr b="1" lang="en-US" sz="2100" spc="-1" strike="noStrike">
                <a:solidFill>
                  <a:srgbClr val="0000ff"/>
                </a:solidFill>
                <a:latin typeface="Courier New"/>
              </a:rPr>
              <a:t>Then</a:t>
            </a:r>
            <a:r>
              <a:rPr b="1" lang="en-US" sz="2100" spc="-1" strike="noStrike">
                <a:solidFill>
                  <a:srgbClr val="85dfd0"/>
                </a:solidFill>
                <a:latin typeface="Courier New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ff"/>
                </a:solidFill>
                <a:latin typeface="Courier New"/>
              </a:rPr>
              <a:t>Return</a:t>
            </a:r>
            <a:r>
              <a:rPr b="1" lang="en-US" sz="2100" spc="-1" strike="noStrike">
                <a:solidFill>
                  <a:srgbClr val="85dfd0"/>
                </a:solidFill>
                <a:latin typeface="Courier New"/>
              </a:rPr>
              <a:t> </a:t>
            </a:r>
            <a:r>
              <a:rPr b="1" lang="en-US" sz="2100" spc="-1" strike="noStrike">
                <a:solidFill>
                  <a:srgbClr val="0000ff"/>
                </a:solidFill>
                <a:latin typeface="Courier New"/>
              </a:rPr>
              <a:t>False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ff"/>
                </a:solidFill>
                <a:latin typeface="Courier New"/>
              </a:rPr>
              <a:t>End If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ff"/>
                </a:solidFill>
                <a:latin typeface="Courier New"/>
              </a:rPr>
              <a:t>Return</a:t>
            </a:r>
            <a:r>
              <a:rPr b="1" lang="en-US" sz="2100" spc="-1" strike="noStrike">
                <a:solidFill>
                  <a:srgbClr val="85dfd0"/>
                </a:solidFill>
                <a:latin typeface="Courier New"/>
              </a:rPr>
              <a:t> </a:t>
            </a:r>
            <a:r>
              <a:rPr b="1" lang="en-US" sz="2100" spc="-1" strike="noStrike">
                <a:solidFill>
                  <a:srgbClr val="0000ff"/>
                </a:solidFill>
                <a:latin typeface="Courier New"/>
              </a:rPr>
              <a:t>True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Courier New"/>
              </a:rPr>
              <a:t>End Function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7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7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7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7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7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85dfd0"/>
                </a:solidFill>
                <a:latin typeface="Courier New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7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9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FD72E-33C9-4828-939D-BE5CAD1A3681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General Procedur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7736040" cy="41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unction Procedur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ub Procedures, Part 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ub Procedures, Part I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odular Desig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8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341AD-21D1-4A9E-BC5F-1F34DDF0BE22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Sub Procedures, Part I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64640" cy="41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efining and Calling Sub Procedur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Variables and Expressions as Argumen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ub Procedures Calling Other Sub Procedur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3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C4570-A1F5-4ACE-90C6-7485022F187E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General Form of Sub Procedur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696" name="Picture 5" descr="DefineSub.tif"/>
          <p:cNvPicPr/>
          <p:nvPr/>
        </p:nvPicPr>
        <p:blipFill>
          <a:blip r:embed="rId1"/>
          <a:stretch/>
        </p:blipFill>
        <p:spPr>
          <a:xfrm>
            <a:off x="609480" y="2438280"/>
            <a:ext cx="6842160" cy="2503440"/>
          </a:xfrm>
          <a:prstGeom prst="rect">
            <a:avLst/>
          </a:prstGeom>
          <a:ln w="0">
            <a:noFill/>
          </a:ln>
        </p:spPr>
      </p:pic>
      <p:sp>
        <p:nvSpPr>
          <p:cNvPr id="697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ADD16-FF73-42F6-B902-0A0BC4E52DC4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alling a Sub Procedur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421480" cy="41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statement that invokes /calls a Sub procedure is referred to as a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calling statement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 calling statement looks like thi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i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edureName(arg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rg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..., </a:t>
            </a:r>
            <a:r>
              <a:rPr b="1" i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rg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1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3F6A5-351B-4EAB-AD8C-B2E422F6647D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Naming Sub Procedur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569880" y="1981080"/>
            <a:ext cx="7964640" cy="41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rules for naming Sub procedures are the same as the rules for naming variabl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5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12925-3CCF-4AAD-932C-F7D615E6CB82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assing Valu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isplaySum( 2, 3 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Sub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isplaySum(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ByVa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num1 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As Doubl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ByVa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num2 _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                            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As Doubl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Dim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z 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As Doubl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z = num1 + num2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stOutput.Items.Add(</a:t>
            </a:r>
            <a:r>
              <a:rPr b="1" lang="en-US" sz="2400" spc="-1" strike="noStrike">
                <a:solidFill>
                  <a:srgbClr val="a31515"/>
                </a:solidFill>
                <a:latin typeface="Courier New"/>
              </a:rPr>
              <a:t>"The sum of "</a:t>
            </a:r>
            <a:r>
              <a:rPr b="1" lang="en-US" sz="2400" spc="-1" strike="noStrike">
                <a:solidFill>
                  <a:srgbClr val="e2d7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 num1 &amp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2400" spc="-1" strike="noStrike">
                <a:solidFill>
                  <a:srgbClr val="a31515"/>
                </a:solidFill>
                <a:latin typeface="Courier New"/>
              </a:rPr>
              <a:t>" and 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&amp; num2 &amp; </a:t>
            </a:r>
            <a:r>
              <a:rPr b="1" lang="en-US" sz="2400" spc="-1" strike="noStrike">
                <a:solidFill>
                  <a:srgbClr val="a31515"/>
                </a:solidFill>
                <a:latin typeface="Courier New"/>
              </a:rPr>
              <a:t>" is "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 z &amp; </a:t>
            </a:r>
            <a:r>
              <a:rPr b="1" lang="en-US" sz="2400" spc="-1" strike="noStrike">
                <a:solidFill>
                  <a:srgbClr val="a31515"/>
                </a:solidFill>
                <a:latin typeface="Courier New"/>
              </a:rPr>
              <a:t>".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End Sub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 the Sub procedure, 2 will be stored in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num1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and 3 will be stored in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num2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9" name="Line 4"/>
          <p:cNvSpPr/>
          <p:nvPr/>
        </p:nvSpPr>
        <p:spPr>
          <a:xfrm flipH="1">
            <a:off x="4648320" y="2276640"/>
            <a:ext cx="860400" cy="288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Line 5"/>
          <p:cNvSpPr/>
          <p:nvPr/>
        </p:nvSpPr>
        <p:spPr>
          <a:xfrm>
            <a:off x="6300720" y="2276640"/>
            <a:ext cx="1700280" cy="288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Footer Placeholder 6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F618F-17B2-471C-9F61-8B412CE2AC47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Arguments and Parameter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um(2, 3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Sub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isplaySum(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ByVa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num1 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As Doubl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ByVa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num2 _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                            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As Doubl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5" name="Line 6"/>
          <p:cNvSpPr/>
          <p:nvPr/>
        </p:nvSpPr>
        <p:spPr>
          <a:xfrm flipV="1">
            <a:off x="3352680" y="243792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Line 7"/>
          <p:cNvSpPr/>
          <p:nvPr/>
        </p:nvSpPr>
        <p:spPr>
          <a:xfrm flipV="1">
            <a:off x="3886200" y="243792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Line 8"/>
          <p:cNvSpPr/>
          <p:nvPr/>
        </p:nvSpPr>
        <p:spPr>
          <a:xfrm>
            <a:off x="3352680" y="274320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Text Box 9"/>
          <p:cNvSpPr/>
          <p:nvPr/>
        </p:nvSpPr>
        <p:spPr>
          <a:xfrm>
            <a:off x="4572000" y="25146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arg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Text Box 10"/>
          <p:cNvSpPr/>
          <p:nvPr/>
        </p:nvSpPr>
        <p:spPr>
          <a:xfrm>
            <a:off x="5181480" y="321300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para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Line 11"/>
          <p:cNvSpPr/>
          <p:nvPr/>
        </p:nvSpPr>
        <p:spPr>
          <a:xfrm>
            <a:off x="2895480" y="39625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Line 12"/>
          <p:cNvSpPr/>
          <p:nvPr/>
        </p:nvSpPr>
        <p:spPr>
          <a:xfrm>
            <a:off x="4267080" y="364500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Line 13"/>
          <p:cNvSpPr/>
          <p:nvPr/>
        </p:nvSpPr>
        <p:spPr>
          <a:xfrm>
            <a:off x="8229600" y="36450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Line 14"/>
          <p:cNvSpPr/>
          <p:nvPr/>
        </p:nvSpPr>
        <p:spPr>
          <a:xfrm>
            <a:off x="4267080" y="364500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Line 15"/>
          <p:cNvSpPr/>
          <p:nvPr/>
        </p:nvSpPr>
        <p:spPr>
          <a:xfrm>
            <a:off x="7086600" y="364500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Text Box 16"/>
          <p:cNvSpPr/>
          <p:nvPr/>
        </p:nvSpPr>
        <p:spPr>
          <a:xfrm>
            <a:off x="4038480" y="5037120"/>
            <a:ext cx="221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displayed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Line 17"/>
          <p:cNvSpPr/>
          <p:nvPr/>
        </p:nvSpPr>
        <p:spPr>
          <a:xfrm flipV="1">
            <a:off x="3352680" y="465588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Line 18"/>
          <p:cNvSpPr/>
          <p:nvPr/>
        </p:nvSpPr>
        <p:spPr>
          <a:xfrm flipV="1">
            <a:off x="7086600" y="465588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Line 19"/>
          <p:cNvSpPr/>
          <p:nvPr/>
        </p:nvSpPr>
        <p:spPr>
          <a:xfrm>
            <a:off x="3352680" y="52657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Line 21"/>
          <p:cNvSpPr/>
          <p:nvPr/>
        </p:nvSpPr>
        <p:spPr>
          <a:xfrm>
            <a:off x="6019920" y="534204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Footer Placeholder 19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BB130-2FF1-4845-964E-186005AACB6D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Several Calling Statement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50080" cy="41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isplaySum(2, 3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isplaySum(4, 6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isplaySum(7, 8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3300"/>
                </a:solidFill>
                <a:latin typeface="Constantia"/>
              </a:rPr>
              <a:t>Output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e sum of 2 and 3 is 5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e sum of 4 and 6 is 10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e sum of 7 and 8 is 15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4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65203-9495-435A-965A-5D094234F558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assing Strings and Number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emo(</a:t>
            </a:r>
            <a:r>
              <a:rPr b="1" lang="en-US" sz="2400" spc="-1" strike="noStrike">
                <a:solidFill>
                  <a:srgbClr val="a31515"/>
                </a:solidFill>
                <a:latin typeface="Courier New"/>
                <a:ea typeface="Courier New"/>
              </a:rPr>
              <a:t>"CA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 38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Sub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mo(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ByVa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tate 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As String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ByVa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pop _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                            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As Doubl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stOutput.Items.Add = state &amp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400" spc="-1" strike="noStrike">
                <a:solidFill>
                  <a:srgbClr val="a31515"/>
                </a:solidFill>
                <a:latin typeface="Courier New"/>
              </a:rPr>
              <a:t>" has population "</a:t>
            </a:r>
            <a:r>
              <a:rPr b="1" lang="en-US" sz="2400" spc="-1" strike="noStrike">
                <a:solidFill>
                  <a:srgbClr val="e2d7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 pop &amp; </a:t>
            </a:r>
            <a:r>
              <a:rPr b="1" lang="en-US" sz="2400" spc="-1" strike="noStrike">
                <a:solidFill>
                  <a:srgbClr val="a31515"/>
                </a:solidFill>
                <a:latin typeface="Courier New"/>
              </a:rPr>
              <a:t>" million."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End Sub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Note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: The statemen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mo(38, </a:t>
            </a:r>
            <a:r>
              <a:rPr b="1" lang="en-US" sz="2400" spc="-1" strike="noStrike">
                <a:solidFill>
                  <a:srgbClr val="a31515"/>
                </a:solidFill>
                <a:latin typeface="Courier New"/>
              </a:rPr>
              <a:t>"CA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ould not be valid. The types of the arguments must be in the same order as the types of the parameter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8" name="Line 6"/>
          <p:cNvSpPr/>
          <p:nvPr/>
        </p:nvSpPr>
        <p:spPr>
          <a:xfrm flipH="1">
            <a:off x="3419280" y="2362320"/>
            <a:ext cx="1076040" cy="203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Line 7"/>
          <p:cNvSpPr/>
          <p:nvPr/>
        </p:nvSpPr>
        <p:spPr>
          <a:xfrm>
            <a:off x="5562720" y="2362320"/>
            <a:ext cx="160020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Footer Placeholder 6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EA4FE-7074-4D34-96C0-A418C82E536F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Variables and Expressions as Arguments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228240" y="1980720"/>
            <a:ext cx="8915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Dim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 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As String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400" spc="-1" strike="noStrike">
                <a:solidFill>
                  <a:srgbClr val="a31515"/>
                </a:solidFill>
                <a:latin typeface="Courier New"/>
              </a:rPr>
              <a:t>"CA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Dim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p 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As Doubl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400" spc="-1" strike="noStrike">
                <a:solidFill>
                  <a:srgbClr val="a31515"/>
                </a:solidFill>
                <a:latin typeface="Courier New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mo(s, 2 * p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Sub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mo(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ByVa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tate 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As String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ByVa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pop _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                        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As Doubl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stOutput.Items.Add = state &amp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a31515"/>
                </a:solidFill>
                <a:latin typeface="Courier New"/>
              </a:rPr>
              <a:t>" has population "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 pop &amp;  </a:t>
            </a:r>
            <a:r>
              <a:rPr b="1" lang="en-US" sz="2400" spc="-1" strike="noStrike">
                <a:solidFill>
                  <a:srgbClr val="a31515"/>
                </a:solidFill>
                <a:latin typeface="Courier New"/>
              </a:rPr>
              <a:t>" million."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End Sub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Note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: The argument names need not match the parameter names. For instance,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versus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state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4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Sub Procedure Having No Parameter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6" name=""/>
          <p:cNvSpPr txBox="1"/>
          <p:nvPr/>
        </p:nvSpPr>
        <p:spPr>
          <a:xfrm>
            <a:off x="228600" y="1981080"/>
            <a:ext cx="8726400" cy="41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Sub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scribeTask(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stBox.Items.Clear(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stBox.Items.Add(</a:t>
            </a:r>
            <a:r>
              <a:rPr b="1" lang="en-US" sz="2400" spc="-1" strike="noStrike">
                <a:solidFill>
                  <a:srgbClr val="a31515"/>
                </a:solidFill>
                <a:latin typeface="Courier New"/>
              </a:rPr>
              <a:t>"This program displays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stBox.Items.Add(</a:t>
            </a:r>
            <a:r>
              <a:rPr b="1" lang="en-US" sz="2400" spc="-1" strike="noStrike">
                <a:solidFill>
                  <a:srgbClr val="a31515"/>
                </a:solidFill>
                <a:latin typeface="Courier New"/>
              </a:rPr>
              <a:t>"the name and population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stBox.Items.Add(</a:t>
            </a:r>
            <a:r>
              <a:rPr b="1" lang="en-US" sz="2400" spc="-1" strike="noStrike">
                <a:solidFill>
                  <a:srgbClr val="a31515"/>
                </a:solidFill>
                <a:latin typeface="Courier New"/>
              </a:rPr>
              <a:t>"of a state.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End Sub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7" name="Slide Number Placeholder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A1DF6-EDE0-44D9-B34A-AF0CD9317594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82CEE-BA8D-4422-8378-9B5D9FACBF69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Devices for Modularit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64640" cy="41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Visual Basic has two ways for breaking problems into smaller piece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unction procedures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ub procedures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2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1F725-DA3E-4DC7-80E9-68F291BA9F8B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4617b"/>
                </a:solidFill>
                <a:latin typeface="Calibri"/>
              </a:rPr>
              <a:t>Sub Procedure Calling Another Sub Procedure</a:t>
            </a:r>
            <a:endParaRPr b="0" lang="en-US" sz="3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28600" y="1980720"/>
            <a:ext cx="8726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Private Sub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btnDisplay_Click(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...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Handle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_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tnDisplay.Click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mo(</a:t>
            </a:r>
            <a:r>
              <a:rPr b="1" lang="en-US" sz="2400" spc="-1" strike="noStrike">
                <a:solidFill>
                  <a:srgbClr val="a31515"/>
                </a:solidFill>
                <a:latin typeface="Courier New"/>
              </a:rPr>
              <a:t>"CA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37)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End Sub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Sub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mo(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ByVa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tate 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As String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ByVa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pop _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                         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As Doubl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scribeTask(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stOutput.Items.Add(</a:t>
            </a:r>
            <a:r>
              <a:rPr b="1" lang="en-US" sz="2400" spc="-1" strike="noStrike">
                <a:solidFill>
                  <a:srgbClr val="a31515"/>
                </a:solidFill>
                <a:latin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stOutput.Items.Add = state &amp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400" spc="-1" strike="noStrike">
                <a:solidFill>
                  <a:srgbClr val="a31515"/>
                </a:solidFill>
                <a:latin typeface="Courier New"/>
              </a:rPr>
              <a:t>" has population "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 pop &amp;  </a:t>
            </a:r>
            <a:r>
              <a:rPr b="1" lang="en-US" sz="2400" spc="-1" strike="noStrike">
                <a:solidFill>
                  <a:srgbClr val="a31515"/>
                </a:solidFill>
                <a:latin typeface="Courier New"/>
              </a:rPr>
              <a:t>" million."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End Sub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2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Outpu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 program display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name and popula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f a stat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A has population 37 millio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5" name="Slide Number Placeholder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ACF29-9E72-4641-A464-86EB83AE72B9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D70BD-D7A5-44F6-A78F-203C0ED3F27F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Sub Procedures, Part II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assing by Value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assing by Referenc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ub Procedures that Return a Single Valu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ifetime and Scope of Variables and Constan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ebugg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0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01F29-2130-4D9C-B1C1-1F13A6D3E400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ByVal and ByRef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685800" y="2249280"/>
            <a:ext cx="7964640" cy="41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arameters in Sub procedure headers are proceeded by ByVal or ByRef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yVal stands for By Valu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yRef stands for By Referenc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4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49642-3075-4934-895C-BA8DA65704FE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assing by Value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569880" y="1981080"/>
            <a:ext cx="7964640" cy="41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49"/>
              </a:spcBef>
              <a:buClr>
                <a:srgbClr val="04617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hen a variable argument is passed to a ByVal parameter,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just the value of the argument is passed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just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4617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fter the Sub procedure ends, the variable has its original valu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8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822FF-FDE1-434C-AB5C-BFFE726150D3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xample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1" name="Text Box 5"/>
          <p:cNvSpPr/>
          <p:nvPr/>
        </p:nvSpPr>
        <p:spPr>
          <a:xfrm>
            <a:off x="324000" y="1341360"/>
            <a:ext cx="8496000" cy="588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Public Sub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tnOne_Click (</a:t>
            </a: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..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Handles</a:t>
            </a: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_btnOne.Cli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Di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n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As Doubl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=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iple(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xtBox1.Text =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“n = “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amp; 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End Su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Sub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Triple(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ByVal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num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As 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m = 3 * n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xtBox2.Text =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“num = “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amp; n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End Su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Output:</a:t>
            </a:r>
            <a:r>
              <a:rPr b="0" i="1" lang="en-US" sz="2000" spc="-1" strike="noStrike">
                <a:solidFill>
                  <a:srgbClr val="000000"/>
                </a:solidFill>
                <a:latin typeface="Constanti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m = 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 =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2" name="Straight Arrow Connector 5"/>
          <p:cNvCxnSpPr/>
          <p:nvPr/>
        </p:nvCxnSpPr>
        <p:spPr>
          <a:xfrm flipH="1">
            <a:off x="2050560" y="2637000"/>
            <a:ext cx="3601440" cy="72000"/>
          </a:xfrm>
          <a:prstGeom prst="straightConnector1">
            <a:avLst/>
          </a:prstGeom>
          <a:ln w="9360">
            <a:solidFill>
              <a:srgbClr val="599545"/>
            </a:solidFill>
            <a:miter/>
            <a:tailEnd len="med" type="arrow" w="med"/>
          </a:ln>
        </p:spPr>
      </p:cxnSp>
      <p:cxnSp>
        <p:nvCxnSpPr>
          <p:cNvPr id="773" name="Straight Arrow Connector 6"/>
          <p:cNvCxnSpPr/>
          <p:nvPr/>
        </p:nvCxnSpPr>
        <p:spPr>
          <a:xfrm flipH="1">
            <a:off x="3419280" y="2636640"/>
            <a:ext cx="2232720" cy="1152720"/>
          </a:xfrm>
          <a:prstGeom prst="straightConnector1">
            <a:avLst/>
          </a:prstGeom>
          <a:ln w="9360">
            <a:solidFill>
              <a:srgbClr val="599545"/>
            </a:solidFill>
            <a:miter/>
            <a:tailEnd len="med" type="arrow" w="med"/>
          </a:ln>
        </p:spPr>
      </p:cxnSp>
      <p:sp>
        <p:nvSpPr>
          <p:cNvPr id="774" name="TextBox 9"/>
          <p:cNvSpPr/>
          <p:nvPr/>
        </p:nvSpPr>
        <p:spPr>
          <a:xfrm>
            <a:off x="5651640" y="2349360"/>
            <a:ext cx="309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5a839"/>
                </a:solidFill>
                <a:latin typeface="Constantia"/>
              </a:rPr>
              <a:t>Argument name (n) is different than parameter name (nu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TextBox 10"/>
          <p:cNvSpPr/>
          <p:nvPr/>
        </p:nvSpPr>
        <p:spPr>
          <a:xfrm>
            <a:off x="6443640" y="5300640"/>
            <a:ext cx="72072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TextBox 11"/>
          <p:cNvSpPr/>
          <p:nvPr/>
        </p:nvSpPr>
        <p:spPr>
          <a:xfrm>
            <a:off x="7380360" y="5300640"/>
            <a:ext cx="72072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TextBox 12"/>
          <p:cNvSpPr/>
          <p:nvPr/>
        </p:nvSpPr>
        <p:spPr>
          <a:xfrm>
            <a:off x="6443640" y="5661000"/>
            <a:ext cx="6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dd9"/>
                </a:solidFill>
                <a:latin typeface="Constantia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TextBox 13"/>
          <p:cNvSpPr/>
          <p:nvPr/>
        </p:nvSpPr>
        <p:spPr>
          <a:xfrm>
            <a:off x="6372360" y="485928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nstantia"/>
              </a:rPr>
              <a:t>Memory (RAM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TextBox 14"/>
          <p:cNvSpPr/>
          <p:nvPr/>
        </p:nvSpPr>
        <p:spPr>
          <a:xfrm>
            <a:off x="7380360" y="5661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dd9"/>
                </a:solidFill>
                <a:latin typeface="Constantia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Footer Placeholder 15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1D62C-674A-435D-8EDF-0911948C98B6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Same Example: n    num 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3" name="Text Box 3"/>
          <p:cNvSpPr/>
          <p:nvPr/>
        </p:nvSpPr>
        <p:spPr>
          <a:xfrm>
            <a:off x="324000" y="1268280"/>
            <a:ext cx="8351640" cy="59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Public Sub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tnOne_Click (</a:t>
            </a: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..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 Handle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_btnOne.Cli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Di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num </a:t>
            </a: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As 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iple(nu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xtBox1.Text =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“2. num = “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amp; n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End Su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Sub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Triple(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ByVal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num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As 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m = 3 * n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xtBox2.Text =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“1. num = “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amp; n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End Su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Output:</a:t>
            </a:r>
            <a:r>
              <a:rPr b="0" i="1" lang="en-US" sz="2000" spc="-1" strike="noStrike">
                <a:solidFill>
                  <a:srgbClr val="000000"/>
                </a:solidFill>
                <a:latin typeface="Constanti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. num = 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2. num =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Line 4"/>
          <p:cNvSpPr/>
          <p:nvPr/>
        </p:nvSpPr>
        <p:spPr>
          <a:xfrm>
            <a:off x="5796000" y="981000"/>
            <a:ext cx="380880" cy="0"/>
          </a:xfrm>
          <a:prstGeom prst="line">
            <a:avLst/>
          </a:prstGeom>
          <a:ln w="38160">
            <a:solidFill>
              <a:srgbClr val="009dd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5" name="Straight Arrow Connector 5"/>
          <p:cNvCxnSpPr/>
          <p:nvPr/>
        </p:nvCxnSpPr>
        <p:spPr>
          <a:xfrm flipH="1">
            <a:off x="2410920" y="2636640"/>
            <a:ext cx="3674160" cy="1080"/>
          </a:xfrm>
          <a:prstGeom prst="straightConnector1">
            <a:avLst/>
          </a:prstGeom>
          <a:ln w="9360">
            <a:solidFill>
              <a:srgbClr val="599545"/>
            </a:solidFill>
            <a:miter/>
            <a:tailEnd len="med" type="arrow" w="med"/>
          </a:ln>
        </p:spPr>
      </p:cxnSp>
      <p:cxnSp>
        <p:nvCxnSpPr>
          <p:cNvPr id="786" name="Straight Arrow Connector 6"/>
          <p:cNvCxnSpPr/>
          <p:nvPr/>
        </p:nvCxnSpPr>
        <p:spPr>
          <a:xfrm flipH="1">
            <a:off x="3418920" y="3068640"/>
            <a:ext cx="2665800" cy="721440"/>
          </a:xfrm>
          <a:prstGeom prst="straightConnector1">
            <a:avLst/>
          </a:prstGeom>
          <a:ln w="9360">
            <a:solidFill>
              <a:srgbClr val="599545"/>
            </a:solidFill>
            <a:miter/>
            <a:tailEnd len="med" type="arrow" w="med"/>
          </a:ln>
        </p:spPr>
      </p:cxnSp>
      <p:sp>
        <p:nvSpPr>
          <p:cNvPr id="787" name="TextBox 7"/>
          <p:cNvSpPr/>
          <p:nvPr/>
        </p:nvSpPr>
        <p:spPr>
          <a:xfrm>
            <a:off x="6012000" y="2349360"/>
            <a:ext cx="309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5a839"/>
                </a:solidFill>
                <a:latin typeface="Constantia"/>
              </a:rPr>
              <a:t>Argument name (num) is same as the parameter name (nu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TextBox 12"/>
          <p:cNvSpPr/>
          <p:nvPr/>
        </p:nvSpPr>
        <p:spPr>
          <a:xfrm>
            <a:off x="6443640" y="5300640"/>
            <a:ext cx="72072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TextBox 13"/>
          <p:cNvSpPr/>
          <p:nvPr/>
        </p:nvSpPr>
        <p:spPr>
          <a:xfrm>
            <a:off x="7380360" y="5300640"/>
            <a:ext cx="72072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TextBox 14"/>
          <p:cNvSpPr/>
          <p:nvPr/>
        </p:nvSpPr>
        <p:spPr>
          <a:xfrm>
            <a:off x="6443640" y="5661000"/>
            <a:ext cx="6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dd9"/>
                </a:solidFill>
                <a:latin typeface="Constantia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TextBox 15"/>
          <p:cNvSpPr/>
          <p:nvPr/>
        </p:nvSpPr>
        <p:spPr>
          <a:xfrm>
            <a:off x="6372360" y="485928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nstantia"/>
              </a:rPr>
              <a:t>Memory (RAM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TextBox 16"/>
          <p:cNvSpPr/>
          <p:nvPr/>
        </p:nvSpPr>
        <p:spPr>
          <a:xfrm>
            <a:off x="7380360" y="566100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dd9"/>
                </a:solidFill>
                <a:latin typeface="Constantia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Footer Placeholder 17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E835C-18EC-48C7-B4ED-652C0C8D065E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assing by Reference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7964280" cy="41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49"/>
              </a:spcBef>
              <a:buClr>
                <a:srgbClr val="04617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hen a variable argument is passed to a ByRef parameter, the parameter is given the same memory location as the argumen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just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4617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fter the Sub procedure terminates, the variable has the value of the paramete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7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6A4A3-17D6-4777-8983-BE77802B1594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xampl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0" name="Text Box 3"/>
          <p:cNvSpPr/>
          <p:nvPr/>
        </p:nvSpPr>
        <p:spPr>
          <a:xfrm>
            <a:off x="457200" y="1341360"/>
            <a:ext cx="8229600" cy="68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Public Sub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tnOne_Click (</a:t>
            </a: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..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 Handle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tnOne.Cli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Di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num </a:t>
            </a: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As 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iple(nu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xtBox2.Text =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“2. num = “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amp; nu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End Su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Sub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Triple(</a:t>
            </a: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ByRe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num </a:t>
            </a: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As 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m = 3 * n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xtBox1.Text =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“1. num = “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amp; n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End Su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Outpu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. num = 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2. num = 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1" name="Straight Arrow Connector 4"/>
          <p:cNvCxnSpPr/>
          <p:nvPr/>
        </p:nvCxnSpPr>
        <p:spPr>
          <a:xfrm flipH="1" flipV="1">
            <a:off x="2555640" y="2565000"/>
            <a:ext cx="3529440" cy="216720"/>
          </a:xfrm>
          <a:prstGeom prst="straightConnector1">
            <a:avLst/>
          </a:prstGeom>
          <a:ln w="9360">
            <a:solidFill>
              <a:srgbClr val="599545"/>
            </a:solidFill>
            <a:miter/>
            <a:tailEnd len="med" type="arrow" w="med"/>
          </a:ln>
        </p:spPr>
      </p:cxnSp>
      <p:cxnSp>
        <p:nvCxnSpPr>
          <p:cNvPr id="802" name="Straight Arrow Connector 5"/>
          <p:cNvCxnSpPr>
            <a:stCxn id="803" idx="1"/>
          </p:cNvCxnSpPr>
          <p:nvPr/>
        </p:nvCxnSpPr>
        <p:spPr>
          <a:xfrm flipH="1">
            <a:off x="3491640" y="3182400"/>
            <a:ext cx="2520360" cy="391320"/>
          </a:xfrm>
          <a:prstGeom prst="straightConnector1">
            <a:avLst/>
          </a:prstGeom>
          <a:ln w="9360">
            <a:solidFill>
              <a:srgbClr val="599545"/>
            </a:solidFill>
            <a:miter/>
            <a:tailEnd len="med" type="arrow" w="med"/>
          </a:ln>
        </p:spPr>
      </p:cxnSp>
      <p:sp>
        <p:nvSpPr>
          <p:cNvPr id="803" name="TextBox 6"/>
          <p:cNvSpPr/>
          <p:nvPr/>
        </p:nvSpPr>
        <p:spPr>
          <a:xfrm>
            <a:off x="6012000" y="2720880"/>
            <a:ext cx="309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5a839"/>
                </a:solidFill>
                <a:latin typeface="Constantia"/>
              </a:rPr>
              <a:t>Argument name (num) is the same as parameter name (nu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TextBox 15"/>
          <p:cNvSpPr/>
          <p:nvPr/>
        </p:nvSpPr>
        <p:spPr>
          <a:xfrm>
            <a:off x="6588000" y="5272200"/>
            <a:ext cx="1079640" cy="825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TextBox 17"/>
          <p:cNvSpPr/>
          <p:nvPr/>
        </p:nvSpPr>
        <p:spPr>
          <a:xfrm>
            <a:off x="6804000" y="5732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dd9"/>
                </a:solidFill>
                <a:latin typeface="Constantia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TextBox 18"/>
          <p:cNvSpPr/>
          <p:nvPr/>
        </p:nvSpPr>
        <p:spPr>
          <a:xfrm>
            <a:off x="6372360" y="485928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nstantia"/>
              </a:rPr>
              <a:t>Memory (RAM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TextBox 20"/>
          <p:cNvSpPr/>
          <p:nvPr/>
        </p:nvSpPr>
        <p:spPr>
          <a:xfrm>
            <a:off x="6659640" y="53640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8" name="Straight Arrow Connector 22"/>
          <p:cNvCxnSpPr/>
          <p:nvPr/>
        </p:nvCxnSpPr>
        <p:spPr>
          <a:xfrm>
            <a:off x="6948000" y="5516280"/>
            <a:ext cx="288360" cy="1080"/>
          </a:xfrm>
          <a:prstGeom prst="straightConnector1">
            <a:avLst/>
          </a:prstGeom>
          <a:ln w="9360">
            <a:solidFill>
              <a:srgbClr val="0073a1"/>
            </a:solidFill>
            <a:miter/>
            <a:tailEnd len="med" type="arrow" w="med"/>
          </a:ln>
        </p:spPr>
      </p:cxnSp>
      <p:sp>
        <p:nvSpPr>
          <p:cNvPr id="809" name="Footer Placeholder 1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9E44D-69E6-4C8D-AFFE-6E502E4A7AA5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Example: num     n 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2" name="Text Box 3"/>
          <p:cNvSpPr/>
          <p:nvPr/>
        </p:nvSpPr>
        <p:spPr>
          <a:xfrm>
            <a:off x="457200" y="1268280"/>
            <a:ext cx="8291520" cy="57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Private Sub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btnOne_Click(...) </a:t>
            </a: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Handle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_btnOne_Cli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Di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n </a:t>
            </a: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As 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iple(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xtBox1.Text =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“n = “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amp; n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End Su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Sub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Triple(</a:t>
            </a: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ByRe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num </a:t>
            </a: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As 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m = 3 * n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xtBox1.Text =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“num = “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amp; n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End Su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Output:</a:t>
            </a:r>
            <a:r>
              <a:rPr b="0" i="1" lang="en-US" sz="2000" spc="-1" strike="noStrike">
                <a:solidFill>
                  <a:srgbClr val="000000"/>
                </a:solidFill>
                <a:latin typeface="Constanti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m = 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 = 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Line 4"/>
          <p:cNvSpPr/>
          <p:nvPr/>
        </p:nvSpPr>
        <p:spPr>
          <a:xfrm>
            <a:off x="5796000" y="907920"/>
            <a:ext cx="533520" cy="0"/>
          </a:xfrm>
          <a:prstGeom prst="line">
            <a:avLst/>
          </a:prstGeom>
          <a:ln w="25560">
            <a:solidFill>
              <a:srgbClr val="009dd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4" name="Straight Arrow Connector 5"/>
          <p:cNvCxnSpPr/>
          <p:nvPr/>
        </p:nvCxnSpPr>
        <p:spPr>
          <a:xfrm flipH="1" flipV="1">
            <a:off x="2267640" y="2564640"/>
            <a:ext cx="3744360" cy="72360"/>
          </a:xfrm>
          <a:prstGeom prst="straightConnector1">
            <a:avLst/>
          </a:prstGeom>
          <a:ln w="9360">
            <a:solidFill>
              <a:srgbClr val="599545"/>
            </a:solidFill>
            <a:miter/>
            <a:tailEnd len="med" type="arrow" w="med"/>
          </a:ln>
        </p:spPr>
      </p:cxnSp>
      <p:cxnSp>
        <p:nvCxnSpPr>
          <p:cNvPr id="815" name="Straight Arrow Connector 6"/>
          <p:cNvCxnSpPr/>
          <p:nvPr/>
        </p:nvCxnSpPr>
        <p:spPr>
          <a:xfrm flipH="1">
            <a:off x="3563640" y="3068280"/>
            <a:ext cx="2521440" cy="577080"/>
          </a:xfrm>
          <a:prstGeom prst="straightConnector1">
            <a:avLst/>
          </a:prstGeom>
          <a:ln w="9360">
            <a:solidFill>
              <a:srgbClr val="599545"/>
            </a:solidFill>
            <a:miter/>
            <a:tailEnd len="med" type="arrow" w="med"/>
          </a:ln>
        </p:spPr>
      </p:cxnSp>
      <p:sp>
        <p:nvSpPr>
          <p:cNvPr id="816" name="TextBox 7"/>
          <p:cNvSpPr/>
          <p:nvPr/>
        </p:nvSpPr>
        <p:spPr>
          <a:xfrm>
            <a:off x="6012000" y="2349360"/>
            <a:ext cx="309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5a839"/>
                </a:solidFill>
                <a:latin typeface="Constantia"/>
              </a:rPr>
              <a:t>Argument name (n) is different than parameter name (nu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TextBox 16"/>
          <p:cNvSpPr/>
          <p:nvPr/>
        </p:nvSpPr>
        <p:spPr>
          <a:xfrm>
            <a:off x="6516720" y="566100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dd9"/>
                </a:solidFill>
                <a:latin typeface="Constantia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TextBox 17"/>
          <p:cNvSpPr/>
          <p:nvPr/>
        </p:nvSpPr>
        <p:spPr>
          <a:xfrm>
            <a:off x="6372360" y="485928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nstantia"/>
              </a:rPr>
              <a:t>Memory (RAM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TextBox 18"/>
          <p:cNvSpPr/>
          <p:nvPr/>
        </p:nvSpPr>
        <p:spPr>
          <a:xfrm>
            <a:off x="7236000" y="566100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dd9"/>
                </a:solidFill>
                <a:latin typeface="Constantia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TextBox 19"/>
          <p:cNvSpPr/>
          <p:nvPr/>
        </p:nvSpPr>
        <p:spPr>
          <a:xfrm>
            <a:off x="6588000" y="5272200"/>
            <a:ext cx="1079640" cy="825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TextBox 20"/>
          <p:cNvSpPr/>
          <p:nvPr/>
        </p:nvSpPr>
        <p:spPr>
          <a:xfrm>
            <a:off x="6659640" y="53640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2" name="Straight Arrow Connector 21"/>
          <p:cNvCxnSpPr/>
          <p:nvPr/>
        </p:nvCxnSpPr>
        <p:spPr>
          <a:xfrm>
            <a:off x="6948000" y="5516280"/>
            <a:ext cx="288360" cy="1080"/>
          </a:xfrm>
          <a:prstGeom prst="straightConnector1">
            <a:avLst/>
          </a:prstGeom>
          <a:ln w="9360">
            <a:solidFill>
              <a:srgbClr val="0073a1"/>
            </a:solidFill>
            <a:miter/>
            <a:tailEnd len="med" type="arrow" w="med"/>
          </a:ln>
        </p:spPr>
      </p:cxnSp>
      <p:sp>
        <p:nvSpPr>
          <p:cNvPr id="823" name="Footer Placeholder 1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34B3D-07F8-4A58-8858-4475DA35C2C9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Function Procedur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28600" y="1980720"/>
            <a:ext cx="8686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ser-Defined Functions Having One Paramet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ser-Defined Functions Having Several Parameters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ser-Defined Functions Having No Parameters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ser-Defined Boolean-Valued Functio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6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Most Common Use of ByRef: Get Input (Read Input)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5" name=""/>
          <p:cNvSpPr txBox="1"/>
          <p:nvPr/>
        </p:nvSpPr>
        <p:spPr>
          <a:xfrm>
            <a:off x="609480" y="1981080"/>
            <a:ext cx="8345520" cy="41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Sub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InputData(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  <a:ea typeface="Courier New"/>
              </a:rPr>
              <a:t>ByR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age 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As Doubl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ByR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hrs 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As Double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age =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CDb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txtWage.Text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rs =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CDb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txtHours.Text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End Sub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6" name="Slide Number Placeholder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7B3CC-6199-4DCB-B616-E082600AB7DB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DEA00-7B59-4FE4-89A0-0D3092872D7B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Lifetime and Scope of a Variable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497800" cy="41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ifetime: Period during which it remains in memory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cope: In Sub procedures, defined same as in event procedur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uppose a variable is declared in procedure A that calls procedure B. While procedure B executes, the variable is alive, but out of scop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1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FCE9E-F6A5-440C-972F-63C9214EE5EF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Functions vs. Sub procedur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7964280" cy="41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oth can perform similar task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oth can call other procedur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se a function when you want to return one and only one valu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5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A6293-6142-4FED-AD6E-18DEB8867937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Some Built-In Functions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9" name="TextBox 66"/>
          <p:cNvSpPr/>
          <p:nvPr/>
        </p:nvSpPr>
        <p:spPr>
          <a:xfrm>
            <a:off x="380880" y="1828800"/>
            <a:ext cx="69343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Function: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 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Example: 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Int(2.6) is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Input: 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Output: 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nstantia"/>
              </a:rPr>
              <a:t>Function</a:t>
            </a:r>
            <a:r>
              <a:rPr b="0" lang="en-US" sz="3200" spc="-1" strike="noStrike">
                <a:solidFill>
                  <a:srgbClr val="663300"/>
                </a:solidFill>
                <a:latin typeface="Constantia"/>
              </a:rPr>
              <a:t>: Math.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nstantia"/>
              </a:rPr>
              <a:t>Example: </a:t>
            </a:r>
            <a:r>
              <a:rPr b="0" lang="en-US" sz="3200" spc="-1" strike="noStrike">
                <a:solidFill>
                  <a:srgbClr val="663300"/>
                </a:solidFill>
                <a:latin typeface="Constantia"/>
              </a:rPr>
              <a:t>Math.Round(1.23, 1) is 1.2</a:t>
            </a:r>
            <a:r>
              <a:rPr b="0" lang="en-US" sz="3200" spc="-1" strike="noStrike">
                <a:solidFill>
                  <a:srgbClr val="663300"/>
                </a:solidFill>
                <a:latin typeface="Constant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nstantia"/>
              </a:rPr>
              <a:t>Input: </a:t>
            </a:r>
            <a:r>
              <a:rPr b="0" lang="en-US" sz="3200" spc="-1" strike="noStrike">
                <a:solidFill>
                  <a:srgbClr val="663300"/>
                </a:solidFill>
                <a:latin typeface="Constantia"/>
              </a:rPr>
              <a:t>number, 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Output: 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B786E-ECA0-4381-82AF-6423402F9C94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Some Built-In Functions (continued)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3" name="TextBox 66"/>
          <p:cNvSpPr/>
          <p:nvPr/>
        </p:nvSpPr>
        <p:spPr>
          <a:xfrm>
            <a:off x="0" y="1981080"/>
            <a:ext cx="8839080" cy="55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nstantia"/>
              </a:rPr>
              <a:t>Function:</a:t>
            </a:r>
            <a:r>
              <a:rPr b="0" lang="en-US" sz="3200" spc="-1" strike="noStrike">
                <a:solidFill>
                  <a:srgbClr val="663300"/>
                </a:solidFill>
                <a:latin typeface="Constantia"/>
              </a:rPr>
              <a:t> FormatPerc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nstantia"/>
              </a:rPr>
              <a:t>Example: </a:t>
            </a:r>
            <a:r>
              <a:rPr b="0" lang="en-US" sz="3200" spc="-1" strike="noStrike">
                <a:solidFill>
                  <a:srgbClr val="663300"/>
                </a:solidFill>
                <a:latin typeface="Constantia"/>
              </a:rPr>
              <a:t>FormatPercent(0.12, 2) is 12.0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nstantia"/>
              </a:rPr>
              <a:t>Input: </a:t>
            </a:r>
            <a:r>
              <a:rPr b="0" lang="en-US" sz="3200" spc="-1" strike="noStrike">
                <a:solidFill>
                  <a:srgbClr val="663300"/>
                </a:solidFill>
                <a:latin typeface="Constantia"/>
              </a:rPr>
              <a:t>number, 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nstantia"/>
              </a:rPr>
              <a:t>Output: </a:t>
            </a:r>
            <a:r>
              <a:rPr b="0" lang="en-US" sz="3200" spc="-1" strike="noStrike">
                <a:solidFill>
                  <a:srgbClr val="663300"/>
                </a:solidFill>
                <a:latin typeface="Constantia"/>
              </a:rPr>
              <a:t>st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nstantia"/>
              </a:rPr>
              <a:t>Function</a:t>
            </a:r>
            <a:r>
              <a:rPr b="0" lang="en-US" sz="3200" spc="-1" strike="noStrike">
                <a:solidFill>
                  <a:srgbClr val="663300"/>
                </a:solidFill>
                <a:latin typeface="Constantia"/>
              </a:rPr>
              <a:t>: Format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nstantia"/>
              </a:rPr>
              <a:t>Example: </a:t>
            </a:r>
            <a:r>
              <a:rPr b="0" lang="en-US" sz="3200" spc="-1" strike="noStrike">
                <a:solidFill>
                  <a:srgbClr val="663300"/>
                </a:solidFill>
                <a:latin typeface="Constantia"/>
              </a:rPr>
              <a:t>FormatNumber(12.62, 1) is 12.6</a:t>
            </a:r>
            <a:r>
              <a:rPr b="0" lang="en-US" sz="3200" spc="-1" strike="noStrike">
                <a:solidFill>
                  <a:srgbClr val="663300"/>
                </a:solidFill>
                <a:latin typeface="Constant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nstantia"/>
              </a:rPr>
              <a:t>Input: </a:t>
            </a:r>
            <a:r>
              <a:rPr b="0" lang="en-US" sz="3200" spc="-1" strike="noStrike">
                <a:solidFill>
                  <a:srgbClr val="663300"/>
                </a:solidFill>
                <a:latin typeface="Constantia"/>
              </a:rPr>
              <a:t>number, 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nstantia"/>
              </a:rPr>
              <a:t>Output: </a:t>
            </a:r>
            <a:r>
              <a:rPr b="0" lang="en-US" sz="3200" spc="-1" strike="noStrike">
                <a:solidFill>
                  <a:srgbClr val="663300"/>
                </a:solidFill>
                <a:latin typeface="Constantia"/>
              </a:rPr>
              <a:t>st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E3930-DBDD-45E0-8155-79506A989A7A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Function Procedur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497800" cy="41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unction procedures (also known as user-defined functions) always return one valu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yntax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Func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FunctionNam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ByVal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var1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As </a:t>
            </a:r>
            <a:r>
              <a:rPr b="1" i="1" lang="en-US" sz="2400" spc="-1" strike="noStrike">
                <a:solidFill>
                  <a:srgbClr val="0000ff"/>
                </a:solidFill>
                <a:latin typeface="Courier New"/>
              </a:rPr>
              <a:t>Type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ByVa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var2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As </a:t>
            </a:r>
            <a:r>
              <a:rPr b="1" i="1" lang="en-US" sz="2400" spc="-1" strike="noStrike">
                <a:solidFill>
                  <a:srgbClr val="0000ff"/>
                </a:solidFill>
                <a:latin typeface="Courier New"/>
              </a:rPr>
              <a:t>Type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...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As ReturnD</a:t>
            </a:r>
            <a:r>
              <a:rPr b="1" i="1" lang="en-US" sz="2400" spc="-1" strike="noStrike">
                <a:solidFill>
                  <a:srgbClr val="0000ff"/>
                </a:solidFill>
                <a:latin typeface="Courier New"/>
              </a:rPr>
              <a:t>ataTyp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statement(s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Retur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express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End Func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8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xample With One Paramet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304920" y="1981080"/>
            <a:ext cx="8650080" cy="41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Func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FtoC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ByVa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t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A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A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'Convert Fahrenheit temp to Celsiu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(5 / 9) * (t - 32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End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Func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1" name="Slide Number Placeholder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7DE7A-F53B-4CD1-AA9B-E6271AE39EAF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150560" y="457200"/>
            <a:ext cx="6697800" cy="1303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Header of the FtoC Function Procedure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634" name="Content Placeholder 5" descr="fig5-1.tif"/>
          <p:cNvPicPr/>
          <p:nvPr/>
        </p:nvPicPr>
        <p:blipFill>
          <a:blip r:embed="rId1"/>
          <a:stretch/>
        </p:blipFill>
        <p:spPr>
          <a:xfrm>
            <a:off x="41400" y="2895480"/>
            <a:ext cx="9026280" cy="2025720"/>
          </a:xfrm>
          <a:prstGeom prst="rect">
            <a:avLst/>
          </a:prstGeom>
          <a:ln w="0">
            <a:noFill/>
          </a:ln>
        </p:spPr>
      </p:pic>
      <p:sp>
        <p:nvSpPr>
          <p:cNvPr id="635" name="Slide Number Placeholder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A93A5-AEF4-49AA-8F62-548B01A3D17D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2T22:39:50Z</dcterms:created>
  <dc:creator>Maysoon</dc:creator>
  <dc:description/>
  <dc:language>en-US</dc:language>
  <cp:lastModifiedBy>FrEeDoM</cp:lastModifiedBy>
  <dcterms:modified xsi:type="dcterms:W3CDTF">2015-03-21T21:08:40Z</dcterms:modified>
  <cp:revision>2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5130AFAA5D399E489E1819B440698DE2</vt:lpwstr>
  </property>
</Properties>
</file>