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92F-6F2E-42D4-B8EE-C774C1FB00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3199-17FD-4ADD-8112-F47B6DC8A1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BB42-62AA-4509-AD55-627A0D8C7B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402-6E7B-483A-9AE1-BA7791CC0F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C083-186B-4B42-A22E-4A5E910213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1D8-BA6C-453A-8165-58B0A5B191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B127-7B40-452D-9F8B-9B105F9D6A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F4D2-25A6-48E6-81D4-CE73B86477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5093-BB7C-4F67-B4EF-7ECAD85A9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09B-5B22-4F37-9FC6-ECA12D69CE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979E-4A6F-43C4-A2B4-5FE3E665A7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28F9-BB5C-464E-A1DE-2CDBECE240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756-541A-4006-B4F7-711CF121AF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895E-0C60-424A-9FA3-2A4BBD70D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DBFF-62B7-4036-B90B-8F6ADA21A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F88E-99F4-4945-BC18-5CFBA46D4E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E4F9-3E84-405A-8B2D-5075EA5FE8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979A-11C7-441D-A548-72CC1B7305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68F8-5873-443D-B231-D50526C89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78C-31CD-48BC-B6E9-0723D0DAD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377-4B05-4827-A1A6-F3F858CE2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BC82-D7D1-4248-8572-E6D70031CB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661-7CB6-48FA-9B54-51BFFC09B2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5075-D587-4041-9893-0BDB0BB09F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BDC-510A-415B-AFD7-4A3AB7F7C5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4901-650D-4C90-B89A-0FF4886E15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B7A-8E0E-4782-944A-49500297B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EBF8-EDC3-4F29-84B9-6F1287EAD5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E838-A365-4F8A-AEEE-FA97AAD4B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D5E-51F0-408A-BD59-95B5B46451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C027-F1C8-4D5B-BD55-882F82BC51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9CA-942B-4B8C-9785-6373BB5EE2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A5E-5003-4E94-BFA2-9260721A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760-52EB-40B3-8F63-D9812109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576DA-D08A-4D5C-9717-C50C3EE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15CFA-E645-418E-A42F-0D7C9BA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0A99E-43C8-4447-B239-CFE4C56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A15F5-E6C9-4574-9A53-F625F11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AE2F0-4E78-40E3-AD4F-23189D9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AF9D2-43B0-496D-AE6E-A0310BA8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FF018-9AEA-4A8E-8BB9-038051E3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0C7C3-02C4-4C06-93F0-FB9ECABD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9AFE7-09D1-49B4-8114-8B321A5F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9137C-F988-4F53-B498-1387BA42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335-70C8-46CC-BA16-CA25B0F9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E1417-3070-4531-B24F-9412F27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BAC10-AE2B-4FEC-A7BA-BC45B668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33A23-96D5-49B8-99A4-C84B564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0C742-8152-4E23-BF7E-B559A06D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9DAAF-C982-45B6-9232-E2987C19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49AB6-9759-4F34-835A-3442FE4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79762-D9F3-45C9-9803-A1FA7ED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B2D29-D2AA-4DB6-8DC3-A55A8CF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7D6D5-60E2-4E15-BDC9-85918180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91536-1618-4173-A9E6-5B865479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0EB-773C-42C6-947E-3DADC518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2C98F-924E-4D9F-9C37-009A9CD4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1ADDB-8D8A-4245-944F-1626F0D9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62D03-F31F-4DAF-B9C8-FDE6FFEC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4657-F1F1-4FCE-98F4-21E7B34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A4731-4A37-4F29-8540-F031BD8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938C2-E91B-45C3-9281-0A100D5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52027-73ED-46CD-83C0-02DF83F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D8B1E-0A6E-4BC9-A65A-49CFA15F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857A1-75EF-4AEC-A877-EE9CFD5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0507-EF2E-4DCF-AA5E-426A323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6353-1551-495D-AFAC-B4C084B4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912D-CE0B-4DAB-919C-636161C1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63EE4-2E01-4854-B1FA-B0CFEFD2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41C68-2CE7-44C1-A06B-0445EF93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9CAEF-2883-4847-88F6-F5F17DAC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DAD32-0661-4CFD-98BA-C500436B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F4CED-115F-4370-8E4C-BE703BC6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3C45F-1B46-4838-9743-C119BB14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A8B98-A7EA-4E8B-97E6-E58E238E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80ABC-1854-413B-80BF-18F3395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C8BD0-3EFA-4CF8-B853-DA61F80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5E43-22A0-45F3-BE49-5BB4246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5C308-D00E-4AAE-8EDD-690AF0B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95CF2-7F87-456A-B668-4C56C3FA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4E9D7-CAEE-436D-887F-3C71D17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8894E-8E80-4CE2-AEF5-0B749485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6938F-600B-4639-8634-38DE86F8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B2E2-D34E-41F8-8D8B-29875B5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88A1-C77C-45F6-A6B5-1A7FBEC7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2E23-EDC1-4777-831B-5C7F473C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A78-741E-4F1D-8C03-5D53C3A1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8DCD-305F-4051-81DF-5216AC1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8FE-EB81-4163-B9EA-8BB1226F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07E8-516C-4DC5-AADB-EEADEFD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EFBA-305A-49FD-8DFF-0C66A4C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3AC8-C58B-4B19-8C82-DD42FCB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A605-BF06-4358-A4E4-F98992FF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203E-0824-4838-BA50-A1545498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D0B2-E0DB-4D6F-9D79-4609A53A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5177-41A7-43EE-932A-11A01775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EA93-7283-499B-A48B-AFD0028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26BE-6F13-4B95-A22C-C92DFAE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1A51-C175-43EF-868B-636F381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D31-B0E7-4D58-B4C7-20F2CE7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A665-AA84-4141-99C0-2F0B82ED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CED2-B484-4E1F-8C0A-460FAFF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E2ED-386C-41D4-8126-B12CC88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04F1-0812-42AB-822E-3D163D5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C315-6E39-4A43-813D-ED717102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DF1C-F2F1-4C1E-988B-FCEAA682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DE47-A992-4C35-8F0F-E760BDD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CF34-2DA5-4FC7-9B47-10ED25A8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106B-2DA8-4719-8559-8D6097DD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B2E0-7AE2-48A3-94AE-DC48256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F48-E5E6-4D59-B77A-DAEE2614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B2CFC-7105-4A9F-BD64-367AA53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D585-2903-4626-B951-1679CB57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650E-58F0-41B4-A983-63A31C7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010F-AE9F-49FD-ACC7-EA4C005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0FEC-D9F9-46FE-8A21-5FCA14B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D53C-2806-44C1-BC88-9E15B575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AD50-4798-4279-ADCA-E9E5026A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1D17-401D-481D-AAC8-CB3A4553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9E45-3778-4DA1-A0A2-7C403FDC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A042E-745D-4762-BE59-6722894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27C-9261-4BF6-A1A6-ADF78B56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DCBA-FD55-4C11-B48C-3D99F59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8010-543E-4AFC-A4B8-A5E41D81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C4A6-E9E6-4416-9946-165F7BE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16A7-E7BC-465A-BA9C-A1A3F6B1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208B-53DD-4FE9-A59F-F094A1D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A9415-0212-4A75-8495-0E3CC104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A8E8-C4E4-426C-88ED-0CF1DFB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D760-681A-4CC1-90EF-F01E7239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6012-3D63-4DDC-BE2D-134A5BD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95B0-741E-41E6-A802-4DEC4C36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A9E-7A6E-415F-BE6D-D44E9B0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43BF2-30FF-4CAD-BDF4-94BEE4AB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13AB-0D01-4BBA-ACC0-274217A4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3A1B-08D9-4779-ABD5-140F3059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EE11-A275-4551-9A24-CBF07A86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6B51-6D80-4EB3-BDEB-5AA60CDE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AEE7-AD35-4F85-BC25-BE99F242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62C2-71FC-4444-A5B1-349F702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86094-E6D1-4C1F-A5F8-9ECDC00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0AAF-07F4-47C0-A6E3-0D7716C5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55B28-E438-415F-B5B2-39BCB523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AA6-12AF-449A-9AE7-172C3C3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DF4B-72C4-412E-9511-D1963D8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64C8-2650-4988-88C6-709F3C0D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85961-DF1C-4B0E-9242-07F2548C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0109-945B-4624-BA79-C3161F7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AAA7-EB87-4FC1-A760-040B998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2639-435D-43E2-AE1B-6712546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267E1-47F7-41E7-BD2C-890AAA0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A934-86AD-4D8A-8633-B1766E5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63BB-1A92-4B5D-B758-9B5F028D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B64A-110C-49FE-B896-D4C774D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961-C644-415F-A917-FF45A99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05B6-FA7A-4ED0-B140-39C2053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242DF-DBAB-41A0-B1E7-818FFF3B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FF45-85CE-4B17-BA85-BA0F88D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5898-2584-43CC-BE7D-1F92BC6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5341F-EBB1-44D8-83F2-C3093DF2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7F47B-0C82-4831-AF8B-D87F85AB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496C-A998-44EB-B6DF-130E75DA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AA49C-0923-440B-8F7E-3109019D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E0368-808A-4864-84C4-00595DC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61E6-BFF8-4041-959F-8C3C83AD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F24-30E1-48D4-BC03-1D12FF1E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7F462-DB8A-42D3-9E33-7598DBBB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B6EFA-7A22-4856-BA63-555A7D4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A8033-0FCD-4067-87A5-6AA8873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59AAA-2C58-4AF6-91EC-A3CE427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0297-0269-44E6-A002-02A52D2E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4E0E-3C55-419F-8404-ADED09DC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8914-05CF-4674-9385-4C441AC9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24D5B-C213-4F5E-BFE5-06659B1D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8815E-C7ED-4413-A866-5AA78F0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BFB18-A2BB-485C-AD10-83DC67A5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9FD-252E-4A5C-873C-13C8457BB4A1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08EF-7BB0-43B4-B187-EF91E7971F4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195-32AA-4522-B593-C4E000A13D58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D279-80CA-4A62-BEC0-699C74648E6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859-67A7-45CE-ABDE-6D1B3FC0CA13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6113-9F20-4D8D-8FE5-39A91D0CDFF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8DED-4C3E-4277-9661-CE55C6AA268F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EFC5-3A5A-4758-9082-3F00352CEB6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E252-E6C8-4B9C-B5DE-F237DB09BDEA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CF90-C471-4B3F-896F-675E06DF5EB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C8E4-E0A8-4BCF-952C-2E368BBE6B70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556-463C-4575-BC0D-162E2F249C6D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DA5-E712-4D16-A71F-00906B611385}" type="datetime">
              <a:rPr b="0" lang="ar-SA" sz="1200" spc="-1" strike="noStrike">
                <a:solidFill>
                  <a:srgbClr val="d1eaee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386-9E41-400E-B58D-F482011FF60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D95F-36B8-4245-A348-C67517086127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CA26-27C6-4F30-A4B0-6030897C7FE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48A5-0282-4E98-B8E3-BAB671EB76BC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E1AC-9FAB-4070-BA58-399AB3B0A24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85C3-FAB8-4203-9DEA-0CCB0AB94D93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4C48-E877-4977-9CB2-DA3C4599AAA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2EFF-F31D-4BBE-BC29-FEF8A22CD6A6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9364-BEE1-4667-AD43-843FC799C34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E76B-5DD8-459C-AB9C-982B371C4069}" type="datetime">
              <a:rPr b="0" lang="ar-SA" sz="1200" spc="-1" strike="noStrike">
                <a:solidFill>
                  <a:srgbClr val="045c75"/>
                </a:solidFill>
                <a:latin typeface="Constantia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36E-F031-448F-BCB8-1522DFB879E8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128520" y="137160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457-0737-4373-A692-3B4E36FF34C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5072-2848-4D1B-AB90-9833A30CFB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086600" y="319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7086600" y="4871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Tem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10" descr="5-1-1.tif"/>
          <p:cNvPicPr/>
          <p:nvPr/>
        </p:nvPicPr>
        <p:blipFill>
          <a:blip r:embed="rId1"/>
          <a:stretch/>
        </p:blipFill>
        <p:spPr>
          <a:xfrm>
            <a:off x="380880" y="2286000"/>
            <a:ext cx="6616800" cy="3429000"/>
          </a:xfrm>
          <a:prstGeom prst="rect">
            <a:avLst/>
          </a:prstGeom>
          <a:ln w="0">
            <a:noFill/>
          </a:ln>
        </p:spPr>
      </p:pic>
      <p:sp>
        <p:nvSpPr>
          <p:cNvPr id="642" name="Line 6"/>
          <p:cNvSpPr/>
          <p:nvPr/>
        </p:nvSpPr>
        <p:spPr>
          <a:xfrm flipH="1">
            <a:off x="6019920" y="34243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6095520" y="5100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Using Func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nvert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nv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FtoC(fTemp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02E7-62D0-40A2-9BB7-F1FCD97E716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852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xample 1: Code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ithout Using Fun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F98-79C0-485B-839B-8AC275A0E99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520" y="1981080"/>
            <a:ext cx="8574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_Click(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_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tnConvert.Cli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Temp, cTemp </a:t>
            </a: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 = txtTempF.Tex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emp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5 / 9) *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e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- 3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xtTempC.Text = cTem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BC35-9DDC-4CD4-ADFB-B627FE749B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5" name="Content Placeholder 6" descr="5-1-1R.tif"/>
          <p:cNvPicPr/>
          <p:nvPr/>
        </p:nvPicPr>
        <p:blipFill>
          <a:blip r:embed="rId1"/>
          <a:stretch/>
        </p:blipFill>
        <p:spPr>
          <a:xfrm>
            <a:off x="1308240" y="2514600"/>
            <a:ext cx="6616440" cy="3429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2EE-80D3-411D-B744-287559EF62A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Several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ay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wage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mt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uble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 Total amount of salary per ho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elect 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=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h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as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4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‘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the wage (salary/hour) increases 50% per every extra hour (extra hours &gt;4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= wage * 40 +(0.5 * wage * (hrs – 40)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el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mt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5E8-7F94-4B24-A116-E90E39952E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56386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5791320" y="3805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10" descr="5-1-3.tif"/>
          <p:cNvPicPr/>
          <p:nvPr/>
        </p:nvPicPr>
        <p:blipFill>
          <a:blip r:embed="rId1"/>
          <a:stretch/>
        </p:blipFill>
        <p:spPr>
          <a:xfrm>
            <a:off x="717480" y="2209680"/>
            <a:ext cx="4692600" cy="3961080"/>
          </a:xfrm>
          <a:prstGeom prst="rect">
            <a:avLst/>
          </a:prstGeom>
          <a:ln w="0">
            <a:noFill/>
          </a:ln>
        </p:spPr>
      </p:pic>
      <p:sp>
        <p:nvSpPr>
          <p:cNvPr id="666" name="Line 8"/>
          <p:cNvSpPr/>
          <p:nvPr/>
        </p:nvSpPr>
        <p:spPr>
          <a:xfrm flipH="1">
            <a:off x="4800240" y="4038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"/>
          <p:cNvSpPr/>
          <p:nvPr/>
        </p:nvSpPr>
        <p:spPr>
          <a:xfrm flipH="1">
            <a:off x="4800240" y="3357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5867280" y="5329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xtEarning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8"/>
          <p:cNvSpPr/>
          <p:nvPr/>
        </p:nvSpPr>
        <p:spPr>
          <a:xfrm flipH="1">
            <a:off x="480024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0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Partial Co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28600" y="1981080"/>
            <a:ext cx="87631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_Click(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btnCalculate.Click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hourlyWage, hoursWorkded </a:t>
            </a: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lyWage = txtWage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hoursWorked = txtHours.Tex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txtEarnings.Text =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ormatCurrency(Pay(hourlyWage, hoursWorked))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4F2D-CB23-44E7-9CB2-D705E47B947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33526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Function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Up Arrow 6"/>
          <p:cNvSpPr/>
          <p:nvPr/>
        </p:nvSpPr>
        <p:spPr>
          <a:xfrm>
            <a:off x="3886200" y="495288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58B8-A8DD-465C-93BA-56426687ED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: 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410080" y="5105520"/>
            <a:ext cx="91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Content Placeholder 7" descr="5-1-3R.tif"/>
          <p:cNvPicPr/>
          <p:nvPr/>
        </p:nvPicPr>
        <p:blipFill>
          <a:blip r:embed="rId1"/>
          <a:stretch/>
        </p:blipFill>
        <p:spPr>
          <a:xfrm>
            <a:off x="2286000" y="2286000"/>
            <a:ext cx="4335480" cy="3657600"/>
          </a:xfrm>
          <a:prstGeom prst="rect">
            <a:avLst/>
          </a:prstGeom>
          <a:ln w="0">
            <a:noFill/>
          </a:ln>
        </p:spPr>
      </p:pic>
      <p:sp>
        <p:nvSpPr>
          <p:cNvPr id="68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BF27-BCA0-4ABF-920E-05D3B7D5B6A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Function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209700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OfItem(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ric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Pric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quantity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Quantity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ost = price * qua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467-0A20-4B61-86EE-6C20F08C4B1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User-Defined Boolean-Valued Func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IsVowelWord(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word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               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Boolea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A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word.IndexOf(</a:t>
            </a:r>
            <a:r>
              <a:rPr b="1" lang="en-US" sz="2100" spc="-1" strike="noStrike">
                <a:solidFill>
                  <a:srgbClr val="a31515"/>
                </a:solidFill>
                <a:latin typeface="Courier New"/>
              </a:rPr>
              <a:t>"U"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) = -1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he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I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1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BE3-0187-4FD0-8DF0-28473897240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7360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, Part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ula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9D0-0822-478A-8B26-A928B7F85DB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ing and Calling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riables and Expressions as Arg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Calling Other Sub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0C2-A14E-4202-B2A7-045D70AC8D8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Form of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5" descr="DefineSub.tif"/>
          <p:cNvPicPr/>
          <p:nvPr/>
        </p:nvPicPr>
        <p:blipFill>
          <a:blip r:embed="rId1"/>
          <a:stretch/>
        </p:blipFill>
        <p:spPr>
          <a:xfrm>
            <a:off x="609480" y="2438280"/>
            <a:ext cx="6842160" cy="250344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C93A-16AC-431E-9894-42B7729739B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ling a Sub Proced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ment that invokes /calls a Sub procedure is referred to as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lling stateme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calling statement looks like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Name(arg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g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933-B508-4416-BFF9-9BD6349EBB6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ming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ules for naming Sub procedures are the same as the rules for naming vari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A84-7F0D-4E86-8FF0-D5BCF42A7F3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Val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 2, 3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z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 = num1 + num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sum of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num1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and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amp; num2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is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z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e Sub procedure, 2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3 will be stored i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nu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Line 4"/>
          <p:cNvSpPr/>
          <p:nvPr/>
        </p:nvSpPr>
        <p:spPr>
          <a:xfrm flipH="1">
            <a:off x="4648320" y="2276640"/>
            <a:ext cx="86040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6300720" y="2276640"/>
            <a:ext cx="170028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5FD8-7565-4B1E-AFA2-C351BA87CDE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guments and Paramet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um2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6"/>
          <p:cNvSpPr/>
          <p:nvPr/>
        </p:nvSpPr>
        <p:spPr>
          <a:xfrm flipV="1">
            <a:off x="335268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 flipV="1">
            <a:off x="3886200" y="2437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35268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457200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5181480" y="3213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1"/>
          <p:cNvSpPr/>
          <p:nvPr/>
        </p:nvSpPr>
        <p:spPr>
          <a:xfrm>
            <a:off x="2895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2"/>
          <p:cNvSpPr/>
          <p:nvPr/>
        </p:nvSpPr>
        <p:spPr>
          <a:xfrm>
            <a:off x="4267080" y="3645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3"/>
          <p:cNvSpPr/>
          <p:nvPr/>
        </p:nvSpPr>
        <p:spPr>
          <a:xfrm>
            <a:off x="8229600" y="3645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4"/>
          <p:cNvSpPr/>
          <p:nvPr/>
        </p:nvSpPr>
        <p:spPr>
          <a:xfrm>
            <a:off x="4267080" y="3645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7086600" y="364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4038480" y="50371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play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3352680" y="46558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8"/>
          <p:cNvSpPr/>
          <p:nvPr/>
        </p:nvSpPr>
        <p:spPr>
          <a:xfrm flipV="1">
            <a:off x="7086600" y="465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9"/>
          <p:cNvSpPr/>
          <p:nvPr/>
        </p:nvSpPr>
        <p:spPr>
          <a:xfrm>
            <a:off x="3352680" y="52657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019920" y="53420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1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0CA-23D0-4317-B0C8-9752BFFB0AF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veral Calling Stat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2, 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4,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splaySum(7, 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Constantia"/>
              </a:rPr>
              <a:t>Outpu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2 and 3 is 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4 and 6 is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sum of 7 and 8 is 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941-7B49-46DC-92C6-1631BA0C047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Strings and Numb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  <a:ea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3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</a:t>
            </a:r>
            <a:r>
              <a:rPr b="1" lang="en-US" sz="2400" spc="-1" strike="noStrike">
                <a:solidFill>
                  <a:srgbClr val="e2d7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stat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38,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uld not be valid. The types of the arguments must be in the same order as the types of the parame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6"/>
          <p:cNvSpPr/>
          <p:nvPr/>
        </p:nvSpPr>
        <p:spPr>
          <a:xfrm flipH="1">
            <a:off x="3419280" y="2362320"/>
            <a:ext cx="1076040" cy="20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7"/>
          <p:cNvSpPr/>
          <p:nvPr/>
        </p:nvSpPr>
        <p:spPr>
          <a:xfrm>
            <a:off x="5562720" y="236232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0140-4ADB-4B0A-BF3F-E3E53DD6CFF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ariables and Expressions as Argu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s, 2 * 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o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he argument names need not match the parameter names. For instance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ersu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ub Procedure Having No Paramete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1981080"/>
            <a:ext cx="8726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Clear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is program displays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the name and populatio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of a state.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B9DA-1ACB-43E2-8D69-67DDB2524A3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2369-A96D-4DFF-9D44-95D83DCCB9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ices for Modula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ual Basic has two ways for breaking problems into smaller pie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unction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 procedur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C95-63E7-459D-AB66-F287BAE3AAA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617b"/>
                </a:solidFill>
                <a:latin typeface="Calibri"/>
              </a:rPr>
              <a:t>Sub Procedure Calling Another Sub Procedure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26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tnDisplay_Click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Hand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_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tnDisplay.Cli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C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37)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Su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mo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 _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scribeTask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Output.Items.Add = state &am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has population 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 pop &amp; 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 million.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program displ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ame and pop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f a sta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A has population 37 mill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3EB-8763-4ADD-886E-33D6D55EB0C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7DB5-71EA-4B5F-9F5D-A53276A1EBE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b Procedures, Part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sing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 Procedures that Return a Singl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 and Scope of Variables and Const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bu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6C1-C612-4496-A800-C0851AF3A9C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yVal and ByRe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249280"/>
            <a:ext cx="796464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meters in Sub procedure headers are proceeded by ByVal or ByRe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Val stands for By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Ref stands for By Refe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CB5D-FBAB-458B-8DB1-553B67027F8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Valu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69880" y="1981080"/>
            <a:ext cx="796464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Val parameter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ust the value of the argument is pass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ends, the variable has its original val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7EC-A054-4174-911E-5DB4066A96F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324000" y="1341360"/>
            <a:ext cx="8496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Straight Arrow Connector 5"/>
          <p:cNvCxnSpPr/>
          <p:nvPr/>
        </p:nvCxnSpPr>
        <p:spPr>
          <a:xfrm flipH="1">
            <a:off x="2050560" y="2637000"/>
            <a:ext cx="3601440" cy="7200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73" name="Straight Arrow Connector 6"/>
          <p:cNvCxnSpPr/>
          <p:nvPr/>
        </p:nvCxnSpPr>
        <p:spPr>
          <a:xfrm flipH="1">
            <a:off x="3419280" y="2636640"/>
            <a:ext cx="2232720" cy="1152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74" name="TextBox 9"/>
          <p:cNvSpPr/>
          <p:nvPr/>
        </p:nvSpPr>
        <p:spPr>
          <a:xfrm>
            <a:off x="565164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3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4"/>
          <p:cNvSpPr/>
          <p:nvPr/>
        </p:nvSpPr>
        <p:spPr>
          <a:xfrm>
            <a:off x="7380360" y="566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E8B-D6B4-4E76-97EE-045A542026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Same Example: n    num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24000" y="1268280"/>
            <a:ext cx="835164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"/>
          <p:cNvSpPr/>
          <p:nvPr/>
        </p:nvSpPr>
        <p:spPr>
          <a:xfrm>
            <a:off x="5796000" y="981000"/>
            <a:ext cx="38088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5"/>
          <p:cNvCxnSpPr/>
          <p:nvPr/>
        </p:nvCxnSpPr>
        <p:spPr>
          <a:xfrm flipH="1">
            <a:off x="2410920" y="2636640"/>
            <a:ext cx="3674160" cy="1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786" name="Straight Arrow Connector 6"/>
          <p:cNvCxnSpPr/>
          <p:nvPr/>
        </p:nvCxnSpPr>
        <p:spPr>
          <a:xfrm flipH="1">
            <a:off x="3418920" y="3068640"/>
            <a:ext cx="2665800" cy="72144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787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same as the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"/>
          <p:cNvSpPr/>
          <p:nvPr/>
        </p:nvSpPr>
        <p:spPr>
          <a:xfrm>
            <a:off x="644364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7380360" y="5300640"/>
            <a:ext cx="720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4"/>
          <p:cNvSpPr/>
          <p:nvPr/>
        </p:nvSpPr>
        <p:spPr>
          <a:xfrm>
            <a:off x="6443640" y="566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5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6"/>
          <p:cNvSpPr/>
          <p:nvPr/>
        </p:nvSpPr>
        <p:spPr>
          <a:xfrm>
            <a:off x="738036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17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0AE4-E67C-48A4-878C-76C033A576F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ssing by Referenc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variable argument is passed to a ByRef parameter, the parameter is given the same memory location as the arg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he Sub procedure terminates, the variable has the value of the parame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3665-597E-4984-8977-4C7F2C1F098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457200" y="1341360"/>
            <a:ext cx="822960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ublic 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_Click 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tnOne.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2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2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1. 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 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Straight Arrow Connector 4"/>
          <p:cNvCxnSpPr/>
          <p:nvPr/>
        </p:nvCxnSpPr>
        <p:spPr>
          <a:xfrm flipH="1" flipV="1">
            <a:off x="2555640" y="2565000"/>
            <a:ext cx="3529440" cy="2167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02" name="Straight Arrow Connector 5"/>
          <p:cNvCxnSpPr>
            <a:stCxn id="803" idx="1"/>
          </p:cNvCxnSpPr>
          <p:nvPr/>
        </p:nvCxnSpPr>
        <p:spPr>
          <a:xfrm flipH="1">
            <a:off x="3491640" y="3182400"/>
            <a:ext cx="2520360" cy="39132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03" name="TextBox 6"/>
          <p:cNvSpPr/>
          <p:nvPr/>
        </p:nvSpPr>
        <p:spPr>
          <a:xfrm>
            <a:off x="6012000" y="27208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um) is the same as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7"/>
          <p:cNvSpPr/>
          <p:nvPr/>
        </p:nvSpPr>
        <p:spPr>
          <a:xfrm>
            <a:off x="680400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8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22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09" name="Footer Placeholder 1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884D-82CF-4AF1-AA8E-92952A8CFB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num     n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457200" y="1268280"/>
            <a:ext cx="829152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Private 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btnOne_Click(...)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Handl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btnOne_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Di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Triple(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 </a:t>
            </a: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3 *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xtBox1.Text =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</a:rPr>
              <a:t>“num = “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urier New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: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5796000" y="907920"/>
            <a:ext cx="533520" cy="0"/>
          </a:xfrm>
          <a:prstGeom prst="line">
            <a:avLst/>
          </a:prstGeom>
          <a:ln w="255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Straight Arrow Connector 5"/>
          <p:cNvCxnSpPr/>
          <p:nvPr/>
        </p:nvCxnSpPr>
        <p:spPr>
          <a:xfrm flipH="1" flipV="1">
            <a:off x="2267640" y="2564640"/>
            <a:ext cx="3744360" cy="7236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cxnSp>
        <p:nvCxnSpPr>
          <p:cNvPr id="815" name="Straight Arrow Connector 6"/>
          <p:cNvCxnSpPr/>
          <p:nvPr/>
        </p:nvCxnSpPr>
        <p:spPr>
          <a:xfrm flipH="1">
            <a:off x="3563640" y="3068280"/>
            <a:ext cx="2521440" cy="577080"/>
          </a:xfrm>
          <a:prstGeom prst="straightConnector1">
            <a:avLst/>
          </a:prstGeom>
          <a:ln w="9360">
            <a:solidFill>
              <a:srgbClr val="599545"/>
            </a:solidFill>
            <a:miter/>
            <a:tailEnd len="med" type="arrow" w="med"/>
          </a:ln>
        </p:spPr>
      </p:cxnSp>
      <p:sp>
        <p:nvSpPr>
          <p:cNvPr id="816" name="TextBox 7"/>
          <p:cNvSpPr/>
          <p:nvPr/>
        </p:nvSpPr>
        <p:spPr>
          <a:xfrm>
            <a:off x="6012000" y="23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839"/>
                </a:solidFill>
                <a:latin typeface="Constantia"/>
              </a:rPr>
              <a:t>Argument name (n) is different than parameter name 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6"/>
          <p:cNvSpPr/>
          <p:nvPr/>
        </p:nvSpPr>
        <p:spPr>
          <a:xfrm>
            <a:off x="6516720" y="566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7"/>
          <p:cNvSpPr/>
          <p:nvPr/>
        </p:nvSpPr>
        <p:spPr>
          <a:xfrm>
            <a:off x="6372360" y="4859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Memory (RAM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8"/>
          <p:cNvSpPr/>
          <p:nvPr/>
        </p:nvSpPr>
        <p:spPr>
          <a:xfrm>
            <a:off x="7236000" y="566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dd9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9"/>
          <p:cNvSpPr/>
          <p:nvPr/>
        </p:nvSpPr>
        <p:spPr>
          <a:xfrm>
            <a:off x="6588000" y="5272200"/>
            <a:ext cx="107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0"/>
          <p:cNvSpPr/>
          <p:nvPr/>
        </p:nvSpPr>
        <p:spPr>
          <a:xfrm>
            <a:off x="6659640" y="5364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21"/>
          <p:cNvCxnSpPr/>
          <p:nvPr/>
        </p:nvCxnSpPr>
        <p:spPr>
          <a:xfrm>
            <a:off x="6948000" y="5516280"/>
            <a:ext cx="288360" cy="1080"/>
          </a:xfrm>
          <a:prstGeom prst="straightConnector1">
            <a:avLst/>
          </a:prstGeom>
          <a:ln w="9360">
            <a:solidFill>
              <a:srgbClr val="0073a1"/>
            </a:solidFill>
            <a:miter/>
            <a:tailEnd len="med" type="arrow" w="med"/>
          </a:ln>
        </p:spPr>
      </p:cxnSp>
      <p:sp>
        <p:nvSpPr>
          <p:cNvPr id="823" name="Footer Placeholder 1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B488-951F-45A7-BDE2-7C0C2582A54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One Par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Several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Functions Having No Parameter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r-Defined Boolean-Valued Fun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st Common Use of ByRef: Get Input (Read Input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u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nputData(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  <a:ea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By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hrs 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As Doubl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ge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Wage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s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CDb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xtHours.Tex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5B2E-DC55-440A-BA3C-57F5BF9253B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568-58B5-406A-B8F1-C0CD79964B8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fetime and Scope of a Variable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etime: Period during which it remains in memo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ope: In Sub procedures, defined same as in event procedu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a variable is declared in procedure A that calls procedure B. While procedure B executes, the variable is alive, but out of scop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510-1EB9-40B2-984A-5492CC55383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 vs. Sub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642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perform similar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h can call other procedu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 function when you want to return one and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2CD-3089-4BF1-B6C1-1349F9D3946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ome Built-In Func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TextBox 66"/>
          <p:cNvSpPr/>
          <p:nvPr/>
        </p:nvSpPr>
        <p:spPr>
          <a:xfrm>
            <a:off x="380880" y="182880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t(2.6) i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Math.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Math.Round(1.23, 1) is 1.2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2937-4497-4578-920A-7978B02899C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me Built-In Functions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TextBox 66"/>
          <p:cNvSpPr/>
          <p:nvPr/>
        </p:nvSpPr>
        <p:spPr>
          <a:xfrm>
            <a:off x="0" y="1981080"/>
            <a:ext cx="8839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: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Format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Percent(0.12, 2) is 12.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Function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: Format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Example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FormatNumber(12.62, 1) is 12.6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In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number,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Output: </a:t>
            </a:r>
            <a:r>
              <a:rPr b="0" lang="en-US" sz="3200" spc="-1" strike="noStrike">
                <a:solidFill>
                  <a:srgbClr val="663300"/>
                </a:solidFill>
                <a:latin typeface="Constantia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CC5-4243-484A-869F-6436734D84A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978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procedures (also known as user-defined functions) always return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ntax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unctionNa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85dfd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1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var2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Typ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As ReturnD</a:t>
            </a:r>
            <a:r>
              <a:rPr b="1" i="1" lang="en-US" sz="2400" spc="-1" strike="noStrike">
                <a:solidFill>
                  <a:srgbClr val="0000ff"/>
                </a:solidFill>
                <a:latin typeface="Courier New"/>
              </a:rPr>
              <a:t>ata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statement(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With One Parame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toC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yV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'Convert Fahrenheit temp to Celsi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5 / 9) * (t - 3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EB51-9F28-40C4-986D-578B46B9798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669780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eader of the FtoC Function Procedu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34" name="Content Placeholder 5" descr="fig5-1.tif"/>
          <p:cNvPicPr/>
          <p:nvPr/>
        </p:nvPicPr>
        <p:blipFill>
          <a:blip r:embed="rId1"/>
          <a:stretch/>
        </p:blipFill>
        <p:spPr>
          <a:xfrm>
            <a:off x="41400" y="2895480"/>
            <a:ext cx="9026280" cy="202572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6A55-FBEA-4D22-9A9C-E7717572930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Edited By Maysoon Al-Duw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39:50Z</dcterms:created>
  <dc:creator>Maysoon</dc:creator>
  <dc:description/>
  <dc:language>en-US</dc:language>
  <cp:lastModifiedBy>FrEeDoM</cp:lastModifiedBy>
  <dcterms:modified xsi:type="dcterms:W3CDTF">2015-03-21T21:08:40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130AFAA5D399E489E1819B440698DE2</vt:lpwstr>
  </property>
</Properties>
</file>