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E15-EAD7-48C5-A992-789B25C2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9EC-1257-4929-B88F-C5BC0DD7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A81-E805-4072-86C2-9B80BC6F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99E-95CF-41A7-B0ED-B2565E28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2188-E930-4079-964C-3002C20E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CF35-CEE2-40DF-A037-0EAC4B1E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832-E2C4-407A-9BA9-DBFCB4D9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CBEF-4539-4BFE-BE55-F2D65525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3EC3-7EB1-416A-8E51-9E4ADEE9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E1FC-5F9A-4E9B-9059-B4AEDE13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16C5-3B81-4D53-87DB-72FF8AC8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F31-052D-4050-8B4D-05E4EF61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B62B-3216-4546-9D30-68577254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23F2-16DD-4890-A060-58AA3E41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4D0C-0C08-48ED-9993-DFB1405E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FAE0-5624-4E9C-826F-CD2DF7F0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AD12-89CC-4810-91ED-15BFBBC1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4243-418C-48A2-B42F-98A8DC31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DAA4-8FDC-4610-B286-B01605A9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57C0-DF73-4D6A-B80B-0A05B6D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262B-7CAF-4A1E-994C-F67F9527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CA16-5828-48F5-85CD-483A6CED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C5D-294B-438D-9F60-4EC7805B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9EAC-E7F2-4D31-96BC-448860F3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61B6-C5BD-4176-BE81-1826448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89B2-E3D3-470A-A1CD-E9BA1A7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6C31E-C0E9-4381-A32F-CFF5A3E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5A9BC-0B5C-495C-9BF5-CEE39EBE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A0FE-CD9F-426E-B4B4-A3D498C8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F4B7-7798-415B-9AA3-4D829A3F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B06A7-7B91-4561-B7E9-84FD97DE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40A9-DC0C-4B25-97B5-BF76FC02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54FC-9705-468D-9E90-1D220F26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9AF-9AA4-4ABE-A11F-0A894D16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FC00-111B-443D-9CEC-6126A3FD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9852B-D2D8-48BC-8445-5BC43742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942B-C39D-4985-BD6B-9FE82778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DA87-50D5-47E0-AC09-A195C79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60F69-2CD6-4B1C-B960-E969051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81DBA-2EF2-4DF8-9697-F93D993C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FCBA-02F7-4629-A2D5-911063DA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BFEE-4E9A-43AC-A59D-2463AB76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54F0-2A23-42AD-9326-4420492A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CB1C-4E8A-441B-BD06-39E23F2E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5BC-7AFA-4AA3-9374-0316D07C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C42F-0775-4604-A023-23B0BB03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E158-A3BF-4BEE-8F88-576E5EA7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0ECE-BAAB-4966-81E1-A3EF0D3E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D7E8-E387-40D6-8846-75290306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8589-2C1C-4163-BDB5-A9D8C082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4C4D1-85DF-46EA-B778-24FC8C32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014CF-9B6E-4BB4-9206-F0670DB8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12D6-12BA-4770-86B0-6204D57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9034-4858-4E9F-948B-B7C3437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34AF-FAB7-4605-B35F-F6157239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396-C959-4AE1-8209-63F19FBB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8B7AC-8508-45FF-8FAB-46E0888D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24D14-A581-4761-A8EF-4D7C57B9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773ED-7CCD-4487-A1C7-285C511C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08AD-9F78-49F6-9307-CA054824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4DF84-0061-445D-8CF1-BAF2FFB6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28A89-3BD5-403A-A182-42597168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346BE-44B0-4C8C-A317-550E2692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97E4-EF69-41DA-9B32-075B6EF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B0FBE-78C0-49D8-8C4E-6A0F082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AC75E-96F3-412D-A5E9-8D4C683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645-1C7B-4722-9F7A-D518109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25DB2-DC8F-4C43-958D-21BB442F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69F5-4D1A-4767-BB1E-0D350874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9F80E-4D5D-4889-AC8E-D7E30FDD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6690-172A-499F-AB3B-4881C886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B284-C062-478A-94E5-CF1E6A56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1923B-40A8-4C01-9CB9-8EC1FC4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F9AB-AF61-4816-88A6-6684ABB5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3E1BC-5974-4B10-8DAC-E85A73B4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A4DAB-4FC5-4E1B-B5F5-6621C09C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6494-F109-4A54-810B-F1439CD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72E-8668-499B-9AA3-FAE4E0B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48D6-BA42-4194-B3AE-120C5F3D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EBF21-5DC2-43CA-BD60-A7309B5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32DE9-CA81-4F08-9CCE-7454A351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DAC68-6FD6-45D7-98E2-CE6EE78E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F378-70CE-48E6-B35E-0005DD28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F0FEC-CE6A-4541-B5D4-A1BBED77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A2B95-D583-4A57-B125-47045326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DEEB-A5EF-444C-A8A4-925452FE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1090F-6337-4F52-B9AD-E4A9FCE5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C7B19-C003-438F-87DE-9742356F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385-4FF5-479C-97D2-7D4CAB90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35DA-7332-4010-8221-BFF28D7F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09B9D-9C3B-41E3-9418-6A8E5E4B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E1063-9A99-4453-9D20-B2204CB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80D4-6340-4C89-BF7D-12BACF3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4655F-53F6-407E-B977-DA934741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73C87-78EE-4E18-BD80-D6EEE785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2629E-8C50-4B10-A604-DD1A1C1E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277A-EA04-4E69-8810-C4D8320945A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065D-104E-4E3F-A509-9408C54B732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F265-B0A1-4370-AC66-E4F9D288B44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869C-B226-4A44-AD1B-F26FE82AF5A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8701-DF61-47AD-AE5D-3D25B244ABB6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45E8-76BC-44A5-9438-0FD4923B29A2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4CB9-E4B9-4675-AE34-B5CBBE5C6CF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3FEE-C49C-47F1-AEA9-AE47C19B7AE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13E-37F4-49D8-9C14-25175FF2E378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B25F-0F00-4D5B-BDCC-2AA53DE5F6A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248B-60BD-4782-AE88-5D19999BDF03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C175-2D1C-4E0B-ACD8-7C9E8D2AD57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CF9B-3C09-437D-ABF2-7F17F6FE9A2F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61AE-3BB2-4636-8273-6CAAF3E62488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8BC0-1DB2-4C60-B04F-D07BF7EA3E35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Fatimah Al-Akeel - Network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ABE7-FE3A-4FC6-A228-5137C7E1EED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ternet and Intra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  <p:sp>
        <p:nvSpPr>
          <p:cNvPr id="354" name="عنصر نائب لرقم الشريحة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D093-2438-48C1-8261-3ECDE053700D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anet Characteristic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009F-8BFA-4C47-845B-1737F87DC4CF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users of intranet network may access the Internet via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x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n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firewal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, or it may be totally sepa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ncludes connections through one or mor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gatewa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he outside Interne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unnel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companies can send private messages through the public network, using encryption/decryption and other security safeguards to connect one part of their intranet to anoth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part of an intranet is made accessible to customers, partners, suppliers, or others outside the company, that part becomes part of an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extranet</a:t>
            </a:r>
            <a:r>
              <a:rPr b="1" lang="en-US" sz="2400" spc="-1" strike="noStrike">
                <a:solidFill>
                  <a:srgbClr val="ff0066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anet Diagra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A70-C674-4F9D-AF1E-B688A7452996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Content Placeholder 6" descr="intranet-diagram.jpg"/>
          <p:cNvPicPr/>
          <p:nvPr/>
        </p:nvPicPr>
        <p:blipFill>
          <a:blip r:embed="rId1"/>
          <a:stretch/>
        </p:blipFill>
        <p:spPr>
          <a:xfrm>
            <a:off x="1828800" y="1523880"/>
            <a:ext cx="549900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xy Serv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B90-F0E4-4139-BB7D-87A01BA75145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 server that acts as an intermediary between a workstation user and the Internet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roxy server is associated with or part of a gateway server that separates the enterprise network from the outside networ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nterprise can ensure security, administrative control, and caching service by using a proxy serv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xy Server- How it work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6619-17A9-487F-B197-0249DDC8C3CE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roxy server receives a request for an Internet service (such as a Web page request) from a us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it passes filtering requirements, the proxy server, assuming it is also a cache server, looks in its local cache of previously downloaded Web pag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it finds the page, it returns it to the user without needing to forward the request to the Interne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xy Server- How it work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7517-7DCD-453A-A57F-3BBCFE8A5B7E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e page is not in the cache, the proxy server, acting as a client on behalf of the user, uses one of its own IP addresses to request the page from the server out on the Interne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he page is returned, the proxy server relates it to the original request and forwards it on to the use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rewal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40B5-A4DB-4D0B-AC8B-079845F24316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irewall 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irewall is a set of relate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located at a network gateway that protects the resources of a private network from users from other networ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ewall used in an intranet have the ability to screen messages in both directions so that company security is maintain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firewall surrounding an intranet fends off unauthorized acces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xy Server and Firewal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6BE0-61A6-47CC-BDE4-AEC665EFB6C1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Content Placeholder 6" descr="08fig02.gif"/>
          <p:cNvPicPr/>
          <p:nvPr/>
        </p:nvPicPr>
        <p:blipFill>
          <a:blip r:embed="rId1"/>
          <a:stretch/>
        </p:blipFill>
        <p:spPr>
          <a:xfrm>
            <a:off x="762120" y="1523880"/>
            <a:ext cx="751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atew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DFE7-A5D9-48DE-8D69-801331615D94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gateway is a network point that acts as an entrance to another network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the Internet, a node can be either a gateway node or a host (end-point) no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the computers of Internet users and the computers that serve pages to users are host nod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omputers that control traffic within your company's network or at your local Internet service provider (ISP) are gateway nod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atew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F853-13CD-4F6D-B19C-1FFBB36962E9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the network for an enterprise, a computer server acting as a gateway node is often also acting as a proxy server and a firewall serv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gateway is often associated with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router, which knows where to direct a given packet of data that arrives at the gateway,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nd a switch, which furnishes the actual path in and out of the gateway for a given packet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atew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00D-3B00-4826-9099-9FE5CE95ACDC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Content Placeholder 6" descr="wifi1.gif"/>
          <p:cNvPicPr/>
          <p:nvPr/>
        </p:nvPicPr>
        <p:blipFill>
          <a:blip r:embed="rId1"/>
          <a:stretch/>
        </p:blipFill>
        <p:spPr>
          <a:xfrm>
            <a:off x="1143000" y="1600200"/>
            <a:ext cx="6095880" cy="4572000"/>
          </a:xfrm>
          <a:prstGeom prst="rect">
            <a:avLst/>
          </a:prstGeom>
          <a:ln w="0">
            <a:noFill/>
          </a:ln>
        </p:spPr>
      </p:pic>
      <p:grpSp>
        <p:nvGrpSpPr>
          <p:cNvPr id="413" name="Right Arrow 8"/>
          <p:cNvGrpSpPr/>
          <p:nvPr/>
        </p:nvGrpSpPr>
        <p:grpSpPr>
          <a:xfrm>
            <a:off x="317520" y="3767040"/>
            <a:ext cx="1724040" cy="1201680"/>
            <a:chOff x="317520" y="3767040"/>
            <a:chExt cx="1724040" cy="1201680"/>
          </a:xfrm>
        </p:grpSpPr>
        <p:pic>
          <p:nvPicPr>
            <p:cNvPr id="414" name="Right Arrow 8" descr=""/>
            <p:cNvPicPr/>
            <p:nvPr/>
          </p:nvPicPr>
          <p:blipFill>
            <a:blip r:embed="rId2"/>
            <a:stretch/>
          </p:blipFill>
          <p:spPr>
            <a:xfrm>
              <a:off x="317520" y="3767040"/>
              <a:ext cx="172404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380880" y="4076640"/>
              <a:ext cx="133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Interne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ffffff"/>
              </a:solidFill>
              <a:latin typeface="Gill Sans MT"/>
              <a:ea typeface="Arial"/>
            </a:endParaRPr>
          </a:p>
        </p:txBody>
      </p:sp>
      <p:sp>
        <p:nvSpPr>
          <p:cNvPr id="357" name="عنصر نائب لرقم الشريحة 2"/>
          <p:cNvSpPr/>
          <p:nvPr/>
        </p:nvSpPr>
        <p:spPr>
          <a:xfrm>
            <a:off x="1069920" y="6354720"/>
            <a:ext cx="15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21B0-CBA4-475C-93F8-5274D458343C}" type="slidenum">
              <a:rPr b="0" lang="ar-SA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Internet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5554-3919-43EE-9561-065F8B2E7CDD}" type="datetime">
              <a:rPr b="0" lang="en-US" sz="1400" spc="-1" strike="noStrike">
                <a:solidFill>
                  <a:srgbClr val="464653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53C9-BA42-46D7-85D1-75FDEC5FCA63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371240"/>
            <a:ext cx="4419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network is a group of connected communicating devices such as computers and printers. An internet is two or more networks that can communicate with each oth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world’s largest computer network, consisting of millions of computers supporting tens of millions of users in hundreds of countri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384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rnet Histor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B0AE-6F06-42D5-A9FB-39FED5D49851}" type="datetime">
              <a:rPr b="0" lang="en-US" sz="1400" spc="-1" strike="noStrike">
                <a:solidFill>
                  <a:srgbClr val="464653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4877-9CDC-4750-BEE7-4F4F878A7AAE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4479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Internet was originally established to meet the research needs of the U.S. defense industry (ARPANET), but it has grown to develop (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NSFNET) for those colleges that did not have access to ARPANET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n 1990 most networks were leaving the slower ARPANET and linking to NSFNET, which was then called the Internet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nternet now is a huge global network serving universities, academic researchers, commercial interests, government agencies, and private individuals over the worl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Internet Tod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Date Placeholder 3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E0F8-78A5-4F90-AB7D-EC74990DBA3D}" type="datetime">
              <a:rPr b="0" lang="en-US" sz="1400" spc="-1" strike="noStrike">
                <a:solidFill>
                  <a:srgbClr val="464653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B4B-4BBA-4143-BC5D-EB04B898A043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Internet today is not a simple hierarchical structure. It is made up of many wide- and local-area networks joined by connecting devices and switching statio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s difficult to give an accurate representation of the Internet because it is continually changing-new networks are being added, existing networks are adding addresses, and networks of defunct companies are being remove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day most end users who want Internet connection use the services of Internet service providers (lSPs). The Internet today is run by private companies, not the governmen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e9ec"/>
                </a:solidFill>
                <a:latin typeface="Bookman Old Style"/>
              </a:rPr>
              <a:t>The Intranet</a:t>
            </a:r>
            <a:endParaRPr b="0" lang="en-US" sz="40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ffffff"/>
              </a:solidFill>
              <a:latin typeface="Gill Sans MT"/>
              <a:ea typeface="Arial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1069920" y="6354720"/>
            <a:ext cx="152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51AF-40DA-43EA-8AC8-5132D7B4C68E}" type="slidenum">
              <a:rPr b="0" lang="ar-SA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Intranet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711C-A083-48A9-8AB2-CD7ABE8741A0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tr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 computer network that uses Int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e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rnet standards (HTML, HTTP &amp; TCP/IP protocols) &amp; software.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ccessed only by authorized persons, especially members or employees of the organizatio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The main purpose of an intranet 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hare company information and computing resources among employe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age of Intra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F1AD-A808-4050-A5AD-882F5AB38FD0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ny companies use intranets for tasks 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ributing a company newslet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aring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facilitating the workgroups according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ant knowledge about important news and mem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lationship buildin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creasing productivi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mmendations and suggestion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ject managemen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ranet Characteristic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A3BC-4B8F-4141-B9F5-7F6C274AA979}" type="slidenum">
              <a:rPr b="0" lang="ar-SA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general it looks like a private version of the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some (TCP/IP,HTTP) or all of the protocols of the interne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s interact in a client server relationship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des are identified by using Internet Protocol (IP)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s are identified by universal resource locators (URLs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data being exchanged are typically formatted using HTML and is controlled and displayed using a brows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may consist of many interlinked local area networ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8:21:31Z</dcterms:created>
  <dc:creator>lol</dc:creator>
  <dc:description/>
  <dc:language>en-US</dc:language>
  <cp:lastModifiedBy>User</cp:lastModifiedBy>
  <dcterms:modified xsi:type="dcterms:W3CDTF">2016-01-23T17:56:51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F0F80E32A91A04FBCBF0F33924102D3</vt:lpwstr>
  </property>
</Properties>
</file>