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F366-CBA1-4D4B-96DA-91FF8264B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F429-94E8-4C2F-A405-D12855CC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844D-585C-47CC-A6D8-FE743231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2F5E-20C0-4AFE-B560-5C05CDB2C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7BC2-7AE2-4D35-B971-A7A01EEEC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7F96-74DF-48D3-B813-967DF306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A967-537B-4EE0-A422-940FF987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D2D4-6BEA-4162-9B4D-C561CB32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8E7C-6AEE-4719-81E8-59B84532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FF2B-9FA1-4F72-9860-799B688E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9EEB-4993-4EE0-A89C-DBA8FAE2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63A3-ACD1-4EA7-8271-7EB6EEAB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9B20-495B-4027-9BF6-91D6EC18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3266-D672-4A6C-AE00-10532AFD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7BF0-B48D-47DB-91E5-799301A7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A619-1688-45E0-9DA2-DAE5B4527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29AA-766F-4BBC-9EB2-539A1A96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0F0BA-1DB5-4ECE-9790-3EB26E6E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391D4-8364-48B5-9530-3990A46A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D2E22-F610-4332-91B3-51DDE240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B84CF-099F-4926-9415-720B6FCB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2C7B1-CD07-4176-AAB4-F7878DA4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D5DE-8C5E-43EF-9DCC-768659C8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3F9D4-4661-402D-BEF1-43D5BF2D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82869-A242-4A38-A340-62F6848A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44710-9CCC-4D5B-865C-BCE9BEB1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3D14B-4270-4BA6-86C6-A82BEF8C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A68CC-A735-4F61-B549-66E573D6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C8E91-6E83-4CBF-987F-1F03CE8F5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37014-148F-41B0-8D2C-0621AB3A3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7DAEB-9A9C-451E-BAC1-7914C352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B7C9C-04B1-4889-A2D8-DC4EE4E9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7FE71-4A6C-42A9-8313-1C428CD0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D4C4-D3EB-4BE9-8991-AFFF0361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681D6-6CBD-4207-B0E7-117510E7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9DE49-36D3-4401-9BAA-6FECB75A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5A4DE-A42E-4117-86A4-CA55A923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2C6EE-59AF-4BD2-AB95-1444662A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9D130-D6DD-4189-9E2D-6DEC889D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06B84-E85D-4A15-BA28-B298649A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A4A0D-FB1D-45E8-8AB0-17152A5B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29F85-3069-4ACF-91C8-30BFB528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0AEB2-02F5-4ED1-9E68-EA7D1279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29602-BC6B-4C36-96A4-F30D640B7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203D-72C8-4AF1-BA53-C6C8645E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796BA-699D-4731-80A3-4323ED80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70A6D-630A-4886-A9F0-A8F9EA41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B3CD5-F751-470C-881D-CB042A70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79F61-DAD8-472F-930C-FAEF53EB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8AC77-75FC-4E07-80F2-FD8B07E8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19A3E-5894-48F8-8EB5-5021B289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52EF4-3D83-4393-8242-2E1566B6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8A92B-9766-47BD-B103-E5C9A86D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BF84B-852F-41E0-8C93-B8467DD3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99B3B-2037-4ED5-BEE5-FEDA37FC2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1317-1545-4DEA-96EA-F4CF33BF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F6FBA-881B-458F-968D-11F09FE6E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55FC4-BA07-462E-AAB1-F62FA0DEC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78EFC-2BD7-4C60-A52F-016BA763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73378-86B2-467A-86AB-79900AF7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F6A2D-B7C6-402E-A17F-CB865B79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8220B-3D6E-4EDB-9D31-74E6AB07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79067-0216-4609-BA26-44065318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BC148-A3F2-4568-83D7-ED801614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30C21-C62A-40AD-8793-85E02A4D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79242-206A-46BF-910E-B760A50D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AABA-6F44-4013-87D0-D64A16D2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1DF26-0FAE-4AD8-BA99-2B244460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C4E0C-98DA-4292-A188-0F064A10B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050D9-6270-4FCC-B86C-49EAA49E3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541B2-1064-48A3-88E4-07EE398E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DC814-B7EB-49A3-B003-17DBD6DF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C7130-B743-4854-B725-56EE8A2E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E386A-249D-468D-8358-C4A6067C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195E5-9BE7-4DF9-805A-E2BEEF1A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B85CC-3752-4BF5-BD0A-FB63D6FB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0724E-0FE0-48A0-BF51-2DC64501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59CB-864C-4CFF-9507-0139672F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FA89F-BE3F-48B9-9FE0-73CD3375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03045-8775-4820-B9F4-CA156AC1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AD646-9509-425E-9927-131ABA31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368AD-D7C5-44A8-B12C-ABABD992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D3B83-CD8E-4BAC-9772-6DAFBBC10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762D9-F3C6-4D7A-94C7-CF050904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F7E27-3B68-46EF-B5F0-5E7B1567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48BBB-300E-4653-A7E7-A8EE3BE9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9CE82-C1BF-4DA3-ACAD-74E238AA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D8F32-6742-4E99-9B39-4FDBAAFF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1243-83E4-4A96-AE29-4E9FC979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EFFC2-85DC-44CB-A50F-A0B7FB50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4AE37-1D76-4A5C-925B-6293D0E4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805E2-4606-4EDF-9E02-79632062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CDA91-03DC-4A76-81B4-DA61C84E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79581-D517-4A0D-B19D-0A2E1A53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5661B-1A59-4CC8-BC1C-F22B6A72F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EDE6D-100F-4710-A062-89A01F69F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B375-0E2E-49FE-A0E7-B0F4BADE0D4F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Fatimah Al-Akeel - Network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CCF2-E875-4AEE-845D-D452877D93D1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ستطيل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ستطيل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ستطيل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537C-6DAD-414A-841E-5A70473B0D61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Fatimah Al-Akeel - Network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6100-1657-42EC-8573-C65DFE47A9B2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ستطيل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9711-5B00-426B-AED8-E72628FBA754}" type="datetime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Fatimah Al-Akeel - Network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F8E3-2936-49B1-91A4-AE5828CD3CFD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مثلث متساوي الساقين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C104-2245-4BD6-92BE-F30DAA67F15B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Fatimah Al-Akeel - Network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2B7F-9BFC-4F2E-995D-9605AD467531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رابط مستقيم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مثلث متساوي الساقين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28D3-BAF6-4589-8943-F0781597F647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Fatimah Al-Akeel - Network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4E75-01B3-472F-BD82-748DF5FF8A5B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رابط مستقيم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رابط مستقيم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مثلث متساوي الساقين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001C-A796-4CA0-BB17-45EB318AD945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Fatimah Al-Akeel - Network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F6B0-D565-49F6-9019-BB75E38BC7BF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رابط مستقيم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مثلث متساوي الساقين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مستطيل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8D43-8E86-4060-8519-779CEAD62ED6}" type="datetime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Fatimah Al-Akeel - Network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FDBA-A53C-4A08-92D2-5B867B55F9D2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رابط مستقيم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مثلث متساوي الساقين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رابط مستقيم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AE5F-B5F8-4EAA-B8E0-6710C9D5B0A7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Fatimah Al-Akeel - Network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AC82-7801-4907-AE5F-0502AB055A34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Internet and Intrane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000" spc="-1" strike="noStrike">
              <a:solidFill>
                <a:srgbClr val="464653"/>
              </a:solidFill>
              <a:latin typeface="Bookman Old Style"/>
              <a:ea typeface="Times New Roman"/>
            </a:endParaRPr>
          </a:p>
        </p:txBody>
      </p:sp>
      <p:sp>
        <p:nvSpPr>
          <p:cNvPr id="354" name="عنصر نائب لرقم الشريحة 3"/>
          <p:cNvSpPr/>
          <p:nvPr/>
        </p:nvSpPr>
        <p:spPr>
          <a:xfrm>
            <a:off x="1216080" y="63547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AFFD-23C3-48FA-8490-7CE5AD08F74E}" type="slidenum">
              <a:rPr b="0" lang="ar-SA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tranet Characteristic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4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36B2-8785-4D23-BDB2-9606916F3BC5}" type="slidenum">
              <a:rPr b="0" lang="ar-SA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users of intranet network may access the Internet via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proxy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and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firewall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, or it may be totally separ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t includes connections through one or more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gateway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the outside Interne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th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tunneling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companies can send private messages through the public network, using encryption/decryption and other security safeguards to connect one part of their intranet to anothe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part of an intranet is made accessible to customers, partners, suppliers, or others outside the company, that part becomes part of an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extranet</a:t>
            </a:r>
            <a:r>
              <a:rPr b="1" lang="en-US" sz="2400" spc="-1" strike="noStrike">
                <a:solidFill>
                  <a:srgbClr val="ff0066"/>
                </a:solidFill>
                <a:latin typeface="Gill Sans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tranet Diagram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B0F7-F195-4743-ACCC-38D58E92E52C}" type="slidenum">
              <a:rPr b="0" lang="ar-SA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Content Placeholder 6" descr="intranet-diagram.jpg"/>
          <p:cNvPicPr/>
          <p:nvPr/>
        </p:nvPicPr>
        <p:blipFill>
          <a:blip r:embed="rId1"/>
          <a:stretch/>
        </p:blipFill>
        <p:spPr>
          <a:xfrm>
            <a:off x="1828800" y="1523880"/>
            <a:ext cx="5499000" cy="43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roxy Serve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6557-7C78-4546-8D57-A2C91D1AE12A}" type="slidenum">
              <a:rPr b="0" lang="ar-SA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s a server that acts as an intermediary between a workstation user and the Internet 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proxy server is associated with or part of a gateway server that separates the enterprise network from the outside network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enterprise can ensure security, administrative control, and caching service by using a proxy serve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roxy Server- How it work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EE70-A268-453E-8D9F-527B766B1E95}" type="slidenum">
              <a:rPr b="0" lang="ar-SA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proxy server receives a request for an Internet service (such as a Web page request) from a use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it passes filtering requirements, the proxy server, assuming it is also a cache server, looks in its local cache of previously downloaded Web pag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it finds the page, it returns it to the user without needing to forward the request to the Interne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roxy Server- How it work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3B9D-D82D-4396-8853-CEEE013B1E02}" type="slidenum">
              <a:rPr b="0" lang="ar-SA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the page is not in the cache, the proxy server, acting as a client on behalf of the user, uses one of its own IP addresses to request the page from the server out on the Internet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the page is returned, the proxy server relates it to the original request and forwards it on to the user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rewal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8A0B-43DA-400A-B842-ABF3526993E9}" type="slidenum">
              <a:rPr b="0" lang="ar-SA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Firewall 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firewall is a set of related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program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located at a network gateway that protects the resources of a private network from users from other network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rewall used in an intranet have the ability to screen messages in both directions so that company security is maintained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firewall surrounding an intranet fends off unauthorized acces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roxy Server and Firewal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8CFB-1FD1-4BEF-A729-4E66A4681E51}" type="slidenum">
              <a:rPr b="0" lang="ar-SA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Content Placeholder 6" descr="08fig02.gif"/>
          <p:cNvPicPr/>
          <p:nvPr/>
        </p:nvPicPr>
        <p:blipFill>
          <a:blip r:embed="rId1"/>
          <a:stretch/>
        </p:blipFill>
        <p:spPr>
          <a:xfrm>
            <a:off x="762120" y="1523880"/>
            <a:ext cx="7516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Gatewa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713A-D090-4809-B219-AB66742628D9}" type="slidenum">
              <a:rPr b="0" lang="ar-SA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gateway is a network point that acts as an entrance to another network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 the Internet, a node can be either a gateway node or a host (end-point) nod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th the computers of Internet users and the computers that serve pages to users are host nod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computers that control traffic within your company's network or at your local Internet service provider (ISP) are gateway nod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Gatewa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8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D903-6CB7-4D0B-9AB5-247E449B010E}" type="slidenum">
              <a:rPr b="0" lang="ar-SA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the network for an enterprise, a computer server acting as a gateway node is often also acting as a proxy server and a firewall serve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gateway is often associated with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 router, which knows where to direct a given packet of data that arrives at the gateway,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nd a switch, which furnishes the actual path in and out of the gateway for a given packet.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Gatewa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D99C-0990-4FE9-BEF7-0EF686E499AC}" type="slidenum">
              <a:rPr b="0" lang="ar-SA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Content Placeholder 6" descr="wifi1.gif"/>
          <p:cNvPicPr/>
          <p:nvPr/>
        </p:nvPicPr>
        <p:blipFill>
          <a:blip r:embed="rId1"/>
          <a:stretch/>
        </p:blipFill>
        <p:spPr>
          <a:xfrm>
            <a:off x="1143000" y="1600200"/>
            <a:ext cx="6095880" cy="4572000"/>
          </a:xfrm>
          <a:prstGeom prst="rect">
            <a:avLst/>
          </a:prstGeom>
          <a:ln w="0">
            <a:noFill/>
          </a:ln>
        </p:spPr>
      </p:pic>
      <p:grpSp>
        <p:nvGrpSpPr>
          <p:cNvPr id="413" name="Right Arrow 8"/>
          <p:cNvGrpSpPr/>
          <p:nvPr/>
        </p:nvGrpSpPr>
        <p:grpSpPr>
          <a:xfrm>
            <a:off x="317520" y="3767040"/>
            <a:ext cx="1724040" cy="1201680"/>
            <a:chOff x="317520" y="3767040"/>
            <a:chExt cx="1724040" cy="1201680"/>
          </a:xfrm>
        </p:grpSpPr>
        <p:pic>
          <p:nvPicPr>
            <p:cNvPr id="414" name="Right Arrow 8" descr=""/>
            <p:cNvPicPr/>
            <p:nvPr/>
          </p:nvPicPr>
          <p:blipFill>
            <a:blip r:embed="rId2"/>
            <a:stretch/>
          </p:blipFill>
          <p:spPr>
            <a:xfrm>
              <a:off x="317520" y="3767040"/>
              <a:ext cx="172404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380880" y="4076640"/>
              <a:ext cx="1333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19320" y="29714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Interne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94920" y="426672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000" spc="-1" strike="noStrike">
              <a:solidFill>
                <a:srgbClr val="ffffff"/>
              </a:solidFill>
              <a:latin typeface="Gill Sans MT"/>
              <a:ea typeface="Arial"/>
            </a:endParaRPr>
          </a:p>
        </p:txBody>
      </p:sp>
      <p:sp>
        <p:nvSpPr>
          <p:cNvPr id="357" name="عنصر نائب لرقم الشريحة 2"/>
          <p:cNvSpPr/>
          <p:nvPr/>
        </p:nvSpPr>
        <p:spPr>
          <a:xfrm>
            <a:off x="1069920" y="6354720"/>
            <a:ext cx="152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DC2B-CAD1-4BD5-B444-8762A737DA48}" type="slidenum">
              <a:rPr b="0" lang="ar-SA" sz="1400" spc="-1" strike="noStrike">
                <a:solidFill>
                  <a:srgbClr val="dde9e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hat is Internet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Date Placeholder 3"/>
          <p:cNvSpPr/>
          <p:nvPr/>
        </p:nvSpPr>
        <p:spPr>
          <a:xfrm>
            <a:off x="640080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ACD2-B229-4EAD-B324-D474D4AAE5F0}" type="datetime">
              <a:rPr b="0" lang="en-US" sz="1400" spc="-1" strike="noStrike">
                <a:solidFill>
                  <a:srgbClr val="464653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90DB-3503-4404-97EF-5AEAD2F34AB8}" type="slidenum">
              <a:rPr b="0" lang="ar-SA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371240"/>
            <a:ext cx="4419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network is a group of connected communicating devices such as computers and printers. An internet is two or more networks that can communicate with each othe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world’s largest computer network, consisting of millions of computers supporting tens of millions of users in hundreds of countrie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2" name="Picture 4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403848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ternet Histor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4" name="Date Placeholder 3"/>
          <p:cNvSpPr/>
          <p:nvPr/>
        </p:nvSpPr>
        <p:spPr>
          <a:xfrm>
            <a:off x="640080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9DBA-7B82-45B2-8D39-368869B47380}" type="datetime">
              <a:rPr b="0" lang="en-US" sz="1400" spc="-1" strike="noStrike">
                <a:solidFill>
                  <a:srgbClr val="464653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AF60-D6D4-415C-B227-13074343E859}" type="slidenum">
              <a:rPr b="0" lang="ar-SA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44792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The Internet was originally established to meet the research needs of the U.S. defense industry (ARPANET), but it has grown to develop (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NSFNET) for those colleges that did not have access to ARPANET.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In 1990 most networks were leaving the slower ARPANET and linking to NSFNET, which was then called the Internet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Internet now is a huge global network serving universities, academic researchers, commercial interests, government agencies, and private individuals over the world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he Internet Toda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Date Placeholder 3"/>
          <p:cNvSpPr/>
          <p:nvPr/>
        </p:nvSpPr>
        <p:spPr>
          <a:xfrm>
            <a:off x="640080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10A5-7645-4774-BAED-E8F94220BC02}" type="datetime">
              <a:rPr b="0" lang="en-US" sz="1400" spc="-1" strike="noStrike">
                <a:solidFill>
                  <a:srgbClr val="464653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411E-D639-43F5-A2FE-5494873D5DB4}" type="slidenum">
              <a:rPr b="0" lang="ar-SA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80880" y="16002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Internet today is not a simple hierarchical structure. It is made up of many wide- and local-area networks joined by connecting devices and switching station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t is difficult to give an accurate representation of the Internet because it is continually changing-new networks are being added, existing networks are adding addresses, and networks of defunct companies are being removed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day most end users who want Internet connection use the services of Internet service providers (lSPs). The Internet today is run by private companies, not the government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19320" y="29714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e9ec"/>
                </a:solidFill>
                <a:latin typeface="Bookman Old Style"/>
              </a:rPr>
              <a:t>The Intranet</a:t>
            </a:r>
            <a:endParaRPr b="0" lang="en-US" sz="40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94920" y="426672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000" spc="-1" strike="noStrike">
              <a:solidFill>
                <a:srgbClr val="ffffff"/>
              </a:solidFill>
              <a:latin typeface="Gill Sans MT"/>
              <a:ea typeface="Arial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1069920" y="6354720"/>
            <a:ext cx="152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8B71-F88D-4BCD-833E-478594DF6077}" type="slidenum">
              <a:rPr b="0" lang="ar-SA" sz="1400" spc="-1" strike="noStrike">
                <a:solidFill>
                  <a:srgbClr val="dde9e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hat is Intranet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B69C-7934-4021-96F3-F9A9323D6765}" type="slidenum">
              <a:rPr b="0" lang="ar-SA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ntr</a:t>
            </a:r>
            <a:r>
              <a:rPr b="1" lang="en-US" sz="2400" spc="-1" strike="noStrike">
                <a:solidFill>
                  <a:srgbClr val="ff0000"/>
                </a:solidFill>
                <a:latin typeface="Gill Sans MT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ne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s 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 computer network that uses Int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e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rnet standards (HTML, HTTP &amp; TCP/IP protocols) &amp; software.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ccessed only by authorized persons, especially members or employees of the organization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The main purpose of an intranet i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share company information and computing resources among employe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Usage of Intrane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C022-B688-4486-905E-AEF2283C4FF3}" type="slidenum">
              <a:rPr b="0" lang="ar-SA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ny companies use intranets for tasks a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istributing a company newslett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haring inform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r facilitating the workgroups accordingl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stant knowledge about important news and memo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lationship building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creasing productivit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commendations and suggestion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oject management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tranet Characteristic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1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4DA4-905C-40AA-AB22-19913C1F4219}" type="slidenum">
              <a:rPr b="0" lang="ar-SA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general it looks like a private version of the Inter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s some (TCP/IP,HTTP) or all of the protocols of the interne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des interact in a client server relationship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des are identified by using Internet Protocol (IP) addr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s are identified by universal resource locators (URLs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data being exchanged are typically formatted using HTML and is controlled and displayed using a browse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t may consist of many interlinked local area network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08:21:31Z</dcterms:created>
  <dc:creator>lol</dc:creator>
  <dc:description/>
  <dc:language>en-US</dc:language>
  <cp:lastModifiedBy>User</cp:lastModifiedBy>
  <dcterms:modified xsi:type="dcterms:W3CDTF">2016-01-23T17:56:51Z</dcterms:modified>
  <cp:revision>1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AF0F80E32A91A04FBCBF0F33924102D3</vt:lpwstr>
  </property>
</Properties>
</file>