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EC91-B62E-4AE1-978F-A58812B3C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3736-828C-498F-A120-3056891EAA6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7D2A-E912-423C-ACE5-8A98352C69B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8CFB-B89F-4C4F-AF14-E8A9DCAF79D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99EB-2E73-4C81-A247-65E332EBC75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F208-D482-4B48-9ABD-DA73F59855A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260B-F878-4D2F-82EA-A42D7B68476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C740-75B9-4E6C-B988-49251D45540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1AD3-0ABC-4E59-BD61-81F23EDCE7D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D7D4-0BAA-4D67-A035-CE9D2476192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2ADD-1559-4F65-BA0C-94FC8DBBE02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CA8F-576B-43E1-A338-FB936D552AC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E76A-1103-496F-8604-261FA168AD0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5DD3-5391-487A-A65A-4B16CFDC920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9678-DC03-402B-9D88-58516195646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604E-0DEC-4329-B6B5-7E4F6E50FB2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F6A1-8A06-4EBC-9D8F-C6DC19E3D30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4DF3-1904-4AD5-90BD-D1BBD5DF7DE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1A5E-3739-443A-B569-8C198D5644C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230E-91EB-45A2-B9BD-96138DBC886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0BC6-D674-41D9-B3C6-0218C235DF1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A5A1-2AE5-4FE2-9AC5-DF504170078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0680-8C05-41FB-95C9-75F0A3D85E6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EFE-2066-4A98-8907-CBFB56E7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09FF-948E-40F0-B243-FD20E131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B745A-FFA4-41EE-BB5A-FEBABBA2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7E763-E56F-4600-A7EE-6FFAEA30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50CFD-BE0C-485E-B9DE-959E4C62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37FFC-159C-4618-A6C4-C4E793FD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EA12C-D14D-4439-9FBB-5C2769CA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CAE8F-6C64-428C-8B73-669978FF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286B8-F222-4044-8E4A-A1D431A7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D870A-31B4-455B-AB79-4298E70D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C6DAB-A05F-40EA-BA84-817E7D35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279-D9DB-4D9D-8B0C-B37298A9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2F4F-584D-419D-A80C-C91BC841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315C-6305-4182-9C40-28405E58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D3BA-C69C-4C62-A4C2-F2CDC52D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3599-44E6-46DF-87D3-535ACC45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69AB-4AF8-4659-AB08-BFAD7A84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9D69-CEAF-4850-9313-743986DF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2AF2-0D19-425D-A997-576A967F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03BC-DCF6-49A8-965B-5C8EA567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08A-BFA3-4EBF-A323-53A46B7A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3066-8BF1-4A6A-AB2B-17CB5C33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7032-F60C-462E-BB4A-98AA5525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56C5-69D6-47C9-AFCB-C9632484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C998-8122-4424-82D4-10516153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7DF0-FEB0-4714-86C9-321834EA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B21AD0-9CF0-455E-BC10-16C23CC5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BBAFF8-F83B-4A00-881D-44848AA6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33652-2E49-4381-9A64-D6D62274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1227A-B4DD-4081-B5BD-85D75019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0002C-DD3C-414D-A28C-2CA010B3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8D26-5A82-4433-A2B2-3EBE7232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7502B-2445-4480-893A-D6E88540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F6E8A-510B-436F-9C38-31FD3A91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D7166-8E6E-4ED3-95F1-F70B8EB0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929CE-36A9-412E-8C4C-31B2300E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56422-03B6-462E-AE47-FD654152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F8EBF-A618-4891-A658-DE82AC85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08EE0-DF61-4AED-BA42-A3C1E7DE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66D08C-ECF5-412F-8571-0408205A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E3B9EB-DCFB-47B4-BE07-565CDD45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C60A3-D9AF-4525-A618-3524177F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F31-4B8C-45AF-93CC-A6C06734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D18769-EE5E-45ED-982D-72A25A91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8914F-C417-479B-8999-1521DF53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AA4FBB-0E33-448E-A4A3-CE105089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354205-CB53-4D0C-9C34-5B247CE1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4125C8-1609-40C8-9C46-EDCD5A1E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3E6AE0-8487-41D6-857D-84433121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AAAB70-31A7-42E1-801B-C362DDEB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BE23FC-8120-43D3-BB9F-EC20A73F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D1D44C-235A-4245-88FD-7EA4F4B5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0892AB-F806-4BDF-90BC-B66CFC12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051-4B93-41E7-8CA2-D76E3595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32A72-FAB7-48C1-B67B-15382C61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4BD440-6AA8-45DA-919C-A70EB7C9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6F479-0EF7-4B05-93F2-1DF07DE8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F331A-53FF-45FC-94E6-9128A60C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43121-077D-4615-AB00-B4605B2A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E62B5-3969-45B5-8D49-2E6A18E3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4C2A4-C101-4CBE-A42A-EEA1F000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B1A8D-FC0D-4D52-8261-9154FA9E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B20BF2-E92A-4288-98FE-997BBB32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E302D-0CC1-4D5E-A083-066D0E7C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4DDC-35A4-4D52-9397-B50EEFA0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7ED9D0-2C84-4BCF-AE64-3018F9EC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957B8-A548-41CB-8AA7-152F425B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B60A4-69A2-43B9-A9F7-7F6C546A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26FD7-ADA2-4062-914E-17254DD3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3FCAC-B11B-4050-A7B5-F9E7644E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E3F9A-CCB0-4C9C-845C-07FD0059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4E138-C4C2-42C6-A194-9EA0DF17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15724-69FB-4F19-AA12-E100CE3A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13BF5-48D8-4277-850E-60A45136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8DA96-9CF7-4DA5-9837-F51A52CB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A114-B402-4FAC-8A94-BC8C3194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86F8E-B0D2-4F05-ADA4-700AC134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02C1C-4238-4631-83C9-F19E8CB6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0C1C0-56E7-4673-98C8-8AC0D658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D8A8FC-C470-4CCF-90E0-107A956F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C54149-C198-428E-BB4F-759C25BD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66C1E3-3CDE-493F-9217-E36898C2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33098D-E476-4DC3-852F-8B6D0184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58F7F3-A23C-4D09-BD57-C9D3C5A6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609900-1311-4C3F-9B82-1B30643D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E42C37-E78A-427E-AE80-ABB85CD6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C52B-D412-4705-B5AB-41BB7D45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77E4C0-7FCA-46A8-841F-0002AF46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F3A1AD-0736-4543-B99A-A0664835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632D35-ED25-4E0F-A7A8-AEA98EB4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C1CD56-971D-42A1-B998-959014FA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A28C7E-0822-4A6A-A498-A8190275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F3547-84F5-4FB6-B6AE-0D81D97E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61AFB-0735-4B83-920A-E6C2B22A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7FA4D-0D29-492E-A1ED-8FCD1B13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D1302-1FF9-43FE-A966-C2C2D612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242FD-C7BD-4BB1-92B8-068B585D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BE5-DC26-46F1-9B6E-71A26443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8F0DE-4E66-4451-AF06-9A4EFB0D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0ECB9-C987-4692-BF76-4E4252DB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D101E-41DE-4E3A-8177-7DD0633E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9DCC3-58C0-41BB-A9A1-E68A10F0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12227-E16B-4EBF-900E-66A386CC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A9277-34C7-47C7-8C4E-2CFEE5ED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DCDE8-F15C-450A-AA8B-DEAF2BD2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A0DB7-EC06-401F-9258-2E8FE480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021CF-22F8-4BBE-B4FD-E79EF9F7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6665F-416C-471F-9543-C7AB2636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6E06-C9F4-4883-858C-1E2B100F560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2148-3AF1-43C4-82FF-EE8B1B816B6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1AE4-5F41-4817-8500-4CC1F928E359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F496-9A95-4417-B72A-2D4197A37A36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958C-A4F0-41FC-B2E1-0ACA3C95CC8D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7EFD-349A-43BB-91C7-EDA05C0DC796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C9AE-D082-416D-90E9-54E321C14CF1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6C0C-3978-4CDE-BEA3-5F20BA2BC0B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06DB-CEB0-47A4-9BD5-C2506CE4C37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A20A-8D0D-48DF-8CA7-2F8FCE4499C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9A2A-05CC-4F04-B7F5-A7D62526140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54EA-C7F6-4C0B-A9D5-84DBC42B3235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93DB-F736-4BB8-A7F6-82D860B9135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2F8B-5348-4AF3-BB8F-74672AC4ECBA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7F24-6FFA-4C14-A6C6-847C6E10555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2538-E711-4CD1-8CF0-24355F6596F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2629-E612-416F-841E-D8093BCB64D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w Cen MT"/>
              </a:rPr>
              <a:t>Page </a:t>
            </a:r>
            <a:fld id="{0953BD95-328B-4D88-AC60-D7DC5D1BB4D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Tw Cen MT"/>
                <a:ea typeface="Arial"/>
              </a:rPr>
              <a:t> </a:t>
            </a:r>
            <a:r>
              <a:rPr b="1" lang="en-US" sz="4000" spc="-1" strike="noStrike">
                <a:solidFill>
                  <a:srgbClr val="ebddc3"/>
                </a:solidFill>
                <a:latin typeface="Tw Cen MT"/>
                <a:ea typeface="Arial"/>
              </a:rPr>
              <a:t>C</a:t>
            </a: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HAPTER 1</a:t>
            </a:r>
            <a:br>
              <a:rPr sz="4000"/>
            </a:b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INTRODUCTION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3" name="Footer Placeholder 5"/>
          <p:cNvSpPr/>
          <p:nvPr/>
        </p:nvSpPr>
        <p:spPr>
          <a:xfrm>
            <a:off x="324000" y="1125360"/>
            <a:ext cx="586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King Saud University 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llege Of Applied Studies and Community Services  </a:t>
            </a:r>
            <a:br>
              <a:rPr sz="24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SC 1101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mputer Programming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Done By: Asmal Alosa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Edited By: Fatimah Alak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084B-50C1-46E2-B4E9-2E68E48B2CF0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Input and Outpu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Inpu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n come from many sources, such as users, files, and other progra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n take on many forms, such as text, graphics, and soun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n also take on many forms, such as numbers, text, graphics, sounds, or commands to other progra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 </a:t>
            </a:r>
            <a:fld id="{E5D831EB-7909-483F-AC0A-288EC135FFF0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Example 1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Area and Perimeter of a rectangl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id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= length*width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 = 2*( length + width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Page </a:t>
            </a:r>
            <a:fld id="{6A4386FD-33F2-4C3C-AE7B-46452A347CA4}" type="slidenum"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Example 2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Sum and Average of 5 number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ve number x1, x2, x3, x4, x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um = x1+x2+x3+x4+x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erage = Sum/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Page </a:t>
            </a:r>
            <a:fld id="{53826915-B78E-412A-923A-B6AB78753CEC}" type="slidenum"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Example 3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Area and Perimeter of a circl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= PI * Radius * Radi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 = 2 * PI * Radi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2-Planning the Solu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0EF8-9718-4E07-A21D-6D0D15F0F9A5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85800" y="1600200"/>
            <a:ext cx="82072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en planning, algorithms are used to outline the solution steps using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English like statements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, called </a:t>
            </a:r>
            <a:r>
              <a:rPr b="1" i="1" lang="en-US" sz="2800" spc="-1" strike="noStrike">
                <a:solidFill>
                  <a:srgbClr val="b95b22"/>
                </a:solidFill>
                <a:latin typeface="Tw Cen MT"/>
              </a:rPr>
              <a:t>pseudocod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4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A </a:t>
            </a:r>
            <a:r>
              <a:rPr b="1" i="1" lang="en-US" sz="2800" spc="-1" strike="noStrike">
                <a:solidFill>
                  <a:srgbClr val="b95b22"/>
                </a:solidFill>
                <a:latin typeface="Tw Cen MT"/>
                <a:ea typeface="Arial"/>
              </a:rPr>
              <a:t>flowchar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is useful for the graphical representation of an algorithm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4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  <a:ea typeface="Arial"/>
              </a:rPr>
              <a:t>They are   drawn using rectangles, diamonds, ovals, and small circles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4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Write a Program to Print the Sum of two integer Number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15880" y="1717560"/>
            <a:ext cx="5580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Start the progra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ead the first number and save in  the variable ( N1 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ead the second number and save in the variable ( N2 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Sum the both numbers and save the result in the variable ( Sum )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Sum = N1 + N2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int the variable ( Sum )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End the progra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D763-66C3-45F3-A768-3943F65DC16C}" type="slidenum">
              <a:rPr b="1" lang="ar-SA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4"/>
          <p:cNvSpPr/>
          <p:nvPr/>
        </p:nvSpPr>
        <p:spPr>
          <a:xfrm>
            <a:off x="5867280" y="1341360"/>
            <a:ext cx="2305080" cy="576360"/>
          </a:xfrm>
          <a:prstGeom prst="flowChartTerminator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5"/>
          <p:cNvSpPr/>
          <p:nvPr/>
        </p:nvSpPr>
        <p:spPr>
          <a:xfrm>
            <a:off x="5796000" y="2276640"/>
            <a:ext cx="2448000" cy="502920"/>
          </a:xfrm>
          <a:prstGeom prst="flowChartInputOutput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6"/>
          <p:cNvSpPr/>
          <p:nvPr/>
        </p:nvSpPr>
        <p:spPr>
          <a:xfrm>
            <a:off x="5726160" y="3141720"/>
            <a:ext cx="2590920" cy="503280"/>
          </a:xfrm>
          <a:prstGeom prst="flowChartInputOutput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7"/>
          <p:cNvSpPr/>
          <p:nvPr/>
        </p:nvSpPr>
        <p:spPr>
          <a:xfrm>
            <a:off x="5726160" y="4005360"/>
            <a:ext cx="2590920" cy="720720"/>
          </a:xfrm>
          <a:prstGeom prst="flowChartProcess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= N1 +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5726160" y="5084640"/>
            <a:ext cx="2590920" cy="576360"/>
          </a:xfrm>
          <a:prstGeom prst="flowChartInputOutput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9"/>
          <p:cNvSpPr/>
          <p:nvPr/>
        </p:nvSpPr>
        <p:spPr>
          <a:xfrm>
            <a:off x="5796000" y="6093000"/>
            <a:ext cx="2448000" cy="576000"/>
          </a:xfrm>
          <a:prstGeom prst="flowChartTerminator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AutoShape 10"/>
          <p:cNvCxnSpPr>
            <a:stCxn id="484" idx="2"/>
            <a:endCxn id="485" idx="1"/>
          </p:cNvCxnSpPr>
          <p:nvPr/>
        </p:nvCxnSpPr>
        <p:spPr>
          <a:xfrm>
            <a:off x="7019640" y="1946160"/>
            <a:ext cx="1080" cy="30240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1" name="AutoShape 11"/>
          <p:cNvCxnSpPr>
            <a:stCxn id="485" idx="4"/>
            <a:endCxn id="486" idx="1"/>
          </p:cNvCxnSpPr>
          <p:nvPr/>
        </p:nvCxnSpPr>
        <p:spPr>
          <a:xfrm>
            <a:off x="7020000" y="2808360"/>
            <a:ext cx="2160" cy="30528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2" name="AutoShape 12"/>
          <p:cNvCxnSpPr>
            <a:stCxn id="486" idx="4"/>
            <a:endCxn id="487" idx="0"/>
          </p:cNvCxnSpPr>
          <p:nvPr/>
        </p:nvCxnSpPr>
        <p:spPr>
          <a:xfrm>
            <a:off x="7021080" y="3673440"/>
            <a:ext cx="1080" cy="30384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3" name="AutoShape 13"/>
          <p:cNvCxnSpPr>
            <a:stCxn id="487" idx="2"/>
            <a:endCxn id="488" idx="1"/>
          </p:cNvCxnSpPr>
          <p:nvPr/>
        </p:nvCxnSpPr>
        <p:spPr>
          <a:xfrm>
            <a:off x="7021080" y="4754520"/>
            <a:ext cx="1080" cy="30240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4" name="AutoShape 14"/>
          <p:cNvCxnSpPr>
            <a:stCxn id="488" idx="4"/>
            <a:endCxn id="489" idx="0"/>
          </p:cNvCxnSpPr>
          <p:nvPr/>
        </p:nvCxnSpPr>
        <p:spPr>
          <a:xfrm flipH="1">
            <a:off x="7019640" y="5689080"/>
            <a:ext cx="2160" cy="37548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4302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3-Coding the Program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Footer Placeholder 1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5A5E-1724-45B8-94EE-A4AF4E620394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28240" y="1700280"/>
            <a:ext cx="873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ding is writing the program in a formal language called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</a:rPr>
              <a:t>Programming Languag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Programming Language 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A set of rules, symbols and special words used to write statemen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program is written by translating the algorithm steps into a programming language statement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written program is called </a:t>
            </a:r>
            <a:r>
              <a:rPr b="1" i="1" lang="en-US" sz="2800" spc="-1" strike="noStrike">
                <a:solidFill>
                  <a:srgbClr val="775f55"/>
                </a:solidFill>
                <a:latin typeface="Tw Cen MT"/>
              </a:rPr>
              <a:t>Source code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d it is saved in a file with “.cpp” extension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99" name="Group 14"/>
          <p:cNvGrpSpPr/>
          <p:nvPr/>
        </p:nvGrpSpPr>
        <p:grpSpPr>
          <a:xfrm>
            <a:off x="5486400" y="4797360"/>
            <a:ext cx="3051360" cy="1785600"/>
            <a:chOff x="5486400" y="4797360"/>
            <a:chExt cx="3051360" cy="1785600"/>
          </a:xfrm>
        </p:grpSpPr>
        <p:sp>
          <p:nvSpPr>
            <p:cNvPr id="500" name="Line 2"/>
            <p:cNvSpPr/>
            <p:nvPr/>
          </p:nvSpPr>
          <p:spPr>
            <a:xfrm>
              <a:off x="7772400" y="51019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3"/>
            <p:cNvSpPr/>
            <p:nvPr/>
          </p:nvSpPr>
          <p:spPr>
            <a:xfrm>
              <a:off x="5607000" y="5940360"/>
              <a:ext cx="11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4"/>
            <p:cNvSpPr/>
            <p:nvPr/>
          </p:nvSpPr>
          <p:spPr>
            <a:xfrm>
              <a:off x="6172200" y="51019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5"/>
            <p:cNvGrpSpPr/>
            <p:nvPr/>
          </p:nvGrpSpPr>
          <p:grpSpPr>
            <a:xfrm>
              <a:off x="5486400" y="5254560"/>
              <a:ext cx="1371600" cy="533160"/>
              <a:chOff x="5486400" y="5254560"/>
              <a:chExt cx="1371600" cy="533160"/>
            </a:xfrm>
          </p:grpSpPr>
          <p:sp>
            <p:nvSpPr>
              <p:cNvPr id="504" name="Oval 6"/>
              <p:cNvSpPr/>
              <p:nvPr/>
            </p:nvSpPr>
            <p:spPr>
              <a:xfrm>
                <a:off x="5486400" y="5254560"/>
                <a:ext cx="1371600" cy="533160"/>
              </a:xfrm>
              <a:prstGeom prst="ellipse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7"/>
              <p:cNvSpPr/>
              <p:nvPr/>
            </p:nvSpPr>
            <p:spPr>
              <a:xfrm>
                <a:off x="5698440" y="5337000"/>
                <a:ext cx="94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75f55"/>
                    </a:solidFill>
                    <a:latin typeface="Comic Sans MS"/>
                    <a:ea typeface="Arial"/>
                  </a:rPr>
                  <a:t>Cod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Text Box 10"/>
            <p:cNvSpPr/>
            <p:nvPr/>
          </p:nvSpPr>
          <p:spPr>
            <a:xfrm>
              <a:off x="5544000" y="4797360"/>
              <a:ext cx="125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Algorith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1"/>
            <p:cNvSpPr/>
            <p:nvPr/>
          </p:nvSpPr>
          <p:spPr>
            <a:xfrm>
              <a:off x="6976080" y="479736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Pseudo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2"/>
            <p:cNvSpPr/>
            <p:nvPr/>
          </p:nvSpPr>
          <p:spPr>
            <a:xfrm>
              <a:off x="7005240" y="5940360"/>
              <a:ext cx="153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Sourc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(The “.cpp”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3"/>
            <p:cNvSpPr/>
            <p:nvPr/>
          </p:nvSpPr>
          <p:spPr>
            <a:xfrm>
              <a:off x="7076160" y="5330520"/>
              <a:ext cx="1392480" cy="36828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5f55"/>
                  </a:solidFill>
                  <a:latin typeface="Comic Sans MS"/>
                  <a:ea typeface="Arial"/>
                </a:rPr>
                <a:t>Transla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Why Coding in Programming Language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8ABA-61D8-4C49-85C7-2087AC0E5F66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9144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e write computer programs (i.e. a set of instructions) in programming languages such as C, C++, and Java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e use these programming languages because they are easily understood by huma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ut then how does the computer understand the instructions that we writ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52240" y="430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4-Compiling Computer Progra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1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5A21-8D2A-4F1D-B1A3-0ECD45D10DEC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762120" y="1523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Computers do not understand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programs written in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programming language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such as  C, C++ and Jav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Program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must first be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converted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into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machine code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hat the computer can ru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 Software that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translate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a programming language statements into machine code is called a </a:t>
            </a:r>
            <a:r>
              <a:rPr b="1" i="1" lang="en-US" sz="2600" spc="-1" strike="noStrike">
                <a:solidFill>
                  <a:srgbClr val="775f55"/>
                </a:solidFill>
                <a:latin typeface="Tw Cen MT"/>
              </a:rPr>
              <a:t>compil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 C , </a:t>
            </a:r>
            <a:r>
              <a:rPr b="1" i="1" lang="en-US" sz="2600" spc="-1" strike="noStrike">
                <a:solidFill>
                  <a:srgbClr val="000000"/>
                </a:solidFill>
                <a:latin typeface="Tw Cen MT"/>
              </a:rPr>
              <a:t>Preprocessor</a:t>
            </a:r>
            <a:r>
              <a:rPr b="1" lang="en-US" sz="26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ogram, execute automatically before the compiler translation phase begin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reprocessor</a:t>
            </a:r>
            <a:r>
              <a:rPr b="1" lang="en-US" sz="22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ndicate that certain manipulations are to be performed on the program before compilatio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18" name="Group 14"/>
          <p:cNvGrpSpPr/>
          <p:nvPr/>
        </p:nvGrpSpPr>
        <p:grpSpPr>
          <a:xfrm>
            <a:off x="5886000" y="4941720"/>
            <a:ext cx="3289680" cy="1511280"/>
            <a:chOff x="5886000" y="4941720"/>
            <a:chExt cx="3289680" cy="1511280"/>
          </a:xfrm>
        </p:grpSpPr>
        <p:sp>
          <p:nvSpPr>
            <p:cNvPr id="519" name="Line 4"/>
            <p:cNvSpPr/>
            <p:nvPr/>
          </p:nvSpPr>
          <p:spPr>
            <a:xfrm>
              <a:off x="8319960" y="52783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5"/>
            <p:cNvSpPr/>
            <p:nvPr/>
          </p:nvSpPr>
          <p:spPr>
            <a:xfrm>
              <a:off x="5886000" y="608472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Machin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"/>
            <p:cNvSpPr/>
            <p:nvPr/>
          </p:nvSpPr>
          <p:spPr>
            <a:xfrm>
              <a:off x="6719760" y="5246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7"/>
            <p:cNvSpPr/>
            <p:nvPr/>
          </p:nvSpPr>
          <p:spPr>
            <a:xfrm>
              <a:off x="6154920" y="4941720"/>
              <a:ext cx="11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8"/>
            <p:cNvSpPr/>
            <p:nvPr/>
          </p:nvSpPr>
          <p:spPr>
            <a:xfrm>
              <a:off x="7567920" y="494172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Sourc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9"/>
            <p:cNvSpPr/>
            <p:nvPr/>
          </p:nvSpPr>
          <p:spPr>
            <a:xfrm>
              <a:off x="7464960" y="608472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Machin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0"/>
            <p:cNvSpPr/>
            <p:nvPr/>
          </p:nvSpPr>
          <p:spPr>
            <a:xfrm>
              <a:off x="7623720" y="5474880"/>
              <a:ext cx="1392480" cy="36828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5f55"/>
                  </a:solidFill>
                  <a:latin typeface="Comic Sans MS"/>
                  <a:ea typeface="Arial"/>
                </a:rPr>
                <a:t>Transla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11"/>
            <p:cNvGrpSpPr/>
            <p:nvPr/>
          </p:nvGrpSpPr>
          <p:grpSpPr>
            <a:xfrm>
              <a:off x="6033960" y="5354280"/>
              <a:ext cx="1371600" cy="533160"/>
              <a:chOff x="6033960" y="5354280"/>
              <a:chExt cx="1371600" cy="533160"/>
            </a:xfrm>
          </p:grpSpPr>
          <p:sp>
            <p:nvSpPr>
              <p:cNvPr id="527" name="Oval 12"/>
              <p:cNvSpPr/>
              <p:nvPr/>
            </p:nvSpPr>
            <p:spPr>
              <a:xfrm>
                <a:off x="6033960" y="5354280"/>
                <a:ext cx="1371600" cy="533160"/>
              </a:xfrm>
              <a:prstGeom prst="ellipse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3"/>
              <p:cNvSpPr/>
              <p:nvPr/>
            </p:nvSpPr>
            <p:spPr>
              <a:xfrm>
                <a:off x="6082560" y="543672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75f55"/>
                    </a:solidFill>
                    <a:latin typeface="Comic Sans MS"/>
                    <a:ea typeface="Arial"/>
                  </a:rPr>
                  <a:t>Compil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9640" y="35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Programming Language Compiler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0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61A8-3E48-43AF-9ED3-9D1560C22B57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6212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compiler is a software tha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Checks the correctnes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of the source code according to the language rule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75f55"/>
                </a:solidFill>
                <a:latin typeface="Tw Cen MT"/>
              </a:rPr>
              <a:t>Syntax errors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are raised if some rules were violate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Translate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he source code into a machine code if no errors were foun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What Is a Compu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0556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xecutes statements (computations/logical decision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ardware :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hysical devices of computer syst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oftware: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grams that run on compute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06" name="Object 4"/>
          <p:cNvGraphicFramePr/>
          <p:nvPr/>
        </p:nvGraphicFramePr>
        <p:xfrm>
          <a:off x="1403280" y="3678120"/>
          <a:ext cx="612144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678120"/>
                    <a:ext cx="612144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Footer Placeholder 9"/>
          <p:cNvSpPr/>
          <p:nvPr/>
        </p:nvSpPr>
        <p:spPr>
          <a:xfrm>
            <a:off x="611280" y="6492960"/>
            <a:ext cx="5421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F1A9-A62C-4F27-BCE5-1385D1614C0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5-Running The Progra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4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8CEE-7E17-48FC-910A-5E0948139344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5b22"/>
                </a:solidFill>
                <a:latin typeface="Times New Roman"/>
                <a:ea typeface="Times New Roman"/>
              </a:rPr>
              <a:t>Before  running.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inks the object code with the code for the missing functions to produce an executable image (with no missing pieces) , this is called 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link phase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f the program compiles and links correctly, a file called a.out is produc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efore a program can be executed, the program must first be placed in memory this called 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load phase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omputer, under the control of its CPU,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xecut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e program one instruction at a 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6-Testing and Debugging the Program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8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CB0E-D05C-4CBB-B11A-71B8D1D637F9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79280" y="184464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Test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Be sure that the output of the program conforms with the inpu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There are two types of error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75f55"/>
                </a:solidFill>
                <a:latin typeface="Tw Cen MT"/>
              </a:rPr>
              <a:t>Logical Errors:</a:t>
            </a:r>
            <a:r>
              <a:rPr b="1" lang="en-US" sz="2100" spc="-1" strike="noStrike">
                <a:solidFill>
                  <a:srgbClr val="704404"/>
                </a:solidFill>
                <a:latin typeface="Tw Cen MT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The program run but provides wrong output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75f55"/>
                </a:solidFill>
                <a:latin typeface="Tw Cen MT"/>
              </a:rPr>
              <a:t>Runtime errors:</a:t>
            </a:r>
            <a:r>
              <a:rPr b="1" lang="en-US" sz="2100" spc="-1" strike="noStrike">
                <a:solidFill>
                  <a:srgbClr val="704404"/>
                </a:solidFill>
                <a:latin typeface="Tw Cen MT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The program stop running suddenly when asking the OS executing a non accepted statement (divide by zero, etc).</a:t>
            </a:r>
            <a:r>
              <a:rPr b="1" lang="en-US" sz="2100" spc="-1" strike="noStrike">
                <a:solidFill>
                  <a:srgbClr val="704404"/>
                </a:solidFill>
                <a:latin typeface="Tw Cen M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Debugg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nd, Understand and correct the err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7BE6-6A91-476D-A488-103868FA3DAA}" type="slidenum">
              <a:rPr b="0" lang="en-US" sz="1400" spc="-1" strike="noStrike">
                <a:solidFill>
                  <a:srgbClr val="775f55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Basics of a Typical C++ Environ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152280" y="1733400"/>
            <a:ext cx="4724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hases of C++ Pro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e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xec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7"/>
          <p:cNvGrpSpPr/>
          <p:nvPr/>
        </p:nvGrpSpPr>
        <p:grpSpPr>
          <a:xfrm>
            <a:off x="4187880" y="1057320"/>
            <a:ext cx="4656240" cy="5571720"/>
            <a:chOff x="4187880" y="1057320"/>
            <a:chExt cx="4656240" cy="5571720"/>
          </a:xfrm>
        </p:grpSpPr>
        <p:sp>
          <p:nvSpPr>
            <p:cNvPr id="545" name="Freeform 5"/>
            <p:cNvSpPr/>
            <p:nvPr/>
          </p:nvSpPr>
          <p:spPr>
            <a:xfrm>
              <a:off x="4187880" y="362772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"/>
            <p:cNvSpPr/>
            <p:nvPr/>
          </p:nvSpPr>
          <p:spPr>
            <a:xfrm>
              <a:off x="4187880" y="230040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7"/>
            <p:cNvSpPr/>
            <p:nvPr/>
          </p:nvSpPr>
          <p:spPr>
            <a:xfrm>
              <a:off x="4187880" y="362772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8"/>
            <p:cNvSpPr/>
            <p:nvPr/>
          </p:nvSpPr>
          <p:spPr>
            <a:xfrm>
              <a:off x="4514760" y="3772080"/>
              <a:ext cx="542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Loa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9"/>
            <p:cNvSpPr/>
            <p:nvPr/>
          </p:nvSpPr>
          <p:spPr>
            <a:xfrm>
              <a:off x="5391000" y="12956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5391000" y="19195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5391000" y="38563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2"/>
            <p:cNvSpPr/>
            <p:nvPr/>
          </p:nvSpPr>
          <p:spPr>
            <a:xfrm>
              <a:off x="5905440" y="351468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5391000" y="54565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Group 14"/>
            <p:cNvGrpSpPr/>
            <p:nvPr/>
          </p:nvGrpSpPr>
          <p:grpSpPr>
            <a:xfrm>
              <a:off x="6762600" y="3505320"/>
              <a:ext cx="171360" cy="1523520"/>
              <a:chOff x="6762600" y="3505320"/>
              <a:chExt cx="171360" cy="1523520"/>
            </a:xfrm>
          </p:grpSpPr>
          <p:sp>
            <p:nvSpPr>
              <p:cNvPr id="555" name="Arc 15"/>
              <p:cNvSpPr/>
              <p:nvPr/>
            </p:nvSpPr>
            <p:spPr>
              <a:xfrm>
                <a:off x="6762600" y="350532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Arc 16"/>
              <p:cNvSpPr/>
              <p:nvPr/>
            </p:nvSpPr>
            <p:spPr>
              <a:xfrm flipV="1">
                <a:off x="6762600" y="464724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Arc 17"/>
              <p:cNvSpPr/>
              <p:nvPr/>
            </p:nvSpPr>
            <p:spPr>
              <a:xfrm flipH="1">
                <a:off x="6847560" y="42670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rc 18"/>
              <p:cNvSpPr/>
              <p:nvPr/>
            </p:nvSpPr>
            <p:spPr>
              <a:xfrm flipH="1" flipV="1">
                <a:off x="6847560" y="38854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19"/>
            <p:cNvGrpSpPr/>
            <p:nvPr/>
          </p:nvGrpSpPr>
          <p:grpSpPr>
            <a:xfrm>
              <a:off x="6762600" y="5105520"/>
              <a:ext cx="171360" cy="1523520"/>
              <a:chOff x="6762600" y="5105520"/>
              <a:chExt cx="171360" cy="1523520"/>
            </a:xfrm>
          </p:grpSpPr>
          <p:sp>
            <p:nvSpPr>
              <p:cNvPr id="560" name="Arc 20"/>
              <p:cNvSpPr/>
              <p:nvPr/>
            </p:nvSpPr>
            <p:spPr>
              <a:xfrm>
                <a:off x="6762600" y="510552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rc 21"/>
              <p:cNvSpPr/>
              <p:nvPr/>
            </p:nvSpPr>
            <p:spPr>
              <a:xfrm flipV="1">
                <a:off x="6762600" y="624744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Arc 22"/>
              <p:cNvSpPr/>
              <p:nvPr/>
            </p:nvSpPr>
            <p:spPr>
              <a:xfrm flipH="1">
                <a:off x="6847560" y="58672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Arc 23"/>
              <p:cNvSpPr/>
              <p:nvPr/>
            </p:nvSpPr>
            <p:spPr>
              <a:xfrm flipH="1" flipV="1">
                <a:off x="6847560" y="54856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24"/>
            <p:cNvGrpSpPr/>
            <p:nvPr/>
          </p:nvGrpSpPr>
          <p:grpSpPr>
            <a:xfrm>
              <a:off x="6762600" y="1067040"/>
              <a:ext cx="171360" cy="456840"/>
              <a:chOff x="6762600" y="1067040"/>
              <a:chExt cx="171360" cy="456840"/>
            </a:xfrm>
          </p:grpSpPr>
          <p:sp>
            <p:nvSpPr>
              <p:cNvPr id="565" name="Arc 25"/>
              <p:cNvSpPr/>
              <p:nvPr/>
            </p:nvSpPr>
            <p:spPr>
              <a:xfrm>
                <a:off x="6762600" y="106704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Arc 26"/>
              <p:cNvSpPr/>
              <p:nvPr/>
            </p:nvSpPr>
            <p:spPr>
              <a:xfrm flipV="1">
                <a:off x="6762600" y="140868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Arc 27"/>
              <p:cNvSpPr/>
              <p:nvPr/>
            </p:nvSpPr>
            <p:spPr>
              <a:xfrm flipH="1">
                <a:off x="6847560" y="129528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Arc 28"/>
              <p:cNvSpPr/>
              <p:nvPr/>
            </p:nvSpPr>
            <p:spPr>
              <a:xfrm flipH="1" flipV="1">
                <a:off x="6847560" y="118044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Arc 29"/>
            <p:cNvSpPr/>
            <p:nvPr/>
          </p:nvSpPr>
          <p:spPr>
            <a:xfrm>
              <a:off x="6762600" y="1681200"/>
              <a:ext cx="86040" cy="1144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rc 30"/>
            <p:cNvSpPr/>
            <p:nvPr/>
          </p:nvSpPr>
          <p:spPr>
            <a:xfrm flipV="1">
              <a:off x="6762600" y="2023560"/>
              <a:ext cx="86040" cy="1141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rc 31"/>
            <p:cNvSpPr/>
            <p:nvPr/>
          </p:nvSpPr>
          <p:spPr>
            <a:xfrm flipH="1">
              <a:off x="6848640" y="1909800"/>
              <a:ext cx="85680" cy="11448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rc 32"/>
            <p:cNvSpPr/>
            <p:nvPr/>
          </p:nvSpPr>
          <p:spPr>
            <a:xfrm flipH="1" flipV="1">
              <a:off x="6848640" y="1794960"/>
              <a:ext cx="85680" cy="11412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33"/>
            <p:cNvSpPr/>
            <p:nvPr/>
          </p:nvSpPr>
          <p:spPr>
            <a:xfrm>
              <a:off x="7015320" y="1096920"/>
              <a:ext cx="1823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gram is created 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he editor and sto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n disk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34"/>
            <p:cNvSpPr/>
            <p:nvPr/>
          </p:nvSpPr>
          <p:spPr>
            <a:xfrm>
              <a:off x="7015320" y="1781280"/>
              <a:ext cx="182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eprocessor prog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cesses the cod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35"/>
            <p:cNvSpPr/>
            <p:nvPr/>
          </p:nvSpPr>
          <p:spPr>
            <a:xfrm>
              <a:off x="7020000" y="4138560"/>
              <a:ext cx="18241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4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oader puts prog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 memor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36"/>
            <p:cNvSpPr/>
            <p:nvPr/>
          </p:nvSpPr>
          <p:spPr>
            <a:xfrm>
              <a:off x="7015320" y="5432400"/>
              <a:ext cx="18237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PU takes ea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struction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xecutes it, possib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toring new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alues as the prog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xecut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7"/>
            <p:cNvSpPr/>
            <p:nvPr/>
          </p:nvSpPr>
          <p:spPr>
            <a:xfrm>
              <a:off x="4187880" y="230040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38"/>
            <p:cNvSpPr/>
            <p:nvPr/>
          </p:nvSpPr>
          <p:spPr>
            <a:xfrm>
              <a:off x="4429080" y="2443320"/>
              <a:ext cx="714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ompil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9"/>
            <p:cNvSpPr/>
            <p:nvPr/>
          </p:nvSpPr>
          <p:spPr>
            <a:xfrm>
              <a:off x="5391000" y="252900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Group 40"/>
            <p:cNvGrpSpPr/>
            <p:nvPr/>
          </p:nvGrpSpPr>
          <p:grpSpPr>
            <a:xfrm>
              <a:off x="6762600" y="2289240"/>
              <a:ext cx="171360" cy="456840"/>
              <a:chOff x="6762600" y="2289240"/>
              <a:chExt cx="171360" cy="456840"/>
            </a:xfrm>
          </p:grpSpPr>
          <p:sp>
            <p:nvSpPr>
              <p:cNvPr id="581" name="Arc 41"/>
              <p:cNvSpPr/>
              <p:nvPr/>
            </p:nvSpPr>
            <p:spPr>
              <a:xfrm>
                <a:off x="6762600" y="228924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rc 42"/>
              <p:cNvSpPr/>
              <p:nvPr/>
            </p:nvSpPr>
            <p:spPr>
              <a:xfrm flipV="1">
                <a:off x="6762600" y="263088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Arc 43"/>
              <p:cNvSpPr/>
              <p:nvPr/>
            </p:nvSpPr>
            <p:spPr>
              <a:xfrm flipH="1">
                <a:off x="6847560" y="251748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Arc 44"/>
              <p:cNvSpPr/>
              <p:nvPr/>
            </p:nvSpPr>
            <p:spPr>
              <a:xfrm flipH="1" flipV="1">
                <a:off x="6847560" y="240264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Rectangle 45"/>
            <p:cNvSpPr/>
            <p:nvPr/>
          </p:nvSpPr>
          <p:spPr>
            <a:xfrm>
              <a:off x="7015320" y="2260800"/>
              <a:ext cx="18237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mpiler cre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bject code and st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t on disk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6"/>
            <p:cNvSpPr/>
            <p:nvPr/>
          </p:nvSpPr>
          <p:spPr>
            <a:xfrm>
              <a:off x="5391000" y="31370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rc 47"/>
            <p:cNvSpPr/>
            <p:nvPr/>
          </p:nvSpPr>
          <p:spPr>
            <a:xfrm>
              <a:off x="6762600" y="2897280"/>
              <a:ext cx="86040" cy="1144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rc 48"/>
            <p:cNvSpPr/>
            <p:nvPr/>
          </p:nvSpPr>
          <p:spPr>
            <a:xfrm flipV="1">
              <a:off x="6762600" y="3239640"/>
              <a:ext cx="86040" cy="1141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rc 49"/>
            <p:cNvSpPr/>
            <p:nvPr/>
          </p:nvSpPr>
          <p:spPr>
            <a:xfrm flipH="1">
              <a:off x="6848640" y="3125880"/>
              <a:ext cx="85680" cy="11448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rc 50"/>
            <p:cNvSpPr/>
            <p:nvPr/>
          </p:nvSpPr>
          <p:spPr>
            <a:xfrm flipH="1" flipV="1">
              <a:off x="6848640" y="3011040"/>
              <a:ext cx="85680" cy="11412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51"/>
            <p:cNvSpPr/>
            <p:nvPr/>
          </p:nvSpPr>
          <p:spPr>
            <a:xfrm>
              <a:off x="7015320" y="2895840"/>
              <a:ext cx="1823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inker links the obj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de with the libraries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reates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.ou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tores it on di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52"/>
            <p:cNvGrpSpPr/>
            <p:nvPr/>
          </p:nvGrpSpPr>
          <p:grpSpPr>
            <a:xfrm>
              <a:off x="4187880" y="1057320"/>
              <a:ext cx="1200240" cy="457200"/>
              <a:chOff x="4187880" y="1057320"/>
              <a:chExt cx="1200240" cy="457200"/>
            </a:xfrm>
          </p:grpSpPr>
          <p:sp>
            <p:nvSpPr>
              <p:cNvPr id="593" name="Freeform 53"/>
              <p:cNvSpPr/>
              <p:nvPr/>
            </p:nvSpPr>
            <p:spPr>
              <a:xfrm>
                <a:off x="4187880" y="105732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54"/>
              <p:cNvSpPr/>
              <p:nvPr/>
            </p:nvSpPr>
            <p:spPr>
              <a:xfrm>
                <a:off x="4187880" y="105732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55"/>
              <p:cNvSpPr/>
              <p:nvPr/>
            </p:nvSpPr>
            <p:spPr>
              <a:xfrm>
                <a:off x="4515840" y="1201320"/>
                <a:ext cx="543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Edito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56"/>
            <p:cNvGrpSpPr/>
            <p:nvPr/>
          </p:nvGrpSpPr>
          <p:grpSpPr>
            <a:xfrm>
              <a:off x="4187880" y="1690920"/>
              <a:ext cx="1200240" cy="457200"/>
              <a:chOff x="4187880" y="1690920"/>
              <a:chExt cx="1200240" cy="457200"/>
            </a:xfrm>
          </p:grpSpPr>
          <p:sp>
            <p:nvSpPr>
              <p:cNvPr id="597" name="Freeform 57"/>
              <p:cNvSpPr/>
              <p:nvPr/>
            </p:nvSpPr>
            <p:spPr>
              <a:xfrm>
                <a:off x="4187880" y="169092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8" name="Group 58"/>
              <p:cNvGrpSpPr/>
              <p:nvPr/>
            </p:nvGrpSpPr>
            <p:grpSpPr>
              <a:xfrm>
                <a:off x="4187880" y="1690920"/>
                <a:ext cx="1200240" cy="457200"/>
                <a:chOff x="4187880" y="1690920"/>
                <a:chExt cx="1200240" cy="457200"/>
              </a:xfrm>
            </p:grpSpPr>
            <p:sp>
              <p:nvSpPr>
                <p:cNvPr id="599" name="Freeform 59"/>
                <p:cNvSpPr/>
                <p:nvPr/>
              </p:nvSpPr>
              <p:spPr>
                <a:xfrm>
                  <a:off x="4187880" y="169092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Rectangle 60"/>
                <p:cNvSpPr/>
                <p:nvPr/>
              </p:nvSpPr>
              <p:spPr>
                <a:xfrm>
                  <a:off x="4258440" y="1824840"/>
                  <a:ext cx="105804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Preprocess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1" name="Group 61"/>
            <p:cNvGrpSpPr/>
            <p:nvPr/>
          </p:nvGrpSpPr>
          <p:grpSpPr>
            <a:xfrm>
              <a:off x="4187880" y="2908440"/>
              <a:ext cx="1200240" cy="457200"/>
              <a:chOff x="4187880" y="2908440"/>
              <a:chExt cx="1200240" cy="457200"/>
            </a:xfrm>
          </p:grpSpPr>
          <p:sp>
            <p:nvSpPr>
              <p:cNvPr id="602" name="Freeform 62"/>
              <p:cNvSpPr/>
              <p:nvPr/>
            </p:nvSpPr>
            <p:spPr>
              <a:xfrm>
                <a:off x="4187880" y="290844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3" name="Group 63"/>
              <p:cNvGrpSpPr/>
              <p:nvPr/>
            </p:nvGrpSpPr>
            <p:grpSpPr>
              <a:xfrm>
                <a:off x="4187880" y="2908440"/>
                <a:ext cx="1200240" cy="457200"/>
                <a:chOff x="4187880" y="2908440"/>
                <a:chExt cx="1200240" cy="457200"/>
              </a:xfrm>
            </p:grpSpPr>
            <p:sp>
              <p:nvSpPr>
                <p:cNvPr id="604" name="Freeform 64"/>
                <p:cNvSpPr/>
                <p:nvPr/>
              </p:nvSpPr>
              <p:spPr>
                <a:xfrm>
                  <a:off x="4187880" y="290844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Rectangle 65"/>
                <p:cNvSpPr/>
                <p:nvPr/>
              </p:nvSpPr>
              <p:spPr>
                <a:xfrm>
                  <a:off x="4515840" y="3043080"/>
                  <a:ext cx="5436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Lin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Group 66"/>
            <p:cNvGrpSpPr/>
            <p:nvPr/>
          </p:nvGrpSpPr>
          <p:grpSpPr>
            <a:xfrm>
              <a:off x="4187880" y="5227920"/>
              <a:ext cx="1200240" cy="457200"/>
              <a:chOff x="4187880" y="5227920"/>
              <a:chExt cx="1200240" cy="457200"/>
            </a:xfrm>
          </p:grpSpPr>
          <p:grpSp>
            <p:nvGrpSpPr>
              <p:cNvPr id="607" name="Group 67"/>
              <p:cNvGrpSpPr/>
              <p:nvPr/>
            </p:nvGrpSpPr>
            <p:grpSpPr>
              <a:xfrm>
                <a:off x="4187880" y="5227920"/>
                <a:ext cx="1200240" cy="457200"/>
                <a:chOff x="4187880" y="5227920"/>
                <a:chExt cx="1200240" cy="457200"/>
              </a:xfrm>
            </p:grpSpPr>
            <p:sp>
              <p:nvSpPr>
                <p:cNvPr id="608" name="Freeform 68"/>
                <p:cNvSpPr/>
                <p:nvPr/>
              </p:nvSpPr>
              <p:spPr>
                <a:xfrm>
                  <a:off x="4187880" y="522792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Rectangle 69"/>
                <p:cNvSpPr/>
                <p:nvPr/>
              </p:nvSpPr>
              <p:spPr>
                <a:xfrm>
                  <a:off x="4772880" y="5507280"/>
                  <a:ext cx="2916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2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" name="Group 70"/>
              <p:cNvGrpSpPr/>
              <p:nvPr/>
            </p:nvGrpSpPr>
            <p:grpSpPr>
              <a:xfrm>
                <a:off x="4187880" y="5227920"/>
                <a:ext cx="1200240" cy="457200"/>
                <a:chOff x="4187880" y="5227920"/>
                <a:chExt cx="1200240" cy="457200"/>
              </a:xfrm>
            </p:grpSpPr>
            <p:sp>
              <p:nvSpPr>
                <p:cNvPr id="611" name="Freeform 71"/>
                <p:cNvSpPr/>
                <p:nvPr/>
              </p:nvSpPr>
              <p:spPr>
                <a:xfrm>
                  <a:off x="4187880" y="522792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72"/>
                <p:cNvSpPr/>
                <p:nvPr/>
              </p:nvSpPr>
              <p:spPr>
                <a:xfrm>
                  <a:off x="4644360" y="5380200"/>
                  <a:ext cx="28656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CPU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3" name="Rectangle 73"/>
            <p:cNvSpPr/>
            <p:nvPr/>
          </p:nvSpPr>
          <p:spPr>
            <a:xfrm>
              <a:off x="5905440" y="510228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Group 74"/>
            <p:cNvGrpSpPr/>
            <p:nvPr/>
          </p:nvGrpSpPr>
          <p:grpSpPr>
            <a:xfrm>
              <a:off x="5905440" y="5367600"/>
              <a:ext cx="773280" cy="1212840"/>
              <a:chOff x="5905440" y="5367600"/>
              <a:chExt cx="773280" cy="1212840"/>
            </a:xfrm>
          </p:grpSpPr>
          <p:sp>
            <p:nvSpPr>
              <p:cNvPr id="615" name="Rectangle 75"/>
              <p:cNvSpPr/>
              <p:nvPr/>
            </p:nvSpPr>
            <p:spPr>
              <a:xfrm>
                <a:off x="6227640" y="6131160"/>
                <a:ext cx="8640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76"/>
              <p:cNvSpPr/>
              <p:nvPr/>
            </p:nvSpPr>
            <p:spPr>
              <a:xfrm>
                <a:off x="5905440" y="5367600"/>
                <a:ext cx="767160" cy="1212840"/>
              </a:xfrm>
              <a:custGeom>
                <a:avLst/>
                <a:gdLst>
                  <a:gd name="textAreaLeft" fmla="*/ 0 w 767160"/>
                  <a:gd name="textAreaRight" fmla="*/ 767520 w 767160"/>
                  <a:gd name="textAreaTop" fmla="*/ 0 h 1212840"/>
                  <a:gd name="textAreaBottom" fmla="*/ 1213200 h 12128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77"/>
              <p:cNvSpPr/>
              <p:nvPr/>
            </p:nvSpPr>
            <p:spPr>
              <a:xfrm>
                <a:off x="5906520" y="536868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78"/>
              <p:cNvSpPr/>
              <p:nvPr/>
            </p:nvSpPr>
            <p:spPr>
              <a:xfrm>
                <a:off x="5906520" y="5521320"/>
                <a:ext cx="772200" cy="15228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79"/>
              <p:cNvSpPr/>
              <p:nvPr/>
            </p:nvSpPr>
            <p:spPr>
              <a:xfrm>
                <a:off x="5906520" y="567108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80"/>
              <p:cNvSpPr/>
              <p:nvPr/>
            </p:nvSpPr>
            <p:spPr>
              <a:xfrm>
                <a:off x="5906520" y="582300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81"/>
              <p:cNvSpPr/>
              <p:nvPr/>
            </p:nvSpPr>
            <p:spPr>
              <a:xfrm>
                <a:off x="5906520" y="597420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82"/>
              <p:cNvSpPr/>
              <p:nvPr/>
            </p:nvSpPr>
            <p:spPr>
              <a:xfrm>
                <a:off x="5906520" y="6126120"/>
                <a:ext cx="772200" cy="30312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58"/>
                    </a:lnTo>
                    <a:lnTo>
                      <a:pt x="0" y="19958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83"/>
              <p:cNvSpPr/>
              <p:nvPr/>
            </p:nvSpPr>
            <p:spPr>
              <a:xfrm>
                <a:off x="5906520" y="642924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84"/>
              <p:cNvSpPr/>
              <p:nvPr/>
            </p:nvSpPr>
            <p:spPr>
              <a:xfrm>
                <a:off x="6249240" y="6126120"/>
                <a:ext cx="8640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Group 85"/>
            <p:cNvGrpSpPr/>
            <p:nvPr/>
          </p:nvGrpSpPr>
          <p:grpSpPr>
            <a:xfrm>
              <a:off x="5905440" y="3780000"/>
              <a:ext cx="773280" cy="1214280"/>
              <a:chOff x="5905440" y="3780000"/>
              <a:chExt cx="773280" cy="1214280"/>
            </a:xfrm>
          </p:grpSpPr>
          <p:sp>
            <p:nvSpPr>
              <p:cNvPr id="626" name="Freeform 86"/>
              <p:cNvSpPr/>
              <p:nvPr/>
            </p:nvSpPr>
            <p:spPr>
              <a:xfrm>
                <a:off x="5905440" y="3780000"/>
                <a:ext cx="767160" cy="1212480"/>
              </a:xfrm>
              <a:custGeom>
                <a:avLst/>
                <a:gdLst>
                  <a:gd name="textAreaLeft" fmla="*/ 0 w 767160"/>
                  <a:gd name="textAreaRight" fmla="*/ 767520 w 767160"/>
                  <a:gd name="textAreaTop" fmla="*/ 0 h 1212480"/>
                  <a:gd name="textAreaBottom" fmla="*/ 1212840 h 121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87"/>
              <p:cNvSpPr/>
              <p:nvPr/>
            </p:nvSpPr>
            <p:spPr>
              <a:xfrm>
                <a:off x="5906520" y="378108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88"/>
              <p:cNvSpPr/>
              <p:nvPr/>
            </p:nvSpPr>
            <p:spPr>
              <a:xfrm>
                <a:off x="5906520" y="3933360"/>
                <a:ext cx="772200" cy="15228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9" name="Group 89"/>
              <p:cNvGrpSpPr/>
              <p:nvPr/>
            </p:nvGrpSpPr>
            <p:grpSpPr>
              <a:xfrm>
                <a:off x="5906520" y="4086000"/>
                <a:ext cx="772200" cy="908280"/>
                <a:chOff x="5906520" y="4086000"/>
                <a:chExt cx="772200" cy="908280"/>
              </a:xfrm>
            </p:grpSpPr>
            <p:sp>
              <p:nvSpPr>
                <p:cNvPr id="630" name="Rectangle 90"/>
                <p:cNvSpPr/>
                <p:nvPr/>
              </p:nvSpPr>
              <p:spPr>
                <a:xfrm>
                  <a:off x="6227640" y="4545360"/>
                  <a:ext cx="8640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91"/>
                <p:cNvSpPr/>
                <p:nvPr/>
              </p:nvSpPr>
              <p:spPr>
                <a:xfrm>
                  <a:off x="5906520" y="4086000"/>
                  <a:ext cx="772200" cy="15120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92"/>
                <p:cNvSpPr/>
                <p:nvPr/>
              </p:nvSpPr>
              <p:spPr>
                <a:xfrm>
                  <a:off x="5906520" y="4237200"/>
                  <a:ext cx="772200" cy="15084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93"/>
                <p:cNvSpPr/>
                <p:nvPr/>
              </p:nvSpPr>
              <p:spPr>
                <a:xfrm>
                  <a:off x="5906520" y="4388400"/>
                  <a:ext cx="772200" cy="15120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94"/>
                <p:cNvSpPr/>
                <p:nvPr/>
              </p:nvSpPr>
              <p:spPr>
                <a:xfrm>
                  <a:off x="5906520" y="4540320"/>
                  <a:ext cx="772200" cy="30276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58"/>
                      </a:lnTo>
                      <a:lnTo>
                        <a:pt x="0" y="19958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95"/>
                <p:cNvSpPr/>
                <p:nvPr/>
              </p:nvSpPr>
              <p:spPr>
                <a:xfrm>
                  <a:off x="5906520" y="4843440"/>
                  <a:ext cx="772200" cy="15084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Rectangle 96"/>
                <p:cNvSpPr/>
                <p:nvPr/>
              </p:nvSpPr>
              <p:spPr>
                <a:xfrm>
                  <a:off x="6248880" y="4540320"/>
                  <a:ext cx="864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7" name="Group 97"/>
            <p:cNvGrpSpPr/>
            <p:nvPr/>
          </p:nvGrpSpPr>
          <p:grpSpPr>
            <a:xfrm>
              <a:off x="5905440" y="1141560"/>
              <a:ext cx="771480" cy="309600"/>
              <a:chOff x="5905440" y="1141560"/>
              <a:chExt cx="771480" cy="309600"/>
            </a:xfrm>
          </p:grpSpPr>
          <p:grpSp>
            <p:nvGrpSpPr>
              <p:cNvPr id="638" name="Group 98"/>
              <p:cNvGrpSpPr/>
              <p:nvPr/>
            </p:nvGrpSpPr>
            <p:grpSpPr>
              <a:xfrm>
                <a:off x="5905440" y="1142640"/>
                <a:ext cx="771480" cy="308520"/>
                <a:chOff x="5905440" y="1142640"/>
                <a:chExt cx="771480" cy="308520"/>
              </a:xfrm>
            </p:grpSpPr>
            <p:sp>
              <p:nvSpPr>
                <p:cNvPr id="639" name="Oval 99"/>
                <p:cNvSpPr/>
                <p:nvPr/>
              </p:nvSpPr>
              <p:spPr>
                <a:xfrm>
                  <a:off x="5905440" y="13741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00"/>
                <p:cNvSpPr/>
                <p:nvPr/>
              </p:nvSpPr>
              <p:spPr>
                <a:xfrm>
                  <a:off x="5906160" y="118188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Oval 101"/>
                <p:cNvSpPr/>
                <p:nvPr/>
              </p:nvSpPr>
              <p:spPr>
                <a:xfrm>
                  <a:off x="5905440" y="114264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" name="Oval 102"/>
              <p:cNvSpPr/>
              <p:nvPr/>
            </p:nvSpPr>
            <p:spPr>
              <a:xfrm>
                <a:off x="5905440" y="13737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03"/>
              <p:cNvSpPr/>
              <p:nvPr/>
            </p:nvSpPr>
            <p:spPr>
              <a:xfrm>
                <a:off x="5906160" y="1180800"/>
                <a:ext cx="770760" cy="22896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04"/>
              <p:cNvSpPr/>
              <p:nvPr/>
            </p:nvSpPr>
            <p:spPr>
              <a:xfrm>
                <a:off x="5913000" y="137304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105"/>
              <p:cNvSpPr/>
              <p:nvPr/>
            </p:nvSpPr>
            <p:spPr>
              <a:xfrm>
                <a:off x="6105240" y="124272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06"/>
              <p:cNvSpPr/>
              <p:nvPr/>
            </p:nvSpPr>
            <p:spPr>
              <a:xfrm>
                <a:off x="5910840" y="117432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Oval 107"/>
              <p:cNvSpPr/>
              <p:nvPr/>
            </p:nvSpPr>
            <p:spPr>
              <a:xfrm>
                <a:off x="5905440" y="11415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08"/>
            <p:cNvGrpSpPr/>
            <p:nvPr/>
          </p:nvGrpSpPr>
          <p:grpSpPr>
            <a:xfrm>
              <a:off x="5905440" y="1764000"/>
              <a:ext cx="771480" cy="309240"/>
              <a:chOff x="5905440" y="1764000"/>
              <a:chExt cx="771480" cy="309240"/>
            </a:xfrm>
          </p:grpSpPr>
          <p:grpSp>
            <p:nvGrpSpPr>
              <p:cNvPr id="649" name="Group 109"/>
              <p:cNvGrpSpPr/>
              <p:nvPr/>
            </p:nvGrpSpPr>
            <p:grpSpPr>
              <a:xfrm>
                <a:off x="5905440" y="1765080"/>
                <a:ext cx="771480" cy="308160"/>
                <a:chOff x="5905440" y="1765080"/>
                <a:chExt cx="771480" cy="308160"/>
              </a:xfrm>
            </p:grpSpPr>
            <p:sp>
              <p:nvSpPr>
                <p:cNvPr id="650" name="Oval 110"/>
                <p:cNvSpPr/>
                <p:nvPr/>
              </p:nvSpPr>
              <p:spPr>
                <a:xfrm>
                  <a:off x="5905440" y="199656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11"/>
                <p:cNvSpPr/>
                <p:nvPr/>
              </p:nvSpPr>
              <p:spPr>
                <a:xfrm>
                  <a:off x="5906160" y="180432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Oval 112"/>
                <p:cNvSpPr/>
                <p:nvPr/>
              </p:nvSpPr>
              <p:spPr>
                <a:xfrm>
                  <a:off x="5905440" y="176508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Oval 113"/>
              <p:cNvSpPr/>
              <p:nvPr/>
            </p:nvSpPr>
            <p:spPr>
              <a:xfrm>
                <a:off x="5905440" y="199584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14"/>
              <p:cNvSpPr/>
              <p:nvPr/>
            </p:nvSpPr>
            <p:spPr>
              <a:xfrm>
                <a:off x="5906160" y="1803240"/>
                <a:ext cx="770760" cy="22860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15"/>
              <p:cNvSpPr/>
              <p:nvPr/>
            </p:nvSpPr>
            <p:spPr>
              <a:xfrm>
                <a:off x="5913000" y="199512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16"/>
              <p:cNvSpPr/>
              <p:nvPr/>
            </p:nvSpPr>
            <p:spPr>
              <a:xfrm>
                <a:off x="6105240" y="186480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17"/>
              <p:cNvSpPr/>
              <p:nvPr/>
            </p:nvSpPr>
            <p:spPr>
              <a:xfrm>
                <a:off x="5910840" y="179676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Oval 118"/>
              <p:cNvSpPr/>
              <p:nvPr/>
            </p:nvSpPr>
            <p:spPr>
              <a:xfrm>
                <a:off x="5905440" y="176400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9"/>
            <p:cNvGrpSpPr/>
            <p:nvPr/>
          </p:nvGrpSpPr>
          <p:grpSpPr>
            <a:xfrm>
              <a:off x="5905440" y="2379960"/>
              <a:ext cx="771480" cy="309240"/>
              <a:chOff x="5905440" y="2379960"/>
              <a:chExt cx="771480" cy="309240"/>
            </a:xfrm>
          </p:grpSpPr>
          <p:grpSp>
            <p:nvGrpSpPr>
              <p:cNvPr id="660" name="Group 120"/>
              <p:cNvGrpSpPr/>
              <p:nvPr/>
            </p:nvGrpSpPr>
            <p:grpSpPr>
              <a:xfrm>
                <a:off x="5905440" y="2381040"/>
                <a:ext cx="771480" cy="308160"/>
                <a:chOff x="5905440" y="2381040"/>
                <a:chExt cx="771480" cy="308160"/>
              </a:xfrm>
            </p:grpSpPr>
            <p:sp>
              <p:nvSpPr>
                <p:cNvPr id="661" name="Oval 121"/>
                <p:cNvSpPr/>
                <p:nvPr/>
              </p:nvSpPr>
              <p:spPr>
                <a:xfrm>
                  <a:off x="5905440" y="261252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22"/>
                <p:cNvSpPr/>
                <p:nvPr/>
              </p:nvSpPr>
              <p:spPr>
                <a:xfrm>
                  <a:off x="5906160" y="242028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Oval 123"/>
                <p:cNvSpPr/>
                <p:nvPr/>
              </p:nvSpPr>
              <p:spPr>
                <a:xfrm>
                  <a:off x="5905440" y="238104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Oval 124"/>
              <p:cNvSpPr/>
              <p:nvPr/>
            </p:nvSpPr>
            <p:spPr>
              <a:xfrm>
                <a:off x="5905440" y="261180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25"/>
              <p:cNvSpPr/>
              <p:nvPr/>
            </p:nvSpPr>
            <p:spPr>
              <a:xfrm>
                <a:off x="5906160" y="2419200"/>
                <a:ext cx="770760" cy="22860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26"/>
              <p:cNvSpPr/>
              <p:nvPr/>
            </p:nvSpPr>
            <p:spPr>
              <a:xfrm>
                <a:off x="5913000" y="261108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127"/>
              <p:cNvSpPr/>
              <p:nvPr/>
            </p:nvSpPr>
            <p:spPr>
              <a:xfrm>
                <a:off x="6105240" y="248076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28"/>
              <p:cNvSpPr/>
              <p:nvPr/>
            </p:nvSpPr>
            <p:spPr>
              <a:xfrm>
                <a:off x="5910840" y="241272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Oval 129"/>
              <p:cNvSpPr/>
              <p:nvPr/>
            </p:nvSpPr>
            <p:spPr>
              <a:xfrm>
                <a:off x="5905440" y="23799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30"/>
            <p:cNvGrpSpPr/>
            <p:nvPr/>
          </p:nvGrpSpPr>
          <p:grpSpPr>
            <a:xfrm>
              <a:off x="5905440" y="2982960"/>
              <a:ext cx="771480" cy="309600"/>
              <a:chOff x="5905440" y="2982960"/>
              <a:chExt cx="771480" cy="309600"/>
            </a:xfrm>
          </p:grpSpPr>
          <p:grpSp>
            <p:nvGrpSpPr>
              <p:cNvPr id="671" name="Group 131"/>
              <p:cNvGrpSpPr/>
              <p:nvPr/>
            </p:nvGrpSpPr>
            <p:grpSpPr>
              <a:xfrm>
                <a:off x="5905440" y="2984040"/>
                <a:ext cx="771480" cy="308520"/>
                <a:chOff x="5905440" y="2984040"/>
                <a:chExt cx="771480" cy="308520"/>
              </a:xfrm>
            </p:grpSpPr>
            <p:sp>
              <p:nvSpPr>
                <p:cNvPr id="672" name="Oval 132"/>
                <p:cNvSpPr/>
                <p:nvPr/>
              </p:nvSpPr>
              <p:spPr>
                <a:xfrm>
                  <a:off x="5905440" y="32155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33"/>
                <p:cNvSpPr/>
                <p:nvPr/>
              </p:nvSpPr>
              <p:spPr>
                <a:xfrm>
                  <a:off x="5906160" y="302328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Oval 134"/>
                <p:cNvSpPr/>
                <p:nvPr/>
              </p:nvSpPr>
              <p:spPr>
                <a:xfrm>
                  <a:off x="5905440" y="298404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Oval 135"/>
              <p:cNvSpPr/>
              <p:nvPr/>
            </p:nvSpPr>
            <p:spPr>
              <a:xfrm>
                <a:off x="5905440" y="32151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36"/>
              <p:cNvSpPr/>
              <p:nvPr/>
            </p:nvSpPr>
            <p:spPr>
              <a:xfrm>
                <a:off x="5906160" y="3022200"/>
                <a:ext cx="770760" cy="22896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37"/>
              <p:cNvSpPr/>
              <p:nvPr/>
            </p:nvSpPr>
            <p:spPr>
              <a:xfrm>
                <a:off x="5913000" y="321444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138"/>
              <p:cNvSpPr/>
              <p:nvPr/>
            </p:nvSpPr>
            <p:spPr>
              <a:xfrm>
                <a:off x="6105240" y="308412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39"/>
              <p:cNvSpPr/>
              <p:nvPr/>
            </p:nvSpPr>
            <p:spPr>
              <a:xfrm>
                <a:off x="5910840" y="301572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Oval 140"/>
              <p:cNvSpPr/>
              <p:nvPr/>
            </p:nvSpPr>
            <p:spPr>
              <a:xfrm>
                <a:off x="5905440" y="29829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Group 141"/>
            <p:cNvGrpSpPr/>
            <p:nvPr/>
          </p:nvGrpSpPr>
          <p:grpSpPr>
            <a:xfrm>
              <a:off x="4405320" y="4357800"/>
              <a:ext cx="773280" cy="309600"/>
              <a:chOff x="4405320" y="4357800"/>
              <a:chExt cx="773280" cy="309600"/>
            </a:xfrm>
          </p:grpSpPr>
          <p:grpSp>
            <p:nvGrpSpPr>
              <p:cNvPr id="682" name="Group 142"/>
              <p:cNvGrpSpPr/>
              <p:nvPr/>
            </p:nvGrpSpPr>
            <p:grpSpPr>
              <a:xfrm>
                <a:off x="4405680" y="4358160"/>
                <a:ext cx="772920" cy="309240"/>
                <a:chOff x="4405680" y="4358160"/>
                <a:chExt cx="772920" cy="309240"/>
              </a:xfrm>
            </p:grpSpPr>
            <p:sp>
              <p:nvSpPr>
                <p:cNvPr id="683" name="Oval 143"/>
                <p:cNvSpPr/>
                <p:nvPr/>
              </p:nvSpPr>
              <p:spPr>
                <a:xfrm>
                  <a:off x="4405680" y="459036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144"/>
                <p:cNvSpPr/>
                <p:nvPr/>
              </p:nvSpPr>
              <p:spPr>
                <a:xfrm>
                  <a:off x="4406040" y="4397400"/>
                  <a:ext cx="772560" cy="229320"/>
                </a:xfrm>
                <a:custGeom>
                  <a:avLst/>
                  <a:gdLst>
                    <a:gd name="textAreaLeft" fmla="*/ 0 w 772560"/>
                    <a:gd name="textAreaRight" fmla="*/ 772920 w 772560"/>
                    <a:gd name="textAreaTop" fmla="*/ 0 h 229320"/>
                    <a:gd name="textAreaBottom" fmla="*/ 229680 h 22932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Oval 145"/>
                <p:cNvSpPr/>
                <p:nvPr/>
              </p:nvSpPr>
              <p:spPr>
                <a:xfrm>
                  <a:off x="4405680" y="435816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Oval 146"/>
              <p:cNvSpPr/>
              <p:nvPr/>
            </p:nvSpPr>
            <p:spPr>
              <a:xfrm>
                <a:off x="4405320" y="458928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47"/>
              <p:cNvSpPr/>
              <p:nvPr/>
            </p:nvSpPr>
            <p:spPr>
              <a:xfrm>
                <a:off x="4405680" y="4397040"/>
                <a:ext cx="772200" cy="22896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48"/>
              <p:cNvSpPr/>
              <p:nvPr/>
            </p:nvSpPr>
            <p:spPr>
              <a:xfrm>
                <a:off x="4412880" y="4589280"/>
                <a:ext cx="757800" cy="41040"/>
              </a:xfrm>
              <a:custGeom>
                <a:avLst/>
                <a:gdLst>
                  <a:gd name="textAreaLeft" fmla="*/ 0 w 757800"/>
                  <a:gd name="textAreaRight" fmla="*/ 758160 w 7578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49"/>
              <p:cNvSpPr/>
              <p:nvPr/>
            </p:nvSpPr>
            <p:spPr>
              <a:xfrm>
                <a:off x="4605480" y="4458240"/>
                <a:ext cx="372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50"/>
              <p:cNvSpPr/>
              <p:nvPr/>
            </p:nvSpPr>
            <p:spPr>
              <a:xfrm>
                <a:off x="4411440" y="4390200"/>
                <a:ext cx="763560" cy="4248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Oval 151"/>
              <p:cNvSpPr/>
              <p:nvPr/>
            </p:nvSpPr>
            <p:spPr>
              <a:xfrm>
                <a:off x="4405320" y="435780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Freeform 152"/>
            <p:cNvSpPr/>
            <p:nvPr/>
          </p:nvSpPr>
          <p:spPr>
            <a:xfrm>
              <a:off x="4791240" y="4084920"/>
              <a:ext cx="360" cy="30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Computer Organiza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Footer Placeholder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0B1D-BBA7-4579-85AE-0E88F0EDCFE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x logical units of computer system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put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use, keyboar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Output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inter, monitor, audio speake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emory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tains input and processed inform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rithmetic and logic unit (ALU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erforms calculat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ontrol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upervises operation of other devi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ary storage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ard drives, floppy driv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23640" y="434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What a computer program is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571C-ADF7-41BD-84B1-57B2542E19F6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or a computer to be able to perform specific tasks (i.e. print what grade a student got on an exam), it must be given instructions to do the task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set of instructions that tells the computer to perform specific tasks is known as a </a:t>
            </a:r>
            <a:r>
              <a:rPr b="0" i="1" lang="en-US" sz="2800" spc="-1" strike="noStrike">
                <a:solidFill>
                  <a:srgbClr val="775f55"/>
                </a:solidFill>
                <a:latin typeface="Tw Cen MT"/>
              </a:rPr>
              <a:t>computer progra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Machine Languages, Assembly Languages and High-Level Language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chine languag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atural language” of computer compon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chine depend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ssembly languag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nglish-like abbreviations represent computer opera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ranslator programs convert to machine langu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igh-level languag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lows for writing more “English-like” instruc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ontains commonly used mathematical operation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piler convert to machine langu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  <a:ea typeface="Arial"/>
              </a:rPr>
              <a:t>An Overview Of Computer Languag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05C7-38A2-49B2-9842-3330E8505C16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612720" y="1600200"/>
          <a:ext cx="8153280" cy="4114800"/>
        </p:xfrm>
        <a:graphic>
          <a:graphicData uri="http://schemas.openxmlformats.org/drawingml/2006/table">
            <a:tbl>
              <a:tblPr/>
              <a:tblGrid>
                <a:gridCol w="1655640"/>
                <a:gridCol w="2448000"/>
                <a:gridCol w="2011320"/>
                <a:gridCol w="2038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w Cen MT"/>
                        </a:rPr>
                        <a:t>1-Machine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w Cen MT"/>
                        </a:rPr>
                        <a:t>2-Assembly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w Cen MT"/>
                        </a:rPr>
                        <a:t>3-High-level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0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95b22"/>
                          </a:solidFill>
                          <a:latin typeface="Tw Cen MT"/>
                        </a:rPr>
                        <a:t>repres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llection of binar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nu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ymbolic form of machine  language (I.e. symbolic names are used to represent </a:t>
                      </a:r>
                      <a:r>
                        <a:rPr b="0" lang="en-US" sz="1600" spc="-1" strike="noStrike">
                          <a:solidFill>
                            <a:srgbClr val="1313ff"/>
                          </a:solidFill>
                          <a:latin typeface="Tw Cen MT"/>
                        </a:rPr>
                        <a:t>operation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w Cen MT"/>
                        </a:rPr>
                        <a:t>regist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&amp; 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Tw Cen MT"/>
                        </a:rPr>
                        <a:t>memory locat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mbines algebraic  expressions with symbols taken from  English language(ex. C, Pascal, FORTRAN, …et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95b22"/>
                          </a:solidFill>
                          <a:latin typeface="Tw Cen MT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10100001 00000000 000000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00000101 00000100 000000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10100011 00000000 000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313ff"/>
                          </a:solidFill>
                          <a:latin typeface="Tw Cen MT"/>
                          <a:ea typeface="Traditional Arabic"/>
                        </a:rPr>
                        <a:t>MO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Tw Cen MT"/>
                          <a:ea typeface="Traditional Arabic"/>
                        </a:rPr>
                        <a:t>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w Cen MT"/>
                          <a:ea typeface="Traditional Arabic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313ff"/>
                          </a:solidFill>
                          <a:latin typeface="Tw Cen MT"/>
                          <a:ea typeface="Traditional Arabic"/>
                        </a:rPr>
                        <a:t>MOV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Tw Cen MT"/>
                          <a:ea typeface="Traditional Arabic"/>
                        </a:rPr>
                        <a:t> 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313ff"/>
                          </a:solidFill>
                          <a:latin typeface="Tw Cen MT"/>
                          <a:ea typeface="Traditional Arabic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Tw Cen MT"/>
                          <a:ea typeface="Traditional Arabic"/>
                        </a:rPr>
                        <a:t>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=A+4 *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95b22"/>
                          </a:solidFill>
                          <a:latin typeface="Tw Cen MT"/>
                        </a:rPr>
                        <a:t>how does the computer understand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rectly understood by a comput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semb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convert to machine langu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mpiler or (interpter 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nvert to machine langu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grpSp>
        <p:nvGrpSpPr>
          <p:cNvPr id="424" name="Group 45"/>
          <p:cNvGrpSpPr/>
          <p:nvPr/>
        </p:nvGrpSpPr>
        <p:grpSpPr>
          <a:xfrm>
            <a:off x="395280" y="5950080"/>
            <a:ext cx="8381880" cy="380880"/>
            <a:chOff x="395280" y="5950080"/>
            <a:chExt cx="8381880" cy="380880"/>
          </a:xfrm>
        </p:grpSpPr>
        <p:sp>
          <p:nvSpPr>
            <p:cNvPr id="425" name="Line 40"/>
            <p:cNvSpPr/>
            <p:nvPr/>
          </p:nvSpPr>
          <p:spPr>
            <a:xfrm>
              <a:off x="395280" y="6330960"/>
              <a:ext cx="838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43"/>
            <p:cNvSpPr/>
            <p:nvPr/>
          </p:nvSpPr>
          <p:spPr>
            <a:xfrm>
              <a:off x="395280" y="595008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Easier to 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46"/>
          <p:cNvGrpSpPr/>
          <p:nvPr/>
        </p:nvGrpSpPr>
        <p:grpSpPr>
          <a:xfrm>
            <a:off x="395280" y="6491160"/>
            <a:ext cx="8381880" cy="368280"/>
            <a:chOff x="395280" y="6491160"/>
            <a:chExt cx="8381880" cy="368280"/>
          </a:xfrm>
        </p:grpSpPr>
        <p:sp>
          <p:nvSpPr>
            <p:cNvPr id="428" name="Line 41"/>
            <p:cNvSpPr/>
            <p:nvPr/>
          </p:nvSpPr>
          <p:spPr>
            <a:xfrm>
              <a:off x="395280" y="6491160"/>
              <a:ext cx="838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4"/>
            <p:cNvSpPr/>
            <p:nvPr/>
          </p:nvSpPr>
          <p:spPr>
            <a:xfrm>
              <a:off x="395280" y="649116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More power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Levels of Program Develop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95F0-B98B-44A2-AEA3-B1B72E5C2B33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8600" y="1904760"/>
            <a:ext cx="8686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uman though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seudo-Natural Language (English, Arabic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 Level Programming Language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(C, C++, Java, …)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chine Cod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he Programmer’s Algorith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Footer Placeholder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42BF-0E98-446F-A66A-6E3BE2077782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68000" y="155700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An algorithm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s a finite sequence of instructions that produces a solution to a proble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700640" indent="-2124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he programmer’s algorith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fine the proble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lan the problem solu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de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mpile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un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est and debug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A96E-3241-488E-9B71-875CE9BF3F2F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000" y="353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1-Defining the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problem must be defined in terms of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Data to be processed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The expected resul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ook for nouns in the problem statement that suggest output and inpu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The statements to achiev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ook for verbs to suggest processing step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41" name="Group 4"/>
          <p:cNvGrpSpPr/>
          <p:nvPr/>
        </p:nvGrpSpPr>
        <p:grpSpPr>
          <a:xfrm>
            <a:off x="914400" y="4191120"/>
            <a:ext cx="7554240" cy="2064960"/>
            <a:chOff x="914400" y="4191120"/>
            <a:chExt cx="7554240" cy="2064960"/>
          </a:xfrm>
        </p:grpSpPr>
        <p:sp>
          <p:nvSpPr>
            <p:cNvPr id="442" name="Oval 5"/>
            <p:cNvSpPr/>
            <p:nvPr/>
          </p:nvSpPr>
          <p:spPr>
            <a:xfrm>
              <a:off x="3793680" y="4210920"/>
              <a:ext cx="1702440" cy="2045160"/>
            </a:xfrm>
            <a:prstGeom prst="ellipse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6"/>
            <p:cNvSpPr/>
            <p:nvPr/>
          </p:nvSpPr>
          <p:spPr>
            <a:xfrm>
              <a:off x="914400" y="4759560"/>
              <a:ext cx="1702440" cy="673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7"/>
            <p:cNvSpPr/>
            <p:nvPr/>
          </p:nvSpPr>
          <p:spPr>
            <a:xfrm>
              <a:off x="1032840" y="4944960"/>
              <a:ext cx="1585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bo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8"/>
            <p:cNvSpPr/>
            <p:nvPr/>
          </p:nvSpPr>
          <p:spPr>
            <a:xfrm>
              <a:off x="6742080" y="4690800"/>
              <a:ext cx="1565280" cy="129132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9"/>
            <p:cNvSpPr/>
            <p:nvPr/>
          </p:nvSpPr>
          <p:spPr>
            <a:xfrm>
              <a:off x="6928560" y="4944960"/>
              <a:ext cx="1196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re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0"/>
            <p:cNvSpPr/>
            <p:nvPr/>
          </p:nvSpPr>
          <p:spPr>
            <a:xfrm>
              <a:off x="3702600" y="4893480"/>
              <a:ext cx="1822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1"/>
            <p:cNvSpPr/>
            <p:nvPr/>
          </p:nvSpPr>
          <p:spPr>
            <a:xfrm>
              <a:off x="1029960" y="4259520"/>
              <a:ext cx="163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 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2"/>
            <p:cNvSpPr/>
            <p:nvPr/>
          </p:nvSpPr>
          <p:spPr>
            <a:xfrm>
              <a:off x="6627600" y="419112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put 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13"/>
            <p:cNvGrpSpPr/>
            <p:nvPr/>
          </p:nvGrpSpPr>
          <p:grpSpPr>
            <a:xfrm>
              <a:off x="2806920" y="4838040"/>
              <a:ext cx="3718800" cy="582480"/>
              <a:chOff x="2806920" y="4838040"/>
              <a:chExt cx="3718800" cy="582480"/>
            </a:xfrm>
          </p:grpSpPr>
          <p:sp>
            <p:nvSpPr>
              <p:cNvPr id="451" name="AutoShape 14"/>
              <p:cNvSpPr/>
              <p:nvPr/>
            </p:nvSpPr>
            <p:spPr>
              <a:xfrm>
                <a:off x="5686200" y="4838040"/>
                <a:ext cx="839520" cy="582480"/>
              </a:xfrm>
              <a:prstGeom prst="rightArrow">
                <a:avLst>
                  <a:gd name="adj1" fmla="val 50000"/>
                  <a:gd name="adj2" fmla="val 72084"/>
                </a:avLst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ebddc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AutoShape 15"/>
              <p:cNvSpPr/>
              <p:nvPr/>
            </p:nvSpPr>
            <p:spPr>
              <a:xfrm>
                <a:off x="2806920" y="4838040"/>
                <a:ext cx="839520" cy="582480"/>
              </a:xfrm>
              <a:prstGeom prst="rightArrow">
                <a:avLst>
                  <a:gd name="adj1" fmla="val 50000"/>
                  <a:gd name="adj2" fmla="val 72084"/>
                </a:avLst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ebddc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53" name="Ink 16" descr=""/>
          <p:cNvPicPr/>
          <p:nvPr/>
        </p:nvPicPr>
        <p:blipFill>
          <a:blip r:embed="rId1"/>
          <a:stretch/>
        </p:blipFill>
        <p:spPr>
          <a:xfrm>
            <a:off x="942840" y="2162160"/>
            <a:ext cx="1000440" cy="255600"/>
          </a:xfrm>
          <a:prstGeom prst="rect">
            <a:avLst/>
          </a:prstGeom>
          <a:ln w="0">
            <a:noFill/>
          </a:ln>
        </p:spPr>
      </p:pic>
      <p:pic>
        <p:nvPicPr>
          <p:cNvPr id="454" name="Ink 17" descr=""/>
          <p:cNvPicPr/>
          <p:nvPr/>
        </p:nvPicPr>
        <p:blipFill>
          <a:blip r:embed="rId2"/>
          <a:stretch/>
        </p:blipFill>
        <p:spPr>
          <a:xfrm>
            <a:off x="942840" y="2593800"/>
            <a:ext cx="1079640" cy="250920"/>
          </a:xfrm>
          <a:prstGeom prst="rect">
            <a:avLst/>
          </a:prstGeom>
          <a:ln w="0">
            <a:noFill/>
          </a:ln>
        </p:spPr>
      </p:pic>
      <p:pic>
        <p:nvPicPr>
          <p:cNvPr id="455" name="Ink 18" descr=""/>
          <p:cNvPicPr/>
          <p:nvPr/>
        </p:nvPicPr>
        <p:blipFill>
          <a:blip r:embed="rId3"/>
          <a:stretch/>
        </p:blipFill>
        <p:spPr>
          <a:xfrm>
            <a:off x="1374840" y="3386160"/>
            <a:ext cx="165564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1:23:47Z</dcterms:created>
  <dc:creator>user</dc:creator>
  <dc:description/>
  <dc:language>en-US</dc:language>
  <cp:lastModifiedBy>safaa bassam</cp:lastModifiedBy>
  <dcterms:modified xsi:type="dcterms:W3CDTF">2016-09-23T08:39:23Z</dcterms:modified>
  <cp:revision>4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DA1098C655300498A04611AF6A7E116</vt:lpwstr>
  </property>
</Properties>
</file>