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01E90-6FE5-44E6-80CF-7BB0A25AF3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6EC08-47DD-45A0-958C-51EE8F3CD22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EE7C7-906A-48F3-91EF-ACF091F1199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D145-9FB0-49CB-9795-EE1A573D6B2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69CA9-3684-442A-ABE3-943EB362B0A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73156-0E83-4235-9748-AD877A26486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55FB2-5FCB-44F0-B31A-AAC088B21A4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91E3B-223B-416F-95CB-1AC430F4001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0ECB3-65DB-402C-836D-B08BB066463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A0C24-7534-48D8-B787-B15D3F2F4A8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DD40E-74E1-4DFF-BE07-258A6D68093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5CB9-A763-45B0-B74F-6674FAD9855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07BB9-7942-482B-B2CE-5CB8743CE4E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74D3A-9285-43EC-85DA-DE5D83EE2D2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158CB-09E4-48ED-A7A6-B0EA0E37AA9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B9973-52A8-49D7-BD29-F9F29D0A65C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33AE6-7A90-4E1B-A931-DCB1FE7924E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09F95-528C-4D5E-8701-2E2574C1F80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A7F10-226B-4010-8899-3B6103299FE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300D1-D196-4188-9675-30E1C7C0D9E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E0E9-E7B2-4390-AD1F-BE26E29CA7C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4932E-6422-4E83-8CDC-8C6D331F843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F2EDF-BC6E-4E07-91AC-FAD0849E962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FE5A-2DFA-454C-B527-EF8DBD685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FD2E-13B4-4485-B625-61ADD4D20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9F0394-AA2A-43DF-AC29-1842F372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4BD77C-6500-468A-B303-ECAD1DAD8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2A5186-21B9-4497-8DE6-2353E8B39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D39FF3-B1B2-4C82-8F0E-FB7B9B53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D7E0D3-AF95-45C4-BC19-4D8EC246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1B5D9E-2FF8-467C-9EE4-E34FBF1B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F7429E-2D89-461C-B228-252EE14C2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421816-61C1-455B-86B6-CD883E36F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69EB0A-8A18-4798-BCB9-B6490EEA6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3829-104A-40AB-835D-5757BA20F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BA31-B80E-4327-A4E1-456BB2B5D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306D2-9B2D-4943-8B27-A9090C1A2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DB4D9-09AC-4F64-99EC-DA23514E7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17D59-FA73-43CC-8855-F7419011A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FAA94-7B73-42F4-BA33-76E42BAB4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6CBEC-34CF-40A1-AF94-0139D1D94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4939B-0446-4643-82AA-88D5FA72C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633B0-52CE-41E1-A21F-38B0A009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75E4-7484-401B-8442-210E7573C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C8D3A-027A-4E3E-B541-AB8CCF86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CB313-44EE-41F6-8844-62BDC0DC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ED245-6190-4F24-909C-1A405FF9A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5E1E2-E570-4368-AE02-5DA80E912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F438F-2A66-4AF7-8630-4EE2B46FC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5A2421-8272-4D90-8D7C-B0BBD4B41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988B2D-EF0D-475F-AFD3-23363E57E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425B0A-DF79-4A1C-97FB-614950D1B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08F7A2-B4AE-4351-99F5-CF0279DC0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2FBED4-A448-4A86-8A2E-05EE1F130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9020-31D0-4392-BBBA-362D3AF8D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BA9AF3-B5A9-47CA-BAAF-C6815ADC9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B41A2C-463C-4AAB-BBED-3ADEE6E5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54B26D-9C44-418F-9CBA-416A4C16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29DEEE-4ED9-4572-B840-C354DE8A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BAABEA-7364-49BB-8B18-826C394E5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616B66-B7E9-4E10-BA44-1576E79EC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23F5F4-28FC-4AB8-84BC-04477EA6F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D90FEA-A669-43BC-9231-C14C8CEB0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599D30-377D-4B74-A078-7907025B0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3E29AD-B19B-4AA7-8DD9-984045A1E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08A7-328E-4156-BC51-42B6BEDAC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B40CF4-B6C8-48FD-8158-B7A583A20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CEB41F-EEA3-4020-AC65-2CD02679A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A9C146-1210-4CE1-A128-41073A5C0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1F5351-4BD6-41A4-A42C-790F2424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B57265-6965-4A18-AE36-21126761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ABA408-A68D-4918-8810-B7FF8E0D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9E70A1-E40D-4D8F-AF9D-11D9FAC51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371D18-4CB5-41A8-938C-8086A5EF0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31C743-DD25-4178-A1F5-9709B694D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BD0518-4965-40A4-A6EA-51660152E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DD3E-576B-430E-BBDD-EE03EE416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D38426-97EC-495B-9D8A-F22AADBA9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9FC7D0-DBC5-483C-8CCD-3926022D9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1B4A39-2F08-4540-86F3-1D6290DC7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37808A-FF8B-40E5-8311-8070ADA79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2EA30B-29CD-4CA2-8966-140246656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004071-24B7-41BC-A129-433FCA8E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59F03C-E985-4C9E-8993-08E575B3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4C9418-B1EB-4F64-ADBA-CF7D843A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31DC49-735C-49C5-9853-9EF956B0A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D7B226-CAB4-4FF4-9E0B-163CB1657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1E39-281F-417B-9094-4CF94009B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7A9948-CA45-47EA-AB33-4328A417C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5DB97-3175-43B2-97A8-D251408F3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0D91F-2E14-4379-B901-2276B4E4F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F5C87-6B0B-49C8-9D85-7DADE0396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23563-803C-480C-BDDB-843FF480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63465-53DC-4B63-B334-00BA46EF2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22962-0231-4D11-B69D-D0555AFAE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A8B27-5701-4CC3-B249-EFDF46BC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F0067-1D8F-48E6-97C1-B7512A66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227CE-875D-4DF6-A3CA-4F94C58E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631B-D07E-48C2-8FF7-A65FF069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631A83-3C0D-498F-9F1B-4F07EEE2C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949B2-458D-492B-8B92-DF366B795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267160-9FA5-4C8F-8D57-B6E3F3BDD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E857EB-B386-4E73-BF1D-C9AC9FBB8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569F7F-36D2-4411-AB34-B1B16EE41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87CCE7-E634-4371-A493-2C77CAB85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DB8E5A-D652-4844-BC6A-65C7E7076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D417D2-3274-4057-BC59-8A18173AA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4DEDC9-8B53-4C8C-9B0B-F94C5E90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0CDC12-0167-448E-A6B3-4606F43F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6649-D08E-46DF-AD42-E602846D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EC463D-C794-4EF2-8175-6569138C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EFD60D-3FDA-4DA4-9D53-E4D9F9B3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1DE9B2-9F5E-414E-B7D9-A6B1F9AFD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C11F16-3326-4EEC-AFBC-C5D4821E5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AD311B-B516-4EEC-AB99-B21F2A66F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82D491-8C95-467B-81C1-CC3127784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20A3CA-62EF-46A7-AABB-8A08621BC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72D5CE-7362-49D2-B3AD-8AF9B568B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FB6AC2-3CD5-42F4-8E4D-EEAA20739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F84F84-8B2D-40FD-BC14-1A24B367E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4841-7DD1-419A-A629-D59816AA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A80F50-909C-4258-B96F-F147FD79E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2FD9AE-7402-4C9E-B6D5-6230BD4E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8E26E-0C5F-4757-8DA3-728C2EB6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B21A39-C113-4DA6-9139-F8609A5A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A0A120-1D6A-4249-954B-E2BAFFF62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725502-1D52-4DA5-B8EC-0ACA14C67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C56ED-1F26-4922-ABAE-4285B7E0C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C68A35-2ECB-42DD-8406-A4915EED9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1F9152-DB82-4B72-A5D3-31E00E59C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91D322-6B19-42CB-BB6B-05A168A70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41A1A-E934-4096-AAE3-F6987B080217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83D9A-3690-49B3-8185-DFFC99A70429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A73CB-4A41-4576-8ACF-A2C47344B2D2}" type="datetime">
              <a:rPr b="0" lang="en-US" sz="2000" spc="-1" strike="noStrike">
                <a:solidFill>
                  <a:srgbClr val="ffffff"/>
                </a:solidFill>
                <a:latin typeface="Tw Cen MT"/>
              </a:rPr>
              <a:t>07/29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CA2A9-C828-4D5A-9894-1931BC311A59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0E684-11CA-44D9-9B16-A2B2E3A44C35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F4126-9298-416E-A728-B013C0E01A38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D261-FF2C-4765-8B62-1CE4F40121D5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9A9B5-7DAF-4247-9281-78EC75BB0C4B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E6D59-4E9F-48B3-852C-0C3C02227C75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EAA08-47DC-4444-855B-9B1481B7CF86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3E581-EADB-41C2-B342-4A630410FCD3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271AC-0468-43FB-A2CB-BCC2647A63EA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E74FC-40E0-4842-9F58-7E1621BC19B4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ED18D-AAEA-4959-9974-199391F7FAAB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DE150-C4DE-499D-A8CA-6A04B03A2B96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ACD67-6E49-44B9-9661-0C602760B7F8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35455-9CFB-4883-930A-1ABE58C485E6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w Cen MT"/>
              </a:rPr>
              <a:t>Page </a:t>
            </a:r>
            <a:fld id="{A8B42D61-4A51-4277-ACD0-522BA7604CE3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ebddc3"/>
                </a:solidFill>
                <a:latin typeface="Tw Cen MT"/>
                <a:ea typeface="Arial"/>
              </a:rPr>
              <a:t> </a:t>
            </a:r>
            <a:r>
              <a:rPr b="1" lang="en-US" sz="4000" spc="-1" strike="noStrike">
                <a:solidFill>
                  <a:srgbClr val="ebddc3"/>
                </a:solidFill>
                <a:latin typeface="Tw Cen MT"/>
                <a:ea typeface="Arial"/>
              </a:rPr>
              <a:t>C</a:t>
            </a:r>
            <a:r>
              <a:rPr b="0" lang="en-US" sz="4000" spc="-1" strike="noStrike">
                <a:solidFill>
                  <a:srgbClr val="ebddc3"/>
                </a:solidFill>
                <a:latin typeface="Tw Cen MT"/>
              </a:rPr>
              <a:t>HAPTER 1</a:t>
            </a:r>
            <a:br>
              <a:rPr sz="4000"/>
            </a:br>
            <a:r>
              <a:rPr b="0" lang="en-US" sz="4000" spc="-1" strike="noStrike">
                <a:solidFill>
                  <a:srgbClr val="ebddc3"/>
                </a:solidFill>
                <a:latin typeface="Tw Cen MT"/>
              </a:rPr>
              <a:t>INTRODUCTION</a:t>
            </a:r>
            <a:endParaRPr b="0" lang="en-US" sz="40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3" name="Footer Placeholder 5"/>
          <p:cNvSpPr/>
          <p:nvPr/>
        </p:nvSpPr>
        <p:spPr>
          <a:xfrm>
            <a:off x="324000" y="1125360"/>
            <a:ext cx="586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ddc3"/>
                </a:solidFill>
                <a:latin typeface="Tw Cen MT"/>
              </a:rPr>
              <a:t>King Saud University </a:t>
            </a:r>
            <a:br>
              <a:rPr sz="2000"/>
            </a:br>
            <a:r>
              <a:rPr b="1" lang="en-US" sz="2000" spc="-1" strike="noStrike">
                <a:solidFill>
                  <a:srgbClr val="ebddc3"/>
                </a:solidFill>
                <a:latin typeface="Tw Cen MT"/>
              </a:rPr>
              <a:t>College Of Applied Studies and Community Services  </a:t>
            </a:r>
            <a:br>
              <a:rPr sz="2400"/>
            </a:br>
            <a:r>
              <a:rPr b="1" lang="en-US" sz="2000" spc="-1" strike="noStrike">
                <a:solidFill>
                  <a:srgbClr val="ebddc3"/>
                </a:solidFill>
                <a:latin typeface="Tw Cen MT"/>
              </a:rPr>
              <a:t>CSC 1101</a:t>
            </a:r>
            <a:br>
              <a:rPr sz="2000"/>
            </a:br>
            <a:r>
              <a:rPr b="1" lang="en-US" sz="2000" spc="-1" strike="noStrike">
                <a:solidFill>
                  <a:srgbClr val="ebddc3"/>
                </a:solidFill>
                <a:latin typeface="Tw Cen MT"/>
              </a:rPr>
              <a:t>Computer Programming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ddc3"/>
                </a:solidFill>
                <a:latin typeface="Tw Cen MT"/>
              </a:rPr>
              <a:t>Done By: Asmal Alosai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ddc3"/>
                </a:solidFill>
                <a:latin typeface="Tw Cen MT"/>
              </a:rPr>
              <a:t>Edited By: Fatimah Alake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ddc3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Date Placeholder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Introduction to O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Dr. S. GANNOUNI &amp; Dr. A. TOU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F8232-4B56-4C6D-BB44-A17B713BB39A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Input and Outpu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Input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an come from many sources, such as users, files, and other program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an take on many forms, such as text, graphics, and soun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Output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an also take on many forms, such as numbers, text, graphics, sounds, or commands to other program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Date Placeholder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Introduction to O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Dr. S. GANNOUNI &amp; Dr. A. TOU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w Cen MT"/>
                <a:ea typeface="Arial"/>
              </a:rPr>
              <a:t> </a:t>
            </a:r>
            <a:fld id="{23B8DA82-4058-4920-BE14-09042498678B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Example 1</a:t>
            </a:r>
            <a:br>
              <a:rPr sz="4000"/>
            </a:b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Area and Perimeter of a rectangle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Length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width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rea = length*width   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erimeter = 2*( length + width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rea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erimete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Date Placeholder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Introduction to O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Dr. S. GANNOUNI &amp; Dr. A. TOU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w Cen MT"/>
                <a:ea typeface="Arial"/>
              </a:rPr>
              <a:t>Page </a:t>
            </a:r>
            <a:fld id="{5329B1B7-90CB-4275-B8A5-514F56922FD0}" type="slidenum">
              <a:rPr b="1" lang="en-US" sz="8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Example 2</a:t>
            </a:r>
            <a:br>
              <a:rPr sz="4000"/>
            </a:b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Sum and Average of 5 number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ive number x1, x2, x3, x4, x5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um = x1+x2+x3+x4+x5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verage = Sum/5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u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verag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Date Placeholder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Introduction to O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Dr. S. GANNOUNI &amp; Dr. A. TOU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w Cen MT"/>
                <a:ea typeface="Arial"/>
              </a:rPr>
              <a:t>Page </a:t>
            </a:r>
            <a:fld id="{547A5311-C783-4A89-8766-532206F0A292}" type="slidenum">
              <a:rPr b="1" lang="en-US" sz="8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Example 3</a:t>
            </a:r>
            <a:br>
              <a:rPr sz="4000"/>
            </a:b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Area and Perimeter of a circle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adiu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I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rea = PI * Radius * Radiu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erimeter = 2 * PI * Radiu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rea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erimete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2-Planning the Solution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7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7A781-B0B1-4AE5-8A92-7CE6EB5A85EC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685800" y="1600200"/>
            <a:ext cx="820728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When planning, algorithms are used to outline the solution steps using </a:t>
            </a: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English like statements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, called </a:t>
            </a:r>
            <a:r>
              <a:rPr b="1" i="1" lang="en-US" sz="2800" spc="-1" strike="noStrike">
                <a:solidFill>
                  <a:srgbClr val="b95b22"/>
                </a:solidFill>
                <a:latin typeface="Tw Cen MT"/>
              </a:rPr>
              <a:t>pseudocode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4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Arial"/>
              </a:rPr>
              <a:t>A </a:t>
            </a:r>
            <a:r>
              <a:rPr b="1" i="1" lang="en-US" sz="2800" spc="-1" strike="noStrike">
                <a:solidFill>
                  <a:srgbClr val="b95b22"/>
                </a:solidFill>
                <a:latin typeface="Tw Cen MT"/>
                <a:ea typeface="Arial"/>
              </a:rPr>
              <a:t>flowchart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Arial"/>
              </a:rPr>
              <a:t> is useful for the graphical representation of an algorithm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4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  <a:ea typeface="Arial"/>
              </a:rPr>
              <a:t>They are   drawn using rectangles, diamonds, ovals, and small circles.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4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5f55"/>
                </a:solidFill>
                <a:latin typeface="Tw Cen MT"/>
              </a:rPr>
              <a:t>Write a Program to Print the Sum of two integer Numbers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15880" y="1717560"/>
            <a:ext cx="55800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Start the progra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Read the first number and save in  the variable ( N1 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Read the second number and save in the variable ( N2 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Sum the both numbers and save the result in the variable ( Sum )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 Sum = N1 + N2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Print the variable ( Sum )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End the progra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18D87-F2B7-4586-961E-13E2D39413EA}" type="slidenum">
              <a:rPr b="1" lang="ar-SA" sz="12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4"/>
          <p:cNvSpPr/>
          <p:nvPr/>
        </p:nvSpPr>
        <p:spPr>
          <a:xfrm>
            <a:off x="5867280" y="1341360"/>
            <a:ext cx="2305080" cy="576360"/>
          </a:xfrm>
          <a:prstGeom prst="flowChartTerminator">
            <a:avLst/>
          </a:prstGeom>
          <a:solidFill>
            <a:srgbClr val="dd8047"/>
          </a:solidFill>
          <a:ln w="10080">
            <a:solidFill>
              <a:srgbClr val="dd8047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5"/>
          <p:cNvSpPr/>
          <p:nvPr/>
        </p:nvSpPr>
        <p:spPr>
          <a:xfrm>
            <a:off x="5796000" y="2276640"/>
            <a:ext cx="2448000" cy="502920"/>
          </a:xfrm>
          <a:prstGeom prst="flowChartInputOutput">
            <a:avLst/>
          </a:prstGeom>
          <a:solidFill>
            <a:srgbClr val="dd8047"/>
          </a:solidFill>
          <a:ln w="10080">
            <a:solidFill>
              <a:srgbClr val="dd8047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N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6"/>
          <p:cNvSpPr/>
          <p:nvPr/>
        </p:nvSpPr>
        <p:spPr>
          <a:xfrm>
            <a:off x="5726160" y="3141720"/>
            <a:ext cx="2590920" cy="503280"/>
          </a:xfrm>
          <a:prstGeom prst="flowChartInputOutput">
            <a:avLst/>
          </a:prstGeom>
          <a:solidFill>
            <a:srgbClr val="dd8047"/>
          </a:solidFill>
          <a:ln w="10080">
            <a:solidFill>
              <a:srgbClr val="dd8047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N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7"/>
          <p:cNvSpPr/>
          <p:nvPr/>
        </p:nvSpPr>
        <p:spPr>
          <a:xfrm>
            <a:off x="5726160" y="4005360"/>
            <a:ext cx="2590920" cy="720720"/>
          </a:xfrm>
          <a:prstGeom prst="flowChartProcess">
            <a:avLst/>
          </a:prstGeom>
          <a:solidFill>
            <a:srgbClr val="dd8047"/>
          </a:solidFill>
          <a:ln w="10080">
            <a:solidFill>
              <a:srgbClr val="dd8047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 = N1 + N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8"/>
          <p:cNvSpPr/>
          <p:nvPr/>
        </p:nvSpPr>
        <p:spPr>
          <a:xfrm>
            <a:off x="5726160" y="5084640"/>
            <a:ext cx="2590920" cy="576360"/>
          </a:xfrm>
          <a:prstGeom prst="flowChartInputOutput">
            <a:avLst/>
          </a:prstGeom>
          <a:solidFill>
            <a:srgbClr val="dd8047"/>
          </a:solidFill>
          <a:ln w="10080">
            <a:solidFill>
              <a:srgbClr val="dd8047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 S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9"/>
          <p:cNvSpPr/>
          <p:nvPr/>
        </p:nvSpPr>
        <p:spPr>
          <a:xfrm>
            <a:off x="5796000" y="6093000"/>
            <a:ext cx="2448000" cy="576000"/>
          </a:xfrm>
          <a:prstGeom prst="flowChartTerminator">
            <a:avLst/>
          </a:prstGeom>
          <a:solidFill>
            <a:srgbClr val="dd8047"/>
          </a:solidFill>
          <a:ln w="10080">
            <a:solidFill>
              <a:srgbClr val="dd8047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0" name="AutoShape 10"/>
          <p:cNvCxnSpPr>
            <a:stCxn id="484" idx="2"/>
            <a:endCxn id="485" idx="1"/>
          </p:cNvCxnSpPr>
          <p:nvPr/>
        </p:nvCxnSpPr>
        <p:spPr>
          <a:xfrm>
            <a:off x="7019640" y="1946160"/>
            <a:ext cx="1080" cy="302400"/>
          </a:xfrm>
          <a:prstGeom prst="straightConnector1">
            <a:avLst/>
          </a:prstGeom>
          <a:ln w="10080">
            <a:solidFill>
              <a:srgbClr val="dd8047"/>
            </a:solidFill>
            <a:miter/>
            <a:tailEnd len="med" type="triangle" w="med"/>
          </a:ln>
        </p:spPr>
      </p:cxnSp>
      <p:cxnSp>
        <p:nvCxnSpPr>
          <p:cNvPr id="491" name="AutoShape 11"/>
          <p:cNvCxnSpPr>
            <a:stCxn id="485" idx="4"/>
            <a:endCxn id="486" idx="1"/>
          </p:cNvCxnSpPr>
          <p:nvPr/>
        </p:nvCxnSpPr>
        <p:spPr>
          <a:xfrm>
            <a:off x="7020000" y="2808360"/>
            <a:ext cx="2160" cy="305280"/>
          </a:xfrm>
          <a:prstGeom prst="straightConnector1">
            <a:avLst/>
          </a:prstGeom>
          <a:ln w="10080">
            <a:solidFill>
              <a:srgbClr val="dd8047"/>
            </a:solidFill>
            <a:miter/>
            <a:tailEnd len="med" type="triangle" w="med"/>
          </a:ln>
        </p:spPr>
      </p:cxnSp>
      <p:cxnSp>
        <p:nvCxnSpPr>
          <p:cNvPr id="492" name="AutoShape 12"/>
          <p:cNvCxnSpPr>
            <a:stCxn id="486" idx="4"/>
            <a:endCxn id="487" idx="0"/>
          </p:cNvCxnSpPr>
          <p:nvPr/>
        </p:nvCxnSpPr>
        <p:spPr>
          <a:xfrm>
            <a:off x="7021080" y="3673440"/>
            <a:ext cx="1080" cy="303840"/>
          </a:xfrm>
          <a:prstGeom prst="straightConnector1">
            <a:avLst/>
          </a:prstGeom>
          <a:ln w="10080">
            <a:solidFill>
              <a:srgbClr val="dd8047"/>
            </a:solidFill>
            <a:miter/>
            <a:tailEnd len="med" type="triangle" w="med"/>
          </a:ln>
        </p:spPr>
      </p:cxnSp>
      <p:cxnSp>
        <p:nvCxnSpPr>
          <p:cNvPr id="493" name="AutoShape 13"/>
          <p:cNvCxnSpPr>
            <a:stCxn id="487" idx="2"/>
            <a:endCxn id="488" idx="1"/>
          </p:cNvCxnSpPr>
          <p:nvPr/>
        </p:nvCxnSpPr>
        <p:spPr>
          <a:xfrm>
            <a:off x="7021080" y="4754520"/>
            <a:ext cx="1080" cy="302400"/>
          </a:xfrm>
          <a:prstGeom prst="straightConnector1">
            <a:avLst/>
          </a:prstGeom>
          <a:ln w="10080">
            <a:solidFill>
              <a:srgbClr val="dd8047"/>
            </a:solidFill>
            <a:miter/>
            <a:tailEnd len="med" type="triangle" w="med"/>
          </a:ln>
        </p:spPr>
      </p:cxnSp>
      <p:cxnSp>
        <p:nvCxnSpPr>
          <p:cNvPr id="494" name="AutoShape 14"/>
          <p:cNvCxnSpPr>
            <a:stCxn id="488" idx="4"/>
            <a:endCxn id="489" idx="0"/>
          </p:cNvCxnSpPr>
          <p:nvPr/>
        </p:nvCxnSpPr>
        <p:spPr>
          <a:xfrm flipH="1">
            <a:off x="7019640" y="5689080"/>
            <a:ext cx="2160" cy="375480"/>
          </a:xfrm>
          <a:prstGeom prst="straightConnector1">
            <a:avLst/>
          </a:prstGeom>
          <a:ln w="10080">
            <a:solidFill>
              <a:srgbClr val="dd8047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430200"/>
            <a:ext cx="6870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3-Coding the Program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6" name="Footer Placeholder 1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4A0C7-7A05-4E2A-A066-1456886534F7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228240" y="1700280"/>
            <a:ext cx="8736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Coding is writing the program in a formal language called </a:t>
            </a:r>
            <a:r>
              <a:rPr b="0" lang="en-US" sz="2800" spc="-1" strike="noStrike">
                <a:solidFill>
                  <a:srgbClr val="ff0000"/>
                </a:solidFill>
                <a:latin typeface="Tw Cen MT"/>
              </a:rPr>
              <a:t>Programming Language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Programming Language 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A set of rules, symbols and special words used to write statement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he program is written by translating the algorithm steps into a programming language statements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he written program is called </a:t>
            </a:r>
            <a:r>
              <a:rPr b="1" i="1" lang="en-US" sz="2800" spc="-1" strike="noStrike">
                <a:solidFill>
                  <a:srgbClr val="775f55"/>
                </a:solidFill>
                <a:latin typeface="Tw Cen MT"/>
              </a:rPr>
              <a:t>Source code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and it is saved in a file with “.cpp” extension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499" name="Group 14"/>
          <p:cNvGrpSpPr/>
          <p:nvPr/>
        </p:nvGrpSpPr>
        <p:grpSpPr>
          <a:xfrm>
            <a:off x="5486400" y="4797360"/>
            <a:ext cx="3051360" cy="1785600"/>
            <a:chOff x="5486400" y="4797360"/>
            <a:chExt cx="3051360" cy="1785600"/>
          </a:xfrm>
        </p:grpSpPr>
        <p:sp>
          <p:nvSpPr>
            <p:cNvPr id="500" name="Line 2"/>
            <p:cNvSpPr/>
            <p:nvPr/>
          </p:nvSpPr>
          <p:spPr>
            <a:xfrm>
              <a:off x="7772400" y="510192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Text Box 3"/>
            <p:cNvSpPr/>
            <p:nvPr/>
          </p:nvSpPr>
          <p:spPr>
            <a:xfrm>
              <a:off x="5607000" y="5940360"/>
              <a:ext cx="11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Progr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4"/>
            <p:cNvSpPr/>
            <p:nvPr/>
          </p:nvSpPr>
          <p:spPr>
            <a:xfrm>
              <a:off x="6172200" y="510192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3" name="Group 5"/>
            <p:cNvGrpSpPr/>
            <p:nvPr/>
          </p:nvGrpSpPr>
          <p:grpSpPr>
            <a:xfrm>
              <a:off x="5486400" y="5254560"/>
              <a:ext cx="1371600" cy="533160"/>
              <a:chOff x="5486400" y="5254560"/>
              <a:chExt cx="1371600" cy="533160"/>
            </a:xfrm>
          </p:grpSpPr>
          <p:sp>
            <p:nvSpPr>
              <p:cNvPr id="504" name="Oval 6"/>
              <p:cNvSpPr/>
              <p:nvPr/>
            </p:nvSpPr>
            <p:spPr>
              <a:xfrm>
                <a:off x="5486400" y="5254560"/>
                <a:ext cx="1371600" cy="533160"/>
              </a:xfrm>
              <a:prstGeom prst="ellipse">
                <a:avLst/>
              </a:prstGeom>
              <a:solidFill>
                <a:srgbClr val="94b6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Text Box 7"/>
              <p:cNvSpPr/>
              <p:nvPr/>
            </p:nvSpPr>
            <p:spPr>
              <a:xfrm>
                <a:off x="5698440" y="5337000"/>
                <a:ext cx="945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75f55"/>
                    </a:solidFill>
                    <a:latin typeface="Comic Sans MS"/>
                    <a:ea typeface="Arial"/>
                  </a:rPr>
                  <a:t>Codin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6" name="Text Box 10"/>
            <p:cNvSpPr/>
            <p:nvPr/>
          </p:nvSpPr>
          <p:spPr>
            <a:xfrm>
              <a:off x="5544000" y="4797360"/>
              <a:ext cx="125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Algorith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 Box 11"/>
            <p:cNvSpPr/>
            <p:nvPr/>
          </p:nvSpPr>
          <p:spPr>
            <a:xfrm>
              <a:off x="6976080" y="4797360"/>
              <a:ext cx="149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7b615"/>
                  </a:solidFill>
                  <a:latin typeface="Comic Sans MS"/>
                  <a:ea typeface="Arial"/>
                </a:rPr>
                <a:t>Pseudoco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Text Box 12"/>
            <p:cNvSpPr/>
            <p:nvPr/>
          </p:nvSpPr>
          <p:spPr>
            <a:xfrm>
              <a:off x="7005240" y="5940360"/>
              <a:ext cx="1532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7b615"/>
                  </a:solidFill>
                  <a:latin typeface="Comic Sans MS"/>
                  <a:ea typeface="Arial"/>
                </a:rPr>
                <a:t>Source Co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7b615"/>
                  </a:solidFill>
                  <a:latin typeface="Comic Sans MS"/>
                  <a:ea typeface="Arial"/>
                </a:rPr>
                <a:t>(The “.cpp”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13"/>
            <p:cNvSpPr/>
            <p:nvPr/>
          </p:nvSpPr>
          <p:spPr>
            <a:xfrm>
              <a:off x="7076160" y="5330520"/>
              <a:ext cx="1392480" cy="368280"/>
            </a:xfrm>
            <a:prstGeom prst="rect">
              <a:avLst/>
            </a:prstGeom>
            <a:solidFill>
              <a:srgbClr val="94b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75f55"/>
                  </a:solidFill>
                  <a:latin typeface="Comic Sans MS"/>
                  <a:ea typeface="Arial"/>
                </a:rPr>
                <a:t>Transla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Why Coding in Programming Languages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11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1A53F-2138-42C3-97C1-DEBD96875FDB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9144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We write computer programs (i.e. a set of instructions) in programming languages such as C, C++, and Java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We use these programming languages because they are easily understood by human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But then how does the computer understand the instructions that we write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52240" y="4302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4-Compiling Computer Program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15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lide Number Placeholder 17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704C1-FF70-44B0-BAB0-2A100E4918DF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762120" y="15238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86920" indent="-2869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0000"/>
                </a:solidFill>
                <a:latin typeface="Tw Cen MT"/>
              </a:rPr>
              <a:t>Computers do not understand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programs written in </a:t>
            </a:r>
            <a:r>
              <a:rPr b="0" i="1" lang="en-US" sz="2600" spc="-1" strike="noStrike">
                <a:solidFill>
                  <a:srgbClr val="ff0000"/>
                </a:solidFill>
                <a:latin typeface="Tw Cen MT"/>
              </a:rPr>
              <a:t>programming languages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such as  C, C++ and Jav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w Cen MT"/>
              </a:rPr>
              <a:t>Programs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must first be </a:t>
            </a:r>
            <a:r>
              <a:rPr b="0" i="1" lang="en-US" sz="2600" spc="-1" strike="noStrike">
                <a:solidFill>
                  <a:srgbClr val="ff0000"/>
                </a:solidFill>
                <a:latin typeface="Tw Cen MT"/>
              </a:rPr>
              <a:t>converted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i="1" lang="en-US" sz="2600" spc="-1" strike="noStrike">
                <a:solidFill>
                  <a:srgbClr val="ff0000"/>
                </a:solidFill>
                <a:latin typeface="Tw Cen MT"/>
              </a:rPr>
              <a:t>into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i="1" lang="en-US" sz="2600" spc="-1" strike="noStrike">
                <a:solidFill>
                  <a:srgbClr val="ff0000"/>
                </a:solidFill>
                <a:latin typeface="Tw Cen MT"/>
              </a:rPr>
              <a:t>machine code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that the computer can ru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 Software that </a:t>
            </a:r>
            <a:r>
              <a:rPr b="0" i="1" lang="en-US" sz="2600" spc="-1" strike="noStrike">
                <a:solidFill>
                  <a:srgbClr val="ff0000"/>
                </a:solidFill>
                <a:latin typeface="Tw Cen MT"/>
              </a:rPr>
              <a:t>translates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a programming language statements into machine code is called a </a:t>
            </a:r>
            <a:r>
              <a:rPr b="1" i="1" lang="en-US" sz="2600" spc="-1" strike="noStrike">
                <a:solidFill>
                  <a:srgbClr val="775f55"/>
                </a:solidFill>
                <a:latin typeface="Tw Cen MT"/>
              </a:rPr>
              <a:t>compiler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n C , </a:t>
            </a:r>
            <a:r>
              <a:rPr b="1" i="1" lang="en-US" sz="2600" spc="-1" strike="noStrike">
                <a:solidFill>
                  <a:srgbClr val="000000"/>
                </a:solidFill>
                <a:latin typeface="Tw Cen MT"/>
              </a:rPr>
              <a:t>Preprocessor</a:t>
            </a:r>
            <a:r>
              <a:rPr b="1" lang="en-US" sz="2600" spc="-1" strike="noStrike">
                <a:solidFill>
                  <a:srgbClr val="ff0000"/>
                </a:solidFill>
                <a:latin typeface="Tw Cen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rogram, execute automatically before the compiler translation phase begin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75640" indent="-2455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Preprocessor</a:t>
            </a:r>
            <a:r>
              <a:rPr b="1" lang="en-US" sz="2200" spc="-1" strike="noStrike">
                <a:solidFill>
                  <a:srgbClr val="ff0000"/>
                </a:solidFill>
                <a:latin typeface="Tw Cen MT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indicate that certain manipulations are to be performed on the program before compilation.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1" marL="575640" indent="-2455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518" name="Group 14"/>
          <p:cNvGrpSpPr/>
          <p:nvPr/>
        </p:nvGrpSpPr>
        <p:grpSpPr>
          <a:xfrm>
            <a:off x="5886000" y="4941720"/>
            <a:ext cx="3289680" cy="1511280"/>
            <a:chOff x="5886000" y="4941720"/>
            <a:chExt cx="3289680" cy="1511280"/>
          </a:xfrm>
        </p:grpSpPr>
        <p:sp>
          <p:nvSpPr>
            <p:cNvPr id="519" name="Line 4"/>
            <p:cNvSpPr/>
            <p:nvPr/>
          </p:nvSpPr>
          <p:spPr>
            <a:xfrm>
              <a:off x="8319960" y="527832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 Box 5"/>
            <p:cNvSpPr/>
            <p:nvPr/>
          </p:nvSpPr>
          <p:spPr>
            <a:xfrm>
              <a:off x="5886000" y="6084720"/>
              <a:ext cx="167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Machine co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6"/>
            <p:cNvSpPr/>
            <p:nvPr/>
          </p:nvSpPr>
          <p:spPr>
            <a:xfrm>
              <a:off x="6719760" y="524628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 Box 7"/>
            <p:cNvSpPr/>
            <p:nvPr/>
          </p:nvSpPr>
          <p:spPr>
            <a:xfrm>
              <a:off x="6154920" y="4941720"/>
              <a:ext cx="11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Progr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 Box 8"/>
            <p:cNvSpPr/>
            <p:nvPr/>
          </p:nvSpPr>
          <p:spPr>
            <a:xfrm>
              <a:off x="7567920" y="4941720"/>
              <a:ext cx="149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7b615"/>
                  </a:solidFill>
                  <a:latin typeface="Comic Sans MS"/>
                  <a:ea typeface="Arial"/>
                </a:rPr>
                <a:t>Source co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 Box 9"/>
            <p:cNvSpPr/>
            <p:nvPr/>
          </p:nvSpPr>
          <p:spPr>
            <a:xfrm>
              <a:off x="7464960" y="6084720"/>
              <a:ext cx="171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7b615"/>
                  </a:solidFill>
                  <a:latin typeface="Comic Sans MS"/>
                  <a:ea typeface="Arial"/>
                </a:rPr>
                <a:t>Machine Co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10"/>
            <p:cNvSpPr/>
            <p:nvPr/>
          </p:nvSpPr>
          <p:spPr>
            <a:xfrm>
              <a:off x="7623720" y="5474880"/>
              <a:ext cx="1392480" cy="368280"/>
            </a:xfrm>
            <a:prstGeom prst="rect">
              <a:avLst/>
            </a:prstGeom>
            <a:solidFill>
              <a:srgbClr val="94b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75f55"/>
                  </a:solidFill>
                  <a:latin typeface="Comic Sans MS"/>
                  <a:ea typeface="Arial"/>
                </a:rPr>
                <a:t>Transla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6" name="Group 11"/>
            <p:cNvGrpSpPr/>
            <p:nvPr/>
          </p:nvGrpSpPr>
          <p:grpSpPr>
            <a:xfrm>
              <a:off x="6033960" y="5354280"/>
              <a:ext cx="1371600" cy="533160"/>
              <a:chOff x="6033960" y="5354280"/>
              <a:chExt cx="1371600" cy="533160"/>
            </a:xfrm>
          </p:grpSpPr>
          <p:sp>
            <p:nvSpPr>
              <p:cNvPr id="527" name="Oval 12"/>
              <p:cNvSpPr/>
              <p:nvPr/>
            </p:nvSpPr>
            <p:spPr>
              <a:xfrm>
                <a:off x="6033960" y="5354280"/>
                <a:ext cx="1371600" cy="533160"/>
              </a:xfrm>
              <a:prstGeom prst="ellipse">
                <a:avLst/>
              </a:prstGeom>
              <a:solidFill>
                <a:srgbClr val="94b6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Text Box 13"/>
              <p:cNvSpPr/>
              <p:nvPr/>
            </p:nvSpPr>
            <p:spPr>
              <a:xfrm>
                <a:off x="6082560" y="5436720"/>
                <a:ext cx="1278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75f55"/>
                    </a:solidFill>
                    <a:latin typeface="Comic Sans MS"/>
                    <a:ea typeface="Arial"/>
                  </a:rPr>
                  <a:t>Compilin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39640" y="35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Programming Language Compiler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0" name="Footer Placeholder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lide Number Placeholder 7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6D336-EDC3-4787-9DE7-C4244850F133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762120" y="14479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 compiler is a software that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0000"/>
                </a:solidFill>
                <a:latin typeface="Tw Cen MT"/>
              </a:rPr>
              <a:t>Checks the correctness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of the source code according to the language rules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775f55"/>
                </a:solidFill>
                <a:latin typeface="Tw Cen MT"/>
              </a:rPr>
              <a:t>Syntax errors</a:t>
            </a: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 are raised if some rules were violated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0000"/>
                </a:solidFill>
                <a:latin typeface="Tw Cen MT"/>
              </a:rPr>
              <a:t>Translates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the source code into a machine code if no errors were found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440" y="54900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What Is a Computer?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0556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Computer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Executes statements (computations/logical decisions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Hardware :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hysical devices of computer syste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Software: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rograms that run on computer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406" name="Object 4"/>
          <p:cNvGraphicFramePr/>
          <p:nvPr/>
        </p:nvGraphicFramePr>
        <p:xfrm>
          <a:off x="1403280" y="3678120"/>
          <a:ext cx="6121440" cy="27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678120"/>
                    <a:ext cx="6121440" cy="27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Footer Placeholder 9"/>
          <p:cNvSpPr/>
          <p:nvPr/>
        </p:nvSpPr>
        <p:spPr>
          <a:xfrm>
            <a:off x="611280" y="6492960"/>
            <a:ext cx="5421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8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25461-B1A4-46C7-94FC-45C3BCD6508A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5-Running The Progra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4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96051-B0DC-4FF1-9B62-AF574B7D5819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293400" indent="-2934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95b22"/>
                </a:solidFill>
                <a:latin typeface="Times New Roman"/>
                <a:ea typeface="Times New Roman"/>
              </a:rPr>
              <a:t>Before  running..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293400" indent="-293400">
              <a:lnSpc>
                <a:spcPct val="7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links the object code with the code for the missing functions to produce an executable image (with no missing pieces) , this is called </a:t>
            </a:r>
            <a:r>
              <a:rPr b="1" lang="en-US" sz="2600" spc="-1" strike="noStrike">
                <a:solidFill>
                  <a:srgbClr val="000000"/>
                </a:solidFill>
                <a:latin typeface="Tw Cen MT"/>
              </a:rPr>
              <a:t>link phase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293400" indent="-293400">
              <a:lnSpc>
                <a:spcPct val="7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293400" indent="-293400">
              <a:lnSpc>
                <a:spcPct val="7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f the program compiles and links correctly, a file called a.out is produced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293400" indent="-293400">
              <a:lnSpc>
                <a:spcPct val="7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293400" indent="-293400">
              <a:lnSpc>
                <a:spcPct val="7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Before a program can be executed, the program must first be placed in memory this called </a:t>
            </a:r>
            <a:r>
              <a:rPr b="1" lang="en-US" sz="2600" spc="-1" strike="noStrike">
                <a:solidFill>
                  <a:srgbClr val="000000"/>
                </a:solidFill>
                <a:latin typeface="Tw Cen MT"/>
              </a:rPr>
              <a:t>load phase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293400" indent="-293400">
              <a:lnSpc>
                <a:spcPct val="7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computer, under the control of its CPU, 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execute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the program one instruction at a tim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6-Testing and Debugging the Program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8" name="Footer Placeholder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lide Number Placeholder 7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8F7EB-BE39-488A-BF43-597F39D306C9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179280" y="1844640"/>
            <a:ext cx="8640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Testing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Be sure that the output of the program conforms with the input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There are two types of errors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868680" indent="-217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75f55"/>
                </a:solidFill>
                <a:latin typeface="Tw Cen MT"/>
              </a:rPr>
              <a:t>Logical Errors:</a:t>
            </a:r>
            <a:r>
              <a:rPr b="1" lang="en-US" sz="2100" spc="-1" strike="noStrike">
                <a:solidFill>
                  <a:srgbClr val="704404"/>
                </a:solidFill>
                <a:latin typeface="Tw Cen MT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w Cen MT"/>
              </a:rPr>
              <a:t>The program run but provides wrong output.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2" marL="868680" indent="-217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75f55"/>
                </a:solidFill>
                <a:latin typeface="Tw Cen MT"/>
              </a:rPr>
              <a:t>Runtime errors:</a:t>
            </a:r>
            <a:r>
              <a:rPr b="1" lang="en-US" sz="2100" spc="-1" strike="noStrike">
                <a:solidFill>
                  <a:srgbClr val="704404"/>
                </a:solidFill>
                <a:latin typeface="Tw Cen MT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w Cen MT"/>
              </a:rPr>
              <a:t>The program stop running suddenly when asking the OS executing a non accepted statement (divide by zero, etc).</a:t>
            </a:r>
            <a:r>
              <a:rPr b="1" lang="en-US" sz="2100" spc="-1" strike="noStrike">
                <a:solidFill>
                  <a:srgbClr val="704404"/>
                </a:solidFill>
                <a:latin typeface="Tw Cen MT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Debugging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ind, Understand and correct the erro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Slide Number Placeholder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F1400-FCB2-447F-A9FB-FE03E79455D0}" type="slidenum">
              <a:rPr b="0" lang="en-US" sz="1400" spc="-1" strike="noStrike">
                <a:solidFill>
                  <a:srgbClr val="775f55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509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 </a:t>
            </a: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Basics of a Typical C++ Environment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3" name="Text Box 3"/>
          <p:cNvSpPr/>
          <p:nvPr/>
        </p:nvSpPr>
        <p:spPr>
          <a:xfrm>
            <a:off x="152280" y="1733400"/>
            <a:ext cx="4724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Phases of C++ Progra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E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Pre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omp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Execu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Group 157"/>
          <p:cNvGrpSpPr/>
          <p:nvPr/>
        </p:nvGrpSpPr>
        <p:grpSpPr>
          <a:xfrm>
            <a:off x="4187880" y="1057320"/>
            <a:ext cx="4656240" cy="5571720"/>
            <a:chOff x="4187880" y="1057320"/>
            <a:chExt cx="4656240" cy="5571720"/>
          </a:xfrm>
        </p:grpSpPr>
        <p:sp>
          <p:nvSpPr>
            <p:cNvPr id="545" name="Freeform 5"/>
            <p:cNvSpPr/>
            <p:nvPr/>
          </p:nvSpPr>
          <p:spPr>
            <a:xfrm>
              <a:off x="4187880" y="3627720"/>
              <a:ext cx="1200240" cy="457200"/>
            </a:xfrm>
            <a:custGeom>
              <a:avLst/>
              <a:gdLst>
                <a:gd name="textAreaLeft" fmla="*/ 0 w 1200240"/>
                <a:gd name="textAreaRight" fmla="*/ 1200600 w 120024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0000" h="20000">
                  <a:moveTo>
                    <a:pt x="19988" y="0"/>
                  </a:moveTo>
                  <a:lnTo>
                    <a:pt x="19988" y="19972"/>
                  </a:lnTo>
                  <a:lnTo>
                    <a:pt x="0" y="19972"/>
                  </a:lnTo>
                  <a:lnTo>
                    <a:pt x="0" y="0"/>
                  </a:lnTo>
                  <a:lnTo>
                    <a:pt x="19988" y="0"/>
                  </a:lnTo>
                  <a:close/>
                </a:path>
              </a:pathLst>
            </a:custGeom>
            <a:solidFill>
              <a:srgbClr val="4db3e6"/>
            </a:solidFill>
            <a:ln w="324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6"/>
            <p:cNvSpPr/>
            <p:nvPr/>
          </p:nvSpPr>
          <p:spPr>
            <a:xfrm>
              <a:off x="4187880" y="2300400"/>
              <a:ext cx="1200240" cy="457200"/>
            </a:xfrm>
            <a:custGeom>
              <a:avLst/>
              <a:gdLst>
                <a:gd name="textAreaLeft" fmla="*/ 0 w 1200240"/>
                <a:gd name="textAreaRight" fmla="*/ 1200600 w 120024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0000" h="20000">
                  <a:moveTo>
                    <a:pt x="19988" y="0"/>
                  </a:moveTo>
                  <a:lnTo>
                    <a:pt x="19988" y="19972"/>
                  </a:lnTo>
                  <a:lnTo>
                    <a:pt x="0" y="19972"/>
                  </a:lnTo>
                  <a:lnTo>
                    <a:pt x="0" y="0"/>
                  </a:lnTo>
                  <a:lnTo>
                    <a:pt x="19988" y="0"/>
                  </a:lnTo>
                  <a:close/>
                </a:path>
              </a:pathLst>
            </a:custGeom>
            <a:solidFill>
              <a:srgbClr val="4db3e6"/>
            </a:solidFill>
            <a:ln w="324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7"/>
            <p:cNvSpPr/>
            <p:nvPr/>
          </p:nvSpPr>
          <p:spPr>
            <a:xfrm>
              <a:off x="4187880" y="3627720"/>
              <a:ext cx="1200240" cy="457200"/>
            </a:xfrm>
            <a:custGeom>
              <a:avLst/>
              <a:gdLst>
                <a:gd name="textAreaLeft" fmla="*/ 0 w 1200240"/>
                <a:gd name="textAreaRight" fmla="*/ 1200600 w 120024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0000" h="20000">
                  <a:moveTo>
                    <a:pt x="19988" y="0"/>
                  </a:moveTo>
                  <a:lnTo>
                    <a:pt x="19988" y="19972"/>
                  </a:lnTo>
                  <a:lnTo>
                    <a:pt x="0" y="19972"/>
                  </a:lnTo>
                  <a:lnTo>
                    <a:pt x="0" y="0"/>
                  </a:lnTo>
                  <a:lnTo>
                    <a:pt x="19988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Rectangle 8"/>
            <p:cNvSpPr/>
            <p:nvPr/>
          </p:nvSpPr>
          <p:spPr>
            <a:xfrm>
              <a:off x="4514760" y="3772080"/>
              <a:ext cx="542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Mincho"/>
                </a:rPr>
                <a:t>Load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9"/>
            <p:cNvSpPr/>
            <p:nvPr/>
          </p:nvSpPr>
          <p:spPr>
            <a:xfrm>
              <a:off x="5391000" y="1295640"/>
              <a:ext cx="5144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10"/>
            <p:cNvSpPr/>
            <p:nvPr/>
          </p:nvSpPr>
          <p:spPr>
            <a:xfrm>
              <a:off x="5391000" y="1919520"/>
              <a:ext cx="5144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11"/>
            <p:cNvSpPr/>
            <p:nvPr/>
          </p:nvSpPr>
          <p:spPr>
            <a:xfrm>
              <a:off x="5391000" y="3856320"/>
              <a:ext cx="5144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12"/>
            <p:cNvSpPr/>
            <p:nvPr/>
          </p:nvSpPr>
          <p:spPr>
            <a:xfrm>
              <a:off x="5905440" y="3514680"/>
              <a:ext cx="77148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2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vantGarde"/>
                  <a:ea typeface="Arial"/>
                </a:rPr>
                <a:t>Prima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vantGarde"/>
                  <a:ea typeface="Arial"/>
                </a:rPr>
                <a:t>Memo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3"/>
            <p:cNvSpPr/>
            <p:nvPr/>
          </p:nvSpPr>
          <p:spPr>
            <a:xfrm>
              <a:off x="5391000" y="5456520"/>
              <a:ext cx="5144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4" name="Group 14"/>
            <p:cNvGrpSpPr/>
            <p:nvPr/>
          </p:nvGrpSpPr>
          <p:grpSpPr>
            <a:xfrm>
              <a:off x="6762600" y="3505320"/>
              <a:ext cx="171360" cy="1523520"/>
              <a:chOff x="6762600" y="3505320"/>
              <a:chExt cx="171360" cy="1523520"/>
            </a:xfrm>
          </p:grpSpPr>
          <p:sp>
            <p:nvSpPr>
              <p:cNvPr id="555" name="Arc 15"/>
              <p:cNvSpPr/>
              <p:nvPr/>
            </p:nvSpPr>
            <p:spPr>
              <a:xfrm>
                <a:off x="6762600" y="3505320"/>
                <a:ext cx="86040" cy="38124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381240"/>
                  <a:gd name="textAreaBottom" fmla="*/ 381600 h 3812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Arc 16"/>
              <p:cNvSpPr/>
              <p:nvPr/>
            </p:nvSpPr>
            <p:spPr>
              <a:xfrm flipV="1">
                <a:off x="6762600" y="4647240"/>
                <a:ext cx="86040" cy="38124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-360 h 381240"/>
                  <a:gd name="textAreaBottom" fmla="*/ 381240 h 3812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Arc 17"/>
              <p:cNvSpPr/>
              <p:nvPr/>
            </p:nvSpPr>
            <p:spPr>
              <a:xfrm flipH="1">
                <a:off x="6847560" y="4267080"/>
                <a:ext cx="86040" cy="381240"/>
              </a:xfrm>
              <a:custGeom>
                <a:avLst/>
                <a:gdLst>
                  <a:gd name="textAreaLeft" fmla="*/ -360 w 86040"/>
                  <a:gd name="textAreaRight" fmla="*/ 86040 w 86040"/>
                  <a:gd name="textAreaTop" fmla="*/ 0 h 381240"/>
                  <a:gd name="textAreaBottom" fmla="*/ 381600 h 3812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Arc 18"/>
              <p:cNvSpPr/>
              <p:nvPr/>
            </p:nvSpPr>
            <p:spPr>
              <a:xfrm flipH="1" flipV="1">
                <a:off x="6847560" y="3885480"/>
                <a:ext cx="86040" cy="381240"/>
              </a:xfrm>
              <a:custGeom>
                <a:avLst/>
                <a:gdLst>
                  <a:gd name="textAreaLeft" fmla="*/ -360 w 86040"/>
                  <a:gd name="textAreaRight" fmla="*/ 86040 w 86040"/>
                  <a:gd name="textAreaTop" fmla="*/ -360 h 381240"/>
                  <a:gd name="textAreaBottom" fmla="*/ 381240 h 3812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" name="Group 19"/>
            <p:cNvGrpSpPr/>
            <p:nvPr/>
          </p:nvGrpSpPr>
          <p:grpSpPr>
            <a:xfrm>
              <a:off x="6762600" y="5105520"/>
              <a:ext cx="171360" cy="1523520"/>
              <a:chOff x="6762600" y="5105520"/>
              <a:chExt cx="171360" cy="1523520"/>
            </a:xfrm>
          </p:grpSpPr>
          <p:sp>
            <p:nvSpPr>
              <p:cNvPr id="560" name="Arc 20"/>
              <p:cNvSpPr/>
              <p:nvPr/>
            </p:nvSpPr>
            <p:spPr>
              <a:xfrm>
                <a:off x="6762600" y="5105520"/>
                <a:ext cx="86040" cy="38124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381240"/>
                  <a:gd name="textAreaBottom" fmla="*/ 381600 h 3812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Arc 21"/>
              <p:cNvSpPr/>
              <p:nvPr/>
            </p:nvSpPr>
            <p:spPr>
              <a:xfrm flipV="1">
                <a:off x="6762600" y="6247440"/>
                <a:ext cx="86040" cy="38124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-360 h 381240"/>
                  <a:gd name="textAreaBottom" fmla="*/ 381240 h 3812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Arc 22"/>
              <p:cNvSpPr/>
              <p:nvPr/>
            </p:nvSpPr>
            <p:spPr>
              <a:xfrm flipH="1">
                <a:off x="6847560" y="5867280"/>
                <a:ext cx="86040" cy="381240"/>
              </a:xfrm>
              <a:custGeom>
                <a:avLst/>
                <a:gdLst>
                  <a:gd name="textAreaLeft" fmla="*/ -360 w 86040"/>
                  <a:gd name="textAreaRight" fmla="*/ 86040 w 86040"/>
                  <a:gd name="textAreaTop" fmla="*/ 0 h 381240"/>
                  <a:gd name="textAreaBottom" fmla="*/ 381600 h 3812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Arc 23"/>
              <p:cNvSpPr/>
              <p:nvPr/>
            </p:nvSpPr>
            <p:spPr>
              <a:xfrm flipH="1" flipV="1">
                <a:off x="6847560" y="5485680"/>
                <a:ext cx="86040" cy="381240"/>
              </a:xfrm>
              <a:custGeom>
                <a:avLst/>
                <a:gdLst>
                  <a:gd name="textAreaLeft" fmla="*/ -360 w 86040"/>
                  <a:gd name="textAreaRight" fmla="*/ 86040 w 86040"/>
                  <a:gd name="textAreaTop" fmla="*/ -360 h 381240"/>
                  <a:gd name="textAreaBottom" fmla="*/ 381240 h 3812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4" name="Group 24"/>
            <p:cNvGrpSpPr/>
            <p:nvPr/>
          </p:nvGrpSpPr>
          <p:grpSpPr>
            <a:xfrm>
              <a:off x="6762600" y="1067040"/>
              <a:ext cx="171360" cy="456840"/>
              <a:chOff x="6762600" y="1067040"/>
              <a:chExt cx="171360" cy="456840"/>
            </a:xfrm>
          </p:grpSpPr>
          <p:sp>
            <p:nvSpPr>
              <p:cNvPr id="565" name="Arc 25"/>
              <p:cNvSpPr/>
              <p:nvPr/>
            </p:nvSpPr>
            <p:spPr>
              <a:xfrm>
                <a:off x="6762600" y="1067040"/>
                <a:ext cx="86040" cy="11484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Arc 26"/>
              <p:cNvSpPr/>
              <p:nvPr/>
            </p:nvSpPr>
            <p:spPr>
              <a:xfrm flipV="1">
                <a:off x="6762600" y="1408680"/>
                <a:ext cx="86040" cy="11484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-360 h 114840"/>
                  <a:gd name="textAreaBottom" fmla="*/ 114840 h 1148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Arc 27"/>
              <p:cNvSpPr/>
              <p:nvPr/>
            </p:nvSpPr>
            <p:spPr>
              <a:xfrm flipH="1">
                <a:off x="6847560" y="1295280"/>
                <a:ext cx="86040" cy="114840"/>
              </a:xfrm>
              <a:custGeom>
                <a:avLst/>
                <a:gdLst>
                  <a:gd name="textAreaLeft" fmla="*/ -360 w 86040"/>
                  <a:gd name="textAreaRight" fmla="*/ 86040 w 8604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Arc 28"/>
              <p:cNvSpPr/>
              <p:nvPr/>
            </p:nvSpPr>
            <p:spPr>
              <a:xfrm flipH="1" flipV="1">
                <a:off x="6847560" y="1180440"/>
                <a:ext cx="86040" cy="114840"/>
              </a:xfrm>
              <a:custGeom>
                <a:avLst/>
                <a:gdLst>
                  <a:gd name="textAreaLeft" fmla="*/ -360 w 86040"/>
                  <a:gd name="textAreaRight" fmla="*/ 86040 w 86040"/>
                  <a:gd name="textAreaTop" fmla="*/ -360 h 114840"/>
                  <a:gd name="textAreaBottom" fmla="*/ 114840 h 1148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9" name="Arc 29"/>
            <p:cNvSpPr/>
            <p:nvPr/>
          </p:nvSpPr>
          <p:spPr>
            <a:xfrm>
              <a:off x="6762600" y="1681200"/>
              <a:ext cx="86040" cy="11448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Arc 30"/>
            <p:cNvSpPr/>
            <p:nvPr/>
          </p:nvSpPr>
          <p:spPr>
            <a:xfrm flipV="1">
              <a:off x="6762600" y="2023560"/>
              <a:ext cx="86040" cy="11412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-360 h 114120"/>
                <a:gd name="textAreaBottom" fmla="*/ 114120 h 1141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Arc 31"/>
            <p:cNvSpPr/>
            <p:nvPr/>
          </p:nvSpPr>
          <p:spPr>
            <a:xfrm flipH="1">
              <a:off x="6848640" y="1909800"/>
              <a:ext cx="85680" cy="114480"/>
            </a:xfrm>
            <a:custGeom>
              <a:avLst/>
              <a:gdLst>
                <a:gd name="textAreaLeft" fmla="*/ 360 w 85680"/>
                <a:gd name="textAreaRight" fmla="*/ 86400 w 8568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Arc 32"/>
            <p:cNvSpPr/>
            <p:nvPr/>
          </p:nvSpPr>
          <p:spPr>
            <a:xfrm flipH="1" flipV="1">
              <a:off x="6848640" y="1794960"/>
              <a:ext cx="85680" cy="114120"/>
            </a:xfrm>
            <a:custGeom>
              <a:avLst/>
              <a:gdLst>
                <a:gd name="textAreaLeft" fmla="*/ 360 w 85680"/>
                <a:gd name="textAreaRight" fmla="*/ 86400 w 85680"/>
                <a:gd name="textAreaTop" fmla="*/ -360 h 114120"/>
                <a:gd name="textAreaBottom" fmla="*/ 114120 h 1141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33"/>
            <p:cNvSpPr/>
            <p:nvPr/>
          </p:nvSpPr>
          <p:spPr>
            <a:xfrm>
              <a:off x="7015320" y="1096920"/>
              <a:ext cx="182376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Program is created 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the editor and stor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on disk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34"/>
            <p:cNvSpPr/>
            <p:nvPr/>
          </p:nvSpPr>
          <p:spPr>
            <a:xfrm>
              <a:off x="7015320" y="1781280"/>
              <a:ext cx="182376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3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Preprocessor progra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processes the code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35"/>
            <p:cNvSpPr/>
            <p:nvPr/>
          </p:nvSpPr>
          <p:spPr>
            <a:xfrm>
              <a:off x="7020000" y="4138560"/>
              <a:ext cx="182412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4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Loader puts progra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in memory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36"/>
            <p:cNvSpPr/>
            <p:nvPr/>
          </p:nvSpPr>
          <p:spPr>
            <a:xfrm>
              <a:off x="7015320" y="5432400"/>
              <a:ext cx="182376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3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PU takes ea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instruction 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executes it, possibl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toring new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values as the progra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execute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37"/>
            <p:cNvSpPr/>
            <p:nvPr/>
          </p:nvSpPr>
          <p:spPr>
            <a:xfrm>
              <a:off x="4187880" y="2300400"/>
              <a:ext cx="1200240" cy="457200"/>
            </a:xfrm>
            <a:custGeom>
              <a:avLst/>
              <a:gdLst>
                <a:gd name="textAreaLeft" fmla="*/ 0 w 1200240"/>
                <a:gd name="textAreaRight" fmla="*/ 1200600 w 120024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0000" h="20000">
                  <a:moveTo>
                    <a:pt x="19988" y="0"/>
                  </a:moveTo>
                  <a:lnTo>
                    <a:pt x="19988" y="19972"/>
                  </a:lnTo>
                  <a:lnTo>
                    <a:pt x="0" y="19972"/>
                  </a:lnTo>
                  <a:lnTo>
                    <a:pt x="0" y="0"/>
                  </a:lnTo>
                  <a:lnTo>
                    <a:pt x="19988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38"/>
            <p:cNvSpPr/>
            <p:nvPr/>
          </p:nvSpPr>
          <p:spPr>
            <a:xfrm>
              <a:off x="4429080" y="2443320"/>
              <a:ext cx="7146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Mincho"/>
                </a:rPr>
                <a:t>Compil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39"/>
            <p:cNvSpPr/>
            <p:nvPr/>
          </p:nvSpPr>
          <p:spPr>
            <a:xfrm>
              <a:off x="5391000" y="2529000"/>
              <a:ext cx="5144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0" name="Group 40"/>
            <p:cNvGrpSpPr/>
            <p:nvPr/>
          </p:nvGrpSpPr>
          <p:grpSpPr>
            <a:xfrm>
              <a:off x="6762600" y="2289240"/>
              <a:ext cx="171360" cy="456840"/>
              <a:chOff x="6762600" y="2289240"/>
              <a:chExt cx="171360" cy="456840"/>
            </a:xfrm>
          </p:grpSpPr>
          <p:sp>
            <p:nvSpPr>
              <p:cNvPr id="581" name="Arc 41"/>
              <p:cNvSpPr/>
              <p:nvPr/>
            </p:nvSpPr>
            <p:spPr>
              <a:xfrm>
                <a:off x="6762600" y="2289240"/>
                <a:ext cx="86040" cy="11484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Arc 42"/>
              <p:cNvSpPr/>
              <p:nvPr/>
            </p:nvSpPr>
            <p:spPr>
              <a:xfrm flipV="1">
                <a:off x="6762600" y="2630880"/>
                <a:ext cx="86040" cy="11484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-360 h 114840"/>
                  <a:gd name="textAreaBottom" fmla="*/ 114840 h 1148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Arc 43"/>
              <p:cNvSpPr/>
              <p:nvPr/>
            </p:nvSpPr>
            <p:spPr>
              <a:xfrm flipH="1">
                <a:off x="6847560" y="2517480"/>
                <a:ext cx="86040" cy="114840"/>
              </a:xfrm>
              <a:custGeom>
                <a:avLst/>
                <a:gdLst>
                  <a:gd name="textAreaLeft" fmla="*/ -360 w 86040"/>
                  <a:gd name="textAreaRight" fmla="*/ 86040 w 8604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Arc 44"/>
              <p:cNvSpPr/>
              <p:nvPr/>
            </p:nvSpPr>
            <p:spPr>
              <a:xfrm flipH="1" flipV="1">
                <a:off x="6847560" y="2402640"/>
                <a:ext cx="86040" cy="114840"/>
              </a:xfrm>
              <a:custGeom>
                <a:avLst/>
                <a:gdLst>
                  <a:gd name="textAreaLeft" fmla="*/ -360 w 86040"/>
                  <a:gd name="textAreaRight" fmla="*/ 86040 w 86040"/>
                  <a:gd name="textAreaTop" fmla="*/ -360 h 114840"/>
                  <a:gd name="textAreaBottom" fmla="*/ 114840 h 1148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5" name="Rectangle 45"/>
            <p:cNvSpPr/>
            <p:nvPr/>
          </p:nvSpPr>
          <p:spPr>
            <a:xfrm>
              <a:off x="7015320" y="2260800"/>
              <a:ext cx="18237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ompiler crea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object code and stor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it on disk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46"/>
            <p:cNvSpPr/>
            <p:nvPr/>
          </p:nvSpPr>
          <p:spPr>
            <a:xfrm>
              <a:off x="5391000" y="3137040"/>
              <a:ext cx="5144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Arc 47"/>
            <p:cNvSpPr/>
            <p:nvPr/>
          </p:nvSpPr>
          <p:spPr>
            <a:xfrm>
              <a:off x="6762600" y="2897280"/>
              <a:ext cx="86040" cy="11448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Arc 48"/>
            <p:cNvSpPr/>
            <p:nvPr/>
          </p:nvSpPr>
          <p:spPr>
            <a:xfrm flipV="1">
              <a:off x="6762600" y="3239640"/>
              <a:ext cx="86040" cy="11412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-360 h 114120"/>
                <a:gd name="textAreaBottom" fmla="*/ 114120 h 1141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Arc 49"/>
            <p:cNvSpPr/>
            <p:nvPr/>
          </p:nvSpPr>
          <p:spPr>
            <a:xfrm flipH="1">
              <a:off x="6848640" y="3125880"/>
              <a:ext cx="85680" cy="114480"/>
            </a:xfrm>
            <a:custGeom>
              <a:avLst/>
              <a:gdLst>
                <a:gd name="textAreaLeft" fmla="*/ 360 w 85680"/>
                <a:gd name="textAreaRight" fmla="*/ 86400 w 8568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Arc 50"/>
            <p:cNvSpPr/>
            <p:nvPr/>
          </p:nvSpPr>
          <p:spPr>
            <a:xfrm flipH="1" flipV="1">
              <a:off x="6848640" y="3011040"/>
              <a:ext cx="85680" cy="114120"/>
            </a:xfrm>
            <a:custGeom>
              <a:avLst/>
              <a:gdLst>
                <a:gd name="textAreaLeft" fmla="*/ 360 w 85680"/>
                <a:gd name="textAreaRight" fmla="*/ 86400 w 85680"/>
                <a:gd name="textAreaTop" fmla="*/ -360 h 114120"/>
                <a:gd name="textAreaBottom" fmla="*/ 114120 h 1141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Rectangle 51"/>
            <p:cNvSpPr/>
            <p:nvPr/>
          </p:nvSpPr>
          <p:spPr>
            <a:xfrm>
              <a:off x="7015320" y="2895840"/>
              <a:ext cx="18237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3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Linker links the obje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ode with the libraries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reates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.out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tores it on dis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2" name="Group 52"/>
            <p:cNvGrpSpPr/>
            <p:nvPr/>
          </p:nvGrpSpPr>
          <p:grpSpPr>
            <a:xfrm>
              <a:off x="4187880" y="1057320"/>
              <a:ext cx="1200240" cy="457200"/>
              <a:chOff x="4187880" y="1057320"/>
              <a:chExt cx="1200240" cy="457200"/>
            </a:xfrm>
          </p:grpSpPr>
          <p:sp>
            <p:nvSpPr>
              <p:cNvPr id="593" name="Freeform 53"/>
              <p:cNvSpPr/>
              <p:nvPr/>
            </p:nvSpPr>
            <p:spPr>
              <a:xfrm>
                <a:off x="4187880" y="1057320"/>
                <a:ext cx="1200240" cy="457200"/>
              </a:xfrm>
              <a:custGeom>
                <a:avLst/>
                <a:gdLst>
                  <a:gd name="textAreaLeft" fmla="*/ 0 w 1200240"/>
                  <a:gd name="textAreaRight" fmla="*/ 1200600 w 12002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8" y="0"/>
                    </a:moveTo>
                    <a:lnTo>
                      <a:pt x="19988" y="19972"/>
                    </a:lnTo>
                    <a:lnTo>
                      <a:pt x="0" y="19972"/>
                    </a:lnTo>
                    <a:lnTo>
                      <a:pt x="0" y="0"/>
                    </a:lnTo>
                    <a:lnTo>
                      <a:pt x="19988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54"/>
              <p:cNvSpPr/>
              <p:nvPr/>
            </p:nvSpPr>
            <p:spPr>
              <a:xfrm>
                <a:off x="4187880" y="1057320"/>
                <a:ext cx="1200240" cy="457200"/>
              </a:xfrm>
              <a:custGeom>
                <a:avLst/>
                <a:gdLst>
                  <a:gd name="textAreaLeft" fmla="*/ 0 w 1200240"/>
                  <a:gd name="textAreaRight" fmla="*/ 1200600 w 12002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8" y="0"/>
                    </a:moveTo>
                    <a:lnTo>
                      <a:pt x="19988" y="19972"/>
                    </a:lnTo>
                    <a:lnTo>
                      <a:pt x="0" y="19972"/>
                    </a:lnTo>
                    <a:lnTo>
                      <a:pt x="0" y="0"/>
                    </a:lnTo>
                    <a:lnTo>
                      <a:pt x="1998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Rectangle 55"/>
              <p:cNvSpPr/>
              <p:nvPr/>
            </p:nvSpPr>
            <p:spPr>
              <a:xfrm>
                <a:off x="4515840" y="1201320"/>
                <a:ext cx="54360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Edito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6" name="Group 56"/>
            <p:cNvGrpSpPr/>
            <p:nvPr/>
          </p:nvGrpSpPr>
          <p:grpSpPr>
            <a:xfrm>
              <a:off x="4187880" y="1690920"/>
              <a:ext cx="1200240" cy="457200"/>
              <a:chOff x="4187880" y="1690920"/>
              <a:chExt cx="1200240" cy="457200"/>
            </a:xfrm>
          </p:grpSpPr>
          <p:sp>
            <p:nvSpPr>
              <p:cNvPr id="597" name="Freeform 57"/>
              <p:cNvSpPr/>
              <p:nvPr/>
            </p:nvSpPr>
            <p:spPr>
              <a:xfrm>
                <a:off x="4187880" y="1690920"/>
                <a:ext cx="1200240" cy="457200"/>
              </a:xfrm>
              <a:custGeom>
                <a:avLst/>
                <a:gdLst>
                  <a:gd name="textAreaLeft" fmla="*/ 0 w 1200240"/>
                  <a:gd name="textAreaRight" fmla="*/ 1200600 w 12002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8" y="0"/>
                    </a:moveTo>
                    <a:lnTo>
                      <a:pt x="19988" y="19972"/>
                    </a:lnTo>
                    <a:lnTo>
                      <a:pt x="0" y="19972"/>
                    </a:lnTo>
                    <a:lnTo>
                      <a:pt x="0" y="0"/>
                    </a:lnTo>
                    <a:lnTo>
                      <a:pt x="19988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8" name="Group 58"/>
              <p:cNvGrpSpPr/>
              <p:nvPr/>
            </p:nvGrpSpPr>
            <p:grpSpPr>
              <a:xfrm>
                <a:off x="4187880" y="1690920"/>
                <a:ext cx="1200240" cy="457200"/>
                <a:chOff x="4187880" y="1690920"/>
                <a:chExt cx="1200240" cy="457200"/>
              </a:xfrm>
            </p:grpSpPr>
            <p:sp>
              <p:nvSpPr>
                <p:cNvPr id="599" name="Freeform 59"/>
                <p:cNvSpPr/>
                <p:nvPr/>
              </p:nvSpPr>
              <p:spPr>
                <a:xfrm>
                  <a:off x="4187880" y="1690920"/>
                  <a:ext cx="1200240" cy="457200"/>
                </a:xfrm>
                <a:custGeom>
                  <a:avLst/>
                  <a:gdLst>
                    <a:gd name="textAreaLeft" fmla="*/ 0 w 1200240"/>
                    <a:gd name="textAreaRight" fmla="*/ 1200600 w 120024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20000" h="20000">
                      <a:moveTo>
                        <a:pt x="19988" y="0"/>
                      </a:moveTo>
                      <a:lnTo>
                        <a:pt x="19988" y="19972"/>
                      </a:lnTo>
                      <a:lnTo>
                        <a:pt x="0" y="19972"/>
                      </a:lnTo>
                      <a:lnTo>
                        <a:pt x="0" y="0"/>
                      </a:lnTo>
                      <a:lnTo>
                        <a:pt x="19988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Rectangle 60"/>
                <p:cNvSpPr/>
                <p:nvPr/>
              </p:nvSpPr>
              <p:spPr>
                <a:xfrm>
                  <a:off x="4258440" y="1824840"/>
                  <a:ext cx="1058040" cy="17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Mincho"/>
                    </a:rPr>
                    <a:t>Preprocessor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1" name="Group 61"/>
            <p:cNvGrpSpPr/>
            <p:nvPr/>
          </p:nvGrpSpPr>
          <p:grpSpPr>
            <a:xfrm>
              <a:off x="4187880" y="2908440"/>
              <a:ext cx="1200240" cy="457200"/>
              <a:chOff x="4187880" y="2908440"/>
              <a:chExt cx="1200240" cy="457200"/>
            </a:xfrm>
          </p:grpSpPr>
          <p:sp>
            <p:nvSpPr>
              <p:cNvPr id="602" name="Freeform 62"/>
              <p:cNvSpPr/>
              <p:nvPr/>
            </p:nvSpPr>
            <p:spPr>
              <a:xfrm>
                <a:off x="4187880" y="2908440"/>
                <a:ext cx="1200240" cy="457200"/>
              </a:xfrm>
              <a:custGeom>
                <a:avLst/>
                <a:gdLst>
                  <a:gd name="textAreaLeft" fmla="*/ 0 w 1200240"/>
                  <a:gd name="textAreaRight" fmla="*/ 1200600 w 12002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8" y="0"/>
                    </a:moveTo>
                    <a:lnTo>
                      <a:pt x="19988" y="19972"/>
                    </a:lnTo>
                    <a:lnTo>
                      <a:pt x="0" y="19972"/>
                    </a:lnTo>
                    <a:lnTo>
                      <a:pt x="0" y="0"/>
                    </a:lnTo>
                    <a:lnTo>
                      <a:pt x="19988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3" name="Group 63"/>
              <p:cNvGrpSpPr/>
              <p:nvPr/>
            </p:nvGrpSpPr>
            <p:grpSpPr>
              <a:xfrm>
                <a:off x="4187880" y="2908440"/>
                <a:ext cx="1200240" cy="457200"/>
                <a:chOff x="4187880" y="2908440"/>
                <a:chExt cx="1200240" cy="457200"/>
              </a:xfrm>
            </p:grpSpPr>
            <p:sp>
              <p:nvSpPr>
                <p:cNvPr id="604" name="Freeform 64"/>
                <p:cNvSpPr/>
                <p:nvPr/>
              </p:nvSpPr>
              <p:spPr>
                <a:xfrm>
                  <a:off x="4187880" y="2908440"/>
                  <a:ext cx="1200240" cy="457200"/>
                </a:xfrm>
                <a:custGeom>
                  <a:avLst/>
                  <a:gdLst>
                    <a:gd name="textAreaLeft" fmla="*/ 0 w 1200240"/>
                    <a:gd name="textAreaRight" fmla="*/ 1200600 w 120024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20000" h="20000">
                      <a:moveTo>
                        <a:pt x="19988" y="0"/>
                      </a:moveTo>
                      <a:lnTo>
                        <a:pt x="19988" y="19972"/>
                      </a:lnTo>
                      <a:lnTo>
                        <a:pt x="0" y="19972"/>
                      </a:lnTo>
                      <a:lnTo>
                        <a:pt x="0" y="0"/>
                      </a:lnTo>
                      <a:lnTo>
                        <a:pt x="19988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Rectangle 65"/>
                <p:cNvSpPr/>
                <p:nvPr/>
              </p:nvSpPr>
              <p:spPr>
                <a:xfrm>
                  <a:off x="4515840" y="3043080"/>
                  <a:ext cx="543600" cy="17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Mincho"/>
                    </a:rPr>
                    <a:t>Linker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6" name="Group 66"/>
            <p:cNvGrpSpPr/>
            <p:nvPr/>
          </p:nvGrpSpPr>
          <p:grpSpPr>
            <a:xfrm>
              <a:off x="4187880" y="5227920"/>
              <a:ext cx="1200240" cy="457200"/>
              <a:chOff x="4187880" y="5227920"/>
              <a:chExt cx="1200240" cy="457200"/>
            </a:xfrm>
          </p:grpSpPr>
          <p:grpSp>
            <p:nvGrpSpPr>
              <p:cNvPr id="607" name="Group 67"/>
              <p:cNvGrpSpPr/>
              <p:nvPr/>
            </p:nvGrpSpPr>
            <p:grpSpPr>
              <a:xfrm>
                <a:off x="4187880" y="5227920"/>
                <a:ext cx="1200240" cy="457200"/>
                <a:chOff x="4187880" y="5227920"/>
                <a:chExt cx="1200240" cy="457200"/>
              </a:xfrm>
            </p:grpSpPr>
            <p:sp>
              <p:nvSpPr>
                <p:cNvPr id="608" name="Freeform 68"/>
                <p:cNvSpPr/>
                <p:nvPr/>
              </p:nvSpPr>
              <p:spPr>
                <a:xfrm>
                  <a:off x="4187880" y="5227920"/>
                  <a:ext cx="1200240" cy="457200"/>
                </a:xfrm>
                <a:custGeom>
                  <a:avLst/>
                  <a:gdLst>
                    <a:gd name="textAreaLeft" fmla="*/ 0 w 1200240"/>
                    <a:gd name="textAreaRight" fmla="*/ 1200600 w 120024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20000" h="20000">
                      <a:moveTo>
                        <a:pt x="19988" y="0"/>
                      </a:moveTo>
                      <a:lnTo>
                        <a:pt x="19988" y="19972"/>
                      </a:lnTo>
                      <a:lnTo>
                        <a:pt x="0" y="19972"/>
                      </a:lnTo>
                      <a:lnTo>
                        <a:pt x="0" y="0"/>
                      </a:lnTo>
                      <a:lnTo>
                        <a:pt x="19988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Rectangle 69"/>
                <p:cNvSpPr/>
                <p:nvPr/>
              </p:nvSpPr>
              <p:spPr>
                <a:xfrm>
                  <a:off x="4772880" y="5507280"/>
                  <a:ext cx="29160" cy="5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28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0" name="Group 70"/>
              <p:cNvGrpSpPr/>
              <p:nvPr/>
            </p:nvGrpSpPr>
            <p:grpSpPr>
              <a:xfrm>
                <a:off x="4187880" y="5227920"/>
                <a:ext cx="1200240" cy="457200"/>
                <a:chOff x="4187880" y="5227920"/>
                <a:chExt cx="1200240" cy="457200"/>
              </a:xfrm>
            </p:grpSpPr>
            <p:sp>
              <p:nvSpPr>
                <p:cNvPr id="611" name="Freeform 71"/>
                <p:cNvSpPr/>
                <p:nvPr/>
              </p:nvSpPr>
              <p:spPr>
                <a:xfrm>
                  <a:off x="4187880" y="5227920"/>
                  <a:ext cx="1200240" cy="457200"/>
                </a:xfrm>
                <a:custGeom>
                  <a:avLst/>
                  <a:gdLst>
                    <a:gd name="textAreaLeft" fmla="*/ 0 w 1200240"/>
                    <a:gd name="textAreaRight" fmla="*/ 1200600 w 120024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20000" h="20000">
                      <a:moveTo>
                        <a:pt x="19988" y="0"/>
                      </a:moveTo>
                      <a:lnTo>
                        <a:pt x="19988" y="19972"/>
                      </a:lnTo>
                      <a:lnTo>
                        <a:pt x="0" y="19972"/>
                      </a:lnTo>
                      <a:lnTo>
                        <a:pt x="0" y="0"/>
                      </a:lnTo>
                      <a:lnTo>
                        <a:pt x="19988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Rectangle 72"/>
                <p:cNvSpPr/>
                <p:nvPr/>
              </p:nvSpPr>
              <p:spPr>
                <a:xfrm>
                  <a:off x="4644360" y="5380200"/>
                  <a:ext cx="286560" cy="17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Mincho"/>
                    </a:rPr>
                    <a:t>CPU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13" name="Rectangle 73"/>
            <p:cNvSpPr/>
            <p:nvPr/>
          </p:nvSpPr>
          <p:spPr>
            <a:xfrm>
              <a:off x="5905440" y="5102280"/>
              <a:ext cx="77148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2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vantGarde"/>
                  <a:ea typeface="Arial"/>
                </a:rPr>
                <a:t>Prima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vantGarde"/>
                  <a:ea typeface="Arial"/>
                </a:rPr>
                <a:t>Memo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4" name="Group 74"/>
            <p:cNvGrpSpPr/>
            <p:nvPr/>
          </p:nvGrpSpPr>
          <p:grpSpPr>
            <a:xfrm>
              <a:off x="5905440" y="5367600"/>
              <a:ext cx="773280" cy="1212840"/>
              <a:chOff x="5905440" y="5367600"/>
              <a:chExt cx="773280" cy="1212840"/>
            </a:xfrm>
          </p:grpSpPr>
          <p:sp>
            <p:nvSpPr>
              <p:cNvPr id="615" name="Rectangle 75"/>
              <p:cNvSpPr/>
              <p:nvPr/>
            </p:nvSpPr>
            <p:spPr>
              <a:xfrm>
                <a:off x="6227640" y="6131160"/>
                <a:ext cx="86400" cy="33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  <a:ea typeface="Arial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  <a:ea typeface="Arial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  <a:ea typeface="Arial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76"/>
              <p:cNvSpPr/>
              <p:nvPr/>
            </p:nvSpPr>
            <p:spPr>
              <a:xfrm>
                <a:off x="5905440" y="5367600"/>
                <a:ext cx="767160" cy="1212840"/>
              </a:xfrm>
              <a:custGeom>
                <a:avLst/>
                <a:gdLst>
                  <a:gd name="textAreaLeft" fmla="*/ 0 w 767160"/>
                  <a:gd name="textAreaRight" fmla="*/ 767520 w 767160"/>
                  <a:gd name="textAreaTop" fmla="*/ 0 h 1212840"/>
                  <a:gd name="textAreaBottom" fmla="*/ 1213200 h 121284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990"/>
                    </a:lnTo>
                    <a:lnTo>
                      <a:pt x="0" y="19990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77"/>
              <p:cNvSpPr/>
              <p:nvPr/>
            </p:nvSpPr>
            <p:spPr>
              <a:xfrm>
                <a:off x="5906520" y="5368680"/>
                <a:ext cx="772200" cy="151200"/>
              </a:xfrm>
              <a:custGeom>
                <a:avLst/>
                <a:gdLst>
                  <a:gd name="textAreaLeft" fmla="*/ 0 w 772200"/>
                  <a:gd name="textAreaRight" fmla="*/ 772560 w 77220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78"/>
              <p:cNvSpPr/>
              <p:nvPr/>
            </p:nvSpPr>
            <p:spPr>
              <a:xfrm>
                <a:off x="5906520" y="5521320"/>
                <a:ext cx="772200" cy="152280"/>
              </a:xfrm>
              <a:custGeom>
                <a:avLst/>
                <a:gdLst>
                  <a:gd name="textAreaLeft" fmla="*/ 0 w 772200"/>
                  <a:gd name="textAreaRight" fmla="*/ 772560 w 77220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79"/>
              <p:cNvSpPr/>
              <p:nvPr/>
            </p:nvSpPr>
            <p:spPr>
              <a:xfrm>
                <a:off x="5906520" y="5671080"/>
                <a:ext cx="772200" cy="151200"/>
              </a:xfrm>
              <a:custGeom>
                <a:avLst/>
                <a:gdLst>
                  <a:gd name="textAreaLeft" fmla="*/ 0 w 772200"/>
                  <a:gd name="textAreaRight" fmla="*/ 772560 w 77220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80"/>
              <p:cNvSpPr/>
              <p:nvPr/>
            </p:nvSpPr>
            <p:spPr>
              <a:xfrm>
                <a:off x="5906520" y="5823000"/>
                <a:ext cx="772200" cy="151200"/>
              </a:xfrm>
              <a:custGeom>
                <a:avLst/>
                <a:gdLst>
                  <a:gd name="textAreaLeft" fmla="*/ 0 w 772200"/>
                  <a:gd name="textAreaRight" fmla="*/ 772560 w 77220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81"/>
              <p:cNvSpPr/>
              <p:nvPr/>
            </p:nvSpPr>
            <p:spPr>
              <a:xfrm>
                <a:off x="5906520" y="5974200"/>
                <a:ext cx="772200" cy="151200"/>
              </a:xfrm>
              <a:custGeom>
                <a:avLst/>
                <a:gdLst>
                  <a:gd name="textAreaLeft" fmla="*/ 0 w 772200"/>
                  <a:gd name="textAreaRight" fmla="*/ 772560 w 77220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82"/>
              <p:cNvSpPr/>
              <p:nvPr/>
            </p:nvSpPr>
            <p:spPr>
              <a:xfrm>
                <a:off x="5906520" y="6126120"/>
                <a:ext cx="772200" cy="303120"/>
              </a:xfrm>
              <a:custGeom>
                <a:avLst/>
                <a:gdLst>
                  <a:gd name="textAreaLeft" fmla="*/ 0 w 772200"/>
                  <a:gd name="textAreaRight" fmla="*/ 772560 w 77220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958"/>
                    </a:lnTo>
                    <a:lnTo>
                      <a:pt x="0" y="19958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83"/>
              <p:cNvSpPr/>
              <p:nvPr/>
            </p:nvSpPr>
            <p:spPr>
              <a:xfrm>
                <a:off x="5906520" y="6429240"/>
                <a:ext cx="772200" cy="151200"/>
              </a:xfrm>
              <a:custGeom>
                <a:avLst/>
                <a:gdLst>
                  <a:gd name="textAreaLeft" fmla="*/ 0 w 772200"/>
                  <a:gd name="textAreaRight" fmla="*/ 772560 w 77220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Rectangle 84"/>
              <p:cNvSpPr/>
              <p:nvPr/>
            </p:nvSpPr>
            <p:spPr>
              <a:xfrm>
                <a:off x="6249240" y="6126120"/>
                <a:ext cx="86400" cy="32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  <a:ea typeface="Arial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  <a:ea typeface="Arial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  <a:ea typeface="Arial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5" name="Group 85"/>
            <p:cNvGrpSpPr/>
            <p:nvPr/>
          </p:nvGrpSpPr>
          <p:grpSpPr>
            <a:xfrm>
              <a:off x="5905440" y="3780000"/>
              <a:ext cx="773280" cy="1214280"/>
              <a:chOff x="5905440" y="3780000"/>
              <a:chExt cx="773280" cy="1214280"/>
            </a:xfrm>
          </p:grpSpPr>
          <p:sp>
            <p:nvSpPr>
              <p:cNvPr id="626" name="Freeform 86"/>
              <p:cNvSpPr/>
              <p:nvPr/>
            </p:nvSpPr>
            <p:spPr>
              <a:xfrm>
                <a:off x="5905440" y="3780000"/>
                <a:ext cx="767160" cy="1212480"/>
              </a:xfrm>
              <a:custGeom>
                <a:avLst/>
                <a:gdLst>
                  <a:gd name="textAreaLeft" fmla="*/ 0 w 767160"/>
                  <a:gd name="textAreaRight" fmla="*/ 767520 w 767160"/>
                  <a:gd name="textAreaTop" fmla="*/ 0 h 1212480"/>
                  <a:gd name="textAreaBottom" fmla="*/ 1212840 h 121248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990"/>
                    </a:lnTo>
                    <a:lnTo>
                      <a:pt x="0" y="19990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87"/>
              <p:cNvSpPr/>
              <p:nvPr/>
            </p:nvSpPr>
            <p:spPr>
              <a:xfrm>
                <a:off x="5906520" y="3781080"/>
                <a:ext cx="772200" cy="151200"/>
              </a:xfrm>
              <a:custGeom>
                <a:avLst/>
                <a:gdLst>
                  <a:gd name="textAreaLeft" fmla="*/ 0 w 772200"/>
                  <a:gd name="textAreaRight" fmla="*/ 772560 w 77220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88"/>
              <p:cNvSpPr/>
              <p:nvPr/>
            </p:nvSpPr>
            <p:spPr>
              <a:xfrm>
                <a:off x="5906520" y="3933360"/>
                <a:ext cx="772200" cy="152280"/>
              </a:xfrm>
              <a:custGeom>
                <a:avLst/>
                <a:gdLst>
                  <a:gd name="textAreaLeft" fmla="*/ 0 w 772200"/>
                  <a:gd name="textAreaRight" fmla="*/ 772560 w 77220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9" name="Group 89"/>
              <p:cNvGrpSpPr/>
              <p:nvPr/>
            </p:nvGrpSpPr>
            <p:grpSpPr>
              <a:xfrm>
                <a:off x="5906520" y="4086000"/>
                <a:ext cx="772200" cy="908280"/>
                <a:chOff x="5906520" y="4086000"/>
                <a:chExt cx="772200" cy="908280"/>
              </a:xfrm>
            </p:grpSpPr>
            <p:sp>
              <p:nvSpPr>
                <p:cNvPr id="630" name="Rectangle 90"/>
                <p:cNvSpPr/>
                <p:nvPr/>
              </p:nvSpPr>
              <p:spPr>
                <a:xfrm>
                  <a:off x="6227640" y="4545360"/>
                  <a:ext cx="86400" cy="33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  <a:ea typeface="Arial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  <a:ea typeface="Arial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  <a:ea typeface="Arial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Freeform 91"/>
                <p:cNvSpPr/>
                <p:nvPr/>
              </p:nvSpPr>
              <p:spPr>
                <a:xfrm>
                  <a:off x="5906520" y="4086000"/>
                  <a:ext cx="772200" cy="151200"/>
                </a:xfrm>
                <a:custGeom>
                  <a:avLst/>
                  <a:gdLst>
                    <a:gd name="textAreaLeft" fmla="*/ 0 w 772200"/>
                    <a:gd name="textAreaRight" fmla="*/ 772560 w 77220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20000" h="20000">
                      <a:moveTo>
                        <a:pt x="19981" y="0"/>
                      </a:moveTo>
                      <a:lnTo>
                        <a:pt x="19981" y="19916"/>
                      </a:lnTo>
                      <a:lnTo>
                        <a:pt x="0" y="19916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Freeform 92"/>
                <p:cNvSpPr/>
                <p:nvPr/>
              </p:nvSpPr>
              <p:spPr>
                <a:xfrm>
                  <a:off x="5906520" y="4237200"/>
                  <a:ext cx="772200" cy="150840"/>
                </a:xfrm>
                <a:custGeom>
                  <a:avLst/>
                  <a:gdLst>
                    <a:gd name="textAreaLeft" fmla="*/ 0 w 772200"/>
                    <a:gd name="textAreaRight" fmla="*/ 772560 w 772200"/>
                    <a:gd name="textAreaTop" fmla="*/ 0 h 150840"/>
                    <a:gd name="textAreaBottom" fmla="*/ 151200 h 150840"/>
                  </a:gdLst>
                  <a:ahLst/>
                  <a:rect l="textAreaLeft" t="textAreaTop" r="textAreaRight" b="textAreaBottom"/>
                  <a:pathLst>
                    <a:path w="20000" h="20000">
                      <a:moveTo>
                        <a:pt x="19981" y="0"/>
                      </a:moveTo>
                      <a:lnTo>
                        <a:pt x="19981" y="19916"/>
                      </a:lnTo>
                      <a:lnTo>
                        <a:pt x="0" y="19916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Freeform 93"/>
                <p:cNvSpPr/>
                <p:nvPr/>
              </p:nvSpPr>
              <p:spPr>
                <a:xfrm>
                  <a:off x="5906520" y="4388400"/>
                  <a:ext cx="772200" cy="151200"/>
                </a:xfrm>
                <a:custGeom>
                  <a:avLst/>
                  <a:gdLst>
                    <a:gd name="textAreaLeft" fmla="*/ 0 w 772200"/>
                    <a:gd name="textAreaRight" fmla="*/ 772560 w 77220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20000" h="20000">
                      <a:moveTo>
                        <a:pt x="19981" y="0"/>
                      </a:moveTo>
                      <a:lnTo>
                        <a:pt x="19981" y="19916"/>
                      </a:lnTo>
                      <a:lnTo>
                        <a:pt x="0" y="19916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Freeform 94"/>
                <p:cNvSpPr/>
                <p:nvPr/>
              </p:nvSpPr>
              <p:spPr>
                <a:xfrm>
                  <a:off x="5906520" y="4540320"/>
                  <a:ext cx="772200" cy="302760"/>
                </a:xfrm>
                <a:custGeom>
                  <a:avLst/>
                  <a:gdLst>
                    <a:gd name="textAreaLeft" fmla="*/ 0 w 772200"/>
                    <a:gd name="textAreaRight" fmla="*/ 772560 w 772200"/>
                    <a:gd name="textAreaTop" fmla="*/ 0 h 302760"/>
                    <a:gd name="textAreaBottom" fmla="*/ 303120 h 302760"/>
                  </a:gdLst>
                  <a:ahLst/>
                  <a:rect l="textAreaLeft" t="textAreaTop" r="textAreaRight" b="textAreaBottom"/>
                  <a:pathLst>
                    <a:path w="20000" h="20000">
                      <a:moveTo>
                        <a:pt x="19981" y="0"/>
                      </a:moveTo>
                      <a:lnTo>
                        <a:pt x="19981" y="19958"/>
                      </a:lnTo>
                      <a:lnTo>
                        <a:pt x="0" y="19958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Freeform 95"/>
                <p:cNvSpPr/>
                <p:nvPr/>
              </p:nvSpPr>
              <p:spPr>
                <a:xfrm>
                  <a:off x="5906520" y="4843440"/>
                  <a:ext cx="772200" cy="150840"/>
                </a:xfrm>
                <a:custGeom>
                  <a:avLst/>
                  <a:gdLst>
                    <a:gd name="textAreaLeft" fmla="*/ 0 w 772200"/>
                    <a:gd name="textAreaRight" fmla="*/ 772560 w 772200"/>
                    <a:gd name="textAreaTop" fmla="*/ 0 h 150840"/>
                    <a:gd name="textAreaBottom" fmla="*/ 151200 h 150840"/>
                  </a:gdLst>
                  <a:ahLst/>
                  <a:rect l="textAreaLeft" t="textAreaTop" r="textAreaRight" b="textAreaBottom"/>
                  <a:pathLst>
                    <a:path w="20000" h="20000">
                      <a:moveTo>
                        <a:pt x="19981" y="0"/>
                      </a:moveTo>
                      <a:lnTo>
                        <a:pt x="19981" y="19916"/>
                      </a:lnTo>
                      <a:lnTo>
                        <a:pt x="0" y="19916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Rectangle 96"/>
                <p:cNvSpPr/>
                <p:nvPr/>
              </p:nvSpPr>
              <p:spPr>
                <a:xfrm>
                  <a:off x="6248880" y="4540320"/>
                  <a:ext cx="86400" cy="32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  <a:ea typeface="Arial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  <a:ea typeface="Arial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  <a:ea typeface="Arial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37" name="Group 97"/>
            <p:cNvGrpSpPr/>
            <p:nvPr/>
          </p:nvGrpSpPr>
          <p:grpSpPr>
            <a:xfrm>
              <a:off x="5905440" y="1141560"/>
              <a:ext cx="771480" cy="309600"/>
              <a:chOff x="5905440" y="1141560"/>
              <a:chExt cx="771480" cy="309600"/>
            </a:xfrm>
          </p:grpSpPr>
          <p:grpSp>
            <p:nvGrpSpPr>
              <p:cNvPr id="638" name="Group 98"/>
              <p:cNvGrpSpPr/>
              <p:nvPr/>
            </p:nvGrpSpPr>
            <p:grpSpPr>
              <a:xfrm>
                <a:off x="5905440" y="1142640"/>
                <a:ext cx="771480" cy="308520"/>
                <a:chOff x="5905440" y="1142640"/>
                <a:chExt cx="771480" cy="308520"/>
              </a:xfrm>
            </p:grpSpPr>
            <p:sp>
              <p:nvSpPr>
                <p:cNvPr id="639" name="Oval 99"/>
                <p:cNvSpPr/>
                <p:nvPr/>
              </p:nvSpPr>
              <p:spPr>
                <a:xfrm>
                  <a:off x="5905440" y="1374120"/>
                  <a:ext cx="77148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Freeform 100"/>
                <p:cNvSpPr/>
                <p:nvPr/>
              </p:nvSpPr>
              <p:spPr>
                <a:xfrm>
                  <a:off x="5906160" y="1181880"/>
                  <a:ext cx="770760" cy="228960"/>
                </a:xfrm>
                <a:custGeom>
                  <a:avLst/>
                  <a:gdLst>
                    <a:gd name="textAreaLeft" fmla="*/ 0 w 770760"/>
                    <a:gd name="textAreaRight" fmla="*/ 771120 w 770760"/>
                    <a:gd name="textAreaTop" fmla="*/ 0 h 228960"/>
                    <a:gd name="textAreaBottom" fmla="*/ 229320 h 228960"/>
                  </a:gdLst>
                  <a:ahLst/>
                  <a:rect l="textAreaLeft" t="textAreaTop" r="textAreaRight" b="textAreaBottom"/>
                  <a:pathLst>
                    <a:path w="20000" h="20000">
                      <a:moveTo>
                        <a:pt x="19981" y="0"/>
                      </a:moveTo>
                      <a:lnTo>
                        <a:pt x="19981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Oval 101"/>
                <p:cNvSpPr/>
                <p:nvPr/>
              </p:nvSpPr>
              <p:spPr>
                <a:xfrm>
                  <a:off x="5905440" y="1142640"/>
                  <a:ext cx="77148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2" name="Oval 102"/>
              <p:cNvSpPr/>
              <p:nvPr/>
            </p:nvSpPr>
            <p:spPr>
              <a:xfrm>
                <a:off x="5905440" y="1373760"/>
                <a:ext cx="77148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103"/>
              <p:cNvSpPr/>
              <p:nvPr/>
            </p:nvSpPr>
            <p:spPr>
              <a:xfrm>
                <a:off x="5906160" y="1180800"/>
                <a:ext cx="770760" cy="228960"/>
              </a:xfrm>
              <a:custGeom>
                <a:avLst/>
                <a:gdLst>
                  <a:gd name="textAreaLeft" fmla="*/ 0 w 770760"/>
                  <a:gd name="textAreaRight" fmla="*/ 771120 w 770760"/>
                  <a:gd name="textAreaTop" fmla="*/ 0 h 228960"/>
                  <a:gd name="textAreaBottom" fmla="*/ 229320 h 22896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104"/>
              <p:cNvSpPr/>
              <p:nvPr/>
            </p:nvSpPr>
            <p:spPr>
              <a:xfrm>
                <a:off x="5913000" y="1373040"/>
                <a:ext cx="756720" cy="41040"/>
              </a:xfrm>
              <a:custGeom>
                <a:avLst/>
                <a:gdLst>
                  <a:gd name="textAreaLeft" fmla="*/ 0 w 756720"/>
                  <a:gd name="textAreaRight" fmla="*/ 757080 w 75672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692"/>
                    </a:lnTo>
                    <a:lnTo>
                      <a:pt x="0" y="19692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Rectangle 105"/>
              <p:cNvSpPr/>
              <p:nvPr/>
            </p:nvSpPr>
            <p:spPr>
              <a:xfrm>
                <a:off x="6105240" y="1242720"/>
                <a:ext cx="37188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106"/>
              <p:cNvSpPr/>
              <p:nvPr/>
            </p:nvSpPr>
            <p:spPr>
              <a:xfrm>
                <a:off x="5910840" y="1174320"/>
                <a:ext cx="762480" cy="42480"/>
              </a:xfrm>
              <a:custGeom>
                <a:avLst/>
                <a:gdLst>
                  <a:gd name="textAreaLeft" fmla="*/ 0 w 762480"/>
                  <a:gd name="textAreaRight" fmla="*/ 762840 w 76248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701"/>
                    </a:lnTo>
                    <a:lnTo>
                      <a:pt x="0" y="19701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Oval 107"/>
              <p:cNvSpPr/>
              <p:nvPr/>
            </p:nvSpPr>
            <p:spPr>
              <a:xfrm>
                <a:off x="5905440" y="1141560"/>
                <a:ext cx="77148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8" name="Group 108"/>
            <p:cNvGrpSpPr/>
            <p:nvPr/>
          </p:nvGrpSpPr>
          <p:grpSpPr>
            <a:xfrm>
              <a:off x="5905440" y="1764000"/>
              <a:ext cx="771480" cy="309240"/>
              <a:chOff x="5905440" y="1764000"/>
              <a:chExt cx="771480" cy="309240"/>
            </a:xfrm>
          </p:grpSpPr>
          <p:grpSp>
            <p:nvGrpSpPr>
              <p:cNvPr id="649" name="Group 109"/>
              <p:cNvGrpSpPr/>
              <p:nvPr/>
            </p:nvGrpSpPr>
            <p:grpSpPr>
              <a:xfrm>
                <a:off x="5905440" y="1765080"/>
                <a:ext cx="771480" cy="308160"/>
                <a:chOff x="5905440" y="1765080"/>
                <a:chExt cx="771480" cy="308160"/>
              </a:xfrm>
            </p:grpSpPr>
            <p:sp>
              <p:nvSpPr>
                <p:cNvPr id="650" name="Oval 110"/>
                <p:cNvSpPr/>
                <p:nvPr/>
              </p:nvSpPr>
              <p:spPr>
                <a:xfrm>
                  <a:off x="5905440" y="1996560"/>
                  <a:ext cx="771480" cy="7668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Freeform 111"/>
                <p:cNvSpPr/>
                <p:nvPr/>
              </p:nvSpPr>
              <p:spPr>
                <a:xfrm>
                  <a:off x="5906160" y="1804320"/>
                  <a:ext cx="770760" cy="228960"/>
                </a:xfrm>
                <a:custGeom>
                  <a:avLst/>
                  <a:gdLst>
                    <a:gd name="textAreaLeft" fmla="*/ 0 w 770760"/>
                    <a:gd name="textAreaRight" fmla="*/ 771120 w 770760"/>
                    <a:gd name="textAreaTop" fmla="*/ 0 h 228960"/>
                    <a:gd name="textAreaBottom" fmla="*/ 229320 h 228960"/>
                  </a:gdLst>
                  <a:ahLst/>
                  <a:rect l="textAreaLeft" t="textAreaTop" r="textAreaRight" b="textAreaBottom"/>
                  <a:pathLst>
                    <a:path w="20000" h="20000">
                      <a:moveTo>
                        <a:pt x="19981" y="0"/>
                      </a:moveTo>
                      <a:lnTo>
                        <a:pt x="19981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Oval 112"/>
                <p:cNvSpPr/>
                <p:nvPr/>
              </p:nvSpPr>
              <p:spPr>
                <a:xfrm>
                  <a:off x="5905440" y="1765080"/>
                  <a:ext cx="771480" cy="7668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3" name="Oval 113"/>
              <p:cNvSpPr/>
              <p:nvPr/>
            </p:nvSpPr>
            <p:spPr>
              <a:xfrm>
                <a:off x="5905440" y="1995840"/>
                <a:ext cx="77148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114"/>
              <p:cNvSpPr/>
              <p:nvPr/>
            </p:nvSpPr>
            <p:spPr>
              <a:xfrm>
                <a:off x="5906160" y="1803240"/>
                <a:ext cx="770760" cy="228600"/>
              </a:xfrm>
              <a:custGeom>
                <a:avLst/>
                <a:gdLst>
                  <a:gd name="textAreaLeft" fmla="*/ 0 w 770760"/>
                  <a:gd name="textAreaRight" fmla="*/ 771120 w 77076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115"/>
              <p:cNvSpPr/>
              <p:nvPr/>
            </p:nvSpPr>
            <p:spPr>
              <a:xfrm>
                <a:off x="5913000" y="1995120"/>
                <a:ext cx="756720" cy="41040"/>
              </a:xfrm>
              <a:custGeom>
                <a:avLst/>
                <a:gdLst>
                  <a:gd name="textAreaLeft" fmla="*/ 0 w 756720"/>
                  <a:gd name="textAreaRight" fmla="*/ 757080 w 75672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692"/>
                    </a:lnTo>
                    <a:lnTo>
                      <a:pt x="0" y="19692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Rectangle 116"/>
              <p:cNvSpPr/>
              <p:nvPr/>
            </p:nvSpPr>
            <p:spPr>
              <a:xfrm>
                <a:off x="6105240" y="1864800"/>
                <a:ext cx="37188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117"/>
              <p:cNvSpPr/>
              <p:nvPr/>
            </p:nvSpPr>
            <p:spPr>
              <a:xfrm>
                <a:off x="5910840" y="1796760"/>
                <a:ext cx="762480" cy="42480"/>
              </a:xfrm>
              <a:custGeom>
                <a:avLst/>
                <a:gdLst>
                  <a:gd name="textAreaLeft" fmla="*/ 0 w 762480"/>
                  <a:gd name="textAreaRight" fmla="*/ 762840 w 76248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701"/>
                    </a:lnTo>
                    <a:lnTo>
                      <a:pt x="0" y="19701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Oval 118"/>
              <p:cNvSpPr/>
              <p:nvPr/>
            </p:nvSpPr>
            <p:spPr>
              <a:xfrm>
                <a:off x="5905440" y="1764000"/>
                <a:ext cx="77148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9" name="Group 119"/>
            <p:cNvGrpSpPr/>
            <p:nvPr/>
          </p:nvGrpSpPr>
          <p:grpSpPr>
            <a:xfrm>
              <a:off x="5905440" y="2379960"/>
              <a:ext cx="771480" cy="309240"/>
              <a:chOff x="5905440" y="2379960"/>
              <a:chExt cx="771480" cy="309240"/>
            </a:xfrm>
          </p:grpSpPr>
          <p:grpSp>
            <p:nvGrpSpPr>
              <p:cNvPr id="660" name="Group 120"/>
              <p:cNvGrpSpPr/>
              <p:nvPr/>
            </p:nvGrpSpPr>
            <p:grpSpPr>
              <a:xfrm>
                <a:off x="5905440" y="2381040"/>
                <a:ext cx="771480" cy="308160"/>
                <a:chOff x="5905440" y="2381040"/>
                <a:chExt cx="771480" cy="308160"/>
              </a:xfrm>
            </p:grpSpPr>
            <p:sp>
              <p:nvSpPr>
                <p:cNvPr id="661" name="Oval 121"/>
                <p:cNvSpPr/>
                <p:nvPr/>
              </p:nvSpPr>
              <p:spPr>
                <a:xfrm>
                  <a:off x="5905440" y="2612520"/>
                  <a:ext cx="771480" cy="7668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Freeform 122"/>
                <p:cNvSpPr/>
                <p:nvPr/>
              </p:nvSpPr>
              <p:spPr>
                <a:xfrm>
                  <a:off x="5906160" y="2420280"/>
                  <a:ext cx="770760" cy="228960"/>
                </a:xfrm>
                <a:custGeom>
                  <a:avLst/>
                  <a:gdLst>
                    <a:gd name="textAreaLeft" fmla="*/ 0 w 770760"/>
                    <a:gd name="textAreaRight" fmla="*/ 771120 w 770760"/>
                    <a:gd name="textAreaTop" fmla="*/ 0 h 228960"/>
                    <a:gd name="textAreaBottom" fmla="*/ 229320 h 228960"/>
                  </a:gdLst>
                  <a:ahLst/>
                  <a:rect l="textAreaLeft" t="textAreaTop" r="textAreaRight" b="textAreaBottom"/>
                  <a:pathLst>
                    <a:path w="20000" h="20000">
                      <a:moveTo>
                        <a:pt x="19981" y="0"/>
                      </a:moveTo>
                      <a:lnTo>
                        <a:pt x="19981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Oval 123"/>
                <p:cNvSpPr/>
                <p:nvPr/>
              </p:nvSpPr>
              <p:spPr>
                <a:xfrm>
                  <a:off x="5905440" y="2381040"/>
                  <a:ext cx="771480" cy="7668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4" name="Oval 124"/>
              <p:cNvSpPr/>
              <p:nvPr/>
            </p:nvSpPr>
            <p:spPr>
              <a:xfrm>
                <a:off x="5905440" y="2611800"/>
                <a:ext cx="77148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125"/>
              <p:cNvSpPr/>
              <p:nvPr/>
            </p:nvSpPr>
            <p:spPr>
              <a:xfrm>
                <a:off x="5906160" y="2419200"/>
                <a:ext cx="770760" cy="228600"/>
              </a:xfrm>
              <a:custGeom>
                <a:avLst/>
                <a:gdLst>
                  <a:gd name="textAreaLeft" fmla="*/ 0 w 770760"/>
                  <a:gd name="textAreaRight" fmla="*/ 771120 w 77076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126"/>
              <p:cNvSpPr/>
              <p:nvPr/>
            </p:nvSpPr>
            <p:spPr>
              <a:xfrm>
                <a:off x="5913000" y="2611080"/>
                <a:ext cx="756720" cy="41040"/>
              </a:xfrm>
              <a:custGeom>
                <a:avLst/>
                <a:gdLst>
                  <a:gd name="textAreaLeft" fmla="*/ 0 w 756720"/>
                  <a:gd name="textAreaRight" fmla="*/ 757080 w 75672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692"/>
                    </a:lnTo>
                    <a:lnTo>
                      <a:pt x="0" y="19692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Rectangle 127"/>
              <p:cNvSpPr/>
              <p:nvPr/>
            </p:nvSpPr>
            <p:spPr>
              <a:xfrm>
                <a:off x="6105240" y="2480760"/>
                <a:ext cx="37188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128"/>
              <p:cNvSpPr/>
              <p:nvPr/>
            </p:nvSpPr>
            <p:spPr>
              <a:xfrm>
                <a:off x="5910840" y="2412720"/>
                <a:ext cx="762480" cy="42480"/>
              </a:xfrm>
              <a:custGeom>
                <a:avLst/>
                <a:gdLst>
                  <a:gd name="textAreaLeft" fmla="*/ 0 w 762480"/>
                  <a:gd name="textAreaRight" fmla="*/ 762840 w 76248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701"/>
                    </a:lnTo>
                    <a:lnTo>
                      <a:pt x="0" y="19701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Oval 129"/>
              <p:cNvSpPr/>
              <p:nvPr/>
            </p:nvSpPr>
            <p:spPr>
              <a:xfrm>
                <a:off x="5905440" y="2379960"/>
                <a:ext cx="77148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0" name="Group 130"/>
            <p:cNvGrpSpPr/>
            <p:nvPr/>
          </p:nvGrpSpPr>
          <p:grpSpPr>
            <a:xfrm>
              <a:off x="5905440" y="2982960"/>
              <a:ext cx="771480" cy="309600"/>
              <a:chOff x="5905440" y="2982960"/>
              <a:chExt cx="771480" cy="309600"/>
            </a:xfrm>
          </p:grpSpPr>
          <p:grpSp>
            <p:nvGrpSpPr>
              <p:cNvPr id="671" name="Group 131"/>
              <p:cNvGrpSpPr/>
              <p:nvPr/>
            </p:nvGrpSpPr>
            <p:grpSpPr>
              <a:xfrm>
                <a:off x="5905440" y="2984040"/>
                <a:ext cx="771480" cy="308520"/>
                <a:chOff x="5905440" y="2984040"/>
                <a:chExt cx="771480" cy="308520"/>
              </a:xfrm>
            </p:grpSpPr>
            <p:sp>
              <p:nvSpPr>
                <p:cNvPr id="672" name="Oval 132"/>
                <p:cNvSpPr/>
                <p:nvPr/>
              </p:nvSpPr>
              <p:spPr>
                <a:xfrm>
                  <a:off x="5905440" y="3215520"/>
                  <a:ext cx="77148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Freeform 133"/>
                <p:cNvSpPr/>
                <p:nvPr/>
              </p:nvSpPr>
              <p:spPr>
                <a:xfrm>
                  <a:off x="5906160" y="3023280"/>
                  <a:ext cx="770760" cy="228960"/>
                </a:xfrm>
                <a:custGeom>
                  <a:avLst/>
                  <a:gdLst>
                    <a:gd name="textAreaLeft" fmla="*/ 0 w 770760"/>
                    <a:gd name="textAreaRight" fmla="*/ 771120 w 770760"/>
                    <a:gd name="textAreaTop" fmla="*/ 0 h 228960"/>
                    <a:gd name="textAreaBottom" fmla="*/ 229320 h 228960"/>
                  </a:gdLst>
                  <a:ahLst/>
                  <a:rect l="textAreaLeft" t="textAreaTop" r="textAreaRight" b="textAreaBottom"/>
                  <a:pathLst>
                    <a:path w="20000" h="20000">
                      <a:moveTo>
                        <a:pt x="19981" y="0"/>
                      </a:moveTo>
                      <a:lnTo>
                        <a:pt x="19981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Oval 134"/>
                <p:cNvSpPr/>
                <p:nvPr/>
              </p:nvSpPr>
              <p:spPr>
                <a:xfrm>
                  <a:off x="5905440" y="2984040"/>
                  <a:ext cx="77148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5" name="Oval 135"/>
              <p:cNvSpPr/>
              <p:nvPr/>
            </p:nvSpPr>
            <p:spPr>
              <a:xfrm>
                <a:off x="5905440" y="3215160"/>
                <a:ext cx="77148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136"/>
              <p:cNvSpPr/>
              <p:nvPr/>
            </p:nvSpPr>
            <p:spPr>
              <a:xfrm>
                <a:off x="5906160" y="3022200"/>
                <a:ext cx="770760" cy="228960"/>
              </a:xfrm>
              <a:custGeom>
                <a:avLst/>
                <a:gdLst>
                  <a:gd name="textAreaLeft" fmla="*/ 0 w 770760"/>
                  <a:gd name="textAreaRight" fmla="*/ 771120 w 770760"/>
                  <a:gd name="textAreaTop" fmla="*/ 0 h 228960"/>
                  <a:gd name="textAreaBottom" fmla="*/ 229320 h 22896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137"/>
              <p:cNvSpPr/>
              <p:nvPr/>
            </p:nvSpPr>
            <p:spPr>
              <a:xfrm>
                <a:off x="5913000" y="3214440"/>
                <a:ext cx="756720" cy="41040"/>
              </a:xfrm>
              <a:custGeom>
                <a:avLst/>
                <a:gdLst>
                  <a:gd name="textAreaLeft" fmla="*/ 0 w 756720"/>
                  <a:gd name="textAreaRight" fmla="*/ 757080 w 75672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692"/>
                    </a:lnTo>
                    <a:lnTo>
                      <a:pt x="0" y="19692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Rectangle 138"/>
              <p:cNvSpPr/>
              <p:nvPr/>
            </p:nvSpPr>
            <p:spPr>
              <a:xfrm>
                <a:off x="6105240" y="3084120"/>
                <a:ext cx="37188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139"/>
              <p:cNvSpPr/>
              <p:nvPr/>
            </p:nvSpPr>
            <p:spPr>
              <a:xfrm>
                <a:off x="5910840" y="3015720"/>
                <a:ext cx="762480" cy="42480"/>
              </a:xfrm>
              <a:custGeom>
                <a:avLst/>
                <a:gdLst>
                  <a:gd name="textAreaLeft" fmla="*/ 0 w 762480"/>
                  <a:gd name="textAreaRight" fmla="*/ 762840 w 76248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701"/>
                    </a:lnTo>
                    <a:lnTo>
                      <a:pt x="0" y="19701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Oval 140"/>
              <p:cNvSpPr/>
              <p:nvPr/>
            </p:nvSpPr>
            <p:spPr>
              <a:xfrm>
                <a:off x="5905440" y="2982960"/>
                <a:ext cx="77148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1" name="Group 141"/>
            <p:cNvGrpSpPr/>
            <p:nvPr/>
          </p:nvGrpSpPr>
          <p:grpSpPr>
            <a:xfrm>
              <a:off x="4405320" y="4357800"/>
              <a:ext cx="773280" cy="309600"/>
              <a:chOff x="4405320" y="4357800"/>
              <a:chExt cx="773280" cy="309600"/>
            </a:xfrm>
          </p:grpSpPr>
          <p:grpSp>
            <p:nvGrpSpPr>
              <p:cNvPr id="682" name="Group 142"/>
              <p:cNvGrpSpPr/>
              <p:nvPr/>
            </p:nvGrpSpPr>
            <p:grpSpPr>
              <a:xfrm>
                <a:off x="4405680" y="4358160"/>
                <a:ext cx="772920" cy="309240"/>
                <a:chOff x="4405680" y="4358160"/>
                <a:chExt cx="772920" cy="309240"/>
              </a:xfrm>
            </p:grpSpPr>
            <p:sp>
              <p:nvSpPr>
                <p:cNvPr id="683" name="Oval 143"/>
                <p:cNvSpPr/>
                <p:nvPr/>
              </p:nvSpPr>
              <p:spPr>
                <a:xfrm>
                  <a:off x="4405680" y="4590360"/>
                  <a:ext cx="77292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Freeform 144"/>
                <p:cNvSpPr/>
                <p:nvPr/>
              </p:nvSpPr>
              <p:spPr>
                <a:xfrm>
                  <a:off x="4406040" y="4397400"/>
                  <a:ext cx="772560" cy="229320"/>
                </a:xfrm>
                <a:custGeom>
                  <a:avLst/>
                  <a:gdLst>
                    <a:gd name="textAreaLeft" fmla="*/ 0 w 772560"/>
                    <a:gd name="textAreaRight" fmla="*/ 772920 w 772560"/>
                    <a:gd name="textAreaTop" fmla="*/ 0 h 229320"/>
                    <a:gd name="textAreaBottom" fmla="*/ 229680 h 229320"/>
                  </a:gdLst>
                  <a:ahLst/>
                  <a:rect l="textAreaLeft" t="textAreaTop" r="textAreaRight" b="textAreaBottom"/>
                  <a:pathLst>
                    <a:path w="20000" h="20000">
                      <a:moveTo>
                        <a:pt x="19981" y="0"/>
                      </a:moveTo>
                      <a:lnTo>
                        <a:pt x="19981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Oval 145"/>
                <p:cNvSpPr/>
                <p:nvPr/>
              </p:nvSpPr>
              <p:spPr>
                <a:xfrm>
                  <a:off x="4405680" y="4358160"/>
                  <a:ext cx="77292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6" name="Oval 146"/>
              <p:cNvSpPr/>
              <p:nvPr/>
            </p:nvSpPr>
            <p:spPr>
              <a:xfrm>
                <a:off x="4405320" y="4589280"/>
                <a:ext cx="77292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147"/>
              <p:cNvSpPr/>
              <p:nvPr/>
            </p:nvSpPr>
            <p:spPr>
              <a:xfrm>
                <a:off x="4405680" y="4397040"/>
                <a:ext cx="772200" cy="228960"/>
              </a:xfrm>
              <a:custGeom>
                <a:avLst/>
                <a:gdLst>
                  <a:gd name="textAreaLeft" fmla="*/ 0 w 772200"/>
                  <a:gd name="textAreaRight" fmla="*/ 772560 w 772200"/>
                  <a:gd name="textAreaTop" fmla="*/ 0 h 228960"/>
                  <a:gd name="textAreaBottom" fmla="*/ 229320 h 22896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148"/>
              <p:cNvSpPr/>
              <p:nvPr/>
            </p:nvSpPr>
            <p:spPr>
              <a:xfrm>
                <a:off x="4412880" y="4589280"/>
                <a:ext cx="757800" cy="41040"/>
              </a:xfrm>
              <a:custGeom>
                <a:avLst/>
                <a:gdLst>
                  <a:gd name="textAreaLeft" fmla="*/ 0 w 757800"/>
                  <a:gd name="textAreaRight" fmla="*/ 758160 w 75780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692"/>
                    </a:lnTo>
                    <a:lnTo>
                      <a:pt x="0" y="19692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Rectangle 149"/>
              <p:cNvSpPr/>
              <p:nvPr/>
            </p:nvSpPr>
            <p:spPr>
              <a:xfrm>
                <a:off x="4605480" y="4458240"/>
                <a:ext cx="37224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150"/>
              <p:cNvSpPr/>
              <p:nvPr/>
            </p:nvSpPr>
            <p:spPr>
              <a:xfrm>
                <a:off x="4411440" y="4390200"/>
                <a:ext cx="763560" cy="4248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701"/>
                    </a:lnTo>
                    <a:lnTo>
                      <a:pt x="0" y="19701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Oval 151"/>
              <p:cNvSpPr/>
              <p:nvPr/>
            </p:nvSpPr>
            <p:spPr>
              <a:xfrm>
                <a:off x="4405320" y="4357800"/>
                <a:ext cx="77292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2" name="Freeform 152"/>
            <p:cNvSpPr/>
            <p:nvPr/>
          </p:nvSpPr>
          <p:spPr>
            <a:xfrm>
              <a:off x="4791240" y="4084920"/>
              <a:ext cx="360" cy="3045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5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Computer Organization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1" name="Footer Placeholder 5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516BE-6AD3-47D6-B73E-DA74672DFAEB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Six logical units of computer system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Input uni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Mouse, keyboard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Output uni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Printer, monitor, audio speaker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Memory uni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Retains input and processed informatio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Arithmetic and logic unit (ALU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Performs calculation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ontrol uni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upervises operation of other devic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condary storage uni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Hard drives, floppy driv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23640" y="434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What a computer program is?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5" name="Footer Placeholder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7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88E63-E467-45F9-96E7-6F760F33033C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For a computer to be able to perform specific tasks (i.e. print what grade a student got on an exam), it must be given instructions to do the task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he set of instructions that tells the computer to perform specific tasks is known as a </a:t>
            </a:r>
            <a:r>
              <a:rPr b="0" i="1" lang="en-US" sz="2800" spc="-1" strike="noStrike">
                <a:solidFill>
                  <a:srgbClr val="775f55"/>
                </a:solidFill>
                <a:latin typeface="Tw Cen MT"/>
              </a:rPr>
              <a:t>computer program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5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dc3"/>
                </a:solidFill>
                <a:latin typeface="Tw Cen MT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775f55"/>
                </a:solidFill>
                <a:latin typeface="Tw Cen MT"/>
              </a:rPr>
              <a:t>Machine Languages, Assembly Languages and High-Level Languages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Machine languag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Natural language” of computer componen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achine dependen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Assembly languag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English-like abbreviations represent computer operation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ranslator programs convert to machine languag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High-level languag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llows for writing more “English-like” instruction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Contains commonly used mathematical operations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ompiler convert to machine languag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  <a:ea typeface="Arial"/>
              </a:rPr>
              <a:t>An Overview Of Computer Language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1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9C89F-E342-4DC0-8B40-88B45E7B1236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612720" y="1600200"/>
          <a:ext cx="8153280" cy="4114800"/>
        </p:xfrm>
        <a:graphic>
          <a:graphicData uri="http://schemas.openxmlformats.org/drawingml/2006/table">
            <a:tbl>
              <a:tblPr/>
              <a:tblGrid>
                <a:gridCol w="1655640"/>
                <a:gridCol w="2448000"/>
                <a:gridCol w="2011320"/>
                <a:gridCol w="20383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w Cen MT"/>
                        </a:rPr>
                        <a:t>1-Machine langu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w Cen MT"/>
                        </a:rPr>
                        <a:t>2-Assembly langu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w Cen MT"/>
                        </a:rPr>
                        <a:t>3-High-level langu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204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95b22"/>
                          </a:solidFill>
                          <a:latin typeface="Tw Cen MT"/>
                        </a:rPr>
                        <a:t>represen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llection of binary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numb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ymbolic form of machine  language (I.e. symbolic names are used to represent </a:t>
                      </a:r>
                      <a:r>
                        <a:rPr b="0" lang="en-US" sz="1600" spc="-1" strike="noStrike">
                          <a:solidFill>
                            <a:srgbClr val="1313ff"/>
                          </a:solidFill>
                          <a:latin typeface="Tw Cen MT"/>
                        </a:rPr>
                        <a:t>operation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, </a:t>
                      </a: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w Cen MT"/>
                        </a:rPr>
                        <a:t>register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&amp; </a:t>
                      </a: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Tw Cen MT"/>
                        </a:rPr>
                        <a:t>memory location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mbines algebraic  expressions with symbols taken from  English language(ex. C, Pascal, FORTRAN, …et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95b22"/>
                          </a:solidFill>
                          <a:latin typeface="Tw Cen MT"/>
                        </a:rPr>
                        <a:t>ex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  <a:ea typeface="Traditional Arabic"/>
                        </a:rPr>
                        <a:t>10100001 00000000 0000000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  <a:ea typeface="Traditional Arabic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  <a:ea typeface="Traditional Arabic"/>
                        </a:rPr>
                        <a:t>00000101 00000100 0000000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  <a:ea typeface="Traditional Arabic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  <a:ea typeface="Traditional Arabic"/>
                        </a:rPr>
                        <a:t>10100011 00000000 0000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313ff"/>
                          </a:solidFill>
                          <a:latin typeface="Tw Cen MT"/>
                          <a:ea typeface="Traditional Arabic"/>
                        </a:rPr>
                        <a:t>MOV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  <a:ea typeface="Traditional Arabic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Tw Cen MT"/>
                          <a:ea typeface="Traditional Arabic"/>
                        </a:rPr>
                        <a:t>A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  <a:ea typeface="Traditional Arabic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w Cen MT"/>
                          <a:ea typeface="Traditional Arabic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313ff"/>
                          </a:solidFill>
                          <a:latin typeface="Tw Cen MT"/>
                          <a:ea typeface="Traditional Arabic"/>
                        </a:rPr>
                        <a:t>MOV A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  <a:ea typeface="Traditional Arabic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Tw Cen MT"/>
                          <a:ea typeface="Traditional Arabic"/>
                        </a:rPr>
                        <a:t> 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313ff"/>
                          </a:solidFill>
                          <a:latin typeface="Tw Cen MT"/>
                          <a:ea typeface="Traditional Arabic"/>
                        </a:rPr>
                        <a:t>ADD </a:t>
                      </a: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Tw Cen MT"/>
                          <a:ea typeface="Traditional Arabic"/>
                        </a:rPr>
                        <a:t>A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  <a:ea typeface="Traditional Arabic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  <a:ea typeface="Traditional Arabic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=A+4 *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95b22"/>
                          </a:solidFill>
                          <a:latin typeface="Tw Cen MT"/>
                        </a:rPr>
                        <a:t>how does the computer understand 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irectly understood by a compute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ssemble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convert to machine langu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mpiler or (interpter 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nvert to machine langu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  <p:grpSp>
        <p:nvGrpSpPr>
          <p:cNvPr id="424" name="Group 45"/>
          <p:cNvGrpSpPr/>
          <p:nvPr/>
        </p:nvGrpSpPr>
        <p:grpSpPr>
          <a:xfrm>
            <a:off x="395280" y="5950080"/>
            <a:ext cx="8381880" cy="380880"/>
            <a:chOff x="395280" y="5950080"/>
            <a:chExt cx="8381880" cy="380880"/>
          </a:xfrm>
        </p:grpSpPr>
        <p:sp>
          <p:nvSpPr>
            <p:cNvPr id="425" name="Line 40"/>
            <p:cNvSpPr/>
            <p:nvPr/>
          </p:nvSpPr>
          <p:spPr>
            <a:xfrm>
              <a:off x="395280" y="6330960"/>
              <a:ext cx="8381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43"/>
            <p:cNvSpPr/>
            <p:nvPr/>
          </p:nvSpPr>
          <p:spPr>
            <a:xfrm>
              <a:off x="395280" y="5950080"/>
              <a:ext cx="838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Easier to 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Group 46"/>
          <p:cNvGrpSpPr/>
          <p:nvPr/>
        </p:nvGrpSpPr>
        <p:grpSpPr>
          <a:xfrm>
            <a:off x="395280" y="6491160"/>
            <a:ext cx="8381880" cy="368280"/>
            <a:chOff x="395280" y="6491160"/>
            <a:chExt cx="8381880" cy="368280"/>
          </a:xfrm>
        </p:grpSpPr>
        <p:sp>
          <p:nvSpPr>
            <p:cNvPr id="428" name="Line 41"/>
            <p:cNvSpPr/>
            <p:nvPr/>
          </p:nvSpPr>
          <p:spPr>
            <a:xfrm>
              <a:off x="395280" y="6491160"/>
              <a:ext cx="8381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44"/>
            <p:cNvSpPr/>
            <p:nvPr/>
          </p:nvSpPr>
          <p:spPr>
            <a:xfrm>
              <a:off x="395280" y="6491160"/>
              <a:ext cx="838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More powerfu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Levels of Program Development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1" name="Footer Placeholder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lide Number Placeholder 7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B5B98-9231-456D-9512-59EA64DD5015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228600" y="1904760"/>
            <a:ext cx="86868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uman thought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seudo-Natural Language (English, Arabic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igh Level Programming Language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(C, C++, Java, …)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achine Code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The Programmer’s Algorith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5" name="Footer Placeholder 7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D6829-F577-4FED-BEC7-043000D556DD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68000" y="1557000"/>
            <a:ext cx="83516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An algorithm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s a finite sequence of instructions that produces a solution to a problem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700640" indent="-2124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The programmer’s algorithm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efine the problem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lan the problem solution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de the program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mpile the program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Run the program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est and debug the program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6A2AB-2DB9-4E01-91AD-E8E1D691968C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68000" y="3538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1-Defining the Proble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9144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he problem must be defined in terms of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: Data to be processed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: The expected result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Look for nouns in the problem statement that suggest output and input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processing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: The statements to achieve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Look for verbs to suggest processing step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441" name="Group 4"/>
          <p:cNvGrpSpPr/>
          <p:nvPr/>
        </p:nvGrpSpPr>
        <p:grpSpPr>
          <a:xfrm>
            <a:off x="914400" y="4191120"/>
            <a:ext cx="7554240" cy="2064960"/>
            <a:chOff x="914400" y="4191120"/>
            <a:chExt cx="7554240" cy="2064960"/>
          </a:xfrm>
        </p:grpSpPr>
        <p:sp>
          <p:nvSpPr>
            <p:cNvPr id="442" name="Oval 5"/>
            <p:cNvSpPr/>
            <p:nvPr/>
          </p:nvSpPr>
          <p:spPr>
            <a:xfrm>
              <a:off x="3793680" y="4210920"/>
              <a:ext cx="1702440" cy="2045160"/>
            </a:xfrm>
            <a:prstGeom prst="ellipse">
              <a:avLst/>
            </a:prstGeom>
            <a:solidFill>
              <a:srgbClr val="c0fe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6"/>
            <p:cNvSpPr/>
            <p:nvPr/>
          </p:nvSpPr>
          <p:spPr>
            <a:xfrm>
              <a:off x="914400" y="4759560"/>
              <a:ext cx="1702440" cy="673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7"/>
            <p:cNvSpPr/>
            <p:nvPr/>
          </p:nvSpPr>
          <p:spPr>
            <a:xfrm>
              <a:off x="1032840" y="4944960"/>
              <a:ext cx="1585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Keyboar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8"/>
            <p:cNvSpPr/>
            <p:nvPr/>
          </p:nvSpPr>
          <p:spPr>
            <a:xfrm>
              <a:off x="6742080" y="4690800"/>
              <a:ext cx="1565280" cy="129132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9"/>
            <p:cNvSpPr/>
            <p:nvPr/>
          </p:nvSpPr>
          <p:spPr>
            <a:xfrm>
              <a:off x="6928560" y="4944960"/>
              <a:ext cx="11962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cre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10"/>
            <p:cNvSpPr/>
            <p:nvPr/>
          </p:nvSpPr>
          <p:spPr>
            <a:xfrm>
              <a:off x="3702600" y="4893480"/>
              <a:ext cx="1822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ss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11"/>
            <p:cNvSpPr/>
            <p:nvPr/>
          </p:nvSpPr>
          <p:spPr>
            <a:xfrm>
              <a:off x="1029960" y="4259520"/>
              <a:ext cx="1638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put 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12"/>
            <p:cNvSpPr/>
            <p:nvPr/>
          </p:nvSpPr>
          <p:spPr>
            <a:xfrm>
              <a:off x="6627600" y="4191120"/>
              <a:ext cx="184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utput 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0" name="Group 13"/>
            <p:cNvGrpSpPr/>
            <p:nvPr/>
          </p:nvGrpSpPr>
          <p:grpSpPr>
            <a:xfrm>
              <a:off x="2806920" y="4838040"/>
              <a:ext cx="3718800" cy="582480"/>
              <a:chOff x="2806920" y="4838040"/>
              <a:chExt cx="3718800" cy="582480"/>
            </a:xfrm>
          </p:grpSpPr>
          <p:sp>
            <p:nvSpPr>
              <p:cNvPr id="451" name="AutoShape 14"/>
              <p:cNvSpPr/>
              <p:nvPr/>
            </p:nvSpPr>
            <p:spPr>
              <a:xfrm>
                <a:off x="5686200" y="4838040"/>
                <a:ext cx="839520" cy="582480"/>
              </a:xfrm>
              <a:prstGeom prst="rightArrow">
                <a:avLst>
                  <a:gd name="adj1" fmla="val 50000"/>
                  <a:gd name="adj2" fmla="val 72084"/>
                </a:avLst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ebddc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AutoShape 15"/>
              <p:cNvSpPr/>
              <p:nvPr/>
            </p:nvSpPr>
            <p:spPr>
              <a:xfrm>
                <a:off x="2806920" y="4838040"/>
                <a:ext cx="839520" cy="582480"/>
              </a:xfrm>
              <a:prstGeom prst="rightArrow">
                <a:avLst>
                  <a:gd name="adj1" fmla="val 50000"/>
                  <a:gd name="adj2" fmla="val 72084"/>
                </a:avLst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ebddc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53" name="Ink 16" descr=""/>
          <p:cNvPicPr/>
          <p:nvPr/>
        </p:nvPicPr>
        <p:blipFill>
          <a:blip r:embed="rId1"/>
          <a:stretch/>
        </p:blipFill>
        <p:spPr>
          <a:xfrm>
            <a:off x="942840" y="2162160"/>
            <a:ext cx="1000440" cy="255600"/>
          </a:xfrm>
          <a:prstGeom prst="rect">
            <a:avLst/>
          </a:prstGeom>
          <a:ln w="0">
            <a:noFill/>
          </a:ln>
        </p:spPr>
      </p:pic>
      <p:pic>
        <p:nvPicPr>
          <p:cNvPr id="454" name="Ink 17" descr=""/>
          <p:cNvPicPr/>
          <p:nvPr/>
        </p:nvPicPr>
        <p:blipFill>
          <a:blip r:embed="rId2"/>
          <a:stretch/>
        </p:blipFill>
        <p:spPr>
          <a:xfrm>
            <a:off x="942840" y="2593800"/>
            <a:ext cx="1079640" cy="250920"/>
          </a:xfrm>
          <a:prstGeom prst="rect">
            <a:avLst/>
          </a:prstGeom>
          <a:ln w="0">
            <a:noFill/>
          </a:ln>
        </p:spPr>
      </p:pic>
      <p:pic>
        <p:nvPicPr>
          <p:cNvPr id="455" name="Ink 18" descr=""/>
          <p:cNvPicPr/>
          <p:nvPr/>
        </p:nvPicPr>
        <p:blipFill>
          <a:blip r:embed="rId3"/>
          <a:stretch/>
        </p:blipFill>
        <p:spPr>
          <a:xfrm>
            <a:off x="1374840" y="3386160"/>
            <a:ext cx="1655640" cy="2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1:23:47Z</dcterms:created>
  <dc:creator>user</dc:creator>
  <dc:description/>
  <dc:language>en-US</dc:language>
  <cp:lastModifiedBy>safaa bassam</cp:lastModifiedBy>
  <dcterms:modified xsi:type="dcterms:W3CDTF">2016-09-23T08:39:23Z</dcterms:modified>
  <cp:revision>4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6DA1098C655300498A04611AF6A7E116</vt:lpwstr>
  </property>
</Properties>
</file>