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876B-B427-4C99-9D12-4CC9A3A83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FE5-DC36-455C-93C0-5A80A61DBB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649E-3404-4F8C-9688-30C60C1FEA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49E-8350-4014-B714-A58EEE647B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D371-1CA4-4EA8-89D2-256BB40DBD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E729-05EF-447E-86FD-8D2119178A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0987-7671-4BC4-99D2-21E967FF76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7381-341E-484F-859D-3710C3841C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ED0-12CD-4438-B122-B02AE7BAAD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82F9-BE50-4DF3-8377-16F70682C4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09DC-BC84-4C2E-9BDD-A9482E6E55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5E82-CFAC-4507-B33C-5A1D03ED18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5E1-8DE2-4672-BF72-756269992D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8B46-70AE-4194-A319-A8F18915A4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34CB-1751-4870-BE62-D92DCCD3ED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4406-7B67-473D-9C5E-B171B9EEEC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DF0C-4148-4216-982A-1AA126D68C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FBDD-CAEE-4D08-A30D-C18CF5595D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48DB-C8C4-49AF-A664-DCC16BC48A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EBE7-823C-44D1-9711-A961865F35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C7B9-5C96-4D45-9F39-02DDF619F4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73B0-A000-41B0-B2EA-4BA2B6903B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35A4-8BC8-4139-BCDD-8EBCD80DA5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6E4-78E8-43FA-9CE4-9757AF87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201-C9EB-4489-9725-33FAAB17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A3B9F-CCDE-4E5D-9F94-81DC69EB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328D8-EE5B-4A1A-9FF4-09950EC1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81F13-F774-435F-9CEC-1E54EA2D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60449-EA95-4ADF-9743-D0ABA81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4D24D-57A7-4FC9-91ED-09D4E26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F508B-25E5-4641-8F70-9CBB9491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D2612-B28D-4362-8ED4-436FF4F2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9E870-1258-42AC-B07A-1BA0A022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B17D4-98F4-4E1B-997F-0BA2C78D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76B-4A82-437A-A558-90FEAD95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A7C-29F9-41CC-A39D-2E7C4D78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CE6C-BB89-4DCD-BACF-B40980D3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D645-A0C8-4F02-B0CC-09B348A2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B969-8C63-43A3-BDC6-E6531A34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8C9F-1B4B-4C22-BFFF-B2A472A9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FC6B-32AB-4100-A6DD-4AFAE7A9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63E7-5F56-45F0-A5C7-505315E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1B5B-1F1D-49BB-9E71-A0869A5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C56-E2E3-459B-8A0B-366A97D2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25D4-56B2-434E-84EA-CCF9FA4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3912-FD66-4FCF-BB31-24F6873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C957-96B6-40D2-8409-2200F562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E9C5-923F-42DA-A578-631DD3C6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D313-E549-438C-85A2-83EB7D09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95033-0247-4BF8-A10F-F2AD8EC1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D5A6E-59B4-4472-9646-FC701C5C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E7E5F-85F2-443F-8295-747E1301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0B5FD-FF82-407E-BCDD-3B73E37A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5EA69-12A9-4AA2-8B07-F26A9611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80F-DA79-470B-81EE-D011BED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11735-3F49-47B6-8B13-74BC3A06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CC200-786B-47E6-9029-237C87B6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416ED-445B-4238-A9F9-86FBC65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7B91A-5FC6-44EB-BCF6-AADC2611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97F5E-EFF0-4CFB-A21D-B962CFFB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71702-A9CB-4DA1-8C71-70E502C7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0C9A0-9B14-4AEF-AFD0-AE41DB04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ECBF3-2E7A-4337-82EE-517A28C2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8BE51-F7DA-4777-BA97-58E046FC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9DE8F-8FC7-4A8C-8175-DC802E0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BF4-EF43-43EC-B7CD-61BFB72C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5EC71-7633-4500-BB87-E647A85A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41BD7-3147-48BF-9FFA-22D9042A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E9426-C3A0-4E3C-91C7-4A78467F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44D98-3C57-4C9C-9B60-3E7B3BF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14410-5E4D-47DF-B331-177F5171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FE75F-34FD-4883-B147-0A519E23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96601-67C6-414B-AAAC-90F41760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B0C13-8989-4B14-BB71-D7E69EC8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21F1D-2548-4012-B493-6E6B845A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5A37F-9547-4ED3-9A1B-F61CD38D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3D6-EC44-47AD-99A3-872FC494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28DAE-F60E-47E5-ACB8-68C2350A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B4A20-A863-4FC5-9A9A-24CBEF36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A184B-2066-48B4-AD2A-E4943C6A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A5C79-F8A4-4C25-BB3E-EB0F424E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F18FD-D17B-455E-A15E-DF8E4CD1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9711F-CE0F-44B9-9C51-7979D805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3747D-1572-451A-8B56-E7A76E2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28EBA-5F93-41CD-87D2-2607532E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EDF76-C27C-47D2-800F-2422B1E8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C1B0C-D5F8-4E98-8B03-BF4C6DC1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180-CAA4-46AB-A526-CE70EBF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EC880-E535-4DC9-B9EC-47EC695D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7D232-1241-42D4-B136-94AC4ACA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F470-C6A7-42B9-8E15-486C7706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A9E4-4AFD-4B5A-A3BF-51809E24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F3D21-B8E0-4961-9764-61EFFD46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98AF-0400-4B6C-8E9A-C2C89BE7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507F0-433C-4D3B-BDEE-F1B6971C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C9706-E62D-4F68-BD67-66CF31D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BFF2E-942D-46A7-8DB7-14B2D56D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41416-3379-404C-B433-B385585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A6D-DCE5-426F-A97B-A93F5DFF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ED12D-120B-4D9F-8A33-FF3052A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6DBD1-7242-406D-8B82-9157937C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70400-3C3E-4457-9AA6-414AA39F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029A2-770F-4235-9280-29AE74F3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BFD01-0DFD-4729-960F-41E66356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2C9AD-CC01-4F8F-9129-22186168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D325B-10C8-4F46-B27B-7D55053D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E37A8-F8B6-4D41-8721-2A980EBA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21DB6-BA21-47DE-8084-EAFD506B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D7E5D-E8AE-4F1E-9D97-9803879A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D11-7713-4F76-AF93-4CDAC6D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7A9C6-1C96-4373-88AD-D6CAA8C5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81D68-9845-454A-937B-453B940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A03C7-BCF4-4A0A-9292-7D7258FA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BE116-E6DB-4867-95EE-E8C317E0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C67A4-8E91-4F7B-A45E-342313A3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E2716-9D64-4E5B-B7C3-DEB345CF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9483C-DF84-4E21-8202-1C3532E5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D4CB4-10FE-4304-B91D-C1CFFEE9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82BD9-F4A5-4177-967D-27728621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BE6B2-DC6F-4575-8DBD-3A73162E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ED5-1E88-4D43-9448-4C1250D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5B746-164C-4660-BEE9-E7C3E037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395D4-74AD-45A7-A8F4-B49D8998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8C6F4-D27B-42BE-A99F-81A98060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A1865-6F38-46F9-9FD9-0837CA5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BDEDF-A3CB-480E-AFCB-19CBD26B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4760B-259E-4C94-93BF-59300F76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E9B41-6A0C-469B-88E1-1CE51DE2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479DB-2C9D-44DE-9243-C4168B27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A3F89-59A2-463F-8717-34CD466C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83AB7-A9FB-4362-AF36-96ABE8C5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7351-4432-44BE-A4F0-1110FBE52FA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B596-B415-4011-9763-6B2398C5D9E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BED2-8B4B-49A2-B183-F3F0A8FCF450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76EE-D57F-483E-A009-446D5F257E3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8873-203F-40BC-A0F7-29F93EEABA4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5B40-DB57-4343-ACE9-261F60EEF28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91CE-F38F-45F1-A3CD-26C7BFB9E8A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417C-A1AF-44F9-970C-92FF963959B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E5BF-04CE-48B7-898F-9947D4D70F8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D925-F336-4DDC-98A6-33916DC8136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E903-28FA-4F00-A3D6-99BDC4DBD3F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759-680B-48E5-B7AE-B23CD6E7169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424-4708-489F-A768-0C0B607DC51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6FFF-CB2D-4FAB-827A-F227738CA62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D727-B9F5-4675-86A4-8A88A601207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8381-CB0E-49B9-B901-F029100EE8B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0EFB-7648-4409-9EAA-2FFB98121AC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Page </a:t>
            </a:r>
            <a:fld id="{5B597CE5-6EF2-44B2-9FC3-D9C26ABEB0C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INTRODUCTION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Fatimah Alak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E54D-27FD-47A8-9473-20566DC1FB6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nput and Outpu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come from many sources, such as users, files, and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take on many forms, such as text, graphics, and s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also take on many forms, such as numbers, text, graphics, sounds, or commands to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 </a:t>
            </a:r>
            <a:fld id="{46DC8F4C-9240-4744-AE2B-2828CB45C04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1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rectang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A8CBC254-DC80-4900-9B96-6F78F98CFF5C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2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um and Average of 5 numb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ve number x1, x2, x3, x4, 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 = x1+x2+x3+x4+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 = Sum/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272B3E40-AEB8-45CA-8619-7A13EEBD20CD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3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circ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PI * Radius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 * PI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2-Planning the 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1F28-5DDE-49BE-8D0E-C242AFB2E7B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, algorithms are used to outline the solution steps using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is useful for the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4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Arial"/>
              </a:rPr>
              <a:t>They are   drawn using rectangles, diamonds, ovals, and small circl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Write a Program to Print the Sum of two integer Number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15880" y="1717560"/>
            <a:ext cx="5580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9FBF-B94F-4120-96FC-9791502803D9}" type="slidenum">
              <a:rPr b="1" lang="ar-SA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5867280" y="1341360"/>
            <a:ext cx="2305080" cy="57636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796000" y="2276640"/>
            <a:ext cx="2448000" cy="50292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5726160" y="3141720"/>
            <a:ext cx="2590920" cy="50328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5726160" y="4005360"/>
            <a:ext cx="2590920" cy="720720"/>
          </a:xfrm>
          <a:prstGeom prst="flowChartProcess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N1 +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726160" y="5084640"/>
            <a:ext cx="2590920" cy="57636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5796000" y="6093000"/>
            <a:ext cx="2448000" cy="57600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AutoShape 10"/>
          <p:cNvCxnSpPr>
            <a:stCxn id="484" idx="2"/>
            <a:endCxn id="485" idx="1"/>
          </p:cNvCxnSpPr>
          <p:nvPr/>
        </p:nvCxnSpPr>
        <p:spPr>
          <a:xfrm>
            <a:off x="7019640" y="194616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1" name="AutoShape 11"/>
          <p:cNvCxnSpPr>
            <a:stCxn id="485" idx="4"/>
            <a:endCxn id="486" idx="1"/>
          </p:cNvCxnSpPr>
          <p:nvPr/>
        </p:nvCxnSpPr>
        <p:spPr>
          <a:xfrm>
            <a:off x="7020000" y="2808360"/>
            <a:ext cx="2160" cy="3052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2" name="AutoShape 12"/>
          <p:cNvCxnSpPr>
            <a:stCxn id="486" idx="4"/>
            <a:endCxn id="487" idx="0"/>
          </p:cNvCxnSpPr>
          <p:nvPr/>
        </p:nvCxnSpPr>
        <p:spPr>
          <a:xfrm>
            <a:off x="7021080" y="3673440"/>
            <a:ext cx="1080" cy="30384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3" name="AutoShape 13"/>
          <p:cNvCxnSpPr>
            <a:stCxn id="487" idx="2"/>
            <a:endCxn id="488" idx="1"/>
          </p:cNvCxnSpPr>
          <p:nvPr/>
        </p:nvCxnSpPr>
        <p:spPr>
          <a:xfrm>
            <a:off x="7021080" y="475452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4" name="AutoShape 14"/>
          <p:cNvCxnSpPr>
            <a:stCxn id="488" idx="4"/>
            <a:endCxn id="489" idx="0"/>
          </p:cNvCxnSpPr>
          <p:nvPr/>
        </p:nvCxnSpPr>
        <p:spPr>
          <a:xfrm flipH="1">
            <a:off x="7019640" y="5689080"/>
            <a:ext cx="2160" cy="3754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4302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3-Coding the Progra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1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0B56-742A-4D45-A4D8-64956D79384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240" y="1700280"/>
            <a:ext cx="873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ding is writing the program in a formal language calle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gramming Language 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A set of rules, symbols and special words used to write statemen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gram is written by translating the algorithm steps into a programming language statemen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written program is called </a:t>
            </a:r>
            <a:r>
              <a:rPr b="1" i="1" lang="en-US" sz="2800" spc="-1" strike="noStrike">
                <a:solidFill>
                  <a:srgbClr val="775f55"/>
                </a:solidFill>
                <a:latin typeface="Tw Cen MT"/>
              </a:rPr>
              <a:t>Source cod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d it is saved in a file with “.cpp” exten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9" name="Group 14"/>
          <p:cNvGrpSpPr/>
          <p:nvPr/>
        </p:nvGrpSpPr>
        <p:grpSpPr>
          <a:xfrm>
            <a:off x="5486400" y="4797360"/>
            <a:ext cx="3051360" cy="1785600"/>
            <a:chOff x="5486400" y="4797360"/>
            <a:chExt cx="3051360" cy="1785600"/>
          </a:xfrm>
        </p:grpSpPr>
        <p:sp>
          <p:nvSpPr>
            <p:cNvPr id="500" name="Line 2"/>
            <p:cNvSpPr/>
            <p:nvPr/>
          </p:nvSpPr>
          <p:spPr>
            <a:xfrm>
              <a:off x="77724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3"/>
            <p:cNvSpPr/>
            <p:nvPr/>
          </p:nvSpPr>
          <p:spPr>
            <a:xfrm>
              <a:off x="5607000" y="594036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4"/>
            <p:cNvSpPr/>
            <p:nvPr/>
          </p:nvSpPr>
          <p:spPr>
            <a:xfrm>
              <a:off x="61722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5"/>
            <p:cNvGrpSpPr/>
            <p:nvPr/>
          </p:nvGrpSpPr>
          <p:grpSpPr>
            <a:xfrm>
              <a:off x="5486400" y="5254560"/>
              <a:ext cx="1371600" cy="533160"/>
              <a:chOff x="5486400" y="5254560"/>
              <a:chExt cx="1371600" cy="533160"/>
            </a:xfrm>
          </p:grpSpPr>
          <p:sp>
            <p:nvSpPr>
              <p:cNvPr id="504" name="Oval 6"/>
              <p:cNvSpPr/>
              <p:nvPr/>
            </p:nvSpPr>
            <p:spPr>
              <a:xfrm>
                <a:off x="5486400" y="525456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7"/>
              <p:cNvSpPr/>
              <p:nvPr/>
            </p:nvSpPr>
            <p:spPr>
              <a:xfrm>
                <a:off x="5698440" y="5337000"/>
                <a:ext cx="94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d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 Box 10"/>
            <p:cNvSpPr/>
            <p:nvPr/>
          </p:nvSpPr>
          <p:spPr>
            <a:xfrm>
              <a:off x="5544000" y="479736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6976080" y="479736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Pseudo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005240" y="5940360"/>
              <a:ext cx="153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(The “.cpp”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3"/>
            <p:cNvSpPr/>
            <p:nvPr/>
          </p:nvSpPr>
          <p:spPr>
            <a:xfrm>
              <a:off x="7076160" y="533052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Coding in Programming Languag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31F-39E8-4905-A957-F5E866570C5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write computer programs (i.e. a set of instructions) in programming languages such as C, C++, and Jav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use these programming languages because they are easily understoo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ut then how does the computer understand the instructions that we writ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52240" y="430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4-Compiling Computer Progra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1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F9AF-0A07-44A3-8481-DE97CBA9A59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mputers do not understan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rograms written in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programming languag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such as  C, C++ and Jav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Program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must first be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nver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into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achine cod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at the computer can ru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Software that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a programming language statements into machine code is called a </a:t>
            </a:r>
            <a:r>
              <a:rPr b="1" i="1" lang="en-US" sz="2600" spc="-1" strike="noStrike">
                <a:solidFill>
                  <a:srgbClr val="775f55"/>
                </a:solidFill>
                <a:latin typeface="Tw Cen MT"/>
              </a:rPr>
              <a:t>compil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C , </a:t>
            </a:r>
            <a:r>
              <a:rPr b="1" i="1" lang="en-US" sz="26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gram, execute automatically before the compiler translation phase begi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dicate that certain manipulations are to be performed on the program before compilatio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18" name="Group 14"/>
          <p:cNvGrpSpPr/>
          <p:nvPr/>
        </p:nvGrpSpPr>
        <p:grpSpPr>
          <a:xfrm>
            <a:off x="5886000" y="4941720"/>
            <a:ext cx="3289680" cy="1511280"/>
            <a:chOff x="5886000" y="4941720"/>
            <a:chExt cx="3289680" cy="1511280"/>
          </a:xfrm>
        </p:grpSpPr>
        <p:sp>
          <p:nvSpPr>
            <p:cNvPr id="519" name="Line 4"/>
            <p:cNvSpPr/>
            <p:nvPr/>
          </p:nvSpPr>
          <p:spPr>
            <a:xfrm>
              <a:off x="8319960" y="5278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5"/>
            <p:cNvSpPr/>
            <p:nvPr/>
          </p:nvSpPr>
          <p:spPr>
            <a:xfrm>
              <a:off x="5886000" y="6084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6719760" y="5246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"/>
            <p:cNvSpPr/>
            <p:nvPr/>
          </p:nvSpPr>
          <p:spPr>
            <a:xfrm>
              <a:off x="6154920" y="494172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8"/>
            <p:cNvSpPr/>
            <p:nvPr/>
          </p:nvSpPr>
          <p:spPr>
            <a:xfrm>
              <a:off x="7567920" y="4941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9"/>
            <p:cNvSpPr/>
            <p:nvPr/>
          </p:nvSpPr>
          <p:spPr>
            <a:xfrm>
              <a:off x="7464960" y="608472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7623720" y="547488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11"/>
            <p:cNvGrpSpPr/>
            <p:nvPr/>
          </p:nvGrpSpPr>
          <p:grpSpPr>
            <a:xfrm>
              <a:off x="6033960" y="5354280"/>
              <a:ext cx="1371600" cy="533160"/>
              <a:chOff x="6033960" y="5354280"/>
              <a:chExt cx="1371600" cy="533160"/>
            </a:xfrm>
          </p:grpSpPr>
          <p:sp>
            <p:nvSpPr>
              <p:cNvPr id="527" name="Oval 12"/>
              <p:cNvSpPr/>
              <p:nvPr/>
            </p:nvSpPr>
            <p:spPr>
              <a:xfrm>
                <a:off x="6033960" y="535428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3"/>
              <p:cNvSpPr/>
              <p:nvPr/>
            </p:nvSpPr>
            <p:spPr>
              <a:xfrm>
                <a:off x="6082560" y="5436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mpil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5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rogramming Language Compil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4839-8037-4F3B-9F20-5301573A396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mpiler is a software tha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hecks the correctnes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of the source code according to the language rul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75f55"/>
                </a:solidFill>
                <a:latin typeface="Tw Cen MT"/>
              </a:rPr>
              <a:t>Syntax errors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are raised if some rules were violate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e source code into a machine code if no errors were foun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Is a Compu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055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ecutes statements (computations/logical decision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ardware 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hysical devices of computer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ftware: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grams that run on comput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06" name="Object 4"/>
          <p:cNvGraphicFramePr/>
          <p:nvPr/>
        </p:nvGraphicFramePr>
        <p:xfrm>
          <a:off x="1403280" y="3678120"/>
          <a:ext cx="612144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78120"/>
                    <a:ext cx="612144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Footer Placeholder 9"/>
          <p:cNvSpPr/>
          <p:nvPr/>
        </p:nvSpPr>
        <p:spPr>
          <a:xfrm>
            <a:off x="611280" y="6492960"/>
            <a:ext cx="542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EB41-032B-4904-9AA7-CE7BA89A7BF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5-Running The Progr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D132-4789-4CFD-82B3-47FB1C685AB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Before  running.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nks the object code with the code for the missing functions to produce an executable image (with no missing pieces) , this 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ink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the program compiles and links correctly, a file called a.out is produc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fore a program can be executed, the program must first be placed in memory th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oad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mputer, under the control of its CPU,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xecut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gram one instruction at a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6-Testing and Debugging the Pro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18E1-8919-4C7C-B2C7-9010F368E63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79280" y="184464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Tes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Be sure that the output of the program conforms with the inpu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There are two types of error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Logical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run but provides wrong output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Runtime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stop running suddenly when asking the OS executing a non accepted statement (divide by zero, etc).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ebugg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nd, Understand and correct the err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5D76-AC19-4E15-BB89-8E80E33E9EBE}" type="slidenum">
              <a:rPr b="0" lang="en-US" sz="1400" spc="-1" strike="noStrike">
                <a:solidFill>
                  <a:srgbClr val="775f55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asics of a Typical C++ Environ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52280" y="1733400"/>
            <a:ext cx="472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7"/>
          <p:cNvGrpSpPr/>
          <p:nvPr/>
        </p:nvGrpSpPr>
        <p:grpSpPr>
          <a:xfrm>
            <a:off x="4187880" y="1057320"/>
            <a:ext cx="4656240" cy="5571720"/>
            <a:chOff x="4187880" y="1057320"/>
            <a:chExt cx="4656240" cy="5571720"/>
          </a:xfrm>
        </p:grpSpPr>
        <p:sp>
          <p:nvSpPr>
            <p:cNvPr id="545" name="Freeform 5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8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6762600" y="3505320"/>
              <a:ext cx="171360" cy="1523520"/>
              <a:chOff x="6762600" y="3505320"/>
              <a:chExt cx="171360" cy="1523520"/>
            </a:xfrm>
          </p:grpSpPr>
          <p:sp>
            <p:nvSpPr>
              <p:cNvPr id="555" name="Arc 15"/>
              <p:cNvSpPr/>
              <p:nvPr/>
            </p:nvSpPr>
            <p:spPr>
              <a:xfrm>
                <a:off x="6762600" y="35053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rc 16"/>
              <p:cNvSpPr/>
              <p:nvPr/>
            </p:nvSpPr>
            <p:spPr>
              <a:xfrm flipV="1">
                <a:off x="6762600" y="46472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rc 17"/>
              <p:cNvSpPr/>
              <p:nvPr/>
            </p:nvSpPr>
            <p:spPr>
              <a:xfrm flipH="1">
                <a:off x="6847560" y="42670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rc 18"/>
              <p:cNvSpPr/>
              <p:nvPr/>
            </p:nvSpPr>
            <p:spPr>
              <a:xfrm flipH="1" flipV="1">
                <a:off x="6847560" y="38854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9"/>
            <p:cNvGrpSpPr/>
            <p:nvPr/>
          </p:nvGrpSpPr>
          <p:grpSpPr>
            <a:xfrm>
              <a:off x="6762600" y="5105520"/>
              <a:ext cx="171360" cy="1523520"/>
              <a:chOff x="6762600" y="5105520"/>
              <a:chExt cx="171360" cy="1523520"/>
            </a:xfrm>
          </p:grpSpPr>
          <p:sp>
            <p:nvSpPr>
              <p:cNvPr id="560" name="Arc 20"/>
              <p:cNvSpPr/>
              <p:nvPr/>
            </p:nvSpPr>
            <p:spPr>
              <a:xfrm>
                <a:off x="6762600" y="51055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rc 21"/>
              <p:cNvSpPr/>
              <p:nvPr/>
            </p:nvSpPr>
            <p:spPr>
              <a:xfrm flipV="1">
                <a:off x="6762600" y="62474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rc 22"/>
              <p:cNvSpPr/>
              <p:nvPr/>
            </p:nvSpPr>
            <p:spPr>
              <a:xfrm flipH="1">
                <a:off x="6847560" y="58672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rc 23"/>
              <p:cNvSpPr/>
              <p:nvPr/>
            </p:nvSpPr>
            <p:spPr>
              <a:xfrm flipH="1" flipV="1">
                <a:off x="6847560" y="54856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6762600" y="1067040"/>
              <a:ext cx="171360" cy="456840"/>
              <a:chOff x="6762600" y="1067040"/>
              <a:chExt cx="171360" cy="456840"/>
            </a:xfrm>
          </p:grpSpPr>
          <p:sp>
            <p:nvSpPr>
              <p:cNvPr id="565" name="Arc 25"/>
              <p:cNvSpPr/>
              <p:nvPr/>
            </p:nvSpPr>
            <p:spPr>
              <a:xfrm>
                <a:off x="6762600" y="10670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26"/>
              <p:cNvSpPr/>
              <p:nvPr/>
            </p:nvSpPr>
            <p:spPr>
              <a:xfrm flipV="1">
                <a:off x="6762600" y="14086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rc 27"/>
              <p:cNvSpPr/>
              <p:nvPr/>
            </p:nvSpPr>
            <p:spPr>
              <a:xfrm flipH="1">
                <a:off x="6847560" y="12952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rc 28"/>
              <p:cNvSpPr/>
              <p:nvPr/>
            </p:nvSpPr>
            <p:spPr>
              <a:xfrm flipH="1" flipV="1">
                <a:off x="6847560" y="11804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Arc 29"/>
            <p:cNvSpPr/>
            <p:nvPr/>
          </p:nvSpPr>
          <p:spPr>
            <a:xfrm>
              <a:off x="6762600" y="168120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rc 30"/>
            <p:cNvSpPr/>
            <p:nvPr/>
          </p:nvSpPr>
          <p:spPr>
            <a:xfrm flipV="1">
              <a:off x="6762600" y="202356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rc 31"/>
            <p:cNvSpPr/>
            <p:nvPr/>
          </p:nvSpPr>
          <p:spPr>
            <a:xfrm flipH="1">
              <a:off x="6848640" y="190980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rc 32"/>
            <p:cNvSpPr/>
            <p:nvPr/>
          </p:nvSpPr>
          <p:spPr>
            <a:xfrm flipH="1" flipV="1">
              <a:off x="6848640" y="179496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4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5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6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8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40"/>
            <p:cNvGrpSpPr/>
            <p:nvPr/>
          </p:nvGrpSpPr>
          <p:grpSpPr>
            <a:xfrm>
              <a:off x="6762600" y="2289240"/>
              <a:ext cx="171360" cy="456840"/>
              <a:chOff x="6762600" y="2289240"/>
              <a:chExt cx="171360" cy="456840"/>
            </a:xfrm>
          </p:grpSpPr>
          <p:sp>
            <p:nvSpPr>
              <p:cNvPr id="581" name="Arc 41"/>
              <p:cNvSpPr/>
              <p:nvPr/>
            </p:nvSpPr>
            <p:spPr>
              <a:xfrm>
                <a:off x="6762600" y="22892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rc 42"/>
              <p:cNvSpPr/>
              <p:nvPr/>
            </p:nvSpPr>
            <p:spPr>
              <a:xfrm flipV="1">
                <a:off x="6762600" y="26308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rc 43"/>
              <p:cNvSpPr/>
              <p:nvPr/>
            </p:nvSpPr>
            <p:spPr>
              <a:xfrm flipH="1">
                <a:off x="6847560" y="25174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44"/>
              <p:cNvSpPr/>
              <p:nvPr/>
            </p:nvSpPr>
            <p:spPr>
              <a:xfrm flipH="1" flipV="1">
                <a:off x="6847560" y="24026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Rectangle 45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47"/>
            <p:cNvSpPr/>
            <p:nvPr/>
          </p:nvSpPr>
          <p:spPr>
            <a:xfrm>
              <a:off x="6762600" y="289728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rc 48"/>
            <p:cNvSpPr/>
            <p:nvPr/>
          </p:nvSpPr>
          <p:spPr>
            <a:xfrm flipV="1">
              <a:off x="6762600" y="323964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49"/>
            <p:cNvSpPr/>
            <p:nvPr/>
          </p:nvSpPr>
          <p:spPr>
            <a:xfrm flipH="1">
              <a:off x="6848640" y="312588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rc 50"/>
            <p:cNvSpPr/>
            <p:nvPr/>
          </p:nvSpPr>
          <p:spPr>
            <a:xfrm flipH="1" flipV="1">
              <a:off x="6848640" y="301104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51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reat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52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593" name="Freeform 53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4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55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56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597" name="Freeform 57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Group 58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599" name="Freeform 59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60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1" name="Group 61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602" name="Freeform 62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" name="Group 63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604" name="Freeform 64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65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Group 66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607" name="Group 67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08" name="Freeform 68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Rectangle 69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2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70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11" name="Freeform 71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72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Rectangle 73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74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615" name="Rectangle 75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76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840"/>
                  <a:gd name="textAreaBottom" fmla="*/ 1213200 h 1212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77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78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9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0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1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2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83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84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85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626" name="Freeform 86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480"/>
                  <a:gd name="textAreaBottom" fmla="*/ 1212840 h 121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87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88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89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630" name="Rectangle 90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91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92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93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94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95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96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97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638" name="Group 98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639" name="Oval 99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00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01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Oval 102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03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04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05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6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07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08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649" name="Group 109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650" name="Oval 110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11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112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Oval 113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4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5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6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17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118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9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660" name="Group 120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661" name="Oval 121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22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123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Oval 124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5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26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127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28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29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30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671" name="Group 131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672" name="Oval 132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33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Oval 134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Oval 135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36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37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38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39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40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41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682" name="Group 142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683" name="Oval 143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44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>
                    <a:gd name="textAreaLeft" fmla="*/ 0 w 772560"/>
                    <a:gd name="textAreaRight" fmla="*/ 772920 w 77256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145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Oval 146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47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48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>
                  <a:gd name="textAreaLeft" fmla="*/ 0 w 757800"/>
                  <a:gd name="textAreaRight" fmla="*/ 758160 w 75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49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50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Oval 151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Freeform 152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uter Organiz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CA10-3494-4BF4-AB7C-D91BB9796D1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x logical units of computer syste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use, keybo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ut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inter, monitor, audio speak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mory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tains input and processed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rithmetic and logic unit (ALU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forms calcula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trol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upervises operation of other devi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ary storage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ard drives, floppy driv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3640" y="434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a computer program i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C4CE-387E-4EA5-A3D2-87B88B5D093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r a computer to be able to perform specific tasks (i.e. print what grade a student got on an exam), it must be given instructions to do the task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set of instructions that tells the computer to perform specific tasks is known as a </a:t>
            </a:r>
            <a:r>
              <a:rPr b="0" i="1" lang="en-US" sz="2800" spc="-1" strike="noStrike">
                <a:solidFill>
                  <a:srgbClr val="775f55"/>
                </a:solidFill>
                <a:latin typeface="Tw Cen MT"/>
              </a:rPr>
              <a:t>computer pro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Machine Languages, Assembly Languages and High-Level Languag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chine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atural language” of computer compon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chine depend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sembly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glish-like abbreviations represent computer ope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anslator programs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igh-level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ows for writing more “English-like” instru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ontains commonly used mathematical operatio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iler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  <a:ea typeface="Arial"/>
              </a:rPr>
              <a:t>An Overview Of Computer Languag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D83B-8B1A-4490-98AE-1050FDA2A78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12720" y="1600200"/>
          <a:ext cx="8153280" cy="4114800"/>
        </p:xfrm>
        <a:graphic>
          <a:graphicData uri="http://schemas.openxmlformats.org/drawingml/2006/table">
            <a:tbl>
              <a:tblPr/>
              <a:tblGrid>
                <a:gridCol w="1655640"/>
                <a:gridCol w="2448000"/>
                <a:gridCol w="2011320"/>
                <a:gridCol w="2038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1-Machine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2-Assembly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3-High-level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re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llection of bina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ymbolic form of machine  language (I.e. symbolic names are used to represent </a:t>
                      </a:r>
                      <a:r>
                        <a:rPr b="0" lang="en-US" sz="1600" spc="-1" strike="noStrike">
                          <a:solidFill>
                            <a:srgbClr val="1313ff"/>
                          </a:solidFill>
                          <a:latin typeface="Tw Cen MT"/>
                        </a:rPr>
                        <a:t>opera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w Cen MT"/>
                        </a:rPr>
                        <a:t>regist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&amp; 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w Cen MT"/>
                        </a:rPr>
                        <a:t>memory locat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es algebraic  expressions with symbols taken from  English language(ex. C, Pascal, FORTRAN, …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01 000000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00000101 000001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11 00000000 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w Cen MT"/>
                          <a:ea typeface="Traditional Arabic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 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=A+4 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how does the computer understand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ly understood by a comput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mb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onvert to machine langu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piler or (interpter 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vert to machine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pSp>
        <p:nvGrpSpPr>
          <p:cNvPr id="424" name="Group 45"/>
          <p:cNvGrpSpPr/>
          <p:nvPr/>
        </p:nvGrpSpPr>
        <p:grpSpPr>
          <a:xfrm>
            <a:off x="395280" y="5950080"/>
            <a:ext cx="8381880" cy="380880"/>
            <a:chOff x="395280" y="5950080"/>
            <a:chExt cx="8381880" cy="380880"/>
          </a:xfrm>
        </p:grpSpPr>
        <p:sp>
          <p:nvSpPr>
            <p:cNvPr id="425" name="Line 40"/>
            <p:cNvSpPr/>
            <p:nvPr/>
          </p:nvSpPr>
          <p:spPr>
            <a:xfrm>
              <a:off x="395280" y="63309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3"/>
            <p:cNvSpPr/>
            <p:nvPr/>
          </p:nvSpPr>
          <p:spPr>
            <a:xfrm>
              <a:off x="395280" y="595008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Easier to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46"/>
          <p:cNvGrpSpPr/>
          <p:nvPr/>
        </p:nvGrpSpPr>
        <p:grpSpPr>
          <a:xfrm>
            <a:off x="395280" y="6491160"/>
            <a:ext cx="8381880" cy="368280"/>
            <a:chOff x="395280" y="6491160"/>
            <a:chExt cx="8381880" cy="368280"/>
          </a:xfrm>
        </p:grpSpPr>
        <p:sp>
          <p:nvSpPr>
            <p:cNvPr id="428" name="Line 41"/>
            <p:cNvSpPr/>
            <p:nvPr/>
          </p:nvSpPr>
          <p:spPr>
            <a:xfrm>
              <a:off x="395280" y="64911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395280" y="649116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ore pow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619B-BAFB-41EC-B4CC-56A380FCE48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19047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uman though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-Natural Language (English, Arab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Level Programming Languag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C, C++, Java, …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chine Cod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he Programmer’s Algorith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Footer Placeholder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919F-5B44-43EF-9214-0137793B5DE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8000" y="155700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n algorith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a finite sequence of instructions that produces a solution to a probl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700640" indent="-2124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he programmer’s algorith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e the proble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lan the problem solu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d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pil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DFD2-43B8-4300-95AB-AD9A82B8FEC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353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1-Defining 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blem must be defined in terms of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Data to be processe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expected resul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nouns in the problem statement that suggest output and inpu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statements to achiev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verbs to suggest processing step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914400" y="4191120"/>
            <a:ext cx="7554240" cy="2064960"/>
            <a:chOff x="914400" y="4191120"/>
            <a:chExt cx="7554240" cy="2064960"/>
          </a:xfrm>
        </p:grpSpPr>
        <p:sp>
          <p:nvSpPr>
            <p:cNvPr id="442" name="Oval 5"/>
            <p:cNvSpPr/>
            <p:nvPr/>
          </p:nvSpPr>
          <p:spPr>
            <a:xfrm>
              <a:off x="3793680" y="4210920"/>
              <a:ext cx="1702440" cy="2045160"/>
            </a:xfrm>
            <a:prstGeom prst="ellipse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914400" y="4759560"/>
              <a:ext cx="1702440" cy="67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1032840" y="4944960"/>
              <a:ext cx="158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bo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"/>
            <p:cNvSpPr/>
            <p:nvPr/>
          </p:nvSpPr>
          <p:spPr>
            <a:xfrm>
              <a:off x="6742080" y="4690800"/>
              <a:ext cx="1565280" cy="12913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6928560" y="4944960"/>
              <a:ext cx="119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0"/>
            <p:cNvSpPr/>
            <p:nvPr/>
          </p:nvSpPr>
          <p:spPr>
            <a:xfrm>
              <a:off x="3702600" y="4893480"/>
              <a:ext cx="182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1"/>
            <p:cNvSpPr/>
            <p:nvPr/>
          </p:nvSpPr>
          <p:spPr>
            <a:xfrm>
              <a:off x="1029960" y="425952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6627600" y="419112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3"/>
            <p:cNvGrpSpPr/>
            <p:nvPr/>
          </p:nvGrpSpPr>
          <p:grpSpPr>
            <a:xfrm>
              <a:off x="2806920" y="4838040"/>
              <a:ext cx="3718800" cy="582480"/>
              <a:chOff x="2806920" y="4838040"/>
              <a:chExt cx="3718800" cy="582480"/>
            </a:xfrm>
          </p:grpSpPr>
          <p:sp>
            <p:nvSpPr>
              <p:cNvPr id="451" name="AutoShape 14"/>
              <p:cNvSpPr/>
              <p:nvPr/>
            </p:nvSpPr>
            <p:spPr>
              <a:xfrm>
                <a:off x="568620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15"/>
              <p:cNvSpPr/>
              <p:nvPr/>
            </p:nvSpPr>
            <p:spPr>
              <a:xfrm>
                <a:off x="280692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3" name="Ink 16" descr=""/>
          <p:cNvPicPr/>
          <p:nvPr/>
        </p:nvPicPr>
        <p:blipFill>
          <a:blip r:embed="rId1"/>
          <a:stretch/>
        </p:blipFill>
        <p:spPr>
          <a:xfrm>
            <a:off x="942840" y="2162160"/>
            <a:ext cx="1000440" cy="255600"/>
          </a:xfrm>
          <a:prstGeom prst="rect">
            <a:avLst/>
          </a:prstGeom>
          <a:ln w="0">
            <a:noFill/>
          </a:ln>
        </p:spPr>
      </p:pic>
      <p:pic>
        <p:nvPicPr>
          <p:cNvPr id="454" name="Ink 17" descr=""/>
          <p:cNvPicPr/>
          <p:nvPr/>
        </p:nvPicPr>
        <p:blipFill>
          <a:blip r:embed="rId2"/>
          <a:stretch/>
        </p:blipFill>
        <p:spPr>
          <a:xfrm>
            <a:off x="942840" y="2593800"/>
            <a:ext cx="1079640" cy="250920"/>
          </a:xfrm>
          <a:prstGeom prst="rect">
            <a:avLst/>
          </a:prstGeom>
          <a:ln w="0">
            <a:noFill/>
          </a:ln>
        </p:spPr>
      </p:pic>
      <p:pic>
        <p:nvPicPr>
          <p:cNvPr id="455" name="Ink 18" descr=""/>
          <p:cNvPicPr/>
          <p:nvPr/>
        </p:nvPicPr>
        <p:blipFill>
          <a:blip r:embed="rId3"/>
          <a:stretch/>
        </p:blipFill>
        <p:spPr>
          <a:xfrm>
            <a:off x="1374840" y="3386160"/>
            <a:ext cx="165564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safaa bassam</cp:lastModifiedBy>
  <dcterms:modified xsi:type="dcterms:W3CDTF">2016-09-23T08:39:23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