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25FB-860D-4502-B3BF-382FA0DE2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0C70-8178-4EF5-B348-9365E1D88F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9C45-6867-40F3-909B-3F590C26F6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5A82-FAD5-4E88-988A-2EFE1DEBDB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A251-9C30-4EE4-B595-D3AD566771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A672-1D1E-4062-BC33-27EC89837F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EE07-9AE4-411F-BDDC-69303CFA74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1979-659E-44D9-ACE9-A71E26A01A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35D7-0DB3-4435-98CA-B4FDE10A07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1717-3339-427E-8E95-236DF93B53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D8E7-27BA-446D-94D5-7FC6EE8DC1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81B8-4CDD-45A4-84E1-28E3BBFBA4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97A3-0DE1-48AA-8E38-5B1731CC68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EEA9-DEFA-46EA-9EAF-F8847E14599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2BA9-3BE5-4AA6-9BEA-5DDEA55F2F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64CA-76C6-460E-A94D-57CCE37479A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6AEF-7DC6-403E-9D21-62837326C1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1E4F-B440-4F70-B6E8-4C817BFEA6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97C8-CCA0-4A9F-B36C-6921D2DBAC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5F61-B3BB-4653-BAA2-23E42C8FFC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CE44-C144-4B39-BD1F-F0D239B463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1C69-83AD-411E-9B1F-6F6D576749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E282-6D3C-45BB-8D26-CDBC95A5A2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785-604F-4457-A12B-A2EC2F75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438-D8A2-4DDF-8508-A028F44C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E47CD-807F-41E6-883E-D1936925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DD8B4-5817-4C0B-B0F6-1C1C2DE5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23117-EB9A-4465-9D7F-45AD5B47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688ED-5765-4762-A22F-241FF88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03664-0686-4286-9A71-D8332A6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D77FD-948F-4C60-8088-391ECDD9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2A8A4-DF8E-4810-AE64-2FFFA977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B6411-C122-4DD6-AB94-07590423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D828F-D6B8-4424-9CB2-98C49A3E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F79-8625-4455-A8C1-6371C79A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BAB-F7AC-49C6-B50B-1A760650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15EA-BBA0-49F8-B80B-CD35D1D3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0A44-321D-47A8-8628-635349E5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B19F-D53D-413E-BBF8-FBF90A62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412A-A40D-4C89-8C27-59730756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33B8-78EB-445A-9A14-EDB8C189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0147-1A12-42A9-A810-4D8BAD5A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AE7A-6FA9-4C03-ACEA-BA835629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053-07C4-4F1B-A012-3590DB55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BF6A-D604-48AA-AA54-7CADE197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30B9-7A73-4C82-8777-7FF2A850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5291-CEEC-4A14-B0B6-DAC01108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92B2-1AD3-4891-9E8E-E0044F63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2834-838F-407D-954D-F0C16B8E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02D19-07C4-4173-A8D0-10342F52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93F6B-2A12-4F48-A6A8-71ABC121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9DA27-ABBB-4E8A-A413-3EC6173B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786D8-AE9A-44B7-8F5C-5BBB2DFB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EA6FB-9BFD-43A4-A141-BB7117A4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1B4-56EC-4352-9700-913E5515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68C0A-7E9D-4A89-885D-B5A88608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50CD3-4CAF-4EB7-87BA-83C4C343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DDD26-5F0A-45DC-8AF8-6C2B4EB7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01F52-F1D4-4E2C-B6D2-974FC39E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4AFBF-1894-410B-A296-7C178445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DB58D-2E7F-45C9-9BFE-26AF06A7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5A8E6-1F1C-4663-A693-17542691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C407E-0614-4F39-BB6C-6AC2D43D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19783-4E32-4EDB-94C9-D53E0DDA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522AC-2A0E-4305-9886-44CFBE3B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787-BA67-422C-8F39-5E6BDB40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85F4F-D914-4055-B83C-5127A396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6E8F2-825D-47C3-92D1-616E7E8F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2FA37-0321-4E37-98B0-B5685DA1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9E0A31-868B-483B-945A-27CB7F0E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8FE7F-7B68-4C27-BB66-BF4EACB1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8EB2B-D80C-4E27-B199-3C648076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9BB012-BF20-4D74-AA1D-942AABBF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EEE29-3D06-4B0A-A8BB-09D009F2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B9AFA-45F7-4E9E-9AD5-523C4F9A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71FF1-8EE5-4879-8BD0-4E071971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18E-E515-4D1B-82A2-31C5EE6F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3EB95-06F2-4591-9F55-133FC50C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D2B54-96D5-488E-ACE0-2DB448EA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6D471-889F-425D-9056-EA3A01B2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59569-8AD5-4709-97F8-4C78ECF2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72455-3AE1-4597-B5A6-C18580FB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4D113-C930-42C2-90C1-6FA14293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1B291-B169-4422-8457-DC0D025F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1D7B3-FDA7-4D25-96BA-8D6A82C3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FD746-1A8C-44E9-9B54-3CE054C7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EF9D9-5295-4F6E-A716-F2BF22D4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488-D8DD-4CB9-9E81-5952A4F7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0BBBF-D0FE-43F0-90A0-C6800795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3A44-03F1-4294-83A3-F4767AD0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A29E3-6BAA-4E6F-A7D7-BB16FA8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7E18E-E529-401F-B45B-D0177824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1707E-753B-4DC7-9FEC-36B0249F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BDD54-E500-43D9-AC2A-B8650C2F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A017A-FD77-4FF1-9D60-63CEEFB8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1FF24-C484-4DAA-A429-67CB2783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FDD6F-301C-468A-B5F8-4D11EDC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9669E-06A7-4E31-8BEE-1377A284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7D2-FA82-4E96-B8B5-67B3EED9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605B4-F77E-4E90-9294-BFE47036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A5873-27F9-4475-AEE4-5855AE56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EC593-4210-4F6A-BA61-B5DC7343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90666-0106-4B31-B275-FF51B6D6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B7C26A-B6F1-4AF0-BB74-20735992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7ED74C-5661-439A-BFFF-BDAB9E78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46A3C-1846-41F6-AB52-E5A730BB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E3B60E-9009-422C-8ECC-BE0CF45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C7DE6-36BD-4BE3-8C57-A4FFCB60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B4B34-3A88-41D4-9AA7-5EBF355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D8F-C8AD-401C-9D91-0BDC6B32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EC752-A522-4405-A977-AEC7A5E6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95161-BB39-4D99-B667-6786673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78C2F-2BBB-418C-BC9E-9D341D30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9A4F6-D547-4672-8FE0-33554F2E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055E6-8CCE-422F-9350-043DDD6B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427E2-C991-40A4-B140-0CACE841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7CD5-1EFE-4774-AEEF-B71E9336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59680-0E81-4E7D-92F5-74EA5C8B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A9CDA-E5CA-435E-8A8F-773B142C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9E16F-91FC-4B59-ACAD-DE2681B2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C1C-262E-421D-87CC-F03DAD15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11C49-2776-4C13-8B60-51459873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4F461-F31E-42AB-91AC-E8D28926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EE2FF-EF2E-4F57-BE83-70816A93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ED5B8-8FF3-4423-BC82-8BF1F43B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7FF54-80F9-4D20-BA93-C543677B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E09DF-D6D2-4610-B598-14783720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8074E-62EB-4517-91B9-ECD9DE7E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0616E-A181-4AD8-B965-712D4E41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3AA72-CF83-4B87-9021-3DEB1FD7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E9C2C-0C75-42B1-BDED-93CC11DA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705D-7EA0-472B-B2EF-E1CB7754D60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9B3B-DF5B-4369-BBA5-33646ACD6BF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FB0B-E122-40CB-A6C9-DECD42A25670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C0ED-B7A2-41A6-8DB4-2E3A02DB5E5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13D3-5132-4541-BE53-1E2A6CB80AE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2373-090B-4DFF-8D65-3805A069EAB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0CB4-9CFA-4DEA-8197-FFCF2CD694C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B10F-9A38-43BA-8BB9-C4D17E687DE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506A-AC92-4718-90D9-76EDA4F3D7A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8CF5-D16B-4EC5-ABAF-972A84694DE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62FC-1739-4E13-B238-CB85CA89219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CA57-7F37-463E-B7C8-B464A7E650F4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96DC-B968-4BF5-AF29-62E782F30E8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D76F-98F2-4A79-BD91-915CFD8EFD2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A125-EF6C-4D5C-9DBC-55E10BFCF0C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D128-D94F-46EC-B4B7-38630A4B7CB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7860-F356-468D-878B-A5BF6686E82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Page </a:t>
            </a:r>
            <a:fld id="{CCB0CC1E-76CD-4B75-96C1-B8387B08A83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bddc3"/>
                </a:solidFill>
                <a:latin typeface="Tw Cen MT"/>
                <a:ea typeface="Arial"/>
              </a:rPr>
              <a:t> </a:t>
            </a:r>
            <a:r>
              <a:rPr b="1" lang="en-US" sz="4000" spc="-1" strike="noStrike">
                <a:solidFill>
                  <a:srgbClr val="ebddc3"/>
                </a:solidFill>
                <a:latin typeface="Tw Cen MT"/>
                <a:ea typeface="Arial"/>
              </a:rPr>
              <a:t>C</a:t>
            </a: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HAPTER 1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INTRODUCTION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Footer Placeholder 5"/>
          <p:cNvSpPr/>
          <p:nvPr/>
        </p:nvSpPr>
        <p:spPr>
          <a:xfrm>
            <a:off x="324000" y="1125360"/>
            <a:ext cx="586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King Saud University 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llege Of Applied Studies and Community Services  </a:t>
            </a:r>
            <a:br>
              <a:rPr sz="24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SC 1101</a:t>
            </a:r>
            <a:br>
              <a:rPr sz="2000"/>
            </a:b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Computer Programming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Done By: Asmal Alosa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Edited By: Fatimah Alak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6EA7-114D-4104-BE9E-678CA2C5C9D8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nput and Outpu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In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come from many sources, such as users, files, and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take on many forms, such as text, graphics, and sou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also take on many forms, such as numbers, text, graphics, sounds, or commands to other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 </a:t>
            </a:r>
            <a:fld id="{12C52AD6-68C1-4563-A9C1-3B532F62F89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1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rectang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length*width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*( length + wid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9DED8B2C-577E-4134-BD00-9CCD9B0BC9BA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2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Sum and Average of 5 numb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ve number x1, x2, x3, x4, 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 = x1+x2+x3+x4+x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 = Sum/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Introduction to 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Dr. S. GANNOUNI &amp; Dr. A. TOU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Page </a:t>
            </a:r>
            <a:fld id="{43351300-2B95-4796-8CA6-57213FE742B7}" type="slidenum">
              <a:rPr b="1" lang="en-US" sz="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Example 3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rea and Perimeter of a circ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= PI * Radius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 = 2 * PI * Radi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2-Planning the Solu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85F0-B29D-4548-8228-B0777EF2EF0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85800" y="1600200"/>
            <a:ext cx="8207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planning, algorithms are used to outline the solution steps using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nglish like statement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called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</a:rPr>
              <a:t>pseudocod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A </a:t>
            </a:r>
            <a:r>
              <a:rPr b="1" i="1" lang="en-US" sz="2800" spc="-1" strike="noStrike">
                <a:solidFill>
                  <a:srgbClr val="b95b22"/>
                </a:solidFill>
                <a:latin typeface="Tw Cen MT"/>
                <a:ea typeface="Arial"/>
              </a:rPr>
              <a:t>flowchar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is useful for the graphical representation of an algorithm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4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Arial"/>
              </a:rPr>
              <a:t>They are   drawn using rectangles, diamonds, ovals, and small circle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4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Write a Program to Print the Sum of two integer Number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15880" y="1717560"/>
            <a:ext cx="5580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tart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first number and save in  the variable ( N1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d the second number and save in the variable ( N2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um the both numbers and save the result in the variable ( Sum )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Sum = N1 + N2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int the variable ( Sum 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nd th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6E5A-3B3A-4988-B1AA-A45AFEAACAA8}" type="slidenum">
              <a:rPr b="1" lang="ar-SA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5867280" y="1341360"/>
            <a:ext cx="2305080" cy="57636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5796000" y="2276640"/>
            <a:ext cx="2448000" cy="50292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5726160" y="3141720"/>
            <a:ext cx="2590920" cy="50328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5726160" y="4005360"/>
            <a:ext cx="2590920" cy="720720"/>
          </a:xfrm>
          <a:prstGeom prst="flowChartProcess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= N1 +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5726160" y="5084640"/>
            <a:ext cx="2590920" cy="576360"/>
          </a:xfrm>
          <a:prstGeom prst="flowChartInputOutput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5796000" y="6093000"/>
            <a:ext cx="2448000" cy="576000"/>
          </a:xfrm>
          <a:prstGeom prst="flowChartTerminator">
            <a:avLst/>
          </a:prstGeom>
          <a:solidFill>
            <a:srgbClr val="dd8047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AutoShape 10"/>
          <p:cNvCxnSpPr>
            <a:stCxn id="484" idx="2"/>
            <a:endCxn id="485" idx="1"/>
          </p:cNvCxnSpPr>
          <p:nvPr/>
        </p:nvCxnSpPr>
        <p:spPr>
          <a:xfrm>
            <a:off x="7019640" y="194616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1" name="AutoShape 11"/>
          <p:cNvCxnSpPr>
            <a:stCxn id="485" idx="4"/>
            <a:endCxn id="486" idx="1"/>
          </p:cNvCxnSpPr>
          <p:nvPr/>
        </p:nvCxnSpPr>
        <p:spPr>
          <a:xfrm>
            <a:off x="7020000" y="2808360"/>
            <a:ext cx="2160" cy="3052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2" name="AutoShape 12"/>
          <p:cNvCxnSpPr>
            <a:stCxn id="486" idx="4"/>
            <a:endCxn id="487" idx="0"/>
          </p:cNvCxnSpPr>
          <p:nvPr/>
        </p:nvCxnSpPr>
        <p:spPr>
          <a:xfrm>
            <a:off x="7021080" y="3673440"/>
            <a:ext cx="1080" cy="30384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3" name="AutoShape 13"/>
          <p:cNvCxnSpPr>
            <a:stCxn id="487" idx="2"/>
            <a:endCxn id="488" idx="1"/>
          </p:cNvCxnSpPr>
          <p:nvPr/>
        </p:nvCxnSpPr>
        <p:spPr>
          <a:xfrm>
            <a:off x="7021080" y="4754520"/>
            <a:ext cx="1080" cy="30240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  <p:cxnSp>
        <p:nvCxnSpPr>
          <p:cNvPr id="494" name="AutoShape 14"/>
          <p:cNvCxnSpPr>
            <a:stCxn id="488" idx="4"/>
            <a:endCxn id="489" idx="0"/>
          </p:cNvCxnSpPr>
          <p:nvPr/>
        </p:nvCxnSpPr>
        <p:spPr>
          <a:xfrm flipH="1">
            <a:off x="7019640" y="5689080"/>
            <a:ext cx="2160" cy="375480"/>
          </a:xfrm>
          <a:prstGeom prst="straightConnector1">
            <a:avLst/>
          </a:prstGeom>
          <a:ln w="10080">
            <a:solidFill>
              <a:srgbClr val="dd804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4302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3-Coding the Progra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Footer Placeholder 1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70FE-0686-4561-ABC5-8C32DA5FB75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240" y="1700280"/>
            <a:ext cx="873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ding is writing the program in a formal language called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</a:rPr>
              <a:t>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Programming Language 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A set of rules, symbols and special words used to write statemen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gram is written by translating the algorithm steps into a programming language statemen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written program is called </a:t>
            </a:r>
            <a:r>
              <a:rPr b="1" i="1" lang="en-US" sz="2800" spc="-1" strike="noStrike">
                <a:solidFill>
                  <a:srgbClr val="775f55"/>
                </a:solidFill>
                <a:latin typeface="Tw Cen MT"/>
              </a:rPr>
              <a:t>Source cod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d it is saved in a file with “.cpp” extensio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99" name="Group 14"/>
          <p:cNvGrpSpPr/>
          <p:nvPr/>
        </p:nvGrpSpPr>
        <p:grpSpPr>
          <a:xfrm>
            <a:off x="5486400" y="4797360"/>
            <a:ext cx="3051360" cy="1785600"/>
            <a:chOff x="5486400" y="4797360"/>
            <a:chExt cx="3051360" cy="1785600"/>
          </a:xfrm>
        </p:grpSpPr>
        <p:sp>
          <p:nvSpPr>
            <p:cNvPr id="500" name="Line 2"/>
            <p:cNvSpPr/>
            <p:nvPr/>
          </p:nvSpPr>
          <p:spPr>
            <a:xfrm>
              <a:off x="77724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3"/>
            <p:cNvSpPr/>
            <p:nvPr/>
          </p:nvSpPr>
          <p:spPr>
            <a:xfrm>
              <a:off x="5607000" y="594036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4"/>
            <p:cNvSpPr/>
            <p:nvPr/>
          </p:nvSpPr>
          <p:spPr>
            <a:xfrm>
              <a:off x="6172200" y="5101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5"/>
            <p:cNvGrpSpPr/>
            <p:nvPr/>
          </p:nvGrpSpPr>
          <p:grpSpPr>
            <a:xfrm>
              <a:off x="5486400" y="5254560"/>
              <a:ext cx="1371600" cy="533160"/>
              <a:chOff x="5486400" y="5254560"/>
              <a:chExt cx="1371600" cy="533160"/>
            </a:xfrm>
          </p:grpSpPr>
          <p:sp>
            <p:nvSpPr>
              <p:cNvPr id="504" name="Oval 6"/>
              <p:cNvSpPr/>
              <p:nvPr/>
            </p:nvSpPr>
            <p:spPr>
              <a:xfrm>
                <a:off x="5486400" y="525456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7"/>
              <p:cNvSpPr/>
              <p:nvPr/>
            </p:nvSpPr>
            <p:spPr>
              <a:xfrm>
                <a:off x="5698440" y="5337000"/>
                <a:ext cx="94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d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Text Box 10"/>
            <p:cNvSpPr/>
            <p:nvPr/>
          </p:nvSpPr>
          <p:spPr>
            <a:xfrm>
              <a:off x="5544000" y="479736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1"/>
            <p:cNvSpPr/>
            <p:nvPr/>
          </p:nvSpPr>
          <p:spPr>
            <a:xfrm>
              <a:off x="6976080" y="479736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Pseudo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005240" y="5940360"/>
              <a:ext cx="153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(The “.cpp”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3"/>
            <p:cNvSpPr/>
            <p:nvPr/>
          </p:nvSpPr>
          <p:spPr>
            <a:xfrm>
              <a:off x="7076160" y="533052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y Coding in Programming Languag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EC45-68B7-4C18-A259-45A1EADA9CB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write computer programs (i.e. a set of instructions) in programming languages such as C, C++, and Jav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 use these programming languages because they are easily understoo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ut then how does the computer understand the instructions that we writ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52240" y="430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4-Compiling Computer Progra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1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2393-2CF7-42A8-BDD0-DA1A7C3974B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mputers do not understan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programs written in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programming languag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such as  C, C++ and Jav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Program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must first be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onverted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into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machine code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at the computer can ru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 Software that </a:t>
            </a: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a programming language statements into machine code is called a </a:t>
            </a:r>
            <a:r>
              <a:rPr b="1" i="1" lang="en-US" sz="2600" spc="-1" strike="noStrike">
                <a:solidFill>
                  <a:srgbClr val="775f55"/>
                </a:solidFill>
                <a:latin typeface="Tw Cen MT"/>
              </a:rPr>
              <a:t>compil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C , </a:t>
            </a:r>
            <a:r>
              <a:rPr b="1" i="1" lang="en-US" sz="26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6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gram, execute automatically before the compiler translation phase begi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eprocessor</a:t>
            </a:r>
            <a:r>
              <a:rPr b="1" lang="en-US" sz="2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ndicate that certain manipulations are to be performed on the program before compilatio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18" name="Group 14"/>
          <p:cNvGrpSpPr/>
          <p:nvPr/>
        </p:nvGrpSpPr>
        <p:grpSpPr>
          <a:xfrm>
            <a:off x="5886000" y="4941720"/>
            <a:ext cx="3289680" cy="1511280"/>
            <a:chOff x="5886000" y="4941720"/>
            <a:chExt cx="3289680" cy="1511280"/>
          </a:xfrm>
        </p:grpSpPr>
        <p:sp>
          <p:nvSpPr>
            <p:cNvPr id="519" name="Line 4"/>
            <p:cNvSpPr/>
            <p:nvPr/>
          </p:nvSpPr>
          <p:spPr>
            <a:xfrm>
              <a:off x="8319960" y="5278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5"/>
            <p:cNvSpPr/>
            <p:nvPr/>
          </p:nvSpPr>
          <p:spPr>
            <a:xfrm>
              <a:off x="5886000" y="6084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"/>
            <p:cNvSpPr/>
            <p:nvPr/>
          </p:nvSpPr>
          <p:spPr>
            <a:xfrm>
              <a:off x="6719760" y="5246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"/>
            <p:cNvSpPr/>
            <p:nvPr/>
          </p:nvSpPr>
          <p:spPr>
            <a:xfrm>
              <a:off x="6154920" y="4941720"/>
              <a:ext cx="11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8"/>
            <p:cNvSpPr/>
            <p:nvPr/>
          </p:nvSpPr>
          <p:spPr>
            <a:xfrm>
              <a:off x="7567920" y="494172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Sourc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9"/>
            <p:cNvSpPr/>
            <p:nvPr/>
          </p:nvSpPr>
          <p:spPr>
            <a:xfrm>
              <a:off x="7464960" y="608472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b615"/>
                  </a:solidFill>
                  <a:latin typeface="Comic Sans MS"/>
                  <a:ea typeface="Arial"/>
                </a:rPr>
                <a:t>Machine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0"/>
            <p:cNvSpPr/>
            <p:nvPr/>
          </p:nvSpPr>
          <p:spPr>
            <a:xfrm>
              <a:off x="7623720" y="5474880"/>
              <a:ext cx="1392480" cy="36828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5f55"/>
                  </a:solidFill>
                  <a:latin typeface="Comic Sans MS"/>
                  <a:ea typeface="Arial"/>
                </a:rPr>
                <a:t>Transla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11"/>
            <p:cNvGrpSpPr/>
            <p:nvPr/>
          </p:nvGrpSpPr>
          <p:grpSpPr>
            <a:xfrm>
              <a:off x="6033960" y="5354280"/>
              <a:ext cx="1371600" cy="533160"/>
              <a:chOff x="6033960" y="5354280"/>
              <a:chExt cx="1371600" cy="533160"/>
            </a:xfrm>
          </p:grpSpPr>
          <p:sp>
            <p:nvSpPr>
              <p:cNvPr id="527" name="Oval 12"/>
              <p:cNvSpPr/>
              <p:nvPr/>
            </p:nvSpPr>
            <p:spPr>
              <a:xfrm>
                <a:off x="6033960" y="5354280"/>
                <a:ext cx="1371600" cy="533160"/>
              </a:xfrm>
              <a:prstGeom prst="ellipse">
                <a:avLst/>
              </a:pr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3"/>
              <p:cNvSpPr/>
              <p:nvPr/>
            </p:nvSpPr>
            <p:spPr>
              <a:xfrm>
                <a:off x="6082560" y="543672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75f55"/>
                    </a:solidFill>
                    <a:latin typeface="Comic Sans MS"/>
                    <a:ea typeface="Arial"/>
                  </a:rPr>
                  <a:t>Compil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53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Programming Language Compiler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7061-E43B-4C75-A3AA-85CFDABA9D4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mpiler is a software tha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Checks the correctnes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of the source code according to the language rule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75f55"/>
                </a:solidFill>
                <a:latin typeface="Tw Cen MT"/>
              </a:rPr>
              <a:t>Syntax errors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are raised if some rules were violate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w Cen MT"/>
              </a:rPr>
              <a:t>Translate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the source code into a machine code if no errors were foun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Is a Compu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055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ecutes statements (computations/logical decision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ardware 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hysical devices of computer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ftware: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grams that run on comput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06" name="Object 4"/>
          <p:cNvGraphicFramePr/>
          <p:nvPr/>
        </p:nvGraphicFramePr>
        <p:xfrm>
          <a:off x="1403280" y="3678120"/>
          <a:ext cx="612144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678120"/>
                    <a:ext cx="612144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Footer Placeholder 9"/>
          <p:cNvSpPr/>
          <p:nvPr/>
        </p:nvSpPr>
        <p:spPr>
          <a:xfrm>
            <a:off x="611280" y="6492960"/>
            <a:ext cx="5421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6B8F-AAAF-4D8F-B4E3-6D91310A106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5-Running The Progra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D234-39B9-4070-B11F-6068EC2827D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5b22"/>
                </a:solidFill>
                <a:latin typeface="Times New Roman"/>
                <a:ea typeface="Times New Roman"/>
              </a:rPr>
              <a:t>Before  running.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nks the object code with the code for the missing functions to produce an executable image (with no missing pieces) , this 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ink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f the program compiles and links correctly, a file called a.out is produc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fore a program can be executed, the program must first be placed in memory this called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load phase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293400" indent="-29340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mputer, under the control of its CPU,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xecut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program one instruction at a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6-Testing and Debugging the Pro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8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712D-0475-4D11-8B23-D5268BE6B37B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79280" y="184464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Test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Be sure that the output of the program conforms with the inpu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There are two types of error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Logical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run but provides wrong output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75f55"/>
                </a:solidFill>
                <a:latin typeface="Tw Cen MT"/>
              </a:rPr>
              <a:t>Runtime errors: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w Cen MT"/>
              </a:rPr>
              <a:t>The program stop running suddenly when asking the OS executing a non accepted statement (divide by zero, etc).</a:t>
            </a:r>
            <a:r>
              <a:rPr b="1" lang="en-US" sz="2100" spc="-1" strike="noStrike">
                <a:solidFill>
                  <a:srgbClr val="704404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ebugg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nd, Understand and correct the err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4727-0BC3-4609-8501-224AFE6710EA}" type="slidenum">
              <a:rPr b="0" lang="en-US" sz="1400" spc="-1" strike="noStrike">
                <a:solidFill>
                  <a:srgbClr val="775f55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Basics of a Typical C++ Environ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52280" y="1733400"/>
            <a:ext cx="4724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7"/>
          <p:cNvGrpSpPr/>
          <p:nvPr/>
        </p:nvGrpSpPr>
        <p:grpSpPr>
          <a:xfrm>
            <a:off x="4187880" y="1057320"/>
            <a:ext cx="4656240" cy="5571720"/>
            <a:chOff x="4187880" y="1057320"/>
            <a:chExt cx="4656240" cy="5571720"/>
          </a:xfrm>
        </p:grpSpPr>
        <p:sp>
          <p:nvSpPr>
            <p:cNvPr id="545" name="Freeform 5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7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8"/>
            <p:cNvSpPr/>
            <p:nvPr/>
          </p:nvSpPr>
          <p:spPr>
            <a:xfrm>
              <a:off x="4514760" y="377208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9"/>
            <p:cNvSpPr/>
            <p:nvPr/>
          </p:nvSpPr>
          <p:spPr>
            <a:xfrm>
              <a:off x="5391000" y="129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5391000" y="1919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5391000" y="3856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5905440" y="35146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5391000" y="5456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6762600" y="3505320"/>
              <a:ext cx="171360" cy="1523520"/>
              <a:chOff x="6762600" y="3505320"/>
              <a:chExt cx="171360" cy="1523520"/>
            </a:xfrm>
          </p:grpSpPr>
          <p:sp>
            <p:nvSpPr>
              <p:cNvPr id="555" name="Arc 15"/>
              <p:cNvSpPr/>
              <p:nvPr/>
            </p:nvSpPr>
            <p:spPr>
              <a:xfrm>
                <a:off x="6762600" y="35053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rc 16"/>
              <p:cNvSpPr/>
              <p:nvPr/>
            </p:nvSpPr>
            <p:spPr>
              <a:xfrm flipV="1">
                <a:off x="6762600" y="46472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rc 17"/>
              <p:cNvSpPr/>
              <p:nvPr/>
            </p:nvSpPr>
            <p:spPr>
              <a:xfrm flipH="1">
                <a:off x="6847560" y="42670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rc 18"/>
              <p:cNvSpPr/>
              <p:nvPr/>
            </p:nvSpPr>
            <p:spPr>
              <a:xfrm flipH="1" flipV="1">
                <a:off x="6847560" y="38854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9"/>
            <p:cNvGrpSpPr/>
            <p:nvPr/>
          </p:nvGrpSpPr>
          <p:grpSpPr>
            <a:xfrm>
              <a:off x="6762600" y="5105520"/>
              <a:ext cx="171360" cy="1523520"/>
              <a:chOff x="6762600" y="5105520"/>
              <a:chExt cx="171360" cy="1523520"/>
            </a:xfrm>
          </p:grpSpPr>
          <p:sp>
            <p:nvSpPr>
              <p:cNvPr id="560" name="Arc 20"/>
              <p:cNvSpPr/>
              <p:nvPr/>
            </p:nvSpPr>
            <p:spPr>
              <a:xfrm>
                <a:off x="6762600" y="510552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rc 21"/>
              <p:cNvSpPr/>
              <p:nvPr/>
            </p:nvSpPr>
            <p:spPr>
              <a:xfrm flipV="1">
                <a:off x="6762600" y="6247440"/>
                <a:ext cx="86040" cy="3812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rc 22"/>
              <p:cNvSpPr/>
              <p:nvPr/>
            </p:nvSpPr>
            <p:spPr>
              <a:xfrm flipH="1">
                <a:off x="6847560" y="58672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rc 23"/>
              <p:cNvSpPr/>
              <p:nvPr/>
            </p:nvSpPr>
            <p:spPr>
              <a:xfrm flipH="1" flipV="1">
                <a:off x="6847560" y="5485680"/>
                <a:ext cx="86040" cy="3812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381240"/>
                  <a:gd name="textAreaBottom" fmla="*/ 381240 h 381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6762600" y="1067040"/>
              <a:ext cx="171360" cy="456840"/>
              <a:chOff x="6762600" y="1067040"/>
              <a:chExt cx="171360" cy="456840"/>
            </a:xfrm>
          </p:grpSpPr>
          <p:sp>
            <p:nvSpPr>
              <p:cNvPr id="565" name="Arc 25"/>
              <p:cNvSpPr/>
              <p:nvPr/>
            </p:nvSpPr>
            <p:spPr>
              <a:xfrm>
                <a:off x="6762600" y="10670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rc 26"/>
              <p:cNvSpPr/>
              <p:nvPr/>
            </p:nvSpPr>
            <p:spPr>
              <a:xfrm flipV="1">
                <a:off x="6762600" y="14086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rc 27"/>
              <p:cNvSpPr/>
              <p:nvPr/>
            </p:nvSpPr>
            <p:spPr>
              <a:xfrm flipH="1">
                <a:off x="6847560" y="12952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rc 28"/>
              <p:cNvSpPr/>
              <p:nvPr/>
            </p:nvSpPr>
            <p:spPr>
              <a:xfrm flipH="1" flipV="1">
                <a:off x="6847560" y="11804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Arc 29"/>
            <p:cNvSpPr/>
            <p:nvPr/>
          </p:nvSpPr>
          <p:spPr>
            <a:xfrm>
              <a:off x="6762600" y="168120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rc 30"/>
            <p:cNvSpPr/>
            <p:nvPr/>
          </p:nvSpPr>
          <p:spPr>
            <a:xfrm flipV="1">
              <a:off x="6762600" y="202356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rc 31"/>
            <p:cNvSpPr/>
            <p:nvPr/>
          </p:nvSpPr>
          <p:spPr>
            <a:xfrm flipH="1">
              <a:off x="6848640" y="190980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rc 32"/>
            <p:cNvSpPr/>
            <p:nvPr/>
          </p:nvSpPr>
          <p:spPr>
            <a:xfrm flipH="1" flipV="1">
              <a:off x="6848640" y="179496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33"/>
            <p:cNvSpPr/>
            <p:nvPr/>
          </p:nvSpPr>
          <p:spPr>
            <a:xfrm>
              <a:off x="7015320" y="109692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34"/>
            <p:cNvSpPr/>
            <p:nvPr/>
          </p:nvSpPr>
          <p:spPr>
            <a:xfrm>
              <a:off x="7015320" y="178128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5"/>
            <p:cNvSpPr/>
            <p:nvPr/>
          </p:nvSpPr>
          <p:spPr>
            <a:xfrm>
              <a:off x="7020000" y="413856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4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36"/>
            <p:cNvSpPr/>
            <p:nvPr/>
          </p:nvSpPr>
          <p:spPr>
            <a:xfrm>
              <a:off x="7015320" y="543240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8"/>
            <p:cNvSpPr/>
            <p:nvPr/>
          </p:nvSpPr>
          <p:spPr>
            <a:xfrm>
              <a:off x="4429080" y="244332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391000" y="25290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40"/>
            <p:cNvGrpSpPr/>
            <p:nvPr/>
          </p:nvGrpSpPr>
          <p:grpSpPr>
            <a:xfrm>
              <a:off x="6762600" y="2289240"/>
              <a:ext cx="171360" cy="456840"/>
              <a:chOff x="6762600" y="2289240"/>
              <a:chExt cx="171360" cy="456840"/>
            </a:xfrm>
          </p:grpSpPr>
          <p:sp>
            <p:nvSpPr>
              <p:cNvPr id="581" name="Arc 41"/>
              <p:cNvSpPr/>
              <p:nvPr/>
            </p:nvSpPr>
            <p:spPr>
              <a:xfrm>
                <a:off x="6762600" y="228924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rc 42"/>
              <p:cNvSpPr/>
              <p:nvPr/>
            </p:nvSpPr>
            <p:spPr>
              <a:xfrm flipV="1">
                <a:off x="6762600" y="2630880"/>
                <a:ext cx="86040" cy="114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rc 43"/>
              <p:cNvSpPr/>
              <p:nvPr/>
            </p:nvSpPr>
            <p:spPr>
              <a:xfrm flipH="1">
                <a:off x="6847560" y="251748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rc 44"/>
              <p:cNvSpPr/>
              <p:nvPr/>
            </p:nvSpPr>
            <p:spPr>
              <a:xfrm flipH="1" flipV="1">
                <a:off x="6847560" y="2402640"/>
                <a:ext cx="86040" cy="11484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-360 h 114840"/>
                  <a:gd name="textAreaBottom" fmla="*/ 114840 h 114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Rectangle 45"/>
            <p:cNvSpPr/>
            <p:nvPr/>
          </p:nvSpPr>
          <p:spPr>
            <a:xfrm>
              <a:off x="7015320" y="226080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"/>
            <p:cNvSpPr/>
            <p:nvPr/>
          </p:nvSpPr>
          <p:spPr>
            <a:xfrm>
              <a:off x="5391000" y="31370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47"/>
            <p:cNvSpPr/>
            <p:nvPr/>
          </p:nvSpPr>
          <p:spPr>
            <a:xfrm>
              <a:off x="6762600" y="2897280"/>
              <a:ext cx="86040" cy="1144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rc 48"/>
            <p:cNvSpPr/>
            <p:nvPr/>
          </p:nvSpPr>
          <p:spPr>
            <a:xfrm flipV="1">
              <a:off x="6762600" y="3239640"/>
              <a:ext cx="86040" cy="1141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49"/>
            <p:cNvSpPr/>
            <p:nvPr/>
          </p:nvSpPr>
          <p:spPr>
            <a:xfrm flipH="1">
              <a:off x="6848640" y="3125880"/>
              <a:ext cx="85680" cy="11448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rc 50"/>
            <p:cNvSpPr/>
            <p:nvPr/>
          </p:nvSpPr>
          <p:spPr>
            <a:xfrm flipH="1" flipV="1">
              <a:off x="6848640" y="3011040"/>
              <a:ext cx="85680" cy="11412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-36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51"/>
            <p:cNvSpPr/>
            <p:nvPr/>
          </p:nvSpPr>
          <p:spPr>
            <a:xfrm>
              <a:off x="7015320" y="289584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reates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ores it on d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52"/>
            <p:cNvGrpSpPr/>
            <p:nvPr/>
          </p:nvGrpSpPr>
          <p:grpSpPr>
            <a:xfrm>
              <a:off x="4187880" y="1057320"/>
              <a:ext cx="1200240" cy="457200"/>
              <a:chOff x="4187880" y="1057320"/>
              <a:chExt cx="1200240" cy="457200"/>
            </a:xfrm>
          </p:grpSpPr>
          <p:sp>
            <p:nvSpPr>
              <p:cNvPr id="593" name="Freeform 53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4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55"/>
              <p:cNvSpPr/>
              <p:nvPr/>
            </p:nvSpPr>
            <p:spPr>
              <a:xfrm>
                <a:off x="4515840" y="12013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56"/>
            <p:cNvGrpSpPr/>
            <p:nvPr/>
          </p:nvGrpSpPr>
          <p:grpSpPr>
            <a:xfrm>
              <a:off x="4187880" y="1690920"/>
              <a:ext cx="1200240" cy="457200"/>
              <a:chOff x="4187880" y="1690920"/>
              <a:chExt cx="1200240" cy="457200"/>
            </a:xfrm>
          </p:grpSpPr>
          <p:sp>
            <p:nvSpPr>
              <p:cNvPr id="597" name="Freeform 57"/>
              <p:cNvSpPr/>
              <p:nvPr/>
            </p:nvSpPr>
            <p:spPr>
              <a:xfrm>
                <a:off x="4187880" y="169092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8" name="Group 58"/>
              <p:cNvGrpSpPr/>
              <p:nvPr/>
            </p:nvGrpSpPr>
            <p:grpSpPr>
              <a:xfrm>
                <a:off x="4187880" y="1690920"/>
                <a:ext cx="1200240" cy="457200"/>
                <a:chOff x="4187880" y="1690920"/>
                <a:chExt cx="1200240" cy="457200"/>
              </a:xfrm>
            </p:grpSpPr>
            <p:sp>
              <p:nvSpPr>
                <p:cNvPr id="599" name="Freeform 59"/>
                <p:cNvSpPr/>
                <p:nvPr/>
              </p:nvSpPr>
              <p:spPr>
                <a:xfrm>
                  <a:off x="4187880" y="1690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60"/>
                <p:cNvSpPr/>
                <p:nvPr/>
              </p:nvSpPr>
              <p:spPr>
                <a:xfrm>
                  <a:off x="4258440" y="182484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1" name="Group 61"/>
            <p:cNvGrpSpPr/>
            <p:nvPr/>
          </p:nvGrpSpPr>
          <p:grpSpPr>
            <a:xfrm>
              <a:off x="4187880" y="2908440"/>
              <a:ext cx="1200240" cy="457200"/>
              <a:chOff x="4187880" y="2908440"/>
              <a:chExt cx="1200240" cy="457200"/>
            </a:xfrm>
          </p:grpSpPr>
          <p:sp>
            <p:nvSpPr>
              <p:cNvPr id="602" name="Freeform 62"/>
              <p:cNvSpPr/>
              <p:nvPr/>
            </p:nvSpPr>
            <p:spPr>
              <a:xfrm>
                <a:off x="4187880" y="2908440"/>
                <a:ext cx="1200240" cy="457200"/>
              </a:xfrm>
              <a:custGeom>
                <a:avLst/>
                <a:gdLst>
                  <a:gd name="textAreaLeft" fmla="*/ 0 w 1200240"/>
                  <a:gd name="textAreaRight" fmla="*/ 1200600 w 12002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" name="Group 63"/>
              <p:cNvGrpSpPr/>
              <p:nvPr/>
            </p:nvGrpSpPr>
            <p:grpSpPr>
              <a:xfrm>
                <a:off x="4187880" y="2908440"/>
                <a:ext cx="1200240" cy="457200"/>
                <a:chOff x="4187880" y="2908440"/>
                <a:chExt cx="1200240" cy="457200"/>
              </a:xfrm>
            </p:grpSpPr>
            <p:sp>
              <p:nvSpPr>
                <p:cNvPr id="604" name="Freeform 64"/>
                <p:cNvSpPr/>
                <p:nvPr/>
              </p:nvSpPr>
              <p:spPr>
                <a:xfrm>
                  <a:off x="4187880" y="290844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65"/>
                <p:cNvSpPr/>
                <p:nvPr/>
              </p:nvSpPr>
              <p:spPr>
                <a:xfrm>
                  <a:off x="4515840" y="30430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Group 66"/>
            <p:cNvGrpSpPr/>
            <p:nvPr/>
          </p:nvGrpSpPr>
          <p:grpSpPr>
            <a:xfrm>
              <a:off x="4187880" y="5227920"/>
              <a:ext cx="1200240" cy="457200"/>
              <a:chOff x="4187880" y="5227920"/>
              <a:chExt cx="1200240" cy="457200"/>
            </a:xfrm>
          </p:grpSpPr>
          <p:grpSp>
            <p:nvGrpSpPr>
              <p:cNvPr id="607" name="Group 67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08" name="Freeform 68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Rectangle 69"/>
                <p:cNvSpPr/>
                <p:nvPr/>
              </p:nvSpPr>
              <p:spPr>
                <a:xfrm>
                  <a:off x="4772880" y="550728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2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70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611" name="Freeform 71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>
                    <a:gd name="textAreaLeft" fmla="*/ 0 w 1200240"/>
                    <a:gd name="textAreaRight" fmla="*/ 1200600 w 12002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72"/>
                <p:cNvSpPr/>
                <p:nvPr/>
              </p:nvSpPr>
              <p:spPr>
                <a:xfrm>
                  <a:off x="4644360" y="538020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3" name="Rectangle 73"/>
            <p:cNvSpPr/>
            <p:nvPr/>
          </p:nvSpPr>
          <p:spPr>
            <a:xfrm>
              <a:off x="5905440" y="51022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Arial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Group 74"/>
            <p:cNvGrpSpPr/>
            <p:nvPr/>
          </p:nvGrpSpPr>
          <p:grpSpPr>
            <a:xfrm>
              <a:off x="5905440" y="5367600"/>
              <a:ext cx="773280" cy="1212840"/>
              <a:chOff x="5905440" y="5367600"/>
              <a:chExt cx="773280" cy="1212840"/>
            </a:xfrm>
          </p:grpSpPr>
          <p:sp>
            <p:nvSpPr>
              <p:cNvPr id="615" name="Rectangle 75"/>
              <p:cNvSpPr/>
              <p:nvPr/>
            </p:nvSpPr>
            <p:spPr>
              <a:xfrm>
                <a:off x="6227640" y="613116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76"/>
              <p:cNvSpPr/>
              <p:nvPr/>
            </p:nvSpPr>
            <p:spPr>
              <a:xfrm>
                <a:off x="5905440" y="5367600"/>
                <a:ext cx="767160" cy="121284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840"/>
                  <a:gd name="textAreaBottom" fmla="*/ 1213200 h 12128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77"/>
              <p:cNvSpPr/>
              <p:nvPr/>
            </p:nvSpPr>
            <p:spPr>
              <a:xfrm>
                <a:off x="5906520" y="53686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78"/>
              <p:cNvSpPr/>
              <p:nvPr/>
            </p:nvSpPr>
            <p:spPr>
              <a:xfrm>
                <a:off x="5906520" y="552132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79"/>
              <p:cNvSpPr/>
              <p:nvPr/>
            </p:nvSpPr>
            <p:spPr>
              <a:xfrm>
                <a:off x="5906520" y="567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80"/>
              <p:cNvSpPr/>
              <p:nvPr/>
            </p:nvSpPr>
            <p:spPr>
              <a:xfrm>
                <a:off x="5906520" y="58230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81"/>
              <p:cNvSpPr/>
              <p:nvPr/>
            </p:nvSpPr>
            <p:spPr>
              <a:xfrm>
                <a:off x="5906520" y="597420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82"/>
              <p:cNvSpPr/>
              <p:nvPr/>
            </p:nvSpPr>
            <p:spPr>
              <a:xfrm>
                <a:off x="5906520" y="6126120"/>
                <a:ext cx="772200" cy="30312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83"/>
              <p:cNvSpPr/>
              <p:nvPr/>
            </p:nvSpPr>
            <p:spPr>
              <a:xfrm>
                <a:off x="5906520" y="642924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84"/>
              <p:cNvSpPr/>
              <p:nvPr/>
            </p:nvSpPr>
            <p:spPr>
              <a:xfrm>
                <a:off x="6249240" y="612612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85"/>
            <p:cNvGrpSpPr/>
            <p:nvPr/>
          </p:nvGrpSpPr>
          <p:grpSpPr>
            <a:xfrm>
              <a:off x="5905440" y="3780000"/>
              <a:ext cx="773280" cy="1214280"/>
              <a:chOff x="5905440" y="3780000"/>
              <a:chExt cx="773280" cy="1214280"/>
            </a:xfrm>
          </p:grpSpPr>
          <p:sp>
            <p:nvSpPr>
              <p:cNvPr id="626" name="Freeform 86"/>
              <p:cNvSpPr/>
              <p:nvPr/>
            </p:nvSpPr>
            <p:spPr>
              <a:xfrm>
                <a:off x="5905440" y="3780000"/>
                <a:ext cx="767160" cy="121248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212480"/>
                  <a:gd name="textAreaBottom" fmla="*/ 1212840 h 121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87"/>
              <p:cNvSpPr/>
              <p:nvPr/>
            </p:nvSpPr>
            <p:spPr>
              <a:xfrm>
                <a:off x="5906520" y="3781080"/>
                <a:ext cx="772200" cy="15120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88"/>
              <p:cNvSpPr/>
              <p:nvPr/>
            </p:nvSpPr>
            <p:spPr>
              <a:xfrm>
                <a:off x="5906520" y="3933360"/>
                <a:ext cx="772200" cy="15228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Group 89"/>
              <p:cNvGrpSpPr/>
              <p:nvPr/>
            </p:nvGrpSpPr>
            <p:grpSpPr>
              <a:xfrm>
                <a:off x="5906520" y="4086000"/>
                <a:ext cx="772200" cy="908280"/>
                <a:chOff x="5906520" y="4086000"/>
                <a:chExt cx="772200" cy="908280"/>
              </a:xfrm>
            </p:grpSpPr>
            <p:sp>
              <p:nvSpPr>
                <p:cNvPr id="630" name="Rectangle 90"/>
                <p:cNvSpPr/>
                <p:nvPr/>
              </p:nvSpPr>
              <p:spPr>
                <a:xfrm>
                  <a:off x="6227640" y="45453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91"/>
                <p:cNvSpPr/>
                <p:nvPr/>
              </p:nvSpPr>
              <p:spPr>
                <a:xfrm>
                  <a:off x="5906520" y="40860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92"/>
                <p:cNvSpPr/>
                <p:nvPr/>
              </p:nvSpPr>
              <p:spPr>
                <a:xfrm>
                  <a:off x="5906520" y="423720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93"/>
                <p:cNvSpPr/>
                <p:nvPr/>
              </p:nvSpPr>
              <p:spPr>
                <a:xfrm>
                  <a:off x="5906520" y="4388400"/>
                  <a:ext cx="772200" cy="15120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94"/>
                <p:cNvSpPr/>
                <p:nvPr/>
              </p:nvSpPr>
              <p:spPr>
                <a:xfrm>
                  <a:off x="5906520" y="4540320"/>
                  <a:ext cx="772200" cy="30276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95"/>
                <p:cNvSpPr/>
                <p:nvPr/>
              </p:nvSpPr>
              <p:spPr>
                <a:xfrm>
                  <a:off x="5906520" y="4843440"/>
                  <a:ext cx="772200" cy="150840"/>
                </a:xfrm>
                <a:custGeom>
                  <a:avLst/>
                  <a:gdLst>
                    <a:gd name="textAreaLeft" fmla="*/ 0 w 772200"/>
                    <a:gd name="textAreaRight" fmla="*/ 772560 w 77220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96"/>
                <p:cNvSpPr/>
                <p:nvPr/>
              </p:nvSpPr>
              <p:spPr>
                <a:xfrm>
                  <a:off x="6248880" y="45403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  <a:ea typeface="Arial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97"/>
            <p:cNvGrpSpPr/>
            <p:nvPr/>
          </p:nvGrpSpPr>
          <p:grpSpPr>
            <a:xfrm>
              <a:off x="5905440" y="1141560"/>
              <a:ext cx="771480" cy="309600"/>
              <a:chOff x="5905440" y="1141560"/>
              <a:chExt cx="771480" cy="309600"/>
            </a:xfrm>
          </p:grpSpPr>
          <p:grpSp>
            <p:nvGrpSpPr>
              <p:cNvPr id="638" name="Group 98"/>
              <p:cNvGrpSpPr/>
              <p:nvPr/>
            </p:nvGrpSpPr>
            <p:grpSpPr>
              <a:xfrm>
                <a:off x="5905440" y="1142640"/>
                <a:ext cx="771480" cy="308520"/>
                <a:chOff x="5905440" y="1142640"/>
                <a:chExt cx="771480" cy="308520"/>
              </a:xfrm>
            </p:grpSpPr>
            <p:sp>
              <p:nvSpPr>
                <p:cNvPr id="639" name="Oval 99"/>
                <p:cNvSpPr/>
                <p:nvPr/>
              </p:nvSpPr>
              <p:spPr>
                <a:xfrm>
                  <a:off x="5905440" y="13741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00"/>
                <p:cNvSpPr/>
                <p:nvPr/>
              </p:nvSpPr>
              <p:spPr>
                <a:xfrm>
                  <a:off x="5906160" y="11818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01"/>
                <p:cNvSpPr/>
                <p:nvPr/>
              </p:nvSpPr>
              <p:spPr>
                <a:xfrm>
                  <a:off x="5905440" y="11426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Oval 102"/>
              <p:cNvSpPr/>
              <p:nvPr/>
            </p:nvSpPr>
            <p:spPr>
              <a:xfrm>
                <a:off x="5905440" y="13737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03"/>
              <p:cNvSpPr/>
              <p:nvPr/>
            </p:nvSpPr>
            <p:spPr>
              <a:xfrm>
                <a:off x="5906160" y="11808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04"/>
              <p:cNvSpPr/>
              <p:nvPr/>
            </p:nvSpPr>
            <p:spPr>
              <a:xfrm>
                <a:off x="5913000" y="13730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05"/>
              <p:cNvSpPr/>
              <p:nvPr/>
            </p:nvSpPr>
            <p:spPr>
              <a:xfrm>
                <a:off x="6105240" y="12427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6"/>
              <p:cNvSpPr/>
              <p:nvPr/>
            </p:nvSpPr>
            <p:spPr>
              <a:xfrm>
                <a:off x="5910840" y="11743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107"/>
              <p:cNvSpPr/>
              <p:nvPr/>
            </p:nvSpPr>
            <p:spPr>
              <a:xfrm>
                <a:off x="5905440" y="11415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08"/>
            <p:cNvGrpSpPr/>
            <p:nvPr/>
          </p:nvGrpSpPr>
          <p:grpSpPr>
            <a:xfrm>
              <a:off x="5905440" y="1764000"/>
              <a:ext cx="771480" cy="309240"/>
              <a:chOff x="5905440" y="1764000"/>
              <a:chExt cx="771480" cy="309240"/>
            </a:xfrm>
          </p:grpSpPr>
          <p:grpSp>
            <p:nvGrpSpPr>
              <p:cNvPr id="649" name="Group 109"/>
              <p:cNvGrpSpPr/>
              <p:nvPr/>
            </p:nvGrpSpPr>
            <p:grpSpPr>
              <a:xfrm>
                <a:off x="5905440" y="1765080"/>
                <a:ext cx="771480" cy="308160"/>
                <a:chOff x="5905440" y="1765080"/>
                <a:chExt cx="771480" cy="308160"/>
              </a:xfrm>
            </p:grpSpPr>
            <p:sp>
              <p:nvSpPr>
                <p:cNvPr id="650" name="Oval 110"/>
                <p:cNvSpPr/>
                <p:nvPr/>
              </p:nvSpPr>
              <p:spPr>
                <a:xfrm>
                  <a:off x="5905440" y="19965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11"/>
                <p:cNvSpPr/>
                <p:nvPr/>
              </p:nvSpPr>
              <p:spPr>
                <a:xfrm>
                  <a:off x="5906160" y="180432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112"/>
                <p:cNvSpPr/>
                <p:nvPr/>
              </p:nvSpPr>
              <p:spPr>
                <a:xfrm>
                  <a:off x="5905440" y="176508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Oval 113"/>
              <p:cNvSpPr/>
              <p:nvPr/>
            </p:nvSpPr>
            <p:spPr>
              <a:xfrm>
                <a:off x="5905440" y="1995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14"/>
              <p:cNvSpPr/>
              <p:nvPr/>
            </p:nvSpPr>
            <p:spPr>
              <a:xfrm>
                <a:off x="5906160" y="180324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15"/>
              <p:cNvSpPr/>
              <p:nvPr/>
            </p:nvSpPr>
            <p:spPr>
              <a:xfrm>
                <a:off x="5913000" y="199512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6"/>
              <p:cNvSpPr/>
              <p:nvPr/>
            </p:nvSpPr>
            <p:spPr>
              <a:xfrm>
                <a:off x="6105240" y="18648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17"/>
              <p:cNvSpPr/>
              <p:nvPr/>
            </p:nvSpPr>
            <p:spPr>
              <a:xfrm>
                <a:off x="5910840" y="179676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Oval 118"/>
              <p:cNvSpPr/>
              <p:nvPr/>
            </p:nvSpPr>
            <p:spPr>
              <a:xfrm>
                <a:off x="5905440" y="17640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9"/>
            <p:cNvGrpSpPr/>
            <p:nvPr/>
          </p:nvGrpSpPr>
          <p:grpSpPr>
            <a:xfrm>
              <a:off x="5905440" y="2379960"/>
              <a:ext cx="771480" cy="309240"/>
              <a:chOff x="5905440" y="2379960"/>
              <a:chExt cx="771480" cy="309240"/>
            </a:xfrm>
          </p:grpSpPr>
          <p:grpSp>
            <p:nvGrpSpPr>
              <p:cNvPr id="660" name="Group 120"/>
              <p:cNvGrpSpPr/>
              <p:nvPr/>
            </p:nvGrpSpPr>
            <p:grpSpPr>
              <a:xfrm>
                <a:off x="5905440" y="2381040"/>
                <a:ext cx="771480" cy="308160"/>
                <a:chOff x="5905440" y="2381040"/>
                <a:chExt cx="771480" cy="308160"/>
              </a:xfrm>
            </p:grpSpPr>
            <p:sp>
              <p:nvSpPr>
                <p:cNvPr id="661" name="Oval 121"/>
                <p:cNvSpPr/>
                <p:nvPr/>
              </p:nvSpPr>
              <p:spPr>
                <a:xfrm>
                  <a:off x="5905440" y="26125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22"/>
                <p:cNvSpPr/>
                <p:nvPr/>
              </p:nvSpPr>
              <p:spPr>
                <a:xfrm>
                  <a:off x="5906160" y="2420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123"/>
                <p:cNvSpPr/>
                <p:nvPr/>
              </p:nvSpPr>
              <p:spPr>
                <a:xfrm>
                  <a:off x="5905440" y="23810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Oval 124"/>
              <p:cNvSpPr/>
              <p:nvPr/>
            </p:nvSpPr>
            <p:spPr>
              <a:xfrm>
                <a:off x="5905440" y="26118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25"/>
              <p:cNvSpPr/>
              <p:nvPr/>
            </p:nvSpPr>
            <p:spPr>
              <a:xfrm>
                <a:off x="5906160" y="2419200"/>
                <a:ext cx="770760" cy="22860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26"/>
              <p:cNvSpPr/>
              <p:nvPr/>
            </p:nvSpPr>
            <p:spPr>
              <a:xfrm>
                <a:off x="5913000" y="261108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127"/>
              <p:cNvSpPr/>
              <p:nvPr/>
            </p:nvSpPr>
            <p:spPr>
              <a:xfrm>
                <a:off x="6105240" y="248076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28"/>
              <p:cNvSpPr/>
              <p:nvPr/>
            </p:nvSpPr>
            <p:spPr>
              <a:xfrm>
                <a:off x="5910840" y="2412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29"/>
              <p:cNvSpPr/>
              <p:nvPr/>
            </p:nvSpPr>
            <p:spPr>
              <a:xfrm>
                <a:off x="5905440" y="2379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30"/>
            <p:cNvGrpSpPr/>
            <p:nvPr/>
          </p:nvGrpSpPr>
          <p:grpSpPr>
            <a:xfrm>
              <a:off x="5905440" y="2982960"/>
              <a:ext cx="771480" cy="309600"/>
              <a:chOff x="5905440" y="2982960"/>
              <a:chExt cx="771480" cy="309600"/>
            </a:xfrm>
          </p:grpSpPr>
          <p:grpSp>
            <p:nvGrpSpPr>
              <p:cNvPr id="671" name="Group 131"/>
              <p:cNvGrpSpPr/>
              <p:nvPr/>
            </p:nvGrpSpPr>
            <p:grpSpPr>
              <a:xfrm>
                <a:off x="5905440" y="2984040"/>
                <a:ext cx="771480" cy="308520"/>
                <a:chOff x="5905440" y="2984040"/>
                <a:chExt cx="771480" cy="308520"/>
              </a:xfrm>
            </p:grpSpPr>
            <p:sp>
              <p:nvSpPr>
                <p:cNvPr id="672" name="Oval 132"/>
                <p:cNvSpPr/>
                <p:nvPr/>
              </p:nvSpPr>
              <p:spPr>
                <a:xfrm>
                  <a:off x="5905440" y="32155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33"/>
                <p:cNvSpPr/>
                <p:nvPr/>
              </p:nvSpPr>
              <p:spPr>
                <a:xfrm>
                  <a:off x="5906160" y="3023280"/>
                  <a:ext cx="770760" cy="228960"/>
                </a:xfrm>
                <a:custGeom>
                  <a:avLst/>
                  <a:gdLst>
                    <a:gd name="textAreaLeft" fmla="*/ 0 w 770760"/>
                    <a:gd name="textAreaRight" fmla="*/ 771120 w 77076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Oval 134"/>
                <p:cNvSpPr/>
                <p:nvPr/>
              </p:nvSpPr>
              <p:spPr>
                <a:xfrm>
                  <a:off x="5905440" y="29840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Oval 135"/>
              <p:cNvSpPr/>
              <p:nvPr/>
            </p:nvSpPr>
            <p:spPr>
              <a:xfrm>
                <a:off x="5905440" y="32151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36"/>
              <p:cNvSpPr/>
              <p:nvPr/>
            </p:nvSpPr>
            <p:spPr>
              <a:xfrm>
                <a:off x="5906160" y="3022200"/>
                <a:ext cx="770760" cy="22896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37"/>
              <p:cNvSpPr/>
              <p:nvPr/>
            </p:nvSpPr>
            <p:spPr>
              <a:xfrm>
                <a:off x="5913000" y="3214440"/>
                <a:ext cx="756720" cy="41040"/>
              </a:xfrm>
              <a:custGeom>
                <a:avLst/>
                <a:gdLst>
                  <a:gd name="textAreaLeft" fmla="*/ 0 w 756720"/>
                  <a:gd name="textAreaRight" fmla="*/ 757080 w 756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138"/>
              <p:cNvSpPr/>
              <p:nvPr/>
            </p:nvSpPr>
            <p:spPr>
              <a:xfrm>
                <a:off x="6105240" y="30841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39"/>
              <p:cNvSpPr/>
              <p:nvPr/>
            </p:nvSpPr>
            <p:spPr>
              <a:xfrm>
                <a:off x="5910840" y="3015720"/>
                <a:ext cx="762480" cy="424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40"/>
              <p:cNvSpPr/>
              <p:nvPr/>
            </p:nvSpPr>
            <p:spPr>
              <a:xfrm>
                <a:off x="5905440" y="2982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141"/>
            <p:cNvGrpSpPr/>
            <p:nvPr/>
          </p:nvGrpSpPr>
          <p:grpSpPr>
            <a:xfrm>
              <a:off x="4405320" y="4357800"/>
              <a:ext cx="773280" cy="309600"/>
              <a:chOff x="4405320" y="4357800"/>
              <a:chExt cx="773280" cy="309600"/>
            </a:xfrm>
          </p:grpSpPr>
          <p:grpSp>
            <p:nvGrpSpPr>
              <p:cNvPr id="682" name="Group 142"/>
              <p:cNvGrpSpPr/>
              <p:nvPr/>
            </p:nvGrpSpPr>
            <p:grpSpPr>
              <a:xfrm>
                <a:off x="4405680" y="4358160"/>
                <a:ext cx="772920" cy="309240"/>
                <a:chOff x="4405680" y="4358160"/>
                <a:chExt cx="772920" cy="309240"/>
              </a:xfrm>
            </p:grpSpPr>
            <p:sp>
              <p:nvSpPr>
                <p:cNvPr id="683" name="Oval 143"/>
                <p:cNvSpPr/>
                <p:nvPr/>
              </p:nvSpPr>
              <p:spPr>
                <a:xfrm>
                  <a:off x="4405680" y="45903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44"/>
                <p:cNvSpPr/>
                <p:nvPr/>
              </p:nvSpPr>
              <p:spPr>
                <a:xfrm>
                  <a:off x="4406040" y="4397400"/>
                  <a:ext cx="772560" cy="229320"/>
                </a:xfrm>
                <a:custGeom>
                  <a:avLst/>
                  <a:gdLst>
                    <a:gd name="textAreaLeft" fmla="*/ 0 w 772560"/>
                    <a:gd name="textAreaRight" fmla="*/ 772920 w 77256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145"/>
                <p:cNvSpPr/>
                <p:nvPr/>
              </p:nvSpPr>
              <p:spPr>
                <a:xfrm>
                  <a:off x="4405680" y="43581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Oval 146"/>
              <p:cNvSpPr/>
              <p:nvPr/>
            </p:nvSpPr>
            <p:spPr>
              <a:xfrm>
                <a:off x="4405320" y="45892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47"/>
              <p:cNvSpPr/>
              <p:nvPr/>
            </p:nvSpPr>
            <p:spPr>
              <a:xfrm>
                <a:off x="4405680" y="4397040"/>
                <a:ext cx="772200" cy="228960"/>
              </a:xfrm>
              <a:custGeom>
                <a:avLst/>
                <a:gdLst>
                  <a:gd name="textAreaLeft" fmla="*/ 0 w 772200"/>
                  <a:gd name="textAreaRight" fmla="*/ 772560 w 77220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48"/>
              <p:cNvSpPr/>
              <p:nvPr/>
            </p:nvSpPr>
            <p:spPr>
              <a:xfrm>
                <a:off x="4412880" y="4589280"/>
                <a:ext cx="757800" cy="41040"/>
              </a:xfrm>
              <a:custGeom>
                <a:avLst/>
                <a:gdLst>
                  <a:gd name="textAreaLeft" fmla="*/ 0 w 757800"/>
                  <a:gd name="textAreaRight" fmla="*/ 758160 w 7578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49"/>
              <p:cNvSpPr/>
              <p:nvPr/>
            </p:nvSpPr>
            <p:spPr>
              <a:xfrm>
                <a:off x="4605480" y="445824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50"/>
              <p:cNvSpPr/>
              <p:nvPr/>
            </p:nvSpPr>
            <p:spPr>
              <a:xfrm>
                <a:off x="4411440" y="4390200"/>
                <a:ext cx="763560" cy="4248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Oval 151"/>
              <p:cNvSpPr/>
              <p:nvPr/>
            </p:nvSpPr>
            <p:spPr>
              <a:xfrm>
                <a:off x="4405320" y="435780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Freeform 152"/>
            <p:cNvSpPr/>
            <p:nvPr/>
          </p:nvSpPr>
          <p:spPr>
            <a:xfrm>
              <a:off x="4791240" y="408492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Computer Organiz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Footer Placeholder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9DF3-9F35-44CF-B788-2326B5AFCB5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x logical units of computer syste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use, keybo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Output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inter, monitor, audio speak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mory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tains input and processed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rithmetic and logic unit (ALU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forms calcula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ontrol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upervises operation of other devi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ary storage un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ard drives, floppy driv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3640" y="434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What a computer program i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29F3-E926-4267-91D1-D1FB671FFC38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r a computer to be able to perform specific tasks (i.e. print what grade a student got on an exam), it must be given instructions to do the task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set of instructions that tells the computer to perform specific tasks is known as a </a:t>
            </a:r>
            <a:r>
              <a:rPr b="0" i="1" lang="en-US" sz="2800" spc="-1" strike="noStrike">
                <a:solidFill>
                  <a:srgbClr val="775f55"/>
                </a:solidFill>
                <a:latin typeface="Tw Cen MT"/>
              </a:rPr>
              <a:t>computer pro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Machine Languages, Assembly Languages and High-Level Languag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chine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atural language” of computer compon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chine depend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ssembly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glish-like abbreviations represent computer oper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anslator programs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igh-level langua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ows for writing more “English-like” instru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ontains commonly used mathematical operation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iler convert to machine langu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  <a:ea typeface="Arial"/>
              </a:rPr>
              <a:t>An Overview Of Computer Languag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948A-EC0A-459B-857B-99CB23FD829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12720" y="1600200"/>
          <a:ext cx="8153280" cy="4114800"/>
        </p:xfrm>
        <a:graphic>
          <a:graphicData uri="http://schemas.openxmlformats.org/drawingml/2006/table">
            <a:tbl>
              <a:tblPr/>
              <a:tblGrid>
                <a:gridCol w="1655640"/>
                <a:gridCol w="2448000"/>
                <a:gridCol w="2011320"/>
                <a:gridCol w="2038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1-Machine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2-Assembly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w Cen MT"/>
                        </a:rPr>
                        <a:t>3-High-level 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re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llection of binar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ymbolic form of machine  language (I.e. symbolic names are used to represent </a:t>
                      </a:r>
                      <a:r>
                        <a:rPr b="0" lang="en-US" sz="1600" spc="-1" strike="noStrike">
                          <a:solidFill>
                            <a:srgbClr val="1313ff"/>
                          </a:solidFill>
                          <a:latin typeface="Tw Cen MT"/>
                        </a:rPr>
                        <a:t>operat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8000"/>
                          </a:solidFill>
                          <a:latin typeface="Tw Cen MT"/>
                        </a:rPr>
                        <a:t>regist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&amp; 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w Cen MT"/>
                        </a:rPr>
                        <a:t>memory locat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bines algebraic  expressions with symbols taken from  English language(ex. C, Pascal, FORTRAN, …e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01 000000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00000101 00000100 00000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10100011 00000000 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w Cen MT"/>
                          <a:ea typeface="Traditional Arabic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MOV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 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313ff"/>
                          </a:solidFill>
                          <a:latin typeface="Tw Cen MT"/>
                          <a:ea typeface="Traditional Arabic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Tw Cen MT"/>
                          <a:ea typeface="Traditional Arabic"/>
                        </a:rPr>
                        <a:t>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  <a:ea typeface="Traditional Arabic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=A+4 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95b22"/>
                          </a:solidFill>
                          <a:latin typeface="Tw Cen MT"/>
                        </a:rPr>
                        <a:t>how does the computer understand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ly understood by a comput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mb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convert to machine langu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piler or (interpter 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vert to machine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grpSp>
        <p:nvGrpSpPr>
          <p:cNvPr id="424" name="Group 45"/>
          <p:cNvGrpSpPr/>
          <p:nvPr/>
        </p:nvGrpSpPr>
        <p:grpSpPr>
          <a:xfrm>
            <a:off x="395280" y="5950080"/>
            <a:ext cx="8381880" cy="380880"/>
            <a:chOff x="395280" y="5950080"/>
            <a:chExt cx="8381880" cy="380880"/>
          </a:xfrm>
        </p:grpSpPr>
        <p:sp>
          <p:nvSpPr>
            <p:cNvPr id="425" name="Line 40"/>
            <p:cNvSpPr/>
            <p:nvPr/>
          </p:nvSpPr>
          <p:spPr>
            <a:xfrm>
              <a:off x="395280" y="63309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43"/>
            <p:cNvSpPr/>
            <p:nvPr/>
          </p:nvSpPr>
          <p:spPr>
            <a:xfrm>
              <a:off x="395280" y="595008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Easier to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46"/>
          <p:cNvGrpSpPr/>
          <p:nvPr/>
        </p:nvGrpSpPr>
        <p:grpSpPr>
          <a:xfrm>
            <a:off x="395280" y="6491160"/>
            <a:ext cx="8381880" cy="368280"/>
            <a:chOff x="395280" y="6491160"/>
            <a:chExt cx="8381880" cy="368280"/>
          </a:xfrm>
        </p:grpSpPr>
        <p:sp>
          <p:nvSpPr>
            <p:cNvPr id="428" name="Line 41"/>
            <p:cNvSpPr/>
            <p:nvPr/>
          </p:nvSpPr>
          <p:spPr>
            <a:xfrm>
              <a:off x="395280" y="6491160"/>
              <a:ext cx="838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395280" y="649116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ore pow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Levels of Program Develop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Footer Placeholder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7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0A22-ABF1-4073-9052-59314FC65D3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19047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uman though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seudo-Natural Language (English, Arab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Level Programming Language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C, C++, Java, …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chine Cod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he Programmer’s Algorith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Footer Placeholder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Asma Alosai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4403-A1AE-4CAF-AE09-D8FF482B7EB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8000" y="155700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n algorithm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a finite sequence of instructions that produces a solution to a proble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700640" indent="-2124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The programmer’s algorith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e the proble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lan the problem solu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d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mpile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un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st and debug the progra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ADAD-C0BD-4579-98E3-C1C32060CC89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353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1-Defining 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roblem must be defined in terms of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Data to be processed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expected resul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nouns in the problem statement that suggest output and inpu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rocessing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The statements to achiev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ook for verbs to suggest processing step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914400" y="4191120"/>
            <a:ext cx="7554240" cy="2064960"/>
            <a:chOff x="914400" y="4191120"/>
            <a:chExt cx="7554240" cy="2064960"/>
          </a:xfrm>
        </p:grpSpPr>
        <p:sp>
          <p:nvSpPr>
            <p:cNvPr id="442" name="Oval 5"/>
            <p:cNvSpPr/>
            <p:nvPr/>
          </p:nvSpPr>
          <p:spPr>
            <a:xfrm>
              <a:off x="3793680" y="4210920"/>
              <a:ext cx="1702440" cy="2045160"/>
            </a:xfrm>
            <a:prstGeom prst="ellipse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"/>
            <p:cNvSpPr/>
            <p:nvPr/>
          </p:nvSpPr>
          <p:spPr>
            <a:xfrm>
              <a:off x="914400" y="4759560"/>
              <a:ext cx="1702440" cy="67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7"/>
            <p:cNvSpPr/>
            <p:nvPr/>
          </p:nvSpPr>
          <p:spPr>
            <a:xfrm>
              <a:off x="1032840" y="4944960"/>
              <a:ext cx="1585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bo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8"/>
            <p:cNvSpPr/>
            <p:nvPr/>
          </p:nvSpPr>
          <p:spPr>
            <a:xfrm>
              <a:off x="6742080" y="4690800"/>
              <a:ext cx="1565280" cy="12913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9"/>
            <p:cNvSpPr/>
            <p:nvPr/>
          </p:nvSpPr>
          <p:spPr>
            <a:xfrm>
              <a:off x="6928560" y="4944960"/>
              <a:ext cx="119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re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0"/>
            <p:cNvSpPr/>
            <p:nvPr/>
          </p:nvSpPr>
          <p:spPr>
            <a:xfrm>
              <a:off x="3702600" y="4893480"/>
              <a:ext cx="182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1"/>
            <p:cNvSpPr/>
            <p:nvPr/>
          </p:nvSpPr>
          <p:spPr>
            <a:xfrm>
              <a:off x="1029960" y="425952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6627600" y="419112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13"/>
            <p:cNvGrpSpPr/>
            <p:nvPr/>
          </p:nvGrpSpPr>
          <p:grpSpPr>
            <a:xfrm>
              <a:off x="2806920" y="4838040"/>
              <a:ext cx="3718800" cy="582480"/>
              <a:chOff x="2806920" y="4838040"/>
              <a:chExt cx="3718800" cy="582480"/>
            </a:xfrm>
          </p:grpSpPr>
          <p:sp>
            <p:nvSpPr>
              <p:cNvPr id="451" name="AutoShape 14"/>
              <p:cNvSpPr/>
              <p:nvPr/>
            </p:nvSpPr>
            <p:spPr>
              <a:xfrm>
                <a:off x="568620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utoShape 15"/>
              <p:cNvSpPr/>
              <p:nvPr/>
            </p:nvSpPr>
            <p:spPr>
              <a:xfrm>
                <a:off x="2806920" y="4838040"/>
                <a:ext cx="839520" cy="582480"/>
              </a:xfrm>
              <a:prstGeom prst="rightArrow">
                <a:avLst>
                  <a:gd name="adj1" fmla="val 50000"/>
                  <a:gd name="adj2" fmla="val 72084"/>
                </a:avLst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ebdd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3" name="Ink 16" descr=""/>
          <p:cNvPicPr/>
          <p:nvPr/>
        </p:nvPicPr>
        <p:blipFill>
          <a:blip r:embed="rId1"/>
          <a:stretch/>
        </p:blipFill>
        <p:spPr>
          <a:xfrm>
            <a:off x="942840" y="2162160"/>
            <a:ext cx="1000440" cy="255600"/>
          </a:xfrm>
          <a:prstGeom prst="rect">
            <a:avLst/>
          </a:prstGeom>
          <a:ln w="0">
            <a:noFill/>
          </a:ln>
        </p:spPr>
      </p:pic>
      <p:pic>
        <p:nvPicPr>
          <p:cNvPr id="454" name="Ink 17" descr=""/>
          <p:cNvPicPr/>
          <p:nvPr/>
        </p:nvPicPr>
        <p:blipFill>
          <a:blip r:embed="rId2"/>
          <a:stretch/>
        </p:blipFill>
        <p:spPr>
          <a:xfrm>
            <a:off x="942840" y="2593800"/>
            <a:ext cx="1079640" cy="250920"/>
          </a:xfrm>
          <a:prstGeom prst="rect">
            <a:avLst/>
          </a:prstGeom>
          <a:ln w="0">
            <a:noFill/>
          </a:ln>
        </p:spPr>
      </p:pic>
      <p:pic>
        <p:nvPicPr>
          <p:cNvPr id="455" name="Ink 18" descr=""/>
          <p:cNvPicPr/>
          <p:nvPr/>
        </p:nvPicPr>
        <p:blipFill>
          <a:blip r:embed="rId3"/>
          <a:stretch/>
        </p:blipFill>
        <p:spPr>
          <a:xfrm>
            <a:off x="1374840" y="3386160"/>
            <a:ext cx="165564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1:23:47Z</dcterms:created>
  <dc:creator>user</dc:creator>
  <dc:description/>
  <dc:language>en-US</dc:language>
  <cp:lastModifiedBy>safaa bassam</cp:lastModifiedBy>
  <dcterms:modified xsi:type="dcterms:W3CDTF">2016-09-23T08:39:23Z</dcterms:modified>
  <cp:revision>4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DA1098C655300498A04611AF6A7E116</vt:lpwstr>
  </property>
</Properties>
</file>