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FDE2-5ABC-4C48-9020-0CFF7E26F4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103B-0D29-4BAA-AF33-7B99A773CA3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8DE7-BAD5-4F88-8AB8-5464609C83A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A704-2FF8-4A6E-A33C-A887C251914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A939-25CF-44AE-8CAE-1DADDDC70C7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A8F3-8790-4651-9739-F980541DF27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F7F0-A9E1-4542-B77B-8DCF9CEB4D0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7DE8-29A6-4843-91FD-8682F85818D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3BEE-6714-4234-A931-D9EEF35823A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55B3-3556-4272-ACC2-D6EC6FC5ADE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C7F1-AB3C-44C9-927D-FA98AEFE2EE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2E07-06BB-4B3E-827E-DDF850B5F67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BB26-25EE-49D8-A1C2-B4482743BAF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8FD7-649C-4BF1-9738-FC7EFA4DDA6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5738-1343-4959-B298-30B78B0ED55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961F-6480-4E0B-94DF-9641CC5F93C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BDEB-BBD0-4231-BD34-B5D88589627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5F14-E74C-4468-9A4C-33C6D46CCE6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F059-055A-4751-98D3-C7218798230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86F6-B37F-45F2-AD90-2A16B83F02F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9CF0-1CDA-44BF-9FE5-B52374F84AD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2A09-4E46-407C-A837-0BC9894FDBE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D50F-90E3-4403-89A1-7BFBE816A86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008C-4117-4671-AE3B-29BCE6C5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2FE3-9F3F-4909-ACC8-D32F8EB8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C02E6-565B-47C3-B72C-76550CE6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04A28-D230-46D5-BEDB-ADA391F4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D3FEC-C197-48B6-8841-7A218BAA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C0ACA-443E-413F-B6EF-73117A5D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1F308-470F-4518-A858-FF2C05B8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614C8-B807-42FC-A71C-5E7B8A6B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6A63F-4437-495D-90F7-DBC9732E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54D54-79B2-4B4B-9FF9-CF47B1E3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286C3-9B97-4C9C-A347-13694DA3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6AA-DAB4-46DA-87A7-AEE78FDB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AC4A-4A22-440F-8CB2-4D724824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A2EC-05CB-40BA-AF63-04E4FAAB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723C-BA9F-4ED5-8BCF-92CB9552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C42A-3A75-46F4-A039-03E00047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5DDE-3DD7-4848-9AD3-73AD3237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9D24-8F4E-434C-937F-458A32A3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F164-2AC7-4617-A7B3-44B5D05C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8F22-BDA3-466D-AB37-399EAE26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EEE-5B2A-4426-BC5F-3DE45386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69AA-4100-40D3-A9AA-08745B3E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C147-E17B-44C5-93F4-41439B88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11B2-2D77-4103-BDD5-D3FFD72D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A713-4828-4B92-9DAD-51C9B9DC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75BC-1DCE-4854-9357-4EED05D5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11809-478E-49C1-80AD-ECE29DBF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7A120C-258F-4C67-AB92-3A2F61A3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888E1-AC33-4C1A-B73F-4F34EF2D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963808-F9F7-4712-BAF9-BB981102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FA6E6-319B-4211-8885-25774DCC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8D65-9F57-4C0B-B87B-69BBF970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FE42A5-DAEE-48B4-BC15-B233C2DA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3EA16-96C9-4608-A4C2-9DF47723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5E8C9-69C2-472D-9C4F-A9AF2DA2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2A079-3AAC-4725-B60E-7FB22954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8E14E-78C4-406D-A057-C313C796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89A23-4BD4-4E5C-81D1-5F50BDCD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08019-5C9E-4797-84BB-CBE8360C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485E42-FAFD-4EEB-B9F6-F305BAC9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3A3345-7527-41EF-9C59-D45E6059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C6903B-76E1-4619-A7F9-36D8FABA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71CC-C1FD-4E36-AC83-F10AF751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DCA923-C982-4E5C-A630-8316C8ED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F5F039-CF22-49FF-9D6D-49F7B57F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F48B46-5CCF-4A44-AA32-8349E344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13D0A0-40ED-45FB-9E99-CC9507FD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647A6C-3F37-4A7E-98FB-C40407D8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1BFF86-68D6-4B70-94B6-141A034F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29687C-1F19-42EF-B135-2C8042F1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1A0566-1FE2-45F4-A2C1-3A4DF86F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6F22B7-5903-4375-9BF4-28B606D7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8F8684-B626-4C91-BF73-7A980E7C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FBA5-C3E3-4F41-9270-2529EC4E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AA65BF-5CA7-4E20-9991-F5BA65E3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396100-0685-4002-AB99-4C767B9A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9B1905-76E3-408A-8DEB-0D92B47B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04B92F-25EE-4A8A-B10E-68861B33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AB9706-836F-4194-A082-64559638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F4E81C-AA66-45A8-9D58-1A86097C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A60CF-6AEE-4AB1-9188-ED22BE9C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466CFB-2FED-4094-B5BA-EB9F64D4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C6A116-B217-4471-8A78-5FF6452F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CE6359-02FD-4D3E-AEED-D4FA5895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4CB8-D7D4-43C3-832E-7B761DC5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D445BD-4E66-4C10-B400-BEBD29FD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6CB67-0CD9-4B66-9BE8-46294BBF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751FC-1F19-4F2A-B8F0-89BADBBE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4056C-FB8F-4AC6-B052-C651EDBE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17EB7-0CF2-4B83-9AFC-E16992E8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D20AB-CB64-447C-B4E4-ECDC65BA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A36DB-9DC2-411D-B9A7-FEE7ED17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89852-799D-4833-8627-15454964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19017-3D03-484A-96DE-A041BC0F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B4C46-96A5-4AD7-9BF5-58EC4AED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DE1B-8C3E-4A37-9874-684B0B72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D21F7-3D54-42A1-88C6-C7A32A11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AA813-C8A0-455E-B5F5-4F98BC7C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958A8-03DC-43C3-B22B-30C023DE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5E8434-200A-41A4-8E43-DD0862A4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289996-4B8A-4000-ADB4-F41501E3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F3498B-0140-4554-BA19-146D469A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7FAD8B-6435-4314-A40C-49967080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BBA852-5D41-418B-97CF-228CA3DA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82B470-F795-4DBD-8699-3DF78413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D9302B-C6C2-42E5-840B-36EA4F11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16C-DE06-49FE-B858-B7175500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C0C99F-B52F-4373-9286-26E2FA26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CE811C-93C3-42FD-B16E-57624F97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03E958-5E3A-478E-94EB-97524888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3301E5-89BC-44FB-BA3D-BE7FFCAC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796F3C-2F19-4FC3-B324-1B00AFB9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B28F1-3AAB-4C38-B830-5CD1E11D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1D062-E4AA-4D87-BC77-C7C943B6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5AB5D-17B1-4DAC-A031-3C23D020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5A17A-39D2-44B6-8F9A-32D6374E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D7F35-A951-476F-A42B-F7A3A767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CCF2-CE04-4B35-BEF3-95726252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BDDEB-061F-4D6C-9252-193CD5C2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80CA5-F20E-4D80-BB28-A31653DF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E7F00-6C71-4524-9DC1-02A796F6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7FD34-70D9-4AB6-B31C-F58F9B81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58804-B971-4F92-AEA8-1BFEA2B1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26F6D-A323-43F4-97C1-7F805EBB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5BA7E-05BB-4295-97E8-AC61FF58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009C0-2696-436A-B67B-9C5AE51C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12BDC-2253-4DD1-886E-DB1FB9D2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84F1D-AA26-4511-863A-78329DA7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EF94-8548-4718-A532-60E1B593AF0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33E3-F6A0-4626-90D7-D8F0BC6EEC4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E7F8-5E42-4B46-ADBA-7B191610C297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6BFF-9152-4D7F-AA4C-D7C6EBD5B9E8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526A-05BE-4A00-A1EB-65C8879BEBE1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29ED-CDA6-4B8E-808A-53CCD14276F0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5764-7657-4E29-9790-4951DF321D8C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FD3D-A808-4B3C-9E5C-3120C7BDCEB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4057-F72D-491D-83D3-B9A460F6A32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0468-05EE-4209-A47A-281A03C3DDE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58DD-F303-4BC9-8B67-F61C31EBCE3E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0145-607C-4B10-8297-FBB9314D0C4E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8674-6575-4B5F-B8CE-D4ABA1594FF2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6E85-D845-49E7-8629-C0625D1A4C31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52D5-6ADE-40A6-BF7E-85D60B4ADD4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4B9B-8A6E-4E9A-8D31-DBF40EB2161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7B79-CECD-4809-9B71-62606ECE32FE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w Cen MT"/>
              </a:rPr>
              <a:t>Page </a:t>
            </a:r>
            <a:fld id="{D2DDBED8-D406-407E-9C37-4FC929C398F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Tw Cen MT"/>
                <a:ea typeface="Arial"/>
              </a:rPr>
              <a:t> </a:t>
            </a:r>
            <a:r>
              <a:rPr b="1" lang="en-US" sz="4000" spc="-1" strike="noStrike">
                <a:solidFill>
                  <a:srgbClr val="ebddc3"/>
                </a:solidFill>
                <a:latin typeface="Tw Cen MT"/>
                <a:ea typeface="Arial"/>
              </a:rPr>
              <a:t>C</a:t>
            </a: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HAPTER 1</a:t>
            </a:r>
            <a:br>
              <a:rPr sz="4000"/>
            </a:b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INTRODUCTION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3" name="Footer Placeholder 5"/>
          <p:cNvSpPr/>
          <p:nvPr/>
        </p:nvSpPr>
        <p:spPr>
          <a:xfrm>
            <a:off x="324000" y="1125360"/>
            <a:ext cx="586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King Saud University </a:t>
            </a:r>
            <a:br>
              <a:rPr sz="20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ollege Of Applied Studies and Community Services  </a:t>
            </a:r>
            <a:br>
              <a:rPr sz="24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SC 1101</a:t>
            </a:r>
            <a:br>
              <a:rPr sz="20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omputer Programming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Done By: Asmal Alosa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Edited By: Fatimah Alak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Introduction to 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r. S. GANNOUNI &amp; Dr. A. TOU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2F1A-142F-482A-B855-90C3737E858D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Input and Outpu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Inpu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n come from many sources, such as users, files, and other progra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n take on many forms, such as text, graphics, and soun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Outpu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n also take on many forms, such as numbers, text, graphics, sounds, or commands to other progra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Introduction to 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r. S. GANNOUNI &amp; Dr. A. TOU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 </a:t>
            </a:r>
            <a:fld id="{FC122E79-D497-4FEC-BBFA-D902CBA99EB4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Example 1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Area and Perimeter of a rectangl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id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= length*width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 = 2*( length + width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Introduction to 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r. S. GANNOUNI &amp; Dr. A. TOU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w Cen MT"/>
                <a:ea typeface="Arial"/>
              </a:rPr>
              <a:t>Page </a:t>
            </a:r>
            <a:fld id="{BFAA510D-E455-4B6B-9500-B9324C739AEE}" type="slidenum">
              <a:rPr b="1" lang="en-US" sz="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Example 2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Sum and Average of 5 number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ve number x1, x2, x3, x4, x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um = x1+x2+x3+x4+x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erage = Sum/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Introduction to 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r. S. GANNOUNI &amp; Dr. A. TOU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w Cen MT"/>
                <a:ea typeface="Arial"/>
              </a:rPr>
              <a:t>Page </a:t>
            </a:r>
            <a:fld id="{50453577-BED2-4D3A-BC92-FFC16475B304}" type="slidenum">
              <a:rPr b="1" lang="en-US" sz="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Example 3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Area and Perimeter of a circl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= PI * Radius * Radi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 = 2 * PI * Radi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2-Planning the Solu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21D9-867B-4427-81C0-A701AD4C9130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85800" y="1600200"/>
            <a:ext cx="82072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en planning, algorithms are used to outline the solution steps using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English like statements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, called </a:t>
            </a:r>
            <a:r>
              <a:rPr b="1" i="1" lang="en-US" sz="2800" spc="-1" strike="noStrike">
                <a:solidFill>
                  <a:srgbClr val="b95b22"/>
                </a:solidFill>
                <a:latin typeface="Tw Cen MT"/>
              </a:rPr>
              <a:t>pseudocod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4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A </a:t>
            </a:r>
            <a:r>
              <a:rPr b="1" i="1" lang="en-US" sz="2800" spc="-1" strike="noStrike">
                <a:solidFill>
                  <a:srgbClr val="b95b22"/>
                </a:solidFill>
                <a:latin typeface="Tw Cen MT"/>
                <a:ea typeface="Arial"/>
              </a:rPr>
              <a:t>flowchart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is useful for the graphical representation of an algorithm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4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  <a:ea typeface="Arial"/>
              </a:rPr>
              <a:t>They are   drawn using rectangles, diamonds, ovals, and small circles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4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Write a Program to Print the Sum of two integer Number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15880" y="1717560"/>
            <a:ext cx="5580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Start the progra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Read the first number and save in  the variable ( N1 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Read the second number and save in the variable ( N2 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Sum the both numbers and save the result in the variable ( Sum )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 Sum = N1 + N2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int the variable ( Sum )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End the progra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CCC4-7496-4C93-A0F2-EE25A185A000}" type="slidenum">
              <a:rPr b="1" lang="ar-SA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4"/>
          <p:cNvSpPr/>
          <p:nvPr/>
        </p:nvSpPr>
        <p:spPr>
          <a:xfrm>
            <a:off x="5867280" y="1341360"/>
            <a:ext cx="2305080" cy="576360"/>
          </a:xfrm>
          <a:prstGeom prst="flowChartTerminator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5"/>
          <p:cNvSpPr/>
          <p:nvPr/>
        </p:nvSpPr>
        <p:spPr>
          <a:xfrm>
            <a:off x="5796000" y="2276640"/>
            <a:ext cx="2448000" cy="502920"/>
          </a:xfrm>
          <a:prstGeom prst="flowChartInputOutput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6"/>
          <p:cNvSpPr/>
          <p:nvPr/>
        </p:nvSpPr>
        <p:spPr>
          <a:xfrm>
            <a:off x="5726160" y="3141720"/>
            <a:ext cx="2590920" cy="503280"/>
          </a:xfrm>
          <a:prstGeom prst="flowChartInputOutput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7"/>
          <p:cNvSpPr/>
          <p:nvPr/>
        </p:nvSpPr>
        <p:spPr>
          <a:xfrm>
            <a:off x="5726160" y="4005360"/>
            <a:ext cx="2590920" cy="720720"/>
          </a:xfrm>
          <a:prstGeom prst="flowChartProcess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= N1 + 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8"/>
          <p:cNvSpPr/>
          <p:nvPr/>
        </p:nvSpPr>
        <p:spPr>
          <a:xfrm>
            <a:off x="5726160" y="5084640"/>
            <a:ext cx="2590920" cy="576360"/>
          </a:xfrm>
          <a:prstGeom prst="flowChartInputOutput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9"/>
          <p:cNvSpPr/>
          <p:nvPr/>
        </p:nvSpPr>
        <p:spPr>
          <a:xfrm>
            <a:off x="5796000" y="6093000"/>
            <a:ext cx="2448000" cy="576000"/>
          </a:xfrm>
          <a:prstGeom prst="flowChartTerminator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AutoShape 10"/>
          <p:cNvCxnSpPr>
            <a:stCxn id="484" idx="2"/>
            <a:endCxn id="485" idx="1"/>
          </p:cNvCxnSpPr>
          <p:nvPr/>
        </p:nvCxnSpPr>
        <p:spPr>
          <a:xfrm>
            <a:off x="7019640" y="1946160"/>
            <a:ext cx="1080" cy="30240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  <p:cxnSp>
        <p:nvCxnSpPr>
          <p:cNvPr id="491" name="AutoShape 11"/>
          <p:cNvCxnSpPr>
            <a:stCxn id="485" idx="4"/>
            <a:endCxn id="486" idx="1"/>
          </p:cNvCxnSpPr>
          <p:nvPr/>
        </p:nvCxnSpPr>
        <p:spPr>
          <a:xfrm>
            <a:off x="7020000" y="2808360"/>
            <a:ext cx="2160" cy="30528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  <p:cxnSp>
        <p:nvCxnSpPr>
          <p:cNvPr id="492" name="AutoShape 12"/>
          <p:cNvCxnSpPr>
            <a:stCxn id="486" idx="4"/>
            <a:endCxn id="487" idx="0"/>
          </p:cNvCxnSpPr>
          <p:nvPr/>
        </p:nvCxnSpPr>
        <p:spPr>
          <a:xfrm>
            <a:off x="7021080" y="3673440"/>
            <a:ext cx="1080" cy="30384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  <p:cxnSp>
        <p:nvCxnSpPr>
          <p:cNvPr id="493" name="AutoShape 13"/>
          <p:cNvCxnSpPr>
            <a:stCxn id="487" idx="2"/>
            <a:endCxn id="488" idx="1"/>
          </p:cNvCxnSpPr>
          <p:nvPr/>
        </p:nvCxnSpPr>
        <p:spPr>
          <a:xfrm>
            <a:off x="7021080" y="4754520"/>
            <a:ext cx="1080" cy="30240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  <p:cxnSp>
        <p:nvCxnSpPr>
          <p:cNvPr id="494" name="AutoShape 14"/>
          <p:cNvCxnSpPr>
            <a:stCxn id="488" idx="4"/>
            <a:endCxn id="489" idx="0"/>
          </p:cNvCxnSpPr>
          <p:nvPr/>
        </p:nvCxnSpPr>
        <p:spPr>
          <a:xfrm flipH="1">
            <a:off x="7019640" y="5689080"/>
            <a:ext cx="2160" cy="37548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4302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3-Coding the Program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Footer Placeholder 1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7C10-C08D-42E9-BF6B-A44F13044DE1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28240" y="1700280"/>
            <a:ext cx="873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oding is writing the program in a formal language called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</a:rPr>
              <a:t>Programming Languag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Programming Language 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A set of rules, symbols and special words used to write statemen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program is written by translating the algorithm steps into a programming language statement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written program is called </a:t>
            </a:r>
            <a:r>
              <a:rPr b="1" i="1" lang="en-US" sz="2800" spc="-1" strike="noStrike">
                <a:solidFill>
                  <a:srgbClr val="775f55"/>
                </a:solidFill>
                <a:latin typeface="Tw Cen MT"/>
              </a:rPr>
              <a:t>Source code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d it is saved in a file with “.cpp” extension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99" name="Group 14"/>
          <p:cNvGrpSpPr/>
          <p:nvPr/>
        </p:nvGrpSpPr>
        <p:grpSpPr>
          <a:xfrm>
            <a:off x="5486400" y="4797360"/>
            <a:ext cx="3051360" cy="1785600"/>
            <a:chOff x="5486400" y="4797360"/>
            <a:chExt cx="3051360" cy="1785600"/>
          </a:xfrm>
        </p:grpSpPr>
        <p:sp>
          <p:nvSpPr>
            <p:cNvPr id="500" name="Line 2"/>
            <p:cNvSpPr/>
            <p:nvPr/>
          </p:nvSpPr>
          <p:spPr>
            <a:xfrm>
              <a:off x="7772400" y="51019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3"/>
            <p:cNvSpPr/>
            <p:nvPr/>
          </p:nvSpPr>
          <p:spPr>
            <a:xfrm>
              <a:off x="5607000" y="5940360"/>
              <a:ext cx="11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ro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4"/>
            <p:cNvSpPr/>
            <p:nvPr/>
          </p:nvSpPr>
          <p:spPr>
            <a:xfrm>
              <a:off x="6172200" y="51019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5"/>
            <p:cNvGrpSpPr/>
            <p:nvPr/>
          </p:nvGrpSpPr>
          <p:grpSpPr>
            <a:xfrm>
              <a:off x="5486400" y="5254560"/>
              <a:ext cx="1371600" cy="533160"/>
              <a:chOff x="5486400" y="5254560"/>
              <a:chExt cx="1371600" cy="533160"/>
            </a:xfrm>
          </p:grpSpPr>
          <p:sp>
            <p:nvSpPr>
              <p:cNvPr id="504" name="Oval 6"/>
              <p:cNvSpPr/>
              <p:nvPr/>
            </p:nvSpPr>
            <p:spPr>
              <a:xfrm>
                <a:off x="5486400" y="5254560"/>
                <a:ext cx="1371600" cy="533160"/>
              </a:xfrm>
              <a:prstGeom prst="ellipse">
                <a:avLst/>
              </a:pr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7"/>
              <p:cNvSpPr/>
              <p:nvPr/>
            </p:nvSpPr>
            <p:spPr>
              <a:xfrm>
                <a:off x="5698440" y="5337000"/>
                <a:ext cx="94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75f55"/>
                    </a:solidFill>
                    <a:latin typeface="Comic Sans MS"/>
                    <a:ea typeface="Arial"/>
                  </a:rPr>
                  <a:t>Cod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Text Box 10"/>
            <p:cNvSpPr/>
            <p:nvPr/>
          </p:nvSpPr>
          <p:spPr>
            <a:xfrm>
              <a:off x="5544000" y="4797360"/>
              <a:ext cx="125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Algorith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1"/>
            <p:cNvSpPr/>
            <p:nvPr/>
          </p:nvSpPr>
          <p:spPr>
            <a:xfrm>
              <a:off x="6976080" y="479736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Pseudo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12"/>
            <p:cNvSpPr/>
            <p:nvPr/>
          </p:nvSpPr>
          <p:spPr>
            <a:xfrm>
              <a:off x="7005240" y="5940360"/>
              <a:ext cx="153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Source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(The “.cpp”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13"/>
            <p:cNvSpPr/>
            <p:nvPr/>
          </p:nvSpPr>
          <p:spPr>
            <a:xfrm>
              <a:off x="7076160" y="5330520"/>
              <a:ext cx="1392480" cy="36828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5f55"/>
                  </a:solidFill>
                  <a:latin typeface="Comic Sans MS"/>
                  <a:ea typeface="Arial"/>
                </a:rPr>
                <a:t>Transla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Why Coding in Programming Language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0090-C050-4A40-AAAB-4048A719354C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9144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e write computer programs (i.e. a set of instructions) in programming languages such as C, C++, and Java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e use these programming languages because they are easily understood by huma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But then how does the computer understand the instructions that we writ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52240" y="4302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4-Compiling Computer Program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1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3A5D-22EC-4600-862F-667F525EC0A3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762120" y="1523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Computers do not understand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programs written in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programming language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such as  C, C++ and Jav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Program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must first be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converted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into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machine code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that the computer can ru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 Software that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translate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a programming language statements into machine code is called a </a:t>
            </a:r>
            <a:r>
              <a:rPr b="1" i="1" lang="en-US" sz="2600" spc="-1" strike="noStrike">
                <a:solidFill>
                  <a:srgbClr val="775f55"/>
                </a:solidFill>
                <a:latin typeface="Tw Cen MT"/>
              </a:rPr>
              <a:t>compil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 C , </a:t>
            </a:r>
            <a:r>
              <a:rPr b="1" i="1" lang="en-US" sz="2600" spc="-1" strike="noStrike">
                <a:solidFill>
                  <a:srgbClr val="000000"/>
                </a:solidFill>
                <a:latin typeface="Tw Cen MT"/>
              </a:rPr>
              <a:t>Preprocessor</a:t>
            </a:r>
            <a:r>
              <a:rPr b="1" lang="en-US" sz="26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ogram, execute automatically before the compiler translation phase begin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reprocessor</a:t>
            </a:r>
            <a:r>
              <a:rPr b="1" lang="en-US" sz="22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ndicate that certain manipulations are to be performed on the program before compilation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18" name="Group 14"/>
          <p:cNvGrpSpPr/>
          <p:nvPr/>
        </p:nvGrpSpPr>
        <p:grpSpPr>
          <a:xfrm>
            <a:off x="5886000" y="4941720"/>
            <a:ext cx="3289680" cy="1511280"/>
            <a:chOff x="5886000" y="4941720"/>
            <a:chExt cx="3289680" cy="1511280"/>
          </a:xfrm>
        </p:grpSpPr>
        <p:sp>
          <p:nvSpPr>
            <p:cNvPr id="519" name="Line 4"/>
            <p:cNvSpPr/>
            <p:nvPr/>
          </p:nvSpPr>
          <p:spPr>
            <a:xfrm>
              <a:off x="8319960" y="52783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5"/>
            <p:cNvSpPr/>
            <p:nvPr/>
          </p:nvSpPr>
          <p:spPr>
            <a:xfrm>
              <a:off x="5886000" y="608472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Machine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"/>
            <p:cNvSpPr/>
            <p:nvPr/>
          </p:nvSpPr>
          <p:spPr>
            <a:xfrm>
              <a:off x="6719760" y="5246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7"/>
            <p:cNvSpPr/>
            <p:nvPr/>
          </p:nvSpPr>
          <p:spPr>
            <a:xfrm>
              <a:off x="6154920" y="4941720"/>
              <a:ext cx="11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ro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8"/>
            <p:cNvSpPr/>
            <p:nvPr/>
          </p:nvSpPr>
          <p:spPr>
            <a:xfrm>
              <a:off x="7567920" y="494172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Source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9"/>
            <p:cNvSpPr/>
            <p:nvPr/>
          </p:nvSpPr>
          <p:spPr>
            <a:xfrm>
              <a:off x="7464960" y="6084720"/>
              <a:ext cx="171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Machine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0"/>
            <p:cNvSpPr/>
            <p:nvPr/>
          </p:nvSpPr>
          <p:spPr>
            <a:xfrm>
              <a:off x="7623720" y="5474880"/>
              <a:ext cx="1392480" cy="36828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5f55"/>
                  </a:solidFill>
                  <a:latin typeface="Comic Sans MS"/>
                  <a:ea typeface="Arial"/>
                </a:rPr>
                <a:t>Transla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11"/>
            <p:cNvGrpSpPr/>
            <p:nvPr/>
          </p:nvGrpSpPr>
          <p:grpSpPr>
            <a:xfrm>
              <a:off x="6033960" y="5354280"/>
              <a:ext cx="1371600" cy="533160"/>
              <a:chOff x="6033960" y="5354280"/>
              <a:chExt cx="1371600" cy="533160"/>
            </a:xfrm>
          </p:grpSpPr>
          <p:sp>
            <p:nvSpPr>
              <p:cNvPr id="527" name="Oval 12"/>
              <p:cNvSpPr/>
              <p:nvPr/>
            </p:nvSpPr>
            <p:spPr>
              <a:xfrm>
                <a:off x="6033960" y="5354280"/>
                <a:ext cx="1371600" cy="533160"/>
              </a:xfrm>
              <a:prstGeom prst="ellipse">
                <a:avLst/>
              </a:pr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3"/>
              <p:cNvSpPr/>
              <p:nvPr/>
            </p:nvSpPr>
            <p:spPr>
              <a:xfrm>
                <a:off x="6082560" y="543672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75f55"/>
                    </a:solidFill>
                    <a:latin typeface="Comic Sans MS"/>
                    <a:ea typeface="Arial"/>
                  </a:rPr>
                  <a:t>Compil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9640" y="35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Programming Language Compiler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0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CBE0-C12D-4E4D-A213-BC84BACC77E6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76212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compiler is a software tha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Checks the correctnes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of the source code according to the language rule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75f55"/>
                </a:solidFill>
                <a:latin typeface="Tw Cen MT"/>
              </a:rPr>
              <a:t>Syntax errors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are raised if some rules were violate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Translate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the source code into a machine code if no errors were foun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What Is a Computer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0556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xecutes statements (computations/logical decision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Hardware :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hysical devices of computer syst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oftware: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ograms that run on compute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406" name="Object 4"/>
          <p:cNvGraphicFramePr/>
          <p:nvPr/>
        </p:nvGraphicFramePr>
        <p:xfrm>
          <a:off x="1403280" y="3678120"/>
          <a:ext cx="612144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678120"/>
                    <a:ext cx="612144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Footer Placeholder 9"/>
          <p:cNvSpPr/>
          <p:nvPr/>
        </p:nvSpPr>
        <p:spPr>
          <a:xfrm>
            <a:off x="611280" y="6492960"/>
            <a:ext cx="5421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DA7C-1EDC-460A-9EAF-040C39134230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5-Running The Progra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4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8948-4A33-4C9B-A353-383D33E11482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5b22"/>
                </a:solidFill>
                <a:latin typeface="Times New Roman"/>
                <a:ea typeface="Times New Roman"/>
              </a:rPr>
              <a:t>Before  running.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inks the object code with the code for the missing functions to produce an executable image (with no missing pieces) , this is called 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link phase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f the program compiles and links correctly, a file called a.out is produce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efore a program can be executed, the program must first be placed in memory this called 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load phase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computer, under the control of its CPU,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xecut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e program one instruction at a 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6-Testing and Debugging the Program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8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8E10-8E75-47CC-ACBF-671FE730668D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79280" y="184464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Test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Be sure that the output of the program conforms with the inpu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There are two types of error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75f55"/>
                </a:solidFill>
                <a:latin typeface="Tw Cen MT"/>
              </a:rPr>
              <a:t>Logical Errors:</a:t>
            </a:r>
            <a:r>
              <a:rPr b="1" lang="en-US" sz="2100" spc="-1" strike="noStrike">
                <a:solidFill>
                  <a:srgbClr val="704404"/>
                </a:solidFill>
                <a:latin typeface="Tw Cen MT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The program run but provides wrong output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75f55"/>
                </a:solidFill>
                <a:latin typeface="Tw Cen MT"/>
              </a:rPr>
              <a:t>Runtime errors:</a:t>
            </a:r>
            <a:r>
              <a:rPr b="1" lang="en-US" sz="2100" spc="-1" strike="noStrike">
                <a:solidFill>
                  <a:srgbClr val="704404"/>
                </a:solidFill>
                <a:latin typeface="Tw Cen MT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The program stop running suddenly when asking the OS executing a non accepted statement (divide by zero, etc).</a:t>
            </a:r>
            <a:r>
              <a:rPr b="1" lang="en-US" sz="2100" spc="-1" strike="noStrike">
                <a:solidFill>
                  <a:srgbClr val="704404"/>
                </a:solidFill>
                <a:latin typeface="Tw Cen M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Debugg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nd, Understand and correct the err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lide Number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19E0-5ADA-4B96-B20C-9922331BAAD2}" type="slidenum">
              <a:rPr b="0" lang="en-US" sz="1400" spc="-1" strike="noStrike">
                <a:solidFill>
                  <a:srgbClr val="775f55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Basics of a Typical C++ Environm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152280" y="1733400"/>
            <a:ext cx="4724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hases of C++ Pro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e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mp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xec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7"/>
          <p:cNvGrpSpPr/>
          <p:nvPr/>
        </p:nvGrpSpPr>
        <p:grpSpPr>
          <a:xfrm>
            <a:off x="4187880" y="1057320"/>
            <a:ext cx="4656240" cy="5571720"/>
            <a:chOff x="4187880" y="1057320"/>
            <a:chExt cx="4656240" cy="5571720"/>
          </a:xfrm>
        </p:grpSpPr>
        <p:sp>
          <p:nvSpPr>
            <p:cNvPr id="545" name="Freeform 5"/>
            <p:cNvSpPr/>
            <p:nvPr/>
          </p:nvSpPr>
          <p:spPr>
            <a:xfrm>
              <a:off x="4187880" y="3627720"/>
              <a:ext cx="1200240" cy="45720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"/>
            <p:cNvSpPr/>
            <p:nvPr/>
          </p:nvSpPr>
          <p:spPr>
            <a:xfrm>
              <a:off x="4187880" y="2300400"/>
              <a:ext cx="1200240" cy="45720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7"/>
            <p:cNvSpPr/>
            <p:nvPr/>
          </p:nvSpPr>
          <p:spPr>
            <a:xfrm>
              <a:off x="4187880" y="3627720"/>
              <a:ext cx="1200240" cy="45720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8"/>
            <p:cNvSpPr/>
            <p:nvPr/>
          </p:nvSpPr>
          <p:spPr>
            <a:xfrm>
              <a:off x="4514760" y="3772080"/>
              <a:ext cx="542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Loa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9"/>
            <p:cNvSpPr/>
            <p:nvPr/>
          </p:nvSpPr>
          <p:spPr>
            <a:xfrm>
              <a:off x="5391000" y="129564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5391000" y="19195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5391000" y="38563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2"/>
            <p:cNvSpPr/>
            <p:nvPr/>
          </p:nvSpPr>
          <p:spPr>
            <a:xfrm>
              <a:off x="5905440" y="3514680"/>
              <a:ext cx="771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Arial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3"/>
            <p:cNvSpPr/>
            <p:nvPr/>
          </p:nvSpPr>
          <p:spPr>
            <a:xfrm>
              <a:off x="5391000" y="54565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Group 14"/>
            <p:cNvGrpSpPr/>
            <p:nvPr/>
          </p:nvGrpSpPr>
          <p:grpSpPr>
            <a:xfrm>
              <a:off x="6762600" y="3505320"/>
              <a:ext cx="171360" cy="1523520"/>
              <a:chOff x="6762600" y="3505320"/>
              <a:chExt cx="171360" cy="1523520"/>
            </a:xfrm>
          </p:grpSpPr>
          <p:sp>
            <p:nvSpPr>
              <p:cNvPr id="555" name="Arc 15"/>
              <p:cNvSpPr/>
              <p:nvPr/>
            </p:nvSpPr>
            <p:spPr>
              <a:xfrm>
                <a:off x="6762600" y="3505320"/>
                <a:ext cx="86040" cy="3812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Arc 16"/>
              <p:cNvSpPr/>
              <p:nvPr/>
            </p:nvSpPr>
            <p:spPr>
              <a:xfrm flipV="1">
                <a:off x="6762600" y="4647240"/>
                <a:ext cx="86040" cy="3812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-360 h 381240"/>
                  <a:gd name="textAreaBottom" fmla="*/ 38124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Arc 17"/>
              <p:cNvSpPr/>
              <p:nvPr/>
            </p:nvSpPr>
            <p:spPr>
              <a:xfrm flipH="1">
                <a:off x="6847560" y="4267080"/>
                <a:ext cx="86040" cy="3812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Arc 18"/>
              <p:cNvSpPr/>
              <p:nvPr/>
            </p:nvSpPr>
            <p:spPr>
              <a:xfrm flipH="1" flipV="1">
                <a:off x="6847560" y="3885480"/>
                <a:ext cx="86040" cy="3812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-360 h 381240"/>
                  <a:gd name="textAreaBottom" fmla="*/ 38124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19"/>
            <p:cNvGrpSpPr/>
            <p:nvPr/>
          </p:nvGrpSpPr>
          <p:grpSpPr>
            <a:xfrm>
              <a:off x="6762600" y="5105520"/>
              <a:ext cx="171360" cy="1523520"/>
              <a:chOff x="6762600" y="5105520"/>
              <a:chExt cx="171360" cy="1523520"/>
            </a:xfrm>
          </p:grpSpPr>
          <p:sp>
            <p:nvSpPr>
              <p:cNvPr id="560" name="Arc 20"/>
              <p:cNvSpPr/>
              <p:nvPr/>
            </p:nvSpPr>
            <p:spPr>
              <a:xfrm>
                <a:off x="6762600" y="5105520"/>
                <a:ext cx="86040" cy="3812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Arc 21"/>
              <p:cNvSpPr/>
              <p:nvPr/>
            </p:nvSpPr>
            <p:spPr>
              <a:xfrm flipV="1">
                <a:off x="6762600" y="6247440"/>
                <a:ext cx="86040" cy="3812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-360 h 381240"/>
                  <a:gd name="textAreaBottom" fmla="*/ 38124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Arc 22"/>
              <p:cNvSpPr/>
              <p:nvPr/>
            </p:nvSpPr>
            <p:spPr>
              <a:xfrm flipH="1">
                <a:off x="6847560" y="5867280"/>
                <a:ext cx="86040" cy="3812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Arc 23"/>
              <p:cNvSpPr/>
              <p:nvPr/>
            </p:nvSpPr>
            <p:spPr>
              <a:xfrm flipH="1" flipV="1">
                <a:off x="6847560" y="5485680"/>
                <a:ext cx="86040" cy="3812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-360 h 381240"/>
                  <a:gd name="textAreaBottom" fmla="*/ 38124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24"/>
            <p:cNvGrpSpPr/>
            <p:nvPr/>
          </p:nvGrpSpPr>
          <p:grpSpPr>
            <a:xfrm>
              <a:off x="6762600" y="1067040"/>
              <a:ext cx="171360" cy="456840"/>
              <a:chOff x="6762600" y="1067040"/>
              <a:chExt cx="171360" cy="456840"/>
            </a:xfrm>
          </p:grpSpPr>
          <p:sp>
            <p:nvSpPr>
              <p:cNvPr id="565" name="Arc 25"/>
              <p:cNvSpPr/>
              <p:nvPr/>
            </p:nvSpPr>
            <p:spPr>
              <a:xfrm>
                <a:off x="6762600" y="1067040"/>
                <a:ext cx="86040" cy="1148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Arc 26"/>
              <p:cNvSpPr/>
              <p:nvPr/>
            </p:nvSpPr>
            <p:spPr>
              <a:xfrm flipV="1">
                <a:off x="6762600" y="1408680"/>
                <a:ext cx="86040" cy="1148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-360 h 114840"/>
                  <a:gd name="textAreaBottom" fmla="*/ 11484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Arc 27"/>
              <p:cNvSpPr/>
              <p:nvPr/>
            </p:nvSpPr>
            <p:spPr>
              <a:xfrm flipH="1">
                <a:off x="6847560" y="1295280"/>
                <a:ext cx="86040" cy="1148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Arc 28"/>
              <p:cNvSpPr/>
              <p:nvPr/>
            </p:nvSpPr>
            <p:spPr>
              <a:xfrm flipH="1" flipV="1">
                <a:off x="6847560" y="1180440"/>
                <a:ext cx="86040" cy="1148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-360 h 114840"/>
                  <a:gd name="textAreaBottom" fmla="*/ 11484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Arc 29"/>
            <p:cNvSpPr/>
            <p:nvPr/>
          </p:nvSpPr>
          <p:spPr>
            <a:xfrm>
              <a:off x="6762600" y="1681200"/>
              <a:ext cx="86040" cy="1144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rc 30"/>
            <p:cNvSpPr/>
            <p:nvPr/>
          </p:nvSpPr>
          <p:spPr>
            <a:xfrm flipV="1">
              <a:off x="6762600" y="2023560"/>
              <a:ext cx="86040" cy="1141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-36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rc 31"/>
            <p:cNvSpPr/>
            <p:nvPr/>
          </p:nvSpPr>
          <p:spPr>
            <a:xfrm flipH="1">
              <a:off x="6848640" y="1909800"/>
              <a:ext cx="85680" cy="11448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rc 32"/>
            <p:cNvSpPr/>
            <p:nvPr/>
          </p:nvSpPr>
          <p:spPr>
            <a:xfrm flipH="1" flipV="1">
              <a:off x="6848640" y="1794960"/>
              <a:ext cx="85680" cy="11412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-36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33"/>
            <p:cNvSpPr/>
            <p:nvPr/>
          </p:nvSpPr>
          <p:spPr>
            <a:xfrm>
              <a:off x="7015320" y="1096920"/>
              <a:ext cx="1823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gram is created 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he editor and sto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n disk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34"/>
            <p:cNvSpPr/>
            <p:nvPr/>
          </p:nvSpPr>
          <p:spPr>
            <a:xfrm>
              <a:off x="7015320" y="1781280"/>
              <a:ext cx="182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eprocessor prog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cesses the cod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35"/>
            <p:cNvSpPr/>
            <p:nvPr/>
          </p:nvSpPr>
          <p:spPr>
            <a:xfrm>
              <a:off x="7020000" y="4138560"/>
              <a:ext cx="182412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4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oader puts prog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 memor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36"/>
            <p:cNvSpPr/>
            <p:nvPr/>
          </p:nvSpPr>
          <p:spPr>
            <a:xfrm>
              <a:off x="7015320" y="5432400"/>
              <a:ext cx="18237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PU takes ea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struction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xecutes it, possib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toring new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alues as the prog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xecut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7"/>
            <p:cNvSpPr/>
            <p:nvPr/>
          </p:nvSpPr>
          <p:spPr>
            <a:xfrm>
              <a:off x="4187880" y="2300400"/>
              <a:ext cx="1200240" cy="45720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38"/>
            <p:cNvSpPr/>
            <p:nvPr/>
          </p:nvSpPr>
          <p:spPr>
            <a:xfrm>
              <a:off x="4429080" y="2443320"/>
              <a:ext cx="714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Compil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9"/>
            <p:cNvSpPr/>
            <p:nvPr/>
          </p:nvSpPr>
          <p:spPr>
            <a:xfrm>
              <a:off x="5391000" y="252900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0" name="Group 40"/>
            <p:cNvGrpSpPr/>
            <p:nvPr/>
          </p:nvGrpSpPr>
          <p:grpSpPr>
            <a:xfrm>
              <a:off x="6762600" y="2289240"/>
              <a:ext cx="171360" cy="456840"/>
              <a:chOff x="6762600" y="2289240"/>
              <a:chExt cx="171360" cy="456840"/>
            </a:xfrm>
          </p:grpSpPr>
          <p:sp>
            <p:nvSpPr>
              <p:cNvPr id="581" name="Arc 41"/>
              <p:cNvSpPr/>
              <p:nvPr/>
            </p:nvSpPr>
            <p:spPr>
              <a:xfrm>
                <a:off x="6762600" y="2289240"/>
                <a:ext cx="86040" cy="1148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Arc 42"/>
              <p:cNvSpPr/>
              <p:nvPr/>
            </p:nvSpPr>
            <p:spPr>
              <a:xfrm flipV="1">
                <a:off x="6762600" y="2630880"/>
                <a:ext cx="86040" cy="1148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-360 h 114840"/>
                  <a:gd name="textAreaBottom" fmla="*/ 11484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Arc 43"/>
              <p:cNvSpPr/>
              <p:nvPr/>
            </p:nvSpPr>
            <p:spPr>
              <a:xfrm flipH="1">
                <a:off x="6847560" y="2517480"/>
                <a:ext cx="86040" cy="1148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Arc 44"/>
              <p:cNvSpPr/>
              <p:nvPr/>
            </p:nvSpPr>
            <p:spPr>
              <a:xfrm flipH="1" flipV="1">
                <a:off x="6847560" y="2402640"/>
                <a:ext cx="86040" cy="1148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-360 h 114840"/>
                  <a:gd name="textAreaBottom" fmla="*/ 11484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" name="Rectangle 45"/>
            <p:cNvSpPr/>
            <p:nvPr/>
          </p:nvSpPr>
          <p:spPr>
            <a:xfrm>
              <a:off x="7015320" y="2260800"/>
              <a:ext cx="18237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mpiler cre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bject code and sto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t on disk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6"/>
            <p:cNvSpPr/>
            <p:nvPr/>
          </p:nvSpPr>
          <p:spPr>
            <a:xfrm>
              <a:off x="5391000" y="313704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rc 47"/>
            <p:cNvSpPr/>
            <p:nvPr/>
          </p:nvSpPr>
          <p:spPr>
            <a:xfrm>
              <a:off x="6762600" y="2897280"/>
              <a:ext cx="86040" cy="1144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rc 48"/>
            <p:cNvSpPr/>
            <p:nvPr/>
          </p:nvSpPr>
          <p:spPr>
            <a:xfrm flipV="1">
              <a:off x="6762600" y="3239640"/>
              <a:ext cx="86040" cy="1141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-36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rc 49"/>
            <p:cNvSpPr/>
            <p:nvPr/>
          </p:nvSpPr>
          <p:spPr>
            <a:xfrm flipH="1">
              <a:off x="6848640" y="3125880"/>
              <a:ext cx="85680" cy="11448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Arc 50"/>
            <p:cNvSpPr/>
            <p:nvPr/>
          </p:nvSpPr>
          <p:spPr>
            <a:xfrm flipH="1" flipV="1">
              <a:off x="6848640" y="3011040"/>
              <a:ext cx="85680" cy="11412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-36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51"/>
            <p:cNvSpPr/>
            <p:nvPr/>
          </p:nvSpPr>
          <p:spPr>
            <a:xfrm>
              <a:off x="7015320" y="2895840"/>
              <a:ext cx="1823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inker links the obj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de with the libraries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reates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.ou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tores it on dis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52"/>
            <p:cNvGrpSpPr/>
            <p:nvPr/>
          </p:nvGrpSpPr>
          <p:grpSpPr>
            <a:xfrm>
              <a:off x="4187880" y="1057320"/>
              <a:ext cx="1200240" cy="457200"/>
              <a:chOff x="4187880" y="1057320"/>
              <a:chExt cx="1200240" cy="457200"/>
            </a:xfrm>
          </p:grpSpPr>
          <p:sp>
            <p:nvSpPr>
              <p:cNvPr id="593" name="Freeform 53"/>
              <p:cNvSpPr/>
              <p:nvPr/>
            </p:nvSpPr>
            <p:spPr>
              <a:xfrm>
                <a:off x="4187880" y="1057320"/>
                <a:ext cx="1200240" cy="4572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54"/>
              <p:cNvSpPr/>
              <p:nvPr/>
            </p:nvSpPr>
            <p:spPr>
              <a:xfrm>
                <a:off x="4187880" y="1057320"/>
                <a:ext cx="1200240" cy="4572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55"/>
              <p:cNvSpPr/>
              <p:nvPr/>
            </p:nvSpPr>
            <p:spPr>
              <a:xfrm>
                <a:off x="4515840" y="1201320"/>
                <a:ext cx="5436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Edito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56"/>
            <p:cNvGrpSpPr/>
            <p:nvPr/>
          </p:nvGrpSpPr>
          <p:grpSpPr>
            <a:xfrm>
              <a:off x="4187880" y="1690920"/>
              <a:ext cx="1200240" cy="457200"/>
              <a:chOff x="4187880" y="1690920"/>
              <a:chExt cx="1200240" cy="457200"/>
            </a:xfrm>
          </p:grpSpPr>
          <p:sp>
            <p:nvSpPr>
              <p:cNvPr id="597" name="Freeform 57"/>
              <p:cNvSpPr/>
              <p:nvPr/>
            </p:nvSpPr>
            <p:spPr>
              <a:xfrm>
                <a:off x="4187880" y="1690920"/>
                <a:ext cx="1200240" cy="4572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8" name="Group 58"/>
              <p:cNvGrpSpPr/>
              <p:nvPr/>
            </p:nvGrpSpPr>
            <p:grpSpPr>
              <a:xfrm>
                <a:off x="4187880" y="1690920"/>
                <a:ext cx="1200240" cy="457200"/>
                <a:chOff x="4187880" y="1690920"/>
                <a:chExt cx="1200240" cy="457200"/>
              </a:xfrm>
            </p:grpSpPr>
            <p:sp>
              <p:nvSpPr>
                <p:cNvPr id="599" name="Freeform 59"/>
                <p:cNvSpPr/>
                <p:nvPr/>
              </p:nvSpPr>
              <p:spPr>
                <a:xfrm>
                  <a:off x="4187880" y="1690920"/>
                  <a:ext cx="1200240" cy="457200"/>
                </a:xfrm>
                <a:custGeom>
                  <a:avLst/>
                  <a:gdLst>
                    <a:gd name="textAreaLeft" fmla="*/ 0 w 1200240"/>
                    <a:gd name="textAreaRight" fmla="*/ 1200600 w 12002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Rectangle 60"/>
                <p:cNvSpPr/>
                <p:nvPr/>
              </p:nvSpPr>
              <p:spPr>
                <a:xfrm>
                  <a:off x="4258440" y="1824840"/>
                  <a:ext cx="105804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Preprocess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1" name="Group 61"/>
            <p:cNvGrpSpPr/>
            <p:nvPr/>
          </p:nvGrpSpPr>
          <p:grpSpPr>
            <a:xfrm>
              <a:off x="4187880" y="2908440"/>
              <a:ext cx="1200240" cy="457200"/>
              <a:chOff x="4187880" y="2908440"/>
              <a:chExt cx="1200240" cy="457200"/>
            </a:xfrm>
          </p:grpSpPr>
          <p:sp>
            <p:nvSpPr>
              <p:cNvPr id="602" name="Freeform 62"/>
              <p:cNvSpPr/>
              <p:nvPr/>
            </p:nvSpPr>
            <p:spPr>
              <a:xfrm>
                <a:off x="4187880" y="2908440"/>
                <a:ext cx="1200240" cy="4572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3" name="Group 63"/>
              <p:cNvGrpSpPr/>
              <p:nvPr/>
            </p:nvGrpSpPr>
            <p:grpSpPr>
              <a:xfrm>
                <a:off x="4187880" y="2908440"/>
                <a:ext cx="1200240" cy="457200"/>
                <a:chOff x="4187880" y="2908440"/>
                <a:chExt cx="1200240" cy="457200"/>
              </a:xfrm>
            </p:grpSpPr>
            <p:sp>
              <p:nvSpPr>
                <p:cNvPr id="604" name="Freeform 64"/>
                <p:cNvSpPr/>
                <p:nvPr/>
              </p:nvSpPr>
              <p:spPr>
                <a:xfrm>
                  <a:off x="4187880" y="2908440"/>
                  <a:ext cx="1200240" cy="457200"/>
                </a:xfrm>
                <a:custGeom>
                  <a:avLst/>
                  <a:gdLst>
                    <a:gd name="textAreaLeft" fmla="*/ 0 w 1200240"/>
                    <a:gd name="textAreaRight" fmla="*/ 1200600 w 12002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Rectangle 65"/>
                <p:cNvSpPr/>
                <p:nvPr/>
              </p:nvSpPr>
              <p:spPr>
                <a:xfrm>
                  <a:off x="4515840" y="3043080"/>
                  <a:ext cx="5436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Link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" name="Group 66"/>
            <p:cNvGrpSpPr/>
            <p:nvPr/>
          </p:nvGrpSpPr>
          <p:grpSpPr>
            <a:xfrm>
              <a:off x="4187880" y="5227920"/>
              <a:ext cx="1200240" cy="457200"/>
              <a:chOff x="4187880" y="5227920"/>
              <a:chExt cx="1200240" cy="457200"/>
            </a:xfrm>
          </p:grpSpPr>
          <p:grpSp>
            <p:nvGrpSpPr>
              <p:cNvPr id="607" name="Group 67"/>
              <p:cNvGrpSpPr/>
              <p:nvPr/>
            </p:nvGrpSpPr>
            <p:grpSpPr>
              <a:xfrm>
                <a:off x="4187880" y="5227920"/>
                <a:ext cx="1200240" cy="457200"/>
                <a:chOff x="4187880" y="5227920"/>
                <a:chExt cx="1200240" cy="457200"/>
              </a:xfrm>
            </p:grpSpPr>
            <p:sp>
              <p:nvSpPr>
                <p:cNvPr id="608" name="Freeform 68"/>
                <p:cNvSpPr/>
                <p:nvPr/>
              </p:nvSpPr>
              <p:spPr>
                <a:xfrm>
                  <a:off x="4187880" y="5227920"/>
                  <a:ext cx="1200240" cy="457200"/>
                </a:xfrm>
                <a:custGeom>
                  <a:avLst/>
                  <a:gdLst>
                    <a:gd name="textAreaLeft" fmla="*/ 0 w 1200240"/>
                    <a:gd name="textAreaRight" fmla="*/ 1200600 w 12002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Rectangle 69"/>
                <p:cNvSpPr/>
                <p:nvPr/>
              </p:nvSpPr>
              <p:spPr>
                <a:xfrm>
                  <a:off x="4772880" y="5507280"/>
                  <a:ext cx="2916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2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" name="Group 70"/>
              <p:cNvGrpSpPr/>
              <p:nvPr/>
            </p:nvGrpSpPr>
            <p:grpSpPr>
              <a:xfrm>
                <a:off x="4187880" y="5227920"/>
                <a:ext cx="1200240" cy="457200"/>
                <a:chOff x="4187880" y="5227920"/>
                <a:chExt cx="1200240" cy="457200"/>
              </a:xfrm>
            </p:grpSpPr>
            <p:sp>
              <p:nvSpPr>
                <p:cNvPr id="611" name="Freeform 71"/>
                <p:cNvSpPr/>
                <p:nvPr/>
              </p:nvSpPr>
              <p:spPr>
                <a:xfrm>
                  <a:off x="4187880" y="5227920"/>
                  <a:ext cx="1200240" cy="457200"/>
                </a:xfrm>
                <a:custGeom>
                  <a:avLst/>
                  <a:gdLst>
                    <a:gd name="textAreaLeft" fmla="*/ 0 w 1200240"/>
                    <a:gd name="textAreaRight" fmla="*/ 1200600 w 12002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Rectangle 72"/>
                <p:cNvSpPr/>
                <p:nvPr/>
              </p:nvSpPr>
              <p:spPr>
                <a:xfrm>
                  <a:off x="4644360" y="5380200"/>
                  <a:ext cx="28656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CPU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3" name="Rectangle 73"/>
            <p:cNvSpPr/>
            <p:nvPr/>
          </p:nvSpPr>
          <p:spPr>
            <a:xfrm>
              <a:off x="5905440" y="5102280"/>
              <a:ext cx="771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Arial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Group 74"/>
            <p:cNvGrpSpPr/>
            <p:nvPr/>
          </p:nvGrpSpPr>
          <p:grpSpPr>
            <a:xfrm>
              <a:off x="5905440" y="5367600"/>
              <a:ext cx="773280" cy="1212840"/>
              <a:chOff x="5905440" y="5367600"/>
              <a:chExt cx="773280" cy="1212840"/>
            </a:xfrm>
          </p:grpSpPr>
          <p:sp>
            <p:nvSpPr>
              <p:cNvPr id="615" name="Rectangle 75"/>
              <p:cNvSpPr/>
              <p:nvPr/>
            </p:nvSpPr>
            <p:spPr>
              <a:xfrm>
                <a:off x="6227640" y="6131160"/>
                <a:ext cx="86400" cy="3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76"/>
              <p:cNvSpPr/>
              <p:nvPr/>
            </p:nvSpPr>
            <p:spPr>
              <a:xfrm>
                <a:off x="5905440" y="5367600"/>
                <a:ext cx="767160" cy="1212840"/>
              </a:xfrm>
              <a:custGeom>
                <a:avLst/>
                <a:gdLst>
                  <a:gd name="textAreaLeft" fmla="*/ 0 w 767160"/>
                  <a:gd name="textAreaRight" fmla="*/ 767520 w 767160"/>
                  <a:gd name="textAreaTop" fmla="*/ 0 h 1212840"/>
                  <a:gd name="textAreaBottom" fmla="*/ 1213200 h 12128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77"/>
              <p:cNvSpPr/>
              <p:nvPr/>
            </p:nvSpPr>
            <p:spPr>
              <a:xfrm>
                <a:off x="5906520" y="536868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78"/>
              <p:cNvSpPr/>
              <p:nvPr/>
            </p:nvSpPr>
            <p:spPr>
              <a:xfrm>
                <a:off x="5906520" y="5521320"/>
                <a:ext cx="772200" cy="15228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79"/>
              <p:cNvSpPr/>
              <p:nvPr/>
            </p:nvSpPr>
            <p:spPr>
              <a:xfrm>
                <a:off x="5906520" y="567108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80"/>
              <p:cNvSpPr/>
              <p:nvPr/>
            </p:nvSpPr>
            <p:spPr>
              <a:xfrm>
                <a:off x="5906520" y="582300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81"/>
              <p:cNvSpPr/>
              <p:nvPr/>
            </p:nvSpPr>
            <p:spPr>
              <a:xfrm>
                <a:off x="5906520" y="597420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82"/>
              <p:cNvSpPr/>
              <p:nvPr/>
            </p:nvSpPr>
            <p:spPr>
              <a:xfrm>
                <a:off x="5906520" y="6126120"/>
                <a:ext cx="772200" cy="30312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58"/>
                    </a:lnTo>
                    <a:lnTo>
                      <a:pt x="0" y="19958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83"/>
              <p:cNvSpPr/>
              <p:nvPr/>
            </p:nvSpPr>
            <p:spPr>
              <a:xfrm>
                <a:off x="5906520" y="642924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84"/>
              <p:cNvSpPr/>
              <p:nvPr/>
            </p:nvSpPr>
            <p:spPr>
              <a:xfrm>
                <a:off x="6249240" y="6126120"/>
                <a:ext cx="8640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Group 85"/>
            <p:cNvGrpSpPr/>
            <p:nvPr/>
          </p:nvGrpSpPr>
          <p:grpSpPr>
            <a:xfrm>
              <a:off x="5905440" y="3780000"/>
              <a:ext cx="773280" cy="1214280"/>
              <a:chOff x="5905440" y="3780000"/>
              <a:chExt cx="773280" cy="1214280"/>
            </a:xfrm>
          </p:grpSpPr>
          <p:sp>
            <p:nvSpPr>
              <p:cNvPr id="626" name="Freeform 86"/>
              <p:cNvSpPr/>
              <p:nvPr/>
            </p:nvSpPr>
            <p:spPr>
              <a:xfrm>
                <a:off x="5905440" y="3780000"/>
                <a:ext cx="767160" cy="1212480"/>
              </a:xfrm>
              <a:custGeom>
                <a:avLst/>
                <a:gdLst>
                  <a:gd name="textAreaLeft" fmla="*/ 0 w 767160"/>
                  <a:gd name="textAreaRight" fmla="*/ 767520 w 767160"/>
                  <a:gd name="textAreaTop" fmla="*/ 0 h 1212480"/>
                  <a:gd name="textAreaBottom" fmla="*/ 1212840 h 121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87"/>
              <p:cNvSpPr/>
              <p:nvPr/>
            </p:nvSpPr>
            <p:spPr>
              <a:xfrm>
                <a:off x="5906520" y="378108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88"/>
              <p:cNvSpPr/>
              <p:nvPr/>
            </p:nvSpPr>
            <p:spPr>
              <a:xfrm>
                <a:off x="5906520" y="3933360"/>
                <a:ext cx="772200" cy="15228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9" name="Group 89"/>
              <p:cNvGrpSpPr/>
              <p:nvPr/>
            </p:nvGrpSpPr>
            <p:grpSpPr>
              <a:xfrm>
                <a:off x="5906520" y="4086000"/>
                <a:ext cx="772200" cy="908280"/>
                <a:chOff x="5906520" y="4086000"/>
                <a:chExt cx="772200" cy="908280"/>
              </a:xfrm>
            </p:grpSpPr>
            <p:sp>
              <p:nvSpPr>
                <p:cNvPr id="630" name="Rectangle 90"/>
                <p:cNvSpPr/>
                <p:nvPr/>
              </p:nvSpPr>
              <p:spPr>
                <a:xfrm>
                  <a:off x="6227640" y="4545360"/>
                  <a:ext cx="8640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91"/>
                <p:cNvSpPr/>
                <p:nvPr/>
              </p:nvSpPr>
              <p:spPr>
                <a:xfrm>
                  <a:off x="5906520" y="4086000"/>
                  <a:ext cx="772200" cy="15120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92"/>
                <p:cNvSpPr/>
                <p:nvPr/>
              </p:nvSpPr>
              <p:spPr>
                <a:xfrm>
                  <a:off x="5906520" y="4237200"/>
                  <a:ext cx="772200" cy="15084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93"/>
                <p:cNvSpPr/>
                <p:nvPr/>
              </p:nvSpPr>
              <p:spPr>
                <a:xfrm>
                  <a:off x="5906520" y="4388400"/>
                  <a:ext cx="772200" cy="15120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Freeform 94"/>
                <p:cNvSpPr/>
                <p:nvPr/>
              </p:nvSpPr>
              <p:spPr>
                <a:xfrm>
                  <a:off x="5906520" y="4540320"/>
                  <a:ext cx="772200" cy="30276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302760"/>
                    <a:gd name="textAreaBottom" fmla="*/ 303120 h 3027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58"/>
                      </a:lnTo>
                      <a:lnTo>
                        <a:pt x="0" y="19958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95"/>
                <p:cNvSpPr/>
                <p:nvPr/>
              </p:nvSpPr>
              <p:spPr>
                <a:xfrm>
                  <a:off x="5906520" y="4843440"/>
                  <a:ext cx="772200" cy="15084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Rectangle 96"/>
                <p:cNvSpPr/>
                <p:nvPr/>
              </p:nvSpPr>
              <p:spPr>
                <a:xfrm>
                  <a:off x="6248880" y="4540320"/>
                  <a:ext cx="86400" cy="32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7" name="Group 97"/>
            <p:cNvGrpSpPr/>
            <p:nvPr/>
          </p:nvGrpSpPr>
          <p:grpSpPr>
            <a:xfrm>
              <a:off x="5905440" y="1141560"/>
              <a:ext cx="771480" cy="309600"/>
              <a:chOff x="5905440" y="1141560"/>
              <a:chExt cx="771480" cy="309600"/>
            </a:xfrm>
          </p:grpSpPr>
          <p:grpSp>
            <p:nvGrpSpPr>
              <p:cNvPr id="638" name="Group 98"/>
              <p:cNvGrpSpPr/>
              <p:nvPr/>
            </p:nvGrpSpPr>
            <p:grpSpPr>
              <a:xfrm>
                <a:off x="5905440" y="1142640"/>
                <a:ext cx="771480" cy="308520"/>
                <a:chOff x="5905440" y="1142640"/>
                <a:chExt cx="771480" cy="308520"/>
              </a:xfrm>
            </p:grpSpPr>
            <p:sp>
              <p:nvSpPr>
                <p:cNvPr id="639" name="Oval 99"/>
                <p:cNvSpPr/>
                <p:nvPr/>
              </p:nvSpPr>
              <p:spPr>
                <a:xfrm>
                  <a:off x="5905440" y="137412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100"/>
                <p:cNvSpPr/>
                <p:nvPr/>
              </p:nvSpPr>
              <p:spPr>
                <a:xfrm>
                  <a:off x="5906160" y="1181880"/>
                  <a:ext cx="770760" cy="228960"/>
                </a:xfrm>
                <a:custGeom>
                  <a:avLst/>
                  <a:gdLst>
                    <a:gd name="textAreaLeft" fmla="*/ 0 w 770760"/>
                    <a:gd name="textAreaRight" fmla="*/ 771120 w 77076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Oval 101"/>
                <p:cNvSpPr/>
                <p:nvPr/>
              </p:nvSpPr>
              <p:spPr>
                <a:xfrm>
                  <a:off x="5905440" y="114264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" name="Oval 102"/>
              <p:cNvSpPr/>
              <p:nvPr/>
            </p:nvSpPr>
            <p:spPr>
              <a:xfrm>
                <a:off x="5905440" y="13737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03"/>
              <p:cNvSpPr/>
              <p:nvPr/>
            </p:nvSpPr>
            <p:spPr>
              <a:xfrm>
                <a:off x="5906160" y="1180800"/>
                <a:ext cx="770760" cy="22896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04"/>
              <p:cNvSpPr/>
              <p:nvPr/>
            </p:nvSpPr>
            <p:spPr>
              <a:xfrm>
                <a:off x="5913000" y="1373040"/>
                <a:ext cx="756720" cy="41040"/>
              </a:xfrm>
              <a:custGeom>
                <a:avLst/>
                <a:gdLst>
                  <a:gd name="textAreaLeft" fmla="*/ 0 w 756720"/>
                  <a:gd name="textAreaRight" fmla="*/ 757080 w 756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105"/>
              <p:cNvSpPr/>
              <p:nvPr/>
            </p:nvSpPr>
            <p:spPr>
              <a:xfrm>
                <a:off x="6105240" y="124272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06"/>
              <p:cNvSpPr/>
              <p:nvPr/>
            </p:nvSpPr>
            <p:spPr>
              <a:xfrm>
                <a:off x="5910840" y="1174320"/>
                <a:ext cx="762480" cy="4248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Oval 107"/>
              <p:cNvSpPr/>
              <p:nvPr/>
            </p:nvSpPr>
            <p:spPr>
              <a:xfrm>
                <a:off x="5905440" y="11415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08"/>
            <p:cNvGrpSpPr/>
            <p:nvPr/>
          </p:nvGrpSpPr>
          <p:grpSpPr>
            <a:xfrm>
              <a:off x="5905440" y="1764000"/>
              <a:ext cx="771480" cy="309240"/>
              <a:chOff x="5905440" y="1764000"/>
              <a:chExt cx="771480" cy="309240"/>
            </a:xfrm>
          </p:grpSpPr>
          <p:grpSp>
            <p:nvGrpSpPr>
              <p:cNvPr id="649" name="Group 109"/>
              <p:cNvGrpSpPr/>
              <p:nvPr/>
            </p:nvGrpSpPr>
            <p:grpSpPr>
              <a:xfrm>
                <a:off x="5905440" y="1765080"/>
                <a:ext cx="771480" cy="308160"/>
                <a:chOff x="5905440" y="1765080"/>
                <a:chExt cx="771480" cy="308160"/>
              </a:xfrm>
            </p:grpSpPr>
            <p:sp>
              <p:nvSpPr>
                <p:cNvPr id="650" name="Oval 110"/>
                <p:cNvSpPr/>
                <p:nvPr/>
              </p:nvSpPr>
              <p:spPr>
                <a:xfrm>
                  <a:off x="5905440" y="199656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111"/>
                <p:cNvSpPr/>
                <p:nvPr/>
              </p:nvSpPr>
              <p:spPr>
                <a:xfrm>
                  <a:off x="5906160" y="1804320"/>
                  <a:ext cx="770760" cy="228960"/>
                </a:xfrm>
                <a:custGeom>
                  <a:avLst/>
                  <a:gdLst>
                    <a:gd name="textAreaLeft" fmla="*/ 0 w 770760"/>
                    <a:gd name="textAreaRight" fmla="*/ 771120 w 77076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Oval 112"/>
                <p:cNvSpPr/>
                <p:nvPr/>
              </p:nvSpPr>
              <p:spPr>
                <a:xfrm>
                  <a:off x="5905440" y="176508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Oval 113"/>
              <p:cNvSpPr/>
              <p:nvPr/>
            </p:nvSpPr>
            <p:spPr>
              <a:xfrm>
                <a:off x="5905440" y="199584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14"/>
              <p:cNvSpPr/>
              <p:nvPr/>
            </p:nvSpPr>
            <p:spPr>
              <a:xfrm>
                <a:off x="5906160" y="1803240"/>
                <a:ext cx="770760" cy="22860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15"/>
              <p:cNvSpPr/>
              <p:nvPr/>
            </p:nvSpPr>
            <p:spPr>
              <a:xfrm>
                <a:off x="5913000" y="1995120"/>
                <a:ext cx="756720" cy="41040"/>
              </a:xfrm>
              <a:custGeom>
                <a:avLst/>
                <a:gdLst>
                  <a:gd name="textAreaLeft" fmla="*/ 0 w 756720"/>
                  <a:gd name="textAreaRight" fmla="*/ 757080 w 756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116"/>
              <p:cNvSpPr/>
              <p:nvPr/>
            </p:nvSpPr>
            <p:spPr>
              <a:xfrm>
                <a:off x="6105240" y="186480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17"/>
              <p:cNvSpPr/>
              <p:nvPr/>
            </p:nvSpPr>
            <p:spPr>
              <a:xfrm>
                <a:off x="5910840" y="1796760"/>
                <a:ext cx="762480" cy="4248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Oval 118"/>
              <p:cNvSpPr/>
              <p:nvPr/>
            </p:nvSpPr>
            <p:spPr>
              <a:xfrm>
                <a:off x="5905440" y="176400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9"/>
            <p:cNvGrpSpPr/>
            <p:nvPr/>
          </p:nvGrpSpPr>
          <p:grpSpPr>
            <a:xfrm>
              <a:off x="5905440" y="2379960"/>
              <a:ext cx="771480" cy="309240"/>
              <a:chOff x="5905440" y="2379960"/>
              <a:chExt cx="771480" cy="309240"/>
            </a:xfrm>
          </p:grpSpPr>
          <p:grpSp>
            <p:nvGrpSpPr>
              <p:cNvPr id="660" name="Group 120"/>
              <p:cNvGrpSpPr/>
              <p:nvPr/>
            </p:nvGrpSpPr>
            <p:grpSpPr>
              <a:xfrm>
                <a:off x="5905440" y="2381040"/>
                <a:ext cx="771480" cy="308160"/>
                <a:chOff x="5905440" y="2381040"/>
                <a:chExt cx="771480" cy="308160"/>
              </a:xfrm>
            </p:grpSpPr>
            <p:sp>
              <p:nvSpPr>
                <p:cNvPr id="661" name="Oval 121"/>
                <p:cNvSpPr/>
                <p:nvPr/>
              </p:nvSpPr>
              <p:spPr>
                <a:xfrm>
                  <a:off x="5905440" y="261252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22"/>
                <p:cNvSpPr/>
                <p:nvPr/>
              </p:nvSpPr>
              <p:spPr>
                <a:xfrm>
                  <a:off x="5906160" y="2420280"/>
                  <a:ext cx="770760" cy="228960"/>
                </a:xfrm>
                <a:custGeom>
                  <a:avLst/>
                  <a:gdLst>
                    <a:gd name="textAreaLeft" fmla="*/ 0 w 770760"/>
                    <a:gd name="textAreaRight" fmla="*/ 771120 w 77076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Oval 123"/>
                <p:cNvSpPr/>
                <p:nvPr/>
              </p:nvSpPr>
              <p:spPr>
                <a:xfrm>
                  <a:off x="5905440" y="238104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Oval 124"/>
              <p:cNvSpPr/>
              <p:nvPr/>
            </p:nvSpPr>
            <p:spPr>
              <a:xfrm>
                <a:off x="5905440" y="261180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25"/>
              <p:cNvSpPr/>
              <p:nvPr/>
            </p:nvSpPr>
            <p:spPr>
              <a:xfrm>
                <a:off x="5906160" y="2419200"/>
                <a:ext cx="770760" cy="22860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26"/>
              <p:cNvSpPr/>
              <p:nvPr/>
            </p:nvSpPr>
            <p:spPr>
              <a:xfrm>
                <a:off x="5913000" y="2611080"/>
                <a:ext cx="756720" cy="41040"/>
              </a:xfrm>
              <a:custGeom>
                <a:avLst/>
                <a:gdLst>
                  <a:gd name="textAreaLeft" fmla="*/ 0 w 756720"/>
                  <a:gd name="textAreaRight" fmla="*/ 757080 w 756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127"/>
              <p:cNvSpPr/>
              <p:nvPr/>
            </p:nvSpPr>
            <p:spPr>
              <a:xfrm>
                <a:off x="6105240" y="248076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28"/>
              <p:cNvSpPr/>
              <p:nvPr/>
            </p:nvSpPr>
            <p:spPr>
              <a:xfrm>
                <a:off x="5910840" y="2412720"/>
                <a:ext cx="762480" cy="4248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Oval 129"/>
              <p:cNvSpPr/>
              <p:nvPr/>
            </p:nvSpPr>
            <p:spPr>
              <a:xfrm>
                <a:off x="5905440" y="23799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130"/>
            <p:cNvGrpSpPr/>
            <p:nvPr/>
          </p:nvGrpSpPr>
          <p:grpSpPr>
            <a:xfrm>
              <a:off x="5905440" y="2982960"/>
              <a:ext cx="771480" cy="309600"/>
              <a:chOff x="5905440" y="2982960"/>
              <a:chExt cx="771480" cy="309600"/>
            </a:xfrm>
          </p:grpSpPr>
          <p:grpSp>
            <p:nvGrpSpPr>
              <p:cNvPr id="671" name="Group 131"/>
              <p:cNvGrpSpPr/>
              <p:nvPr/>
            </p:nvGrpSpPr>
            <p:grpSpPr>
              <a:xfrm>
                <a:off x="5905440" y="2984040"/>
                <a:ext cx="771480" cy="308520"/>
                <a:chOff x="5905440" y="2984040"/>
                <a:chExt cx="771480" cy="308520"/>
              </a:xfrm>
            </p:grpSpPr>
            <p:sp>
              <p:nvSpPr>
                <p:cNvPr id="672" name="Oval 132"/>
                <p:cNvSpPr/>
                <p:nvPr/>
              </p:nvSpPr>
              <p:spPr>
                <a:xfrm>
                  <a:off x="5905440" y="321552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33"/>
                <p:cNvSpPr/>
                <p:nvPr/>
              </p:nvSpPr>
              <p:spPr>
                <a:xfrm>
                  <a:off x="5906160" y="3023280"/>
                  <a:ext cx="770760" cy="228960"/>
                </a:xfrm>
                <a:custGeom>
                  <a:avLst/>
                  <a:gdLst>
                    <a:gd name="textAreaLeft" fmla="*/ 0 w 770760"/>
                    <a:gd name="textAreaRight" fmla="*/ 771120 w 77076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Oval 134"/>
                <p:cNvSpPr/>
                <p:nvPr/>
              </p:nvSpPr>
              <p:spPr>
                <a:xfrm>
                  <a:off x="5905440" y="298404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Oval 135"/>
              <p:cNvSpPr/>
              <p:nvPr/>
            </p:nvSpPr>
            <p:spPr>
              <a:xfrm>
                <a:off x="5905440" y="32151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36"/>
              <p:cNvSpPr/>
              <p:nvPr/>
            </p:nvSpPr>
            <p:spPr>
              <a:xfrm>
                <a:off x="5906160" y="3022200"/>
                <a:ext cx="770760" cy="22896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37"/>
              <p:cNvSpPr/>
              <p:nvPr/>
            </p:nvSpPr>
            <p:spPr>
              <a:xfrm>
                <a:off x="5913000" y="3214440"/>
                <a:ext cx="756720" cy="41040"/>
              </a:xfrm>
              <a:custGeom>
                <a:avLst/>
                <a:gdLst>
                  <a:gd name="textAreaLeft" fmla="*/ 0 w 756720"/>
                  <a:gd name="textAreaRight" fmla="*/ 757080 w 756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138"/>
              <p:cNvSpPr/>
              <p:nvPr/>
            </p:nvSpPr>
            <p:spPr>
              <a:xfrm>
                <a:off x="6105240" y="308412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39"/>
              <p:cNvSpPr/>
              <p:nvPr/>
            </p:nvSpPr>
            <p:spPr>
              <a:xfrm>
                <a:off x="5910840" y="3015720"/>
                <a:ext cx="762480" cy="4248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Oval 140"/>
              <p:cNvSpPr/>
              <p:nvPr/>
            </p:nvSpPr>
            <p:spPr>
              <a:xfrm>
                <a:off x="5905440" y="29829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Group 141"/>
            <p:cNvGrpSpPr/>
            <p:nvPr/>
          </p:nvGrpSpPr>
          <p:grpSpPr>
            <a:xfrm>
              <a:off x="4405320" y="4357800"/>
              <a:ext cx="773280" cy="309600"/>
              <a:chOff x="4405320" y="4357800"/>
              <a:chExt cx="773280" cy="309600"/>
            </a:xfrm>
          </p:grpSpPr>
          <p:grpSp>
            <p:nvGrpSpPr>
              <p:cNvPr id="682" name="Group 142"/>
              <p:cNvGrpSpPr/>
              <p:nvPr/>
            </p:nvGrpSpPr>
            <p:grpSpPr>
              <a:xfrm>
                <a:off x="4405680" y="4358160"/>
                <a:ext cx="772920" cy="309240"/>
                <a:chOff x="4405680" y="4358160"/>
                <a:chExt cx="772920" cy="309240"/>
              </a:xfrm>
            </p:grpSpPr>
            <p:sp>
              <p:nvSpPr>
                <p:cNvPr id="683" name="Oval 143"/>
                <p:cNvSpPr/>
                <p:nvPr/>
              </p:nvSpPr>
              <p:spPr>
                <a:xfrm>
                  <a:off x="4405680" y="4590360"/>
                  <a:ext cx="7729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144"/>
                <p:cNvSpPr/>
                <p:nvPr/>
              </p:nvSpPr>
              <p:spPr>
                <a:xfrm>
                  <a:off x="4406040" y="4397400"/>
                  <a:ext cx="772560" cy="229320"/>
                </a:xfrm>
                <a:custGeom>
                  <a:avLst/>
                  <a:gdLst>
                    <a:gd name="textAreaLeft" fmla="*/ 0 w 772560"/>
                    <a:gd name="textAreaRight" fmla="*/ 772920 w 772560"/>
                    <a:gd name="textAreaTop" fmla="*/ 0 h 229320"/>
                    <a:gd name="textAreaBottom" fmla="*/ 229680 h 22932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Oval 145"/>
                <p:cNvSpPr/>
                <p:nvPr/>
              </p:nvSpPr>
              <p:spPr>
                <a:xfrm>
                  <a:off x="4405680" y="4358160"/>
                  <a:ext cx="7729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6" name="Oval 146"/>
              <p:cNvSpPr/>
              <p:nvPr/>
            </p:nvSpPr>
            <p:spPr>
              <a:xfrm>
                <a:off x="4405320" y="4589280"/>
                <a:ext cx="7729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47"/>
              <p:cNvSpPr/>
              <p:nvPr/>
            </p:nvSpPr>
            <p:spPr>
              <a:xfrm>
                <a:off x="4405680" y="4397040"/>
                <a:ext cx="772200" cy="22896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48"/>
              <p:cNvSpPr/>
              <p:nvPr/>
            </p:nvSpPr>
            <p:spPr>
              <a:xfrm>
                <a:off x="4412880" y="4589280"/>
                <a:ext cx="757800" cy="41040"/>
              </a:xfrm>
              <a:custGeom>
                <a:avLst/>
                <a:gdLst>
                  <a:gd name="textAreaLeft" fmla="*/ 0 w 757800"/>
                  <a:gd name="textAreaRight" fmla="*/ 758160 w 7578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149"/>
              <p:cNvSpPr/>
              <p:nvPr/>
            </p:nvSpPr>
            <p:spPr>
              <a:xfrm>
                <a:off x="4605480" y="4458240"/>
                <a:ext cx="372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50"/>
              <p:cNvSpPr/>
              <p:nvPr/>
            </p:nvSpPr>
            <p:spPr>
              <a:xfrm>
                <a:off x="4411440" y="4390200"/>
                <a:ext cx="763560" cy="4248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Oval 151"/>
              <p:cNvSpPr/>
              <p:nvPr/>
            </p:nvSpPr>
            <p:spPr>
              <a:xfrm>
                <a:off x="4405320" y="4357800"/>
                <a:ext cx="7729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Freeform 152"/>
            <p:cNvSpPr/>
            <p:nvPr/>
          </p:nvSpPr>
          <p:spPr>
            <a:xfrm>
              <a:off x="4791240" y="4084920"/>
              <a:ext cx="360" cy="30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Computer Organiza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Footer Placeholder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AD80-B4FD-4B2D-AFB0-EFEF6AFC7E04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x logical units of computer system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put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use, keyboar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Output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inter, monitor, audio speaker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emory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tains input and processed inform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rithmetic and logic unit (ALU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erforms calculat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ontrol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upervises operation of other devi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ary storage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ard drives, floppy driv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23640" y="434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What a computer program is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A079-0A98-4150-AC86-3680D21A8B6B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or a computer to be able to perform specific tasks (i.e. print what grade a student got on an exam), it must be given instructions to do the task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set of instructions that tells the computer to perform specific tasks is known as a </a:t>
            </a:r>
            <a:r>
              <a:rPr b="0" i="1" lang="en-US" sz="2800" spc="-1" strike="noStrike">
                <a:solidFill>
                  <a:srgbClr val="775f55"/>
                </a:solidFill>
                <a:latin typeface="Tw Cen MT"/>
              </a:rPr>
              <a:t>computer progra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Tw Cen MT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Machine Languages, Assembly Languages and High-Level Language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achine languag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atural language” of computer compon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chine depend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ssembly languag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nglish-like abbreviations represent computer opera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ranslator programs convert to machine langu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igh-level languag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lows for writing more “English-like” instruc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Contains commonly used mathematical operation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piler convert to machine langu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  <a:ea typeface="Arial"/>
              </a:rPr>
              <a:t>An Overview Of Computer Languag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1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E5D7-D05D-474C-93CC-85E0ED0F0BF1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612720" y="1600200"/>
          <a:ext cx="8153280" cy="4114800"/>
        </p:xfrm>
        <a:graphic>
          <a:graphicData uri="http://schemas.openxmlformats.org/drawingml/2006/table">
            <a:tbl>
              <a:tblPr/>
              <a:tblGrid>
                <a:gridCol w="1655640"/>
                <a:gridCol w="2448000"/>
                <a:gridCol w="2011320"/>
                <a:gridCol w="2038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w Cen MT"/>
                        </a:rPr>
                        <a:t>1-Machine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w Cen MT"/>
                        </a:rPr>
                        <a:t>2-Assembly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w Cen MT"/>
                        </a:rPr>
                        <a:t>3-High-level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0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95b22"/>
                          </a:solidFill>
                          <a:latin typeface="Tw Cen MT"/>
                        </a:rPr>
                        <a:t>repres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llection of binar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nu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ymbolic form of machine  language (I.e. symbolic names are used to represent </a:t>
                      </a:r>
                      <a:r>
                        <a:rPr b="0" lang="en-US" sz="1600" spc="-1" strike="noStrike">
                          <a:solidFill>
                            <a:srgbClr val="1313ff"/>
                          </a:solidFill>
                          <a:latin typeface="Tw Cen MT"/>
                        </a:rPr>
                        <a:t>operation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w Cen MT"/>
                        </a:rPr>
                        <a:t>regist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&amp; </a:t>
                      </a: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Tw Cen MT"/>
                        </a:rPr>
                        <a:t>memory locat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mbines algebraic  expressions with symbols taken from  English language(ex. C, Pascal, FORTRAN, …et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95b22"/>
                          </a:solidFill>
                          <a:latin typeface="Tw Cen MT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10100001 00000000 000000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00000101 00000100 000000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10100011 00000000 000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313ff"/>
                          </a:solidFill>
                          <a:latin typeface="Tw Cen MT"/>
                          <a:ea typeface="Traditional Arabic"/>
                        </a:rPr>
                        <a:t>MO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Tw Cen MT"/>
                          <a:ea typeface="Traditional Arabic"/>
                        </a:rPr>
                        <a:t>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w Cen MT"/>
                          <a:ea typeface="Traditional Arabic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313ff"/>
                          </a:solidFill>
                          <a:latin typeface="Tw Cen MT"/>
                          <a:ea typeface="Traditional Arabic"/>
                        </a:rPr>
                        <a:t>MOV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Tw Cen MT"/>
                          <a:ea typeface="Traditional Arabic"/>
                        </a:rPr>
                        <a:t> 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313ff"/>
                          </a:solidFill>
                          <a:latin typeface="Tw Cen MT"/>
                          <a:ea typeface="Traditional Arabic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Tw Cen MT"/>
                          <a:ea typeface="Traditional Arabic"/>
                        </a:rPr>
                        <a:t>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=A+4 *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95b22"/>
                          </a:solidFill>
                          <a:latin typeface="Tw Cen MT"/>
                        </a:rPr>
                        <a:t>how does the computer understand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rectly understood by a comput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sembl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convert to machine langu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mpiler or (interpter 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nvert to machine langu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grpSp>
        <p:nvGrpSpPr>
          <p:cNvPr id="424" name="Group 45"/>
          <p:cNvGrpSpPr/>
          <p:nvPr/>
        </p:nvGrpSpPr>
        <p:grpSpPr>
          <a:xfrm>
            <a:off x="395280" y="5950080"/>
            <a:ext cx="8381880" cy="380880"/>
            <a:chOff x="395280" y="5950080"/>
            <a:chExt cx="8381880" cy="380880"/>
          </a:xfrm>
        </p:grpSpPr>
        <p:sp>
          <p:nvSpPr>
            <p:cNvPr id="425" name="Line 40"/>
            <p:cNvSpPr/>
            <p:nvPr/>
          </p:nvSpPr>
          <p:spPr>
            <a:xfrm>
              <a:off x="395280" y="6330960"/>
              <a:ext cx="838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43"/>
            <p:cNvSpPr/>
            <p:nvPr/>
          </p:nvSpPr>
          <p:spPr>
            <a:xfrm>
              <a:off x="395280" y="595008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Easier to 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46"/>
          <p:cNvGrpSpPr/>
          <p:nvPr/>
        </p:nvGrpSpPr>
        <p:grpSpPr>
          <a:xfrm>
            <a:off x="395280" y="6491160"/>
            <a:ext cx="8381880" cy="368280"/>
            <a:chOff x="395280" y="6491160"/>
            <a:chExt cx="8381880" cy="368280"/>
          </a:xfrm>
        </p:grpSpPr>
        <p:sp>
          <p:nvSpPr>
            <p:cNvPr id="428" name="Line 41"/>
            <p:cNvSpPr/>
            <p:nvPr/>
          </p:nvSpPr>
          <p:spPr>
            <a:xfrm>
              <a:off x="395280" y="6491160"/>
              <a:ext cx="838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4"/>
            <p:cNvSpPr/>
            <p:nvPr/>
          </p:nvSpPr>
          <p:spPr>
            <a:xfrm>
              <a:off x="395280" y="649116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More powerf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Levels of Program Developm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1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84DF-7FE6-471D-80C4-4434071DFD31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28600" y="1904760"/>
            <a:ext cx="8686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uman though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seudo-Natural Language (English, Arabic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gh Level Programming Language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(C, C++, Java, …)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chine Cod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he Programmer’s Algorith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Footer Placeholder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B02B-689F-440A-9D58-ACD9F2846214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68000" y="1557000"/>
            <a:ext cx="8351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An algorithm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s a finite sequence of instructions that produces a solution to a proble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700640" indent="-2124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The programmer’s algorith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fine the proble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lan the problem solu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de the progra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mpile the progra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un the progra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est and debug the progra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E639-A224-400E-8E6C-5D071B7D00B2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000" y="353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1-Defining the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problem must be defined in terms of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Data to be processed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The expected resul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ook for nouns in the problem statement that suggest output and inpu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The statements to achiev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ook for verbs to suggest processing step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41" name="Group 4"/>
          <p:cNvGrpSpPr/>
          <p:nvPr/>
        </p:nvGrpSpPr>
        <p:grpSpPr>
          <a:xfrm>
            <a:off x="914400" y="4191120"/>
            <a:ext cx="7554240" cy="2064960"/>
            <a:chOff x="914400" y="4191120"/>
            <a:chExt cx="7554240" cy="2064960"/>
          </a:xfrm>
        </p:grpSpPr>
        <p:sp>
          <p:nvSpPr>
            <p:cNvPr id="442" name="Oval 5"/>
            <p:cNvSpPr/>
            <p:nvPr/>
          </p:nvSpPr>
          <p:spPr>
            <a:xfrm>
              <a:off x="3793680" y="4210920"/>
              <a:ext cx="1702440" cy="2045160"/>
            </a:xfrm>
            <a:prstGeom prst="ellipse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6"/>
            <p:cNvSpPr/>
            <p:nvPr/>
          </p:nvSpPr>
          <p:spPr>
            <a:xfrm>
              <a:off x="914400" y="4759560"/>
              <a:ext cx="1702440" cy="673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7"/>
            <p:cNvSpPr/>
            <p:nvPr/>
          </p:nvSpPr>
          <p:spPr>
            <a:xfrm>
              <a:off x="1032840" y="4944960"/>
              <a:ext cx="1585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bo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8"/>
            <p:cNvSpPr/>
            <p:nvPr/>
          </p:nvSpPr>
          <p:spPr>
            <a:xfrm>
              <a:off x="6742080" y="4690800"/>
              <a:ext cx="1565280" cy="129132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9"/>
            <p:cNvSpPr/>
            <p:nvPr/>
          </p:nvSpPr>
          <p:spPr>
            <a:xfrm>
              <a:off x="6928560" y="4944960"/>
              <a:ext cx="1196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re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0"/>
            <p:cNvSpPr/>
            <p:nvPr/>
          </p:nvSpPr>
          <p:spPr>
            <a:xfrm>
              <a:off x="3702600" y="4893480"/>
              <a:ext cx="1822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1"/>
            <p:cNvSpPr/>
            <p:nvPr/>
          </p:nvSpPr>
          <p:spPr>
            <a:xfrm>
              <a:off x="1029960" y="4259520"/>
              <a:ext cx="163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put 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2"/>
            <p:cNvSpPr/>
            <p:nvPr/>
          </p:nvSpPr>
          <p:spPr>
            <a:xfrm>
              <a:off x="6627600" y="419112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put 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13"/>
            <p:cNvGrpSpPr/>
            <p:nvPr/>
          </p:nvGrpSpPr>
          <p:grpSpPr>
            <a:xfrm>
              <a:off x="2806920" y="4838040"/>
              <a:ext cx="3718800" cy="582480"/>
              <a:chOff x="2806920" y="4838040"/>
              <a:chExt cx="3718800" cy="582480"/>
            </a:xfrm>
          </p:grpSpPr>
          <p:sp>
            <p:nvSpPr>
              <p:cNvPr id="451" name="AutoShape 14"/>
              <p:cNvSpPr/>
              <p:nvPr/>
            </p:nvSpPr>
            <p:spPr>
              <a:xfrm>
                <a:off x="5686200" y="4838040"/>
                <a:ext cx="839520" cy="582480"/>
              </a:xfrm>
              <a:prstGeom prst="rightArrow">
                <a:avLst>
                  <a:gd name="adj1" fmla="val 50000"/>
                  <a:gd name="adj2" fmla="val 72084"/>
                </a:avLst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ebddc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AutoShape 15"/>
              <p:cNvSpPr/>
              <p:nvPr/>
            </p:nvSpPr>
            <p:spPr>
              <a:xfrm>
                <a:off x="2806920" y="4838040"/>
                <a:ext cx="839520" cy="582480"/>
              </a:xfrm>
              <a:prstGeom prst="rightArrow">
                <a:avLst>
                  <a:gd name="adj1" fmla="val 50000"/>
                  <a:gd name="adj2" fmla="val 72084"/>
                </a:avLst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ebddc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53" name="Ink 16" descr=""/>
          <p:cNvPicPr/>
          <p:nvPr/>
        </p:nvPicPr>
        <p:blipFill>
          <a:blip r:embed="rId1"/>
          <a:stretch/>
        </p:blipFill>
        <p:spPr>
          <a:xfrm>
            <a:off x="942840" y="2162160"/>
            <a:ext cx="1000440" cy="255600"/>
          </a:xfrm>
          <a:prstGeom prst="rect">
            <a:avLst/>
          </a:prstGeom>
          <a:ln w="0">
            <a:noFill/>
          </a:ln>
        </p:spPr>
      </p:pic>
      <p:pic>
        <p:nvPicPr>
          <p:cNvPr id="454" name="Ink 17" descr=""/>
          <p:cNvPicPr/>
          <p:nvPr/>
        </p:nvPicPr>
        <p:blipFill>
          <a:blip r:embed="rId2"/>
          <a:stretch/>
        </p:blipFill>
        <p:spPr>
          <a:xfrm>
            <a:off x="942840" y="2593800"/>
            <a:ext cx="1079640" cy="250920"/>
          </a:xfrm>
          <a:prstGeom prst="rect">
            <a:avLst/>
          </a:prstGeom>
          <a:ln w="0">
            <a:noFill/>
          </a:ln>
        </p:spPr>
      </p:pic>
      <p:pic>
        <p:nvPicPr>
          <p:cNvPr id="455" name="Ink 18" descr=""/>
          <p:cNvPicPr/>
          <p:nvPr/>
        </p:nvPicPr>
        <p:blipFill>
          <a:blip r:embed="rId3"/>
          <a:stretch/>
        </p:blipFill>
        <p:spPr>
          <a:xfrm>
            <a:off x="1374840" y="3386160"/>
            <a:ext cx="165564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1:23:47Z</dcterms:created>
  <dc:creator>user</dc:creator>
  <dc:description/>
  <dc:language>en-US</dc:language>
  <cp:lastModifiedBy>safaa bassam</cp:lastModifiedBy>
  <dcterms:modified xsi:type="dcterms:W3CDTF">2016-09-23T08:39:23Z</dcterms:modified>
  <cp:revision>4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DA1098C655300498A04611AF6A7E116</vt:lpwstr>
  </property>
</Properties>
</file>