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E4E-8924-4A4F-9EF5-E0E77EA0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F03-4F76-4EAC-83D8-8695A486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4B3-C861-4FF9-9F64-AED956E4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068-5B02-4328-96E3-5B3DD21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133-4F81-426D-8A16-830EBE3E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80D-052C-4F38-929F-EB7FA264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1E14-B209-4114-996D-D663015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C1E-578B-4F2B-A31E-626A309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C929-B31F-4D51-AF5A-D0F7A76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E728-37B6-4E6C-B03D-21E02B5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F45D-B794-4815-A3EF-FD7BCF1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C816-B596-425A-96F1-6298C16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49CC-E3AB-434E-9135-A96C213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740-B41B-43BE-9D76-03A3B8D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5B2-82E6-41E9-BC3A-BF167AB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6E1-795B-4F5F-A630-3570CAD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63FD-3216-4BFC-B415-A603010B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5FB0-ABC0-45B6-9CB9-A15ADA3C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3A4F-5B77-4F30-9232-0F251207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0985-EE27-448D-B482-FB79B937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4E7E-DC95-4F8B-A5CF-E65980BA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A35A-BD16-430A-8705-4E6FA146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B55C-BEE9-42F4-8B09-BB60CAF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13F0-264B-4581-89AC-B50CBA2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273-C07B-40A9-AB8C-5DF4EB5A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8CE7-273B-41FD-8DB4-287D55E4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DBC6-BB2E-4DAA-9608-E1E36D8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6A4D-DE2D-460A-9D0C-BAF7D544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E13B-7C31-4872-B8DE-DD6D5A2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2748-6BB6-4EC6-8C6F-9B452B52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A264-2982-4EA1-8513-24F8F73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B76E-6A06-4A1C-8278-9174E145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5A71-5183-4F6B-B7BD-7CB98EEC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8565-E83A-435C-A92C-A7E1351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3B75-7597-4741-8E47-1C255D62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5E8-914D-448C-B941-DA83FEF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5B5F-B0B9-4C9F-8FB9-BB4BB46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229A-8CF8-4645-AA6F-1950594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DE08-7BCB-4EE5-AD52-B7700F2D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50BBC-293C-4721-8121-76DFAE0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0935-090A-48F0-8857-F6DCDB1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6AC0-BF4D-4D0B-8FF7-4FA59247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47B6-C2A4-4950-992C-467E71D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2E40E-2890-41EA-BFF5-9F94CE3E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BAD9-B270-4E38-8D35-1355AFDA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8052-D197-4263-9EF9-E92DC467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4E6-6EEA-4D8F-9B0F-B7D2434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E6DA-36CE-4239-A1BC-D25BE49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1199-97DE-4CC2-B24D-2102029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ED45-6949-4EBC-97CF-B8EDBDC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C34C-65D5-43D6-B332-291CF9C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F592-12A2-4526-A276-7348D37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80C2-EB1F-4DE3-A97E-FD77CD2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4E72-0208-4AD1-AEFF-66CD3D2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C48E-25BA-4D31-8BD7-2D60ED2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76AC-6570-4AED-B0E0-C1E033D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1AAE-1CB7-4980-9EF2-B03C108D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1F0-7401-46A0-881B-EF174846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EF1A-C17B-4C0A-BE3D-1C2C9212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92E-F13A-45E0-9843-23C9390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6CD-06DC-4847-983F-AF2808B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091-62D3-4B74-BEDF-74E7C92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FD5B-C761-4321-B502-F1927DA794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75AB-2279-4AD3-AA40-6434876CE9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F95-86E4-4598-83C4-6FC9D795C5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00E7-D705-43C4-BA14-5CDF420050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F11-B1B3-4AA6-81C3-C3E0BDC773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twork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ing topolog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Each node is connected to the two nearest nodes so the entire network forms a circl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One method for passing data on ring networks is </a:t>
            </a:r>
            <a:r>
              <a:rPr b="1" lang="en-US" sz="1900" spc="-1" strike="noStrike">
                <a:solidFill>
                  <a:srgbClr val="000000"/>
                </a:solidFill>
                <a:latin typeface="Perpetua"/>
              </a:rPr>
              <a:t>token passing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Data travels around the network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Traffic flows in one direction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Slow performanc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One workstation goes down; whole network goes down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Network is highly dependent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4" descr="Fig05-03"/>
          <p:cNvPicPr/>
          <p:nvPr/>
        </p:nvPicPr>
        <p:blipFill>
          <a:blip r:embed="rId1"/>
          <a:stretch/>
        </p:blipFill>
        <p:spPr>
          <a:xfrm>
            <a:off x="2895480" y="4734000"/>
            <a:ext cx="2895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Cable faults are easily located, making troubleshooting easi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ing networks are moderately easy to inst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more cable and network equipment at the sta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Expansion to the network can cause network disrup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A single break in the cable can disrupt the entire net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Fig06-03"/>
          <p:cNvPicPr/>
          <p:nvPr/>
        </p:nvPicPr>
        <p:blipFill>
          <a:blip r:embed="rId1"/>
          <a:stretch/>
        </p:blipFill>
        <p:spPr>
          <a:xfrm>
            <a:off x="914400" y="1295280"/>
            <a:ext cx="737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Perpetua"/>
              </a:rPr>
              <a:t>Star topology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very node on the network is connected through a central device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called </a:t>
            </a:r>
            <a:r>
              <a:rPr b="1" lang="en-GB" sz="2400" spc="-1" strike="noStrike">
                <a:solidFill>
                  <a:srgbClr val="000000"/>
                </a:solidFill>
                <a:latin typeface="Perpetua"/>
              </a:rPr>
              <a:t>hub or switch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4" descr="Fig05-04"/>
          <p:cNvPicPr/>
          <p:nvPr/>
        </p:nvPicPr>
        <p:blipFill>
          <a:blip r:embed="rId1"/>
          <a:stretch/>
        </p:blipFill>
        <p:spPr>
          <a:xfrm>
            <a:off x="1409760" y="3276720"/>
            <a:ext cx="468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r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y single cable connects only two devic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bling problems affect two nodes at m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quires more cabling than ring or bus netwo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fault-tolera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asily moved, isolated, or interconnected with other netwo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pports max of 1024 addressable nodes on logical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St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od option for modern networ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ow startup co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man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fers opportunities for expan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popular topology in use; wide variety of equipment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ub is a single point of fail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quires more cable than the b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Me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Footer Placeholder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419200" y="1600200"/>
            <a:ext cx="4210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Mesh Topology: Each computer connects to every oth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High level of redunda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arely us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Wiring is very complica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Cabling cost is hig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Troubleshooting a failed cable is trick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A variation hybrid mesh – create point to poin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connection between specific network devices, ofte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seen in WAN implement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Shape 193"/>
          <p:cNvSpPr/>
          <p:nvPr/>
        </p:nvSpPr>
        <p:spPr>
          <a:xfrm>
            <a:off x="6400800" y="5176800"/>
            <a:ext cx="2438280" cy="1357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Me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obus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There is the advantage of privacy or secur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The network can be expanded  without disruption to current 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Point to point links make fault identification and fault isolation eas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Requires more cable than the other LAN topolog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licated imple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Installation and reconnection are difficul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Sheer bulk of wiring can be greater than the available space can accommodat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Expensiv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ybrid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example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Topology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combination of Bus and Star topolog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consists of groups of star-configured workstations connected to a linear bus backbone cab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backbone line breaks, the entire segment goes dow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example of this network could be cable TV techn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Shape 186"/>
          <p:cNvSpPr/>
          <p:nvPr/>
        </p:nvSpPr>
        <p:spPr>
          <a:xfrm>
            <a:off x="5791320" y="3267000"/>
            <a:ext cx="3009960" cy="359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bjec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be the basic and hybrid LAN physical topologies, and their uses, advantages and disadvantag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be the backbone structures that form the foundation for most L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oosing a Topolog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smal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will not be frequently reconfigu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ast expensive solution is requi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not expected to grow muc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must be easy to add/remove PC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must be easy to troubleshoo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lar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expected to grow in the fu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must operate reasonably under heavy lo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igher speed network is requi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will not be frequently reconfigu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 topology: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 layout of nodes on a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our fundamental shap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s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y create hybrid topolog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pology integral to type of network, cabling infrastructure, and transmission media us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 we need a topolog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b2d1f"/>
                </a:solidFill>
                <a:latin typeface="Perpetua"/>
              </a:rPr>
              <a:t>Choosing one topology over another can impact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 of equipment the network nee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pabilities of the equi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twork’s growt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ay a network is manag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u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Fig06-01"/>
          <p:cNvPicPr/>
          <p:nvPr/>
        </p:nvPicPr>
        <p:blipFill>
          <a:blip r:embed="rId1"/>
          <a:stretch/>
        </p:blipFill>
        <p:spPr>
          <a:xfrm>
            <a:off x="690480" y="1827360"/>
            <a:ext cx="772488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us topolog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sists of a single cable—called a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— connecting all nodes on a network without intervening connectivity devi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4" descr="Fig05-01"/>
          <p:cNvPicPr/>
          <p:nvPr/>
        </p:nvPicPr>
        <p:blipFill>
          <a:blip r:embed="rId1"/>
          <a:stretch/>
        </p:blipFill>
        <p:spPr>
          <a:xfrm>
            <a:off x="2057400" y="3962520"/>
            <a:ext cx="388620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us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ices share responsibility for getting data from one point to anoth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rminators stop signals after reaching end of wi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vent signal bou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expensive, not very sca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fficult to troubleshoot, not fault-tolera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4933800" y="2900520"/>
            <a:ext cx="374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B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orks well for small networ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inst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ly inexpensive to impl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agement costs can be hig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Network disruption when computers are added or remov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A break in the cable will prevent all systems from accessing the networ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Difficult to troubleshoo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Fig06-02"/>
          <p:cNvPicPr/>
          <p:nvPr/>
        </p:nvPicPr>
        <p:blipFill>
          <a:blip r:embed="rId1"/>
          <a:stretch/>
        </p:blipFill>
        <p:spPr>
          <a:xfrm>
            <a:off x="990720" y="1295280"/>
            <a:ext cx="7143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0:42:21Z</dcterms:created>
  <dc:creator>meyadat</dc:creator>
  <dc:description/>
  <dc:language>en-US</dc:language>
  <cp:lastModifiedBy>User</cp:lastModifiedBy>
  <dcterms:modified xsi:type="dcterms:W3CDTF">2016-01-23T17:47:19Z</dcterms:modified>
  <cp:revision>18</cp:revision>
  <dc:subject/>
  <dc:title>Network Topolog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F0F80E32A91A04FBCBF0F33924102D3</vt:lpwstr>
  </property>
</Properties>
</file>