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1E72-428F-4366-A9C4-FCCE83B05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AD8F-3F7F-4BA8-8410-C404C5F2D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377-C4F8-42E9-AA6E-01E78A71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136-2E54-4D7B-A3C6-25CDBD20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767-D53E-4E06-A974-B3D79437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12A-ECD1-4A4F-8D13-8A69C2AD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7F6-94BD-4FE5-8DD6-9D36E48E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D0B6-8E42-41A3-89CA-DDB4152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B6E3-C186-4E48-93B7-DF224F1B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D48-F2F7-4C99-B82B-DAAAF77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5DB7-816C-42A7-9736-345F53DD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45E7-B76C-417F-B403-2C37B7B6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4B31-819A-4339-9BCC-D2C39A4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7C2-5D45-4C26-BB75-C4DF6541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79B6-0481-4C18-9C46-3FDB916B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1B7C-8E3C-4E26-BFC0-0AD4F7C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F712-CEE9-4313-A8E8-36A61CF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6E6C-0850-43B2-87CD-4A7F761E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79DD-D7D8-4296-B2E2-A4FFD580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2D77-CABA-4B5D-B3EF-FD81AF2E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7F28-6967-47C5-B2BF-C8317559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FCBC-4A20-4CD8-8214-85D176B0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D4DF-DF66-4FE4-A834-81C21160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37DF-15D9-44F7-9416-E2CB8AAE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09D-0B7E-417A-8901-9EBB153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C872-DFFF-4D33-8C12-51D54271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EEBF-DF66-4526-9827-EE8B3BA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AF40-D5FC-46DA-A889-A9F6EB7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F8DD-AE58-49AD-BD0B-85E10C4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346D-9BF6-4C61-BFE4-4EC59747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C1EF-7B7A-401A-A161-40EE1CE1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42F2-22D5-4F5C-9AB7-F38E4BD1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2A56-E41C-4023-BD24-F617767D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CD3C-83AE-4511-A868-36E7CC66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3AAB-E0BD-411C-8981-16EC4A6A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0B1-BB74-456C-83A0-57506D9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D89B-55C2-4E4B-B4C7-1B1D661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B2B8-AD37-407D-AF40-E624A28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39819-B240-4D2B-A851-1690A316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DCAD-D3F9-4C37-9A3C-CAB5E8D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B471-3F24-48AF-BAB5-4C98787B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5559-4049-49B0-A0D9-A46F2FD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4A55-467E-40F3-8269-3DDB5585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9E15-C648-470A-824D-519BF0AE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70A2-50DC-48E1-98AE-2E1CA505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54F82-B7A8-4676-9116-C7449E7E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59B-F1BA-4D12-9613-23C07989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371D2-A9EA-417B-9466-004CA5F9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7E77-D421-4542-BD67-CEF74FE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0D9D-EFD6-4304-B41D-472FC531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D1218-4480-471F-B737-7C0A627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E91F-D5D8-4202-B10B-07403964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FC0A-239A-4812-9B4C-BDB8782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5F31E-E1B9-41E3-91C6-22016AA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E07D-E03C-4F63-9003-991184B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00F6A-5744-4412-A67F-C3117C04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E3F1-2839-4147-B212-52632D2D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D20-F9EC-4A32-81D3-9DC210BB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197E-F2AD-4549-BB82-013DAFE9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CE3-163D-4D69-94BC-31C951B5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54F-0A89-4972-92AC-631DDE7B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34F-4788-4417-BE0A-6FC6E6CF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4B7-BF9E-4FC6-A629-A32A887870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7363-F61C-4EF6-9226-4F02BFD88A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A01D-9C66-4F7A-AF2C-EC6F95F253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FA5-B5ED-4503-81CF-695F610A58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C661-9729-4A59-8D4D-A19D5CD126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twork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ing topolog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Each node is connected to the two nearest nodes so the entire network forms a circl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One method for passing data on ring networks is </a:t>
            </a:r>
            <a:r>
              <a:rPr b="1" lang="en-US" sz="1900" spc="-1" strike="noStrike">
                <a:solidFill>
                  <a:srgbClr val="000000"/>
                </a:solidFill>
                <a:latin typeface="Perpetua"/>
              </a:rPr>
              <a:t>token passing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Data travels around the network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Traffic flows in one direction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Slow performanc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One workstation goes down; whole network goes down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  <a:ea typeface="Arial"/>
              </a:rPr>
              <a:t>Network is highly dependent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4" descr="Fig05-03"/>
          <p:cNvPicPr/>
          <p:nvPr/>
        </p:nvPicPr>
        <p:blipFill>
          <a:blip r:embed="rId1"/>
          <a:stretch/>
        </p:blipFill>
        <p:spPr>
          <a:xfrm>
            <a:off x="2895480" y="4734000"/>
            <a:ext cx="2895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 algn="r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 algn="r" rtl="1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Cable faults are easily located, making troubleshooting easi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Ring networks are moderately easy to insta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quires more cable and network equipment at the sta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Expansion to the network can cause network disrup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A single break in the cable can disrupt the entire networ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Fig06-03"/>
          <p:cNvPicPr/>
          <p:nvPr/>
        </p:nvPicPr>
        <p:blipFill>
          <a:blip r:embed="rId1"/>
          <a:stretch/>
        </p:blipFill>
        <p:spPr>
          <a:xfrm>
            <a:off x="914400" y="1295280"/>
            <a:ext cx="737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Perpetua"/>
              </a:rPr>
              <a:t>Star topology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very node on the network is connected through a central device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called </a:t>
            </a:r>
            <a:r>
              <a:rPr b="1" lang="en-GB" sz="2400" spc="-1" strike="noStrike">
                <a:solidFill>
                  <a:srgbClr val="000000"/>
                </a:solidFill>
                <a:latin typeface="Perpetua"/>
              </a:rPr>
              <a:t>hub or switch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4" descr="Fig05-04"/>
          <p:cNvPicPr/>
          <p:nvPr/>
        </p:nvPicPr>
        <p:blipFill>
          <a:blip r:embed="rId1"/>
          <a:stretch/>
        </p:blipFill>
        <p:spPr>
          <a:xfrm>
            <a:off x="1409760" y="3276720"/>
            <a:ext cx="4686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r (continued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y single cable connects only two devic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bling problems affect two nodes at m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quires more cabling than ring or bus netwo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fault-tolera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asily moved, isolated, or interconnected with other netwo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pports max of 1024 addressable nodes on logical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St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od option for modern networ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ow startup cos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man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fers opportunities for expan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popular topology in use; wide variety of equipment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ub is a single point of fail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quires more cable than the b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Me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Footer Placeholder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419200" y="1600200"/>
            <a:ext cx="42102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Mesh Topology: Each computer connects to every othe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High level of redundanc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Rarely us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Wiring is very complica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Cabling cost is hig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Troubleshooting a failed cable is trick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A variation hybrid mesh – create point to poin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connection between specific network devices, ofte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seen in WAN implement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Shape 193"/>
          <p:cNvSpPr/>
          <p:nvPr/>
        </p:nvSpPr>
        <p:spPr>
          <a:xfrm>
            <a:off x="6400800" y="5176800"/>
            <a:ext cx="2438280" cy="1357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Mes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Robus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There is the advantage of privacy or secur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The network can be expanded  without disruption to current u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Point to point links make fault identification and fault isolation eas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Requires more cable than the other LAN topolog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plicated implement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Installation and reconnection are difficul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Sheer bulk of wiring can be greater than the available space can accommodat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Expensiv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7080" indent="-203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ybrid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example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Topology i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Tre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Arial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combination of Bus and Star topolog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consists of groups of star-configured workstations connected to a linear bus backbone cabl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he backbone line breaks, the entire segment goes dow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6352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example of this network could be cable TV technolo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Shape 186"/>
          <p:cNvSpPr/>
          <p:nvPr/>
        </p:nvSpPr>
        <p:spPr>
          <a:xfrm>
            <a:off x="5791320" y="3267000"/>
            <a:ext cx="3009960" cy="359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bjec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be the basic and hybrid LAN physical topologies, and their uses, advantages and disadvantag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be the backbone structures that form the foundation for most LA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oosing a Topolog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smal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will not be frequently reconfigu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ast expensive solution is requi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not expected to grow much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 must be easy to add/remove PC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 must be easy to troubleshoo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lar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is expected to grow in the futu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must operate reasonably under heavy loa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igher speed network is requi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etwork will not be frequently reconfigure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 topology: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hysical layout of nodes on a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our fundamental shap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s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ay create hybrid topolog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opology integral to type of network, cabling infrastructure, and transmission media us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y we need a topolog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b2d1f"/>
                </a:solidFill>
                <a:latin typeface="Perpetua"/>
              </a:rPr>
              <a:t>Choosing one topology over another can impact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e of equipment the network nee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pabilities of the equip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twork’s growt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ay a network is manag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u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Fig06-01"/>
          <p:cNvPicPr/>
          <p:nvPr/>
        </p:nvPicPr>
        <p:blipFill>
          <a:blip r:embed="rId1"/>
          <a:stretch/>
        </p:blipFill>
        <p:spPr>
          <a:xfrm>
            <a:off x="690480" y="1827360"/>
            <a:ext cx="7724880" cy="34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imple Physical Topologi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us topolog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sists of a single cable—called a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backbon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— connecting all nodes on a network without intervening connectivity devi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Picture 4" descr="Fig05-01"/>
          <p:cNvPicPr/>
          <p:nvPr/>
        </p:nvPicPr>
        <p:blipFill>
          <a:blip r:embed="rId1"/>
          <a:stretch/>
        </p:blipFill>
        <p:spPr>
          <a:xfrm>
            <a:off x="2057400" y="3962520"/>
            <a:ext cx="388620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us (continued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ices share responsibility for getting data from one point to anoth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rminators stop signals after reaching end of wi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event signal bou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expensive, not very sca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fficult to troubleshoot, not fault-tolera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4933800" y="2900520"/>
            <a:ext cx="374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96464"/>
                </a:solidFill>
                <a:latin typeface="Franklin Gothic Book"/>
              </a:rPr>
              <a:t>B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Advantages</a:t>
            </a: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34817"/>
                </a:solidFill>
                <a:latin typeface="Franklin Gothic Book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Footer Placeholder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orks well for small networ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insta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atively inexpensive to impl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agement costs can be hig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Network disruption when computers are added or remov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A break in the cable will prevent all systems from accessing the network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Difficult to troubleshoo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CSC1202-2013 (c) Nouf AlJaff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Fig06-02"/>
          <p:cNvPicPr/>
          <p:nvPr/>
        </p:nvPicPr>
        <p:blipFill>
          <a:blip r:embed="rId1"/>
          <a:stretch/>
        </p:blipFill>
        <p:spPr>
          <a:xfrm>
            <a:off x="990720" y="1295280"/>
            <a:ext cx="7143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20:42:21Z</dcterms:created>
  <dc:creator>meyadat</dc:creator>
  <dc:description/>
  <dc:language>en-US</dc:language>
  <cp:lastModifiedBy>User</cp:lastModifiedBy>
  <dcterms:modified xsi:type="dcterms:W3CDTF">2016-01-23T17:47:19Z</dcterms:modified>
  <cp:revision>18</cp:revision>
  <dc:subject/>
  <dc:title>Network Topolog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F0F80E32A91A04FBCBF0F33924102D3</vt:lpwstr>
  </property>
</Properties>
</file>