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png" ContentType="image/png"/>
  <Override PartName="/ppt/media/image12.wmf" ContentType="image/x-wmf"/>
  <Override PartName="/ppt/media/image8.png" ContentType="image/png"/>
  <Override PartName="/ppt/media/image16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7AF6B-65F6-4F15-90C5-7996FBD0602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946A2-3185-4FFE-9F9C-A577B86F4E2E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0BE84-0D0C-4992-84F2-F4DA8C6D193E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21A07-501A-42D6-BC78-7926A87CCCCC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0B565-E51C-44FC-89CB-9B75C8072AD7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EAF71-F156-4D43-A302-3100BF6EE4B0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6E9D8-2D8D-4850-954B-487EE3A2293C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EC3CC-0708-4601-AF37-A1CE4B2C0AD6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8DDE1-8E8A-47C4-92C0-EEF01AFF1FB8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2ACE6-A85F-4440-A53F-8A93A668B17A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AB7B9-B07E-445A-9C32-3F934F7E09C7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9A03D-15A9-490A-92B7-0AD4831B7E3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E2DDE-73EF-4B5C-A675-E8C6B4D7B8E4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13E79-9E47-4EB0-92C5-302F58679D4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6E6DF-2D94-4E72-8CC7-6F99BFEA4F62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16270-A656-4150-8914-5EB8138DCA3A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7197B-946A-4E5A-A70B-C85B8348DF17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4BB4B-DEA5-416A-A890-734F90272BC4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A79D7-EF24-4E77-8504-9811F5630C69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A78A8-C736-4791-AF58-25697F5A4D1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B123B-5E13-446E-B84A-8E11C8FBB4F5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78835-6C5C-484C-B569-15238B69086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40C02-C8BD-4325-AAA4-1E1F0F8FD806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33FF6-F726-4313-AF45-90478F63A9D0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2F448-427A-42E4-9393-8E3A538864AE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609480" y="990720"/>
            <a:ext cx="8153640" cy="52578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28600" y="146160"/>
            <a:ext cx="2209680" cy="68580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ffb727"/>
              </a:gs>
              <a:gs pos="100000">
                <a:srgbClr val="996633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1"/>
          <p:cNvSpPr/>
          <p:nvPr/>
        </p:nvSpPr>
        <p:spPr>
          <a:xfrm>
            <a:off x="304920" y="1522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hapter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52280" y="64771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Principles of Electric Circuits, Conventional Flow,  9</a:t>
            </a:r>
            <a:r>
              <a:rPr b="0" i="1" lang="en-US" sz="1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Floy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095880" y="64771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0 Pearson Higher Education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Upper Saddle River, NJ 07458. • All Rights Reserv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9"/>
          <p:cNvSpPr/>
          <p:nvPr/>
        </p:nvSpPr>
        <p:spPr>
          <a:xfrm>
            <a:off x="533520" y="914400"/>
            <a:ext cx="8153280" cy="54864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228600" y="146160"/>
            <a:ext cx="2209680" cy="68580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ffb727"/>
              </a:gs>
              <a:gs pos="100000">
                <a:srgbClr val="996633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304920" y="1522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hapter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64771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Principles of Electric Circuits, Conventional Flow,  9</a:t>
            </a:r>
            <a:r>
              <a:rPr b="0" i="1" lang="en-US" sz="1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Floy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5880" y="64771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0 Pearson Higher Education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Upper Saddle River, NJ 07458. • All Rights Reserv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9"/>
          <p:cNvSpPr/>
          <p:nvPr/>
        </p:nvSpPr>
        <p:spPr>
          <a:xfrm>
            <a:off x="609480" y="990720"/>
            <a:ext cx="8153640" cy="52578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228600" y="146160"/>
            <a:ext cx="2209680" cy="68580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ffb727"/>
              </a:gs>
              <a:gs pos="100000">
                <a:srgbClr val="996633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1"/>
          <p:cNvSpPr/>
          <p:nvPr/>
        </p:nvSpPr>
        <p:spPr>
          <a:xfrm>
            <a:off x="304920" y="1522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hapter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64771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Principles of Electric Circuits, Conventional Flow,  9</a:t>
            </a:r>
            <a:r>
              <a:rPr b="0" i="1" lang="en-US" sz="1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Floy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5880" y="64771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.Elsarnagawy, mde 207-3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4.wmf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image" Target="../media/image8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127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7" descr=""/>
          <p:cNvPicPr/>
          <p:nvPr/>
        </p:nvPicPr>
        <p:blipFill>
          <a:blip r:embed="rId2"/>
          <a:stretch/>
        </p:blipFill>
        <p:spPr>
          <a:xfrm>
            <a:off x="1447920" y="533520"/>
            <a:ext cx="5790960" cy="4705200"/>
          </a:xfrm>
          <a:prstGeom prst="rect">
            <a:avLst/>
          </a:prstGeom>
          <a:ln w="0">
            <a:noFill/>
          </a:ln>
        </p:spPr>
      </p:pic>
      <p:sp>
        <p:nvSpPr>
          <p:cNvPr id="143" name="WordArt 10"/>
          <p:cNvSpPr txBox="1"/>
          <p:nvPr/>
        </p:nvSpPr>
        <p:spPr>
          <a:xfrm>
            <a:off x="5029200" y="5257800"/>
            <a:ext cx="1905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50000">
                      <a:srgbClr val="ffff00"/>
                    </a:gs>
                    <a:gs pos="100000">
                      <a:srgbClr val="ff99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hapter 2</a:t>
            </a:r>
            <a:endParaRPr b="0" lang="en-US" sz="2400" spc="1" strike="noStrike">
              <a:ln w="936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3"/>
          <p:cNvSpPr/>
          <p:nvPr/>
        </p:nvSpPr>
        <p:spPr>
          <a:xfrm>
            <a:off x="1219320" y="1371600"/>
            <a:ext cx="167616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10"/>
          <p:cNvSpPr/>
          <p:nvPr/>
        </p:nvSpPr>
        <p:spPr>
          <a:xfrm>
            <a:off x="1295280" y="144792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tt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Box 7"/>
          <p:cNvSpPr/>
          <p:nvPr/>
        </p:nvSpPr>
        <p:spPr>
          <a:xfrm>
            <a:off x="1219320" y="213372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tteries d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ore charge – they store chemical energy that can be converted to current when an external path is provided to allow the chemical reaction to proc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3886200" y="4267080"/>
          <a:ext cx="1981080" cy="1571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86200" y="4267080"/>
                    <a:ext cx="1981080" cy="15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1295280" y="327672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her than saying “charging” a battery, it is more accurate to say “reversing the chemical reaction” in a batte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3"/>
          <p:cNvSpPr/>
          <p:nvPr/>
        </p:nvSpPr>
        <p:spPr>
          <a:xfrm>
            <a:off x="1219320" y="1371600"/>
            <a:ext cx="7086600" cy="11430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1371600" y="144792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rrent 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is the amount of charge 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that flows past a point in a unit of time 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Object 5"/>
          <p:cNvGraphicFramePr/>
          <p:nvPr/>
        </p:nvGraphicFramePr>
        <p:xfrm>
          <a:off x="3390840" y="2666880"/>
          <a:ext cx="609840" cy="590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0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90840" y="2666880"/>
                    <a:ext cx="609840" cy="5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Text Box 6"/>
          <p:cNvSpPr/>
          <p:nvPr/>
        </p:nvSpPr>
        <p:spPr>
          <a:xfrm>
            <a:off x="1219320" y="3352680"/>
            <a:ext cx="693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ampere is a number of electrons having a total charge of 1 C move through a given cross section in 1 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Group 26" descr=""/>
          <p:cNvPicPr/>
          <p:nvPr/>
        </p:nvPicPr>
        <p:blipFill>
          <a:blip r:embed="rId4"/>
          <a:stretch/>
        </p:blipFill>
        <p:spPr>
          <a:xfrm>
            <a:off x="609480" y="4267080"/>
            <a:ext cx="8182080" cy="866880"/>
          </a:xfrm>
          <a:prstGeom prst="rect">
            <a:avLst/>
          </a:prstGeom>
          <a:ln w="0">
            <a:noFill/>
          </a:ln>
        </p:spPr>
      </p:pic>
      <p:sp>
        <p:nvSpPr>
          <p:cNvPr id="223" name="Oval 11"/>
          <p:cNvSpPr/>
          <p:nvPr/>
        </p:nvSpPr>
        <p:spPr>
          <a:xfrm>
            <a:off x="9829800" y="4419720"/>
            <a:ext cx="76320" cy="7596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Oval 12"/>
          <p:cNvSpPr/>
          <p:nvPr/>
        </p:nvSpPr>
        <p:spPr>
          <a:xfrm>
            <a:off x="9601200" y="4724280"/>
            <a:ext cx="76320" cy="7632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Oval 13"/>
          <p:cNvSpPr/>
          <p:nvPr/>
        </p:nvSpPr>
        <p:spPr>
          <a:xfrm>
            <a:off x="9296280" y="4419720"/>
            <a:ext cx="76320" cy="7596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Oval 14"/>
          <p:cNvSpPr/>
          <p:nvPr/>
        </p:nvSpPr>
        <p:spPr>
          <a:xfrm>
            <a:off x="9448920" y="4267080"/>
            <a:ext cx="75960" cy="7632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Oval 15"/>
          <p:cNvSpPr/>
          <p:nvPr/>
        </p:nvSpPr>
        <p:spPr>
          <a:xfrm>
            <a:off x="9448920" y="4800600"/>
            <a:ext cx="75960" cy="7632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Oval 16"/>
          <p:cNvSpPr/>
          <p:nvPr/>
        </p:nvSpPr>
        <p:spPr>
          <a:xfrm>
            <a:off x="9296280" y="4572000"/>
            <a:ext cx="76320" cy="7632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Oval 17"/>
          <p:cNvSpPr/>
          <p:nvPr/>
        </p:nvSpPr>
        <p:spPr>
          <a:xfrm>
            <a:off x="9906120" y="4800600"/>
            <a:ext cx="75960" cy="7632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Oval 19"/>
          <p:cNvSpPr/>
          <p:nvPr/>
        </p:nvSpPr>
        <p:spPr>
          <a:xfrm>
            <a:off x="9524880" y="4724280"/>
            <a:ext cx="76320" cy="7632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Oval 20"/>
          <p:cNvSpPr/>
          <p:nvPr/>
        </p:nvSpPr>
        <p:spPr>
          <a:xfrm>
            <a:off x="9753480" y="4876920"/>
            <a:ext cx="76320" cy="7596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Oval 22"/>
          <p:cNvSpPr/>
          <p:nvPr/>
        </p:nvSpPr>
        <p:spPr>
          <a:xfrm>
            <a:off x="9753480" y="4572000"/>
            <a:ext cx="76320" cy="7632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Oval 23"/>
          <p:cNvSpPr/>
          <p:nvPr/>
        </p:nvSpPr>
        <p:spPr>
          <a:xfrm>
            <a:off x="9906120" y="4648320"/>
            <a:ext cx="75960" cy="7596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Group 27"/>
          <p:cNvGrpSpPr/>
          <p:nvPr/>
        </p:nvGrpSpPr>
        <p:grpSpPr>
          <a:xfrm>
            <a:off x="9372600" y="4724280"/>
            <a:ext cx="228600" cy="152640"/>
            <a:chOff x="9372600" y="4724280"/>
            <a:chExt cx="228600" cy="152640"/>
          </a:xfrm>
        </p:grpSpPr>
        <p:sp>
          <p:nvSpPr>
            <p:cNvPr id="235" name="Oval 21"/>
            <p:cNvSpPr/>
            <p:nvPr/>
          </p:nvSpPr>
          <p:spPr>
            <a:xfrm>
              <a:off x="9524880" y="4724280"/>
              <a:ext cx="76320" cy="763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Oval 24"/>
            <p:cNvSpPr/>
            <p:nvPr/>
          </p:nvSpPr>
          <p:spPr>
            <a:xfrm>
              <a:off x="9372600" y="4800600"/>
              <a:ext cx="75960" cy="763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Oval 25"/>
          <p:cNvSpPr/>
          <p:nvPr/>
        </p:nvSpPr>
        <p:spPr>
          <a:xfrm>
            <a:off x="9753480" y="4343400"/>
            <a:ext cx="76320" cy="7632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WordArt 28"/>
          <p:cNvSpPr txBox="1"/>
          <p:nvPr/>
        </p:nvSpPr>
        <p:spPr>
          <a:xfrm>
            <a:off x="609480" y="4952880"/>
            <a:ext cx="134316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Question: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9" name="Text Box 29"/>
          <p:cNvSpPr/>
          <p:nvPr/>
        </p:nvSpPr>
        <p:spPr>
          <a:xfrm>
            <a:off x="7010280" y="54864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.4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30"/>
          <p:cNvSpPr/>
          <p:nvPr/>
        </p:nvSpPr>
        <p:spPr>
          <a:xfrm>
            <a:off x="990720" y="54864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current if 2 C passes a point in 5 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Oval 11"/>
          <p:cNvSpPr/>
          <p:nvPr/>
        </p:nvSpPr>
        <p:spPr>
          <a:xfrm>
            <a:off x="9982080" y="4572000"/>
            <a:ext cx="76320" cy="7632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500"/>
                            </p:stCondLst>
                            <p:childTnLst>
                              <p:par>
                                <p:cTn id="1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4500"/>
                            </p:stCondLst>
                            <p:childTnLst>
                              <p:par>
                                <p:cTn id="2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0"/>
                            </p:stCondLst>
                            <p:childTnLst>
                              <p:par>
                                <p:cTn id="2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500"/>
                            </p:stCondLst>
                            <p:childTnLst>
                              <p:par>
                                <p:cTn id="2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3"/>
          <p:cNvSpPr/>
          <p:nvPr/>
        </p:nvSpPr>
        <p:spPr>
          <a:xfrm>
            <a:off x="1219320" y="1371600"/>
            <a:ext cx="601956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1371600" y="144792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istance is the opposition to current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1219320" y="2209680"/>
            <a:ext cx="693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ohm (1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is the resistance if one ampere (1 A) is in a material when one volt (1 V) is applie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Group 30"/>
          <p:cNvGrpSpPr/>
          <p:nvPr/>
        </p:nvGrpSpPr>
        <p:grpSpPr>
          <a:xfrm>
            <a:off x="1219320" y="2955960"/>
            <a:ext cx="6933960" cy="1139760"/>
            <a:chOff x="1219320" y="2955960"/>
            <a:chExt cx="6933960" cy="1139760"/>
          </a:xfrm>
        </p:grpSpPr>
        <p:sp>
          <p:nvSpPr>
            <p:cNvPr id="246" name="Text Box 28"/>
            <p:cNvSpPr/>
            <p:nvPr/>
          </p:nvSpPr>
          <p:spPr>
            <a:xfrm>
              <a:off x="1219320" y="2955960"/>
              <a:ext cx="6933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ductance is the reciprocal of resistance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47" name="Object 29"/>
            <p:cNvGraphicFramePr/>
            <p:nvPr/>
          </p:nvGraphicFramePr>
          <p:xfrm>
            <a:off x="3486240" y="3505320"/>
            <a:ext cx="647640" cy="590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48" name="Object 29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486240" y="3505320"/>
                      <a:ext cx="647640" cy="59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49" name="Text Box 31"/>
          <p:cNvSpPr/>
          <p:nvPr/>
        </p:nvSpPr>
        <p:spPr>
          <a:xfrm>
            <a:off x="1219320" y="4114800"/>
            <a:ext cx="693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onents designed to have a specific amount of resistance are call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sisto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0" name="Object 32"/>
          <p:cNvGraphicFramePr/>
          <p:nvPr/>
        </p:nvGraphicFramePr>
        <p:xfrm>
          <a:off x="2819520" y="4591080"/>
          <a:ext cx="3200400" cy="1428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1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19520" y="4591080"/>
                    <a:ext cx="320040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WordArt 6"/>
          <p:cNvSpPr txBox="1"/>
          <p:nvPr/>
        </p:nvSpPr>
        <p:spPr>
          <a:xfrm>
            <a:off x="1295280" y="1600200"/>
            <a:ext cx="1219320" cy="7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Question</a:t>
            </a:r>
            <a:endParaRPr b="0" lang="en-US" sz="32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2590920" y="160020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resistance and tolerance of each of the four-band resisto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4" name="Object 8"/>
          <p:cNvGraphicFramePr/>
          <p:nvPr/>
        </p:nvGraphicFramePr>
        <p:xfrm>
          <a:off x="2819520" y="2743200"/>
          <a:ext cx="1547640" cy="198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5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2743200"/>
                    <a:ext cx="154764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Text Box 9"/>
          <p:cNvSpPr/>
          <p:nvPr/>
        </p:nvSpPr>
        <p:spPr>
          <a:xfrm>
            <a:off x="4572000" y="2590920"/>
            <a:ext cx="22096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5.1 k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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±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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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±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47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± 1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.0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±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1219320" y="1371600"/>
            <a:ext cx="7238880" cy="16002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1371600" y="1447920"/>
            <a:ext cx="7010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riable resistors include the potentiometer and rheostat. A potentiometer can be connected as a rheosta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9" name="Object 11"/>
          <p:cNvGraphicFramePr/>
          <p:nvPr/>
        </p:nvGraphicFramePr>
        <p:xfrm>
          <a:off x="1371600" y="3886200"/>
          <a:ext cx="5045040" cy="1515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0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3886200"/>
                    <a:ext cx="5045040" cy="15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Text Box 13"/>
          <p:cNvSpPr/>
          <p:nvPr/>
        </p:nvSpPr>
        <p:spPr>
          <a:xfrm>
            <a:off x="1219320" y="3124080"/>
            <a:ext cx="487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enter terminal is connected to the wip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14"/>
          <p:cNvSpPr/>
          <p:nvPr/>
        </p:nvSpPr>
        <p:spPr>
          <a:xfrm flipH="1">
            <a:off x="4876560" y="3505320"/>
            <a:ext cx="6094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3" name="Object 19"/>
          <p:cNvGraphicFramePr/>
          <p:nvPr/>
        </p:nvGraphicFramePr>
        <p:xfrm>
          <a:off x="6705720" y="3124080"/>
          <a:ext cx="1176120" cy="2895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4" name="Object 1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705720" y="3124080"/>
                    <a:ext cx="1176120" cy="28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1219320" y="1371600"/>
            <a:ext cx="7162560" cy="243828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1371600" y="1447920"/>
            <a:ext cx="701028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basic circuit consist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voltage source, 2) a path and 3) a loa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example of a basic circuit is the flashlight, which has each of the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Group 14"/>
          <p:cNvGrpSpPr/>
          <p:nvPr/>
        </p:nvGrpSpPr>
        <p:grpSpPr>
          <a:xfrm>
            <a:off x="1905120" y="4440240"/>
            <a:ext cx="5670360" cy="1579680"/>
            <a:chOff x="1905120" y="4440240"/>
            <a:chExt cx="5670360" cy="1579680"/>
          </a:xfrm>
        </p:grpSpPr>
        <p:graphicFrame>
          <p:nvGraphicFramePr>
            <p:cNvPr id="268" name="Object 8"/>
            <p:cNvGraphicFramePr/>
            <p:nvPr/>
          </p:nvGraphicFramePr>
          <p:xfrm>
            <a:off x="2743200" y="4440240"/>
            <a:ext cx="4832280" cy="15796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69" name="Object 8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743200" y="4440240"/>
                      <a:ext cx="4832280" cy="157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0" name="Line 9"/>
            <p:cNvSpPr/>
            <p:nvPr/>
          </p:nvSpPr>
          <p:spPr>
            <a:xfrm flipH="1" flipV="1">
              <a:off x="1905120" y="4592520"/>
              <a:ext cx="1218960" cy="152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10"/>
            <p:cNvSpPr/>
            <p:nvPr/>
          </p:nvSpPr>
          <p:spPr>
            <a:xfrm flipH="1" flipV="1">
              <a:off x="2438280" y="5049720"/>
              <a:ext cx="914400" cy="76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11"/>
            <p:cNvSpPr/>
            <p:nvPr/>
          </p:nvSpPr>
          <p:spPr>
            <a:xfrm flipH="1">
              <a:off x="2209320" y="5354640"/>
              <a:ext cx="1143000" cy="76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12"/>
            <p:cNvSpPr/>
            <p:nvPr/>
          </p:nvSpPr>
          <p:spPr>
            <a:xfrm flipH="1">
              <a:off x="1980720" y="5735520"/>
              <a:ext cx="1143000" cy="152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3"/>
          <p:cNvSpPr/>
          <p:nvPr/>
        </p:nvSpPr>
        <p:spPr>
          <a:xfrm>
            <a:off x="1219320" y="1371600"/>
            <a:ext cx="3352680" cy="449568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1371600" y="1447920"/>
            <a:ext cx="28954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mportant multipurpose instrument is the DMM, which can measure voltage, current, and resistance. Many include other measurement op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6" name="Object 11"/>
          <p:cNvGraphicFramePr/>
          <p:nvPr/>
        </p:nvGraphicFramePr>
        <p:xfrm>
          <a:off x="4191120" y="2057400"/>
          <a:ext cx="4440240" cy="3373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7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91120" y="2057400"/>
                    <a:ext cx="4440240" cy="33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12"/>
          <p:cNvSpPr/>
          <p:nvPr/>
        </p:nvSpPr>
        <p:spPr>
          <a:xfrm>
            <a:off x="1600200" y="144792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13"/>
          <p:cNvSpPr/>
          <p:nvPr/>
        </p:nvSpPr>
        <p:spPr>
          <a:xfrm>
            <a:off x="228600" y="1371600"/>
            <a:ext cx="2209680" cy="33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Amp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AW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Ch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Circ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14"/>
          <p:cNvSpPr/>
          <p:nvPr/>
        </p:nvSpPr>
        <p:spPr>
          <a:xfrm>
            <a:off x="2438280" y="137160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he unit of electrical cur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15"/>
          <p:cNvSpPr/>
          <p:nvPr/>
        </p:nvSpPr>
        <p:spPr>
          <a:xfrm>
            <a:off x="2438280" y="198108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merican Wire Gauge) A standardization based on wire dia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16"/>
          <p:cNvSpPr/>
          <p:nvPr/>
        </p:nvSpPr>
        <p:spPr>
          <a:xfrm>
            <a:off x="2438280" y="281952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electrical property of matter that exists because of an excess or a deficiency of electrons. Charge can be either + 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18"/>
          <p:cNvSpPr/>
          <p:nvPr/>
        </p:nvSpPr>
        <p:spPr>
          <a:xfrm>
            <a:off x="2438280" y="4267080"/>
            <a:ext cx="6096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 interconnection of electronic components designed to produce a desired result. A basic circuit consists of a source, a load, and an interconnecting pa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2"/>
          <p:cNvSpPr/>
          <p:nvPr/>
        </p:nvSpPr>
        <p:spPr>
          <a:xfrm>
            <a:off x="2743200" y="457200"/>
            <a:ext cx="441972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lected Key Ter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newsflash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3"/>
          <p:cNvSpPr/>
          <p:nvPr/>
        </p:nvSpPr>
        <p:spPr>
          <a:xfrm>
            <a:off x="1600200" y="137160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228600" y="1295280"/>
            <a:ext cx="22096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Conduc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Coulo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Cur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Elect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G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Ohm (</a:t>
            </a:r>
            <a:r>
              <a:rPr b="1" lang="en-US" sz="2400" spc="-1" strike="noStrike">
                <a:solidFill>
                  <a:srgbClr val="cc3300"/>
                </a:solidFill>
                <a:latin typeface="Symbol"/>
                <a:ea typeface="Symbol"/>
              </a:rPr>
              <a:t>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2438280" y="1295280"/>
            <a:ext cx="632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he ability of a circuit to allow current. The unit is the siemans (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2438280" y="23623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nit of electrical char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7"/>
          <p:cNvSpPr/>
          <p:nvPr/>
        </p:nvSpPr>
        <p:spPr>
          <a:xfrm>
            <a:off x="2438280" y="30798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ate of flow of electrical char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8"/>
          <p:cNvSpPr/>
          <p:nvPr/>
        </p:nvSpPr>
        <p:spPr>
          <a:xfrm>
            <a:off x="2438280" y="3886200"/>
            <a:ext cx="609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basic particle of electrical charge in matter. The electron possesses a negative char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9"/>
          <p:cNvSpPr/>
          <p:nvPr/>
        </p:nvSpPr>
        <p:spPr>
          <a:xfrm>
            <a:off x="2743200" y="457200"/>
            <a:ext cx="441972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ed Key Ter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10"/>
          <p:cNvSpPr/>
          <p:nvPr/>
        </p:nvSpPr>
        <p:spPr>
          <a:xfrm>
            <a:off x="2438280" y="495288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mmon or reference point in a circu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11"/>
          <p:cNvSpPr/>
          <p:nvPr/>
        </p:nvSpPr>
        <p:spPr>
          <a:xfrm>
            <a:off x="2514600" y="56386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it of resist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3"/>
          <p:cNvSpPr/>
          <p:nvPr/>
        </p:nvSpPr>
        <p:spPr>
          <a:xfrm>
            <a:off x="1676520" y="144792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304920" y="1371600"/>
            <a:ext cx="22096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Potentio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Re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Rheost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Siem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Vo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Vol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2514600" y="13716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three-terminal variable resis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7"/>
          <p:cNvSpPr/>
          <p:nvPr/>
        </p:nvSpPr>
        <p:spPr>
          <a:xfrm>
            <a:off x="2514600" y="20574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pposition to current. The unit is the ohm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2514600" y="281952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two-terminal variable resis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"/>
          <p:cNvSpPr/>
          <p:nvPr/>
        </p:nvSpPr>
        <p:spPr>
          <a:xfrm>
            <a:off x="2743200" y="457200"/>
            <a:ext cx="441972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lected Key Ter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10"/>
          <p:cNvSpPr/>
          <p:nvPr/>
        </p:nvSpPr>
        <p:spPr>
          <a:xfrm>
            <a:off x="2514600" y="350532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nit of conduc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11"/>
          <p:cNvSpPr/>
          <p:nvPr/>
        </p:nvSpPr>
        <p:spPr>
          <a:xfrm>
            <a:off x="2514600" y="42670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nit of voltage or electromotive for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12"/>
          <p:cNvSpPr/>
          <p:nvPr/>
        </p:nvSpPr>
        <p:spPr>
          <a:xfrm>
            <a:off x="2514600" y="502920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mount of energy per charge available to move electrons from one point to another in an electric circu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4"/>
          <p:cNvSpPr/>
          <p:nvPr/>
        </p:nvSpPr>
        <p:spPr>
          <a:xfrm>
            <a:off x="762120" y="1295280"/>
            <a:ext cx="7086600" cy="60984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5"/>
          <p:cNvSpPr/>
          <p:nvPr/>
        </p:nvSpPr>
        <p:spPr>
          <a:xfrm>
            <a:off x="838080" y="13716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Bohr atom is a tool for visualizing atomic structu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838080" y="2057400"/>
            <a:ext cx="4038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ucleus is positively charged and has the protons and neutr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Object 22"/>
          <p:cNvGraphicFramePr/>
          <p:nvPr/>
        </p:nvGraphicFramePr>
        <p:xfrm>
          <a:off x="4462560" y="1828800"/>
          <a:ext cx="3919320" cy="426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8" name="Object 2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62560" y="1828800"/>
                    <a:ext cx="391932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Line 20"/>
          <p:cNvSpPr/>
          <p:nvPr/>
        </p:nvSpPr>
        <p:spPr>
          <a:xfrm>
            <a:off x="4267080" y="2362320"/>
            <a:ext cx="217656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21"/>
          <p:cNvSpPr/>
          <p:nvPr/>
        </p:nvSpPr>
        <p:spPr>
          <a:xfrm>
            <a:off x="3962520" y="3429000"/>
            <a:ext cx="22525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23"/>
          <p:cNvSpPr/>
          <p:nvPr/>
        </p:nvSpPr>
        <p:spPr>
          <a:xfrm>
            <a:off x="838080" y="3657600"/>
            <a:ext cx="3733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atomic number is the number of protons and determines the particular el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4"/>
          <p:cNvSpPr/>
          <p:nvPr/>
        </p:nvSpPr>
        <p:spPr>
          <a:xfrm>
            <a:off x="838080" y="4724280"/>
            <a:ext cx="358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the neutral atom, the number of electrons is equal to the number of proton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5"/>
          <p:cNvSpPr/>
          <p:nvPr/>
        </p:nvSpPr>
        <p:spPr>
          <a:xfrm>
            <a:off x="838080" y="2819520"/>
            <a:ext cx="3353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ctrons are negatively charged and in discrete shel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10"/>
          <p:cNvSpPr/>
          <p:nvPr/>
        </p:nvSpPr>
        <p:spPr>
          <a:xfrm>
            <a:off x="609480" y="990720"/>
            <a:ext cx="8153640" cy="5257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9"/>
          <p:cNvSpPr/>
          <p:nvPr/>
        </p:nvSpPr>
        <p:spPr>
          <a:xfrm>
            <a:off x="3886200" y="457200"/>
            <a:ext cx="144792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12"/>
          <p:cNvSpPr/>
          <p:nvPr/>
        </p:nvSpPr>
        <p:spPr>
          <a:xfrm>
            <a:off x="914400" y="2057400"/>
            <a:ext cx="74674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The atomic number is the number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protons in the 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neutrons in the 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protons plus neutrons in the 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electrons in the outer sh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2"/>
          <p:cNvSpPr/>
          <p:nvPr/>
        </p:nvSpPr>
        <p:spPr>
          <a:xfrm>
            <a:off x="609480" y="990720"/>
            <a:ext cx="8153640" cy="5257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3886200" y="457200"/>
            <a:ext cx="144792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5"/>
          <p:cNvSpPr/>
          <p:nvPr/>
        </p:nvSpPr>
        <p:spPr>
          <a:xfrm>
            <a:off x="914400" y="2057400"/>
            <a:ext cx="74674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Valence electron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in the outer sh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involved in chemical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relatively loosely b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all of the ab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2"/>
          <p:cNvSpPr/>
          <p:nvPr/>
        </p:nvSpPr>
        <p:spPr>
          <a:xfrm>
            <a:off x="609480" y="990720"/>
            <a:ext cx="8153640" cy="5257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3"/>
          <p:cNvSpPr/>
          <p:nvPr/>
        </p:nvSpPr>
        <p:spPr>
          <a:xfrm>
            <a:off x="3886200" y="457200"/>
            <a:ext cx="144792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5"/>
          <p:cNvSpPr/>
          <p:nvPr/>
        </p:nvSpPr>
        <p:spPr>
          <a:xfrm>
            <a:off x="914400" y="2057400"/>
            <a:ext cx="73152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The atomic particle responsible for electrical current in solid metallic conductors is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pro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elect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neut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all of the ab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609480" y="990720"/>
            <a:ext cx="8153640" cy="5257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3886200" y="457200"/>
            <a:ext cx="144792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914400" y="2057400"/>
            <a:ext cx="73152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The symbol for charge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2"/>
          <p:cNvSpPr/>
          <p:nvPr/>
        </p:nvSpPr>
        <p:spPr>
          <a:xfrm>
            <a:off x="609480" y="990720"/>
            <a:ext cx="8153640" cy="5257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3886200" y="457200"/>
            <a:ext cx="144792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914400" y="2057400"/>
            <a:ext cx="731520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The definition for voltage i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8" name="Object 7"/>
          <p:cNvGraphicFramePr/>
          <p:nvPr/>
        </p:nvGraphicFramePr>
        <p:xfrm>
          <a:off x="2286000" y="2428920"/>
          <a:ext cx="762120" cy="69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9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0" y="2428920"/>
                    <a:ext cx="76212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" name="Object 8"/>
          <p:cNvGraphicFramePr/>
          <p:nvPr/>
        </p:nvGraphicFramePr>
        <p:xfrm>
          <a:off x="2251080" y="3276720"/>
          <a:ext cx="797040" cy="687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21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51080" y="3276720"/>
                    <a:ext cx="79704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Object 9"/>
          <p:cNvGraphicFramePr/>
          <p:nvPr/>
        </p:nvGraphicFramePr>
        <p:xfrm>
          <a:off x="2268360" y="4114800"/>
          <a:ext cx="855720" cy="784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23" name="Object 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68360" y="4114800"/>
                    <a:ext cx="855720" cy="78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Object 10"/>
          <p:cNvGraphicFramePr/>
          <p:nvPr/>
        </p:nvGraphicFramePr>
        <p:xfrm>
          <a:off x="2286000" y="5119560"/>
          <a:ext cx="838080" cy="3668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25" name="Object 1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286000" y="5119560"/>
                    <a:ext cx="83808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609480" y="990720"/>
            <a:ext cx="8153640" cy="5257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3"/>
          <p:cNvSpPr/>
          <p:nvPr/>
        </p:nvSpPr>
        <p:spPr>
          <a:xfrm>
            <a:off x="3886200" y="457200"/>
            <a:ext cx="144792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1447920" y="182880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7"/>
          <p:cNvSpPr/>
          <p:nvPr/>
        </p:nvSpPr>
        <p:spPr>
          <a:xfrm>
            <a:off x="914400" y="2057400"/>
            <a:ext cx="59436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 A battery s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electr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prot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chemical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609480" y="990720"/>
            <a:ext cx="8153640" cy="5257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3"/>
          <p:cNvSpPr/>
          <p:nvPr/>
        </p:nvSpPr>
        <p:spPr>
          <a:xfrm>
            <a:off x="3886200" y="457200"/>
            <a:ext cx="144792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7"/>
          <p:cNvSpPr/>
          <p:nvPr/>
        </p:nvSpPr>
        <p:spPr>
          <a:xfrm>
            <a:off x="914400" y="2057400"/>
            <a:ext cx="73152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 The unit of conductance is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oh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coulom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siem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amp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2"/>
          <p:cNvSpPr/>
          <p:nvPr/>
        </p:nvSpPr>
        <p:spPr>
          <a:xfrm>
            <a:off x="609480" y="990720"/>
            <a:ext cx="8153640" cy="5257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3"/>
          <p:cNvSpPr/>
          <p:nvPr/>
        </p:nvSpPr>
        <p:spPr>
          <a:xfrm>
            <a:off x="3886200" y="457200"/>
            <a:ext cx="144792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6"/>
          <p:cNvSpPr/>
          <p:nvPr/>
        </p:nvSpPr>
        <p:spPr>
          <a:xfrm>
            <a:off x="3200400" y="1981080"/>
            <a:ext cx="2819520" cy="3429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3657600" y="2057400"/>
            <a:ext cx="18288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4800600" y="2590920"/>
            <a:ext cx="17524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 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 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. 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.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2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7"/>
          <p:cNvSpPr/>
          <p:nvPr/>
        </p:nvSpPr>
        <p:spPr>
          <a:xfrm>
            <a:off x="762120" y="1295280"/>
            <a:ext cx="784836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8"/>
          <p:cNvSpPr/>
          <p:nvPr/>
        </p:nvSpPr>
        <p:spPr>
          <a:xfrm>
            <a:off x="838080" y="137160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uter shell is called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ence she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Electrons in this shell are involved in chemical reactions and in metals they account for electrical and thermal conductiv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Object 30"/>
          <p:cNvGraphicFramePr/>
          <p:nvPr/>
        </p:nvGraphicFramePr>
        <p:xfrm>
          <a:off x="4495680" y="2743200"/>
          <a:ext cx="3733920" cy="3295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7" name="Object 3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95680" y="2743200"/>
                    <a:ext cx="3733920" cy="329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Text Box 31"/>
          <p:cNvSpPr/>
          <p:nvPr/>
        </p:nvSpPr>
        <p:spPr>
          <a:xfrm>
            <a:off x="838080" y="2819520"/>
            <a:ext cx="358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eutral Si atom is shown. There are 4 electrons in the valence sh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WordArt 32"/>
          <p:cNvSpPr txBox="1"/>
          <p:nvPr/>
        </p:nvSpPr>
        <p:spPr>
          <a:xfrm>
            <a:off x="838080" y="4038480"/>
            <a:ext cx="134316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Question: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0" name="Text Box 33"/>
          <p:cNvSpPr/>
          <p:nvPr/>
        </p:nvSpPr>
        <p:spPr>
          <a:xfrm>
            <a:off x="914400" y="464832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Si a conductor, insulator, or semiconductor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34"/>
          <p:cNvSpPr/>
          <p:nvPr/>
        </p:nvSpPr>
        <p:spPr>
          <a:xfrm>
            <a:off x="914400" y="54864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micond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0"/>
          <p:cNvSpPr/>
          <p:nvPr/>
        </p:nvSpPr>
        <p:spPr>
          <a:xfrm>
            <a:off x="2590920" y="4267080"/>
            <a:ext cx="4190760" cy="129564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1219320" y="1371600"/>
            <a:ext cx="7086600" cy="11430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2"/>
          <p:cNvSpPr/>
          <p:nvPr/>
        </p:nvSpPr>
        <p:spPr>
          <a:xfrm>
            <a:off x="1371600" y="144792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is a force 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between charges. Like charges repel; unlike charges attra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3"/>
          <p:cNvSpPr/>
          <p:nvPr/>
        </p:nvSpPr>
        <p:spPr>
          <a:xfrm>
            <a:off x="1143000" y="281952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rce is directly proportional to char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rce is inversely proportional to square of distance (for point sourc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Object 14"/>
          <p:cNvGraphicFramePr/>
          <p:nvPr/>
        </p:nvGraphicFramePr>
        <p:xfrm>
          <a:off x="2895480" y="4419720"/>
          <a:ext cx="3543480" cy="1009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7" name="Object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95480" y="4419720"/>
                    <a:ext cx="3543480" cy="100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28"/>
          <p:cNvGrpSpPr/>
          <p:nvPr/>
        </p:nvGrpSpPr>
        <p:grpSpPr>
          <a:xfrm>
            <a:off x="6095880" y="2590920"/>
            <a:ext cx="2133360" cy="3352320"/>
            <a:chOff x="6095880" y="2590920"/>
            <a:chExt cx="2133360" cy="3352320"/>
          </a:xfrm>
        </p:grpSpPr>
        <p:sp>
          <p:nvSpPr>
            <p:cNvPr id="169" name="Line 16"/>
            <p:cNvSpPr/>
            <p:nvPr/>
          </p:nvSpPr>
          <p:spPr>
            <a:xfrm>
              <a:off x="6095880" y="2590920"/>
              <a:ext cx="21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17"/>
            <p:cNvSpPr/>
            <p:nvPr/>
          </p:nvSpPr>
          <p:spPr>
            <a:xfrm>
              <a:off x="6095880" y="2895480"/>
              <a:ext cx="21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18"/>
            <p:cNvSpPr/>
            <p:nvPr/>
          </p:nvSpPr>
          <p:spPr>
            <a:xfrm>
              <a:off x="6095880" y="3200400"/>
              <a:ext cx="21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19"/>
            <p:cNvSpPr/>
            <p:nvPr/>
          </p:nvSpPr>
          <p:spPr>
            <a:xfrm>
              <a:off x="6095880" y="3504960"/>
              <a:ext cx="21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20"/>
            <p:cNvSpPr/>
            <p:nvPr/>
          </p:nvSpPr>
          <p:spPr>
            <a:xfrm>
              <a:off x="6095880" y="3809880"/>
              <a:ext cx="21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Line 21"/>
            <p:cNvSpPr/>
            <p:nvPr/>
          </p:nvSpPr>
          <p:spPr>
            <a:xfrm>
              <a:off x="6095880" y="4114800"/>
              <a:ext cx="21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Line 22"/>
            <p:cNvSpPr/>
            <p:nvPr/>
          </p:nvSpPr>
          <p:spPr>
            <a:xfrm>
              <a:off x="6095880" y="4419360"/>
              <a:ext cx="21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Line 23"/>
            <p:cNvSpPr/>
            <p:nvPr/>
          </p:nvSpPr>
          <p:spPr>
            <a:xfrm>
              <a:off x="6095880" y="4724280"/>
              <a:ext cx="21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Line 24"/>
            <p:cNvSpPr/>
            <p:nvPr/>
          </p:nvSpPr>
          <p:spPr>
            <a:xfrm>
              <a:off x="6095880" y="5028840"/>
              <a:ext cx="21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Line 25"/>
            <p:cNvSpPr/>
            <p:nvPr/>
          </p:nvSpPr>
          <p:spPr>
            <a:xfrm>
              <a:off x="6095880" y="5333760"/>
              <a:ext cx="21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Line 26"/>
            <p:cNvSpPr/>
            <p:nvPr/>
          </p:nvSpPr>
          <p:spPr>
            <a:xfrm>
              <a:off x="6095880" y="5638680"/>
              <a:ext cx="21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>
              <a:off x="6095880" y="5943240"/>
              <a:ext cx="21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81" name="Object 30"/>
          <p:cNvGraphicFramePr/>
          <p:nvPr/>
        </p:nvGraphicFramePr>
        <p:xfrm>
          <a:off x="9144000" y="3657600"/>
          <a:ext cx="941400" cy="952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2" name="Object 3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0" y="3657600"/>
                    <a:ext cx="94140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Rectangle 32"/>
          <p:cNvSpPr/>
          <p:nvPr/>
        </p:nvSpPr>
        <p:spPr>
          <a:xfrm>
            <a:off x="609480" y="1066680"/>
            <a:ext cx="5410440" cy="51818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Object 8"/>
          <p:cNvGraphicFramePr/>
          <p:nvPr/>
        </p:nvGraphicFramePr>
        <p:xfrm>
          <a:off x="2743200" y="2743200"/>
          <a:ext cx="838080" cy="768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5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43200" y="2743200"/>
                    <a:ext cx="838080" cy="76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Text Box 9"/>
          <p:cNvSpPr/>
          <p:nvPr/>
        </p:nvSpPr>
        <p:spPr>
          <a:xfrm>
            <a:off x="1371600" y="350532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is done as a charge is moved in the electric field from one potential to anot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46"/>
          <p:cNvSpPr/>
          <p:nvPr/>
        </p:nvSpPr>
        <p:spPr>
          <a:xfrm>
            <a:off x="1295280" y="4724280"/>
            <a:ext cx="40388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tage is the work per charge done against the electric fiel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1219320" y="1371600"/>
            <a:ext cx="7086600" cy="11430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1371600" y="144792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oltage 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is the energy 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per charge 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; it is responsible for establishing cur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6"/>
          <a:stretch/>
        </p:blipFill>
        <p:spPr>
          <a:xfrm>
            <a:off x="8712360" y="3606840"/>
            <a:ext cx="48240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1" name="Object 14"/>
          <p:cNvGraphicFramePr/>
          <p:nvPr/>
        </p:nvGraphicFramePr>
        <p:xfrm>
          <a:off x="5627520" y="2438280"/>
          <a:ext cx="3135600" cy="3886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2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627520" y="2438280"/>
                    <a:ext cx="3135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3333 -1.11111E-006 L 8.33333E-007 -1.11111E-006 E">
                                      <p:cBhvr>
                                        <p:cTn id="79" dur="3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5"/>
          <p:cNvSpPr/>
          <p:nvPr/>
        </p:nvSpPr>
        <p:spPr>
          <a:xfrm>
            <a:off x="1219320" y="1371600"/>
            <a:ext cx="335268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1371600" y="14479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ition of volt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36"/>
          <p:cNvSpPr/>
          <p:nvPr/>
        </p:nvSpPr>
        <p:spPr>
          <a:xfrm>
            <a:off x="990720" y="3429000"/>
            <a:ext cx="7391160" cy="1191240"/>
          </a:xfrm>
          <a:prstGeom prst="rect">
            <a:avLst/>
          </a:prstGeom>
          <a:solidFill>
            <a:srgbClr val="ffc000"/>
          </a:solidFill>
          <a:ln w="9360">
            <a:solidFill>
              <a:srgbClr val="8e2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e volt is the potential difference (voltage) between two points when one joule of energy is used to move one coulomb of charge from one point to the 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6" name="Object 8"/>
          <p:cNvGraphicFramePr/>
          <p:nvPr/>
        </p:nvGraphicFramePr>
        <p:xfrm>
          <a:off x="2743200" y="2362320"/>
          <a:ext cx="838080" cy="768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7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43200" y="2362320"/>
                    <a:ext cx="838080" cy="76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132048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Example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d the potential difference between 2 points in electrical system if 60J of energy are expended by a charge of 20C between these two poi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olu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V=W/Q= 60J/20C= 3V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termine the energy expended moving a charge of 50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 through a potential difference of 6V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3300"/>
                </a:solidFill>
                <a:uFillTx/>
                <a:latin typeface="Arial"/>
              </a:rPr>
              <a:t>Sol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W= QV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= (50x10</a:t>
            </a:r>
            <a:r>
              <a:rPr b="1" lang="en-US" sz="3200" spc="-1" strike="noStrike" baseline="30000">
                <a:solidFill>
                  <a:srgbClr val="cc3300"/>
                </a:solidFill>
                <a:latin typeface="Arial"/>
              </a:rPr>
              <a:t>-6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)(6V)= 300x10</a:t>
            </a:r>
            <a:r>
              <a:rPr b="1" lang="en-US" sz="3200" spc="-1" strike="noStrike" baseline="30000">
                <a:solidFill>
                  <a:srgbClr val="cc3300"/>
                </a:solidFill>
                <a:latin typeface="Arial"/>
              </a:rPr>
              <a:t>-6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J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= 300 </a:t>
            </a:r>
            <a:r>
              <a:rPr b="1" lang="el-GR" sz="3200" spc="-1" strike="noStrike">
                <a:solidFill>
                  <a:srgbClr val="cc3300"/>
                </a:solidFill>
                <a:latin typeface="Arial"/>
                <a:ea typeface="Arial"/>
              </a:rPr>
              <a:t>μ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Arial"/>
              </a:rPr>
              <a:t>J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3"/>
          <p:cNvSpPr/>
          <p:nvPr/>
        </p:nvSpPr>
        <p:spPr>
          <a:xfrm>
            <a:off x="1219320" y="1371600"/>
            <a:ext cx="167616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2971800" y="175248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tage is responsible for establis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990720" y="3048120"/>
            <a:ext cx="23619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is a Cu-Zn battery, such as you might construct in a chemistry class. The chemical reaction occurs when there is an external path for the electr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0"/>
          <p:cNvSpPr/>
          <p:nvPr/>
        </p:nvSpPr>
        <p:spPr>
          <a:xfrm>
            <a:off x="1295280" y="144792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olt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3352680" y="3048120"/>
            <a:ext cx="5257800" cy="289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Box 14"/>
          <p:cNvSpPr/>
          <p:nvPr/>
        </p:nvSpPr>
        <p:spPr>
          <a:xfrm>
            <a:off x="1219320" y="213372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. Voltage sources include generators, solar cells, and batteries to name a f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3505320" y="3200400"/>
          <a:ext cx="5029200" cy="253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05320" y="3200400"/>
                    <a:ext cx="5029200" cy="25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3T15:29:44Z</dcterms:created>
  <dc:creator>David  Buchla</dc:creator>
  <dc:description/>
  <dc:language>en-US</dc:language>
  <cp:lastModifiedBy>ms</cp:lastModifiedBy>
  <dcterms:modified xsi:type="dcterms:W3CDTF">2010-10-08T18:37:46Z</dcterms:modified>
  <cp:revision>83</cp:revision>
  <dc:subject/>
  <dc:title>PowerPoint Presentation</dc:title>
</cp:coreProperties>
</file>