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29B-D233-4CB2-9896-A1C421734C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89A9-672A-4E44-AAF9-AAB3AE7B76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61A5-D6A8-4DE9-A1B2-0CA428B2C5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0CA-3178-492D-A8BC-C21B7F39B4A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27F-B34C-4C99-8E4D-EF99741405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554-5243-4075-988D-4AF2831B5B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7A0B-20C0-4AD5-B92D-269E6AC9EF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83E-8ED0-4080-A772-41F89212E9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AB1-8693-44CF-9090-73A89E6CE4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B4A-F231-4500-B2C9-8776A9E62A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D47-5CB2-4F51-8986-CB0007CE34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D773-8B12-4B93-B8BF-2239BB3F64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EE75-7090-493B-97EB-4019337D8D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C200-D104-4E35-B601-7927319CAC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7B8-2CFF-462F-8765-F8E0368A5D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65A4-05FF-4668-BE66-1AB77CC8E4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C6A2-38EE-4BD8-98E7-D53A247FB60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3162-C087-4022-B625-CE6EE03B0E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00ED-EA8A-4173-A49A-FAB531E612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AFF5-0E75-41C7-BEAF-B800FBD7FB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F8C-8566-4AFA-9B09-76543C9F24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7CB-B549-4E39-9A3D-570EC66B09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112-1C6A-443F-A32E-30FA1D170D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B7C-9C38-48BC-B119-D6E65CA80E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97D5-2256-48C5-8A3A-BABB236FBD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.Elsarnagawy, mde 207-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0"/>
          <p:cNvSpPr txBox="1"/>
          <p:nvPr/>
        </p:nvSpPr>
        <p:spPr>
          <a:xfrm>
            <a:off x="5029200" y="525780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2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9320" y="1371600"/>
            <a:ext cx="16761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95280" y="1447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21337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es d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 charge – they store chemical energy that can be converted to current when an external path is provided to allow the chemical reaction to pro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86200" y="4267080"/>
          <a:ext cx="1981080" cy="15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267080"/>
                    <a:ext cx="19810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95280" y="3276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aying “charging” a battery, it is more accurate to say “reversing the chemical reaction” in a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amount of char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hat flows past a point in a unit of tim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3390840" y="2666880"/>
          <a:ext cx="609840" cy="5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666880"/>
                    <a:ext cx="6098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219320" y="3352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mpere is a number of electrons having a total charge of 1 C move through a given cross section in 1 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oup 26" descr=""/>
          <p:cNvPicPr/>
          <p:nvPr/>
        </p:nvPicPr>
        <p:blipFill>
          <a:blip r:embed="rId4"/>
          <a:stretch/>
        </p:blipFill>
        <p:spPr>
          <a:xfrm>
            <a:off x="609480" y="4267080"/>
            <a:ext cx="8182080" cy="866880"/>
          </a:xfrm>
          <a:prstGeom prst="rect">
            <a:avLst/>
          </a:prstGeom>
          <a:ln w="0">
            <a:noFill/>
          </a:ln>
        </p:spPr>
      </p:pic>
      <p:sp>
        <p:nvSpPr>
          <p:cNvPr id="223" name="Oval 11"/>
          <p:cNvSpPr/>
          <p:nvPr/>
        </p:nvSpPr>
        <p:spPr>
          <a:xfrm>
            <a:off x="9829800" y="44197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9601200" y="47242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9296280" y="44197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9448920" y="426708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9448920" y="480060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92962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9906120" y="480060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9524880" y="47242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9753480" y="48769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97534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9906120" y="464832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27"/>
          <p:cNvGrpSpPr/>
          <p:nvPr/>
        </p:nvGrpSpPr>
        <p:grpSpPr>
          <a:xfrm>
            <a:off x="9372600" y="4724280"/>
            <a:ext cx="228600" cy="152640"/>
            <a:chOff x="9372600" y="4724280"/>
            <a:chExt cx="228600" cy="152640"/>
          </a:xfrm>
        </p:grpSpPr>
        <p:sp>
          <p:nvSpPr>
            <p:cNvPr id="235" name="Oval 21"/>
            <p:cNvSpPr/>
            <p:nvPr/>
          </p:nvSpPr>
          <p:spPr>
            <a:xfrm>
              <a:off x="9524880" y="4724280"/>
              <a:ext cx="76320" cy="763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9372600" y="4800600"/>
              <a:ext cx="75960" cy="763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Oval 25"/>
          <p:cNvSpPr/>
          <p:nvPr/>
        </p:nvSpPr>
        <p:spPr>
          <a:xfrm>
            <a:off x="9753480" y="43434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609480" y="4952880"/>
            <a:ext cx="13431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: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01028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4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990720" y="5486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urrent if 2 C passes a point in 5 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99820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1219320" y="1371600"/>
            <a:ext cx="60195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371600" y="1447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stance is the opposition to curr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19320" y="2209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hm (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he resistance if one ampere (1 A) is in a material when one volt (1 V) is appli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0"/>
          <p:cNvGrpSpPr/>
          <p:nvPr/>
        </p:nvGrpSpPr>
        <p:grpSpPr>
          <a:xfrm>
            <a:off x="1219320" y="2955960"/>
            <a:ext cx="6933960" cy="1139760"/>
            <a:chOff x="1219320" y="2955960"/>
            <a:chExt cx="6933960" cy="1139760"/>
          </a:xfrm>
        </p:grpSpPr>
        <p:sp>
          <p:nvSpPr>
            <p:cNvPr id="246" name="Text Box 28"/>
            <p:cNvSpPr/>
            <p:nvPr/>
          </p:nvSpPr>
          <p:spPr>
            <a:xfrm>
              <a:off x="1219320" y="2955960"/>
              <a:ext cx="693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ductance is the reciprocal of resistanc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" name="Object 29"/>
            <p:cNvGraphicFramePr/>
            <p:nvPr/>
          </p:nvGraphicFramePr>
          <p:xfrm>
            <a:off x="3486240" y="3505320"/>
            <a:ext cx="64764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8" name="Object 2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86240" y="3505320"/>
                      <a:ext cx="64764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9" name="Text Box 31"/>
          <p:cNvSpPr/>
          <p:nvPr/>
        </p:nvSpPr>
        <p:spPr>
          <a:xfrm>
            <a:off x="1219320" y="41148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designed to have a specific amount of resistance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is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2"/>
          <p:cNvGraphicFramePr/>
          <p:nvPr/>
        </p:nvGraphicFramePr>
        <p:xfrm>
          <a:off x="2819520" y="4591080"/>
          <a:ext cx="3200400" cy="142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4591080"/>
                    <a:ext cx="32004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6"/>
          <p:cNvSpPr txBox="1"/>
          <p:nvPr/>
        </p:nvSpPr>
        <p:spPr>
          <a:xfrm>
            <a:off x="1295280" y="1600200"/>
            <a:ext cx="12193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590920" y="1600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sistance and tolerance of each of the four-band resist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2819520" y="2743200"/>
          <a:ext cx="15476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743200"/>
                    <a:ext cx="1547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9"/>
          <p:cNvSpPr/>
          <p:nvPr/>
        </p:nvSpPr>
        <p:spPr>
          <a:xfrm>
            <a:off x="4572000" y="2590920"/>
            <a:ext cx="2209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.1 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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7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±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219320" y="1371600"/>
            <a:ext cx="7238880" cy="16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371600" y="1447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 resistors include the potentiometer and rheostat. A potentiometer can be connected as a rheos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1"/>
          <p:cNvGraphicFramePr/>
          <p:nvPr/>
        </p:nvGraphicFramePr>
        <p:xfrm>
          <a:off x="1371600" y="3886200"/>
          <a:ext cx="5045040" cy="15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86200"/>
                    <a:ext cx="50450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13"/>
          <p:cNvSpPr/>
          <p:nvPr/>
        </p:nvSpPr>
        <p:spPr>
          <a:xfrm>
            <a:off x="1219320" y="31240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terminal is connected to the wi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 flipH="1">
            <a:off x="487656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19"/>
          <p:cNvGraphicFramePr/>
          <p:nvPr/>
        </p:nvGraphicFramePr>
        <p:xfrm>
          <a:off x="6705720" y="3124080"/>
          <a:ext cx="1176120" cy="289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5720" y="3124080"/>
                    <a:ext cx="11761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19320" y="1371600"/>
            <a:ext cx="7162560" cy="2438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371600" y="1447920"/>
            <a:ext cx="7010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ic circuit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oltage source, 2) a path and 3) a lo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ample of a basic circuit is the flashlight, which has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1905120" y="4440240"/>
            <a:ext cx="5670360" cy="1579680"/>
            <a:chOff x="1905120" y="4440240"/>
            <a:chExt cx="5670360" cy="1579680"/>
          </a:xfrm>
        </p:grpSpPr>
        <p:graphicFrame>
          <p:nvGraphicFramePr>
            <p:cNvPr id="268" name="Object 8"/>
            <p:cNvGraphicFramePr/>
            <p:nvPr/>
          </p:nvGraphicFramePr>
          <p:xfrm>
            <a:off x="2743200" y="4440240"/>
            <a:ext cx="4832280" cy="157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9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4440240"/>
                      <a:ext cx="483228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Line 9"/>
            <p:cNvSpPr/>
            <p:nvPr/>
          </p:nvSpPr>
          <p:spPr>
            <a:xfrm flipH="1" flipV="1">
              <a:off x="1905120" y="4592520"/>
              <a:ext cx="121896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 flipH="1" flipV="1">
              <a:off x="2438280" y="5049720"/>
              <a:ext cx="91440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 flipH="1">
              <a:off x="2209320" y="5354640"/>
              <a:ext cx="114300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H="1">
              <a:off x="1980720" y="5735520"/>
              <a:ext cx="11430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1219320" y="1371600"/>
            <a:ext cx="3352680" cy="4495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71600" y="1447920"/>
            <a:ext cx="2895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mportant multipurpose instrument is the DMM, which can measure voltage, current, and resistance. Many include other measurement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11"/>
          <p:cNvGraphicFramePr/>
          <p:nvPr/>
        </p:nvGraphicFramePr>
        <p:xfrm>
          <a:off x="4191120" y="2057400"/>
          <a:ext cx="4440240" cy="337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057400"/>
                    <a:ext cx="444024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2"/>
          <p:cNvSpPr/>
          <p:nvPr/>
        </p:nvSpPr>
        <p:spPr>
          <a:xfrm>
            <a:off x="1600200" y="1447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28600" y="1371600"/>
            <a:ext cx="2209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2438280" y="1371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unit of electrical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2438280" y="19810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erican Wire Gauge) A standardization based on wire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2438280" y="2819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property of matter that exists because of an excess or a deficiency of electrons. Charge can be either +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2438280" y="426708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 interconnection of electronic components designed to produce a desired result. A basic circuit consists of a source, a load, and an interconnecting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1600200" y="1371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28600" y="1295280"/>
            <a:ext cx="220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u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hm (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438280" y="12952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ability of a circuit to allow current. The unit is the siemans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43828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electrical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438280" y="3079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flow of electrical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38280" y="38862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sic particle of electrical charge in matter. The electron possesses a negative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438280" y="4952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r reference point in a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14600" y="5638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it of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676520" y="1447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04920" y="1371600"/>
            <a:ext cx="220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otenti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he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514600" y="1371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ree-terminal variabl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514600" y="2057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to current. The unit is the o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514600" y="2819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wo-terminal variabl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14600" y="3505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2514600" y="4267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voltage or electromotive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2514600" y="5029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energy per charge available to move electrons from one point to another in an electric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762120" y="1295280"/>
            <a:ext cx="7086600" cy="609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838080" y="1371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hr atom is a tool for visualizing atomic struc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838080" y="20574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us is positively charged and has the protons and neu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22"/>
          <p:cNvGraphicFramePr/>
          <p:nvPr/>
        </p:nvGraphicFramePr>
        <p:xfrm>
          <a:off x="4462560" y="1828800"/>
          <a:ext cx="39193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2560" y="1828800"/>
                    <a:ext cx="3919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20"/>
          <p:cNvSpPr/>
          <p:nvPr/>
        </p:nvSpPr>
        <p:spPr>
          <a:xfrm>
            <a:off x="4267080" y="2362320"/>
            <a:ext cx="2176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3962520" y="3429000"/>
            <a:ext cx="2252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838080" y="365760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tomic number is the number of protons and determines the particular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838080" y="47242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neutral atom, the number of electrons is equal to the number of prot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838080" y="28195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are negatively charged and in discrete sh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914400" y="20574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atomic number is 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rot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eutr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rotons plus neutr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lectrons in the outer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914400" y="20574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alence electr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n the outer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nvolved in chemical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elatively loosely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914400" y="205740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atomic particle responsible for electrical current in solid metallic conductors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r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neu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205740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symbol for char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914400" y="2057400"/>
            <a:ext cx="7315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definition for voltage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Object 7"/>
          <p:cNvGraphicFramePr/>
          <p:nvPr/>
        </p:nvGraphicFramePr>
        <p:xfrm>
          <a:off x="2286000" y="2428920"/>
          <a:ext cx="7621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28920"/>
                    <a:ext cx="7621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8"/>
          <p:cNvGraphicFramePr/>
          <p:nvPr/>
        </p:nvGraphicFramePr>
        <p:xfrm>
          <a:off x="2251080" y="3276720"/>
          <a:ext cx="797040" cy="68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276720"/>
                    <a:ext cx="7970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9"/>
          <p:cNvGraphicFramePr/>
          <p:nvPr/>
        </p:nvGraphicFramePr>
        <p:xfrm>
          <a:off x="2268360" y="4114800"/>
          <a:ext cx="85572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4114800"/>
                    <a:ext cx="855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0"/>
          <p:cNvGraphicFramePr/>
          <p:nvPr/>
        </p:nvGraphicFramePr>
        <p:xfrm>
          <a:off x="2286000" y="5119560"/>
          <a:ext cx="838080" cy="36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0" y="5119560"/>
                    <a:ext cx="838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447920" y="1828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914400" y="20574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A battery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hemic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914400" y="20574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unit of conductance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o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ul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200400" y="1981080"/>
            <a:ext cx="2819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65760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8006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7"/>
          <p:cNvSpPr/>
          <p:nvPr/>
        </p:nvSpPr>
        <p:spPr>
          <a:xfrm>
            <a:off x="762120" y="1295280"/>
            <a:ext cx="7848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838080" y="1371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er shell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nce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ectrons in this shell are involved in chemical reactions and in metals they account for electrical and thermal condu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30"/>
          <p:cNvGraphicFramePr/>
          <p:nvPr/>
        </p:nvGraphicFramePr>
        <p:xfrm>
          <a:off x="4495680" y="2743200"/>
          <a:ext cx="373392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743200"/>
                    <a:ext cx="37339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31"/>
          <p:cNvSpPr/>
          <p:nvPr/>
        </p:nvSpPr>
        <p:spPr>
          <a:xfrm>
            <a:off x="838080" y="2819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utral Si atom is shown. There are 4 electrons in the valence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2"/>
          <p:cNvSpPr txBox="1"/>
          <p:nvPr/>
        </p:nvSpPr>
        <p:spPr>
          <a:xfrm>
            <a:off x="838080" y="4038480"/>
            <a:ext cx="13431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: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9144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 a conductor, insulator, or semiconduct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9144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2590920" y="4267080"/>
            <a:ext cx="419076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a forc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between charges. Like charges repel; unlike charges at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430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is directly proportional to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is inversely proportional to square of distance (for point sour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14"/>
          <p:cNvGraphicFramePr/>
          <p:nvPr/>
        </p:nvGraphicFramePr>
        <p:xfrm>
          <a:off x="2895480" y="4419720"/>
          <a:ext cx="354348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4419720"/>
                    <a:ext cx="35434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8"/>
          <p:cNvGrpSpPr/>
          <p:nvPr/>
        </p:nvGrpSpPr>
        <p:grpSpPr>
          <a:xfrm>
            <a:off x="6095880" y="2590920"/>
            <a:ext cx="2133360" cy="3352320"/>
            <a:chOff x="6095880" y="2590920"/>
            <a:chExt cx="2133360" cy="3352320"/>
          </a:xfrm>
        </p:grpSpPr>
        <p:sp>
          <p:nvSpPr>
            <p:cNvPr id="169" name="Line 16"/>
            <p:cNvSpPr/>
            <p:nvPr/>
          </p:nvSpPr>
          <p:spPr>
            <a:xfrm>
              <a:off x="6095880" y="2590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6095880" y="2895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609588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6095880" y="35049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09588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6095880" y="41148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6095880" y="44193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6095880" y="47242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6095880" y="50288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6095880" y="53337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6095880" y="56386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6095880" y="59432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1" name="Object 30"/>
          <p:cNvGraphicFramePr/>
          <p:nvPr/>
        </p:nvGraphicFramePr>
        <p:xfrm>
          <a:off x="9144000" y="3657600"/>
          <a:ext cx="94140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0" y="3657600"/>
                    <a:ext cx="94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2"/>
          <p:cNvSpPr/>
          <p:nvPr/>
        </p:nvSpPr>
        <p:spPr>
          <a:xfrm>
            <a:off x="609480" y="1066680"/>
            <a:ext cx="5410440" cy="5181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2743200" y="2743200"/>
          <a:ext cx="83808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2743200"/>
                    <a:ext cx="838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9"/>
          <p:cNvSpPr/>
          <p:nvPr/>
        </p:nvSpPr>
        <p:spPr>
          <a:xfrm>
            <a:off x="1371600" y="35053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s done as a charge is moved in the electric field from one potential to an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6"/>
          <p:cNvSpPr/>
          <p:nvPr/>
        </p:nvSpPr>
        <p:spPr>
          <a:xfrm>
            <a:off x="1295280" y="4724280"/>
            <a:ext cx="4038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is the work per charge done against the electric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ta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energy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er char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; it is responsible for establish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8712360" y="3606840"/>
            <a:ext cx="482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14"/>
          <p:cNvGraphicFramePr/>
          <p:nvPr/>
        </p:nvGraphicFramePr>
        <p:xfrm>
          <a:off x="5627520" y="2438280"/>
          <a:ext cx="3135600" cy="388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27520" y="2438280"/>
                    <a:ext cx="3135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1.11111E-006 L 8.33333E-007 -1.11111E-006 E">
                                      <p:cBhvr>
                                        <p:cTn id="79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1219320" y="1371600"/>
            <a:ext cx="33526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37160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6"/>
          <p:cNvSpPr/>
          <p:nvPr/>
        </p:nvSpPr>
        <p:spPr>
          <a:xfrm>
            <a:off x="990720" y="3429000"/>
            <a:ext cx="7391160" cy="1191240"/>
          </a:xfrm>
          <a:prstGeom prst="rect">
            <a:avLst/>
          </a:prstGeom>
          <a:solidFill>
            <a:srgbClr val="ffc000"/>
          </a:solidFill>
          <a:ln w="9360">
            <a:solidFill>
              <a:srgbClr val="8e2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volt is the potential difference (voltage) between two points when one joule of energy is used to move one coulomb of charge from one point to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8"/>
          <p:cNvGraphicFramePr/>
          <p:nvPr/>
        </p:nvGraphicFramePr>
        <p:xfrm>
          <a:off x="2743200" y="2362320"/>
          <a:ext cx="83808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362320"/>
                    <a:ext cx="838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204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potential difference between 2 points in electrical system if 60J of energy are expended by a charge of 20C between these two 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=W/Q= 60J/20C= 3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energy expended moving a charge of 50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hrough a potential difference of 6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ol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= Q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 (50x1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-6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)(6V)= 300x1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-6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 300 </a:t>
            </a:r>
            <a:r>
              <a:rPr b="1" lang="el-GR" sz="3200" spc="-1" strike="noStrike">
                <a:solidFill>
                  <a:srgbClr val="cc33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219320" y="1371600"/>
            <a:ext cx="16761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71800" y="1752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is responsible for esta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90720" y="3048120"/>
            <a:ext cx="2361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Cu-Zn battery, such as you might construct in a chemistry class. The chemical reaction occurs when there is an external path for the elec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295280" y="1447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352680" y="3048120"/>
            <a:ext cx="5257800" cy="28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219320" y="2133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. Voltage sources include generators, solar cells, and batteries to name a f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505320" y="3200400"/>
          <a:ext cx="5029200" cy="25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3200400"/>
                    <a:ext cx="50292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ms</cp:lastModifiedBy>
  <dcterms:modified xsi:type="dcterms:W3CDTF">2010-10-08T18:37:46Z</dcterms:modified>
  <cp:revision>83</cp:revision>
  <dc:subject/>
  <dc:title>PowerPoint Presentation</dc:title>
</cp:coreProperties>
</file>