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00920" y="4415040"/>
            <a:ext cx="5607000" cy="418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84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2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4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6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8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86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88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0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2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4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6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98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407960" y="307800"/>
            <a:ext cx="4183200" cy="3137040"/>
          </a:xfrm>
          <a:prstGeom prst="rect">
            <a:avLst/>
          </a:prstGeom>
          <a:ln w="0">
            <a:noFill/>
          </a:ln>
        </p:spPr>
      </p:sp>
      <p:sp>
        <p:nvSpPr>
          <p:cNvPr id="100" name="Text Box 2"/>
          <p:cNvSpPr/>
          <p:nvPr/>
        </p:nvSpPr>
        <p:spPr>
          <a:xfrm>
            <a:off x="514440" y="4151160"/>
            <a:ext cx="597528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BDB3-5A81-45E5-A10F-CF8A981B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2881-002E-4CA4-8B26-FCC416E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FC15-B132-4DA1-BCB4-FAF1E54F9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2B97-15A0-4ABC-B8B1-AA31580C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ED7E-1850-4F0A-8F3D-C930756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533-7295-412E-93D9-6683BB28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9932-5EDD-46A7-9A19-F8F8C8D06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093-9DC8-434E-AC4E-F8A57E8C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D07-76CB-4DA9-9FFA-C4C5B08C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6DB5-A803-4F37-9B73-438DA702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F834-30EF-4717-8495-68953C11C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F81-766B-48DF-8E3B-5B08A784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3EB9-F18A-4ED1-9154-33810037FC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International Standards Organization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(ISO)</a:t>
            </a:r>
            <a:br>
              <a:rPr sz="4400"/>
            </a:br>
            <a:br>
              <a:rPr sz="4400"/>
            </a:b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E3F9-9696-4390-AC68-B5A0F6990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2600" y="357120"/>
            <a:ext cx="81471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oftware vs. other industrie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1599840"/>
            <a:ext cx="7761240" cy="4357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oftware is intangi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therefore difficult to control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t is difficult to control anything that we cannot see and feel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 contrast, in a car manufacturing un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e can see a product being developed through stages such as fitting engine, fitting doors, et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e can accurately tell about the status of the product at any tim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Software project management is an altogether different ball gam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C07D-CF6A-442D-927F-323141D151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42960" y="336600"/>
            <a:ext cx="829008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oftware vs. other industrie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842840"/>
            <a:ext cx="7761240" cy="4243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uring software develop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 only raw material consumed is da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any other product developmen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ot of raw material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.g. Steel industry consumes large volumes of iron ore, coal, limeston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O 9000 standards have many clauses corresponding to raw material control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 relevant to software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D267-61A1-4EAF-BD52-303A95D6EF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Software vs. other industries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42600" y="157140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Radical differences exist between software and other product development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difficult to interpret various clauses of the original ISO standard in the context of software indust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AB3D-010D-4DB0-ADAE-BDDDD3F7E8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817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3.  ISO 9000 Part-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600" y="178560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O released a separate document called ISO 9000 part-3 in 199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o help interpret the ISO standard for software indust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t present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icial guidance is inadequ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88A7-C7A0-4D3D-B970-30C78D782B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817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Calibri"/>
              </a:rPr>
              <a:t>ISO 900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28760" y="1982880"/>
            <a:ext cx="8215200" cy="33033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O (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ernational Standards Organization</a:t>
            </a: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)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nsortium of 63 countries established to formulate and foster standardiz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SO published its 9000 series of standards in 1987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ED21-032D-491A-A6B5-4BCEA71268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Calibri"/>
              </a:rPr>
              <a:t>1. ISO 900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98072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 set of  guidelines for the production proces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not directly concerned about the product it self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 series of three standards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O 9001, ISO 9002, and ISO 9003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7B31-56FE-4F73-A19C-78469B5A0C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3880" y="28584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ISO 9000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nt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0656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81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ed on the premis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 a proper process is followed for production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good quality products are bound to follow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F564-13F1-48A8-A0DE-12C4C45177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817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1. ISO 900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42600" y="1499760"/>
            <a:ext cx="7761240" cy="4103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Applies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ganizations engaged in design, development, production, and servicing of goods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pplicable to most software development organization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1500-ED37-491B-9A58-4C10FF2C8DB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81760" cy="928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2.  ISO 90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600" y="1285560"/>
            <a:ext cx="7761240" cy="4786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SO 9002 applies to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rganizations who do not design products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t are only involved in produ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amples of this category of industri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teel or car manufacturing indust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uy the product and plant designs from external sour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ly manufacture produc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t applicable to software development organiza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08B1-7351-4D24-9B3B-AD5A76CB9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1.3.  ISO 900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 9003 applies to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organizations involved only in installation and testing of the produ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D5FA-6480-4108-9A8D-4BD0170F83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4716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. ISO 9000 for Software Indus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1500120"/>
            <a:ext cx="7764480" cy="4106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SO 9000 is a generic standar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pplicable to many industrie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rting from a steel manufacturing industry to a service rendering  compan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ny clauses of ISO 9000 document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 generic termi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ery difficult to interpret them in the context of software organiza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22CD-CAFE-4198-9ADF-70A99EAC43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3880" y="357120"/>
            <a:ext cx="7782120" cy="1131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spcBef>
                <a:spcPts val="4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2.1. Software vs. other indus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440" y="1830240"/>
            <a:ext cx="7761240" cy="4104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Very difficult to interpret many clauses for software industr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software development is radically different from development of other produc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3ED9-7596-46B1-9ED3-BCAD5E4041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5T17:08:06Z</dcterms:created>
  <dc:creator>Hameed Ullah Khan</dc:creator>
  <dc:description/>
  <dc:language>en-US</dc:language>
  <cp:lastModifiedBy>hkhan</cp:lastModifiedBy>
  <cp:lastPrinted>2001-10-14T12:52:16Z</cp:lastPrinted>
  <dcterms:modified xsi:type="dcterms:W3CDTF">2016-03-03T09:58:40Z</dcterms:modified>
  <cp:revision>34</cp:revision>
  <dc:subject/>
  <dc:title>Software Quality Assurance          (Lecture 14)</dc:title>
</cp:coreProperties>
</file>