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84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6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8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86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88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0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2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4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7BC-CCCA-4156-A088-983CD473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182-89B4-44B9-B94B-6D996987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600-AC4D-44A4-9DB7-E88E253B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ADD-8465-4500-86DB-5C334559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04B-77CC-476F-B36C-225FDD04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16C-113E-460B-A874-25FF7A88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C2B-53D1-4C34-9870-BBDDD548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677-2986-493F-8BC6-2FEB7B2F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6F7-2AB5-4B1D-9B8C-F86A3A3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317-8DE6-4982-AAC8-4C3164C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BAB-4226-42E5-B2D4-E260D8AC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E01-AF30-44B5-8485-F98C831D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4E6-1627-4BE5-9E10-9344DE6E6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ternational Standards Organizati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(ISO)</a:t>
            </a:r>
            <a:br>
              <a:rPr sz="4400"/>
            </a:br>
            <a:br>
              <a:rPr sz="4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6E2-A20A-4DF3-BB94-83990496C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81471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oftware vs. other industrie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599840"/>
            <a:ext cx="7761240" cy="4357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ftware is intang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refore difficult to contro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 is difficult to control anything that we cannot see and fee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contrast, in a car manufacturing un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e can see a product being developed through stages such as fitting engine, fitting doors, et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e can accurately tell about the status of the product at any ti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ftware project management is an altogether different ball ga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D730-CC49-4A5E-967C-F7245F745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336600"/>
            <a:ext cx="829008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oftware vs. other industrie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842840"/>
            <a:ext cx="7761240" cy="4243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uring software develop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only raw material consumed i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any other product develop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t of raw material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 Steel industry consumes large volumes of iron ore, coal, limeston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O 9000 standards have many clauses corresponding to raw material contro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t relevant to software organiz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2BE0-3581-48ED-83E5-8D2F4334B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oftware vs. other industrie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600" y="157140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adical differences exist between software and other product development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fficult to interpret various clauses of the original ISO standard in the context of software indust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1200-74F4-48D0-99D6-63AAE2904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817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3.  ISO 9000 Part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600" y="178560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O released a separate document called ISO 9000 part-3 in 199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help interpret the ISO standard for software indus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t present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icial guidance is inadequ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F561-4856-4497-A31B-CFF0D9781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817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ISO 90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982880"/>
            <a:ext cx="8215200" cy="3303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O 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Standards Organization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nsortium of 63 countries established to formulate and foster standard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O published its 9000 series of standards in 198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F789-8174-4F2E-ADD6-56C55D96F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1. ISO 90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 set of  guidelines for the production proce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 directly concerned about the product it 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eries of three standard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O 9001, ISO 9002, and ISO 900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83DC-4CE0-45EA-AF56-620555C4E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28584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SO 9000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0656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ed on the premi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 a proper process is followed for production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ood quality products are bound to follow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BE95-95CC-4D25-96D2-D2ED59B99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817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1. ISO 9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600" y="14997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pplies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ganizations engaged in design, development, production, and servicing of good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pplicable to most software development organizat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A528-5424-4295-B774-A5141FB84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81760" cy="928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2.  ISO 90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600" y="1285560"/>
            <a:ext cx="7761240" cy="4786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O 9002 applies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zations who do not design produc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are only involved in produ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s of this category of indust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eel or car manufacturing indu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 the product and plant designs from external sour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ly manufacture produc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t applicable to software development organiz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7D43-575D-49A9-AF53-8A5E433CD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3.  ISO 90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 9003 applies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ganizations involved only in installation and testing of the produ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8340-D5A9-429E-8C9A-39E284578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471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. ISO 9000 for Softwar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2960" y="150012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O 9000 is a generic standar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pplicable to many industri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ing from a steel manufacturing industry to a service rendering  compa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ny clauses of ISO 9000 docu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generic termi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ery difficult to interpret them in the context of software organiz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09D0-9FAB-4B1A-8BC0-D05C8DC17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.1. Software vs. other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440" y="1830240"/>
            <a:ext cx="7761240" cy="4104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ery difficult to interpret many clauses for software industr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ftware development is radically different from development of other produ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9A20-F1C3-4968-8695-D4FB42E9C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7:08:06Z</dcterms:created>
  <dc:creator>Hameed Ullah Khan</dc:creator>
  <dc:description/>
  <dc:language>en-US</dc:language>
  <cp:lastModifiedBy>hkhan</cp:lastModifiedBy>
  <cp:lastPrinted>2001-10-14T12:52:16Z</cp:lastPrinted>
  <dcterms:modified xsi:type="dcterms:W3CDTF">2016-03-03T09:58:40Z</dcterms:modified>
  <cp:revision>34</cp:revision>
  <dc:subject/>
  <dc:title>Software Quality Assurance          (Lecture 14)</dc:title>
</cp:coreProperties>
</file>