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0A16-C856-4A7B-93A9-EE24EDC1C9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6E5B-5F07-4248-BB34-034E9E4D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5F21-F818-4DB2-BFF5-AFF658E1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EE68-6EC7-4A75-9209-B1019FB7E8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33584-2260-4CB5-8CD5-14943EDC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1F832-FDEB-4D2B-AAAE-61B7DD6F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3E065-3A75-410E-9926-36BB7724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ECF7B-C899-4838-BFB5-69C7C320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3F7BF-0013-4E3C-9DCA-FD6CE326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2A347-AAC5-4137-A8F7-5567FF15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8947D-28E7-4D0B-8882-906732B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94E1-3A27-4377-AD7E-1B967B26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C5C6D-64F3-49C8-880F-506B8EA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30771-B496-4964-AA9B-ADEDA327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69DE9-1407-49CA-9DFE-D116B1E2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CBE8E-A7AB-46CA-B097-AB182793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29166-818E-41F1-99F1-814505DA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ED2D-B3E3-4411-8D94-B927AE81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1250-71E4-4F3A-8DD5-DBDC700B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790A-47A1-47B9-84A1-F45D3651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9022-3675-48AB-86E5-556A4DBB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3D23-609D-46F1-8817-40787DD9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F902-08ED-435C-9929-12210C9B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66F7-40E6-43FB-8E49-8669F118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74E2693-007B-4828-87E9-E9354F84E82A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6:46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0F01-1471-45A6-ABFE-FE3218EA189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F91103C-220F-4619-99BB-8ACBA1C8FC38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6:4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حاسب آلي الثاني 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BF5E-743F-4549-A853-466D7AB3BCC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</a:rPr>
              <a:t>مدخل إلى الحاسب الآلي</a:t>
            </a:r>
            <a:br>
              <a:rPr sz="4400"/>
            </a:br>
            <a:r>
              <a:rPr b="0" lang="ar-SA" sz="4400" spc="-1" strike="noStrike">
                <a:solidFill>
                  <a:srgbClr val="00ffff"/>
                </a:solidFill>
                <a:latin typeface="Traditional Arabic"/>
              </a:rPr>
              <a:t>العرض التاريخي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بن أحمد السدي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5A065-21FD-4FD7-8543-543491084FB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صمامات الإلكترونية 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Vacuum Tub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687600" indent="-442800" algn="just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بارة عن أنابيب معدنية مفرغه يتم فيها رفع درجه الحرارة إلى درجة معينة يبدأ عندها سريان الإلكترونيات داخل أنبوب محدثاً بذلك مجالاً كهرومغناطيسيا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5240" indent="-442440" algn="just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يوبه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هلاك عالي للحرار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رتفاع تكاليف الصن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ضخامة الجها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حرارة الشديدة الناتجة عن التشغي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غير جديرة بالثقة أو الاعتماد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تطلب كميات كبيرة من أجهزة التبريد لكي تحميها من الإنفجا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427200" cy="25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0986-EA95-4EB5-AC2D-2DBAEF01F1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11640" y="4941720"/>
            <a:ext cx="3809880" cy="1702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5029200" cy="4092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الصمامات الإلكترونية 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Vacuum Tub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DC62-EB43-462F-813E-3E3BB202C45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ترانزستور 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Transisto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بارة عن وحدة إلكترونية تقوم بنفس المهام للأنابيب المفرغ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تاز بصغر حجم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لة تكلفة إنشائها وتشغ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لة الحرارة الناتجة عن التشغي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2971800" cy="27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32CF-9CF5-4C0A-9766-6D96778E97F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دوائر المتكاملة 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Integrated Circui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16000" y="1844280"/>
            <a:ext cx="59547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عبارة عن دائرة كهربائية كاملة تقوم بأداء وظيفة معينة وتتكون من عددت ترانسستورات ومقاومات ومكثفات على شريحة واحدة من مادة رقائق السليكون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hip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701720"/>
            <a:ext cx="2502000" cy="3454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886200" y="4572000"/>
            <a:ext cx="3149640" cy="19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A039-2DF8-40A9-A793-38D3AC3496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 الجيل الأول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44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 –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58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 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يعرف بـجيل الصمامات المفرغة " الإلكترونية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ستخدم الصمامات الإلكترونية في الحاسب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أول حاسب حقيقي يعرف بـ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Eniac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لحاسب والدامج الرقمي الإلكترون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ان الحاسب يستخدم الصمامات المفرغة للمعالج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اسطوانات ممغنطة للتخزين.والكروت المثقبة والأشرطة الممغنطة في عملية إدخال وإخراج البيانات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IB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من أوائل الشركات حيث أنتجت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IBM 650, IBM 70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0F4A-5DC5-413B-8274-8242D3205E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</a:rPr>
              <a:t>  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 الجيل الثاني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59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 –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64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Wingdings"/>
                <a:cs typeface="Wingdings"/>
              </a:rPr>
              <a:t>ج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يل الترانزستر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Transistor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و عنصر صغير مصنوع من شبه موصل صلب يمكن أن يعمل بمثابة مكبر خاص وهو عبارة عن وحدة إلكترونية تقوم بنفس مهام الأنبوبة المفرغ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خدمت حلقات مغناطيسية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agnetic Co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في الذاكرة الداخل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عبارة عن حلقة صغيرة مصنوعة من مادة قابلة للمغنطة يجرى مغنطتها في اتجاه أو تغير هذا الاتجاه إلى الحالة العكسية بتمرير تيار كهربائ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ما استخدم الشريط الممغنط والكرت المثقب في عمليه الإدخال والإخراج للمعلومات والبيانا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خدمت الطابعه بسرع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سطر في الدقيقة كمخرجات.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E28EE-F6F7-44D2-B97A-072C916D083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</a:rPr>
              <a:t> 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جيل الثاني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59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 –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64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2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رامج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شهد هذا الجيل ظهور لغة الفوتران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Fo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ula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Tr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slatio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غة الكوبل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obo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ForTra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هي لغة لترجمة الصيغ الرياضية إلى أوامر و عبارات صحيحة. هذه اللغة مخصصة للمعالجات العلمية والرياضي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obo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هي إحدى لغات البرمجة للاستخدامات الإدارية والتطبيقات التجارية المهن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في هذا الجيل برنامج التشغيل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Operation Syste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2B90-E51F-46D1-8694-017CBA8C8A9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 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جيل الثالث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64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-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71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ن أهم معالمه ظهور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قنية الدوائر المتكاملة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Integrated Circu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خدم القرص الممغنط في تخزين البيانات وانتشر استخدام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في هذا الجيل إمكانية استخدام التمثيل المتعدد وهو أسلوب استخدام نسختين متطابقتين من ملف ما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ultiple Programming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، بعرض صيانة أو تحديث بيانات أو إضافات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الجة عددت برامج في نفس الوقت … وكذلك إمكانية المشاركة الزمنية للمستخدمي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ور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inicompute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 كان سعر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8.0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$.  هذا الظهور اخذ مجموعه من الشركات بعيداً عن الحاسبات المركزية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ainfram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رمجة ظهرت لغة البيسك و هي سهلة التعلم والاستخدام وهنا بدأت برامج تعليم اللغات تنشر في الجامعات والمعاهد المهن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9E6A-D0E7-4321-80E8-20E0276B00D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  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جيل الرابع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71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01600" y="1125360"/>
            <a:ext cx="804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ما يعرف باسم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دوائر المتكاملة واسعة النطاق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Large. Scale Integrated Circle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التي يتم تجميع عدد كبير من الدوائر المتكاملة على شريحة واحدة و اصبحت هذه الشريحة تؤدي أكثر من عمل.  تحوي الشريحة على عدة آلاف من وحدات التراتستور والدائر التي تقوم بالعلميات الحسابية الأول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يزة هذا الجيل صغر حجم الحاسبات وزيادة طاقتها التخزينية وسرعة المعالجة وقلة في تكاليف التصني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عد ذلك ظهرت تقنية الدوائر واسعة النطاق جداً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VLSIC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ي الدمج العالمي المتفوق. فزاد بذلك عدد الوحدات الإلكترونية التي يمكن وضعها على الشريحة الواحدة حتى بلغ أكثر م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5.0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حدة للشريحة الواحد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الحاسب الشخصي في منتصف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97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و في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98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أنتج من قبل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IB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شكل تجار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زادت البرامج واختلفت أساليبها وزادت تعقيداتها مع ظهور برامج التشغيل للحاسبات الشخص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4F65-F98C-4EB8-A477-8DAA877BD2E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الجيل الخامس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عتمد على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عالجات الاستدلالية المتوازي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. هذا الجيل اعتمد على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عالجة المعرف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دلاً من معالجة البيانات أو الوحدات الأولية للمعلوما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عتمد على فكرة المعالجات المتوازية التي تقوم فيها عدد من المعالجات المرتبطة معاً بمعالجة الإجراءات المختلفة من العمليات في نفس الوق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DD35-8F37-4557-ABE6-FAB92D5D0BC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7600" y="1371600"/>
            <a:ext cx="52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 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قبل الميلا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عداد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باكوس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Abac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 الحضارة اليوناني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في الحضارة الصينية في القر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في الحضارة اليابانية في القر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 القرن السابع عشر  تقريبا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64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ليز باسكال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Pasca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ختراع أول آل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حاسبه ميكانيكي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تجمع و تطرح فق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لبة خشبية بها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عجلات مسننة تحمل الرقم م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حفظ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رقا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3809880" cy="1963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85128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4653000"/>
            <a:ext cx="3809880" cy="19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CE2C-AAD3-4C9C-B8F7-3702AB7FB8E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2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5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 القرن التاسع عشر  تقريبا  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82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شارلز بابج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harles Babb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صمم آلة عرفت باسم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آلة التحليلي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Analytical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ل آلة تشتمل على العناصر الرئيسية للحاسب الآل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87920" indent="-1551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سيلة إدخال البيان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87920" indent="-1551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مكانية تخزينها إجراء العمليات الحسابية عليه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87920" indent="-1551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كذلك وسيلة لاستخراج النتائ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 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89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رمان هوليريث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Herman Holerith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موظف في مكتب الإحص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صمم بطاقة تحتوي على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عمود و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صف بحيث يمكن تثقيب تقاطع العمود و الصف لتحوي المعلومات الإحصائية للسكا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جربة البطاقة المثقبة في الإحصاء فقد قلصت المدة م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.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سنوات إلى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.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س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228600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177B-2448-49AA-A2C5-3484E1ED39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700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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دأ العلماء في محاولات جادة لتطبيق أفكار بابج وتصوره للحاسب الآلي الحقيقي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 بناء حاسبات آلية بسيط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485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CAEF-9C23-4B1B-8F73-B296860B21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4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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ام فريق من الباحثين برئاسة هورد إكن في جامعة هاردفرد و بمساعدة مهندسين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IB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إنتاج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ارك-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Mark-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حتوي على ½ مليون وحدة ميكانيكية - 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00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مفتاح – وكمية ضخمة من الأسلاك الكهربائية التي يبلغ طولها حوالي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00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ميل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جمه وأبعاده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5.5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طولاً و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.5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رتفاعاً ويشغل مساحة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7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- يزين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0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طن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قوم بجمع ثلاثة أرقام فقط في الثانية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طاقته التخزينية كانت لا تتعدى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2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عددا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تبر أول جهاز أوتوماتيكي يستخدم الكهروميكانيكية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 بناء في خمس سنوات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CD15-A246-45FD-BC15-07AB6598D3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5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كملة مارك-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ark-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1112760"/>
            <a:ext cx="2895480" cy="2316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3640" y="3457440"/>
            <a:ext cx="5245200" cy="301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A77D-38C4-4847-AF89-85BB753790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6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00000" y="1916280"/>
            <a:ext cx="595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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cs typeface="Wingdings"/>
              </a:rPr>
              <a:t>م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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 algn="r" rtl="1">
              <a:lnSpc>
                <a:spcPct val="90000"/>
              </a:lnSpc>
              <a:spcBef>
                <a:spcPts val="57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"/>
                <a:cs typeface="Wingdings"/>
              </a:rPr>
              <a:t>ظهر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نياك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Eniac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ي الحاسب و الدامج الإلكتروني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Electronic Numerical Integration and  Comput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تبر أول جهاز إلكتروني رقمي عرفته البشر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ُستخدم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صمامات الإلكترونية "الأنابيب المفرغة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Vacuum Tubes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"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يه يدلاً من المرحلات الكهروميكانيكيه التي استخدمت في جهاز مارك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80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صمام مفرغ، يز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طن ، و يحتل مساح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تر مرب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216080"/>
            <a:ext cx="2700360" cy="2212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700360" cy="195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7706-9E45-487D-8382-40D36E151EE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7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1371600"/>
            <a:ext cx="541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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 يُنفاك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Univac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ان أول جهاز إلكتروني أنتج بطريقة تجار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ستخدم الأشرطة الممغنطة التي تعتبر أقل حجماً وأعلى سرعة  في تداول المعلومات مقارنه بالبطاقة المثقب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رتفعت الطاقة التخزينية لهذه الأجهزة إلى حوالي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2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حدة معلوما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1125360"/>
            <a:ext cx="3259080" cy="1911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335268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8BA3-8287-4BAB-BF8A-E5E46F74C2B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8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"/>
                <a:cs typeface="Wingdings"/>
              </a:rPr>
              <a:t>في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cs typeface="Wingdings"/>
              </a:rPr>
              <a:t>نهاية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cs typeface="Wingdings"/>
              </a:rPr>
              <a:t>الخمسينات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ترانزيستور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Transisto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 algn="r" rtl="1">
              <a:lnSpc>
                <a:spcPct val="8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ساعد على تصغير حجم الحاسب وتخفيف وزنه وتقليل استهلاكه من الكهرباء وتقليل أعطاله والإصلاحا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 نهاية الستينات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ظهرت الدوائر المتكاملة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Integrate Circuit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الجيل الحالي من الحاسبات التي تستخدم ما يسمى بالدوائر المتكاملة وهذه ضاعفت قدرة الحاسب وسرعت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243160"/>
            <a:ext cx="2484360" cy="1977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2484360" cy="20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A5E6-4CA0-4DE1-9565-842D4F441B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8:10Z</dcterms:created>
  <dc:creator>Unknown User</dc:creator>
  <dc:description/>
  <dc:language>en-US</dc:language>
  <cp:lastModifiedBy>malsudairi</cp:lastModifiedBy>
  <dcterms:modified xsi:type="dcterms:W3CDTF">2003-09-19T13:01:17Z</dcterms:modified>
  <cp:revision>26</cp:revision>
  <dc:subject/>
  <dc:title>PowerPoint Presentation</dc:title>
</cp:coreProperties>
</file>