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721B-04EC-4773-82D4-D7A3558A94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C20B7-416B-4BFB-A458-2F851FEC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FF3EF-0173-455F-A5E9-D2D2F21A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1802-756A-4476-9451-A594304ECB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306CA-8344-4227-8B61-5529F573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09B8A-F906-4F32-A9B6-4FDA594C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6603C-343B-4E17-A2B1-9095716A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DD5CF-9357-4EBC-B7D2-C8E2745B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6F342-E867-497C-93E5-1CDB5280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869E1-6FAB-49CF-90A3-F1151D1F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AE1AF-6CBB-4CA9-9AFB-B85D18DE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4673-AD86-4202-B9B8-E1598799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401A3-9342-4BA7-8332-73B09508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44E80-73D5-467B-8E6F-4DDAD813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1699E-BC55-443B-B43D-CA2FFDE3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76796-9053-4190-81EF-B0CE0BBE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DABD1-CD75-4B04-BF29-7552741C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6807-0B7B-4458-A481-F0FF8B81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EEF33-B1E3-454C-9D3A-F5B1016C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D519-4BDA-4305-B899-7AC93100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B5DE6-CAE5-4241-99CF-CDF52BF2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684E7-03BA-407A-89E5-32B1A42B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17003-7DBF-491F-B795-C2509D06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81A82-AB9E-442A-BC1A-8E20E372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1BAE2373-87A9-4BD8-9DA5-B9A2CE9EBE55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08:44</a:t>
            </a:fld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4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6676-3AE5-48C4-B486-D17128376A32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749CE60-6CC2-470F-8E74-631191903612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08:44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حاسب آلي الثاني 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4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9FE5-DC57-4D64-B37F-C98B79F5D7C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</a:rPr>
              <a:t>مدخل إلى الحاسب الآلي</a:t>
            </a:r>
            <a:br>
              <a:rPr sz="4400"/>
            </a:br>
            <a:r>
              <a:rPr b="0" lang="ar-SA" sz="4400" spc="-1" strike="noStrike">
                <a:solidFill>
                  <a:srgbClr val="00ffff"/>
                </a:solidFill>
                <a:latin typeface="Traditional Arabic"/>
              </a:rPr>
              <a:t>العرض التاريخي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. محمد بن أحمد السدير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0B481-255F-4B2D-BCF5-4FDABEC3047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صمامات الإلكترونية </a:t>
            </a: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Vacuum Tub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687600" indent="-442800" algn="just" rtl="1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بارة عن أنابيب معدنية مفرغه يتم فيها رفع درجه الحرارة إلى درجة معينة يبدأ عندها سريان الإلكترونيات داخل أنبوب محدثاً بذلك مجالاً كهرومغناطيسيا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5240" indent="-442440" algn="just" rtl="1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يوبه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80520" indent="-442440" algn="just" rtl="1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ستهلاك عالي للحرار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80520" indent="-44244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رتفاع تكاليف الصن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80520" indent="-44244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ضخامة الجها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80520" indent="-44244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حرارة الشديدة الناتجة عن التشغي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80520" indent="-44244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غير جديرة بالثقة أو الاعتماد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80520" indent="-44244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تطلب كميات كبيرة من أجهزة التبريد لكي تحميها من الإنفجا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3427200" cy="25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DD423-24E5-4809-B89D-767EA1CDD0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211640" y="4941720"/>
            <a:ext cx="3809880" cy="1702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5029200" cy="4092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</a:rPr>
              <a:t>الصمامات الإلكترونية </a:t>
            </a: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Vacuum Tub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53D1-C509-40F1-B3B0-406DCC4D312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ترانزستور </a:t>
            </a: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Transisto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بارة عن وحدة إلكترونية تقوم بنفس المهام للأنابيب المفرغة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متاز بصغر حجم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لة تكلفة إنشائها وتشغيل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لة الحرارة الناتجة عن التشغي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92360" y="2852640"/>
            <a:ext cx="2971800" cy="275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6283-B66C-40FA-857D-96DBC6B695F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دوائر المتكاملة </a:t>
            </a: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Integrated Circui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16000" y="1844280"/>
            <a:ext cx="59547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هي عبارة عن دائرة كهربائية كاملة تقوم بأداء وظيفة معينة وتتكون من عددت ترانسستورات ومقاومات ومكثفات على شريحة واحدة من مادة رقائق السليكون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hips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701720"/>
            <a:ext cx="2502000" cy="3454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886200" y="4572000"/>
            <a:ext cx="3149640" cy="19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9A8E-2D62-416A-A46B-125A6B85D2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أجيال الحاسبات: الجيل الأول 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44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 – 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58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 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يعرف بـجيل الصمامات المفرغة " الإلكترونية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ستخدم الصمامات الإلكترونية في الحاسب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أول حاسب حقيقي يعرف بـ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Eniac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الحاسب والدامج الرقمي الإلكتروني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كان الحاسب يستخدم الصمامات المفرغة للمعالج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اسطوانات ممغنطة للتخزين.والكروت المثقبة والأشرطة الممغنطة في عملية إدخال وإخراج البيانات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IB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من أوائل الشركات حيث أنتجت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IBM 650, IBM 70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31351-504D-4A01-97C7-63D66952BFD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ff"/>
                </a:solidFill>
                <a:latin typeface="Times New Roman"/>
              </a:rPr>
              <a:t>  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أجيال الحاسبات: الجيل الثاني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59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 –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64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Wingdings"/>
                <a:cs typeface="Wingdings"/>
              </a:rPr>
              <a:t>ج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يل الترانزستر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Transistor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هو عنصر صغير مصنوع من شبه موصل صلب يمكن أن يعمل بمثابة مكبر خاص وهو عبارة عن وحدة إلكترونية تقوم بنفس مهام الأنبوبة المفرغ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ستخدمت حلقات مغناطيسية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agnetic Con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في الذاكرة الداخل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هي عبارة عن حلقة صغيرة مصنوعة من مادة قابلة للمغنطة يجرى مغنطتها في اتجاه أو تغير هذا الاتجاه إلى الحالة العكسية بتمرير تيار كهربائي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كما استخدم الشريط الممغنط والكرت المثقب في عمليه الإدخال والإخراج للمعلومات والبيانات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ستخدمت الطابعه بسرعة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سطر في الدقيقة كمخرجات.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37D3-7BAC-47E5-A032-CD8E8A53052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ff"/>
                </a:solidFill>
                <a:latin typeface="Times New Roman"/>
              </a:rPr>
              <a:t> 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أجيال الحاسبات: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جيل الثاني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59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 –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64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 </a:t>
            </a: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2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برامج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شهد هذا الجيل ظهور لغة الفوتران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Fo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ula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Tr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slatio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غة الكوبل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obo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ForTra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هي لغة لترجمة الصيغ الرياضية إلى أوامر و عبارات صحيحة. هذه اللغة مخصصة للمعالجات العلمية والرياضي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obo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هي إحدى لغات البرمجة للاستخدامات الإدارية والتطبيقات التجارية المهن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في هذا الجيل برنامج التشغيل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Operation Syste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F866-F323-4304-A524-102ADDC3BE9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أجيال الحاسبات: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</a:rPr>
              <a:t>  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جيل الثالث 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64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- 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71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ن أهم معالمه ظهور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قنية الدوائر المتكاملة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Integrated Circui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ستخدم القرص الممغنط في تخزين البيانات وانتشر استخدام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في هذا الجيل إمكانية استخدام التمثيل المتعدد وهو أسلوب استخدام نسختين متطابقتين من ملف ما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ultiple Programming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، بعرض صيانة أو تحديث بيانات أو إضافات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الجة عددت برامج في نفس الوقت … وكذلك إمكانية المشاركة الزمنية للمستخدمي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ور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inicompute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 كان سعر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8.0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$.  هذا الظهور اخذ مجموعه من الشركات بعيداً عن الحاسبات المركزية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ainfram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برمجة ظهرت لغة البيسك و هي سهلة التعلم والاستخدام وهنا بدأت برامج تعليم اللغات تنشر في الجامعات والمعاهد المهن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0653-C342-4CA8-A9CF-30D09AFDBBB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أجيال الحاسبات: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</a:rPr>
              <a:t>   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جيل الرابع 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971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01600" y="1125360"/>
            <a:ext cx="804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ما يعرف باسم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دوائر المتكاملة واسعة النطاق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Large. Scale Integrated Circle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التي يتم تجميع عدد كبير من الدوائر المتكاملة على شريحة واحدة و اصبحت هذه الشريحة تؤدي أكثر من عمل.  تحوي الشريحة على عدة آلاف من وحدات التراتستور والدائر التي تقوم بالعلميات الحسابية الأول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يزة هذا الجيل صغر حجم الحاسبات وزيادة طاقتها التخزينية وسرعة المعالجة وقلة في تكاليف التصني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عد ذلك ظهرت تقنية الدوائر واسعة النطاق جداً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VLSIC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أي الدمج العالمي المتفوق. فزاد بذلك عدد الوحدات الإلكترونية التي يمكن وضعها على الشريحة الواحدة حتى بلغ أكثر من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5.0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حدة للشريحة الواحد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الحاسب الشخصي في منتصف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97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 و في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98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 أنتج من قبل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IB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بشكل تجاري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زادت البرامج واختلفت أساليبها وزادت تعقيداتها مع ظهور برامج التشغيل للحاسبات الشخص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704E7-4719-492B-B94E-11246262975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أجيال الحاسبات:الجيل الخامس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عتمد على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عالجات الاستدلالية المتوازي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. هذا الجيل اعتمد على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عالجة المعرف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بدلاً من معالجة البيانات أو الوحدات الأولية للمعلوما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عتمد على فكرة المعالجات المتوازية التي تقوم فيها عدد من المعالجات المرتبطة معاً بمعالجة الإجراءات المختلفة من العمليات في نفس الوق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FA0A-62C9-4E5A-AAFD-8CE68D92058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  <a:cs typeface="Traditional Arabic"/>
              </a:rPr>
              <a:t>مدخل إلى الحاسب الآل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عرض التاريخ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1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7600" y="1371600"/>
            <a:ext cx="52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 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قبل الميلا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عداد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أباكوس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Abac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34120" indent="-1666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ي الحضارة اليوناني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34120" indent="-1666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 في الحضارة الصينية في القرن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34120" indent="-1666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 في الحضارة اليابانية في القرن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ي القرن السابع عشر  تقريبا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64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ليز باسكال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Pasca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34120" indent="-1666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ختراع أول آل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حاسبه ميكانيكية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تجمع و تطرح فق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34120" indent="-1666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لبة خشبية بها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عجلات مسننة تحمل الرقم من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34120" indent="-1666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حفظ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أرقا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3809880" cy="1963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3851280" cy="173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4653000"/>
            <a:ext cx="3809880" cy="19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D9B6-E416-43F9-A606-81DCE48A596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  <a:cs typeface="Traditional Arabic"/>
              </a:rPr>
              <a:t>مدخل إلى الحاسب الآل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عرض التاريخ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2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5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ي القرن التاسع عشر  تقريبا  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82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شارلز بابج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harles Babb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صمم آلة عرفت باسم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آلة التحليلي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Analytical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ل آلة تشتمل على العناصر الرئيسية للحاسب الآلي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087920" indent="-1551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سيلة إدخال البيان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087920" indent="-1551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مكانية تخزينها إجراء العمليات الحسابية عليه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087920" indent="-15516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 كذلك وسيلة لاستخراج النتائ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 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89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رمان هوليريث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Herman Holerith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موظف في مكتب الإحصا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صمم بطاقة تحتوي على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عمود و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صف بحيث يمكن تثقيب تقاطع العمود و الصف لتحوي المعلومات الإحصائية للسكا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77240" indent="-15516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جربة البطاقة المثقبة في الإحصاء فقد قلصت المدة من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.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سنوات إلى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.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سن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2286000" cy="20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AFE7-787F-4F4B-8F25-C6C75E0310F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7000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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دأ العلماء في محاولات جادة لتطبيق أفكار بابج وتصوره للحاسب الآلي الحقيقي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م بناء حاسبات آلية بسيط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485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  <a:cs typeface="Traditional Arabic"/>
              </a:rPr>
              <a:t>مدخل إلى الحاسب الآل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عرض التاريخ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ECD35-E38D-4677-982A-B8E7D5E3BE8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  <a:cs typeface="Traditional Arabic"/>
              </a:rPr>
              <a:t>مدخل إلى الحاسب الآل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عرض التاريخ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4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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ام فريق من الباحثين برئاسة هورد إكن في جامعة هاردفرد و بمساعدة مهندسين م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IB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بإنتاج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ارك-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Mark-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 algn="r" rtl="1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حتوي على ½ مليون وحدة ميكانيكية -  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00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مفتاح – وكمية ضخمة من الأسلاك الكهربائية التي يبلغ طولها حوالي 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00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ميل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 algn="r" rtl="1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جمه وأبعاده 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5.5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 طولاً و 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.5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ارتفاعاً ويشغل مساحة 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7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 - يزين 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0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طن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 algn="r" rtl="1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قوم بجمع ثلاثة أرقام فقط في الثانية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 algn="r" rtl="1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طاقته التخزينية كانت لا تتعدى 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2</a:t>
            </a:r>
            <a:r>
              <a:rPr b="0" lang="ar-SA" sz="2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عددا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 algn="r" rtl="1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عتبر أول جهاز أوتوماتيكي يستخدم الكهروميكانيكية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 algn="r" rtl="1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م بناء في خمس سنوات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26901-2F59-484C-8269-8A4FCE8884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  <a:cs typeface="Traditional Arabic"/>
              </a:rPr>
              <a:t>مدخل إلى الحاسب الآل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عرض التاريخ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5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كملة مارك-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ark-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1112760"/>
            <a:ext cx="2895480" cy="2316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03640" y="3457440"/>
            <a:ext cx="5245200" cy="301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F3E7-E1F9-4E85-A628-13B62185AF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  <a:cs typeface="Traditional Arabic"/>
              </a:rPr>
              <a:t>مدخل إلى الحاسب الآل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عرض التاريخ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6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00000" y="1916280"/>
            <a:ext cx="595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</a:t>
            </a:r>
            <a:r>
              <a:rPr b="0" lang="ar-SA" sz="2800" spc="-1" strike="noStrike">
                <a:solidFill>
                  <a:srgbClr val="ffffff"/>
                </a:solidFill>
                <a:latin typeface="Wingdings"/>
                <a:cs typeface="Wingdings"/>
              </a:rPr>
              <a:t>م</a:t>
            </a:r>
            <a:r>
              <a:rPr b="0" lang="ar-S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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 algn="r" rtl="1">
              <a:lnSpc>
                <a:spcPct val="90000"/>
              </a:lnSpc>
              <a:spcBef>
                <a:spcPts val="57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"/>
                <a:cs typeface="Wingdings"/>
              </a:rPr>
              <a:t>ظهر</a:t>
            </a:r>
            <a:r>
              <a:rPr b="0" lang="ar-S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نياك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Eniac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أي الحاسب و الدامج الإلكتروني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</a:rPr>
              <a:t>Electronic Numerical Integration and  Comput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عتبر أول جهاز إلكتروني رقمي عرفته البشر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ُستخدم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صمامات الإلكترونية "الأنابيب المفرغة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Vacuum Tubes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"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يه يدلاً من المرحلات الكهروميكانيكيه التي استخدمت في جهاز مارك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80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صمام مفرغ، يزن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طن ، و يحتل مساحة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تر مرب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216080"/>
            <a:ext cx="2700360" cy="2212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2700360" cy="195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8F11-EDA4-4742-A7A3-621B296DD1E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  <a:cs typeface="Traditional Arabic"/>
              </a:rPr>
              <a:t>مدخل إلى الحاسب الآل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عرض التاريخ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7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1371600"/>
            <a:ext cx="541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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 يُنفاك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Univac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كان أول جهاز إلكتروني أنتج بطريقة تجار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ستخدم الأشرطة الممغنطة التي تعتبر أقل حجماً وأعلى سرعة  في تداول المعلومات مقارنه بالبطاقة المثقب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رتفعت الطاقة التخزينية لهذه الأجهزة إلى حوالي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2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حدة معلومات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1125360"/>
            <a:ext cx="3259080" cy="1911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335268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7475-847E-4453-BFFD-8C638ED153D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raditional Arabic"/>
                <a:cs typeface="Traditional Arabic"/>
              </a:rPr>
              <a:t>مدخل إلى الحاسب الآل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عرض التاريخي </a:t>
            </a:r>
            <a:r>
              <a:rPr b="1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8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Wingdings"/>
                <a:cs typeface="Wingdings"/>
              </a:rPr>
              <a:t>في</a:t>
            </a:r>
            <a:r>
              <a:rPr b="0" lang="ar-S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Wingdings"/>
                <a:cs typeface="Wingdings"/>
              </a:rPr>
              <a:t>نهاية</a:t>
            </a:r>
            <a:r>
              <a:rPr b="0" lang="ar-S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Wingdings"/>
                <a:cs typeface="Wingdings"/>
              </a:rPr>
              <a:t>الخمسينات</a:t>
            </a:r>
            <a:r>
              <a:rPr b="0" lang="ar-S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ترانزيستور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Transisto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 algn="r" rtl="1">
              <a:lnSpc>
                <a:spcPct val="8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ساعد على تصغير حجم الحاسب وتخفيف وزنه وتقليل استهلاكه من الكهرباء وتقليل أعطاله والإصلاحات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ي نهاية الستينات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ظهرت الدوائر المتكاملة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Integrate Circuit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 algn="r" rtl="1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ظهر الجيل الحالي من الحاسبات التي تستخدم ما يسمى بالدوائر المتكاملة وهذه ضاعفت قدرة الحاسب وسرعت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243160"/>
            <a:ext cx="2484360" cy="1977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2484360" cy="20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720E-9B93-4890-B96C-1D9EEA3065D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58:10Z</dcterms:created>
  <dc:creator>Unknown User</dc:creator>
  <dc:description/>
  <dc:language>en-US</dc:language>
  <cp:lastModifiedBy>malsudairi</cp:lastModifiedBy>
  <dcterms:modified xsi:type="dcterms:W3CDTF">2003-09-19T13:01:17Z</dcterms:modified>
  <cp:revision>26</cp:revision>
  <dc:subject/>
  <dc:title>PowerPoint Presentation</dc:title>
</cp:coreProperties>
</file>