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35DE-7971-4C8B-BAE7-B5183FC7D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B8AA-A298-4E94-ABA6-F6CA9325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97CF-E9A2-4B2C-BA7D-996F8921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F12EC-006D-4C34-A2AD-6213FB818E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F0445-2B0B-4D30-BE4F-F207A08D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801F2-9161-415B-95A4-A6AC738C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12E38-1160-47F2-8C70-9190CC07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92883-5E86-49D8-A16E-CF1E0B1B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80999-E1CF-40CB-BA98-5589E289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774F1-C1A4-4A01-BA75-D9B56CAD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3FFFF-F29C-4792-9BC2-8CA10121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E947-1439-473C-9260-E8057BBE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B129F-7891-4233-9AEB-C1898D9C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B8325-1375-4884-B574-4BAE3D7C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FD0C8-F4EB-418A-9D1B-973164AF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79070-F63A-4B1D-855F-BE3ECFF4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BB95D-BA24-408A-86B8-5760A6ED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6EB5-1CF5-4A10-B563-BEE85B3B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8E5C-B7F0-4B07-BFB1-0517A777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45EC-6754-4498-8EAA-2C4C4006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5948-F10D-452C-A212-74DBCE5E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2582-C4E3-4F81-98AF-3CD4AE40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8B5D-6577-42F7-B3BA-D31BF056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97AA-A300-4473-B602-DB24983F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B04A0BF-91D6-4066-8269-D9DA7920371E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6:47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27BE0D2-807B-46BA-9BE9-980AC04C8082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6:47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حاسب آلي الثاني 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B846-EF43-432A-BB2A-2423C6B3BAE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</a:rPr>
              <a:t>أهمية الحاسب الآلي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بن أحمد السدير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C794D-FD7A-4CA0-A468-544931B8437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صادر البيانات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صادر داخلية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المعلومات التي يمكن الحصول عليها من داخل المنشأة وتكون تحت مظلة المنشأة ومرتبطة ب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سويق ، الإنتاج  ، التوزيع ، الإدارة، المحاسبة...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صادر خارجية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تتمثل في البيانات الموجودة في الإطار الخارجي للمنشأة والتي لا تخضع لمظلة المنشأة إلا في نطاق محد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السوق ، المنافسين، المستهلكين ، المجتمع ....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04DD9-78E5-4FD2-8E1A-A599D4056F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تشغيل و معالجة البيانات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نظام الذي يقوم بتشغيل المعلومات يسمى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نظام تشغيل البيان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عالجة هي مجموعة من الإجراءات التي تجرى على البيانات لتحويلها إلى معلومات. و هذه الإجراءات تجرى على جميع البيانات بلا استثناء فالبيانات لا يمكن الاستفادة منها بدون عملية المعالج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3048120"/>
            <a:ext cx="70106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68040" y="4114800"/>
            <a:ext cx="6142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دخلات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الجة وتحويل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مخرج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56040" y="3124080"/>
            <a:ext cx="153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لية التحك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0"/>
            <a:endCxn id="196" idx="3"/>
          </p:cNvCxnSpPr>
          <p:nvPr/>
        </p:nvCxnSpPr>
        <p:spPr>
          <a:xfrm flipH="1" rot="16200000">
            <a:off x="5963400" y="2113560"/>
            <a:ext cx="1305360" cy="3174120"/>
          </a:xfrm>
          <a:prstGeom prst="bentConnector4">
            <a:avLst>
              <a:gd name="adj1" fmla="val -17517"/>
              <a:gd name="adj2" fmla="val 117649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199" name=""/>
          <p:cNvSpPr/>
          <p:nvPr/>
        </p:nvSpPr>
        <p:spPr>
          <a:xfrm flipH="1">
            <a:off x="5714640" y="43434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66520" y="43434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800600" y="35049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581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6" idx="3"/>
            <a:endCxn id="195" idx="0"/>
          </p:cNvCxnSpPr>
          <p:nvPr/>
        </p:nvCxnSpPr>
        <p:spPr>
          <a:xfrm flipH="1" flipV="1">
            <a:off x="5028480" y="3047760"/>
            <a:ext cx="3174120" cy="1305360"/>
          </a:xfrm>
          <a:prstGeom prst="bentConnector4">
            <a:avLst>
              <a:gd name="adj1" fmla="val -17649"/>
              <a:gd name="adj2" fmla="val 117517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4" name=""/>
          <p:cNvCxnSpPr/>
          <p:nvPr/>
        </p:nvCxnSpPr>
        <p:spPr>
          <a:xfrm rot="5400000">
            <a:off x="2584080" y="2139120"/>
            <a:ext cx="1229400" cy="3045600"/>
          </a:xfrm>
          <a:prstGeom prst="bentConnector4">
            <a:avLst>
              <a:gd name="adj1" fmla="val -18599"/>
              <a:gd name="adj2" fmla="val 107506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4A39-E271-44A7-B3D7-FBE763B8DB4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طرق أو أنواع معالجة البيانات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سجيل البيانا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صنيف وترتيب وفرز البيانات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دمج أكثر من ملف ذو علاق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جراء العمليات الحاسبي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خز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رجاع البيانات "استعادة"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لخيص والتقري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E78F-F6DA-4E8B-B099-2600E8E46002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همية الحاسب الآلي للمنشأة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نشأت أهمية الحاسب في ظل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ضخم مجالات الأعمال وتعقدها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وسع أعداد المنتجات والخدمات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زدياد درجة المخاطر في إدارة الأعمال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زدياد حجم المنافسة في السو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زدياد عدد العاملين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زدياد عدد الفرو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5638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5638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638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5638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5638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5638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917D-9D4F-456F-BD1C-2F70DE6791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همية الحاسب الآلي للمنشأة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ناصر السابقة أدت إلى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ضرورة اتخاذ القرارات في وقت قصي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ضرورة التنبؤ بما سيحدث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ضرورة وجود شبكة مطورة للمعلومات مرتبطة بجميع الإدارات و الفرو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تخذ القرار يستطيع في الوقت المناسب بناءاً على ما لديه من معلومات اتخاذ القرار المناسب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5862-5C7D-4D03-A00A-5FAA8ECCCC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و مجموعة من العناصر التي تقيم علاقة متبادلة لتكون وحدة واحدة أو خليه واحد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تعريف أدق هي مجموعة من العناصر تعمل وتتفاعل مع بعضها البعض لتحقيق هدفاً محدداً وهو قبول المدخلات لتقدم المخرجات بطريقه منتظمة ومنظم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هو مجموعة من العناصر أو الأجزاء التي تتكامل مع بعضها بغرض مشترك لتحقيق هدف مع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D895-8192-4E92-9F1C-BB67711D0B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066680"/>
            <a:ext cx="8229600" cy="5486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752480"/>
            <a:ext cx="7315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4648320"/>
            <a:ext cx="1600200" cy="6094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دخل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2743200"/>
            <a:ext cx="1600200" cy="6094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رفابة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4648320"/>
            <a:ext cx="1600200" cy="6094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عالج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648320"/>
            <a:ext cx="1600200" cy="6094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خرج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505320"/>
            <a:ext cx="0" cy="10666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276720" y="4952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638320" y="4952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895120" y="30481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915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67800" y="363204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حك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391520" y="3276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67400" y="279396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غذية العكس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86692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96920" y="28195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غذية العكس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73480" y="358128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حك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200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9625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95560" y="54864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دود النظام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65640" y="601992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نظم الاخرى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315360" y="1219320"/>
            <a:ext cx="46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يئة  الحكومة الاقتصاد  المنافسة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522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DEE3-A102-4430-B6A5-0069CC3756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آلية التحك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طبق المراقبة والتحليل التنفيذية الذاتية للتأكد من أن النظام يعمل كما هو مرسوم ومراد منه لعمل لتحقيق أهداف المنظم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أداة لضبط النظام وتتحكم في عملياته حتى تتم عمليات التحويل بطريقة مناسب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غذية الذاتي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بيانات عن عمل النظام أو تنفيذ النظا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8F1C9-8255-4757-8179-95179A57E9F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بيانات 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Dat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يانات هي مادة خامة أو ملاحظة غالباً ما تكون لشيء موجود في الطبيعة أو العمليات الإداري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يانات هي الحجر الأساسي الذي لا يقبل التجزئة وتستخدم مع بعضها البعض لتكوين المعلوما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حقائق ، رموز ، أرقام ، ملاحظات، حروف ، جمل تكوُن  المادة الخام حيث تجرى عليها العمليات المختلفة داخل الحاسب الآلي لإنتاج المعلوما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60DA-D60E-474E-8CFE-1E30492672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معلومات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بيانات تم تحويلها إلى معنى حقيقي ومفيد لمتخذ القرا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البيانات تستخدم كأساس لاتخاذ القرارات أو الحسابات أو القياسات فيمكن مثلا أن تكون البيانات عبارة عن عدد ساعات العمل التي قام بها  كل موظف في الشركة ، و يمكن أن تكون البيانات أجر كل ساعة عمل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يتم تشغيل هذه البيانات لتتحول إلى معلومات بواسطة ضرب عدد ساعات العمل في معدل الأجر  = إجمالي الأجر للعمال أو معدل الأجور.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هذه معلومة لملاك الشرك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عتبر المعلومات بيانات تتم معالجتها للحصول على المطلوب فهي نتائج تشغيل البيانات عن طريق التجميع والتسجيل والتخليص للبيانات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علومات هي تلخيص البيانات أو معالجة أو تطور البيانا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EFAE-6EF5-4ADA-9E9C-85078B3155E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فرق بين البيانات و المعلومات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بيان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غير منظم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كر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يس بها تفاصي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غير دقيق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ا يمكن الاعتماد عليه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نظم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ادة لا تكون مكر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ها تفاصيل واضح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دقيق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مكن الاعتماد عليه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520E-7CD7-494C-A83D-F500315741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58:10Z</dcterms:created>
  <dc:creator>Unknown User</dc:creator>
  <dc:description/>
  <dc:language>en-US</dc:language>
  <cp:lastModifiedBy>malsudairi</cp:lastModifiedBy>
  <dcterms:modified xsi:type="dcterms:W3CDTF">2003-09-19T13:48:16Z</dcterms:modified>
  <cp:revision>16</cp:revision>
  <dc:subject/>
  <dc:title>PowerPoint Presentation</dc:title>
</cp:coreProperties>
</file>