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AD94E-8A8C-455F-9893-37D6430763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F2EE4-B379-4F9B-AC43-A37B565E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0ABED-3FAD-4BC4-827D-9412AAE0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56044-7C1A-478D-9B64-20C9F37A45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EE77F-22C1-4256-AEEE-B7DA7FDF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95E31-54DB-4711-A892-55790DE8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88E92-53C4-48D2-913F-987779AB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7A6C6-F973-4E25-8757-473D33F0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ECE39-C8CE-4C9D-B845-E4891304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3829B-4298-4ACC-843B-EEB70C15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6F3F0-BD3D-4339-AD8F-8F5E939F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38838-BBF0-45AB-876F-977CDC00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6D62E-016C-497B-8D1E-78BBEEBD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6C76D-9B14-4B81-8E63-7E52C062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8E32A-DF4C-4824-90C9-85890034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6F711-CA44-4848-97D9-9A442CE7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1424C-FE31-42E6-ACA3-6CC55D1F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1E8D7-179E-4A7F-B1EE-543111D7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48BF-91F9-4A44-8B15-1B331397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EE3AB-C4B8-4421-B7C3-D22DED5F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ED65-37B3-4BAF-BE03-D99D47E8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63131-5136-45DA-AD62-09E7A7DE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C5350-CBC2-4B0F-A22A-C2494C08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A549C-DE51-4C65-A637-C3EF5233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0120BA7C-2EF0-4A89-B07D-379DBA4E3F49}" type="datetime10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08:45</a:t>
            </a:fld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4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239CFCEA-B239-43C6-82D0-9E30C710C10F}" type="datetime10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08:45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حاسب آلي الثاني 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4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AB1F-03A8-4F79-81B3-960B708BC77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raditional Arabic"/>
              </a:rPr>
              <a:t>أهمية الحاسب الآلي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. محمد بن أحمد السدير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0A952-B2B9-41FB-B01B-9F42CFBF62A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مصادر البيانات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صادر داخلية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هي المعلومات التي يمكن الحصول عليها من داخل المنشأة وتكون تحت مظلة المنشأة ومرتبطة بها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سويق ، الإنتاج  ، التوزيع ، الإدارة، المحاسبة.....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صادر خارجية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هي تتمثل في البيانات الموجودة في الإطار الخارجي للمنشأة والتي لا تخضع لمظلة المنشأة إلا في نطاق محد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السوق ، المنافسين، المستهلكين ، المجتمع ......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B2FB7-5EAE-467C-984B-4C5CAF9D09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تشغيل و معالجة البيانات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نظام الذي يقوم بتشغيل المعلومات يسمى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نظام تشغيل البيان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عالجة هي مجموعة من الإجراءات التي تجرى على البيانات لتحويلها إلى معلومات. و هذه الإجراءات تجرى على جميع البيانات بلا استثناء فالبيانات لا يمكن الاستفادة منها بدون عملية المعالج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3048120"/>
            <a:ext cx="70106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68040" y="4114800"/>
            <a:ext cx="6142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دخلات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عالجة وتحويل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مخرج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56040" y="3124080"/>
            <a:ext cx="1530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إلية التحك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0"/>
            <a:endCxn id="196" idx="3"/>
          </p:cNvCxnSpPr>
          <p:nvPr/>
        </p:nvCxnSpPr>
        <p:spPr>
          <a:xfrm flipH="1" rot="16200000">
            <a:off x="5963400" y="2113560"/>
            <a:ext cx="1305360" cy="3174120"/>
          </a:xfrm>
          <a:prstGeom prst="bentConnector4">
            <a:avLst>
              <a:gd name="adj1" fmla="val -17517"/>
              <a:gd name="adj2" fmla="val 117649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199" name=""/>
          <p:cNvSpPr/>
          <p:nvPr/>
        </p:nvSpPr>
        <p:spPr>
          <a:xfrm flipH="1">
            <a:off x="5714640" y="434340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666520" y="434340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800600" y="35049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3581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196" idx="3"/>
            <a:endCxn id="195" idx="0"/>
          </p:cNvCxnSpPr>
          <p:nvPr/>
        </p:nvCxnSpPr>
        <p:spPr>
          <a:xfrm flipH="1" flipV="1">
            <a:off x="5028480" y="3047760"/>
            <a:ext cx="3174120" cy="1305360"/>
          </a:xfrm>
          <a:prstGeom prst="bentConnector4">
            <a:avLst>
              <a:gd name="adj1" fmla="val -17649"/>
              <a:gd name="adj2" fmla="val 117517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4" name=""/>
          <p:cNvCxnSpPr/>
          <p:nvPr/>
        </p:nvCxnSpPr>
        <p:spPr>
          <a:xfrm rot="5400000">
            <a:off x="2584080" y="2139120"/>
            <a:ext cx="1229400" cy="3045600"/>
          </a:xfrm>
          <a:prstGeom prst="bentConnector4">
            <a:avLst>
              <a:gd name="adj1" fmla="val -18599"/>
              <a:gd name="adj2" fmla="val 107506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42E0D-A240-4F63-B447-01155F83464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طرق أو أنواع معالجة البيانات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سجيل البيانا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صنيف وترتيب وفرز البيانات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دمج أكثر من ملف ذو علاق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إجراء العمليات الحاسبي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خزين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سترجاع البيانات "استعادة"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لخيص والتقري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F6448-6E33-4168-93E3-C701291818F0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أهمية الحاسب الآلي للمنشأة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0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نشأت أهمية الحاسب في ظل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 rtl="1"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ضخم مجالات الأعمال وتعقدها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 rtl="1"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وسع أعداد المنتجات والخدمات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 rtl="1"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زدياد درجة المخاطر في إدارة الأعمال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 rtl="1"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زدياد حجم المنافسة في السوق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 rtl="1"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زدياد عدد العاملين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 rtl="1"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زدياد عدد الفرو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5638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5638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5638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5638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5638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5638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8030D-4630-4633-B77B-701137DE32D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أهمية الحاسب الآلي للمنشأة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عناصر السابقة أدت إلى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ضرورة اتخاذ القرارات في وقت قصي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ضرورة التنبؤ بما سيحدث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ضرورة وجود شبكة مطورة للمعلومات مرتبطة بجميع الإدارات و الفرو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تخذ القرار يستطيع في الوقت المناسب بناءاً على ما لديه من معلومات اتخاذ القرار المناسب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25BF5-6333-4966-BFC6-2C3F621D131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نظام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و مجموعة من العناصر التي تقيم علاقة متبادلة لتكون وحدة واحدة أو خليه واحد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بتعريف أدق هي مجموعة من العناصر تعمل وتتفاعل مع بعضها البعض لتحقيق هدفاً محدداً وهو قبول المدخلات لتقدم المخرجات بطريقه منتظمة ومنظم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 هو مجموعة من العناصر أو الأجزاء التي تتكامل مع بعضها بغرض مشترك لتحقيق هدف معين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723B0-B696-408A-8C70-63066BFF186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1066680"/>
            <a:ext cx="8229600" cy="5486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1752480"/>
            <a:ext cx="7315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4648320"/>
            <a:ext cx="1600200" cy="60948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دخلات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2743200"/>
            <a:ext cx="1600200" cy="60948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رفابة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4648320"/>
            <a:ext cx="1600200" cy="60948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عالج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4648320"/>
            <a:ext cx="1600200" cy="60948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خرجات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3505320"/>
            <a:ext cx="0" cy="10666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276720" y="49528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638320" y="4952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895120" y="30481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391520" y="4038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67800" y="363204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حك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391520" y="32767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67400" y="279396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غذية العكس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866920" y="2971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96920" y="28195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غذية العكس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73480" y="358128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حك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3200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9625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95560" y="548640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حدود النظام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65640" y="601992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نظم الاخرى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315360" y="1219320"/>
            <a:ext cx="46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بيئة  الحكومة الاقتصاد  المنافسة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1522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نظا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8F5E2-C3AD-4B39-B43B-F7FFFCF956C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نظام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آلية التحك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طبق المراقبة والتحليل التنفيذية الذاتية للتأكد من أن النظام يعمل كما هو مرسوم ومراد منه لعمل لتحقيق أهداف المنظم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ي أداة لضبط النظام وتتحكم في عملياته حتى تتم عمليات التحويل بطريقة مناسب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غذية الذاتي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ي بيانات عن عمل النظام أو تنفيذ النظا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8344A-5990-453D-B128-1FEA1630449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بيانات 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Dat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بيانات هي مادة خامة أو ملاحظة غالباً ما تكون لشيء موجود في الطبيعة أو العمليات الإداري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بيانات هي الحجر الأساسي الذي لا يقبل التجزئة وتستخدم مع بعضها البعض لتكوين المعلوما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ي حقائق ، رموز ، أرقام ، ملاحظات، حروف ، جمل تكوُن  المادة الخام حيث تجرى عليها العمليات المختلفة داخل الحاسب الآلي لإنتاج المعلوما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6B106-0AE5-4B18-AB88-F9A8CDF4BC0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معلومات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Inform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ي بيانات تم تحويلها إلى معنى حقيقي ومفيد لمتخذ القرار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البيانات تستخدم كأساس لاتخاذ القرارات أو الحسابات أو القياسات فيمكن مثلا أن تكون البيانات عبارة عن عدد ساعات العمل التي قام بها  كل موظف في الشركة ، و يمكن أن تكون البيانات أجر كل ساعة عمل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يتم تشغيل هذه البيانات لتتحول إلى معلومات بواسطة ضرب عدد ساعات العمل في معدل الأجر  = إجمالي الأجر للعمال أو معدل الأجور.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هذه معلومة لملاك الشرك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عتبر المعلومات بيانات تتم معالجتها للحصول على المطلوب فهي نتائج تشغيل البيانات عن طريق التجميع والتسجيل والتخليص للبيانات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علومات هي تلخيص البيانات أو معالجة أو تطور البيانات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E053F-DC57-47DF-AB54-D8AFE8CA269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فرق بين البيانات و المعلومات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بيان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غير منظم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كرر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ليس بها تفاصي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غير دقيق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لا يمكن الاعتماد عليه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علوم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نظم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ادة لا تكون مكرر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بها تفاصيل واضح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دقيق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مكن الاعتماد عليه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C4785-C6A5-4EB6-80CF-5956E55C999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3:58:10Z</dcterms:created>
  <dc:creator>Unknown User</dc:creator>
  <dc:description/>
  <dc:language>en-US</dc:language>
  <cp:lastModifiedBy>malsudairi</cp:lastModifiedBy>
  <dcterms:modified xsi:type="dcterms:W3CDTF">2003-09-19T13:48:16Z</dcterms:modified>
  <cp:revision>16</cp:revision>
  <dc:subject/>
  <dc:title>PowerPoint Presentation</dc:title>
</cp:coreProperties>
</file>