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94A0-EC85-418E-BF2E-02BE5B47CC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D09AE-D740-4636-A3DB-276FEE01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997A7-286D-4897-AAF9-E73D4F75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EFE0F-F84E-41E1-BDDB-2882CEFFAB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4EF7D-897B-4296-97F0-7986A90F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AA1E2-8E74-4725-8C39-8C2B5ED7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BB96B-8F16-47F2-A36A-8BD01E0D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A8864-FFB4-4BD4-BBED-4060B768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F3ACA-8B36-4548-BE4C-497A9372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0FF45-5F35-4DF9-94BA-0DEA0A13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15BDD-6DC4-40AA-971D-E60C255E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A727F-7DD4-45D7-9C74-F80B7411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E0EA8-D25A-45B3-A430-47138618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BFCBD-20A7-4FC8-A46B-B5833BF0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E1EAD-3859-44FB-BAB6-37805879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B607B-5C00-4BA5-B35E-198B3B22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689C8-A5CA-43D4-A886-E10D1D02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B5CCF-31F4-41EE-91A7-10D7060C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0F3B-DF86-4551-9535-D55FD4B9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A8AC3-8BCC-4FEB-BDE5-78345CD2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86180-F445-43D8-B89A-BE4C4F5C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7B7BD-D82E-44D1-9ECF-265B4832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0CCF-FE68-4BD6-8F1E-51207AFB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9DC28-2A95-452B-A1E0-A513B75C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05B381A5-EDA5-40B6-AA1F-06B6AD49F3E8}" type="datetime10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6:46</a:t>
            </a:fld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4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11DF310C-376F-4232-9BD5-1B5FE49A2C4D}" type="datetime10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6:4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حاسب آلي الثاني 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4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C0FD-BBA7-4D0F-B882-B10798A7635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00"/>
                </a:solidFill>
                <a:latin typeface="Simplified Arabic"/>
                <a:cs typeface="Traditional Arabic"/>
              </a:rPr>
              <a:t>طريقة تمثيل البيانات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. محمد بن أحمد السدير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00B19-3CE0-4AB1-9B89-8437F585146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700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 algn="r" rtl="1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قسم العدد العشري على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 باقي القسمة يوضع في الخانة رقم  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 للعدد الثنائي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 algn="r" rtl="1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ذا كان ناتج القسمة الصحيحة يساوي صفر 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توق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 algn="r" rtl="1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قسم ناتج القسمة الصحيحة على الرقم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 الباقي يوضع في الخانة التالية للعدد الثنائ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 algn="r" rtl="1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ذهب الى الخطوة السابقة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3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÷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=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و الباقي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÷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=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و الباقي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÷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=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و الباقي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÷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=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و الباقي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تحول من النظام العشري إلى النظام الثنائي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952880"/>
            <a:ext cx="3352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رقم الخانة   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محتوى الخانة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90720" y="4952880"/>
          <a:ext cx="3429000" cy="1143000"/>
        </p:xfrm>
        <a:graphic>
          <a:graphicData uri="http://schemas.openxmlformats.org/drawingml/2006/table">
            <a:tbl>
              <a:tblPr/>
              <a:tblGrid>
                <a:gridCol w="1828800"/>
                <a:gridCol w="16002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6660D-042A-4F49-B623-8E9C0857C7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700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تحول العدد العشري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2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÷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6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الباقي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6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÷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الباقي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÷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الباقي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÷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الباقي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÷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الباقي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÷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الباقي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÷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الباقي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رقم الخانة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محتواها 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تحول من النظام العشري إلى النظام الثنائي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9AAE6-AF3D-4A03-BBA8-F90B15E3BB3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70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ثال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 algn="r" rtl="1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عدد  العشري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عدد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ساس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خارج القسمة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الباق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عدد الثنائي المكافئ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110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تحول من النظام العشري إلى النظام الثنائي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A8C24-2E6F-4954-B242-969897A1A01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187280" y="800280"/>
          <a:ext cx="6821640" cy="5149800"/>
        </p:xfrm>
        <a:graphic>
          <a:graphicData uri="http://schemas.openxmlformats.org/drawingml/2006/table">
            <a:tbl>
              <a:tblPr/>
              <a:tblGrid>
                <a:gridCol w="735120"/>
                <a:gridCol w="936360"/>
                <a:gridCol w="1471680"/>
                <a:gridCol w="1336680"/>
                <a:gridCol w="1405080"/>
                <a:gridCol w="936720"/>
              </a:tblGrid>
              <a:tr h="39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النظام الثنائ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النظام العشر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51FB7-32FA-494D-8CE2-4716CDB3CB2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066680" y="111240"/>
          <a:ext cx="7772400" cy="6746760"/>
        </p:xfrm>
        <a:graphic>
          <a:graphicData uri="http://schemas.openxmlformats.org/drawingml/2006/table">
            <a:tbl>
              <a:tblPr/>
              <a:tblGrid>
                <a:gridCol w="685800"/>
                <a:gridCol w="1067040"/>
                <a:gridCol w="1218960"/>
                <a:gridCol w="1371600"/>
                <a:gridCol w="1219320"/>
                <a:gridCol w="1143000"/>
                <a:gridCol w="1066680"/>
              </a:tblGrid>
              <a:tr h="5205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النظام الثنائ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النظام العشر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715E2-A1B7-46A1-BFBA-0F072F1336F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 الثماني  و النظام السداسي عشر أو النظام السادس عشري أو السداسي العشر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عاب على النظام الثنائي أنه يحتاج إلى أعداد كثيرة لتمثيل رقم معين طول جمل البرنامج وتعقيد تركيبته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دم تذكر مخطط البرامج بجميع تفاصيل البرامج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صعوبة عملية كتابه البرنامج بدون خطأ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لذلك ظهر النظام الثماني و النظام السداسي عشر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للتغلب على هذه المشكل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مكن أن يختصر الثماني خانات الثنائية إلى خانتين فقط وهذا ساعد في عملية الترمي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8322-2F0A-4F31-A026-4ABE224076F5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Simplified Arabic"/>
                <a:cs typeface="Traditional Arabic"/>
              </a:rPr>
              <a:t>عملية تمثيل البيانات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cs typeface="Traditional Arabic"/>
              </a:rPr>
              <a:t>الحاسب الآلي لا يستطيع فهم البيانات التي تتعامل بها نحن البشر مثل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cs typeface="Traditional Arabic"/>
              </a:rPr>
              <a:t>الأرقام   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( 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)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cs typeface="Traditional Arabic"/>
              </a:rPr>
              <a:t>و الرموز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( % # @ &amp; $ × ÷)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cs typeface="Traditional Arabic"/>
              </a:rPr>
              <a:t>و الحروف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( أ ب ت ) ما لم يتم تحويلها إلى شكل يستطيع فهمه ومعالجت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cs typeface="Traditional Arabic"/>
              </a:rPr>
              <a:t>الحاسب يستجيب فقط إلى الإشارات الإلكترونية … والتي تقوم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cs typeface="Traditional Arabic"/>
              </a:rPr>
              <a:t>بفتح أو إغلاق المفاتيح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والتي لا تسمح بمرور التيار الكهربائي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cs typeface="Traditional Arabic"/>
              </a:rPr>
              <a:t>وهذا يتماشي مع ما يعرف باسم النظام الثنائي والتي يمكن استخدامها بتمثيل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cs typeface="Traditional Arabic"/>
              </a:rPr>
              <a:t>حالتي مرور أو عدم مرور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التيار الكهربائي أو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حالتي التشغيل  أو عدم التشغيل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On / Off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cs typeface="Traditional Arabic"/>
              </a:rPr>
              <a:t>نحن معتادين على النظام العشري ومكوناته عشرة خانات  (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9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) بالمقارنة بهذا النظام، النظام الثنائي يتكون من رمزين أو خانتين هما (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إلى 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88CD8-5B3E-4544-A07C-869341F3A05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</a:rPr>
              <a:t>النظام العشري و النظام الثنائي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cs typeface="Traditional Arabic"/>
              </a:rPr>
              <a:t>النظام العشري ومكوناته عشرة خانات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0-1-2-3-5-6-7-8-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cs typeface="Traditional Arabic"/>
              </a:rPr>
              <a:t>النظام العشري يستخدم الأساس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8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º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  10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¹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 10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²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    .....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cs typeface="Traditional Arabic"/>
              </a:rPr>
              <a:t>النظام الثنائي يتكون من رمزين أو خانتين هما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و 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يستخدم النظام الثنائي الأساس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cs typeface="Traditional Arabic"/>
              </a:rPr>
              <a:t>قيمة أي موقع تساوي ضعف قيمة الموقع الذي يقع على يمينه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8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º   </a:t>
            </a:r>
            <a:r>
              <a:rPr b="0" lang="en-US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¹    </a:t>
            </a:r>
            <a:r>
              <a:rPr b="0" lang="en-US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²   </a:t>
            </a:r>
            <a:r>
              <a:rPr b="0" lang="en-US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8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    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4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16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.......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25F97-6D46-4913-8B6E-6CBD6FB3D9C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 الثنائي :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حاسب يستخدم النظام الثنائي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،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)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On,Off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للتمثيل البياني. وهي لغة التعامل داخل الحاسب وجميع البيانات والبرامج التي تدخل إلى الحاسب تتمثل بهذه الأرقام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،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و نظام عددي يتكون فقط من رقمين هما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،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ثال : المصباح ، الباب (مفتوح – مغلق) وهذا ما يفهمه الحاسب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ي الحاسب الخانة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يمثل تيار كهربائي معلق أو غير مشحون أو يسير به تيار كهربائي منخفض الكثاف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 الخانة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يمثل تيار كهربائي مفتوح أو مشحون أو يسير به تيار كهربائي عالي الكثاف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0EAA-41BC-43B6-8D1B-40F6CF5534B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                       النظام العشري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ثال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رقم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5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آحاد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شرات    مئ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رقم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وزان المواقع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قيم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ة العدد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  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+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+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5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C7BB9-64CA-4768-904B-438D84D3FC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90720" y="1219320"/>
            <a:ext cx="795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رقم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987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آحاد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شرات    مئات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لو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رقم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وزان المواقع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قيم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ة العدد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 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9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+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+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+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90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987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                        النظام العشري</a:t>
            </a:r>
            <a:br>
              <a:rPr sz="4000"/>
            </a:br>
            <a:r>
              <a:rPr b="0" lang="ar-SA" sz="40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مثال :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019A-4BA5-484A-8FCB-55E0F553A88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240" y="124920"/>
            <a:ext cx="312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                         النظام الثنائي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عدد الثنائي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رقام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وزان المواقع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º       </a:t>
            </a:r>
            <a:r>
              <a:rPr b="0" lang="en-US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¹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 الأوزان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ة العدد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  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+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B1D5F-C9F7-42EB-AAFC-8148B1D95A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                         النظام الثنائي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ثال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عدد الثنائي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1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رقام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وزان المواقع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     </a:t>
            </a:r>
            <a:r>
              <a:rPr b="0" lang="en-US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º       </a:t>
            </a:r>
            <a:r>
              <a:rPr b="0" lang="en-US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¹      </a:t>
            </a:r>
            <a:r>
              <a:rPr b="0" lang="en-US" sz="32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2</a:t>
            </a:r>
            <a:r>
              <a:rPr b="0" lang="ar-SA" sz="32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²      </a:t>
            </a:r>
            <a:r>
              <a:rPr b="0" lang="en-US" sz="32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2</a:t>
            </a:r>
            <a:r>
              <a:rPr b="0" lang="ar-SA" sz="32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 الأوزان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ة العدد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  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+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+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+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5FB12-D47D-4C9B-97ED-62E298FA1BE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82440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تحول من النظام الثنائي إلى النظام العشري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5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عدد الثنائي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1101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رقام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وزان المواقع   = 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3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4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5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6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 الأوزان    =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ة العدد     =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+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+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+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=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+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+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+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+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+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+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=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9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3F06-A6EE-4C29-9708-29AFB127C23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3:58:10Z</dcterms:created>
  <dc:creator>Unknown User</dc:creator>
  <dc:description/>
  <dc:language>en-US</dc:language>
  <cp:lastModifiedBy>ECON-124-42</cp:lastModifiedBy>
  <dcterms:modified xsi:type="dcterms:W3CDTF">2004-07-07T06:05:12Z</dcterms:modified>
  <cp:revision>32</cp:revision>
  <dc:subject/>
  <dc:title>PowerPoint Presentation</dc:title>
</cp:coreProperties>
</file>