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E24B-ECF6-46AB-AFF5-49AA1633A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C2EB-B686-48EF-B54C-D22972C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881C-B53D-448D-9174-4FF7BE4F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71F4-F5E1-45C6-ADE2-EAA7C61F6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F3071-664A-4B00-BE19-F2EA1491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E2A50-AB07-441E-A5A8-DE69BC2A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C1C0B-D6E0-48B6-96CC-FBF26B74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62D5D-BAB5-40D3-AF09-9A7AC98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B7C4A-6097-417C-9F20-B00ACB62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9D273-B288-4F4C-92C9-69E714C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602E4-A919-464A-9362-5EA28DE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C084-5FDC-478B-8603-60D4B8C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1030F-1B3B-486A-86CF-37BC400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79390-7E22-47DF-BB18-123DC12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5B572-5E96-43E1-9D01-58021AE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8335A-B441-4D36-AC5E-1F21608E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B6771-8F3F-4DB0-A029-ED7C6AA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F8E7-335B-45FE-B7F7-51AFF821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365F-3467-46A4-9A12-CA8F123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C451-CEFE-4080-A043-B24C9AF8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EC1E-39B1-474E-8A83-D7C68932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A9BD-00BF-4523-827C-8AC3C00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7A8D-D721-42A8-B4E5-BAB3E12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D886-81FC-4FC9-A523-305C4B1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2C96BBC-B8D0-47F9-96BC-394B25F01FD8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7CB1BDA-F9A8-48E8-8774-4AC2EBA99CB8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991-EC70-4834-A64E-D457DBA1446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طريقة تمثيل البيانات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F25DE-3B66-4A06-858A-AE4E2F054D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قسم العدد العشري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باقي القسمة يوضع في الخانة رقم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 للعدد الثنائي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ذا كان ناتج القسمة الصحيحة يساوي صفر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تو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إقسم ناتج القسمة الصحيحة على الرق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الباقي يوضع في الخانة التالية للعدد الثنائ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-56052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ذهب الى الخطوة السابقة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÷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÷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÷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÷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=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و الباق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9528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رقم الخانة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حتوى الخانة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4952880"/>
          <a:ext cx="3429000" cy="1143000"/>
        </p:xfrm>
        <a:graphic>
          <a:graphicData uri="http://schemas.openxmlformats.org/drawingml/2006/table">
            <a:tbl>
              <a:tblPr/>
              <a:tblGrid>
                <a:gridCol w="1828800"/>
                <a:gridCol w="16002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55F9-D80E-499E-9C1A-95AE5561D3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حول العدد العشر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2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÷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الباقي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÷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الباقي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رقم الخان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حتواها 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45F0-0E77-4767-827C-3C8E5CDE1F6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 العشر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ساس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خارج القسم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الباق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المكافئ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11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عشري إلى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7A0C-06A9-45EB-A199-01CC81D01A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187280" y="800280"/>
          <a:ext cx="6821640" cy="5149800"/>
        </p:xfrm>
        <a:graphic>
          <a:graphicData uri="http://schemas.openxmlformats.org/drawingml/2006/table">
            <a:tbl>
              <a:tblPr/>
              <a:tblGrid>
                <a:gridCol w="735120"/>
                <a:gridCol w="936360"/>
                <a:gridCol w="1471680"/>
                <a:gridCol w="1336680"/>
                <a:gridCol w="1405080"/>
                <a:gridCol w="93672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ثنائ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عشر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0513-39B9-4D1B-961D-22CCF902AF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066680" y="111240"/>
          <a:ext cx="7772400" cy="6746760"/>
        </p:xfrm>
        <a:graphic>
          <a:graphicData uri="http://schemas.openxmlformats.org/drawingml/2006/table">
            <a:tbl>
              <a:tblPr/>
              <a:tblGrid>
                <a:gridCol w="685800"/>
                <a:gridCol w="1067040"/>
                <a:gridCol w="1218960"/>
                <a:gridCol w="1371600"/>
                <a:gridCol w="1219320"/>
                <a:gridCol w="1143000"/>
                <a:gridCol w="1066680"/>
              </a:tblGrid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ثنائ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raditional Arabic"/>
                        </a:rPr>
                        <a:t>النظام العشر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raditional Arabic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7EE9-019B-4A5D-ABC7-96DBF8F8A6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و النظام السداسي عشر أو النظام السادس عشري أو السداسي العشر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اب على النظام الثنائي أنه يحتاج إلى أعداد كثيرة لتمثيل رقم معين طول جمل البرنامج وتعقيد تركيبت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دم تذكر مخطط البرامج بجميع تفاصيل البرامج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عوبة عملية كتابه البرنامج بدون خط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ذلك ظهر النظام الثماني و النظام السداسي عش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للتغلب على هذه المشكل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أن يختصر الثماني خانات الثنائية إلى خانتين فقط وهذا ساعد في عملية الترمي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D07E-81D8-4F36-9567-934699DD2B2F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Simplified Arabic"/>
                <a:cs typeface="Traditional Arabic"/>
              </a:rPr>
              <a:t>عملية تمثيل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حاسب الآلي لا يستطيع فهم البيانات التي تتعامل بها نحن البشر مثل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الأرقام  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)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و الرموز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% # @ &amp; $ × ÷)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و الحروف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( أ ب ت ) ما لم يتم تحويلها إلى شكل يستطيع فهمه ومعالجت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حاسب يستجيب فقط إلى الإشارات الإلكترونية … والتي تقوم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بفتح أو إغلاق المفاتيح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والتي لا تسمح بمرور التيار الكهربائ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وهذا يتماشي مع ما يعرف باسم النظام الثنائي والتي يمكن استخدامها بتمثيل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حالتي مرور أو عدم مرور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التيار الكهربائي أو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حالتي التشغيل  أو عدم التشغيل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n / Off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نحن معتادين على النظام العشري ومكوناته عشرة خانات  (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) بالمقارنة بهذا النظام، النظام الثنائي يتكون من رمزين أو خانتين هما (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إلى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F068-0C29-4259-8BF6-3FE39AE604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النظام العشري و النظام الثنائي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عشري ومكوناته عشرة خانات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-1-2-3-5-6-7-8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عشري يستخدم الأساس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º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 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¹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1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²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    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النظام الثنائي يتكون من رمزين أو خانتين هم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ea typeface="Traditional Arabic"/>
              </a:rPr>
              <a:t> يستخدم النظام الثنائي الأساس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Simplified Arabic"/>
                <a:cs typeface="Traditional Arabic"/>
              </a:rPr>
              <a:t>قيمة أي موقع تساوي ضعف قيمة الموقع الذي يقع على يمينه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²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.....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E4AD-B39C-4702-9F58-0F650EFDFB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نائي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حاسب يستخدم النظام الثنائي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)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n,Off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للتمثيل البياني. وهي لغة التعامل داخل الحاسب وجميع البيانات والبرامج التي تدخل إلى الحاسب تتمثل بهذه الأرقام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و نظام عددي يتكون فقط من رقمين هما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،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: المصباح ، الباب (مفتوح – مغلق) وهذا ما يفهمه الحاس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ي الحاسب الخان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يمثل تيار كهربائي معلق أو غير مشحون أو يسير به تيار كهربائي منخفض الكثاف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الخان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يمثل تيار كهربائي مفتوح أو مشحون أو يسير به تيار كهربائي عالي الكثاف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A83D-9B55-41F9-AD40-33C5984F1F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النظام العشر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5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حا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شرات    مئ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قيم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5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F0D3-6AFE-4348-864A-DFC678DA97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95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87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حا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شرات    مئات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ل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رق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قيم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+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+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0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87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النظام العشري</a:t>
            </a:r>
            <a:br>
              <a:rPr sz="4000"/>
            </a:br>
            <a:r>
              <a:rPr b="0" lang="ar-SA" sz="40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مثال :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4C92-33A1-4317-90FD-D0D3FB2271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240" y="124920"/>
            <a:ext cx="312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 النظام الثنائي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7BB0-5C12-4F84-9C95-25FFED47C4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                         النظام الثنائ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1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º       </a:t>
            </a:r>
            <a:r>
              <a:rPr b="0" lang="en-US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¹      </a:t>
            </a:r>
            <a:r>
              <a:rPr b="0" lang="en-US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²      </a:t>
            </a:r>
            <a:r>
              <a:rPr b="0" lang="en-US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32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+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35E6-4D4E-40B6-B701-8033D65921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8244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تحول من النظام الثنائي إلى النظام العشري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عدد الثنائ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1101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3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4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Simplified Arabic"/>
              </a:rPr>
              <a:t>6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+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+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74C0-6DA5-47BE-9780-B8EB6713BC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ECON-124-42</cp:lastModifiedBy>
  <dcterms:modified xsi:type="dcterms:W3CDTF">2004-07-07T06:05:12Z</dcterms:modified>
  <cp:revision>32</cp:revision>
  <dc:subject/>
  <dc:title>PowerPoint Presentation</dc:title>
</cp:coreProperties>
</file>