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AA706-A172-432D-86A5-0C9BEC9A47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997C-266C-4C97-9109-980AC422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9D210-9951-4365-9120-7E0A0CF6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E5DAC-A404-48D0-987B-D73DC7ECA3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7D097-1665-4D44-BCE2-5ABCC1DA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D123A-3F40-4E16-93C3-FD25E003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0CA0B-0376-40A8-9C7A-A223E2D4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690C1-3645-4142-A1C8-28BFB38A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75644-1B14-43A2-9678-906A7338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9E048-8C0D-4B0F-8D19-78CA0061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90E4F-A307-4F4A-A994-60AE3812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D6DC-4513-4E5F-BB01-0971639E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13EA6-E8BF-42D4-A1E9-87AAFC90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61315-8B97-45BB-BBB1-CAE0FDF2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86B4D-DD8E-48A1-B08D-1593CCC1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9AF83-E641-484C-9A71-DFC5E31A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4B152-43B9-4BAD-A842-77E30E11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0F248-184B-4373-9CCB-C84F6C5F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B94F-F9BF-40C5-9AE6-E6BF53B2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A7D75-0452-46D4-BD26-8A4E0992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E82E3-BF51-42FB-8DFB-D601D358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CC06-1BBB-4D8D-956D-3D1BE3B2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A6643-41B3-4D96-8AFD-C1E8F7A3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4B39-E474-497E-9CBC-11147840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AEE54F3E-23DA-4A49-9B9B-DA4F6DDCF881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6:46</a:t>
            </a:fld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4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982D002A-CC5A-4DBA-9C1D-88ED273D6F69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6:4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حاسب آلي الثاني 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4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2BB6-BC40-43EB-805E-2511BE803C8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Simplified Arabic"/>
                <a:cs typeface="Traditional Arabic"/>
              </a:rPr>
              <a:t>طريقة تمثيل البيانات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. محمد بن أحمد السدير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4A1FA-72CC-4AA9-B303-41882FF34D6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سعة الحاسب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سعة الحاسب أو سعته التخزينة يعبر عنها بعدد الخانات البايت أو  بمضاعفاتها مثل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كيلو بايت يعادل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يجا بايت يعادل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أو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جيجا بايت يعادل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أو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6EF4-8071-4DB0-A88B-1A829FC284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وحدات الأساسية لتخزين البيانات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94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66480" indent="-366480" algn="r" rtl="1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  <a:tab algn="l" pos="481968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الكيلو بايت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Killo Byt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KB)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1.00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yte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.02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y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6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  <a:tab algn="l" pos="4819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6480" indent="-366480" algn="r" rtl="1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  <a:tab algn="l" pos="481968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يقا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ايت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ega Byte (MB)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 =   مليون بايت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illion Byt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1.048.567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بايت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732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24200"/>
                <a:tab algn="l" pos="3943440"/>
                <a:tab algn="l" pos="4162320"/>
                <a:tab algn="l" pos="4381560"/>
                <a:tab algn="l" pos="4600440"/>
                <a:tab algn="l" pos="4819680"/>
                <a:tab algn="l" pos="5038560"/>
                <a:tab algn="l" pos="5257800"/>
                <a:tab algn="l" pos="5477040"/>
                <a:tab algn="l" pos="5695920"/>
                <a:tab algn="l" pos="5915160"/>
                <a:tab algn="l" pos="6134040"/>
                <a:tab algn="l" pos="6353280"/>
                <a:tab algn="l" pos="6572160"/>
                <a:tab algn="l" pos="6791400"/>
                <a:tab algn="l" pos="7010280"/>
                <a:tab algn="l" pos="7229520"/>
                <a:tab algn="l" pos="7448400"/>
                <a:tab algn="l" pos="7667640"/>
                <a:tab algn="l" pos="788688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,02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K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6480" indent="-366480" algn="r" rtl="1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  <a:tab algn="l" pos="481968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قا بايت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Giga Byte (GB)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=  بليون  بايت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illion byt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,073,741,824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باي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6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  <a:tab algn="l" pos="48196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,02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6480" indent="-366480" algn="r" rtl="1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  <a:tab algn="l" pos="481968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يري بايت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Tera byte  (TB)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=  ترليون بايت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Trillion byt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,009,511,627,77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باي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6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  <a:tab algn="l" pos="48196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,02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4F86-D8EB-4450-9D74-F2CED7219FF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86920" y="1844640"/>
            <a:ext cx="773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64960" algn="r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كلمة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Word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هي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دد الخانات ”البايت“ الذي يمكن تشغيلها كوحدة واحدة في نفس الوقت. كلما زاد عدد الخانات في الكلمة الواحدة ، كلما استطاع الحاسب تشغيل البيانات بسرع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7120" indent="-264960" algn="r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حاسب الذي طول كلمة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3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بت يشغل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بايت ، و الحاسب الذي طول كلمة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بت يشغل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بايت.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كلمة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946C-657C-43BE-966D-C7EF4BF0E3B2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 الثماني  و النظام السداسي عشر أو النظام السادس عشري أو السداسي العشر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عاب على النظام الثنائي أنه يحتاج إلى أعداد كثيرة لتمثيل رقم معين طول حمل البرنامج وتعقيد تركيبه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دم تذكر مخطط البرامج بجميع تفاصيل البرامج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صعوبة عملية كتابه البرنامج بدون خطأ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لذلك ظهر النظام الثماني و النظام السداسي عشر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للتغلب على هذه المشكل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مكن أن يختصر الثماني خانات الثنائية إلى خانتين فقط وهذا ساعد في عملية الترمي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5B61-F71E-4D7A-84B7-9FC01EEE1FA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 الثماني 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Octal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طباعة محتويات الذاكرة و البرامج بالطريقة الثنائية تحتاج إلى أعداد أكبر من الصفح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ستخدم هذا النظام لكتابة البرامج بطريقة أقصر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ساس النظام الرقم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ستخدم هذا النظام الأرقام من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إ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9762-24AD-4FF7-B0A3-AD9F81C76CD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ثال الرقم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2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يمثل بالطريقة التال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رقام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زان المواقع   = 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80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81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 الأوزان    =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ة العدد     =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=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+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+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9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=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1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 الثماني 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Octal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AE19-76BF-430C-B2D0-BB31600D874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ثال الرقم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يمثل بالطريقة التال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رقام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زان المواقع   = 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80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81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 الأوزان    =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ة العدد     =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=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+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+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4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=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6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 الثماني 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Octal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7BC86-2DA7-4927-982F-8F6741F0FEC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عبر عن محتويات الذاكرة بطريقة أقص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ستخدم الأرقام من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إ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9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بالإضافة إلى الحرو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A = 10, B = 11, C = 12, D = 13, E =14, F = 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ساس النظام  هو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 السداسي عشر 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Hexadecimal System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0C68-229A-4838-9A05-A6D2B1CC9B7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ثال الرق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F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يمثل بالطريقة التال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رقام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زان المواقع   = 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160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161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16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 الأوزان    =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5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ة العدد     =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5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=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+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4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+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5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=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 السداسي عشر 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Hexadecimal System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395A-0DF2-4B66-B9A7-118062E298D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Simplified Arabic"/>
                <a:cs typeface="Traditional Arabic"/>
              </a:rPr>
              <a:t>طريقة التمثيل أو سعة طاقة التخزين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9516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كيف يعبر عن سعة الحاسب  أو كيف يمكن أن نعبر عن الأرقام و الحروف و الكلمات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عبر عنها الخوينة أو بالخانة البت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it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" رقم ثنائي"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كل رمز بالنظام الثنائي يطلق عليه خانه ثنائية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B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nary Digi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خانة ”البت“ هي أصغر  و حدة تخزي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الخانة ”البت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i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“تعنى خانة ثنائية واحدة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أو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كل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أو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يعني  خان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خانات ”البايت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y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” عبارة عن ثمان خوينات أو خانات أو أرقام ثنائي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8DB9-87DB-4BE6-8A22-CF8005503E8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00000" y="148428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خانات البايت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y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عبارة عن ثمان خوينات أو أرقام ثنائ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كل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خانات من  البت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تساوي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yt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هي تمثل كل رقم أو حرف أو رمز خاص مثل ! ؟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بت تتجمع في مجموعة و  المجموعة متكونة من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خوينات يطلق عليها باي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100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H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100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0110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011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0110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</a:rPr>
              <a:t>طريقة التمثيل أو سعة طاقة التخزين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C067-BBB6-42E1-BD5C-3B1C37238B9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3:58:10Z</dcterms:created>
  <dc:creator>Unknown User</dc:creator>
  <dc:description/>
  <dc:language>en-US</dc:language>
  <cp:lastModifiedBy>ECON-124-42</cp:lastModifiedBy>
  <dcterms:modified xsi:type="dcterms:W3CDTF">2004-07-07T06:04:55Z</dcterms:modified>
  <cp:revision>34</cp:revision>
  <dc:subject/>
  <dc:title>PowerPoint Presentation</dc:title>
</cp:coreProperties>
</file>