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6A6F-235A-428D-927C-FFD71742C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1B19-49F7-472E-8841-75612E70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992E-A0FF-431F-A53B-A4ACBB53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B9BE-1AE1-4F96-BFA2-7D9CB6462D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000EE-199D-43C8-9F12-1670BE57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9A59A-3F71-4B23-ADBB-E8F5396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282E5-534B-4AA6-B8D3-2A96D76E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14B08-EAB3-4D0D-A3D0-B3743957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4CF83-E4DB-48E3-8794-1A4A404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CDE51-49B2-4E4E-9E65-11B469E9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0C6C7-3EB3-451E-9E56-6E42F8A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70BD-7ADB-4D74-B12D-855D5E27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27600-7418-48AE-A099-F2830F1F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92295-6F23-4558-990A-2BAEE58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52783-79E1-4917-A7E7-3628582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33D0C-F59A-499C-8264-CE1ACE64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40892-D650-4EA0-86F9-9B16B3AC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6107-1E24-46E5-B49E-35B994E3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7B77-31C7-43C9-B111-55015915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46D1-E1CB-47E3-A366-8A266B21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1EA0-728E-4A54-8D5A-93DDA52B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981B-E340-4651-8CD7-860F074F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C76D-FEFA-494F-893D-E037272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7781-2D19-4F29-A19E-F993BE1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B84FB57-32B5-4F45-86A4-AFB62F4A933A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4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C944D18-3195-498D-96C9-82C719084180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8:44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حاسب آلي الثاني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14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1131-03BA-4963-9ADC-C962693884F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Simplified Arabic"/>
                <a:cs typeface="Traditional Arabic"/>
              </a:rPr>
              <a:t>طريقة تمثيل البيانات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بن أحمد السدي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F0B20-FB49-48CF-B192-2799052DA33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سعة الحاسب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سعة الحاسب أو سعته التخزينة يعبر عنها بعدد الخانات البايت أو  بمضاعفاتها مثل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كيلو بايت يعادل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يجا بايت يعادل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أو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جيجا بايت يعادل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أو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7C88-3276-4EC1-8224-DD8E88E563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وحدات الأساسية لتخزين البيانات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66480" indent="-366480" algn="r" rtl="1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كيلو 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Killo By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K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=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1.00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.02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-366480" algn="r" rtl="1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يقا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ega Byte (M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=   مليون بايت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illion By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1.048.567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يت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732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  <a:tab algn="l" pos="5038560"/>
                <a:tab algn="l" pos="5257800"/>
                <a:tab algn="l" pos="5477040"/>
                <a:tab algn="l" pos="5695920"/>
                <a:tab algn="l" pos="5915160"/>
                <a:tab algn="l" pos="6134040"/>
                <a:tab algn="l" pos="6353280"/>
                <a:tab algn="l" pos="6572160"/>
                <a:tab algn="l" pos="6791400"/>
                <a:tab algn="l" pos="7010280"/>
                <a:tab algn="l" pos="7229520"/>
                <a:tab algn="l" pos="7448400"/>
                <a:tab algn="l" pos="7667640"/>
                <a:tab algn="l" pos="78868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K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-36648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قا 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Giga Byte (G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=  بليون  بايت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llion by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73,741,824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ي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-366480" algn="r" rtl="1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يري بايت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Tera byte  (TB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=  ترليون بايت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Trillion by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09,511,627,776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ي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6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  <a:tab algn="l" pos="4819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,0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G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BC41-E783-4801-9D71-6DA8634D5D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6920" y="1844640"/>
            <a:ext cx="77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2649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كلم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Wor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ي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دد الخانات ”البايت“ الذي يمكن تشغيلها كوحدة واحدة في نفس الوقت. كلما زاد عدد الخانات في الكلمة الواحدة ، كلما استطاع الحاسب تشغيل البيانات بسرع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7120" indent="-26496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حاسب الذي طول كلم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ت يشغ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ايت ، و الحاسب الذي طول كلمة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ت يشغ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ايت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كلم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63B8-52DD-41C6-B362-9A21E9233786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و النظام السداسي عشر أو النظام السادس عشري أو السداسي العشر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اب على النظام الثنائي أنه يحتاج إلى أعداد كثيرة لتمثيل رقم معين طول حمل البرنامج وتعقيد تركيب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دم تذكر مخطط البرامج بجميع تفاصيل البرامج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 algn="just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صعوبة عملية كتابه البرنامج بدون خطأ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لذلك ظهر النظام الثماني و النظام السداسي عشر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للتغلب على هذه المشكل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just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مكن أن يختصر الثماني خانات الثنائية إلى خانتين فقط وهذا ساعد في عملية الترمي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7AB7-0FFA-4D53-BC11-9870E9157F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Octal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طباعة محتويات الذاكرة و البرامج بالطريقة الثنائية تحتاج إلى أعداد أكبر من الصفح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ستخدم هذا النظام لكتابة البرامج بطريقة أقصر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ساس النظام الرقم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هذا النظام الأرقام م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C1400-CE8F-4ED1-88AE-4F99933994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الرق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2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يمثل بالطريقة التا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+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9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1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Octal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B59F-5503-4449-BD36-0908A3A92B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الرق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يمثل بالطريقة التا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ثماني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Octal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C429-B975-40A5-A1F1-1E897634E0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بر عن محتويات الذاكرة بطريقة أقص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الأرقام من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9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بالإضافة إلى الحر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 = 10, B = 11, C = 12, D = 13, E =14, F =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ساس النظام  ه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سداسي عشر 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Hexadecimal System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E376-EAB6-4D86-B9F4-1142E03A4A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ثال الرق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F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يمثل بالطريقة التالي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أرقام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وزان المواقع   =  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0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1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Simplified Arabic"/>
                <a:ea typeface="Traditional Arabic"/>
              </a:rPr>
              <a:t>16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 الأوزان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قيمة العدد     =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+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×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5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4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+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=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4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  <a:cs typeface="Traditional Arabic"/>
              </a:rPr>
              <a:t>النظام السداسي عشر 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raditional Arabic"/>
              </a:rPr>
              <a:t>Hexadecimal System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DBE2-A301-4672-88D6-EEF5180B7A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Simplified Arabic"/>
                <a:cs typeface="Traditional Arabic"/>
              </a:rPr>
              <a:t>طريقة التمثيل أو سعة طاقة التخزين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51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يف يعبر عن سعة الحاسب  أو كيف يمكن أن نعبر عن الأرقام و الحروف و الكلمات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بر عنها الخوينة أو بالخانة الب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t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" رقم ثنائي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ل رمز بالنظام الثنائي يطلق عليه خانه ثنائية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B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nary Dig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خانة ”البت“ هي أصغر  و حدة تخزي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الخانة ”الب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“تعنى خانة ثنائية واحدة 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) ك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أو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يعني  خان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خانات ”الباي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” عبارة عن ثمان خوينات أو خانات أو أرقام ثنائ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061D-FEE5-4832-BC6F-814F085043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خانات الباي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عبارة عن ثمان خوينات أو أرقام ثنائ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كل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خانات من  الب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تساوي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By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تمثل كل رقم أو حرف أو رمز خاص مثل ! ؟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بت تتجمع في مجموعة و  المجموعة متكونة م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خوينات يطلق عليها با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100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H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100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011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011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 algn="just" rtl="1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       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00110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ffff"/>
                </a:solidFill>
                <a:latin typeface="Times New Roman"/>
              </a:rPr>
              <a:t>طريقة التمثيل أو سعة طاقة التخزين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0F81-6A16-4305-B3F7-20F2AAA543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8:10Z</dcterms:created>
  <dc:creator>Unknown User</dc:creator>
  <dc:description/>
  <dc:language>en-US</dc:language>
  <cp:lastModifiedBy>ECON-124-42</cp:lastModifiedBy>
  <dcterms:modified xsi:type="dcterms:W3CDTF">2004-07-07T06:04:55Z</dcterms:modified>
  <cp:revision>34</cp:revision>
  <dc:subject/>
  <dc:title>PowerPoint Presentation</dc:title>
</cp:coreProperties>
</file>