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82F-1EE7-4156-AB86-17FBFC3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DDC-686F-4D68-A556-FCE6D859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DF3-1493-456C-B1E6-7FDBB1C0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82D-B5A6-488E-AE68-74DADCB8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C4D-2F1E-410B-97DA-8A4DBE89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AF95-F838-49F6-B6FD-37C470B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686-5E42-4533-A098-3B27713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BEA8-51A0-43A4-85E9-E3A07E1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2733-11AB-4711-9E1E-94FB940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426-A304-48C9-BC4C-17A1AE4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8858-9521-4F75-800C-25C09DE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6A5-1D2D-443B-802E-D3B24495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9DD-5538-47A3-8312-8E9C11E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50A-1901-4046-91CD-526A37C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0F0-78FA-42D6-B46D-F1C61A0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ABD-210C-4231-BE69-2B50F0D3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494B-4CDA-489A-AEFE-FD0B2C4A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795-88AE-4D66-9F6C-38C900FA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4E0-4CC0-4B72-AC95-BF2F40E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58D-B4FB-4712-AD0C-80D1F82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83C-ADAD-47D0-BB94-9B798C75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7E9-1D10-4357-BD8B-80AED32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C18-2BE9-4310-84B0-F3B10F8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69C-888F-49C5-A818-F98485E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01A-F437-4D64-9308-763EFB24563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343-9509-49F8-8043-348589B2EAB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228564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للحاسب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خزين الخارج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وحدات تستخدم لتخزين البيانات ذات الأحجام الكبيرة لفترات زمنية طويلة. و تسمى وحدة التخزين الثانوية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وحدات مساعدة للذاكرة الرئيسية تختلف عن وحدات التخزين الرئيسية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أن محتوياتها لا تفقد بانقطاع التيار الكهربائي عنها كما هو الحال بالنسبة للذاكرة الرئيس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بالإضافة إلى أن طاقتها التخزينية عالية من أمثلتها الأشرطة الممغنطة والأقراص الممغنطة المرنة والصلب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قنوات الاتص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عتبر الطريق المرصوف لنقل البيانات المعالجة و الغير معالجة من و إلى وحدة المعالجة و الوحدات الأخرى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صل عناصر الحاسب الآلي فيما بينها بما يسمى بالناقل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فوحدة المعالجة المركزية متصلة بوحدة التخزين الرئيسية وبوحدة إدخال وإخراج البيانات بالإضافة إلى وحدة التخزين الثانوية من خلال مجموعة من الأسلاك أو الخطوط المتوازية والمعرفة باسم الناقل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. كل سلك أو خط بنقل وحدة بيانيه واحد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نواع قنوات الاتص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العناوين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Add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نقل عناوين المواقع المختلفة في الذاكرة التي يتعامل معها المعال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البيانات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Data B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وم بنقل البيانات والمعلومات بين الذاكرة والمعالج ويكون عرضها ما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6،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خانه ثنائية ويتوافق عرضها مع عرض ناقلات البيانات للمعالج المستخد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إشارات التحك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مجموعة من الخطوط "م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–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خط " تقوم بحمل إشارات التحكم من وحدات الرقابة والتحكم إلى الأجزاء المختلفة من الجهاز مثل الذاكرة الرئيسية أو وحدة الإدخال والإخرا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للحاسب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العناصر أو المكونات المادية للحاسب من ستة أجزاء رئيسية هي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أو وحدات الإدخال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pu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معالجة أو وحدة التشغيل المركز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Central Processing Unit (CP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تخزين الرئيسية أو الأول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rnal Sto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تخزين الثانوية أو الخارج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External Storag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أو وحدات الإخراج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ut Put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الاتصال بين الحاسبات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Communic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نوات النقل أو ناقلات البيانات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:وحدات إدخال البيانات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هذه الوحدات لإدخال البيانات الأولية للحاسب الآلي بغرض معالجته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الوحدات التي يمكن عن طريقها تغذية الحاسب الآلي بالبيانات الواجب تحويلها إلى معلومات بعد إجراء عمليات المعالجة لها.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تحويل البيانات المدخلة إلى الحاسب بعدة طرق إلى نموذج أو قالب إلكترونية يتم التعامل معها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أمثلة وحدات الإدخال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المفاتيح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يكرفون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اسح الضوئ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قارئ الآلي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ن أهم وحدات الحاسب وهي بمثابة العقل المدبر للحاسب والمسير له و القلب النابض له، بل هي الحاسب الآلي نفسه و لها وظائف عدة من أهمها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قبال البيانات من وحدات الإدخال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الجة هذه البيانات طبقاً للتعليمات الموجودة في البرام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رسال نتائج معالجة البيانات إلى وحدات الإخرا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 والإشراف على جميع الوحدات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وحدات التشغيل المركزية ثلاثة أجزاء رئيسية تكونها و تألفها و ه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رقابة والتحك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عمليات الحسابية والمنطق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rithmetic- Logic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ذاكرة الرئيسية أو التخزين الأولي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in Memory Un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جميع الأجزاء السابق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 الثلاث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بارة عن دوائر إلكترونية على شرائح من السيليكون و تصنف بناءً على مقدار التصغير لهذه الدوائر فمنها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الكبير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Large 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الكبيرة جد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Vary Large 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حيث أمكن وضع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لايين دائرة على شريحة واحدة لا يتجاوز حجمها ربع بوصة مربعة و مازال التقدم و التسابق التقني في هذا المجال مستمر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رقابة والتحك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رقابة والتحكم دورها تفسير التعليمات والتوجيه للمعالج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تولى إحضار التعليمات من الذاكرة الرئيسية وتحليل شفراتها ومن ثم إعطاء إشارات التحكم للوحدات المختلفة المعنية بتنفيذ الأوامر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عمليات الحسابية والمنطق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Arithmetic- Logic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عمليات الحسابية والمنطقة هي الوحدة المسؤولة عن أجراء جميع العمليات الحاسبية من +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- ، والعمليات المنطقية مثل المقارنات بين الأعداد والأحرف واتخاذ القرار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Micro Proc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ذاكرة الرئيسية أو التخزين الأولي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Main Memory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تخزين الأولية أو ما تعرف باسم الذاكرة الرئيسية أو الذاكرة  هي الذاكرة الرئيسية للحاسب و تقوم باحتجاز أو إمساك البيانات والتعليمات بين خطوات المعالجة وتزويد وحدات التحكم والرقابة و وحدة العمليات الحسابية والمنطقية بها خلال المعالجة بمعنى حفظ المعلومات والتعليمات حفظاً مؤقتاً.  و هي من مكونات وحدة المعالجة المركزية. وتتقسم وحدة التخزين الأولية أو الذاكرة الرئيسية إلى قسمين رئيسين هم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r" rtl="1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ذاكرة التداول العشوائي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Random Access Memory (RA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r" rtl="1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ذاكرة القراءة فق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Read Only Memory (RO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إخراج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ut Put Unit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هذه الوحدات لإخراج المعلومات بعد إتمام المعالجة الضرورية لها وتحويل المعلومات الإلكترونية المقدمة من الحاسب بعد معالجتها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ملية تحويل المعلومات المعطاة والخارجة من عمليات التحليل والمعالجة إلى لغة الإنسان بالصورة والهيئة المعطاة في الأوامر و البرامج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إخراج هي كتابة النتائج أو المعلومات التي يخرجها الحاسب بالوسيلة والوسيط المطلوبة من قبل المستخدم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12:28:42Z</dcterms:modified>
  <cp:revision>17</cp:revision>
  <dc:subject/>
  <dc:title>المكونات الرئيسية للحاسب</dc:title>
</cp:coreProperties>
</file>