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213-28FF-405D-998B-5DC9642B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EBC-70E2-49CB-A47C-5E2C70ED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9FC-F2B9-40B7-9F2E-A7C4B55D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B07-C4F4-4B4C-9AD0-958C7CC1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408D-39C1-4833-8C5A-99AE15E7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7A18-8607-4F92-A832-B32FA12B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187-9AF0-4484-90FB-8EF5D856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4220-477B-4587-B867-58D62875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0DA8-889F-4810-BDFE-C5BEDAC0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889B-1EE1-481B-87C0-241905AA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972B-7D1E-4F5F-9A89-D6914F38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EB9-64A0-4A25-9E11-E27BE481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ABE1-C092-4D53-A34D-44D76B0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AEE9-609E-4662-BB58-BB8DA1F1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6FA8-084D-4A60-8CEA-6EDD6A63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C670-CA50-4856-A70B-A8FA0ADE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3A8C-4497-4119-B08F-04A3D3C6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9A6-EC26-455E-A684-4B3B6C20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1DE-6A27-4F86-A66D-6CD318E3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A30-15D1-4CC8-A0AC-0A07E4B3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885-34D9-4A8E-9C36-F02A628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9D2-73AE-4ABF-840D-FFADC01E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7E8-6C00-45C8-A817-452EF2D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85E-E13A-4032-A619-6CF68462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8706-8E21-4E02-BF18-895FF2919F1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FEA8-B518-4C72-BF6B-824D336D6B6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228564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 للحاسب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خزين الخارج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وحدات تستخدم لتخزين البيانات ذات الأحجام الكبيرة لفترات زمنية طويلة. و تسمى وحدة التخزين الثانوية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وحدات مساعدة للذاكرة الرئيسية تختلف عن وحدات التخزين الرئيسية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أن محتوياتها لا تفقد بانقطاع التيار الكهربائي عنها كما هو الحال بالنسبة للذاكرة الرئيس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، بالإضافة إلى أن طاقتها التخزينية عالية من أمثلتها الأشرطة الممغنطة والأقراص الممغنطة المرنة والصلبة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قنوات الاتصا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عتبر الطريق المرصوف لنقل البيانات المعالجة و الغير معالجة من و إلى وحدة المعالجة و الوحدات الأخرى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تصل عناصر الحاسب الآلي فيما بينها بما يسمى بالناقل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Bus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فوحدة المعالجة المركزية متصلة بوحدة التخزين الرئيسية وبوحدة إدخال وإخراج البيانات بالإضافة إلى وحدة التخزين الثانوية من خلال مجموعة من الأسلاك أو الخطوط المتوازية والمعرفة باسم الناقل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BU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. كل سلك أو خط بنقل وحدة بيانيه واحدة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نواع قنوات الاتصا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اقلات العناوين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Add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تقوم بنقل عناوين المواقع المختلفة في الذاكرة التي يتعامل معها المعال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اقلات البيانات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Data B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وم بنقل البيانات والمعلومات بين الذاكرة والمعالج ويكون عرضها ما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6،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،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،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3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خانه ثنائية ويتوافق عرضها مع عرض ناقلات البيانات للمعالج المستخد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اقلات إشارات التحك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مجموعة من الخطوط "م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–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خط " تقوم بحمل إشارات التحكم من وحدات الرقابة والتحكم إلى الأجزاء المختلفة من الجهاز مثل الذاكرة الرئيسية أو وحدة الإدخال والإخرا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 للحاسب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تكون العناصر أو المكونات المادية للحاسب من ستة أجزاء رئيسية هي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جهزة أو وحدات الإدخال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Inpu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ة المعالجة أو وحدة التشغيل المركز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Central Processing Unit (CPU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ات التخزين الرئيسية أو الأول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Internal Stor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ات التخزين الثانوية أو الخارجية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External Storag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جهزة أو وحدات الإخراج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Out Put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جهزة الاتصال بين الحاسبات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Communication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نوات النقل أو ناقلات البيانات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Bu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 :وحدات إدخال البيانات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هذه الوحدات لإدخال البيانات الأولية للحاسب الآلي بغرض معالجته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الوحدات التي يمكن عن طريقها تغذية الحاسب الآلي بالبيانات الواجب تحويلها إلى معلومات بعد إجراء عمليات المعالجة لها.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تقوم بتحويل البيانات المدخلة إلى الحاسب بعدة طرق إلى نموذج أو قالب إلكترونية يتم التعامل معها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ن أمثلة وحدات الإدخال 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وحة المفاتيح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يكرفون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اسح الضوئي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قارئ الآلي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ن أهم وحدات الحاسب وهي بمثابة العقل المدبر للحاسب والمسير له و القلب النابض له، بل هي الحاسب الآلي نفسه و لها وظائف عدة من أهمها: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ستقبال البيانات من وحدات الإدخال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عالجة هذه البيانات طبقاً للتعليمات الموجودة في البرام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إرسال نتائج معالجة البيانات إلى وحدات الإخراج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كم والإشراف على جميع الوحدات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وحدات التشغيل المركزية ثلاثة أجزاء رئيسية تكونها و تألفها و ه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ة الرقابة والتحك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ontrol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ة العمليات الحسابية والمنطق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Arithmetic- Logic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ة الذاكرة الرئيسية أو التخزين الأولي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ain Memory Un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مكونات الماد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: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جميع الأجزاء السابق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 الثلاث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بارة عن دوائر إلكترونية على شرائح من السيليكون و تصنف بناءً على مقدار التصغير لهذه الدوائر فمنها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دوائر المتكامل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Integrated circu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دوائر المتكاملة الكبير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Large Integrated circu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دوائر المتكاملة الكبيرة جدا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Vary Large Integrated circui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حيث أمكن وضع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ملايين دائرة على شريحة واحدة لا يتجاوز حجمها ربع بوصة مربعة و مازال التقدم و التسابق التقني في هذا المجال مستمراً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حدة الرقابة والتحكم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Control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ات الرقابة والتحكم دورها تفسير التعليمات والتوجيه للمعالج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هي تتولى إحضار التعليمات من الذاكرة الرئيسية وتحليل شفراتها ومن ثم إعطاء إشارات التحكم للوحدات المختلفة المعنية بتنفيذ الأوامر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حدة العمليات الحسابية والمنطق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Arithmetic- Logic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ات العمليات الحسابية والمنطقة هي الوحدة المسؤولة عن أجراء جميع العمليات الحاسبية من +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- ، والعمليات المنطقية مثل المقارنات بين الأعداد والأحرف واتخاذ القرارات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Micro Proc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 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تشغيل المركزية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CPU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حدة الذاكرة الرئيسية أو التخزين الأولي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Main Memory 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ة التخزين الأولية أو ما تعرف باسم الذاكرة الرئيسية أو الذاكرة  هي الذاكرة الرئيسية للحاسب و تقوم باحتجاز أو إمساك البيانات والتعليمات بين خطوات المعالجة وتزويد وحدات التحكم والرقابة و وحدة العمليات الحسابية والمنطقية بها خلال المعالجة بمعنى حفظ المعلومات والتعليمات حفظاً مؤقتاً.  و هي من مكونات وحدة المعالجة المركزية. وتتقسم وحدة التخزين الأولية أو الذاكرة الرئيسية إلى قسمين رئيسين هما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r" rtl="1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ذاكرة التداول العشوائي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Random Access Memory (RA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 algn="r" rtl="1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ذاكرة القراءة فقط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Read Only Memory (RO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حدات الإخراج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Out Put Unit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هذه الوحدات لإخراج المعلومات بعد إتمام المعالجة الضرورية لها وتحويل المعلومات الإلكترونية المقدمة من الحاسب بعد معالجتها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عملية تحويل المعلومات المعطاة والخارجة من عمليات التحليل والمعالجة إلى لغة الإنسان بالصورة والهيئة المعطاة في الأوامر و البرامج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وحدة الإخراج هي كتابة النتائج أو المعلومات التي يخرجها الحاسب بالوسيلة والوسيط المطلوبة من قبل المستخدم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14:32Z</dcterms:created>
  <dc:creator>Unknown User</dc:creator>
  <dc:description/>
  <dc:language>en-US</dc:language>
  <cp:lastModifiedBy>malsudairi</cp:lastModifiedBy>
  <dcterms:modified xsi:type="dcterms:W3CDTF">2003-09-20T12:28:42Z</dcterms:modified>
  <cp:revision>17</cp:revision>
  <dc:subject/>
  <dc:title>المكونات الرئيسية للحاسب</dc:title>
</cp:coreProperties>
</file>