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BF6-5BEA-4622-8B0B-BACFAD97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3E8-025B-4FB8-82C0-F434650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D11-C906-4588-A471-89AF8978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B4B-9EDC-455F-9BE8-139BB8C6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1BCA-3A6A-4874-9607-DB448AB8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212-AC38-4454-8DDC-C96264DC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1143-278A-4937-AD51-4C7A871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E320-FB82-4061-ACEE-F454059E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F245-951E-428A-98F9-0BFBD009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3150-5917-4668-B07C-6ED1329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1FA1-5914-4DE6-A6E7-13DD6F5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0BB-723A-4D90-935E-C488309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0C16-AA47-419D-B16A-CCA1A37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21D-C613-4FA2-8461-64661BB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3E1-E63B-4584-9B12-73044FD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C2C4-FCAC-4B63-B348-103EFB16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4DA-DFF6-4FA7-A47E-75D998AC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B4C-A055-4218-AB2D-B9F45391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F43-A2ED-44DF-8516-3D8BFEB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B06-2C57-477E-97EF-8CE5320F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9DC-FD66-4C8D-AA0E-AE54878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080-3371-4BB3-9789-5782695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D8F-AEEE-4AAE-BEF0-AEA09D2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648-C247-4407-8297-C2B20B59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0A0E-A6D1-49D7-A1EC-22AEF277DF4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8074-C6F2-4FAF-91B0-25EF3499E85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Input Un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إدخال البيانات الأولية للحاسب الآلي بغرض معالجتها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تحويل البيانات –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دخلة مباشرة أو عن طريق ربط آلي إلى جهاز الحاس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– إلى نموذج أو قالب إلكتروني مقروء آليا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دورها إدخال البيانات والتعليمات إلى وحدة المعالجة المركزي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نواع وحدات الإدخ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المفاتيح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Key boa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من مجموعة من المفاتيح كل منها يمثل حرفاً هجائياً أو رقماً أو أمراً للحاسب – وهي تشبه إلى حداً ما لوحة الآلة الكاتب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سم لوحة المفاتيح إلي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مرتبة مثل الآلة الكاتب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فاتيح مؤشرات الحرك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فاتيح الأقسام و مفاتيح الوظائف تشمل الأرقام والحروف ومفاتيح خاصة لأعمال حساب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8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لوحة المفاتيح</a:t>
            </a:r>
            <a:r>
              <a:rPr b="1" lang="ar-SA" sz="48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Key boar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5400720" cy="258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7093080" y="4221000"/>
            <a:ext cx="1079280" cy="1447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54560" y="393372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لة حاسب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268000" y="4076280"/>
            <a:ext cx="2016360" cy="3603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59280" y="2923920"/>
            <a:ext cx="289080" cy="9363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1462600">
            <a:off x="-564480" y="36417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روف و رموز مشابهة للآلة الكاتب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32560" y="249228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فاتيح الوظائ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5400" y="621648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فاتيح مؤشرات الحرك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869000"/>
            <a:ext cx="360360" cy="1081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924280"/>
            <a:ext cx="576360" cy="1296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أجهزة تستخدم للتأشير على الهدف في جهاز الحاسب وهي طريقة تستخدم لإدخال الرسوم أو إعطاء أوامر للحاسب فهي سريعة وسهلة الاستعمال وتنقل البيانات والرسوم بشكل سريع أمثلتها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فأرة ، وكرة التتبع ، عصا التوجي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شاشات اللامسة  أو شاشة اللمس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قلم الضوئي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رقم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ؤشرات القلم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فأر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Moi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أداة تحتوي على جهاز تحسس ينقل اتجاه وموقع حركة اليد التي يقوم بها المستخدم إلى داخل الجهاز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المستخدم بتحريك الكرة على سطح المكتب ليوجه المؤشر على شاشة العرض على مكان التنفيذ فيضغط على أحد أزرار الجهاز لتنفيذ العمل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رة التتابع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Roll Ball Trackball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بارة عن كرة إرتجاجية تدور في جميع الاتجاهات بحرية تامة مثال الفأرة – تستخدم في الحاسبات المحو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صا التحكم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Joystick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جهاز مؤشر يتكون من محور أفقي لتوجيه مثبت على قاعدة و به زر أو أثنين، يتم إدخال الأوامر بالضغط على الزر الموجود في أعلى العمود العص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6000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شاشة اللامسة ”شاشة اللمس“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Touch screen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بارة عن شاشة عرض حساسة لاستقبال المدخلات وتنفيذ الأوامر بواسطة اللمس بالإصبع على المواقع الحساسة في الشاشة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أن اللمس على الشاشة سهل ، فهي تنقل المعلومات بسرعة فتستخدم في الغالب أجهزة صرف النقود السريعة ، الدليل الارشادي السياحية في المطارات والفنادق والمطاعم ولها محدودية فهي لا تستطيع عرض معلومات كثير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لم الضوئي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Light pe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قلم مرقم حساس موصل بواسطة سلك إلى الحاسب يشار به على شاشة العرض لإدخال أو تحليل البيانات والخطوط والرسومات. يستخدم بواسطة المهندسين والمصممين و في المستشفيات.  فهو يعتمد على حركة اليد لرسم الشكل المطلوب على الشاشة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9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رقمات أو طاولة الترقي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Digitizing tabl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عبارة عن سطح مستطيل يوضع على الطاولة ، يمثل منطقة معينه على الشاشة . ويتم تحريك قلم خاص عليه لنقل الرسم أو الصورة التي يراد إدخالها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اعد على رسم أشكال معينة مظلله.  تستخدم بشكل خاص في التصاميم والهندس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ؤشرات القلمية أو نظام المؤشرات القلمي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Pen based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ستخدم لنقل الكتابة اليدوية والعلامات إلى الحاسب مباشرة 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تعرف على الكتابة اليدوية وهي مثل القلم  فتقوم بنقل البيانات إلى الحاسب. يستخدمها المهندسين في حقل العمل بدلا من كتابة التقارير أو المعلومات على الورق.  و تستخدم في رسوم توضيحية لموقع معين بشكل سري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2000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جهزة التميز الضوئية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إدخال الرموز المكتوبة أو الصور مباشرة إلى جهاز الحاسب بدون إعادة كتابتها أو رسمه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قوم بقراءة أو بمسح الأشكال والأرقام والحروف والكتابات وتحويلها إلى لغة يفهمها الحاسب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ي يشكل رقم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قارئة الرموز الضوئية و قارىْ العلامات الضوئ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ما يقوم جهاز التميز الضوئي بقراءة الرموز المكتوبة على فواتير الهاتف و الكهرباء و جميع الفواتير الخدمية بواسطة القلم الضوئي أو الممغنط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اسح الضوئي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Sca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الكتابات ، الرسوم ، الصور ومشابهتها أو أمثالها إلى بيانات رقمية – تعالج بواسطة الحاسب وتعرض على شاشات العرض ويمكن تخزينها أو إرسالها إلى جهاز آخر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 الآلية - أجهزة التميز الضوئ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4000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22:47:31Z</dcterms:modified>
  <cp:revision>27</cp:revision>
  <dc:subject/>
  <dc:title>المكونات الرئيسية للحاسب</dc:title>
</cp:coreProperties>
</file>