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3315-FC41-4993-BDDB-A2600288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563A-C348-4056-A623-4A276C70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2B0A-522B-4519-B568-FB561373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E95E-44E8-4AE4-A040-D9DD0692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5890-58BF-4853-8060-EACE9FAF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EA94-DFAC-41B8-B672-BCDF840C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F415-5E3A-4B37-B39E-6FBBB0D6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B062-447C-43D2-A5C1-B0E307CA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F186-E4E3-466E-8F73-BA7B1B16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D992-BA2D-4996-98D3-02A0E8F7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7CDE-D0A9-416C-81F9-F50EC553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207A-7588-4781-92A2-1EB4B823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175F-EBD6-4B55-94F0-A2AA8797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50BC-F3AF-4983-8D00-B7B88BA6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AF30-DE2B-4EF6-8623-665C3045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25A8-2D5B-4007-9504-3E57E57F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3402-A275-42DD-8E77-88F8C08E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053E-DFC7-43D3-AA1C-C09864AF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E010-7250-420A-A6D6-60E93CF6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F745-D7B8-4833-BE41-67E40A73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322-A476-4BDA-90F7-3C8BA825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28DE-DB9D-4005-BB5F-B7DBF14C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4182-ADD8-416B-95F5-6D7B66A8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B259-68A7-4A89-9DF2-AB7B3EC9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4F37-7BB3-4B5C-AE10-154E7C6E1A9F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029F-4936-4197-BFB9-1F9184C42C2A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bcbcb"/>
                </a:solidFill>
                <a:latin typeface="Times New Roman"/>
                <a:cs typeface="Traditional Arabic"/>
              </a:rPr>
              <a:t>وحدات الإدخال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. محمد السديري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bcbcb"/>
                </a:solidFill>
                <a:latin typeface="Times New Roman"/>
                <a:cs typeface="Traditional Arabic"/>
              </a:rPr>
              <a:t>وحدات الإدخال</a:t>
            </a:r>
            <a:r>
              <a:rPr b="0" lang="ar-SA" sz="4400" spc="-1" strike="noStrike">
                <a:solidFill>
                  <a:srgbClr val="cbcbcb"/>
                </a:solidFill>
                <a:latin typeface="Times New Roman"/>
                <a:ea typeface="Traditional Arabic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raditional Arabic"/>
              </a:rPr>
              <a:t>Input Uni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ستخدم لإدخال البيانات الأولية للحاسب الآلي بغرض معالجتها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وهي تقوم بتحويل البيانات –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مدخلة مباشرة أو عن طريق ربط آلي إلى جهاز الحاسب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Traditional Arabic"/>
              </a:rPr>
              <a:t> – إلى نموذج أو قالب إلكتروني مقروء آلياً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دورها إدخال البيانات والتعليمات إلى وحدة المعالجة المركزية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bcbcb"/>
                </a:solidFill>
                <a:latin typeface="Times New Roman"/>
                <a:cs typeface="Traditional Arabic"/>
              </a:rPr>
              <a:t>أنواع وحدات الإدخال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لوحة المفاتيح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Key board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تكون من مجموعة من المفاتيح كل منها يمثل حرفاً هجائياً أو رقماً أو أمراً للحاسب – وهي تشبه إلى حداً ما لوحة الآلة الكاتبة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نقسم لوحة المفاتيح إلي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 algn="just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لوحة مرتبة مثل الآلة الكاتبة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 algn="just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مفاتيح مؤشرات الحرك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 algn="just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مفاتيح الأقسام و مفاتيح الوظائف تشمل الأرقام والحروف ومفاتيح خاصة لأعمال حسابية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8000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bcbcb"/>
                </a:solidFill>
                <a:latin typeface="Times New Roman"/>
                <a:cs typeface="Traditional Arabic"/>
              </a:rPr>
              <a:t>لوحة المفاتيح</a:t>
            </a:r>
            <a:r>
              <a:rPr b="1" lang="ar-SA" sz="4800" spc="-1" strike="noStrike">
                <a:solidFill>
                  <a:srgbClr val="cbcbcb"/>
                </a:solidFill>
                <a:latin typeface="Times New Roman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  <a:ea typeface="Traditional Arabic"/>
              </a:rPr>
              <a:t>Key boar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56000" y="3284640"/>
            <a:ext cx="5400720" cy="2585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V="1">
            <a:off x="7093080" y="4221000"/>
            <a:ext cx="1079280" cy="14472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54560" y="393372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آلة حاسب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2268000" y="4076280"/>
            <a:ext cx="2016360" cy="36036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859280" y="2923920"/>
            <a:ext cx="289080" cy="93636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21462600">
            <a:off x="-564480" y="3641760"/>
            <a:ext cx="45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حروف و رموز مشابهة للآلة الكاتبة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32560" y="249228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فاتيح الوظائ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45400" y="6216480"/>
            <a:ext cx="31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فاتيح مؤشرات الحرك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72360" y="4869000"/>
            <a:ext cx="360360" cy="108108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2924280"/>
            <a:ext cx="576360" cy="12967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bcbcb"/>
                </a:solidFill>
                <a:latin typeface="Times New Roman"/>
                <a:cs typeface="Traditional Arabic"/>
              </a:rPr>
              <a:t>أجهزة المؤشرات </a:t>
            </a:r>
            <a:r>
              <a:rPr b="1" lang="en-US" sz="4400" spc="-1" strike="noStrike">
                <a:solidFill>
                  <a:srgbClr val="cbcbcb"/>
                </a:solidFill>
                <a:latin typeface="Times New Roman"/>
                <a:ea typeface="Traditional Arabic"/>
              </a:rPr>
              <a:t>Pointing Devices</a:t>
            </a:r>
            <a:r>
              <a:rPr b="1" lang="en-US" sz="4400" spc="-1" strike="noStrike">
                <a:solidFill>
                  <a:srgbClr val="cbcbcb"/>
                </a:solidFill>
                <a:latin typeface="Times New Roman"/>
                <a:ea typeface="Traditional Arabic"/>
              </a:rPr>
              <a:t> </a:t>
            </a:r>
            <a:r>
              <a:rPr b="1" lang="ar-SA" sz="4400" spc="-1" strike="noStrike">
                <a:solidFill>
                  <a:srgbClr val="cbcbcb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مجموعة من الأجهزة تستخدم للتأشير على الهدف في جهاز الحاسب وهي طريقة تستخدم لإدخال الرسوم أو إعطاء أوامر للحاسب فهي سريعة وسهلة الاستعمال وتنقل البيانات والرسوم بشكل سريع أمثلتها 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فأرة ، وكرة التتبع ، عصا التوجيه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شاشات اللامسة  أو شاشة اللمس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قلم الضوئي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مرقمات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مؤشرات القلمية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9000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فأرة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Moic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أداة تحتوي على جهاز تحسس ينقل اتجاه وموقع حركة اليد التي يقوم بها المستخدم إلى داخل الجهاز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يقوم المستخدم بتحريك الكرة على سطح المكتب ليوجه المؤشر على شاشة العرض على مكان التنفيذ فيضغط على أحد أزرار الجهاز لتنفيذ العملية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كرة التتابع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Roll Ball Trackball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عبارة عن كرة إرتجاجية تدور في جميع الاتجاهات بحرية تامة مثال الفأرة – تستخدم في الحاسبات المحولة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صا التحكم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Joystick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جهاز مؤشر يتكون من محور أفقي لتوجيه مثبت على قاعدة و به زر أو أثنين، يتم إدخال الأوامر بالضغط على الزر الموجود في أعلى العمود العصا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bcbcb"/>
                </a:solidFill>
                <a:latin typeface="Times New Roman"/>
                <a:cs typeface="Traditional Arabic"/>
              </a:rPr>
              <a:t>أجهزة المؤشرات </a:t>
            </a:r>
            <a:r>
              <a:rPr b="1" lang="en-US" sz="4400" spc="-1" strike="noStrike">
                <a:solidFill>
                  <a:srgbClr val="cbcbcb"/>
                </a:solidFill>
                <a:latin typeface="Times New Roman"/>
                <a:ea typeface="Traditional Arabic"/>
              </a:rPr>
              <a:t>Pointing Devices</a:t>
            </a:r>
            <a:r>
              <a:rPr b="1" lang="ar-SA" sz="4400" spc="-1" strike="noStrike">
                <a:solidFill>
                  <a:srgbClr val="cbcbcb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16000"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شاشة اللامسة ”شاشة اللمس“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Touch screen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عبارة عن شاشة عرض حساسة لاستقبال المدخلات وتنفيذ الأوامر بواسطة اللمس بالإصبع على المواقع الحساسة في الشاشة 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لأن اللمس على الشاشة سهل ، فهي تنقل المعلومات بسرعة فتستخدم في الغالب أجهزة صرف النقود السريعة ، الدليل الارشادي السياحية في المطارات والفنادق والمطاعم ولها محدودية فهي لا تستطيع عرض معلومات كثيرة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قلم الضوئي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Light pe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و قلم مرقم حساس موصل بواسطة سلك إلى الحاسب يشار به على شاشة العرض لإدخال أو تحليل البيانات والخطوط والرسومات. يستخدم بواسطة المهندسين والمصممين و في المستشفيات.  فهو يعتمد على حركة اليد لرسم الشكل المطلوب على الشاشة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bcbcb"/>
                </a:solidFill>
                <a:latin typeface="Times New Roman"/>
                <a:cs typeface="Traditional Arabic"/>
              </a:rPr>
              <a:t>أجهزة المؤشرات </a:t>
            </a:r>
            <a:r>
              <a:rPr b="1" lang="en-US" sz="4400" spc="-1" strike="noStrike">
                <a:solidFill>
                  <a:srgbClr val="cbcbcb"/>
                </a:solidFill>
                <a:latin typeface="Times New Roman"/>
                <a:ea typeface="Traditional Arabic"/>
              </a:rPr>
              <a:t>Pointing Devices</a:t>
            </a:r>
            <a:r>
              <a:rPr b="1" lang="ar-SA" sz="4400" spc="-1" strike="noStrike">
                <a:solidFill>
                  <a:srgbClr val="cbcbcb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19000"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bcbcb"/>
                </a:solidFill>
                <a:latin typeface="Times New Roman"/>
                <a:cs typeface="Traditional Arabic"/>
              </a:rPr>
              <a:t>أجهزة المؤشرات </a:t>
            </a:r>
            <a:r>
              <a:rPr b="1" lang="en-US" sz="4400" spc="-1" strike="noStrike">
                <a:solidFill>
                  <a:srgbClr val="cbcbcb"/>
                </a:solidFill>
                <a:latin typeface="Times New Roman"/>
                <a:ea typeface="Traditional Arabic"/>
              </a:rPr>
              <a:t>Pointing Devices</a:t>
            </a:r>
            <a:r>
              <a:rPr b="1" lang="en-US" sz="4400" spc="-1" strike="noStrike">
                <a:solidFill>
                  <a:srgbClr val="cbcbcb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مرقمات أو طاولة الترقيم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Digitizing tabl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وهي عبارة عن سطح مستطيل يوضع على الطاولة ، يمثل منطقة معينه على الشاشة . ويتم تحريك قلم خاص عليه لنقل الرسم أو الصورة التي يراد إدخالها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ساعد على رسم أشكال معينة مظلله.  تستخدم بشكل خاص في التصاميم والهندسة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مؤشرات القلمية أو نظام المؤشرات القلمية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Pen based sys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يستخدم لنقل الكتابة اليدوية والعلامات إلى الحاسب مباشرة 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هي تتعرف على الكتابة اليدوية وهي مثل القلم  فتقوم بنقل البيانات إلى الحاسب. يستخدمها المهندسين في حقل العمل بدلا من كتابة التقارير أو المعلومات على الورق.  و تستخدم في رسوم توضيحية لموقع معين بشكل سريع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2000"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2280" y="18288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أجهزة التميز الضوئية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ستخدم لإدخال الرموز المكتوبة أو الصور مباشرة إلى جهاز الحاسب بدون إعادة كتابتها أو رسمها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هي تقوم بقراءة أو بمسح الأشكال والأرقام والحروف والكتابات وتحويلها إلى لغة يفهمها الحاسب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ي يشكل رقمي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قارئة الرموز الضوئية و قارىْ العلامات الضوئية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كما يقوم جهاز التميز الضوئي بقراءة الرموز المكتوبة على فواتير الهاتف و الكهرباء و جميع الفواتير الخدمية بواسطة القلم الضوئي أو الممغنط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ماسح الضوئي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Scann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يقوم بتحويل الكتابات ، الرسوم ، الصور ومشابهتها أو أمثالها إلى بيانات رقمية – تعالج بواسطة الحاسب وتعرض على شاشات العرض ويمكن تخزينها أو إرسالها إلى جهاز آخر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60948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bcbcb"/>
                </a:solidFill>
                <a:latin typeface="Times New Roman"/>
                <a:cs typeface="Traditional Arabic"/>
              </a:rPr>
              <a:t>وحدات الإدخال الآلية - أجهزة التميز الضوئ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4000"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14:32Z</dcterms:created>
  <dc:creator>Unknown User</dc:creator>
  <dc:description/>
  <dc:language>en-US</dc:language>
  <cp:lastModifiedBy>malsudairi</cp:lastModifiedBy>
  <dcterms:modified xsi:type="dcterms:W3CDTF">2003-09-20T22:47:31Z</dcterms:modified>
  <cp:revision>27</cp:revision>
  <dc:subject/>
  <dc:title>المكونات الرئيسية للحاسب</dc:title>
</cp:coreProperties>
</file>