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4D48-D9C4-469B-AB5B-AC6FD06B9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9722-F012-430C-9AE1-E20A154452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E757-9807-443C-B206-F20C13B1FC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B427-2AF8-4C95-896F-2485CFF6E0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A26C-9415-459F-B264-016521B3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8C0E-1804-4838-9E58-E1F5CBD3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63B-7383-46E4-AB48-18477BCC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17EB-E8AB-4B0A-95E7-DAE854C7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EF18-115F-481A-8F43-EAD55E3F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0648-A1B6-454C-B07E-356B0ADD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FA6-92AC-446A-85BE-ED5D88FC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431-79E8-4965-9CC5-1730FB16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301-BAC0-47FD-800D-74181179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A07-8F78-40D9-B352-82DE2A49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DA64-E2C9-46E9-804A-F940DA86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322B-23AC-4EE3-8063-03C717C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15F6-96FB-4C7A-826D-4C39771E9B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cture 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face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24379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ecture series based on the tex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4d4ce"/>
                </a:solidFill>
                <a:latin typeface="Arial"/>
              </a:rPr>
              <a:t>Essential MATLAB</a:t>
            </a:r>
            <a:r>
              <a:rPr b="0" i="1" lang="en-US" sz="3200" spc="-1" strike="noStrike">
                <a:solidFill>
                  <a:srgbClr val="d4d4c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d4d4ce"/>
                </a:solidFill>
                <a:latin typeface="Arial"/>
              </a:rPr>
              <a:t>for Engineers and Scien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4d4ce"/>
                </a:solidFill>
                <a:latin typeface="Arial"/>
              </a:rPr>
              <a:t>Hahn &amp; Valent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-----------------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Objectives of a first course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evaluate and explore capabilities of MATLA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o technical computing with MATLA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sign mathematical procedures to solve technical problems via the structure plan (i.e., a design methodology for solving technical problem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develop algorithms to implement the steps of your structure pla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arn how to translate the structure plans into computer programs to solve engineering and scientific proble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The lectures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14 lectures provided as a supplement to the text by Hahn and Valentine (2007). They cover the first 10 chapters of the text as well as the types of applications covered in Chapter 14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ctures are provided to help the instructor create her or his lectures for an introductory course on MATLA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Osama</cp:lastModifiedBy>
  <dcterms:modified xsi:type="dcterms:W3CDTF">2011-02-18T18:29:09Z</dcterms:modified>
  <cp:revision>101</cp:revision>
  <dc:subject/>
  <dc:title>ES100: Lecture 01 Introduction to ES100 and MATLAB</dc:title>
</cp:coreProperties>
</file>