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4d4ce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1A8AD-6BEC-401F-B271-5D978EB99A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40827-972E-4B31-B1D5-24CE38FCFA6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B732D-9921-4308-9FB7-4E38781D809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6AD2B-9111-4FD4-B3DA-5B27F04B03D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3C30-12D6-4D36-896B-BEAF273A6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424C-0737-4BCD-B21F-2A0820F91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7F5F-8F5A-428D-8911-E5570CA32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852E-35FE-43B7-9A44-6EF5214C2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95CF-C7F5-4F2A-80B9-317E3BE45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DE50-5583-4011-A12F-4507FF37B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54AF-BDD2-498A-86CD-A15755E9D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76B0-E72B-41D9-98ED-1F07C02A8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A439-524A-4CC3-8283-D1C23961F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1D17-0360-460C-B78A-713C80072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6371-170A-4DA7-9EE5-0B1E987D8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7204-4B2A-48A2-967B-EF9E0C086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4d4ce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dc4d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8dc4d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1A57D-D874-4F71-91B9-F69A6CE7EE38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ecture 0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eface</a:t>
            </a:r>
            <a:endParaRPr b="0" lang="en-US" sz="40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47920" y="2437920"/>
            <a:ext cx="640080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Lecture series based on the tex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d4d4ce"/>
                </a:solidFill>
                <a:latin typeface="Arial"/>
              </a:rPr>
              <a:t>Essential MATLAB</a:t>
            </a:r>
            <a:r>
              <a:rPr b="0" i="1" lang="en-US" sz="3200" spc="-1" strike="noStrike">
                <a:solidFill>
                  <a:srgbClr val="d4d4ce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4d4ce"/>
                </a:solidFill>
                <a:latin typeface="Arial"/>
              </a:rPr>
              <a:t>for Engineers and Scientis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4d4ce"/>
                </a:solidFill>
                <a:latin typeface="Arial"/>
              </a:rPr>
              <a:t>By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4d4ce"/>
                </a:solidFill>
                <a:latin typeface="Arial"/>
              </a:rPr>
              <a:t>Hahn &amp; Valenti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------------------------------------------------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4d4ce"/>
                </a:solidFill>
                <a:latin typeface="Tahoma"/>
              </a:rPr>
              <a:t>Objectives of a first course</a:t>
            </a: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earn how to evaluate and explore capabilities of MATLAB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earn how to do technical computing with MATLAB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earn how to design mathematical procedures to solve technical problems via the structure plan (i.e., a design methodology for solving technical problems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earn how to develop algorithms to implement the steps of your structure plan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earn how to translate the structure plans into computer programs to solve engineering and scientific problems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4d4ce"/>
                </a:solidFill>
                <a:latin typeface="Tahoma"/>
              </a:rPr>
              <a:t>The lectures</a:t>
            </a: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re are 14 lectures provided as a supplement to the text by Hahn and Valentine (2007). They cover the first 10 chapters of the text as well as the types of applications covered in Chapter 14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lectures are provided to help the instructor create her or his lectures for an introductory course on MATLAB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1T23:02:08Z</dcterms:created>
  <dc:creator/>
  <dc:description/>
  <dc:language>en-US</dc:language>
  <cp:lastModifiedBy>Osama</cp:lastModifiedBy>
  <dcterms:modified xsi:type="dcterms:W3CDTF">2011-02-18T18:29:09Z</dcterms:modified>
  <cp:revision>101</cp:revision>
  <dc:subject/>
  <dc:title>ES100: Lecture 01 Introduction to ES100 and MATLAB</dc:title>
</cp:coreProperties>
</file>