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951E-DFBC-4730-9688-4450F2AFA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59E2-B06F-41DB-A541-708CB5729C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5D54-10FE-4FC8-B054-86A1692EF0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32FF-872A-4E27-99F8-E8E2EC158F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3BF-F170-4CEE-8C27-F9B57F36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D36-0B9E-4332-88C9-B0C41DE1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C83-B1B0-4F04-AA02-0513757D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2AA-9AA4-43F8-966E-80256D5B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D65-2B25-475D-BF52-9DE42C9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D94-C37C-4DEB-848F-E026033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145-9382-475A-8C64-3141027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CA8-BADD-411D-878C-59EB2A67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52D-1CF5-4FD0-AA3A-E6070995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F8B-F7D9-4283-9645-E5BBC7D8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048-A7CF-4D25-96A7-A0336947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508-8E45-4B77-8BCA-51CBC4D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14D2-7477-4956-B481-C0FA244545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face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cture series based on the t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4d4ce"/>
                </a:solidFill>
                <a:latin typeface="Arial"/>
              </a:rPr>
              <a:t>Essential MATLAB</a:t>
            </a:r>
            <a:r>
              <a:rPr b="0" i="1" lang="en-US" sz="3200" spc="-1" strike="noStrike">
                <a:solidFill>
                  <a:srgbClr val="d4d4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4d4ce"/>
                </a:solidFill>
                <a:latin typeface="Arial"/>
              </a:rPr>
              <a:t>for Engineers and Scien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Hahn &amp; Valent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s of a first cours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evaluate and explore capabilities of MATLA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o technical computing with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sign mathematical procedures to solve technical problems via the structure plan (i.e., a design methodology for solving technical problem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velop algorithms to implement the steps of your structure pl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translate the structure plans into computer programs to solve engineering and scientific proble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The lecture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14 lectures provided as a supplement to the text by Hahn and Valentine (2007). They cover the first 10 chapters of the text as well as the types of applications covered in Chapter 1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ctures are provided to help the instructor create her or his lectures for an introductory course on MATL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Osama</cp:lastModifiedBy>
  <dcterms:modified xsi:type="dcterms:W3CDTF">2011-02-18T18:29:09Z</dcterms:modified>
  <cp:revision>101</cp:revision>
  <dc:subject/>
  <dc:title>ES100: Lecture 01 Introduction to ES100 and MATLAB</dc:title>
</cp:coreProperties>
</file>