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41E9-FA65-4E1B-8B8D-34C90F463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E6B5-88F3-4360-8F92-A2DEC425C0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C1DE-51AB-4C5F-B79E-AAF74C062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521C-512B-49CD-AB4C-43DD8B31B8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F78-A542-41C6-A406-252EC348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999-FAE8-4DE0-9160-B284E4A4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B13-6E6A-43D6-9052-94239ABF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EB8-5CEB-4764-9840-4BA857188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856-EE59-4D7A-A83B-2EE80DA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E9F-FAAA-4653-8C07-2DC32A07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DAC-155C-4874-AF72-4A8DA71D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0C0-A6B7-4D92-82EF-CBC66BCF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C39-CD54-4F59-84EF-18729C8C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A96-5C6E-4F4B-8376-0C36F48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FD6-A847-4D50-A5B9-96A01E0A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E32-1134-4CDC-8B4A-16AED13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CA28-2157-4B39-AAD2-33CE1A3161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face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a first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valuate and explore capabilities of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mathematical procedures to solve technical problems via the structure plan (i.e., a design methodology for solving technical problem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velop algorithms to implement the steps of your structure pl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ructure plan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The lectur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14 lectures provided as a supplement to the text by Hahn and Valentine (2007). They cover the first 10 chapters of the text as well as the types of applications covered in Chapter 1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ctures are provided to help the instructor create her or his lectures for an introductory course on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29:09Z</dcterms:modified>
  <cp:revision>101</cp:revision>
  <dc:subject/>
  <dc:title>ES100: Lecture 01 Introduction to ES100 and MATLAB</dc:title>
</cp:coreProperties>
</file>