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E1701-6B98-4052-A7AB-773601A67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7D6B0-4DEC-44A7-A7AD-8796EDBAE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DB1B9-2C39-4E32-990B-A3E64D60A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39E07-169D-47C1-BB26-971E83F9C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3BA0A-0773-428D-878B-4764D862C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A0C0A-1BE7-4043-AE91-5D5BFE47A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B26D9-D680-4180-8E41-A0C915E78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B9FEF-339A-4FE3-BB86-4801C1F1C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A7762-4481-4A26-9FB9-EFCFE25AA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80C29-74AC-4FCF-AD8D-006923C5E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59A4D-4C5F-4D2D-B93F-07DCA7599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F01D5-E3AE-4899-B886-052E4A922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DAF7B-3A2B-4FFF-91BB-5A9AD35CE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1A5BC-1060-428F-9E8C-25A2B921D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85D4F-5625-4D6B-8AB0-EC4E0B445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56C5E-0566-4843-AECD-668BEBF3C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D8627-F337-418F-B813-3620BC2B2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C361E-B683-49F3-97C4-1604C8512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A454A-7342-454F-90B9-AC706D6F6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45C4F-9929-4016-BA38-0ACEB4D74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C4D24-098C-4C53-9477-F2AA9F43D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18FC0-C392-4304-997D-75A1F8E66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FD3E4-99EB-454D-A9E6-8E6DD2416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B44D2-089D-4528-B515-B7B7BE7D1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6DAC8-E4A8-40EB-9502-EEB3E36858E9}" type="slidenum"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e7d"/>
              </a:gs>
              <a:gs pos="5000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19E53-5B5E-4070-958E-C8052CF06424}" type="slidenum"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د. محمد السديري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80880" y="2286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cbcbcb"/>
                </a:solidFill>
                <a:latin typeface="Times New Roman"/>
                <a:cs typeface="Traditional Arabic"/>
              </a:rPr>
              <a:t>المكونات البرمجية للنظام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151000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00"/>
                </a:solidFill>
                <a:latin typeface="Times New Roman"/>
                <a:ea typeface="Traditional Arabic"/>
              </a:rPr>
              <a:t>  البرامج التطبيقية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2000"/>
          </a:bodyPr>
          <a:p>
            <a:pPr marL="246960" indent="-246960" algn="just" rtl="1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هي برامج تسمح لمستخدم الحاسب بتحقيق الغرض من استخدامه للحاسب 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46960" indent="-246960" algn="just" rtl="1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وهي برامج يمكن وضعها بواسطة المستفيد لغرض معالجة أو تناول البيانات المدخلة وإحراجها بمواصفات محددة مسبقا تتناسب لاحتياجاته الخاصة. وتنقسم إلى نوعين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: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46960" indent="-246960" algn="just" rtl="1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imes New Roman"/>
                <a:cs typeface="Traditional Arabic"/>
              </a:rPr>
              <a:t>برامج المستخدم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34960" indent="-205560" algn="just" rtl="1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هي البرامج التي يستحدثها المستخدم لكي تقوم بعمل خاص و معين، مثل برامج خاصة بالمخزون ، شؤون الموظفين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34960" indent="-205560" algn="just" rtl="1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برامج المستخدم برامج يتم تطويرها لخدمة احتياجات مستخدم معين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46960" indent="-246960" algn="r" rtl="1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imes New Roman"/>
                <a:cs typeface="Traditional Arabic"/>
              </a:rPr>
              <a:t>برامج تطبيقية جاهزة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34960" indent="-205560" algn="r" rtl="1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برامج تستخدم لحل مسألة تطبيقية معينة و تعد بواسطة بيوت الخبرة و الشركات المتخصصة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34960" indent="-205560" algn="r" rtl="1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معالجة النصوص – الجداول الإلكترونية – قواعد البيانات – البرامج الرسومية – البرامج التعليمية – إدارة المشاريع – الاتصالات - الألعاب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313000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00"/>
                </a:solidFill>
                <a:latin typeface="Times New Roman"/>
                <a:cs typeface="Traditional Arabic"/>
              </a:rPr>
              <a:t>القسم الثاني من  مكونات نظام الحاسب: البرامج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7524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6000"/>
          </a:bodyPr>
          <a:p>
            <a:pPr marL="4053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Arial"/>
                <a:cs typeface="Traditional Arabic"/>
              </a:rPr>
              <a:t>البرامج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Traditional Arabic"/>
              </a:rPr>
              <a:t>software</a:t>
            </a:r>
            <a:r>
              <a:rPr b="1" lang="ar-SA" sz="2800" spc="-1" strike="noStrike">
                <a:solidFill>
                  <a:srgbClr val="ffff00"/>
                </a:solidFill>
                <a:latin typeface="Arial"/>
                <a:ea typeface="Traditional Arabic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53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  <a:cs typeface="Traditional Arabic"/>
              </a:rPr>
              <a:t>هي مجموعة الأوامر والتعليمات للجهاز مرتبة بشكل معين وفق تسلسل يقوم الجهاز بتنفيذها لتحقيق غرض معين – حيث أن الحاسب لا يمكنه العمل ما لم يعطى هذه الأوامر والتعليمات 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53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Arial"/>
                <a:cs typeface="Traditional Arabic"/>
              </a:rPr>
              <a:t>تنقسم البرامج إلى: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Traditional Arabic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  <a:cs typeface="Traditional Arabic"/>
              </a:rPr>
              <a:t>برامج النظا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raditional Arabic"/>
              </a:rPr>
              <a:t>Systems program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raditional Arabic"/>
              </a:rPr>
              <a:t> </a:t>
            </a:r>
            <a:r>
              <a:rPr b="0" lang="ar-SA" sz="2800" spc="-1" strike="noStrike">
                <a:solidFill>
                  <a:srgbClr val="ffff00"/>
                </a:solidFill>
                <a:latin typeface="Arial"/>
                <a:ea typeface="Traditional Arabic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  <a:cs typeface="Traditional Arabic"/>
              </a:rPr>
              <a:t>برامج تطبيقية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raditional Arabic"/>
              </a:rPr>
              <a:t>Application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  <a:ea typeface="Traditional Arabic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5360" indent="-405360" algn="r" rtl="1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  <a:cs typeface="Traditional Arabic"/>
              </a:rPr>
              <a:t>برامج النظام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4800" indent="-347400" algn="r" rtl="1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00"/>
                </a:solidFill>
                <a:latin typeface="Arial"/>
                <a:cs typeface="Traditional Arabic"/>
              </a:rPr>
              <a:t>مجموعة مهام التحكم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4800" indent="-347400" algn="r" rtl="1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  <a:cs typeface="Traditional Arabic"/>
              </a:rPr>
              <a:t>برامج تشغيلية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raditional Arabic"/>
              </a:rPr>
              <a:t>Systems 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  <a:ea typeface="Traditional Arabic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raditional Arabic"/>
              </a:rPr>
              <a:t>Operat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4800" indent="-347400" algn="r" rtl="1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00"/>
                </a:solidFill>
                <a:latin typeface="Arial"/>
                <a:cs typeface="Traditional Arabic"/>
              </a:rPr>
              <a:t>مجموعة المهام الخدمية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4800" indent="-347400" algn="r" rtl="1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  <a:cs typeface="Traditional Arabic"/>
              </a:rPr>
              <a:t>برامج لغات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raditional Arabic"/>
              </a:rPr>
              <a:t>Languag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4800" indent="-347400" algn="r" rtl="1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  <a:cs typeface="Traditional Arabic"/>
              </a:rPr>
              <a:t>برامج مساعدة "خدمات"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raditional Arabic"/>
              </a:rPr>
              <a:t>Utilities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  <a:ea typeface="Traditional Arabic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4800" indent="-347400" algn="r" rtl="1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  <a:cs typeface="Traditional Arabic"/>
              </a:rPr>
              <a:t>برامج المكتبة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raditional Arabic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raditional Arabic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373000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00"/>
                </a:solidFill>
                <a:latin typeface="Times New Roman"/>
                <a:cs typeface="Traditional Arabic"/>
              </a:rPr>
              <a:t>برامج النظام 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 algn="r" rtl="1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  <a:cs typeface="Traditional Arabic"/>
              </a:rPr>
              <a:t>النظام هو الذي يشغل الجهاز ويسمح له بتشغيل البرامج المختلفة "برامج التطبيقات " وكذلك يسمح للمستخدم بالتعامل مع الحاسب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Arial"/>
                <a:cs typeface="Traditional Arabic"/>
              </a:rPr>
              <a:t>برامج التشغيل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  <a:ea typeface="Traditional Arabic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Traditional Arabic"/>
              </a:rPr>
              <a:t>Operation System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 algn="r" rtl="1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  <a:cs typeface="Traditional Arabic"/>
              </a:rPr>
              <a:t>مجموعة من البرامج الأساسية التي يقوم بإدارة جهاز الحاسب ويتحكم في جميع الأعمال والمهام التي يقوم بها .  مثل: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 algn="r" rtl="1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raditional Arabic"/>
              </a:rPr>
              <a:t>Dos , Windows, OS/2, Windows NT, Unix, Netware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  <a:ea typeface="Traditional Arabic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302000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00"/>
                </a:solidFill>
                <a:latin typeface="Times New Roman"/>
                <a:cs typeface="Traditional Arabic"/>
              </a:rPr>
              <a:t>مهام نظام التشغيل 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  <a:cs typeface="Traditional Arabic"/>
              </a:rPr>
              <a:t>التحكم في مسار البيانات 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r" rtl="1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  <a:cs typeface="Traditional Arabic"/>
              </a:rPr>
              <a:t>توزيع المهام على مصادر الجهاز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r" rtl="1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  <a:cs typeface="Traditional Arabic"/>
              </a:rPr>
              <a:t>تحميل البرامج التطبيقية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r" rtl="1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  <a:cs typeface="Traditional Arabic"/>
              </a:rPr>
              <a:t>التحكم في وحدات الذاكرة الرئيسية 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r" rtl="1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  <a:cs typeface="Traditional Arabic"/>
              </a:rPr>
              <a:t>التحكم في وحدات الإدخال والإخراج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r" rtl="1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  <a:cs typeface="Traditional Arabic"/>
              </a:rPr>
              <a:t>المواجهة مع المستخدم 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r" rtl="1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  <a:cs typeface="Traditional Arabic"/>
              </a:rPr>
              <a:t>اكتشاف الأعطال 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343000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240" y="6091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00"/>
                </a:solidFill>
                <a:latin typeface="Times New Roman"/>
                <a:cs typeface="Traditional Arabic"/>
              </a:rPr>
              <a:t>البرامج المساندة والمساعدة الخدمية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Traditional Arabic"/>
              </a:rPr>
              <a:t>Utility Program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0000"/>
          </a:bodyPr>
          <a:p>
            <a:pPr marL="274320" indent="-274320" algn="r" rtl="1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  <a:cs typeface="Traditional Arabic"/>
              </a:rPr>
              <a:t>البرامج المساعدة تستخدم لغرض المساعدة ، والتعزيز والتوسع في البرامج الحالية في الحاسب وهي مجموعة البرامج التي لا غنى عنها وهي تقوم بأداء خدمات مفيدة لمستخدم الحاسب 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 algn="r" rtl="1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  <a:cs typeface="Traditional Arabic"/>
              </a:rPr>
              <a:t>كثيرا ما يحتاج مستخدم الحاسب إلى أداء عمليات معينة مثل النسخ من محتويات قرص مرن إلى آخر أو من الحاسب إلى قرص مرن وللتحرير -كتابة مذكرة -وللطباعة بعض البيانات الموجودة بالقرص المرن إلى جهاز الطباعة وكذلك تهيئة القرص المرن "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raditional Arabic"/>
              </a:rPr>
              <a:t>Format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  <a:ea typeface="Traditional Arabic"/>
              </a:rPr>
              <a:t>" بإنشاء مسارات وقطاعات تبين أين يتم تخزين البيانات أو بمسح محتوياته  - كل ذلك وتجدها تقوم به البرامج المساعدة والتي في الغالب ما تكون ضمن برنامج التشغيل أو ضمن الحاسب أو تكون في صور برامج مستقلة من أشهرها برامج نورتون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raditional Arabic"/>
              </a:rPr>
              <a:t>Norto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raditional Arabic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  <a:ea typeface="Traditional Arabic"/>
              </a:rPr>
              <a:t> وغيرها 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81000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6840" y="227664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marL="291600" indent="-291600" algn="r" rtl="1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  <a:cs typeface="Traditional Arabic"/>
              </a:rPr>
              <a:t>وكذلك توجد برامج تحمل على الحاسب لغرض حمايته من الفيروسات والتي تعطل عمل برامج التشغيل والحاسب ككل، وفي أغلب الأحيان تؤدي إلى فقدان محتويات الحاسب من برامج وملفات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 algn="r" rtl="1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  <a:cs typeface="Traditional Arabic"/>
              </a:rPr>
              <a:t>فالبرامج المخصصة ضد الفيروسات تقوم بمسح القرص الصلب والمرن والمعالج والذاكرة الرئيسية لغرض البحث عن وجود فيروس وبالتالي القضاء عليه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 algn="r" rtl="1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  <a:cs typeface="Traditional Arabic"/>
              </a:rPr>
              <a:t>كذلك يوجد ما يعرف باسم ضاغط البيانات يقوم بضغط البيانات عن طريق مسح الملفات والبيانات المكررة ليترك مكان لإمكانية التخزين 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00"/>
                </a:solidFill>
                <a:latin typeface="Times New Roman"/>
                <a:cs typeface="Traditional Arabic"/>
              </a:rPr>
              <a:t>البرامج المساندة والمساعدة الخدمية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Traditional Arabic"/>
              </a:rPr>
              <a:t>Utility Program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</p:spTree>
  </p:cSld>
  <p:transition advTm="239000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7000"/>
          </a:bodyPr>
          <a:p>
            <a:pPr marL="263880" indent="-263880" algn="r" rtl="1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  <a:cs typeface="Traditional Arabic"/>
              </a:rPr>
              <a:t>مجموعة المهام الخدماتية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63880" indent="-263880" algn="r" rtl="1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Arial"/>
                <a:cs typeface="Traditional Arabic"/>
              </a:rPr>
              <a:t>برامج ترجمة اللغات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72040" indent="-219960" algn="r" rtl="1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  <a:cs typeface="Traditional Arabic"/>
              </a:rPr>
              <a:t>هي مجموعة من البرامج الخاصة بترجمة تعليمات وأوامر برامج التطبيقات المكتوبة بلغة سهلة نسبيا للإنسان و الآلة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3880" indent="-263880" algn="r" rtl="1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Arial"/>
                <a:cs typeface="Traditional Arabic"/>
              </a:rPr>
              <a:t>البرامج الخدمية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72040" indent="-219960" algn="r" rtl="1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  <a:cs typeface="Traditional Arabic"/>
              </a:rPr>
              <a:t>هي مجموعة من البرامج التشغيلية التي لا غنى عنها لأنها تقوم بأداء خدمات مفيدة لمستخدم الحاسب مثل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879840" indent="-175680" algn="r" rtl="1">
              <a:lnSpc>
                <a:spcPct val="90000"/>
              </a:lnSpc>
              <a:spcBef>
                <a:spcPts val="499"/>
              </a:spcBef>
              <a:buClr>
                <a:srgbClr val="00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  <a:cs typeface="Traditional Arabic"/>
              </a:rPr>
              <a:t>التصنيف ، التحرير ، نسخ الملفات ، تصحيح البرامج ، حفظ و تعديل الملفات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3880" indent="-263880" algn="r" rtl="1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Arial"/>
                <a:cs typeface="Traditional Arabic"/>
              </a:rPr>
              <a:t>البرامج المكتبية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72040" indent="-219960" algn="r" rtl="1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  <a:cs typeface="Traditional Arabic"/>
              </a:rPr>
              <a:t>تقوم بحفظ سجل كامل لأجزاء البرامج التي تستخدم أكثر من غيرها و هي تكون على هيئة لغة الآلة و مخزنة في وحدة تخزين دائمة مثل القرص الصلب و يتم استدعائها عند الحاجة.  يقوم برنامج الربط و التصحيح باستدعائها وربطها مع البرامج التطبيقية التي تكون على هيئة لغة الهدف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title"/>
          </p:nvPr>
        </p:nvSpPr>
        <p:spPr>
          <a:xfrm>
            <a:off x="22860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00"/>
                </a:solidFill>
                <a:latin typeface="Times New Roman"/>
                <a:cs typeface="Traditional Arabic"/>
              </a:rPr>
              <a:t>البرامج المساندة والمساعدة الخدمية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Traditional Arabic"/>
              </a:rPr>
              <a:t>Utility Program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</p:spTree>
  </p:cSld>
  <p:transition advTm="207000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00"/>
                </a:solidFill>
                <a:latin typeface="Times New Roman"/>
                <a:cs typeface="Traditional Arabic"/>
              </a:rPr>
              <a:t>أشكال المواجهة</a:t>
            </a:r>
            <a:r>
              <a:rPr b="1" lang="ar-SA" sz="4400" spc="-1" strike="noStrike">
                <a:solidFill>
                  <a:srgbClr val="ffff00"/>
                </a:solidFill>
                <a:latin typeface="Times New Roman"/>
                <a:ea typeface="Traditional Arabic"/>
              </a:rPr>
              <a:t> </a:t>
            </a:r>
            <a:r>
              <a:rPr b="1" lang="ar-SA" sz="4400" spc="-1" strike="noStrike">
                <a:solidFill>
                  <a:srgbClr val="ffff00"/>
                </a:solidFill>
                <a:latin typeface="Times New Roman"/>
                <a:cs typeface="Traditional Arabic"/>
              </a:rPr>
              <a:t>في برامج التشغيل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91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 algn="just" rtl="1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Times New Roman"/>
                <a:cs typeface="Traditional Arabic"/>
              </a:rPr>
              <a:t>المواجهة الخطية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 algn="just" rtl="1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تستخدم لوحة المفاتيح في إدخال الأوامر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just" rtl="1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Times New Roman"/>
                <a:cs typeface="Traditional Arabic"/>
              </a:rPr>
              <a:t>المواجهة الرسومية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 algn="just" rtl="1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تستخدم الفأرة بدل لوحة المفاتيح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just" rtl="1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Times New Roman"/>
                <a:cs typeface="Traditional Arabic"/>
              </a:rPr>
              <a:t>المواجهة بالقوائم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 algn="just" rtl="1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يستخدم مفاتيح الأسهم لحركة المؤشر على لوحة المفاتيح لكي يسمح للمستخدم باختيار إحدى الخيارات المعروضة بشكل قوائم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240000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00"/>
                </a:solidFill>
                <a:latin typeface="Times New Roman"/>
                <a:cs typeface="Traditional Arabic"/>
              </a:rPr>
              <a:t>أنواع أنظمة التشغيل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 algn="just" rtl="1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Times New Roman"/>
                <a:cs typeface="Traditional Arabic"/>
              </a:rPr>
              <a:t>تنقسم أجهزة التشغيل من حيث قدرتها على تشغيل أكثر من برنامج لنفس المستخدم في نفس الوقت إلى :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 algn="just" rtl="1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أنظمة متعددة المهام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Multi Tasking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 algn="just" rtl="1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أنظمة وحيدة المهام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Single Task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 algn="just" rtl="1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Times New Roman"/>
                <a:cs typeface="Traditional Arabic"/>
              </a:rPr>
              <a:t>وتنقسم الأنظمة من حيث قدرتها على السماح لأكثر من مستخدم بتشغيل برامجها في نفس الوقت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 algn="just" rtl="1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أنظمة متعددة المستخدمين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Multi user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 algn="just" rtl="1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أنظمة وحيدة الاستخدام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single user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51000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3T14:14:32Z</dcterms:created>
  <dc:creator>Unknown User</dc:creator>
  <dc:description/>
  <dc:language>en-US</dc:language>
  <cp:lastModifiedBy>malsudairi</cp:lastModifiedBy>
  <dcterms:modified xsi:type="dcterms:W3CDTF">2003-09-20T14:11:04Z</dcterms:modified>
  <cp:revision>52</cp:revision>
  <dc:subject/>
  <dc:title>المكونات الرئيسية للحاسب</dc:title>
</cp:coreProperties>
</file>