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E5B-12C9-402C-9E36-C2818B5D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C40-7973-4D90-A09A-9F7B8820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45B-E23E-4B29-B469-A2CB8EFA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E1E-AE74-4865-A09A-C7C0A114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CC9D-768D-4213-8D65-50D4BC24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23FC-76AA-46BF-BCEC-5DF3C61E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6851-6D4C-472D-81DA-D5A530F8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3C1A-2F66-4972-87CF-DB9B36EA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DB5C-6E33-4438-A28E-291D11ED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0219-17A7-48D3-B786-C7B49651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1C4C-822F-49F1-A55D-BDFF2CE2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477-0744-4189-93D1-B14B28C7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C2E1-73EA-441A-985A-599F962F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B429-CAB0-412A-95BF-47A6387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6FC4-19DF-4DD3-A8E1-951A4062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0BE6-247E-4733-895E-CFF312E9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424D-6293-4998-9286-3F514CA1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DF1-4698-4750-8AF2-4B13377D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EF1-852A-4C46-8461-E23FD799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C46-FEAE-477F-B918-61DC0234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0FF-9849-41AA-BF1F-6010249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825-DE3B-4512-841C-D95B9F89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D1C-8E0C-44C2-8314-EEF328F2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7E7-F86E-4310-A806-5B47FFFE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54C9-B59D-43C5-9F27-70C9C602A1A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3B95-7C7E-40D3-973B-FA8E67675F5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السدير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المكونات البرمجية للنظا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1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  البرامج التطبيقي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برامج تسمح لمستخدم الحاسب بتحقيق الغرض من استخدامه للحاسب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برامج يمكن وضعها بواسطة المستفيد لغرض معالجة أو تناول البيانات المدخلة وإحراجها بمواصفات محددة مسبقا تتناسب لاحتياجاته الخاصة. وتنقسم إلى نوعي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المستخدم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البرامج التي يستحدثها المستخدم لكي تقوم بعمل خاص و معين، مثل برامج خاصة بالمخزون ، شؤون الموظفين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رامج المستخدم برامج يتم تطويرها لخدمة احتياجات مستخدم معين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تطبيقية جاهز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رامج تستخدم لحل مسألة تطبيقية معينة و تعد بواسطة بيوت الخبرة و الشركات المتخصص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الجة النصوص – الجداول الإلكترونية – قواعد البيانات – البرامج الرسومية – البرامج التعليمية – إدارة المشاريع – الاتصالات - الألعا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13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قسم الثاني من  مكونات نظام الحاسب: البرامج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40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برامج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software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الأوامر والتعليمات للجهاز مرتبة بشكل معين وفق تسلسل يقوم الجهاز بتنفيذها لتحقيق غرض معين – حيث أن الحاسب لا يمكنه العمل ما لم يعطى هذه الأوامر والتعليمات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نقسم البرامج إلى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النظا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Systems progr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تطبيق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Application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النظا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جموعة مهام التحكم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تشغيل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Systems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Oper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جموعة المهام الخدمي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لغات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Langu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مساعدة "خدمات"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Utilitie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المكتب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7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النظام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نظام هو الذي يشغل الجهاز ويسمح له بتشغيل البرامج المختلفة "برامج التطبيقات " وكذلك يسمح للمستخدم بالتعامل مع الحاسب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رامج التشغي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Operation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جموعة من البرامج الأساسية التي يقوم بإدارة جهاز الحاسب ويتحكم في جميع الأعمال والمهام التي يقوم بها .  مثل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Dos , Windows, OS/2, Windows NT, Unix, Netwar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هام نظام التشغيل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حكم في مسار البيانات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وزيع المهام على مصادر الجهاز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ميل البرامج التطبيقية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حكم في وحدات الذاكرة الرئيسية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حكم في وحدات الإدخال والإخراج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واجهة مع المستخدم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كتشاف الأعطال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4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برامج المساندة والمساعدة الخدمية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Utility Progra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برامج المساعدة تستخدم لغرض المساعدة ، والتعزيز والتوسع في البرامج الحالية في الحاسب وهي مجموعة البرامج التي لا غنى عنها وهي تقوم بأداء خدمات مفيدة لمستخدم الحاسب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كثيرا ما يحتاج مستخدم الحاسب إلى أداء عمليات معينة مثل النسخ من محتويات قرص مرن إلى آخر أو من الحاسب إلى قرص مرن وللتحرير -كتابة مذكرة -وللطباعة بعض البيانات الموجودة بالقرص المرن إلى جهاز الطباعة وكذلك تهيئة القرص المرن "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Forma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" بإنشاء مسارات وقطاعات تبين أين يتم تخزين البيانات أو بمسح محتوياته  - كل ذلك وتجدها تقوم به البرامج المساعدة والتي في الغالب ما تكون ضمن برنامج التشغيل أو ضمن الحاسب أو تكون في صور برامج مستقلة من أشهرها برامج نورتون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Nort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غيرها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1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2276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كذلك توجد برامج تحمل على الحاسب لغرض حمايته من الفيروسات والتي تعطل عمل برامج التشغيل والحاسب ككل، وفي أغلب الأحيان تؤدي إلى فقدان محتويات الحاسب من برامج وملفات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فالبرامج المخصصة ضد الفيروسات تقوم بمسح القرص الصلب والمرن والمعالج والذاكرة الرئيسية لغرض البحث عن وجود فيروس وبالتالي القضاء عليه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كذلك يوجد ما يعرف باسم ضاغط البيانات يقوم بضغط البيانات عن طريق مسح الملفات والبيانات المكررة ليترك مكان لإمكانية التخزين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برامج المساندة والمساعدة الخدمية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Utility Progra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advTm="239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جموعة المهام الخدماتية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رامج ترجمة اللغات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من البرامج الخاصة بترجمة تعليمات وأوامر برامج التطبيقات المكتوبة بلغة سهلة نسبيا للإنسان و الآل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برامج الخدمية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من البرامج التشغيلية التي لا غنى عنها لأنها تقوم بأداء خدمات مفيدة لمستخدم الحاسب مثل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 algn="r" rtl="1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صنيف ، التحرير ، نسخ الملفات ، تصحيح البرامج ، حفظ و تعديل الملفا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برامج المكتبي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قوم بحفظ سجل كامل لأجزاء البرامج التي تستخدم أكثر من غيرها و هي تكون على هيئة لغة الآلة و مخزنة في وحدة تخزين دائمة مثل القرص الصلب و يتم استدعائها عند الحاجة.  يقوم برنامج الربط و التصحيح باستدعائها وربطها مع البرامج التطبيقية التي تكون على هيئة لغة الهدف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برامج المساندة والمساعدة الخدمية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Utility Progra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advTm="20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شكال المواجه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في برامج التشغي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واجهة الخطي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ستخدم لوحة المفاتيح في إدخال الأوامر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واجهة الرسومية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ستخدم الفأرة بدل لوحة المفاتي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واجهة بالقوائ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ستخدم مفاتيح الأسهم لحركة المؤشر على لوحة المفاتيح لكي يسمح للمستخدم باختيار إحدى الخيارات المعروضة بشكل قوائ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نواع أنظمة التشغي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نقسم أجهزة التشغيل من حيث قدرتها على تشغيل أكثر من برنامج لنفس المستخدم في نفس الوقت إلى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نظمة متعددة المها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ulti Tas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نظمة وحيدة المها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Single Tas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وتنقسم الأنظمة من حيث قدرتها على السماح لأكثر من مستخدم بتشغيل برامجها في نفس الوقت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نظمة متعددة المستخدمي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ulti use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نظمة وحيدة الاستخدام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single use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1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14:32Z</dcterms:created>
  <dc:creator>Unknown User</dc:creator>
  <dc:description/>
  <dc:language>en-US</dc:language>
  <cp:lastModifiedBy>malsudairi</cp:lastModifiedBy>
  <dcterms:modified xsi:type="dcterms:W3CDTF">2003-09-20T14:11:04Z</dcterms:modified>
  <cp:revision>52</cp:revision>
  <dc:subject/>
  <dc:title>المكونات الرئيسية للحاسب</dc:title>
</cp:coreProperties>
</file>