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B07D-C97A-4EF3-A308-4F0A9A34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FB2C-9B7E-42F7-8B3B-334236DC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023C-FC2E-46F7-A2BC-51551BF8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3603-D1A7-4EE9-8248-D7ED95983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2CBA-5334-43FD-9089-44A59569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AD61-5818-4F09-89EE-D087595B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F6D1-F7F1-4587-9FED-43305BC0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F71A-26DA-4C1B-9852-FA427760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798A-1A45-4DA1-A646-3428EF70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00EF-6506-4E8B-937D-9287268F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73BA-A015-489B-82E7-018F5865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33DE-319A-4C54-9538-3B036F14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8825-1ED1-440B-8756-DED49368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9BD3-6D38-40D3-8022-6013D483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FE83-17B2-4884-928D-1D45C40A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5F45-54D2-4920-BC3F-EF09FD40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28CB-7C74-42FE-806E-49A02B5F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4562-5A5F-4ADC-8E02-D7509C0F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4D87-DD81-482A-A12A-8E8CB168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C0B1-C891-49A7-B011-5A44E04B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CA2B-1DBB-41AA-97FD-1F05527C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58E8-09C1-42FE-AAB2-D320853A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49E7-AEDD-4AF0-814A-B48AE77D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BCA7-B335-42BB-9A46-4D11B0AD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8E8C-84EE-48AF-A4BF-66266AF36668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19A0-D53D-42F2-A605-1A62CB777026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د. محمد السديري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bcbcb"/>
                </a:solidFill>
                <a:latin typeface="Times New Roman"/>
                <a:cs typeface="Traditional Arabic"/>
              </a:rPr>
              <a:t>المكونات البرمجية للنظام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4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لماذا نحتاج إلى مترجم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just" rtl="1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دائما تحتاج إلى مترجم للغة لأن الحاسب يستطيع أن يشغل لغة الآلة فقط ونحن نريد مترجم للغات أخرى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مترجم اللغة نحتاجه لترجمة أو تحويل اللغة عالية المستوى "لغة المصدر" إلى لغة الآلة "لغة الهدف " حتى يعمل البرنامج على جهاز الحاسب 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كمستخدم تحتاج إلى استخدام معالج اللغة عندما تقوم ببرمجة برنامج باللغة عالية المستوى.   المبرمجون يستخدمون نوعان من معالجات اللغة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 algn="just" rtl="1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مؤل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Compil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مجمع أو المفسر أو  المحو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 algn="just" rtl="1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مترجم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Interpre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مصنف أو المؤلف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75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533520" y="1981080"/>
            <a:ext cx="8076960" cy="914400"/>
            <a:chOff x="533520" y="1981080"/>
            <a:chExt cx="8076960" cy="914400"/>
          </a:xfrm>
        </p:grpSpPr>
        <p:sp>
          <p:nvSpPr>
            <p:cNvPr id="110" name=""/>
            <p:cNvSpPr/>
            <p:nvPr/>
          </p:nvSpPr>
          <p:spPr>
            <a:xfrm>
              <a:off x="6553080" y="2057040"/>
              <a:ext cx="2057400" cy="8384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00"/>
                  </a:solidFill>
                  <a:latin typeface="Times New Roman"/>
                  <a:cs typeface="Traditional Arabic"/>
                </a:rPr>
                <a:t>برنامج المصد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Traditional Arabic"/>
                </a:rPr>
                <a:t>Source Progra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3520" y="2057040"/>
              <a:ext cx="2057400" cy="8384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00"/>
                  </a:solidFill>
                  <a:latin typeface="Times New Roman"/>
                  <a:cs typeface="Traditional Arabic"/>
                </a:rPr>
                <a:t>برنامج الهد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Traditional Arabic"/>
                </a:rPr>
                <a:t>Source Progra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43480" y="1981080"/>
              <a:ext cx="2057400" cy="9144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00"/>
                  </a:solidFill>
                  <a:latin typeface="Times New Roman"/>
                  <a:cs typeface="Traditional Arabic"/>
                </a:rPr>
                <a:t>المترجم</a:t>
              </a:r>
              <a:r>
                <a:rPr b="1" lang="ar-SA" sz="2400" spc="-1" strike="noStrike">
                  <a:solidFill>
                    <a:srgbClr val="ffff00"/>
                  </a:solidFill>
                  <a:latin typeface="Times New Roman"/>
                  <a:ea typeface="Traditional Arabic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ranslato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5714640" y="2514240"/>
              <a:ext cx="762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742840" y="2514240"/>
              <a:ext cx="6858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33520" y="3581280"/>
            <a:ext cx="8076960" cy="914400"/>
            <a:chOff x="533520" y="3581280"/>
            <a:chExt cx="8076960" cy="914400"/>
          </a:xfrm>
        </p:grpSpPr>
        <p:sp>
          <p:nvSpPr>
            <p:cNvPr id="116" name=""/>
            <p:cNvSpPr/>
            <p:nvPr/>
          </p:nvSpPr>
          <p:spPr>
            <a:xfrm>
              <a:off x="6553080" y="3657240"/>
              <a:ext cx="2057400" cy="8384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00"/>
                  </a:solidFill>
                  <a:latin typeface="Times New Roman"/>
                  <a:cs typeface="Traditional Arabic"/>
                </a:rPr>
                <a:t>برنامج المصد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Traditional Arabic"/>
                </a:rPr>
                <a:t>Source Progra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3520" y="3657240"/>
              <a:ext cx="2057400" cy="8384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00"/>
                  </a:solidFill>
                  <a:latin typeface="Times New Roman"/>
                  <a:cs typeface="Traditional Arabic"/>
                </a:rPr>
                <a:t>برنامج الهد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Traditional Arabic"/>
                </a:rPr>
                <a:t>Source Progra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43480" y="3581280"/>
              <a:ext cx="2057400" cy="9144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3300"/>
                  </a:solidFill>
                  <a:latin typeface="Times New Roman"/>
                  <a:cs typeface="Traditional Arabic"/>
                </a:rPr>
                <a:t>المفس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Interpre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5714640" y="4114440"/>
              <a:ext cx="762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742840" y="4114440"/>
              <a:ext cx="6858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33520" y="5105520"/>
            <a:ext cx="8076960" cy="914400"/>
            <a:chOff x="533520" y="5105520"/>
            <a:chExt cx="8076960" cy="914400"/>
          </a:xfrm>
        </p:grpSpPr>
        <p:sp>
          <p:nvSpPr>
            <p:cNvPr id="122" name=""/>
            <p:cNvSpPr/>
            <p:nvPr/>
          </p:nvSpPr>
          <p:spPr>
            <a:xfrm>
              <a:off x="6553080" y="5181480"/>
              <a:ext cx="2057400" cy="8384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00"/>
                  </a:solidFill>
                  <a:latin typeface="Times New Roman"/>
                  <a:cs typeface="Traditional Arabic"/>
                </a:rPr>
                <a:t>برنامج المصد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Traditional Arabic"/>
                </a:rPr>
                <a:t>Source Progra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520" y="5181480"/>
              <a:ext cx="2057400" cy="8384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00"/>
                  </a:solidFill>
                  <a:latin typeface="Times New Roman"/>
                  <a:cs typeface="Traditional Arabic"/>
                </a:rPr>
                <a:t>برنامج الهد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Traditional Arabic"/>
                </a:rPr>
                <a:t>Source Progra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43480" y="5105520"/>
              <a:ext cx="2057400" cy="9144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3300"/>
                  </a:solidFill>
                  <a:latin typeface="Times New Roman"/>
                  <a:cs typeface="Traditional Arabic"/>
                </a:rPr>
                <a:t>المجمع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Compil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5714640" y="5638680"/>
              <a:ext cx="762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742840" y="5638680"/>
              <a:ext cx="6858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advTm="54000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مترجم – المؤلف  - المُجمع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Compil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و برنامج يترجم لغة التجمع إلى لغة الآلة.  هو برنامج معد خصيصا للقيام بعملية الترجمة والتصنيف والتأليف لبرنامج آخر في لغة المصدر وتحويله إلى الصيغة القابلة للتنفيذ بلغة الآلة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و برنامج يقوم بعمليات المعالجة التحويلية التي تترجم كامل البرنامج المكتوب باللغة عالية المستوى إلى لغة الآلة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بخطوة واحدة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مفسر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Interpreter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و البرنامج الذي يقوم بفك الشفرة الخاصة بالبيانات والحصول على المعنى لهذه الصيغة لاستخدامها في الغرض الذي أعدت من أجله وهو يقوم بالترجمة إلى لغة الآلة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جملة تلو الأخرى أثناء التنفيذ.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لماذا نحتاج إلى مترجم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ransition advTm="268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جيل الرابع: جيل اللغات عالية المستوى الغير إجرائي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جيل الرابع سهل الاستخدام أكثر من الجيل الثالث وهو لغة غير خطواتيه أي لا تتطلب خطوات لإجرائها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مبرمج يخبر الحاسب النتيجة المطلوبة تحقيقها بدلا من كيف يمكنه تحقيقها. ولسهولتها منحت المبرمج القدرة على تطوير البرامج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أنواعها : 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 algn="just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لغات الجداول الإلكترونية 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 algn="just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قواعد البيانـــــات 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 algn="just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منتج التطبيقــات 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 algn="just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منتج التقــــــارير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 algn="just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لغة الاستعلامية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96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لغة استعلامية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Query Languages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just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لغة الاستعلامية أسلوب محدد لصياغة عبارات استعلامية والتي تتم بإدخالها إلى النظام من خلال محطات استعلامية في هيئة أوامر يطلب استرجاع بيانات من ملف معين موجود في قواعد البيانات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بواسطة اللغة الاستعلامية يستطيع المستخدم طرح تساؤلات و يصل إلى إجابات فورية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 algn="just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مثال: كم عدد الأصناف لدينا في المخزون والتي يكون عددها أقل من نقطة اعادة  الطلب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30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جيل الخامس : اللغات الطبيعية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-25380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جيل اللغات الطبيعية هي مشابه للغات الاستعلامية ولكنها لا يحتاج المبرمج إلى معرفة كلمات معينة أو قواعد أو عبارات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هذا الجيل يقترب من الحاسبات الخبيرة وهي مجموعة من المعارف جمعت لعدد من الخبراء في مجال معين ومحدد لحل مشكلة محددة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لغة الهدف القيم أو المتألق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Object-oriented langu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عندما يشرع أغلب المبرمجون البدء في مهمة البرمجة فأنهم يفكرون في جزئيين مهمين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 algn="just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موز البيانات التي يجب أن تعالج 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 algn="just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خطوات معالجة هذه البيانات 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هاتان الخطوتان مهمة في الماضي ولكن الآن في اللغة الطبيعية أغلب المبرمجون يدمجونهما في عنصر واحد يسمى الهدف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Object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06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خطوات البرمجة</a:t>
            </a:r>
            <a:r>
              <a:rPr b="0" lang="ar-SA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تكون البرمجة من خمس خطوات :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حديد المشكلة 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خطيط برنامج منطقي وتصميم الحلول 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رميز البرنامج أو كتابة البرنامج 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اختبار البرنامج 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توثيق النهائي للبرنامج 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23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ختيار اللغات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405360" indent="-40536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يجب مراعاة مناسبة اللغة للتطبيق الذي تستعمل من أجله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5360" indent="-40536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إذا كان بالإمكان استعمال اللغة بكفاءة على نظام قائم محد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4800" indent="-347400" algn="just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تقاس الكفاءة بواسطة ” </a:t>
            </a:r>
            <a:r>
              <a:rPr b="0" lang="ar-SA" sz="2400" spc="-1" strike="noStrike">
                <a:solidFill>
                  <a:srgbClr val="ffff00"/>
                </a:solidFill>
                <a:latin typeface="Arial"/>
                <a:cs typeface="Traditional Arabic"/>
              </a:rPr>
              <a:t>وقت الترجمة،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ar-SA" sz="2400" spc="-1" strike="noStrike">
                <a:solidFill>
                  <a:srgbClr val="ffff00"/>
                </a:solidFill>
                <a:latin typeface="Arial"/>
                <a:cs typeface="Traditional Arabic"/>
              </a:rPr>
              <a:t>وقت التنفيذ، ومتطلبات التخزين الرئيسية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“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5360" indent="-40536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حديد الحاجة إلى العاملين و رواتبهم و تدريبهم تعتبر تكاليف إضافية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536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536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خصائص التي تقرر اختيار لغة معينة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5360" indent="-40536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سهولة القراءة والكتابة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5360" indent="-40536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سمات الموجهه للتطبيقات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5360" indent="-40536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مساعدات تطوير البرنامج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5360" indent="-40536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كفاءة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18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  البرامج التطبيقي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هي برامج تسمح لمستخدم الحاسب بتحقيق الغرض من استخدامه للحاسب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هي برامج يمكن وضعها بواسطة المستفيد لغرض معالجة أو تناول البيانات المدخلة وإحراجها بمواصفات محددة مسبقا تتناسب لاحتياجاته الخاصة. وتنقسم إلى نوعين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: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برامج المستخدم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 algn="just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هي البرامج التي يستحدثها المستخدم لكي تقوم بعمل خاص و معين، مثل برامج خاصة بالمخزون ، شؤون الموظفين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 algn="just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برامج المستخدم برامج يتم تطويرها لخدمة احتياجات مستخدم معين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برامج تطبيقية جاهزة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برامج تستخدم لحل مسألة تطبيقية معينة و تعد بواسطة بيوت الخبرة و الشركات المتخصصة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عالجة النصوص – الجداول الإلكترونية – قواعد البيانات – البرامج الرسومية – البرامج التعليمية – إدارة المشاريع – الاتصالات - الألعاب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2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برامج اللغات أو برامج ترجمة اللغات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77336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يتم الاتصال بالحاسب والتفاهم معه بلغات أخرى مثل الكوبل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BOL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 البيس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IC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التي تتألف من رموز وكلمات نفهمها نحن البشر. حيث أن الحاسب لا يستطيع فهم اللغة البشرية لذلك لابد أن تتحول إلى لغة يفهمها الحاسب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و هي لغة واحدة فقط هي لغة الآلة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. فعلى سبيل المثال نكتب برنامج بلغة الكوبل وبعد ذلك نشغل برنامج ترجمة اللغات والذي يترجم البرنامج المكتوب إلى لغة الآلة ليشغلها و يجعلها تعمل في الحاسب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ترجمة اللغات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 algn="just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و برنامج يترجم ما كتبه المبرمجون بلغة من اللغات إلى لغة تفهمها الآلة ويستطيع الحاسب فهمها و التعامل معا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لغة البرمج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 algn="just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تكتب البرمجة بعبارة سهلة في تسلسل منطقي يؤدي إلى حل مسألة معينة. إذا لغة البرمجة هي مجموعة من الخطوات تُعلم الحاسب بأي عملية ينفذ أو </a:t>
            </a:r>
            <a:r>
              <a:rPr b="0" lang="ar-SA" sz="2400" spc="-1" strike="noStrike">
                <a:solidFill>
                  <a:srgbClr val="ffff00"/>
                </a:solidFill>
                <a:latin typeface="Arial"/>
                <a:cs typeface="Traditional Arabic"/>
              </a:rPr>
              <a:t>هي لغة تتيح للمستخدم التعامل وإعطاء الأوامر للحاسب وكتابته البرامج له.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32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أجيال اللغات</a:t>
            </a:r>
            <a:r>
              <a:rPr b="0" lang="ar-SA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تنقسم اللغات إلى ما يعرف بالأجيال وهذه الأجيال واللغات عادة ما تكو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لغة  بسيطة و برامج منخفضة المستوى كلما اقتربت من شكل لغة الآلة أو الحاسب وهي [ . و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] ”الأرقام الثنائية“ والتي يستخدمها الحاسب . وتكون الأجيال أو اللغات عالية المستوى كلما اقتربت من اللغة التي يستخدمها الإنسان "اللغة الطبيعية"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جيل لغة الآلة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جيل لغة التجميع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جيل اللغات عالية المستوى الإجرائية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جيل اللغات عالية المستوى الغير إجرائية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لغات الطبيعية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29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أجيال اللغات</a:t>
            </a:r>
            <a:r>
              <a:rPr b="0" lang="ar-SA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جيل الأول لغة الآل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ي مجموعة من الرموز التي يتم بموجبها كتابة أوامر في صفحة الآلة القابلة للتنفيذ دون الحاجة إلى ترجمة. وهي لغة يصعب التعامل معها وكتابتها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 algn="just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1001001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1101110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1110011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110011010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11011011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جيل الثاني لغة التجمع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استخدمت لغة التجميع لتسهيل البرمجة فهي لغة الحروف المجمعة.  وهي لغة تختصر بعض العبارات والرموز المستخدمة ففيها يتم استبدال الرموز الرقمية في لغة الآلة بمجموعة من الكلمات الرمزية " المختصرة " باستخدام اللغة الإنجليزية. إذا من السهل نحفظ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 algn="just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for Load ,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for Add,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 B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for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Brave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C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for comp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96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جيل الثالث: اللغات الإجرائية عالية المستوى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ي لغة سهلة مثل اللغة التي يتعامل معها الإنسان بشكله اليومي وهي مثل قراءة الكتاب وكتابة المعادلات الرياضية – وهي مصممه للكتابة على أعداد وأنواع مختلفة من الحاسبات بدون تغير أو بتغير بسيط.  سميت باللغة الإجرائي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أنها تستخدم القواعد و الخطوات في كتابتها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أشهر هذه اللغات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 algn="just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كوبول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COBO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 algn="just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فورتران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ForTr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 algn="just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البيسك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BAS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 algn="just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باسكال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PAS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 algn="just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سى و السى بلس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C , C+,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+++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أجيال اللغات:</a:t>
            </a:r>
            <a:r>
              <a:rPr b="0" lang="ar-SA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لغات الإجرائية عالية المستوى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ransition advTm="233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أسباب تصميمها أو مزاياها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 algn="just" rtl="1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حرر المبرمج من التعقيدات والخطوات والإجراءات الطويلة في كتابة البرنامج بلغة الآلة ولغة التجميع 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 algn="just" rtl="1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تقدم لغة يمكن استخدامها في أكثر من حاسب مع تعديلات طفيفة 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 algn="just" rtl="1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تمنح المبرمج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  <a:cs typeface="Traditional Arabic"/>
              </a:rPr>
              <a:t>فرصة وقت أكبر للتركيز على احتياجات المستخدم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بالتالي يصمم برنامج يتوافق مع هذه الاحتياجات 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 algn="just" rtl="1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سميت باللغة الإجرائية لأن تعليمات البرمجة تتألف من مجموعة من الخطوات أو الإجراءات التي تعلم أو تخبر الحاسب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  <a:cs typeface="Traditional Arabic"/>
              </a:rPr>
              <a:t>ليس فقط ماذا يفعل بالأشياء بل كيف يفعل بها 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96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مزايا و عيوب اللغة الإجرائي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  <a:cs typeface="Traditional Arabic"/>
              </a:rPr>
              <a:t>مزايا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سهولة تذكر الأوامر وقواعد اللغة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لها القدرة على وضع البيانات والأوامر في ذاكرة الحاسب نيابة عن المبرمج . أي تخصيص الأماكن بالذاكرة الرئيسية للحاسب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غير معتمدة على نوع الجهاز المستخدم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سهولة تتبع البرامج لتعديلها أو رصد الأخطاء وتصحيحها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  <a:cs typeface="Traditional Arabic"/>
              </a:rPr>
              <a:t>عيوبها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حتاج إلى مترجم لتحويلها إلى لغة الآلة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27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تطبيقات بعض اللغات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فورتران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ForTran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عام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1954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لغة الفورترا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(لغة ذات إمكانيات لبرمجة التطبيقات التقنية والعلمية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كوبول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COBOL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عام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195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ي لغة الاستخدامات الإدارية والتطبيقات التجارية والمهنية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بيسك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BASIC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 عام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1960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-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1965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ي لفة سهلة ومناسبة للأغراض الإدارية والعلمية وارتباطها بالحاسبات الشخصية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باسكال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PASCAL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عام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197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ستخدم كلغة تعليمية لتعلم أساليب و أصول البرمجة  فهي لغة تعليمية، لغة علمية، لغة نظام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سى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C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عام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1972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ي لغة برمجة متعددة الأغراض فهي تجمع بين اللغات عالية المستوى من حيث السهولة و إمكانية التشغيل و بين مميزات اللغات منخفضة المستوى من حيث الإستفادة من الخصائص الداخلية للحاسب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89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14:32Z</dcterms:created>
  <dc:creator>Unknown User</dc:creator>
  <dc:description/>
  <dc:language>en-US</dc:language>
  <cp:lastModifiedBy>ECON-124-42</cp:lastModifiedBy>
  <dcterms:modified xsi:type="dcterms:W3CDTF">2004-07-24T07:24:41Z</dcterms:modified>
  <cp:revision>60</cp:revision>
  <dc:subject/>
  <dc:title>المكونات الرئيسية للحاسب</dc:title>
</cp:coreProperties>
</file>