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CCD-504B-41B5-8804-5CDDE795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0D1-D81A-41B7-B1EC-F3F5116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5BB-2131-4906-94E4-2D143AB3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226-8E9C-4484-93F9-D9CCCBF4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1BEB-1E9E-4D50-A1D0-691EFB46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4283-4B13-4EBA-84B1-5047ECFF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16CC-E231-4C22-AE77-E801EB2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247-491D-4F72-A8AB-92978A1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D7F3-D63E-4DCC-A381-CBB176F8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4BB-694A-498B-99F2-B1CE07D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C37-3816-416B-A71C-B34C2D71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DDA-680D-433A-B8DD-2B287A6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FA30-6701-4A61-B0F3-2E9CBC78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EB8D-43C4-4AA5-BFF9-350808E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B614-85C3-4058-BE36-C4107FE6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EB87-9577-4351-93D8-1BA92EC3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4C9-70B5-4B30-8ACC-AE99ED80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405-4843-469C-9573-DE2F37F6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64-D1A8-40A2-B372-40809831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229-5EB1-4FBA-843E-0B6A51E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5D1-7E38-46F8-984B-6995D08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846-3AD9-4654-9EA9-74FC729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A93-5199-4AB0-AF2F-9711889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9D0-F872-4F71-9CFC-08D39BA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189-4677-4764-B778-0E965BBF2CF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89B-2A6B-4E03-ACF3-10042B80682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المكونات البرمجية للنظا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ماذا نحتاج إلى مترج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دائما تحتاج إلى مترجم للغة لأن الحاسب يستطيع أن يشغل لغة الآلة فقط ونحن نريد مترجم للغات أخرى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ترجم اللغة نحتاجه لترجمة أو تحويل اللغة عالية المستوى "لغة المصدر" إلى لغة الآلة "لغة الهدف " حتى يعمل البرنامج على جهاز الحاسب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مستخدم تحتاج إلى استخدام معالج اللغة عندما تقوم ببرمجة برنامج باللغة عالية المستوى.   المبرمجون يستخدمون نوعان من معالجات اللغ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ؤل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mpil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جمع أو المفسر أو  المحو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ترج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rpre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صنف أو المؤلف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7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33520" y="1981080"/>
            <a:ext cx="8076960" cy="914400"/>
            <a:chOff x="533520" y="1981080"/>
            <a:chExt cx="8076960" cy="914400"/>
          </a:xfrm>
        </p:grpSpPr>
        <p:sp>
          <p:nvSpPr>
            <p:cNvPr id="110" name=""/>
            <p:cNvSpPr/>
            <p:nvPr/>
          </p:nvSpPr>
          <p:spPr>
            <a:xfrm>
              <a:off x="6553080" y="20570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20570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3480" y="198108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المترجم</a:t>
              </a: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ransla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714640" y="251424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742840" y="251424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3520" y="3581280"/>
            <a:ext cx="8076960" cy="914400"/>
            <a:chOff x="533520" y="3581280"/>
            <a:chExt cx="8076960" cy="914400"/>
          </a:xfrm>
        </p:grpSpPr>
        <p:sp>
          <p:nvSpPr>
            <p:cNvPr id="116" name=""/>
            <p:cNvSpPr/>
            <p:nvPr/>
          </p:nvSpPr>
          <p:spPr>
            <a:xfrm>
              <a:off x="6553080" y="36572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65724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3480" y="358128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Traditional Arabic"/>
                </a:rPr>
                <a:t>المفس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nterpre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714640" y="411444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42840" y="411444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3520" y="5105520"/>
            <a:ext cx="8076960" cy="914400"/>
            <a:chOff x="533520" y="5105520"/>
            <a:chExt cx="8076960" cy="914400"/>
          </a:xfrm>
        </p:grpSpPr>
        <p:sp>
          <p:nvSpPr>
            <p:cNvPr id="122" name=""/>
            <p:cNvSpPr/>
            <p:nvPr/>
          </p:nvSpPr>
          <p:spPr>
            <a:xfrm>
              <a:off x="6553080" y="518148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مصد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5181480"/>
              <a:ext cx="2057400" cy="838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Times New Roman"/>
                  <a:cs typeface="Traditional Arabic"/>
                </a:rPr>
                <a:t>برنامج الهد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raditional Arabic"/>
                </a:rPr>
                <a:t>Source Pro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3480" y="5105520"/>
              <a:ext cx="2057400" cy="9144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3300"/>
                  </a:solidFill>
                  <a:latin typeface="Times New Roman"/>
                  <a:cs typeface="Traditional Arabic"/>
                </a:rPr>
                <a:t>المجم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ompi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714640" y="5638680"/>
              <a:ext cx="7621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742840" y="5638680"/>
              <a:ext cx="6858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54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ترجم – المؤلف  - المُجمع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ترجم لغة التجمع إلى لغة الآلة.  هو برنامج معد خصيصا للقيام بعملية الترجمة والتصنيف والتأليف لبرنامج آخر في لغة المصدر وتحويله إلى الصيغة القابلة للتنفيذ بلغة الآل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قوم بعمليات المعالجة التحويلية التي تترجم كامل البرنامج المكتوب باللغة عالية المستوى إلى لغة الآلة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خطوة واحد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فسر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Interpreter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البرنامج الذي يقوم بفك الشفرة الخاصة بالبيانات والحصول على المعنى لهذه الصيغة لاستخدامها في الغرض الذي أعدت من أجله وهو يقوم بالترجمة إلى لغة الآلة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جملة تلو الأخرى أثناء التنفيذ.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ماذا نحتاج إلى مترج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6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جيل الرابع: جيل اللغات عالية المستوى الغير إجرائ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جيل الرابع سهل الاستخدام أكثر من الجيل الثالث وهو لغة غير خطواتيه أي لا تتطلب خطوات لإجرائه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برمج يخبر الحاسب النتيجة المطلوبة تحقيقها بدلا من كيف يمكنه تحقيقها. ولسهولتها منحت المبرمج القدرة على تطوير البرامج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واعها : 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ات الجداول الإلكترونية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قواعد البيانـــــ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تج التطبيقــ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تج التقــــــارير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ة الاستعلام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لغة استعلامية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Query Languages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ة الاستعلامية أسلوب محدد لصياغة عبارات استعلامية والتي تتم بإدخالها إلى النظام من خلال محطات استعلامية في هيئة أوامر يطلب استرجاع بيانات من ملف معين موجود في قواعد البيانا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بواسطة اللغة الاستعلامية يستطيع المستخدم طرح تساؤلات و يصل إلى إجابات فورية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ثال: كم عدد الأصناف لدينا في المخزون والتي يكون عددها أقل من نقطة اعادة  الطلب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جيل الخامس : اللغات الطبيعية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الطبيعية هي مشابه للغات الاستعلامية ولكنها لا يحتاج المبرمج إلى معرفة كلمات معينة أو قواعد أو عبار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ذا الجيل يقترب من الحاسبات الخبيرة وهي مجموعة من المعارف جمعت لعدد من الخبراء في مجال معين ومحدد لحل مشكلة محدد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الهدف القيم أو المتألق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bject-oriente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عندما يشرع أغلب المبرمجون البدء في مهمة البرمجة فأنهم يفكرون في جزئيين مهمين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موز البيانات التي يجب أن تعالج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خطوات معالجة هذه البيانات 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تان الخطوتان مهمة في الماضي ولكن الآن في اللغة الطبيعية أغلب المبرمجون يدمجونهما في عنصر واحد يسمى الهدف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bjec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خطوات البرمجة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البرمجة من خمس خطوات :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مشكل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خطيط برنامج منطقي وتصميم الحلول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رميز البرنامج أو كتابة ا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ختبار ا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وثيق النهائي للبرنامج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ختيار اللغات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جب مراعاة مناسبة اللغة للتطبيق الذي تستعمل من أجل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ذا كان بالإمكان استعمال اللغة بكفاءة على نظام قائم محد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اس الكفاءة بواسطة ”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وقت الترجمة،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وقت التنفيذ، ومتطلبات التخزين الرئيس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“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حاجة إلى العاملين و رواتبهم و تدريبهم تعتبر تكاليف إضاف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خصائص التي تقرر اختيار لغة معين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القراءة والكتاب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مات الموجهه للتطبيق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ساعدات تطوير البرنام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كفاء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1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  البرامج التطبيق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رامج تسمح لمستخدم الحاسب بتحقيق الغرض من استخدامه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برامج يمكن وضعها بواسطة المستفيد لغرض معالجة أو تناول البيانات المدخلة وإحراجها بمواصفات محددة مسبقا تتناسب لاحتياجاته الخاصة. وتنقسم إلى نوعي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مستخدم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برامج التي يستحدثها المستخدم لكي تقوم بعمل خاص و معين، مثل برامج خاصة بالمخزون ، شؤون الموظفين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المستخدم برامج يتم تطويرها لخدمة احتياجات مستخدم معين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تطبيقية جاهز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تستخدم لحل مسألة تطبيقية معينة و تعد بواسطة بيوت الخبرة و الشركات المتخصص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النصوص – الجداول الإلكترونية – قواعد البيانات – البرامج الرسومية – البرامج التعليمية – إدارة المشاريع – الاتصالات - الألعا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لغات أو برامج ترجمة اللغات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77336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تم الاتصال بالحاسب والتفاهم معه بلغات أخرى مثل الكوب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البيس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تألف من رموز وكلمات نفهمها نحن البشر. حيث أن الحاسب لا يستطيع فهم اللغة البشرية لذلك لابد أن تتحول إلى لغة يفهمها الحاسب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 هي لغة واحدة فقط هي لغة الآل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 فعلى سبيل المثال نكتب برنامج بلغة الكوبل وبعد ذلك نشغل برنامج ترجمة اللغات والذي يترجم البرنامج المكتوب إلى لغة الآلة ليشغلها و يجعلها تعمل في ا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رجمة اللغات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برنامج يترجم ما كتبه المبرمجون بلغة من اللغات إلى لغة تفهمها الآلة ويستطيع الحاسب فهمها و التعامل معا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لغة البرمج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كتب البرمجة بعبارة سهلة في تسلسل منطقي يؤدي إلى حل مسألة معينة. إذا لغة البرمجة هي مجموعة من الخطوات تُعلم الحاسب بأي عملية ينفذ أو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هي لغة تتيح للمستخدم التعامل وإعطاء الأوامر للحاسب وكتابته البرامج له.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3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سم اللغات إلى ما يعرف بالأجيال وهذه الأجيال واللغات عادة ما تك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 بسيطة و برامج منخفضة المستوى كلما اقتربت من شكل لغة الآلة أو الحاسب وهي [ . و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] ”الأرقام الثنائية“ والتي يستخدمها الحاسب . وتكون الأجيال أو اللغات عالية المستوى كلما اقتربت من اللغة التي يستخدمها الإنسان "اللغة الطبيعية"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لغة الآ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لغة التجميع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عالية المستوى الإجرائ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يل اللغات عالية المستوى الغير إجرائ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لغات الطبيع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أول لغة الآل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رموز التي يتم بموجبها كتابة أوامر في صفحة الآلة القابلة للتنفيذ دون الحاجة إلى ترجمة. وهي لغة يصعب التعامل معها وكتابته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00100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11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1001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0110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101101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ثاني لغة التجمع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خدمت لغة التجميع لتسهيل البرمجة فهي لغة الحروف المجمعة.  وهي لغة تختصر بعض العبارات والرموز المستخدمة ففيها يتم استبدال الرموز الرقمية في لغة الآلة بمجموعة من الكلمات الرمزية " المختصرة " باستخدام اللغة الإنجليزية. إذا من السهل نحف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for Load 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for Add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B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rave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 comp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جيل الثالث: اللغات الإجرائية عالية المستو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سهلة مثل اللغة التي يتعامل معها الإنسان بشكله اليومي وهي مثل قراءة الكتاب وكتابة المعادلات الرياضية – وهي مصممه للكتابة على أعداد وأنواع مختلفة من الحاسبات بدون تغير أو بتغير بسيط.  سميت باللغة الإجرائي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أنها تستخدم القواعد و الخطوات في كتابتها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شهر هذه اللغات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كوبو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فورترا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T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بيس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AS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اسكال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PAS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ى و السى بل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 , C+,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+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جيال اللغات: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لغات الإجرائية عالية المستوى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3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سباب تصميمها أو مزاياها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رر المبرمج من التعقيدات والخطوات والإجراءات الطويلة في كتابة البرنامج بلغة الآلة ولغة التجميع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دم لغة يمكن استخدامها في أكثر من حاسب مع تعديلات طفيف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منح المبرمج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فرصة وقت أكبر للتركيز على احتياجات المستخد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بالتالي يصمم برنامج يتوافق مع هذه الاحتياجات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ميت باللغة الإجرائية لأن تعليمات البرمجة تتألف من مجموعة من الخطوات أو الإجراءات التي تعلم أو تخبر الحاسب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ليس فقط ماذا يفعل بالأشياء بل كيف يفعل بها 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زايا و عيوب اللغة الإجرائ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زايا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تذكر الأوامر وقواعد اللغ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ها القدرة على وضع البيانات والأوامر في ذاكرة الحاسب نيابة عن المبرمج . أي تخصيص الأماكن بالذاكرة الرئيسية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غير معتمدة على نوع الجهاز المستخدم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هولة تتبع البرامج لتعديلها أو رصد الأخطاء وتصحيحها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عيوبه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تاج إلى مترجم لتحويلها إلى لغة الآ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طبيقات بعض اللغات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فورتران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ForTra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54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غة الفورترا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(لغة ذات إمكانيات لبرمجة التطبيقات التقنية والعلم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كوبول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5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الاستخدامات الإدارية والتطبيقات التجارية والمهن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يسك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BASIC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60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-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65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فة سهلة ومناسبة للأغراض الإدارية والعلمية وارتباطها بالحاسبات الشخصي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اسكال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PASCAL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7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كلغة تعليمية لتعلم أساليب و أصول البرمجة  فهي لغة تعليمية، لغة علمية، لغة نظا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سى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عام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972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لغة برمجة متعددة الأغراض فهي تجمع بين اللغات عالية المستوى من حيث السهولة و إمكانية التشغيل و بين مميزات اللغات منخفضة المستوى من حيث الإستفادة من الخصائص الداخلية للحاسب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9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ECON-124-42</cp:lastModifiedBy>
  <dcterms:modified xsi:type="dcterms:W3CDTF">2004-07-24T07:24:41Z</dcterms:modified>
  <cp:revision>60</cp:revision>
  <dc:subject/>
  <dc:title>المكونات الرئيسية للحاسب</dc:title>
</cp:coreProperties>
</file>