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3241-0262-4EDA-86FB-9EAFB1C4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C62B-6D8A-4573-8454-48314A04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EE89-6615-41E9-B73F-4B7C706C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E990-2E72-4B14-A9DA-07B8DD84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4CFE-59BB-4D31-BB41-F27E2E7A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D2FD-A2D0-4ABF-B359-45F862F8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C12C-6C71-47F4-B988-A2E844EF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6208-6BB8-494C-BA72-B2461D85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1F31-A1AE-4AB5-B4BF-04FC36EC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9EBB-5477-484B-AAB7-41761059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156C-76FE-4614-8CBB-5173980F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EAF0-EC20-475C-BF0A-7425BA90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8338-C333-42C9-AEB1-AB63F596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7F8-B714-4598-B5D0-2BA895EC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C856-4E48-488D-ABB7-D4760BDE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19C0-6B1C-44D8-A249-11A84731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74DE-1787-40A5-9FF1-312969A0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0684-15BB-4A63-B6DB-6A13F2BC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D81E-BD9E-4F1F-A003-2527C3A2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559D-CBB8-49E1-B926-49F637DE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7D91-5237-48D2-9337-BADDFFD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FD06-5C5E-4E9B-88F0-2BAA3C6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581F-B4B6-4030-9D9A-6AD318C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6EE9-CB18-4C41-91ED-EDB39431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9BDF-B5F0-4015-9C21-DB3B3198534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32F4-92F3-401B-8445-81D6C94EC69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تصالات و الشبكات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د. محمد بن أحمد السديري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331640" y="2204640"/>
            <a:ext cx="70102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أسلاك المجدو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Twisted Co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أسلاك المحور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oax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ألياف الضوئ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وجات المتناهية الصغ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Micro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قمار الصناع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097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سائط نقل البيانات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70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أسلاك المجدوله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Twisted C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في توصيل أجهزة الهاتف من المقسم الرئيسي " السنترال " فهي تستخدم بكثرة في المنازل والمكاتب لسهولة التركيب و هي منخفضة السعر ولكنها بطيئة في نقل البيانات وهذا يتسبب في انقطاع إرسال البيان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أسلاك "الكيبلات" المحورية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Coaxial Co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هي تستخدم في نقل صور التلفزيونية، تتألف من سلك نحاسي صلب محاط بغلاف خارجي من صغائر النحاس له القدرة على نقل كميات من البيانات أكبر من الأسلاك المجدولة، و هي صلبة يصعب ثنيها وتثبيتها في المباني ، سرعتها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M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موجات المتناهية الصغر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Micro wav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وجات ذات تردد عالي جداً وهي تستخدم لنقل المعلومات الصوتية او الرقمية خلال شبكات خاصة للمعلوم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أقمار الصناعية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Satellit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لنقل الصورة والصور كما تستخدم في نقل كميات عالية جداً من البيانات بشكل سريع جداً ولمسافات متباعدة جداً فهي وسيط مهم جداً وسريع لنقل البيان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76360" y="189000"/>
            <a:ext cx="7010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سائط نقل البيانات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77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ألياف الضوئية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Fiber Op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في نقل البيانات لمسافات الطويلة وتمتا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9520" indent="-4950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صغر حجمها وقلة وزن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99520" indent="-4950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قلها لكميات كبيرة من البيانا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99520" indent="-4950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سرعتها العالية في نقل البيانا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ألياف الضوئية تحقق سرعة عالية جداً في نقل البيانات وإمكانية نقل بيانات في اتجاهين متعددة في نفس الوقت . يمكن إرسال عدد غير محدد من الرسائل في نفس الوقت وذلك لمسافات طويلة جد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مكن نقل الإشارات المرئية والتي يمكن استخدامها في عمل المؤتمرات باستخدام الهاتف الألياف الضوئية ثورة في عالم الاتصالات بسبب انخفاض سعرها وكثافة البيانات المنقولة بواسطتها وانخفاض الأخطاء والأمن على الرسائ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توى على ألياف زجاجية او بلاستيكية في سمك شعرة الرأس من الصعب جداً اضافة او الغاء فرع من الدائرة الاساس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نقل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بليون بت في الثانية تقريباً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رات أكثر من الكيابل المحورية 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رة أكثر من الأسلاك المجدو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333360"/>
            <a:ext cx="7010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سائط نقل البيانات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سائط النقل: مقارنة السرعة بالتكلف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32000" y="3038400"/>
          <a:ext cx="7297560" cy="2551320"/>
        </p:xfrm>
        <a:graphic>
          <a:graphicData uri="http://schemas.openxmlformats.org/drawingml/2006/table">
            <a:tbl>
              <a:tblPr/>
              <a:tblGrid>
                <a:gridCol w="3522600"/>
                <a:gridCol w="3774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PS – 10 M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أسلاك المجدولة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Twisted Co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BPS – 100 MB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موجات المتناهية الصغر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Microwa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BPS – 100 MB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أقمار الصناعية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Satell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BPS – 200 M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أسلاك المحورية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Cable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Coax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BPS – 10 GB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ألياف الضوئية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Fiber op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5824080" y="2305080"/>
            <a:ext cx="15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وسي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49360" y="227664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سر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40" y="230652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كلفة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800" y="5157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ال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200" y="292428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منخفض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طبيقات الاتصال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قل الملف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عالجة البيانات الموز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بريد الالكترون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جتماعات عن ب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ستعلام والبحث عن المعلوم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تصالات الحاسبات الشخصية بالمضيف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جتماعات المرئ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بادل البيانات الالكترون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صوت الالكترون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رسائل المرس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جتماعات الاتص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شكال أو طرق نقل البيانات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وع الشار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ناظرية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Analog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رقمية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Digit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وع التحوي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قل متزامن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Synchronous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قل غير متزامن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Asynchronou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تجاه التدف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نقل لاتجاه واحد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نقل المزدوج الجزئي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نقل المزدوج الأقصى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درجة التحو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شارات ترددية بحيز ترددي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1280" y="1341360"/>
            <a:ext cx="3357000" cy="3810240"/>
            <a:chOff x="611280" y="1341360"/>
            <a:chExt cx="3357000" cy="3810240"/>
          </a:xfrm>
        </p:grpSpPr>
        <p:graphicFrame>
          <p:nvGraphicFramePr>
            <p:cNvPr id="119" name=""/>
            <p:cNvGraphicFramePr/>
            <p:nvPr/>
          </p:nvGraphicFramePr>
          <p:xfrm>
            <a:off x="2671560" y="1341360"/>
            <a:ext cx="1296720" cy="221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71560" y="1341360"/>
                      <a:ext cx="1296720" cy="22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1618920" y="2114640"/>
            <a:ext cx="1296720" cy="221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8920" y="2114640"/>
                      <a:ext cx="1296720" cy="22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611280" y="2935440"/>
            <a:ext cx="1296720" cy="221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1280" y="2935440"/>
                      <a:ext cx="1296720" cy="22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</a:rPr>
              <a:t>نوع الإشارات: الاشارات التناظرية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alog sign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أخذ شكل الموجات الممتدة بترددات معينة . تمثل الإشارات التناظرية إشارات كهربائية ممتدة مستمرة في شكل موجات. الشحنات الكهربائية الموجبة + تمثل +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 الشحنات الكهربائية السالبة تمثل –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الإشارات التناظرية في نقل حركة الصوت أي حركة إرسال واستقبال الصوت وينعكس الصوت في خطوات متغير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إشارات التناظرية هي نوع من الإشارات على شكل موجات ممتدة متقلب "متموج متردد " لعدد من المرات المحددة ولمدة محددة من الوقت . هذا التقلب او التردد يعرف باسم التردد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Frequ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أو الذبذبات أو الإشارا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إشارات الرق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Digital Sig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حاسبات تواصل مع بعضها عن طريق تيار متدفق من الأرقام الثنائ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Binary dig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ترسل على أشكا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اندفاع متحكم أكثر منه موجات ممتدة ،  فهي تمثل بيانات مرمزة من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التي تحول على هيئة نبضات كهربائية تمثل فتح أو غل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1989000"/>
            <a:ext cx="1800360" cy="1152720"/>
            <a:chOff x="179280" y="1989000"/>
            <a:chExt cx="1800360" cy="1152720"/>
          </a:xfrm>
        </p:grpSpPr>
        <p:grpSp>
          <p:nvGrpSpPr>
            <p:cNvPr id="128" name=""/>
            <p:cNvGrpSpPr/>
            <p:nvPr/>
          </p:nvGrpSpPr>
          <p:grpSpPr>
            <a:xfrm>
              <a:off x="179280" y="1989000"/>
              <a:ext cx="1800360" cy="1152720"/>
              <a:chOff x="179280" y="1989000"/>
              <a:chExt cx="1800360" cy="115272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79280" y="2465640"/>
                <a:ext cx="1800360" cy="676080"/>
                <a:chOff x="179280" y="2465640"/>
                <a:chExt cx="1800360" cy="6760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79280" y="2808720"/>
                  <a:ext cx="1800360" cy="1080"/>
                </a:xfrm>
                <a:prstGeom prst="line">
                  <a:avLst/>
                </a:prstGeom>
                <a:ln w="14400">
                  <a:solidFill>
                    <a:srgbClr val="3f00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440640" y="2465640"/>
                  <a:ext cx="1231560" cy="676080"/>
                  <a:chOff x="440640" y="2465640"/>
                  <a:chExt cx="1231560" cy="6760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440640" y="2693880"/>
                    <a:ext cx="22896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3" h="476">
                        <a:moveTo>
                          <a:pt x="0" y="226"/>
                        </a:moveTo>
                        <a:lnTo>
                          <a:pt x="6" y="186"/>
                        </a:lnTo>
                        <a:lnTo>
                          <a:pt x="16" y="146"/>
                        </a:lnTo>
                        <a:lnTo>
                          <a:pt x="23" y="116"/>
                        </a:lnTo>
                        <a:lnTo>
                          <a:pt x="35" y="102"/>
                        </a:lnTo>
                        <a:lnTo>
                          <a:pt x="47" y="93"/>
                        </a:lnTo>
                        <a:lnTo>
                          <a:pt x="59" y="91"/>
                        </a:lnTo>
                        <a:lnTo>
                          <a:pt x="74" y="95"/>
                        </a:lnTo>
                        <a:lnTo>
                          <a:pt x="87" y="107"/>
                        </a:lnTo>
                        <a:lnTo>
                          <a:pt x="94" y="124"/>
                        </a:lnTo>
                        <a:lnTo>
                          <a:pt x="100" y="147"/>
                        </a:lnTo>
                        <a:lnTo>
                          <a:pt x="125" y="294"/>
                        </a:lnTo>
                        <a:lnTo>
                          <a:pt x="132" y="317"/>
                        </a:lnTo>
                        <a:lnTo>
                          <a:pt x="137" y="331"/>
                        </a:lnTo>
                        <a:lnTo>
                          <a:pt x="153" y="342"/>
                        </a:lnTo>
                        <a:lnTo>
                          <a:pt x="168" y="343"/>
                        </a:lnTo>
                        <a:lnTo>
                          <a:pt x="181" y="336"/>
                        </a:lnTo>
                        <a:lnTo>
                          <a:pt x="189" y="319"/>
                        </a:lnTo>
                        <a:lnTo>
                          <a:pt x="196" y="294"/>
                        </a:lnTo>
                        <a:lnTo>
                          <a:pt x="230" y="78"/>
                        </a:lnTo>
                        <a:lnTo>
                          <a:pt x="235" y="46"/>
                        </a:lnTo>
                        <a:lnTo>
                          <a:pt x="241" y="26"/>
                        </a:lnTo>
                        <a:lnTo>
                          <a:pt x="250" y="11"/>
                        </a:lnTo>
                        <a:lnTo>
                          <a:pt x="259" y="3"/>
                        </a:lnTo>
                        <a:lnTo>
                          <a:pt x="274" y="0"/>
                        </a:lnTo>
                        <a:lnTo>
                          <a:pt x="291" y="4"/>
                        </a:lnTo>
                        <a:lnTo>
                          <a:pt x="303" y="22"/>
                        </a:lnTo>
                        <a:lnTo>
                          <a:pt x="310" y="38"/>
                        </a:lnTo>
                        <a:lnTo>
                          <a:pt x="315" y="61"/>
                        </a:lnTo>
                        <a:lnTo>
                          <a:pt x="367" y="409"/>
                        </a:lnTo>
                        <a:lnTo>
                          <a:pt x="373" y="438"/>
                        </a:lnTo>
                        <a:lnTo>
                          <a:pt x="383" y="462"/>
                        </a:lnTo>
                        <a:lnTo>
                          <a:pt x="394" y="472"/>
                        </a:lnTo>
                        <a:lnTo>
                          <a:pt x="412" y="476"/>
                        </a:lnTo>
                        <a:lnTo>
                          <a:pt x="427" y="461"/>
                        </a:lnTo>
                        <a:lnTo>
                          <a:pt x="435" y="440"/>
                        </a:lnTo>
                        <a:lnTo>
                          <a:pt x="443" y="410"/>
                        </a:lnTo>
                        <a:lnTo>
                          <a:pt x="493" y="95"/>
                        </a:lnTo>
                      </a:path>
                    </a:pathLst>
                  </a:custGeom>
                  <a:noFill/>
                  <a:ln w="14400">
                    <a:solidFill>
                      <a:srgbClr val="ff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8880" y="2465640"/>
                    <a:ext cx="3906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41" h="1356">
                        <a:moveTo>
                          <a:pt x="0" y="553"/>
                        </a:moveTo>
                        <a:lnTo>
                          <a:pt x="43" y="298"/>
                        </a:lnTo>
                        <a:lnTo>
                          <a:pt x="49" y="278"/>
                        </a:lnTo>
                        <a:lnTo>
                          <a:pt x="62" y="267"/>
                        </a:lnTo>
                        <a:lnTo>
                          <a:pt x="74" y="264"/>
                        </a:lnTo>
                        <a:lnTo>
                          <a:pt x="93" y="267"/>
                        </a:lnTo>
                        <a:lnTo>
                          <a:pt x="103" y="279"/>
                        </a:lnTo>
                        <a:lnTo>
                          <a:pt x="108" y="298"/>
                        </a:lnTo>
                        <a:lnTo>
                          <a:pt x="210" y="1035"/>
                        </a:lnTo>
                        <a:lnTo>
                          <a:pt x="220" y="1073"/>
                        </a:lnTo>
                        <a:lnTo>
                          <a:pt x="230" y="1087"/>
                        </a:lnTo>
                        <a:lnTo>
                          <a:pt x="245" y="1093"/>
                        </a:lnTo>
                        <a:lnTo>
                          <a:pt x="258" y="1098"/>
                        </a:lnTo>
                        <a:lnTo>
                          <a:pt x="275" y="1091"/>
                        </a:lnTo>
                        <a:lnTo>
                          <a:pt x="288" y="1075"/>
                        </a:lnTo>
                        <a:lnTo>
                          <a:pt x="299" y="1035"/>
                        </a:lnTo>
                        <a:lnTo>
                          <a:pt x="399" y="181"/>
                        </a:lnTo>
                        <a:lnTo>
                          <a:pt x="405" y="140"/>
                        </a:lnTo>
                        <a:lnTo>
                          <a:pt x="412" y="127"/>
                        </a:lnTo>
                        <a:lnTo>
                          <a:pt x="419" y="114"/>
                        </a:lnTo>
                        <a:lnTo>
                          <a:pt x="431" y="105"/>
                        </a:lnTo>
                        <a:lnTo>
                          <a:pt x="445" y="103"/>
                        </a:lnTo>
                        <a:lnTo>
                          <a:pt x="461" y="108"/>
                        </a:lnTo>
                        <a:lnTo>
                          <a:pt x="473" y="116"/>
                        </a:lnTo>
                        <a:lnTo>
                          <a:pt x="481" y="127"/>
                        </a:lnTo>
                        <a:lnTo>
                          <a:pt x="488" y="140"/>
                        </a:lnTo>
                        <a:lnTo>
                          <a:pt x="495" y="175"/>
                        </a:lnTo>
                        <a:lnTo>
                          <a:pt x="586" y="1270"/>
                        </a:lnTo>
                        <a:lnTo>
                          <a:pt x="593" y="1316"/>
                        </a:lnTo>
                        <a:lnTo>
                          <a:pt x="601" y="1339"/>
                        </a:lnTo>
                        <a:lnTo>
                          <a:pt x="617" y="1349"/>
                        </a:lnTo>
                        <a:lnTo>
                          <a:pt x="633" y="1356"/>
                        </a:lnTo>
                        <a:lnTo>
                          <a:pt x="648" y="1349"/>
                        </a:lnTo>
                        <a:lnTo>
                          <a:pt x="656" y="1339"/>
                        </a:lnTo>
                        <a:lnTo>
                          <a:pt x="662" y="1319"/>
                        </a:lnTo>
                        <a:lnTo>
                          <a:pt x="667" y="1274"/>
                        </a:lnTo>
                        <a:lnTo>
                          <a:pt x="786" y="77"/>
                        </a:lnTo>
                        <a:lnTo>
                          <a:pt x="792" y="52"/>
                        </a:lnTo>
                        <a:lnTo>
                          <a:pt x="800" y="29"/>
                        </a:lnTo>
                        <a:lnTo>
                          <a:pt x="810" y="14"/>
                        </a:lnTo>
                        <a:lnTo>
                          <a:pt x="819" y="4"/>
                        </a:lnTo>
                        <a:lnTo>
                          <a:pt x="830" y="0"/>
                        </a:lnTo>
                        <a:lnTo>
                          <a:pt x="841" y="0"/>
                        </a:lnTo>
                      </a:path>
                    </a:pathLst>
                  </a:custGeom>
                  <a:noFill/>
                  <a:ln w="14400">
                    <a:solidFill>
                      <a:srgbClr val="ff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443960" y="2693880"/>
                    <a:ext cx="22824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476">
                        <a:moveTo>
                          <a:pt x="492" y="226"/>
                        </a:moveTo>
                        <a:lnTo>
                          <a:pt x="485" y="186"/>
                        </a:lnTo>
                        <a:lnTo>
                          <a:pt x="476" y="146"/>
                        </a:lnTo>
                        <a:lnTo>
                          <a:pt x="468" y="116"/>
                        </a:lnTo>
                        <a:lnTo>
                          <a:pt x="459" y="102"/>
                        </a:lnTo>
                        <a:lnTo>
                          <a:pt x="445" y="93"/>
                        </a:lnTo>
                        <a:lnTo>
                          <a:pt x="433" y="91"/>
                        </a:lnTo>
                        <a:lnTo>
                          <a:pt x="417" y="95"/>
                        </a:lnTo>
                        <a:lnTo>
                          <a:pt x="405" y="107"/>
                        </a:lnTo>
                        <a:lnTo>
                          <a:pt x="398" y="124"/>
                        </a:lnTo>
                        <a:lnTo>
                          <a:pt x="392" y="147"/>
                        </a:lnTo>
                        <a:lnTo>
                          <a:pt x="366" y="294"/>
                        </a:lnTo>
                        <a:lnTo>
                          <a:pt x="360" y="317"/>
                        </a:lnTo>
                        <a:lnTo>
                          <a:pt x="354" y="331"/>
                        </a:lnTo>
                        <a:lnTo>
                          <a:pt x="339" y="342"/>
                        </a:lnTo>
                        <a:lnTo>
                          <a:pt x="325" y="343"/>
                        </a:lnTo>
                        <a:lnTo>
                          <a:pt x="311" y="336"/>
                        </a:lnTo>
                        <a:lnTo>
                          <a:pt x="304" y="319"/>
                        </a:lnTo>
                        <a:lnTo>
                          <a:pt x="297" y="294"/>
                        </a:lnTo>
                        <a:lnTo>
                          <a:pt x="263" y="78"/>
                        </a:lnTo>
                        <a:lnTo>
                          <a:pt x="256" y="46"/>
                        </a:lnTo>
                        <a:lnTo>
                          <a:pt x="250" y="26"/>
                        </a:lnTo>
                        <a:lnTo>
                          <a:pt x="242" y="11"/>
                        </a:lnTo>
                        <a:lnTo>
                          <a:pt x="232" y="3"/>
                        </a:lnTo>
                        <a:lnTo>
                          <a:pt x="216" y="0"/>
                        </a:lnTo>
                        <a:lnTo>
                          <a:pt x="200" y="4"/>
                        </a:lnTo>
                        <a:lnTo>
                          <a:pt x="187" y="22"/>
                        </a:lnTo>
                        <a:lnTo>
                          <a:pt x="182" y="38"/>
                        </a:lnTo>
                        <a:lnTo>
                          <a:pt x="178" y="61"/>
                        </a:lnTo>
                        <a:lnTo>
                          <a:pt x="125" y="409"/>
                        </a:lnTo>
                        <a:lnTo>
                          <a:pt x="119" y="438"/>
                        </a:lnTo>
                        <a:lnTo>
                          <a:pt x="110" y="462"/>
                        </a:lnTo>
                        <a:lnTo>
                          <a:pt x="99" y="472"/>
                        </a:lnTo>
                        <a:lnTo>
                          <a:pt x="80" y="476"/>
                        </a:lnTo>
                        <a:lnTo>
                          <a:pt x="65" y="461"/>
                        </a:lnTo>
                        <a:lnTo>
                          <a:pt x="56" y="440"/>
                        </a:lnTo>
                        <a:lnTo>
                          <a:pt x="50" y="410"/>
                        </a:lnTo>
                        <a:lnTo>
                          <a:pt x="0" y="95"/>
                        </a:lnTo>
                      </a:path>
                    </a:pathLst>
                  </a:custGeom>
                  <a:noFill/>
                  <a:ln w="14400">
                    <a:solidFill>
                      <a:srgbClr val="ff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054080" y="2465640"/>
                    <a:ext cx="3906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42" h="1356">
                        <a:moveTo>
                          <a:pt x="842" y="556"/>
                        </a:moveTo>
                        <a:lnTo>
                          <a:pt x="798" y="298"/>
                        </a:lnTo>
                        <a:lnTo>
                          <a:pt x="792" y="278"/>
                        </a:lnTo>
                        <a:lnTo>
                          <a:pt x="779" y="267"/>
                        </a:lnTo>
                        <a:lnTo>
                          <a:pt x="766" y="264"/>
                        </a:lnTo>
                        <a:lnTo>
                          <a:pt x="747" y="267"/>
                        </a:lnTo>
                        <a:lnTo>
                          <a:pt x="739" y="279"/>
                        </a:lnTo>
                        <a:lnTo>
                          <a:pt x="731" y="298"/>
                        </a:lnTo>
                        <a:lnTo>
                          <a:pt x="630" y="1035"/>
                        </a:lnTo>
                        <a:lnTo>
                          <a:pt x="621" y="1073"/>
                        </a:lnTo>
                        <a:lnTo>
                          <a:pt x="612" y="1087"/>
                        </a:lnTo>
                        <a:lnTo>
                          <a:pt x="595" y="1093"/>
                        </a:lnTo>
                        <a:lnTo>
                          <a:pt x="582" y="1098"/>
                        </a:lnTo>
                        <a:lnTo>
                          <a:pt x="565" y="1091"/>
                        </a:lnTo>
                        <a:lnTo>
                          <a:pt x="552" y="1075"/>
                        </a:lnTo>
                        <a:lnTo>
                          <a:pt x="543" y="1035"/>
                        </a:lnTo>
                        <a:lnTo>
                          <a:pt x="442" y="181"/>
                        </a:lnTo>
                        <a:lnTo>
                          <a:pt x="434" y="140"/>
                        </a:lnTo>
                        <a:lnTo>
                          <a:pt x="430" y="127"/>
                        </a:lnTo>
                        <a:lnTo>
                          <a:pt x="423" y="114"/>
                        </a:lnTo>
                        <a:lnTo>
                          <a:pt x="410" y="105"/>
                        </a:lnTo>
                        <a:lnTo>
                          <a:pt x="398" y="103"/>
                        </a:lnTo>
                        <a:lnTo>
                          <a:pt x="381" y="108"/>
                        </a:lnTo>
                        <a:lnTo>
                          <a:pt x="367" y="116"/>
                        </a:lnTo>
                        <a:lnTo>
                          <a:pt x="360" y="127"/>
                        </a:lnTo>
                        <a:lnTo>
                          <a:pt x="353" y="140"/>
                        </a:lnTo>
                        <a:lnTo>
                          <a:pt x="347" y="175"/>
                        </a:lnTo>
                        <a:lnTo>
                          <a:pt x="254" y="1270"/>
                        </a:lnTo>
                        <a:lnTo>
                          <a:pt x="248" y="1316"/>
                        </a:lnTo>
                        <a:lnTo>
                          <a:pt x="239" y="1339"/>
                        </a:lnTo>
                        <a:lnTo>
                          <a:pt x="223" y="1349"/>
                        </a:lnTo>
                        <a:lnTo>
                          <a:pt x="209" y="1356"/>
                        </a:lnTo>
                        <a:lnTo>
                          <a:pt x="194" y="1349"/>
                        </a:lnTo>
                        <a:lnTo>
                          <a:pt x="185" y="1339"/>
                        </a:lnTo>
                        <a:lnTo>
                          <a:pt x="179" y="1319"/>
                        </a:lnTo>
                        <a:lnTo>
                          <a:pt x="173" y="1274"/>
                        </a:lnTo>
                        <a:lnTo>
                          <a:pt x="54" y="77"/>
                        </a:lnTo>
                        <a:lnTo>
                          <a:pt x="50" y="52"/>
                        </a:lnTo>
                        <a:lnTo>
                          <a:pt x="41" y="29"/>
                        </a:lnTo>
                        <a:lnTo>
                          <a:pt x="32" y="14"/>
                        </a:lnTo>
                        <a:lnTo>
                          <a:pt x="22" y="4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0">
                    <a:solidFill>
                      <a:srgbClr val="ff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282960" y="1989000"/>
                <a:ext cx="1624680" cy="378720"/>
                <a:chOff x="282960" y="1989000"/>
                <a:chExt cx="1624680" cy="378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82960" y="1993680"/>
                  <a:ext cx="36720" cy="191160"/>
                </a:xfrm>
                <a:custGeom>
                  <a:avLst/>
                  <a:gdLst/>
                  <a:ahLst/>
                  <a:rect l="l" t="t" r="r" b="b"/>
                  <a:pathLst>
                    <a:path w="81" h="385">
                      <a:moveTo>
                        <a:pt x="0" y="385"/>
                      </a:moveTo>
                      <a:lnTo>
                        <a:pt x="50" y="58"/>
                      </a:lnTo>
                      <a:lnTo>
                        <a:pt x="53" y="41"/>
                      </a:lnTo>
                      <a:lnTo>
                        <a:pt x="55" y="27"/>
                      </a:lnTo>
                      <a:lnTo>
                        <a:pt x="60" y="16"/>
                      </a:lnTo>
                      <a:lnTo>
                        <a:pt x="69" y="7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20760" y="1992960"/>
                  <a:ext cx="148320" cy="374760"/>
                </a:xfrm>
                <a:custGeom>
                  <a:avLst/>
                  <a:gdLst/>
                  <a:ahLst/>
                  <a:rect l="l" t="t" r="r" b="b"/>
                  <a:pathLst>
                    <a:path w="319" h="752">
                      <a:moveTo>
                        <a:pt x="0" y="0"/>
                      </a:moveTo>
                      <a:lnTo>
                        <a:pt x="17" y="5"/>
                      </a:lnTo>
                      <a:lnTo>
                        <a:pt x="31" y="19"/>
                      </a:lnTo>
                      <a:lnTo>
                        <a:pt x="35" y="36"/>
                      </a:lnTo>
                      <a:lnTo>
                        <a:pt x="39" y="63"/>
                      </a:lnTo>
                      <a:lnTo>
                        <a:pt x="108" y="692"/>
                      </a:lnTo>
                      <a:lnTo>
                        <a:pt x="115" y="728"/>
                      </a:lnTo>
                      <a:lnTo>
                        <a:pt x="120" y="737"/>
                      </a:lnTo>
                      <a:lnTo>
                        <a:pt x="133" y="748"/>
                      </a:lnTo>
                      <a:lnTo>
                        <a:pt x="146" y="752"/>
                      </a:lnTo>
                      <a:lnTo>
                        <a:pt x="162" y="744"/>
                      </a:lnTo>
                      <a:lnTo>
                        <a:pt x="171" y="728"/>
                      </a:lnTo>
                      <a:lnTo>
                        <a:pt x="289" y="59"/>
                      </a:lnTo>
                      <a:lnTo>
                        <a:pt x="292" y="42"/>
                      </a:lnTo>
                      <a:lnTo>
                        <a:pt x="294" y="28"/>
                      </a:lnTo>
                      <a:lnTo>
                        <a:pt x="298" y="17"/>
                      </a:lnTo>
                      <a:lnTo>
                        <a:pt x="308" y="5"/>
                      </a:lnTo>
                      <a:lnTo>
                        <a:pt x="319" y="4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73040" y="1993680"/>
                  <a:ext cx="142560" cy="373680"/>
                </a:xfrm>
                <a:custGeom>
                  <a:avLst/>
                  <a:gdLst/>
                  <a:ahLst/>
                  <a:rect l="l" t="t" r="r" b="b"/>
                  <a:pathLst>
                    <a:path w="309" h="750">
                      <a:moveTo>
                        <a:pt x="0" y="4"/>
                      </a:moveTo>
                      <a:lnTo>
                        <a:pt x="10" y="6"/>
                      </a:lnTo>
                      <a:lnTo>
                        <a:pt x="20" y="20"/>
                      </a:lnTo>
                      <a:lnTo>
                        <a:pt x="23" y="36"/>
                      </a:lnTo>
                      <a:lnTo>
                        <a:pt x="28" y="62"/>
                      </a:lnTo>
                      <a:lnTo>
                        <a:pt x="97" y="690"/>
                      </a:lnTo>
                      <a:lnTo>
                        <a:pt x="103" y="726"/>
                      </a:lnTo>
                      <a:lnTo>
                        <a:pt x="110" y="735"/>
                      </a:lnTo>
                      <a:lnTo>
                        <a:pt x="122" y="746"/>
                      </a:lnTo>
                      <a:lnTo>
                        <a:pt x="135" y="750"/>
                      </a:lnTo>
                      <a:lnTo>
                        <a:pt x="151" y="742"/>
                      </a:lnTo>
                      <a:lnTo>
                        <a:pt x="161" y="726"/>
                      </a:lnTo>
                      <a:lnTo>
                        <a:pt x="278" y="58"/>
                      </a:lnTo>
                      <a:lnTo>
                        <a:pt x="281" y="41"/>
                      </a:lnTo>
                      <a:lnTo>
                        <a:pt x="283" y="27"/>
                      </a:lnTo>
                      <a:lnTo>
                        <a:pt x="287" y="16"/>
                      </a:lnTo>
                      <a:lnTo>
                        <a:pt x="297" y="7"/>
                      </a:lnTo>
                      <a:lnTo>
                        <a:pt x="309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16680" y="1992960"/>
                  <a:ext cx="148320" cy="374760"/>
                </a:xfrm>
                <a:custGeom>
                  <a:avLst/>
                  <a:gdLst/>
                  <a:ahLst/>
                  <a:rect l="l" t="t" r="r" b="b"/>
                  <a:pathLst>
                    <a:path w="320" h="752">
                      <a:moveTo>
                        <a:pt x="0" y="0"/>
                      </a:moveTo>
                      <a:lnTo>
                        <a:pt x="17" y="5"/>
                      </a:lnTo>
                      <a:lnTo>
                        <a:pt x="31" y="19"/>
                      </a:lnTo>
                      <a:lnTo>
                        <a:pt x="35" y="36"/>
                      </a:lnTo>
                      <a:lnTo>
                        <a:pt x="39" y="63"/>
                      </a:lnTo>
                      <a:lnTo>
                        <a:pt x="107" y="692"/>
                      </a:lnTo>
                      <a:lnTo>
                        <a:pt x="115" y="728"/>
                      </a:lnTo>
                      <a:lnTo>
                        <a:pt x="121" y="737"/>
                      </a:lnTo>
                      <a:lnTo>
                        <a:pt x="133" y="748"/>
                      </a:lnTo>
                      <a:lnTo>
                        <a:pt x="147" y="752"/>
                      </a:lnTo>
                      <a:lnTo>
                        <a:pt x="162" y="744"/>
                      </a:lnTo>
                      <a:lnTo>
                        <a:pt x="171" y="728"/>
                      </a:lnTo>
                      <a:lnTo>
                        <a:pt x="289" y="59"/>
                      </a:lnTo>
                      <a:lnTo>
                        <a:pt x="292" y="42"/>
                      </a:lnTo>
                      <a:lnTo>
                        <a:pt x="295" y="28"/>
                      </a:lnTo>
                      <a:lnTo>
                        <a:pt x="299" y="17"/>
                      </a:lnTo>
                      <a:lnTo>
                        <a:pt x="308" y="5"/>
                      </a:lnTo>
                      <a:lnTo>
                        <a:pt x="320" y="4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72560" y="1991880"/>
                  <a:ext cx="143640" cy="372600"/>
                </a:xfrm>
                <a:custGeom>
                  <a:avLst/>
                  <a:gdLst/>
                  <a:ahLst/>
                  <a:rect l="l" t="t" r="r" b="b"/>
                  <a:pathLst>
                    <a:path w="310" h="749">
                      <a:moveTo>
                        <a:pt x="0" y="1"/>
                      </a:moveTo>
                      <a:lnTo>
                        <a:pt x="10" y="5"/>
                      </a:lnTo>
                      <a:lnTo>
                        <a:pt x="20" y="19"/>
                      </a:lnTo>
                      <a:lnTo>
                        <a:pt x="25" y="33"/>
                      </a:lnTo>
                      <a:lnTo>
                        <a:pt x="28" y="61"/>
                      </a:lnTo>
                      <a:lnTo>
                        <a:pt x="97" y="690"/>
                      </a:lnTo>
                      <a:lnTo>
                        <a:pt x="103" y="724"/>
                      </a:lnTo>
                      <a:lnTo>
                        <a:pt x="111" y="735"/>
                      </a:lnTo>
                      <a:lnTo>
                        <a:pt x="123" y="746"/>
                      </a:lnTo>
                      <a:lnTo>
                        <a:pt x="135" y="749"/>
                      </a:lnTo>
                      <a:lnTo>
                        <a:pt x="151" y="740"/>
                      </a:lnTo>
                      <a:lnTo>
                        <a:pt x="161" y="724"/>
                      </a:lnTo>
                      <a:lnTo>
                        <a:pt x="279" y="58"/>
                      </a:lnTo>
                      <a:lnTo>
                        <a:pt x="282" y="40"/>
                      </a:lnTo>
                      <a:lnTo>
                        <a:pt x="284" y="26"/>
                      </a:lnTo>
                      <a:lnTo>
                        <a:pt x="289" y="15"/>
                      </a:lnTo>
                      <a:lnTo>
                        <a:pt x="298" y="6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6560" y="1991880"/>
                  <a:ext cx="148320" cy="372600"/>
                </a:xfrm>
                <a:custGeom>
                  <a:avLst/>
                  <a:gdLst/>
                  <a:ahLst/>
                  <a:rect l="l" t="t" r="r" b="b"/>
                  <a:pathLst>
                    <a:path w="319" h="750">
                      <a:moveTo>
                        <a:pt x="0" y="0"/>
                      </a:moveTo>
                      <a:lnTo>
                        <a:pt x="17" y="3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2"/>
                      </a:lnTo>
                      <a:lnTo>
                        <a:pt x="108" y="691"/>
                      </a:lnTo>
                      <a:lnTo>
                        <a:pt x="115" y="725"/>
                      </a:lnTo>
                      <a:lnTo>
                        <a:pt x="120" y="736"/>
                      </a:lnTo>
                      <a:lnTo>
                        <a:pt x="133" y="747"/>
                      </a:lnTo>
                      <a:lnTo>
                        <a:pt x="146" y="750"/>
                      </a:lnTo>
                      <a:lnTo>
                        <a:pt x="162" y="741"/>
                      </a:lnTo>
                      <a:lnTo>
                        <a:pt x="171" y="725"/>
                      </a:lnTo>
                      <a:lnTo>
                        <a:pt x="288" y="59"/>
                      </a:lnTo>
                      <a:lnTo>
                        <a:pt x="292" y="41"/>
                      </a:lnTo>
                      <a:lnTo>
                        <a:pt x="294" y="27"/>
                      </a:lnTo>
                      <a:lnTo>
                        <a:pt x="298" y="16"/>
                      </a:lnTo>
                      <a:lnTo>
                        <a:pt x="308" y="3"/>
                      </a:lnTo>
                      <a:lnTo>
                        <a:pt x="319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68840" y="1991880"/>
                  <a:ext cx="143640" cy="372600"/>
                </a:xfrm>
                <a:custGeom>
                  <a:avLst/>
                  <a:gdLst/>
                  <a:ahLst/>
                  <a:rect l="l" t="t" r="r" b="b"/>
                  <a:pathLst>
                    <a:path w="309" h="749">
                      <a:moveTo>
                        <a:pt x="0" y="1"/>
                      </a:moveTo>
                      <a:lnTo>
                        <a:pt x="9" y="5"/>
                      </a:lnTo>
                      <a:lnTo>
                        <a:pt x="20" y="19"/>
                      </a:lnTo>
                      <a:lnTo>
                        <a:pt x="23" y="33"/>
                      </a:lnTo>
                      <a:lnTo>
                        <a:pt x="28" y="61"/>
                      </a:lnTo>
                      <a:lnTo>
                        <a:pt x="97" y="690"/>
                      </a:lnTo>
                      <a:lnTo>
                        <a:pt x="103" y="724"/>
                      </a:lnTo>
                      <a:lnTo>
                        <a:pt x="110" y="735"/>
                      </a:lnTo>
                      <a:lnTo>
                        <a:pt x="122" y="746"/>
                      </a:lnTo>
                      <a:lnTo>
                        <a:pt x="135" y="749"/>
                      </a:lnTo>
                      <a:lnTo>
                        <a:pt x="151" y="740"/>
                      </a:lnTo>
                      <a:lnTo>
                        <a:pt x="161" y="724"/>
                      </a:lnTo>
                      <a:lnTo>
                        <a:pt x="278" y="58"/>
                      </a:lnTo>
                      <a:lnTo>
                        <a:pt x="281" y="40"/>
                      </a:lnTo>
                      <a:lnTo>
                        <a:pt x="283" y="26"/>
                      </a:lnTo>
                      <a:lnTo>
                        <a:pt x="287" y="15"/>
                      </a:lnTo>
                      <a:lnTo>
                        <a:pt x="297" y="6"/>
                      </a:lnTo>
                      <a:lnTo>
                        <a:pt x="309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212480" y="1991880"/>
                  <a:ext cx="148320" cy="372600"/>
                </a:xfrm>
                <a:custGeom>
                  <a:avLst/>
                  <a:gdLst/>
                  <a:ahLst/>
                  <a:rect l="l" t="t" r="r" b="b"/>
                  <a:pathLst>
                    <a:path w="319" h="750">
                      <a:moveTo>
                        <a:pt x="0" y="0"/>
                      </a:moveTo>
                      <a:lnTo>
                        <a:pt x="17" y="3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2"/>
                      </a:lnTo>
                      <a:lnTo>
                        <a:pt x="107" y="691"/>
                      </a:lnTo>
                      <a:lnTo>
                        <a:pt x="115" y="725"/>
                      </a:lnTo>
                      <a:lnTo>
                        <a:pt x="120" y="736"/>
                      </a:lnTo>
                      <a:lnTo>
                        <a:pt x="133" y="747"/>
                      </a:lnTo>
                      <a:lnTo>
                        <a:pt x="146" y="750"/>
                      </a:lnTo>
                      <a:lnTo>
                        <a:pt x="161" y="741"/>
                      </a:lnTo>
                      <a:lnTo>
                        <a:pt x="171" y="725"/>
                      </a:lnTo>
                      <a:lnTo>
                        <a:pt x="288" y="59"/>
                      </a:lnTo>
                      <a:lnTo>
                        <a:pt x="291" y="41"/>
                      </a:lnTo>
                      <a:lnTo>
                        <a:pt x="293" y="27"/>
                      </a:lnTo>
                      <a:lnTo>
                        <a:pt x="298" y="16"/>
                      </a:lnTo>
                      <a:lnTo>
                        <a:pt x="307" y="3"/>
                      </a:lnTo>
                      <a:lnTo>
                        <a:pt x="319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367280" y="1990080"/>
                  <a:ext cx="143640" cy="373320"/>
                </a:xfrm>
                <a:custGeom>
                  <a:avLst/>
                  <a:gdLst/>
                  <a:ahLst/>
                  <a:rect l="l" t="t" r="r" b="b"/>
                  <a:pathLst>
                    <a:path w="310" h="751">
                      <a:moveTo>
                        <a:pt x="0" y="3"/>
                      </a:moveTo>
                      <a:lnTo>
                        <a:pt x="9" y="5"/>
                      </a:lnTo>
                      <a:lnTo>
                        <a:pt x="21" y="19"/>
                      </a:lnTo>
                      <a:lnTo>
                        <a:pt x="23" y="34"/>
                      </a:lnTo>
                      <a:lnTo>
                        <a:pt x="29" y="62"/>
                      </a:lnTo>
                      <a:lnTo>
                        <a:pt x="98" y="690"/>
                      </a:lnTo>
                      <a:lnTo>
                        <a:pt x="104" y="725"/>
                      </a:lnTo>
                      <a:lnTo>
                        <a:pt x="110" y="736"/>
                      </a:lnTo>
                      <a:lnTo>
                        <a:pt x="123" y="746"/>
                      </a:lnTo>
                      <a:lnTo>
                        <a:pt x="135" y="751"/>
                      </a:lnTo>
                      <a:lnTo>
                        <a:pt x="151" y="742"/>
                      </a:lnTo>
                      <a:lnTo>
                        <a:pt x="161" y="725"/>
                      </a:lnTo>
                      <a:lnTo>
                        <a:pt x="278" y="57"/>
                      </a:lnTo>
                      <a:lnTo>
                        <a:pt x="281" y="40"/>
                      </a:lnTo>
                      <a:lnTo>
                        <a:pt x="284" y="26"/>
                      </a:lnTo>
                      <a:lnTo>
                        <a:pt x="287" y="15"/>
                      </a:lnTo>
                      <a:lnTo>
                        <a:pt x="297" y="5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511280" y="1989000"/>
                  <a:ext cx="149400" cy="374760"/>
                </a:xfrm>
                <a:custGeom>
                  <a:avLst/>
                  <a:gdLst/>
                  <a:ahLst/>
                  <a:rect l="l" t="t" r="r" b="b"/>
                  <a:pathLst>
                    <a:path w="321" h="752">
                      <a:moveTo>
                        <a:pt x="0" y="0"/>
                      </a:moveTo>
                      <a:lnTo>
                        <a:pt x="18" y="4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3"/>
                      </a:lnTo>
                      <a:lnTo>
                        <a:pt x="109" y="691"/>
                      </a:lnTo>
                      <a:lnTo>
                        <a:pt x="115" y="726"/>
                      </a:lnTo>
                      <a:lnTo>
                        <a:pt x="121" y="737"/>
                      </a:lnTo>
                      <a:lnTo>
                        <a:pt x="134" y="747"/>
                      </a:lnTo>
                      <a:lnTo>
                        <a:pt x="146" y="752"/>
                      </a:lnTo>
                      <a:lnTo>
                        <a:pt x="161" y="743"/>
                      </a:lnTo>
                      <a:lnTo>
                        <a:pt x="171" y="726"/>
                      </a:lnTo>
                      <a:lnTo>
                        <a:pt x="290" y="58"/>
                      </a:lnTo>
                      <a:lnTo>
                        <a:pt x="292" y="41"/>
                      </a:lnTo>
                      <a:lnTo>
                        <a:pt x="296" y="27"/>
                      </a:lnTo>
                      <a:lnTo>
                        <a:pt x="299" y="16"/>
                      </a:lnTo>
                      <a:lnTo>
                        <a:pt x="308" y="4"/>
                      </a:lnTo>
                      <a:lnTo>
                        <a:pt x="321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63560" y="1990080"/>
                  <a:ext cx="143640" cy="373320"/>
                </a:xfrm>
                <a:custGeom>
                  <a:avLst/>
                  <a:gdLst/>
                  <a:ahLst/>
                  <a:rect l="l" t="t" r="r" b="b"/>
                  <a:pathLst>
                    <a:path w="310" h="751">
                      <a:moveTo>
                        <a:pt x="0" y="3"/>
                      </a:moveTo>
                      <a:lnTo>
                        <a:pt x="9" y="5"/>
                      </a:lnTo>
                      <a:lnTo>
                        <a:pt x="21" y="19"/>
                      </a:lnTo>
                      <a:lnTo>
                        <a:pt x="24" y="34"/>
                      </a:lnTo>
                      <a:lnTo>
                        <a:pt x="28" y="62"/>
                      </a:lnTo>
                      <a:lnTo>
                        <a:pt x="97" y="690"/>
                      </a:lnTo>
                      <a:lnTo>
                        <a:pt x="104" y="725"/>
                      </a:lnTo>
                      <a:lnTo>
                        <a:pt x="110" y="736"/>
                      </a:lnTo>
                      <a:lnTo>
                        <a:pt x="123" y="746"/>
                      </a:lnTo>
                      <a:lnTo>
                        <a:pt x="135" y="751"/>
                      </a:lnTo>
                      <a:lnTo>
                        <a:pt x="151" y="742"/>
                      </a:lnTo>
                      <a:lnTo>
                        <a:pt x="160" y="725"/>
                      </a:lnTo>
                      <a:lnTo>
                        <a:pt x="278" y="57"/>
                      </a:lnTo>
                      <a:lnTo>
                        <a:pt x="282" y="40"/>
                      </a:lnTo>
                      <a:lnTo>
                        <a:pt x="285" y="26"/>
                      </a:lnTo>
                      <a:lnTo>
                        <a:pt x="288" y="15"/>
                      </a:lnTo>
                      <a:lnTo>
                        <a:pt x="298" y="5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807560" y="1989000"/>
                  <a:ext cx="100080" cy="374760"/>
                </a:xfrm>
                <a:custGeom>
                  <a:avLst/>
                  <a:gdLst/>
                  <a:ahLst/>
                  <a:rect l="l" t="t" r="r" b="b"/>
                  <a:pathLst>
                    <a:path w="217" h="752">
                      <a:moveTo>
                        <a:pt x="0" y="0"/>
                      </a:moveTo>
                      <a:lnTo>
                        <a:pt x="18" y="4"/>
                      </a:lnTo>
                      <a:lnTo>
                        <a:pt x="31" y="17"/>
                      </a:lnTo>
                      <a:lnTo>
                        <a:pt x="36" y="35"/>
                      </a:lnTo>
                      <a:lnTo>
                        <a:pt x="40" y="63"/>
                      </a:lnTo>
                      <a:lnTo>
                        <a:pt x="109" y="691"/>
                      </a:lnTo>
                      <a:lnTo>
                        <a:pt x="115" y="726"/>
                      </a:lnTo>
                      <a:lnTo>
                        <a:pt x="121" y="737"/>
                      </a:lnTo>
                      <a:lnTo>
                        <a:pt x="135" y="747"/>
                      </a:lnTo>
                      <a:lnTo>
                        <a:pt x="146" y="752"/>
                      </a:lnTo>
                      <a:lnTo>
                        <a:pt x="161" y="743"/>
                      </a:lnTo>
                      <a:lnTo>
                        <a:pt x="171" y="726"/>
                      </a:lnTo>
                      <a:lnTo>
                        <a:pt x="217" y="40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179280" y="2174400"/>
              <a:ext cx="1800360" cy="1080"/>
            </a:xfrm>
            <a:prstGeom prst="line">
              <a:avLst/>
            </a:prstGeom>
            <a:ln w="144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240" y="4214880"/>
            <a:ext cx="2445120" cy="799920"/>
            <a:chOff x="129240" y="4214880"/>
            <a:chExt cx="2445120" cy="799920"/>
          </a:xfrm>
        </p:grpSpPr>
        <p:grpSp>
          <p:nvGrpSpPr>
            <p:cNvPr id="151" name=""/>
            <p:cNvGrpSpPr/>
            <p:nvPr/>
          </p:nvGrpSpPr>
          <p:grpSpPr>
            <a:xfrm>
              <a:off x="250920" y="4507560"/>
              <a:ext cx="2304720" cy="216720"/>
              <a:chOff x="250920" y="4507560"/>
              <a:chExt cx="2304720" cy="21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250920" y="4507560"/>
                <a:ext cx="1152000" cy="216720"/>
                <a:chOff x="250920" y="4507560"/>
                <a:chExt cx="1152000" cy="216720"/>
              </a:xfrm>
            </p:grpSpPr>
            <p:cxnSp>
              <p:nvCxnSpPr>
                <p:cNvPr id="153" name=""/>
                <p:cNvCxnSpPr/>
                <p:nvPr/>
              </p:nvCxnSpPr>
              <p:spPr>
                <a:xfrm flipV="1" rot="10800000">
                  <a:off x="250920" y="4507560"/>
                  <a:ext cx="576360" cy="216360"/>
                </a:xfrm>
                <a:prstGeom prst="bentConnector3">
                  <a:avLst>
                    <a:gd name="adj1" fmla="val 49875"/>
                  </a:avLst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4" name=""/>
                <p:cNvCxnSpPr/>
                <p:nvPr/>
              </p:nvCxnSpPr>
              <p:spPr>
                <a:xfrm flipV="1" rot="10800000">
                  <a:off x="826200" y="4507560"/>
                  <a:ext cx="577080" cy="216360"/>
                </a:xfrm>
                <a:prstGeom prst="bentConnector3">
                  <a:avLst>
                    <a:gd name="adj1" fmla="val 49812"/>
                  </a:avLst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5" name=""/>
                <p:cNvCxnSpPr/>
                <p:nvPr/>
              </p:nvCxnSpPr>
              <p:spPr>
                <a:xfrm>
                  <a:off x="826560" y="4508280"/>
                  <a:ext cx="1080" cy="21636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56" name=""/>
              <p:cNvGrpSpPr/>
              <p:nvPr/>
            </p:nvGrpSpPr>
            <p:grpSpPr>
              <a:xfrm>
                <a:off x="1403280" y="4507560"/>
                <a:ext cx="1152360" cy="216720"/>
                <a:chOff x="1403280" y="4507560"/>
                <a:chExt cx="1152360" cy="21672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1403640" y="4507560"/>
                  <a:ext cx="1152000" cy="216720"/>
                  <a:chOff x="1403640" y="4507560"/>
                  <a:chExt cx="1152000" cy="216720"/>
                </a:xfrm>
              </p:grpSpPr>
              <p:cxnSp>
                <p:nvCxnSpPr>
                  <p:cNvPr id="158" name=""/>
                  <p:cNvCxnSpPr/>
                  <p:nvPr/>
                </p:nvCxnSpPr>
                <p:spPr>
                  <a:xfrm flipV="1" rot="10800000">
                    <a:off x="1403640" y="4507560"/>
                    <a:ext cx="576360" cy="216360"/>
                  </a:xfrm>
                  <a:prstGeom prst="bentConnector3">
                    <a:avLst>
                      <a:gd name="adj1" fmla="val 49875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59" name=""/>
                  <p:cNvCxnSpPr/>
                  <p:nvPr/>
                </p:nvCxnSpPr>
                <p:spPr>
                  <a:xfrm flipV="1" rot="10800000">
                    <a:off x="1978920" y="4507560"/>
                    <a:ext cx="577080" cy="216360"/>
                  </a:xfrm>
                  <a:prstGeom prst="bentConnector3">
                    <a:avLst>
                      <a:gd name="adj1" fmla="val 49812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60" name=""/>
                  <p:cNvCxnSpPr/>
                  <p:nvPr/>
                </p:nvCxnSpPr>
                <p:spPr>
                  <a:xfrm>
                    <a:off x="1979280" y="4508280"/>
                    <a:ext cx="1080" cy="21636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  <p:cxnSp>
              <p:nvCxnSpPr>
                <p:cNvPr id="161" name=""/>
                <p:cNvCxnSpPr/>
                <p:nvPr/>
              </p:nvCxnSpPr>
              <p:spPr>
                <a:xfrm>
                  <a:off x="1403280" y="4508280"/>
                  <a:ext cx="1080" cy="21636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</p:grpSp>
        </p:grpSp>
        <p:sp>
          <p:nvSpPr>
            <p:cNvPr id="162" name=""/>
            <p:cNvSpPr/>
            <p:nvPr/>
          </p:nvSpPr>
          <p:spPr>
            <a:xfrm>
              <a:off x="12924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6272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584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8636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8560" y="421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92360" y="4214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7280" y="421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14920" y="421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16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72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كي تنتقل البيانات من حاسب إلى آخر عن طريق خط هاتفي يجب أن تحول هذه البيانات الخارجة من الحاسبات المرسل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sending compu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صورتها الرقمية إلى الشكل التناظري ومن ثم يعاد تحويلها من صورتها التناظرية إلى صورتها الرقمية في الحاسبات المستقبل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-2372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ذه العملية تسمى تعديل الإشارات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du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كاشف التعديل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D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odulatio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، و منها التس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MOD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عديل الإشارة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Modul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-2372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قوم بتحويل وتعديل الإشارات الرقمية إلى أشكال تناظرية لكي يمكن إرسال البيانات عبر خطوات الهات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كاشف التعديل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Demodul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-2372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قوم بتحويل الإشارات التناظرية مرةً أخرى إلى أشكال رقمية لكي يتمكن استقبالها ومعالجتها بواسطة الحاسب المستقب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</a:rPr>
              <a:t> انتقال البيانات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15640" y="907920"/>
            <a:ext cx="72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ناك جهاز يقوم بهذه المهمة يعرف بالمودم أي المعدل /وكاشف التعديل وهو جهاز إضافي يتم تركبيه بمثابة حلقة وصل بين الحاسب الإلكتروني وبين شبكة الاتصالات العامة، وظيفته استقبال الإشارات الرقمية وإخراجها عن الطرف الآخر في الهيئة التناظ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حاسب المرسل يجب أن يكون موصل بمودوم "معدل كاشف التعديل" يقوم بتعديل الإشارات أو البيانات ، بينما يكون الحاسب المستقبل مرتبط بمودم " معدل /كاشف التعديل يقوم بكشف التعديل للبيان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79280" y="4076640"/>
            <a:ext cx="8785440" cy="1009080"/>
            <a:chOff x="179280" y="4076640"/>
            <a:chExt cx="8785440" cy="1009080"/>
          </a:xfrm>
        </p:grpSpPr>
        <p:grpSp>
          <p:nvGrpSpPr>
            <p:cNvPr id="174" name=""/>
            <p:cNvGrpSpPr/>
            <p:nvPr/>
          </p:nvGrpSpPr>
          <p:grpSpPr>
            <a:xfrm>
              <a:off x="754560" y="4076640"/>
              <a:ext cx="1837800" cy="799920"/>
              <a:chOff x="754560" y="4076640"/>
              <a:chExt cx="1837800" cy="7999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927720" y="4369320"/>
                <a:ext cx="1650600" cy="216720"/>
                <a:chOff x="927720" y="4369320"/>
                <a:chExt cx="1650600" cy="21672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927720" y="4369320"/>
                  <a:ext cx="825480" cy="216720"/>
                  <a:chOff x="927720" y="4369320"/>
                  <a:chExt cx="825480" cy="216720"/>
                </a:xfrm>
              </p:grpSpPr>
              <p:cxnSp>
                <p:nvCxnSpPr>
                  <p:cNvPr id="177" name=""/>
                  <p:cNvCxnSpPr/>
                  <p:nvPr/>
                </p:nvCxnSpPr>
                <p:spPr>
                  <a:xfrm flipV="1" rot="10800000">
                    <a:off x="927720" y="4369320"/>
                    <a:ext cx="412920" cy="216360"/>
                  </a:xfrm>
                  <a:prstGeom prst="bentConnector3">
                    <a:avLst>
                      <a:gd name="adj1" fmla="val 49825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78" name=""/>
                  <p:cNvCxnSpPr/>
                  <p:nvPr/>
                </p:nvCxnSpPr>
                <p:spPr>
                  <a:xfrm flipV="1" rot="10800000">
                    <a:off x="1339920" y="4369320"/>
                    <a:ext cx="413280" cy="216360"/>
                  </a:xfrm>
                  <a:prstGeom prst="bentConnector3">
                    <a:avLst>
                      <a:gd name="adj1" fmla="val 49782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79" name=""/>
                  <p:cNvCxnSpPr/>
                  <p:nvPr/>
                </p:nvCxnSpPr>
                <p:spPr>
                  <a:xfrm>
                    <a:off x="1340280" y="4370040"/>
                    <a:ext cx="1080" cy="21636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1752840" y="4369320"/>
                  <a:ext cx="825480" cy="216720"/>
                  <a:chOff x="1752840" y="4369320"/>
                  <a:chExt cx="825480" cy="21672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1752840" y="4369320"/>
                    <a:ext cx="825480" cy="216720"/>
                    <a:chOff x="1752840" y="4369320"/>
                    <a:chExt cx="825480" cy="216720"/>
                  </a:xfrm>
                </p:grpSpPr>
                <p:cxnSp>
                  <p:nvCxnSpPr>
                    <p:cNvPr id="182" name=""/>
                    <p:cNvCxnSpPr/>
                    <p:nvPr/>
                  </p:nvCxnSpPr>
                  <p:spPr>
                    <a:xfrm flipV="1" rot="10800000">
                      <a:off x="1752840" y="4369320"/>
                      <a:ext cx="412920" cy="216360"/>
                    </a:xfrm>
                    <a:prstGeom prst="bentConnector3">
                      <a:avLst>
                        <a:gd name="adj1" fmla="val 4982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cxnSp>
                  <p:nvCxnSpPr>
                    <p:cNvPr id="183" name=""/>
                    <p:cNvCxnSpPr/>
                    <p:nvPr/>
                  </p:nvCxnSpPr>
                  <p:spPr>
                    <a:xfrm flipV="1" rot="10800000">
                      <a:off x="2165040" y="4369320"/>
                      <a:ext cx="413280" cy="216360"/>
                    </a:xfrm>
                    <a:prstGeom prst="bentConnector3">
                      <a:avLst>
                        <a:gd name="adj1" fmla="val 49782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cxnSp>
                  <p:nvCxnSpPr>
                    <p:cNvPr id="184" name=""/>
                    <p:cNvCxnSpPr/>
                    <p:nvPr/>
                  </p:nvCxnSpPr>
                  <p:spPr>
                    <a:xfrm>
                      <a:off x="2165400" y="4370040"/>
                      <a:ext cx="1080" cy="21636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</p:grpSp>
              <p:cxnSp>
                <p:nvCxnSpPr>
                  <p:cNvPr id="185" name=""/>
                  <p:cNvCxnSpPr/>
                  <p:nvPr/>
                </p:nvCxnSpPr>
                <p:spPr>
                  <a:xfrm>
                    <a:off x="1753200" y="4370040"/>
                    <a:ext cx="1080" cy="21636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</p:grpSp>
          <p:sp>
            <p:nvSpPr>
              <p:cNvPr id="186" name=""/>
              <p:cNvSpPr/>
              <p:nvPr/>
            </p:nvSpPr>
            <p:spPr>
              <a:xfrm>
                <a:off x="754560" y="45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7480" y="45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51720" y="45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54560" y="45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46520" y="4076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60200" y="4076640"/>
                <a:ext cx="21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85280" y="4076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59440" y="4076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336000" y="4286160"/>
              <a:ext cx="1837440" cy="799560"/>
              <a:chOff x="6336000" y="4286160"/>
              <a:chExt cx="1837440" cy="79956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6509520" y="4579560"/>
                <a:ext cx="1649160" cy="215640"/>
                <a:chOff x="6509520" y="4579560"/>
                <a:chExt cx="1649160" cy="2156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6509520" y="4579560"/>
                  <a:ext cx="825480" cy="215640"/>
                  <a:chOff x="6509520" y="4579560"/>
                  <a:chExt cx="825480" cy="215640"/>
                </a:xfrm>
              </p:grpSpPr>
              <p:cxnSp>
                <p:nvCxnSpPr>
                  <p:cNvPr id="197" name=""/>
                  <p:cNvCxnSpPr/>
                  <p:nvPr/>
                </p:nvCxnSpPr>
                <p:spPr>
                  <a:xfrm flipV="1" rot="10800000">
                    <a:off x="6509520" y="4579200"/>
                    <a:ext cx="412920" cy="216000"/>
                  </a:xfrm>
                  <a:prstGeom prst="bentConnector3">
                    <a:avLst>
                      <a:gd name="adj1" fmla="val 49825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98" name=""/>
                  <p:cNvCxnSpPr/>
                  <p:nvPr/>
                </p:nvCxnSpPr>
                <p:spPr>
                  <a:xfrm flipV="1" rot="10800000">
                    <a:off x="6921720" y="4579200"/>
                    <a:ext cx="413280" cy="216000"/>
                  </a:xfrm>
                  <a:prstGeom prst="bentConnector3">
                    <a:avLst>
                      <a:gd name="adj1" fmla="val 49782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99" name=""/>
                  <p:cNvCxnSpPr/>
                  <p:nvPr/>
                </p:nvCxnSpPr>
                <p:spPr>
                  <a:xfrm>
                    <a:off x="6922080" y="4579560"/>
                    <a:ext cx="1080" cy="21600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334640" y="4579560"/>
                  <a:ext cx="824040" cy="215640"/>
                  <a:chOff x="7334640" y="4579560"/>
                  <a:chExt cx="824040" cy="21564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334640" y="4579560"/>
                    <a:ext cx="824040" cy="215640"/>
                    <a:chOff x="7334640" y="4579560"/>
                    <a:chExt cx="824040" cy="215640"/>
                  </a:xfrm>
                </p:grpSpPr>
                <p:cxnSp>
                  <p:nvCxnSpPr>
                    <p:cNvPr id="202" name=""/>
                    <p:cNvCxnSpPr/>
                    <p:nvPr/>
                  </p:nvCxnSpPr>
                  <p:spPr>
                    <a:xfrm flipV="1" rot="10800000">
                      <a:off x="7334280" y="4579200"/>
                      <a:ext cx="412560" cy="216000"/>
                    </a:xfrm>
                    <a:prstGeom prst="bentConnector3">
                      <a:avLst>
                        <a:gd name="adj1" fmla="val 49781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cxnSp>
                  <p:nvCxnSpPr>
                    <p:cNvPr id="203" name=""/>
                    <p:cNvCxnSpPr/>
                    <p:nvPr/>
                  </p:nvCxnSpPr>
                  <p:spPr>
                    <a:xfrm flipV="1" rot="10800000">
                      <a:off x="7746120" y="4579200"/>
                      <a:ext cx="412920" cy="216000"/>
                    </a:xfrm>
                    <a:prstGeom prst="bentConnector3">
                      <a:avLst>
                        <a:gd name="adj1" fmla="val 4982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cxnSp>
                  <p:nvCxnSpPr>
                    <p:cNvPr id="204" name=""/>
                    <p:cNvCxnSpPr/>
                    <p:nvPr/>
                  </p:nvCxnSpPr>
                  <p:spPr>
                    <a:xfrm>
                      <a:off x="7746480" y="4579560"/>
                      <a:ext cx="1080" cy="21600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</p:grpSp>
              <p:cxnSp>
                <p:nvCxnSpPr>
                  <p:cNvPr id="205" name=""/>
                  <p:cNvCxnSpPr/>
                  <p:nvPr/>
                </p:nvCxnSpPr>
                <p:spPr>
                  <a:xfrm>
                    <a:off x="7334640" y="4579560"/>
                    <a:ext cx="1080" cy="21600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</p:grpSp>
          <p:sp>
            <p:nvSpPr>
              <p:cNvPr id="206" name=""/>
              <p:cNvSpPr/>
              <p:nvPr/>
            </p:nvSpPr>
            <p:spPr>
              <a:xfrm>
                <a:off x="6336000" y="471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48920" y="471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33160" y="471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235640" y="471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7960" y="4286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41640" y="4286160"/>
                <a:ext cx="21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866360" y="4286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40880" y="4286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79280" y="4363920"/>
              <a:ext cx="792360" cy="43128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اس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72360" y="4363920"/>
              <a:ext cx="792360" cy="43128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اس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556000" y="4363920"/>
              <a:ext cx="863640" cy="357840"/>
              <a:chOff x="2556000" y="4363920"/>
              <a:chExt cx="863640" cy="357840"/>
            </a:xfrm>
          </p:grpSpPr>
          <p:sp>
            <p:nvSpPr>
              <p:cNvPr id="217" name=""/>
              <p:cNvSpPr/>
              <p:nvPr/>
            </p:nvSpPr>
            <p:spPr>
              <a:xfrm>
                <a:off x="2700360" y="4363920"/>
                <a:ext cx="576360" cy="21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مودم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56000" y="4579200"/>
                <a:ext cx="863640" cy="142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653080" y="4363920"/>
              <a:ext cx="863640" cy="357840"/>
              <a:chOff x="5653080" y="4363920"/>
              <a:chExt cx="863640" cy="357840"/>
            </a:xfrm>
          </p:grpSpPr>
          <p:sp>
            <p:nvSpPr>
              <p:cNvPr id="220" name=""/>
              <p:cNvSpPr/>
              <p:nvPr/>
            </p:nvSpPr>
            <p:spPr>
              <a:xfrm>
                <a:off x="5797440" y="4363920"/>
                <a:ext cx="576360" cy="21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مودم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53080" y="4579200"/>
                <a:ext cx="863640" cy="142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2556000" y="4363920"/>
              <a:ext cx="0" cy="21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516720" y="4579200"/>
              <a:ext cx="0" cy="21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276720" y="4389120"/>
              <a:ext cx="2447280" cy="379080"/>
              <a:chOff x="3276720" y="4389120"/>
              <a:chExt cx="2447280" cy="37908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3417120" y="4389120"/>
                <a:ext cx="2208960" cy="379080"/>
                <a:chOff x="3417120" y="4389120"/>
                <a:chExt cx="2208960" cy="3790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417120" y="4393800"/>
                  <a:ext cx="50040" cy="191520"/>
                </a:xfrm>
                <a:custGeom>
                  <a:avLst/>
                  <a:gdLst/>
                  <a:ahLst/>
                  <a:rect l="l" t="t" r="r" b="b"/>
                  <a:pathLst>
                    <a:path w="81" h="385">
                      <a:moveTo>
                        <a:pt x="0" y="385"/>
                      </a:moveTo>
                      <a:lnTo>
                        <a:pt x="50" y="58"/>
                      </a:lnTo>
                      <a:lnTo>
                        <a:pt x="53" y="41"/>
                      </a:lnTo>
                      <a:lnTo>
                        <a:pt x="55" y="27"/>
                      </a:lnTo>
                      <a:lnTo>
                        <a:pt x="60" y="16"/>
                      </a:lnTo>
                      <a:lnTo>
                        <a:pt x="69" y="7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468600" y="4393080"/>
                  <a:ext cx="201960" cy="375120"/>
                </a:xfrm>
                <a:custGeom>
                  <a:avLst/>
                  <a:gdLst/>
                  <a:ahLst/>
                  <a:rect l="l" t="t" r="r" b="b"/>
                  <a:pathLst>
                    <a:path w="319" h="752">
                      <a:moveTo>
                        <a:pt x="0" y="0"/>
                      </a:moveTo>
                      <a:lnTo>
                        <a:pt x="17" y="5"/>
                      </a:lnTo>
                      <a:lnTo>
                        <a:pt x="31" y="19"/>
                      </a:lnTo>
                      <a:lnTo>
                        <a:pt x="35" y="36"/>
                      </a:lnTo>
                      <a:lnTo>
                        <a:pt x="39" y="63"/>
                      </a:lnTo>
                      <a:lnTo>
                        <a:pt x="108" y="692"/>
                      </a:lnTo>
                      <a:lnTo>
                        <a:pt x="115" y="728"/>
                      </a:lnTo>
                      <a:lnTo>
                        <a:pt x="120" y="737"/>
                      </a:lnTo>
                      <a:lnTo>
                        <a:pt x="133" y="748"/>
                      </a:lnTo>
                      <a:lnTo>
                        <a:pt x="146" y="752"/>
                      </a:lnTo>
                      <a:lnTo>
                        <a:pt x="162" y="744"/>
                      </a:lnTo>
                      <a:lnTo>
                        <a:pt x="171" y="728"/>
                      </a:lnTo>
                      <a:lnTo>
                        <a:pt x="289" y="59"/>
                      </a:lnTo>
                      <a:lnTo>
                        <a:pt x="292" y="42"/>
                      </a:lnTo>
                      <a:lnTo>
                        <a:pt x="294" y="28"/>
                      </a:lnTo>
                      <a:lnTo>
                        <a:pt x="298" y="17"/>
                      </a:lnTo>
                      <a:lnTo>
                        <a:pt x="308" y="5"/>
                      </a:lnTo>
                      <a:lnTo>
                        <a:pt x="319" y="4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75600" y="4393800"/>
                  <a:ext cx="194040" cy="374040"/>
                </a:xfrm>
                <a:custGeom>
                  <a:avLst/>
                  <a:gdLst/>
                  <a:ahLst/>
                  <a:rect l="l" t="t" r="r" b="b"/>
                  <a:pathLst>
                    <a:path w="309" h="750">
                      <a:moveTo>
                        <a:pt x="0" y="4"/>
                      </a:moveTo>
                      <a:lnTo>
                        <a:pt x="10" y="6"/>
                      </a:lnTo>
                      <a:lnTo>
                        <a:pt x="20" y="20"/>
                      </a:lnTo>
                      <a:lnTo>
                        <a:pt x="23" y="36"/>
                      </a:lnTo>
                      <a:lnTo>
                        <a:pt x="28" y="62"/>
                      </a:lnTo>
                      <a:lnTo>
                        <a:pt x="97" y="690"/>
                      </a:lnTo>
                      <a:lnTo>
                        <a:pt x="103" y="726"/>
                      </a:lnTo>
                      <a:lnTo>
                        <a:pt x="110" y="735"/>
                      </a:lnTo>
                      <a:lnTo>
                        <a:pt x="122" y="746"/>
                      </a:lnTo>
                      <a:lnTo>
                        <a:pt x="135" y="750"/>
                      </a:lnTo>
                      <a:lnTo>
                        <a:pt x="151" y="742"/>
                      </a:lnTo>
                      <a:lnTo>
                        <a:pt x="161" y="726"/>
                      </a:lnTo>
                      <a:lnTo>
                        <a:pt x="278" y="58"/>
                      </a:lnTo>
                      <a:lnTo>
                        <a:pt x="281" y="41"/>
                      </a:lnTo>
                      <a:lnTo>
                        <a:pt x="283" y="27"/>
                      </a:lnTo>
                      <a:lnTo>
                        <a:pt x="287" y="16"/>
                      </a:lnTo>
                      <a:lnTo>
                        <a:pt x="297" y="7"/>
                      </a:lnTo>
                      <a:lnTo>
                        <a:pt x="309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871080" y="4393080"/>
                  <a:ext cx="201960" cy="375120"/>
                </a:xfrm>
                <a:custGeom>
                  <a:avLst/>
                  <a:gdLst/>
                  <a:ahLst/>
                  <a:rect l="l" t="t" r="r" b="b"/>
                  <a:pathLst>
                    <a:path w="320" h="752">
                      <a:moveTo>
                        <a:pt x="0" y="0"/>
                      </a:moveTo>
                      <a:lnTo>
                        <a:pt x="17" y="5"/>
                      </a:lnTo>
                      <a:lnTo>
                        <a:pt x="31" y="19"/>
                      </a:lnTo>
                      <a:lnTo>
                        <a:pt x="35" y="36"/>
                      </a:lnTo>
                      <a:lnTo>
                        <a:pt x="39" y="63"/>
                      </a:lnTo>
                      <a:lnTo>
                        <a:pt x="107" y="692"/>
                      </a:lnTo>
                      <a:lnTo>
                        <a:pt x="115" y="728"/>
                      </a:lnTo>
                      <a:lnTo>
                        <a:pt x="121" y="737"/>
                      </a:lnTo>
                      <a:lnTo>
                        <a:pt x="133" y="748"/>
                      </a:lnTo>
                      <a:lnTo>
                        <a:pt x="147" y="752"/>
                      </a:lnTo>
                      <a:lnTo>
                        <a:pt x="162" y="744"/>
                      </a:lnTo>
                      <a:lnTo>
                        <a:pt x="171" y="728"/>
                      </a:lnTo>
                      <a:lnTo>
                        <a:pt x="289" y="59"/>
                      </a:lnTo>
                      <a:lnTo>
                        <a:pt x="292" y="42"/>
                      </a:lnTo>
                      <a:lnTo>
                        <a:pt x="295" y="28"/>
                      </a:lnTo>
                      <a:lnTo>
                        <a:pt x="299" y="17"/>
                      </a:lnTo>
                      <a:lnTo>
                        <a:pt x="308" y="5"/>
                      </a:lnTo>
                      <a:lnTo>
                        <a:pt x="320" y="4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083120" y="4392000"/>
                  <a:ext cx="195120" cy="372960"/>
                </a:xfrm>
                <a:custGeom>
                  <a:avLst/>
                  <a:gdLst/>
                  <a:ahLst/>
                  <a:rect l="l" t="t" r="r" b="b"/>
                  <a:pathLst>
                    <a:path w="310" h="749">
                      <a:moveTo>
                        <a:pt x="0" y="1"/>
                      </a:moveTo>
                      <a:lnTo>
                        <a:pt x="10" y="5"/>
                      </a:lnTo>
                      <a:lnTo>
                        <a:pt x="20" y="19"/>
                      </a:lnTo>
                      <a:lnTo>
                        <a:pt x="25" y="33"/>
                      </a:lnTo>
                      <a:lnTo>
                        <a:pt x="28" y="61"/>
                      </a:lnTo>
                      <a:lnTo>
                        <a:pt x="97" y="690"/>
                      </a:lnTo>
                      <a:lnTo>
                        <a:pt x="103" y="724"/>
                      </a:lnTo>
                      <a:lnTo>
                        <a:pt x="111" y="735"/>
                      </a:lnTo>
                      <a:lnTo>
                        <a:pt x="123" y="746"/>
                      </a:lnTo>
                      <a:lnTo>
                        <a:pt x="135" y="749"/>
                      </a:lnTo>
                      <a:lnTo>
                        <a:pt x="151" y="740"/>
                      </a:lnTo>
                      <a:lnTo>
                        <a:pt x="161" y="724"/>
                      </a:lnTo>
                      <a:lnTo>
                        <a:pt x="279" y="58"/>
                      </a:lnTo>
                      <a:lnTo>
                        <a:pt x="282" y="40"/>
                      </a:lnTo>
                      <a:lnTo>
                        <a:pt x="284" y="26"/>
                      </a:lnTo>
                      <a:lnTo>
                        <a:pt x="289" y="15"/>
                      </a:lnTo>
                      <a:lnTo>
                        <a:pt x="298" y="6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78600" y="4392000"/>
                  <a:ext cx="201960" cy="372960"/>
                </a:xfrm>
                <a:custGeom>
                  <a:avLst/>
                  <a:gdLst/>
                  <a:ahLst/>
                  <a:rect l="l" t="t" r="r" b="b"/>
                  <a:pathLst>
                    <a:path w="319" h="750">
                      <a:moveTo>
                        <a:pt x="0" y="0"/>
                      </a:moveTo>
                      <a:lnTo>
                        <a:pt x="17" y="3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2"/>
                      </a:lnTo>
                      <a:lnTo>
                        <a:pt x="108" y="691"/>
                      </a:lnTo>
                      <a:lnTo>
                        <a:pt x="115" y="725"/>
                      </a:lnTo>
                      <a:lnTo>
                        <a:pt x="120" y="736"/>
                      </a:lnTo>
                      <a:lnTo>
                        <a:pt x="133" y="747"/>
                      </a:lnTo>
                      <a:lnTo>
                        <a:pt x="146" y="750"/>
                      </a:lnTo>
                      <a:lnTo>
                        <a:pt x="162" y="741"/>
                      </a:lnTo>
                      <a:lnTo>
                        <a:pt x="171" y="725"/>
                      </a:lnTo>
                      <a:lnTo>
                        <a:pt x="288" y="59"/>
                      </a:lnTo>
                      <a:lnTo>
                        <a:pt x="292" y="41"/>
                      </a:lnTo>
                      <a:lnTo>
                        <a:pt x="294" y="27"/>
                      </a:lnTo>
                      <a:lnTo>
                        <a:pt x="298" y="16"/>
                      </a:lnTo>
                      <a:lnTo>
                        <a:pt x="308" y="3"/>
                      </a:lnTo>
                      <a:lnTo>
                        <a:pt x="319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85600" y="4392000"/>
                  <a:ext cx="195120" cy="372960"/>
                </a:xfrm>
                <a:custGeom>
                  <a:avLst/>
                  <a:gdLst/>
                  <a:ahLst/>
                  <a:rect l="l" t="t" r="r" b="b"/>
                  <a:pathLst>
                    <a:path w="309" h="749">
                      <a:moveTo>
                        <a:pt x="0" y="1"/>
                      </a:moveTo>
                      <a:lnTo>
                        <a:pt x="9" y="5"/>
                      </a:lnTo>
                      <a:lnTo>
                        <a:pt x="20" y="19"/>
                      </a:lnTo>
                      <a:lnTo>
                        <a:pt x="23" y="33"/>
                      </a:lnTo>
                      <a:lnTo>
                        <a:pt x="28" y="61"/>
                      </a:lnTo>
                      <a:lnTo>
                        <a:pt x="97" y="690"/>
                      </a:lnTo>
                      <a:lnTo>
                        <a:pt x="103" y="724"/>
                      </a:lnTo>
                      <a:lnTo>
                        <a:pt x="110" y="735"/>
                      </a:lnTo>
                      <a:lnTo>
                        <a:pt x="122" y="746"/>
                      </a:lnTo>
                      <a:lnTo>
                        <a:pt x="135" y="749"/>
                      </a:lnTo>
                      <a:lnTo>
                        <a:pt x="151" y="740"/>
                      </a:lnTo>
                      <a:lnTo>
                        <a:pt x="161" y="724"/>
                      </a:lnTo>
                      <a:lnTo>
                        <a:pt x="278" y="58"/>
                      </a:lnTo>
                      <a:lnTo>
                        <a:pt x="281" y="40"/>
                      </a:lnTo>
                      <a:lnTo>
                        <a:pt x="283" y="26"/>
                      </a:lnTo>
                      <a:lnTo>
                        <a:pt x="287" y="15"/>
                      </a:lnTo>
                      <a:lnTo>
                        <a:pt x="297" y="6"/>
                      </a:lnTo>
                      <a:lnTo>
                        <a:pt x="309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681080" y="4392000"/>
                  <a:ext cx="201960" cy="372960"/>
                </a:xfrm>
                <a:custGeom>
                  <a:avLst/>
                  <a:gdLst/>
                  <a:ahLst/>
                  <a:rect l="l" t="t" r="r" b="b"/>
                  <a:pathLst>
                    <a:path w="319" h="750">
                      <a:moveTo>
                        <a:pt x="0" y="0"/>
                      </a:moveTo>
                      <a:lnTo>
                        <a:pt x="17" y="3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2"/>
                      </a:lnTo>
                      <a:lnTo>
                        <a:pt x="107" y="691"/>
                      </a:lnTo>
                      <a:lnTo>
                        <a:pt x="115" y="725"/>
                      </a:lnTo>
                      <a:lnTo>
                        <a:pt x="120" y="736"/>
                      </a:lnTo>
                      <a:lnTo>
                        <a:pt x="133" y="747"/>
                      </a:lnTo>
                      <a:lnTo>
                        <a:pt x="146" y="750"/>
                      </a:lnTo>
                      <a:lnTo>
                        <a:pt x="161" y="741"/>
                      </a:lnTo>
                      <a:lnTo>
                        <a:pt x="171" y="725"/>
                      </a:lnTo>
                      <a:lnTo>
                        <a:pt x="288" y="59"/>
                      </a:lnTo>
                      <a:lnTo>
                        <a:pt x="291" y="41"/>
                      </a:lnTo>
                      <a:lnTo>
                        <a:pt x="293" y="27"/>
                      </a:lnTo>
                      <a:lnTo>
                        <a:pt x="298" y="16"/>
                      </a:lnTo>
                      <a:lnTo>
                        <a:pt x="307" y="3"/>
                      </a:lnTo>
                      <a:lnTo>
                        <a:pt x="319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891680" y="4390200"/>
                  <a:ext cx="195480" cy="373680"/>
                </a:xfrm>
                <a:custGeom>
                  <a:avLst/>
                  <a:gdLst/>
                  <a:ahLst/>
                  <a:rect l="l" t="t" r="r" b="b"/>
                  <a:pathLst>
                    <a:path w="310" h="751">
                      <a:moveTo>
                        <a:pt x="0" y="3"/>
                      </a:moveTo>
                      <a:lnTo>
                        <a:pt x="9" y="5"/>
                      </a:lnTo>
                      <a:lnTo>
                        <a:pt x="21" y="19"/>
                      </a:lnTo>
                      <a:lnTo>
                        <a:pt x="23" y="34"/>
                      </a:lnTo>
                      <a:lnTo>
                        <a:pt x="29" y="62"/>
                      </a:lnTo>
                      <a:lnTo>
                        <a:pt x="98" y="690"/>
                      </a:lnTo>
                      <a:lnTo>
                        <a:pt x="104" y="725"/>
                      </a:lnTo>
                      <a:lnTo>
                        <a:pt x="110" y="736"/>
                      </a:lnTo>
                      <a:lnTo>
                        <a:pt x="123" y="746"/>
                      </a:lnTo>
                      <a:lnTo>
                        <a:pt x="135" y="751"/>
                      </a:lnTo>
                      <a:lnTo>
                        <a:pt x="151" y="742"/>
                      </a:lnTo>
                      <a:lnTo>
                        <a:pt x="161" y="725"/>
                      </a:lnTo>
                      <a:lnTo>
                        <a:pt x="278" y="57"/>
                      </a:lnTo>
                      <a:lnTo>
                        <a:pt x="281" y="40"/>
                      </a:lnTo>
                      <a:lnTo>
                        <a:pt x="284" y="26"/>
                      </a:lnTo>
                      <a:lnTo>
                        <a:pt x="287" y="15"/>
                      </a:lnTo>
                      <a:lnTo>
                        <a:pt x="297" y="5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087520" y="4389120"/>
                  <a:ext cx="203040" cy="375120"/>
                </a:xfrm>
                <a:custGeom>
                  <a:avLst/>
                  <a:gdLst/>
                  <a:ahLst/>
                  <a:rect l="l" t="t" r="r" b="b"/>
                  <a:pathLst>
                    <a:path w="321" h="752">
                      <a:moveTo>
                        <a:pt x="0" y="0"/>
                      </a:moveTo>
                      <a:lnTo>
                        <a:pt x="18" y="4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3"/>
                      </a:lnTo>
                      <a:lnTo>
                        <a:pt x="109" y="691"/>
                      </a:lnTo>
                      <a:lnTo>
                        <a:pt x="115" y="726"/>
                      </a:lnTo>
                      <a:lnTo>
                        <a:pt x="121" y="737"/>
                      </a:lnTo>
                      <a:lnTo>
                        <a:pt x="134" y="747"/>
                      </a:lnTo>
                      <a:lnTo>
                        <a:pt x="146" y="752"/>
                      </a:lnTo>
                      <a:lnTo>
                        <a:pt x="161" y="743"/>
                      </a:lnTo>
                      <a:lnTo>
                        <a:pt x="171" y="726"/>
                      </a:lnTo>
                      <a:lnTo>
                        <a:pt x="290" y="58"/>
                      </a:lnTo>
                      <a:lnTo>
                        <a:pt x="292" y="41"/>
                      </a:lnTo>
                      <a:lnTo>
                        <a:pt x="296" y="27"/>
                      </a:lnTo>
                      <a:lnTo>
                        <a:pt x="299" y="16"/>
                      </a:lnTo>
                      <a:lnTo>
                        <a:pt x="308" y="4"/>
                      </a:lnTo>
                      <a:lnTo>
                        <a:pt x="321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94520" y="4390200"/>
                  <a:ext cx="195480" cy="373680"/>
                </a:xfrm>
                <a:custGeom>
                  <a:avLst/>
                  <a:gdLst/>
                  <a:ahLst/>
                  <a:rect l="l" t="t" r="r" b="b"/>
                  <a:pathLst>
                    <a:path w="310" h="751">
                      <a:moveTo>
                        <a:pt x="0" y="3"/>
                      </a:moveTo>
                      <a:lnTo>
                        <a:pt x="9" y="5"/>
                      </a:lnTo>
                      <a:lnTo>
                        <a:pt x="21" y="19"/>
                      </a:lnTo>
                      <a:lnTo>
                        <a:pt x="24" y="34"/>
                      </a:lnTo>
                      <a:lnTo>
                        <a:pt x="28" y="62"/>
                      </a:lnTo>
                      <a:lnTo>
                        <a:pt x="97" y="690"/>
                      </a:lnTo>
                      <a:lnTo>
                        <a:pt x="104" y="725"/>
                      </a:lnTo>
                      <a:lnTo>
                        <a:pt x="110" y="736"/>
                      </a:lnTo>
                      <a:lnTo>
                        <a:pt x="123" y="746"/>
                      </a:lnTo>
                      <a:lnTo>
                        <a:pt x="135" y="751"/>
                      </a:lnTo>
                      <a:lnTo>
                        <a:pt x="151" y="742"/>
                      </a:lnTo>
                      <a:lnTo>
                        <a:pt x="160" y="725"/>
                      </a:lnTo>
                      <a:lnTo>
                        <a:pt x="278" y="57"/>
                      </a:lnTo>
                      <a:lnTo>
                        <a:pt x="282" y="40"/>
                      </a:lnTo>
                      <a:lnTo>
                        <a:pt x="285" y="26"/>
                      </a:lnTo>
                      <a:lnTo>
                        <a:pt x="288" y="15"/>
                      </a:lnTo>
                      <a:lnTo>
                        <a:pt x="298" y="5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490000" y="4389120"/>
                  <a:ext cx="136080" cy="375120"/>
                </a:xfrm>
                <a:custGeom>
                  <a:avLst/>
                  <a:gdLst/>
                  <a:ahLst/>
                  <a:rect l="l" t="t" r="r" b="b"/>
                  <a:pathLst>
                    <a:path w="217" h="752">
                      <a:moveTo>
                        <a:pt x="0" y="0"/>
                      </a:moveTo>
                      <a:lnTo>
                        <a:pt x="18" y="4"/>
                      </a:lnTo>
                      <a:lnTo>
                        <a:pt x="31" y="17"/>
                      </a:lnTo>
                      <a:lnTo>
                        <a:pt x="36" y="35"/>
                      </a:lnTo>
                      <a:lnTo>
                        <a:pt x="40" y="63"/>
                      </a:lnTo>
                      <a:lnTo>
                        <a:pt x="109" y="691"/>
                      </a:lnTo>
                      <a:lnTo>
                        <a:pt x="115" y="726"/>
                      </a:lnTo>
                      <a:lnTo>
                        <a:pt x="121" y="737"/>
                      </a:lnTo>
                      <a:lnTo>
                        <a:pt x="135" y="747"/>
                      </a:lnTo>
                      <a:lnTo>
                        <a:pt x="146" y="752"/>
                      </a:lnTo>
                      <a:lnTo>
                        <a:pt x="161" y="743"/>
                      </a:lnTo>
                      <a:lnTo>
                        <a:pt x="171" y="726"/>
                      </a:lnTo>
                      <a:lnTo>
                        <a:pt x="217" y="40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3276720" y="4574520"/>
                <a:ext cx="2447280" cy="0"/>
              </a:xfrm>
              <a:prstGeom prst="line">
                <a:avLst/>
              </a:prstGeom>
              <a:ln w="1440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  <a:cs typeface="Traditional Arabic"/>
              </a:rPr>
              <a:t>أنواع وحدات المودم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داخلي  وخارج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سرعات المودم تقاس بالبت في الثاني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b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42880" indent="-634680" algn="r" rtl="1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1.200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4.800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1442880" indent="-634680" algn="r" rtl="1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9.600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14.400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1442880" indent="-634680" algn="r" rtl="1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19.200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28.800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1442880" indent="-634680" algn="r" rtl="1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38.400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 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56.000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바탕"/>
                <a:cs typeface="Traditional Arabic"/>
              </a:rPr>
              <a:t>تقنية الاتصال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12480" y="1557360"/>
            <a:ext cx="850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تصالات هي عملية نقل المعلومات من مكان 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عبارة عن مجموعة من أجهزة الاتصالات والبرامج الضرورية للتحكم بهذه الأجهزة والتي تقوم بوظائف الاتص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كونات نظام الاتصال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نظام الاتصالات عبارة عن شبكة من اجهزة الموصلات والبرامج التي تقوم بوظائف الاتصالا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تتألف م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حاسبات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التي تقدم المعلومات 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نهايات الطرفية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 أو أي أجهزة ادخال و إخراج التي ترسل وتستقبل البيانات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قنوات الاتصال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هي شبكة الروابط التي بواسطتها يتم نقل البيانات او الاتصالات الصوتية بين الأجهزة المرسلة والمستقبلة.  قنوات الاتصال تستخدم أنواع مختلفة من الوسائط مثل الأسلاك المجدولة والألياف الضوئية و الكوابل المحورية والموجات المتناهية الصغر و الأقمار الصناعية أو أي طريقة لنقل البيانات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أجهزة الاتصال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ثال المودم وعمليات المواجهة الأمامية والمجمعات والمركزات المضاعفات هذه الأدوات تقوم بالمساعدة لتحويل ونقل البيانات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رامج الاتصالات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التي تتحكم بأنشطه المدخلات والمخرجات والوظائف الأخرى للشبكات والاتصالات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الاتصال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16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59120" indent="-15912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خاصة من البرامج مطلوبة للتحكم والمساعدة في أنشطة الشبكة. وهي برامج لإدارة تحويل البيانات بين الحاسبات وبين الحاسبات والنهاية الطر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9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وظيفة الرئيسة للبرامج الاتصا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9120" indent="-15912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دارة شبكة الاتصالا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وجيه الرسائل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ديد الشبكة أولوية التحويل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ستمرار الاتصال بالشبكة والبحث عن أخطاء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9120" indent="-15912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حكم بالدخول إلى الشبك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حكم في سرعة تحويل البيانات واتجاهها ونوعها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داية الاتصال و ربطها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9120" indent="-15912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حكم بتحويل البيان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مكن الحاسبات والنهايات الطرفية من إرسال واستقبال البيانات البرامج ، والطلبات والرسائل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692000" y="21938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كتشاف الأخطاء وتصحيح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كتشف الأخطا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صحيح الأخطا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عادة إرسال البيانا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من الشبك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سئوليتها الدخول إلى الشبكة والتأكد من شخصية المتصل ورقمه السر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ميع إجراءات الدخول ومنع الدخول الغير مصرح له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</a:rPr>
              <a:t>برامج الاتصالات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13:29:53Z</dcterms:created>
  <dc:creator>Unknown User</dc:creator>
  <dc:description/>
  <dc:language>en-US</dc:language>
  <cp:lastModifiedBy>malsudairi</cp:lastModifiedBy>
  <dcterms:modified xsi:type="dcterms:W3CDTF">2003-09-20T14:52:59Z</dcterms:modified>
  <cp:revision>19</cp:revision>
  <dc:subject/>
  <dc:title>PowerPoint Presentation</dc:title>
</cp:coreProperties>
</file>