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2BD13-08A3-40A8-9A7B-DD58C231E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F054C-A698-4BB0-B6DB-8E7617DC5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6FBAD-C960-4EBC-807F-AE0BCE4F9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C15BC-DDD7-4FF0-81CF-1F13ABAFB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B005D-4CC8-45E0-BEE6-645381BDA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7035B-1D5F-4F8C-9683-9B25F13FA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A37BF-6218-4EC3-97B8-1E39097D6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9DC88-8F6E-4A6B-A51A-68DE8627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AD2C7-F43F-4F0B-A793-B2F9EBAEC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66894-46BE-459A-BD11-58B22DC7E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81B53-750F-412A-93C0-B7B33529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088B2-ED88-4CD5-8E18-1BF4DBE79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622E1-DDC6-484B-8976-3CFCD663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9728F-AF52-4975-95FF-818DC356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6739E-9392-43C2-A8E1-A8CC9579F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82538-6B7A-4A1F-974B-50055E33F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E2155-132C-4096-8384-F168B1F59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CC9B0-E765-499B-87AE-54D77B82D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7DC7A-ADBE-4D9E-A0FA-CBF1D4378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42345-6265-44C4-A80A-D92C0435A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4524B-31A2-44D6-9DA2-A87B2DAD9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B5B7E-9B28-461D-B955-22CB6AAE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B9C30-EF4F-43FA-BC57-7B812B68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EA02C-A7A4-48D5-91E4-F0A1D21C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CBFE3-F898-4BC1-95C3-DCAD47DBD63A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10C68-1C6F-4BCD-BF43-D51996DB8D06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اتصالات و الشبكات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Arial"/>
                <a:cs typeface="Traditional Arabic"/>
              </a:rPr>
              <a:t>د. محمد بن أحمد السديري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1331640" y="2204640"/>
            <a:ext cx="701028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أسلاك المجدولة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Twisted Co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أسلاك المحورية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Coax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ألياف الضوئية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C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موجات المتناهية الصغر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Microwa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اقمار الصناعية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Satell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809720" y="476280"/>
            <a:ext cx="7010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ff"/>
                </a:solidFill>
                <a:latin typeface="Arial"/>
                <a:cs typeface="Traditional Arabic"/>
              </a:rPr>
              <a:t>وسائط نقل البيانات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900000" y="112536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700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cc00"/>
                </a:solidFill>
                <a:latin typeface="Arial"/>
                <a:cs typeface="Traditional Arabic"/>
              </a:rPr>
              <a:t>الأسلاك المجدوله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Traditional Arabic"/>
              </a:rPr>
              <a:t>Twisted C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تستخدم في توصيل أجهزة الهاتف من المقسم الرئيسي " السنترال " فهي تستخدم بكثرة في المنازل والمكاتب لسهولة التركيب و هي منخفضة السعر ولكنها بطيئة في نقل البيانات وهذا يتسبب في انقطاع إرسال البيانات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cc00"/>
                </a:solidFill>
                <a:latin typeface="Arial"/>
                <a:cs typeface="Traditional Arabic"/>
              </a:rPr>
              <a:t>الأسلاك "الكيبلات" المحورية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Traditional Arabic"/>
              </a:rPr>
              <a:t>Coaxial Co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هي تستخدم في نقل صور التلفزيونية، تتألف من سلك نحاسي صلب محاط بغلاف خارجي من صغائر النحاس له القدرة على نقل كميات من البيانات أكبر من الأسلاك المجدولة، و هي صلبة يصعب ثنيها وتثبيتها في المباني ، سرعتها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200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MB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cc00"/>
                </a:solidFill>
                <a:latin typeface="Arial"/>
                <a:cs typeface="Traditional Arabic"/>
              </a:rPr>
              <a:t>الموجات المتناهية الصغر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Traditional Arabic"/>
              </a:rPr>
              <a:t>Micro wave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Traditional Arab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هي موجات ذات تردد عالي جداً وهي تستخدم لنقل المعلومات الصوتية او الرقمية خلال شبكات خاصة للمعلومات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cc00"/>
                </a:solidFill>
                <a:latin typeface="Arial"/>
                <a:cs typeface="Traditional Arabic"/>
              </a:rPr>
              <a:t>الأقمار الصناعية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Traditional Arabic"/>
              </a:rPr>
              <a:t>Satellite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Traditional Arab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تستخدم لنقل الصورة والصور كما تستخدم في نقل كميات عالية جداً من البيانات بشكل سريع جداً ولمسافات متباعدة جداً فهي وسيط مهم جداً وسريع لنقل البيانات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476360" y="189000"/>
            <a:ext cx="70102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Traditional Arabic"/>
              </a:rPr>
              <a:t>وسائط نقل البيانات</a:t>
            </a:r>
            <a:r>
              <a:rPr b="0" lang="ar-SA" sz="54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468000" y="981000"/>
            <a:ext cx="82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772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cc00"/>
                </a:solidFill>
                <a:latin typeface="Arial"/>
                <a:cs typeface="Traditional Arabic"/>
              </a:rPr>
              <a:t>الألياف الضوئية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Traditional Arabic"/>
              </a:rPr>
              <a:t>Fiber Opt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200" indent="-27720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تستخدم في نقل البيانات لمسافات الطويلة وتمتا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99520" indent="-495000" algn="r" rtl="1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raditional Arabic"/>
              </a:rPr>
              <a:t>بصغر حجمها وقلة وزنه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99520" indent="-495000" algn="r" rtl="1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raditional Arabic"/>
              </a:rPr>
              <a:t>نقلها لكميات كبيرة من البيانات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99520" indent="-495000" algn="r" rtl="1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Traditional Arabic"/>
              </a:rPr>
              <a:t> سرعتها العالية في نقل البيانات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200" indent="-27720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ألياف الضوئية تحقق سرعة عالية جداً في نقل البيانات وإمكانية نقل بيانات في اتجاهين متعددة في نفس الوقت . يمكن إرسال عدد غير محدد من الرسائل في نفس الوقت وذلك لمسافات طويلة جدا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200" indent="-27720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يمكن نقل الإشارات المرئية والتي يمكن استخدامها في عمل المؤتمرات باستخدام الهاتف الألياف الضوئية ثورة في عالم الاتصالات بسبب انخفاض سعرها وكثافة البيانات المنقولة بواسطتها وانخفاض الأخطاء والأمن على الرسائ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200" indent="-27720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تحتوى على ألياف زجاجية او بلاستيكية في سمك شعرة الرأس من الصعب جداً اضافة او الغاء فرع من الدائرة الاساس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200" indent="-27720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تنقل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2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 بليون بت في الثانية تقريباً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10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 مرات أكثر من الكيابل المحورية و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200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 مرة أكثر من الأسلاك المجدو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547640" y="333360"/>
            <a:ext cx="7010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Traditional Arabic"/>
              </a:rPr>
              <a:t>وسائط نقل البيانات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ffff"/>
                </a:solidFill>
                <a:latin typeface="Arial"/>
                <a:cs typeface="Traditional Arabic"/>
              </a:rPr>
              <a:t>وسائط النقل: مقارنة السرعة بالتكلفة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332000" y="3038400"/>
          <a:ext cx="7297560" cy="2551320"/>
        </p:xfrm>
        <a:graphic>
          <a:graphicData uri="http://schemas.openxmlformats.org/drawingml/2006/table">
            <a:tbl>
              <a:tblPr/>
              <a:tblGrid>
                <a:gridCol w="3522600"/>
                <a:gridCol w="37749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0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PS – 10 MP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Arial"/>
                          <a:cs typeface="Traditional Arabic"/>
                        </a:rPr>
                        <a:t>الأسلاك المجدولة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raditional Arabic"/>
                        </a:rPr>
                        <a:t>Twisted Co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0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BPS – 100 MBP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Arial"/>
                          <a:cs typeface="Traditional Arabic"/>
                        </a:rPr>
                        <a:t>الموجات المتناهية الصغر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raditional Arabic"/>
                        </a:rPr>
                        <a:t>Microwa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0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BPS – 100 MBP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Arial"/>
                          <a:cs typeface="Traditional Arabic"/>
                        </a:rPr>
                        <a:t>الأقمار الصناعية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raditional Arabic"/>
                        </a:rPr>
                        <a:t>Satell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BPS – 200 MP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Arial"/>
                          <a:cs typeface="Traditional Arabic"/>
                        </a:rPr>
                        <a:t>الأسلاك المحورية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raditional Arabic"/>
                        </a:rPr>
                        <a:t>Cable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Arial"/>
                          <a:ea typeface="Traditional Arabic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raditional Arabic"/>
                        </a:rPr>
                        <a:t>Coaxi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0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BPS – 10 GBP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Arial"/>
                          <a:cs typeface="Traditional Arabic"/>
                        </a:rPr>
                        <a:t>الألياف الضوئية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raditional Arabic"/>
                        </a:rPr>
                        <a:t>Fiber opti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5" name=""/>
          <p:cNvSpPr/>
          <p:nvPr/>
        </p:nvSpPr>
        <p:spPr>
          <a:xfrm>
            <a:off x="5824080" y="2305080"/>
            <a:ext cx="153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  <a:cs typeface="Traditional Arabic"/>
              </a:rPr>
              <a:t>الوسي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349360" y="2276640"/>
            <a:ext cx="11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Arial"/>
                <a:cs typeface="Traditional Arabic"/>
              </a:rPr>
              <a:t>السرع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3640" y="2306520"/>
            <a:ext cx="149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  <a:cs typeface="Traditional Arabic"/>
              </a:rPr>
              <a:t>التكلفة</a:t>
            </a:r>
            <a:r>
              <a:rPr b="0" lang="ar-SA" sz="2400" spc="-1" strike="noStrike">
                <a:solidFill>
                  <a:srgbClr val="ffff00"/>
                </a:solidFill>
                <a:latin typeface="Arial"/>
                <a:ea typeface="Traditional Arab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89800" y="515772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Arial"/>
                <a:cs typeface="Traditional Arabic"/>
              </a:rPr>
              <a:t>عالية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9200" y="2924280"/>
            <a:ext cx="13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Arial"/>
                <a:cs typeface="Traditional Arabic"/>
              </a:rPr>
              <a:t>منخفضة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ffff"/>
                </a:solidFill>
                <a:latin typeface="Arial"/>
                <a:cs typeface="Traditional Arabic"/>
              </a:rPr>
              <a:t>تطبيقات الاتصالات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نقل الملفات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معالجة البيانات الموزع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بريد الالكتروني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اجتماعات عن بع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استعلام والبحث عن المعلوما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اتصالات الحاسبات الشخصية بالمضيف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اجتماعات المرئي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تبادل البيانات الالكتروني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صوت الالكتروني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رسائل المرسل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اجتماعات الاتصالي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900" spc="-1" strike="noStrike">
                <a:solidFill>
                  <a:srgbClr val="ffffff"/>
                </a:solidFill>
                <a:latin typeface="Arial"/>
                <a:cs typeface="Traditional Arabic"/>
              </a:rPr>
              <a:t>أشكال أو طرق نقل البيانات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نوع الشارات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 algn="just" rtl="1">
              <a:lnSpc>
                <a:spcPct val="9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تناظرية 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Traditional Arabic"/>
              </a:rPr>
              <a:t>Analog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r>
              <a:rPr b="0" lang="ar-SA" sz="21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 algn="just" rtl="1">
              <a:lnSpc>
                <a:spcPct val="9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رقمية 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Traditional Arabic"/>
              </a:rPr>
              <a:t>Digital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نوع التحويل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 algn="just" rtl="1">
              <a:lnSpc>
                <a:spcPct val="9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ffffff"/>
                </a:solidFill>
                <a:latin typeface="Arial"/>
                <a:cs typeface="Traditional Arabic"/>
              </a:rPr>
              <a:t>نقل متزامن 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Traditional Arabic"/>
              </a:rPr>
              <a:t>Synchronous</a:t>
            </a:r>
            <a:r>
              <a:rPr b="0" lang="ar-SA" sz="21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 algn="just" rtl="1">
              <a:lnSpc>
                <a:spcPct val="9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ffffff"/>
                </a:solidFill>
                <a:latin typeface="Arial"/>
                <a:cs typeface="Traditional Arabic"/>
              </a:rPr>
              <a:t>نقل غير متزامن 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Traditional Arabic"/>
              </a:rPr>
              <a:t>Asynchronou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اتجاه التدف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 algn="just" rtl="1">
              <a:lnSpc>
                <a:spcPct val="9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نقل لاتجاه واحد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 algn="just" rtl="1">
              <a:lnSpc>
                <a:spcPct val="9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نقل المزدوج الجزئي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 algn="just" rtl="1">
              <a:lnSpc>
                <a:spcPct val="9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نقل المزدوج الأقصى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درجة التحوي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 algn="just" rtl="1">
              <a:lnSpc>
                <a:spcPct val="9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ffffff"/>
                </a:solidFill>
                <a:latin typeface="Arial"/>
                <a:cs typeface="Traditional Arabic"/>
              </a:rPr>
              <a:t>إشارات ترددية بحيز ترددي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611280" y="1341360"/>
            <a:ext cx="3357000" cy="3810240"/>
            <a:chOff x="611280" y="1341360"/>
            <a:chExt cx="3357000" cy="3810240"/>
          </a:xfrm>
        </p:grpSpPr>
        <p:graphicFrame>
          <p:nvGraphicFramePr>
            <p:cNvPr id="119" name=""/>
            <p:cNvGraphicFramePr/>
            <p:nvPr/>
          </p:nvGraphicFramePr>
          <p:xfrm>
            <a:off x="2671560" y="1341360"/>
            <a:ext cx="1296720" cy="2216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671560" y="1341360"/>
                      <a:ext cx="1296720" cy="221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1" name=""/>
            <p:cNvGraphicFramePr/>
            <p:nvPr/>
          </p:nvGraphicFramePr>
          <p:xfrm>
            <a:off x="1618920" y="2114640"/>
            <a:ext cx="1296720" cy="2216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18920" y="2114640"/>
                      <a:ext cx="1296720" cy="221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3" name=""/>
            <p:cNvGraphicFramePr/>
            <p:nvPr/>
          </p:nvGraphicFramePr>
          <p:xfrm>
            <a:off x="611280" y="2935440"/>
            <a:ext cx="1296720" cy="2216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11280" y="2935440"/>
                      <a:ext cx="1296720" cy="221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900" spc="-1" strike="noStrike">
                <a:solidFill>
                  <a:srgbClr val="ffffff"/>
                </a:solidFill>
                <a:latin typeface="Arial"/>
              </a:rPr>
              <a:t>نوع الإشارات: الاشارات التناظرية 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nalog signal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10600" indent="-21060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تأخذ شكل الموجات الممتدة بترددات معينة . تمثل الإشارات التناظرية إشارات كهربائية ممتدة مستمرة في شكل موجات. الشحنات الكهربائية الموجبة + تمثل +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 الشحنات الكهربائية السالبة تمثل –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0600" indent="-21060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تستخدم الإشارات التناظرية في نقل حركة الصوت أي حركة إرسال واستقبال الصوت وينعكس الصوت في خطوات متغيرة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0600" indent="-21060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إشارات التناظرية هي نوع من الإشارات على شكل موجات ممتدة متقلب "متموج متردد " لعدد من المرات المحددة ولمدة محددة من الوقت . هذا التقلب او التردد يعرف باسم التردد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Frequenc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 أو الذبذبات أو الإشارات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0600" indent="-21060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إشارات الرقمية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Digital Sig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06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حاسبات تواصل مع بعضها عن طريق تيار متدفق من الأرقام الثنائية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Binary digi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 ترسل على أشكا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0600" indent="-21060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هي اندفاع متحكم أكثر منه موجات ممتدة ،  فهي تمثل بيانات مرمزة من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0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التي تحول على هيئة نبضات كهربائية تمثل فتح أو غلق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79280" y="1989000"/>
            <a:ext cx="1800360" cy="1152720"/>
            <a:chOff x="179280" y="1989000"/>
            <a:chExt cx="1800360" cy="1152720"/>
          </a:xfrm>
        </p:grpSpPr>
        <p:grpSp>
          <p:nvGrpSpPr>
            <p:cNvPr id="128" name=""/>
            <p:cNvGrpSpPr/>
            <p:nvPr/>
          </p:nvGrpSpPr>
          <p:grpSpPr>
            <a:xfrm>
              <a:off x="179280" y="1989000"/>
              <a:ext cx="1800360" cy="1152720"/>
              <a:chOff x="179280" y="1989000"/>
              <a:chExt cx="1800360" cy="1152720"/>
            </a:xfrm>
          </p:grpSpPr>
          <p:grpSp>
            <p:nvGrpSpPr>
              <p:cNvPr id="129" name=""/>
              <p:cNvGrpSpPr/>
              <p:nvPr/>
            </p:nvGrpSpPr>
            <p:grpSpPr>
              <a:xfrm>
                <a:off x="179280" y="2465640"/>
                <a:ext cx="1800360" cy="676080"/>
                <a:chOff x="179280" y="2465640"/>
                <a:chExt cx="1800360" cy="67608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179280" y="2808720"/>
                  <a:ext cx="1800360" cy="1080"/>
                </a:xfrm>
                <a:prstGeom prst="line">
                  <a:avLst/>
                </a:prstGeom>
                <a:ln w="14400">
                  <a:solidFill>
                    <a:srgbClr val="3f000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1" name=""/>
                <p:cNvGrpSpPr/>
                <p:nvPr/>
              </p:nvGrpSpPr>
              <p:grpSpPr>
                <a:xfrm>
                  <a:off x="440640" y="2465640"/>
                  <a:ext cx="1231560" cy="676080"/>
                  <a:chOff x="440640" y="2465640"/>
                  <a:chExt cx="1231560" cy="676080"/>
                </a:xfrm>
              </p:grpSpPr>
              <p:sp>
                <p:nvSpPr>
                  <p:cNvPr id="132" name=""/>
                  <p:cNvSpPr/>
                  <p:nvPr/>
                </p:nvSpPr>
                <p:spPr>
                  <a:xfrm>
                    <a:off x="440640" y="2693880"/>
                    <a:ext cx="228960" cy="236160"/>
                  </a:xfrm>
                  <a:custGeom>
                    <a:avLst/>
                    <a:gdLst/>
                    <a:ahLst/>
                    <a:rect l="l" t="t" r="r" b="b"/>
                    <a:pathLst>
                      <a:path w="493" h="476">
                        <a:moveTo>
                          <a:pt x="0" y="226"/>
                        </a:moveTo>
                        <a:lnTo>
                          <a:pt x="6" y="186"/>
                        </a:lnTo>
                        <a:lnTo>
                          <a:pt x="16" y="146"/>
                        </a:lnTo>
                        <a:lnTo>
                          <a:pt x="23" y="116"/>
                        </a:lnTo>
                        <a:lnTo>
                          <a:pt x="35" y="102"/>
                        </a:lnTo>
                        <a:lnTo>
                          <a:pt x="47" y="93"/>
                        </a:lnTo>
                        <a:lnTo>
                          <a:pt x="59" y="91"/>
                        </a:lnTo>
                        <a:lnTo>
                          <a:pt x="74" y="95"/>
                        </a:lnTo>
                        <a:lnTo>
                          <a:pt x="87" y="107"/>
                        </a:lnTo>
                        <a:lnTo>
                          <a:pt x="94" y="124"/>
                        </a:lnTo>
                        <a:lnTo>
                          <a:pt x="100" y="147"/>
                        </a:lnTo>
                        <a:lnTo>
                          <a:pt x="125" y="294"/>
                        </a:lnTo>
                        <a:lnTo>
                          <a:pt x="132" y="317"/>
                        </a:lnTo>
                        <a:lnTo>
                          <a:pt x="137" y="331"/>
                        </a:lnTo>
                        <a:lnTo>
                          <a:pt x="153" y="342"/>
                        </a:lnTo>
                        <a:lnTo>
                          <a:pt x="168" y="343"/>
                        </a:lnTo>
                        <a:lnTo>
                          <a:pt x="181" y="336"/>
                        </a:lnTo>
                        <a:lnTo>
                          <a:pt x="189" y="319"/>
                        </a:lnTo>
                        <a:lnTo>
                          <a:pt x="196" y="294"/>
                        </a:lnTo>
                        <a:lnTo>
                          <a:pt x="230" y="78"/>
                        </a:lnTo>
                        <a:lnTo>
                          <a:pt x="235" y="46"/>
                        </a:lnTo>
                        <a:lnTo>
                          <a:pt x="241" y="26"/>
                        </a:lnTo>
                        <a:lnTo>
                          <a:pt x="250" y="11"/>
                        </a:lnTo>
                        <a:lnTo>
                          <a:pt x="259" y="3"/>
                        </a:lnTo>
                        <a:lnTo>
                          <a:pt x="274" y="0"/>
                        </a:lnTo>
                        <a:lnTo>
                          <a:pt x="291" y="4"/>
                        </a:lnTo>
                        <a:lnTo>
                          <a:pt x="303" y="22"/>
                        </a:lnTo>
                        <a:lnTo>
                          <a:pt x="310" y="38"/>
                        </a:lnTo>
                        <a:lnTo>
                          <a:pt x="315" y="61"/>
                        </a:lnTo>
                        <a:lnTo>
                          <a:pt x="367" y="409"/>
                        </a:lnTo>
                        <a:lnTo>
                          <a:pt x="373" y="438"/>
                        </a:lnTo>
                        <a:lnTo>
                          <a:pt x="383" y="462"/>
                        </a:lnTo>
                        <a:lnTo>
                          <a:pt x="394" y="472"/>
                        </a:lnTo>
                        <a:lnTo>
                          <a:pt x="412" y="476"/>
                        </a:lnTo>
                        <a:lnTo>
                          <a:pt x="427" y="461"/>
                        </a:lnTo>
                        <a:lnTo>
                          <a:pt x="435" y="440"/>
                        </a:lnTo>
                        <a:lnTo>
                          <a:pt x="443" y="410"/>
                        </a:lnTo>
                        <a:lnTo>
                          <a:pt x="493" y="95"/>
                        </a:lnTo>
                      </a:path>
                    </a:pathLst>
                  </a:custGeom>
                  <a:noFill/>
                  <a:ln w="14400">
                    <a:solidFill>
                      <a:srgbClr val="ff404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668880" y="2465640"/>
                    <a:ext cx="390600" cy="676080"/>
                  </a:xfrm>
                  <a:custGeom>
                    <a:avLst/>
                    <a:gdLst/>
                    <a:ahLst/>
                    <a:rect l="l" t="t" r="r" b="b"/>
                    <a:pathLst>
                      <a:path w="841" h="1356">
                        <a:moveTo>
                          <a:pt x="0" y="553"/>
                        </a:moveTo>
                        <a:lnTo>
                          <a:pt x="43" y="298"/>
                        </a:lnTo>
                        <a:lnTo>
                          <a:pt x="49" y="278"/>
                        </a:lnTo>
                        <a:lnTo>
                          <a:pt x="62" y="267"/>
                        </a:lnTo>
                        <a:lnTo>
                          <a:pt x="74" y="264"/>
                        </a:lnTo>
                        <a:lnTo>
                          <a:pt x="93" y="267"/>
                        </a:lnTo>
                        <a:lnTo>
                          <a:pt x="103" y="279"/>
                        </a:lnTo>
                        <a:lnTo>
                          <a:pt x="108" y="298"/>
                        </a:lnTo>
                        <a:lnTo>
                          <a:pt x="210" y="1035"/>
                        </a:lnTo>
                        <a:lnTo>
                          <a:pt x="220" y="1073"/>
                        </a:lnTo>
                        <a:lnTo>
                          <a:pt x="230" y="1087"/>
                        </a:lnTo>
                        <a:lnTo>
                          <a:pt x="245" y="1093"/>
                        </a:lnTo>
                        <a:lnTo>
                          <a:pt x="258" y="1098"/>
                        </a:lnTo>
                        <a:lnTo>
                          <a:pt x="275" y="1091"/>
                        </a:lnTo>
                        <a:lnTo>
                          <a:pt x="288" y="1075"/>
                        </a:lnTo>
                        <a:lnTo>
                          <a:pt x="299" y="1035"/>
                        </a:lnTo>
                        <a:lnTo>
                          <a:pt x="399" y="181"/>
                        </a:lnTo>
                        <a:lnTo>
                          <a:pt x="405" y="140"/>
                        </a:lnTo>
                        <a:lnTo>
                          <a:pt x="412" y="127"/>
                        </a:lnTo>
                        <a:lnTo>
                          <a:pt x="419" y="114"/>
                        </a:lnTo>
                        <a:lnTo>
                          <a:pt x="431" y="105"/>
                        </a:lnTo>
                        <a:lnTo>
                          <a:pt x="445" y="103"/>
                        </a:lnTo>
                        <a:lnTo>
                          <a:pt x="461" y="108"/>
                        </a:lnTo>
                        <a:lnTo>
                          <a:pt x="473" y="116"/>
                        </a:lnTo>
                        <a:lnTo>
                          <a:pt x="481" y="127"/>
                        </a:lnTo>
                        <a:lnTo>
                          <a:pt x="488" y="140"/>
                        </a:lnTo>
                        <a:lnTo>
                          <a:pt x="495" y="175"/>
                        </a:lnTo>
                        <a:lnTo>
                          <a:pt x="586" y="1270"/>
                        </a:lnTo>
                        <a:lnTo>
                          <a:pt x="593" y="1316"/>
                        </a:lnTo>
                        <a:lnTo>
                          <a:pt x="601" y="1339"/>
                        </a:lnTo>
                        <a:lnTo>
                          <a:pt x="617" y="1349"/>
                        </a:lnTo>
                        <a:lnTo>
                          <a:pt x="633" y="1356"/>
                        </a:lnTo>
                        <a:lnTo>
                          <a:pt x="648" y="1349"/>
                        </a:lnTo>
                        <a:lnTo>
                          <a:pt x="656" y="1339"/>
                        </a:lnTo>
                        <a:lnTo>
                          <a:pt x="662" y="1319"/>
                        </a:lnTo>
                        <a:lnTo>
                          <a:pt x="667" y="1274"/>
                        </a:lnTo>
                        <a:lnTo>
                          <a:pt x="786" y="77"/>
                        </a:lnTo>
                        <a:lnTo>
                          <a:pt x="792" y="52"/>
                        </a:lnTo>
                        <a:lnTo>
                          <a:pt x="800" y="29"/>
                        </a:lnTo>
                        <a:lnTo>
                          <a:pt x="810" y="14"/>
                        </a:lnTo>
                        <a:lnTo>
                          <a:pt x="819" y="4"/>
                        </a:lnTo>
                        <a:lnTo>
                          <a:pt x="830" y="0"/>
                        </a:lnTo>
                        <a:lnTo>
                          <a:pt x="841" y="0"/>
                        </a:lnTo>
                      </a:path>
                    </a:pathLst>
                  </a:custGeom>
                  <a:noFill/>
                  <a:ln w="14400">
                    <a:solidFill>
                      <a:srgbClr val="ff404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1443960" y="2693880"/>
                    <a:ext cx="228240" cy="236160"/>
                  </a:xfrm>
                  <a:custGeom>
                    <a:avLst/>
                    <a:gdLst/>
                    <a:ahLst/>
                    <a:rect l="l" t="t" r="r" b="b"/>
                    <a:pathLst>
                      <a:path w="492" h="476">
                        <a:moveTo>
                          <a:pt x="492" y="226"/>
                        </a:moveTo>
                        <a:lnTo>
                          <a:pt x="485" y="186"/>
                        </a:lnTo>
                        <a:lnTo>
                          <a:pt x="476" y="146"/>
                        </a:lnTo>
                        <a:lnTo>
                          <a:pt x="468" y="116"/>
                        </a:lnTo>
                        <a:lnTo>
                          <a:pt x="459" y="102"/>
                        </a:lnTo>
                        <a:lnTo>
                          <a:pt x="445" y="93"/>
                        </a:lnTo>
                        <a:lnTo>
                          <a:pt x="433" y="91"/>
                        </a:lnTo>
                        <a:lnTo>
                          <a:pt x="417" y="95"/>
                        </a:lnTo>
                        <a:lnTo>
                          <a:pt x="405" y="107"/>
                        </a:lnTo>
                        <a:lnTo>
                          <a:pt x="398" y="124"/>
                        </a:lnTo>
                        <a:lnTo>
                          <a:pt x="392" y="147"/>
                        </a:lnTo>
                        <a:lnTo>
                          <a:pt x="366" y="294"/>
                        </a:lnTo>
                        <a:lnTo>
                          <a:pt x="360" y="317"/>
                        </a:lnTo>
                        <a:lnTo>
                          <a:pt x="354" y="331"/>
                        </a:lnTo>
                        <a:lnTo>
                          <a:pt x="339" y="342"/>
                        </a:lnTo>
                        <a:lnTo>
                          <a:pt x="325" y="343"/>
                        </a:lnTo>
                        <a:lnTo>
                          <a:pt x="311" y="336"/>
                        </a:lnTo>
                        <a:lnTo>
                          <a:pt x="304" y="319"/>
                        </a:lnTo>
                        <a:lnTo>
                          <a:pt x="297" y="294"/>
                        </a:lnTo>
                        <a:lnTo>
                          <a:pt x="263" y="78"/>
                        </a:lnTo>
                        <a:lnTo>
                          <a:pt x="256" y="46"/>
                        </a:lnTo>
                        <a:lnTo>
                          <a:pt x="250" y="26"/>
                        </a:lnTo>
                        <a:lnTo>
                          <a:pt x="242" y="11"/>
                        </a:lnTo>
                        <a:lnTo>
                          <a:pt x="232" y="3"/>
                        </a:lnTo>
                        <a:lnTo>
                          <a:pt x="216" y="0"/>
                        </a:lnTo>
                        <a:lnTo>
                          <a:pt x="200" y="4"/>
                        </a:lnTo>
                        <a:lnTo>
                          <a:pt x="187" y="22"/>
                        </a:lnTo>
                        <a:lnTo>
                          <a:pt x="182" y="38"/>
                        </a:lnTo>
                        <a:lnTo>
                          <a:pt x="178" y="61"/>
                        </a:lnTo>
                        <a:lnTo>
                          <a:pt x="125" y="409"/>
                        </a:lnTo>
                        <a:lnTo>
                          <a:pt x="119" y="438"/>
                        </a:lnTo>
                        <a:lnTo>
                          <a:pt x="110" y="462"/>
                        </a:lnTo>
                        <a:lnTo>
                          <a:pt x="99" y="472"/>
                        </a:lnTo>
                        <a:lnTo>
                          <a:pt x="80" y="476"/>
                        </a:lnTo>
                        <a:lnTo>
                          <a:pt x="65" y="461"/>
                        </a:lnTo>
                        <a:lnTo>
                          <a:pt x="56" y="440"/>
                        </a:lnTo>
                        <a:lnTo>
                          <a:pt x="50" y="410"/>
                        </a:lnTo>
                        <a:lnTo>
                          <a:pt x="0" y="95"/>
                        </a:lnTo>
                      </a:path>
                    </a:pathLst>
                  </a:custGeom>
                  <a:noFill/>
                  <a:ln w="14400">
                    <a:solidFill>
                      <a:srgbClr val="ff404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1054080" y="2465640"/>
                    <a:ext cx="390600" cy="676080"/>
                  </a:xfrm>
                  <a:custGeom>
                    <a:avLst/>
                    <a:gdLst/>
                    <a:ahLst/>
                    <a:rect l="l" t="t" r="r" b="b"/>
                    <a:pathLst>
                      <a:path w="842" h="1356">
                        <a:moveTo>
                          <a:pt x="842" y="556"/>
                        </a:moveTo>
                        <a:lnTo>
                          <a:pt x="798" y="298"/>
                        </a:lnTo>
                        <a:lnTo>
                          <a:pt x="792" y="278"/>
                        </a:lnTo>
                        <a:lnTo>
                          <a:pt x="779" y="267"/>
                        </a:lnTo>
                        <a:lnTo>
                          <a:pt x="766" y="264"/>
                        </a:lnTo>
                        <a:lnTo>
                          <a:pt x="747" y="267"/>
                        </a:lnTo>
                        <a:lnTo>
                          <a:pt x="739" y="279"/>
                        </a:lnTo>
                        <a:lnTo>
                          <a:pt x="731" y="298"/>
                        </a:lnTo>
                        <a:lnTo>
                          <a:pt x="630" y="1035"/>
                        </a:lnTo>
                        <a:lnTo>
                          <a:pt x="621" y="1073"/>
                        </a:lnTo>
                        <a:lnTo>
                          <a:pt x="612" y="1087"/>
                        </a:lnTo>
                        <a:lnTo>
                          <a:pt x="595" y="1093"/>
                        </a:lnTo>
                        <a:lnTo>
                          <a:pt x="582" y="1098"/>
                        </a:lnTo>
                        <a:lnTo>
                          <a:pt x="565" y="1091"/>
                        </a:lnTo>
                        <a:lnTo>
                          <a:pt x="552" y="1075"/>
                        </a:lnTo>
                        <a:lnTo>
                          <a:pt x="543" y="1035"/>
                        </a:lnTo>
                        <a:lnTo>
                          <a:pt x="442" y="181"/>
                        </a:lnTo>
                        <a:lnTo>
                          <a:pt x="434" y="140"/>
                        </a:lnTo>
                        <a:lnTo>
                          <a:pt x="430" y="127"/>
                        </a:lnTo>
                        <a:lnTo>
                          <a:pt x="423" y="114"/>
                        </a:lnTo>
                        <a:lnTo>
                          <a:pt x="410" y="105"/>
                        </a:lnTo>
                        <a:lnTo>
                          <a:pt x="398" y="103"/>
                        </a:lnTo>
                        <a:lnTo>
                          <a:pt x="381" y="108"/>
                        </a:lnTo>
                        <a:lnTo>
                          <a:pt x="367" y="116"/>
                        </a:lnTo>
                        <a:lnTo>
                          <a:pt x="360" y="127"/>
                        </a:lnTo>
                        <a:lnTo>
                          <a:pt x="353" y="140"/>
                        </a:lnTo>
                        <a:lnTo>
                          <a:pt x="347" y="175"/>
                        </a:lnTo>
                        <a:lnTo>
                          <a:pt x="254" y="1270"/>
                        </a:lnTo>
                        <a:lnTo>
                          <a:pt x="248" y="1316"/>
                        </a:lnTo>
                        <a:lnTo>
                          <a:pt x="239" y="1339"/>
                        </a:lnTo>
                        <a:lnTo>
                          <a:pt x="223" y="1349"/>
                        </a:lnTo>
                        <a:lnTo>
                          <a:pt x="209" y="1356"/>
                        </a:lnTo>
                        <a:lnTo>
                          <a:pt x="194" y="1349"/>
                        </a:lnTo>
                        <a:lnTo>
                          <a:pt x="185" y="1339"/>
                        </a:lnTo>
                        <a:lnTo>
                          <a:pt x="179" y="1319"/>
                        </a:lnTo>
                        <a:lnTo>
                          <a:pt x="173" y="1274"/>
                        </a:lnTo>
                        <a:lnTo>
                          <a:pt x="54" y="77"/>
                        </a:lnTo>
                        <a:lnTo>
                          <a:pt x="50" y="52"/>
                        </a:lnTo>
                        <a:lnTo>
                          <a:pt x="41" y="29"/>
                        </a:lnTo>
                        <a:lnTo>
                          <a:pt x="32" y="14"/>
                        </a:lnTo>
                        <a:lnTo>
                          <a:pt x="22" y="4"/>
                        </a:lnTo>
                        <a:lnTo>
                          <a:pt x="1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4400">
                    <a:solidFill>
                      <a:srgbClr val="ff404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6" name=""/>
              <p:cNvGrpSpPr/>
              <p:nvPr/>
            </p:nvGrpSpPr>
            <p:grpSpPr>
              <a:xfrm>
                <a:off x="282960" y="1989000"/>
                <a:ext cx="1624680" cy="378720"/>
                <a:chOff x="282960" y="1989000"/>
                <a:chExt cx="1624680" cy="37872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282960" y="1993680"/>
                  <a:ext cx="36720" cy="191160"/>
                </a:xfrm>
                <a:custGeom>
                  <a:avLst/>
                  <a:gdLst/>
                  <a:ahLst/>
                  <a:rect l="l" t="t" r="r" b="b"/>
                  <a:pathLst>
                    <a:path w="81" h="385">
                      <a:moveTo>
                        <a:pt x="0" y="385"/>
                      </a:moveTo>
                      <a:lnTo>
                        <a:pt x="50" y="58"/>
                      </a:lnTo>
                      <a:lnTo>
                        <a:pt x="53" y="41"/>
                      </a:lnTo>
                      <a:lnTo>
                        <a:pt x="55" y="27"/>
                      </a:lnTo>
                      <a:lnTo>
                        <a:pt x="60" y="16"/>
                      </a:lnTo>
                      <a:lnTo>
                        <a:pt x="69" y="7"/>
                      </a:lnTo>
                      <a:lnTo>
                        <a:pt x="81" y="0"/>
                      </a:lnTo>
                    </a:path>
                  </a:pathLst>
                </a:custGeom>
                <a:noFill/>
                <a:ln w="14400">
                  <a:solidFill>
                    <a:srgbClr val="cce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20760" y="1992960"/>
                  <a:ext cx="148320" cy="374760"/>
                </a:xfrm>
                <a:custGeom>
                  <a:avLst/>
                  <a:gdLst/>
                  <a:ahLst/>
                  <a:rect l="l" t="t" r="r" b="b"/>
                  <a:pathLst>
                    <a:path w="319" h="752">
                      <a:moveTo>
                        <a:pt x="0" y="0"/>
                      </a:moveTo>
                      <a:lnTo>
                        <a:pt x="17" y="5"/>
                      </a:lnTo>
                      <a:lnTo>
                        <a:pt x="31" y="19"/>
                      </a:lnTo>
                      <a:lnTo>
                        <a:pt x="35" y="36"/>
                      </a:lnTo>
                      <a:lnTo>
                        <a:pt x="39" y="63"/>
                      </a:lnTo>
                      <a:lnTo>
                        <a:pt x="108" y="692"/>
                      </a:lnTo>
                      <a:lnTo>
                        <a:pt x="115" y="728"/>
                      </a:lnTo>
                      <a:lnTo>
                        <a:pt x="120" y="737"/>
                      </a:lnTo>
                      <a:lnTo>
                        <a:pt x="133" y="748"/>
                      </a:lnTo>
                      <a:lnTo>
                        <a:pt x="146" y="752"/>
                      </a:lnTo>
                      <a:lnTo>
                        <a:pt x="162" y="744"/>
                      </a:lnTo>
                      <a:lnTo>
                        <a:pt x="171" y="728"/>
                      </a:lnTo>
                      <a:lnTo>
                        <a:pt x="289" y="59"/>
                      </a:lnTo>
                      <a:lnTo>
                        <a:pt x="292" y="42"/>
                      </a:lnTo>
                      <a:lnTo>
                        <a:pt x="294" y="28"/>
                      </a:lnTo>
                      <a:lnTo>
                        <a:pt x="298" y="17"/>
                      </a:lnTo>
                      <a:lnTo>
                        <a:pt x="308" y="5"/>
                      </a:lnTo>
                      <a:lnTo>
                        <a:pt x="319" y="4"/>
                      </a:lnTo>
                    </a:path>
                  </a:pathLst>
                </a:custGeom>
                <a:noFill/>
                <a:ln w="14400">
                  <a:solidFill>
                    <a:srgbClr val="cce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473040" y="1993680"/>
                  <a:ext cx="142560" cy="373680"/>
                </a:xfrm>
                <a:custGeom>
                  <a:avLst/>
                  <a:gdLst/>
                  <a:ahLst/>
                  <a:rect l="l" t="t" r="r" b="b"/>
                  <a:pathLst>
                    <a:path w="309" h="750">
                      <a:moveTo>
                        <a:pt x="0" y="4"/>
                      </a:moveTo>
                      <a:lnTo>
                        <a:pt x="10" y="6"/>
                      </a:lnTo>
                      <a:lnTo>
                        <a:pt x="20" y="20"/>
                      </a:lnTo>
                      <a:lnTo>
                        <a:pt x="23" y="36"/>
                      </a:lnTo>
                      <a:lnTo>
                        <a:pt x="28" y="62"/>
                      </a:lnTo>
                      <a:lnTo>
                        <a:pt x="97" y="690"/>
                      </a:lnTo>
                      <a:lnTo>
                        <a:pt x="103" y="726"/>
                      </a:lnTo>
                      <a:lnTo>
                        <a:pt x="110" y="735"/>
                      </a:lnTo>
                      <a:lnTo>
                        <a:pt x="122" y="746"/>
                      </a:lnTo>
                      <a:lnTo>
                        <a:pt x="135" y="750"/>
                      </a:lnTo>
                      <a:lnTo>
                        <a:pt x="151" y="742"/>
                      </a:lnTo>
                      <a:lnTo>
                        <a:pt x="161" y="726"/>
                      </a:lnTo>
                      <a:lnTo>
                        <a:pt x="278" y="58"/>
                      </a:lnTo>
                      <a:lnTo>
                        <a:pt x="281" y="41"/>
                      </a:lnTo>
                      <a:lnTo>
                        <a:pt x="283" y="27"/>
                      </a:lnTo>
                      <a:lnTo>
                        <a:pt x="287" y="16"/>
                      </a:lnTo>
                      <a:lnTo>
                        <a:pt x="297" y="7"/>
                      </a:lnTo>
                      <a:lnTo>
                        <a:pt x="309" y="0"/>
                      </a:lnTo>
                    </a:path>
                  </a:pathLst>
                </a:custGeom>
                <a:noFill/>
                <a:ln w="14400">
                  <a:solidFill>
                    <a:srgbClr val="cce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616680" y="1992960"/>
                  <a:ext cx="148320" cy="374760"/>
                </a:xfrm>
                <a:custGeom>
                  <a:avLst/>
                  <a:gdLst/>
                  <a:ahLst/>
                  <a:rect l="l" t="t" r="r" b="b"/>
                  <a:pathLst>
                    <a:path w="320" h="752">
                      <a:moveTo>
                        <a:pt x="0" y="0"/>
                      </a:moveTo>
                      <a:lnTo>
                        <a:pt x="17" y="5"/>
                      </a:lnTo>
                      <a:lnTo>
                        <a:pt x="31" y="19"/>
                      </a:lnTo>
                      <a:lnTo>
                        <a:pt x="35" y="36"/>
                      </a:lnTo>
                      <a:lnTo>
                        <a:pt x="39" y="63"/>
                      </a:lnTo>
                      <a:lnTo>
                        <a:pt x="107" y="692"/>
                      </a:lnTo>
                      <a:lnTo>
                        <a:pt x="115" y="728"/>
                      </a:lnTo>
                      <a:lnTo>
                        <a:pt x="121" y="737"/>
                      </a:lnTo>
                      <a:lnTo>
                        <a:pt x="133" y="748"/>
                      </a:lnTo>
                      <a:lnTo>
                        <a:pt x="147" y="752"/>
                      </a:lnTo>
                      <a:lnTo>
                        <a:pt x="162" y="744"/>
                      </a:lnTo>
                      <a:lnTo>
                        <a:pt x="171" y="728"/>
                      </a:lnTo>
                      <a:lnTo>
                        <a:pt x="289" y="59"/>
                      </a:lnTo>
                      <a:lnTo>
                        <a:pt x="292" y="42"/>
                      </a:lnTo>
                      <a:lnTo>
                        <a:pt x="295" y="28"/>
                      </a:lnTo>
                      <a:lnTo>
                        <a:pt x="299" y="17"/>
                      </a:lnTo>
                      <a:lnTo>
                        <a:pt x="308" y="5"/>
                      </a:lnTo>
                      <a:lnTo>
                        <a:pt x="320" y="4"/>
                      </a:lnTo>
                    </a:path>
                  </a:pathLst>
                </a:custGeom>
                <a:noFill/>
                <a:ln w="14400">
                  <a:solidFill>
                    <a:srgbClr val="cce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772560" y="1991880"/>
                  <a:ext cx="143640" cy="372600"/>
                </a:xfrm>
                <a:custGeom>
                  <a:avLst/>
                  <a:gdLst/>
                  <a:ahLst/>
                  <a:rect l="l" t="t" r="r" b="b"/>
                  <a:pathLst>
                    <a:path w="310" h="749">
                      <a:moveTo>
                        <a:pt x="0" y="1"/>
                      </a:moveTo>
                      <a:lnTo>
                        <a:pt x="10" y="5"/>
                      </a:lnTo>
                      <a:lnTo>
                        <a:pt x="20" y="19"/>
                      </a:lnTo>
                      <a:lnTo>
                        <a:pt x="25" y="33"/>
                      </a:lnTo>
                      <a:lnTo>
                        <a:pt x="28" y="61"/>
                      </a:lnTo>
                      <a:lnTo>
                        <a:pt x="97" y="690"/>
                      </a:lnTo>
                      <a:lnTo>
                        <a:pt x="103" y="724"/>
                      </a:lnTo>
                      <a:lnTo>
                        <a:pt x="111" y="735"/>
                      </a:lnTo>
                      <a:lnTo>
                        <a:pt x="123" y="746"/>
                      </a:lnTo>
                      <a:lnTo>
                        <a:pt x="135" y="749"/>
                      </a:lnTo>
                      <a:lnTo>
                        <a:pt x="151" y="740"/>
                      </a:lnTo>
                      <a:lnTo>
                        <a:pt x="161" y="724"/>
                      </a:lnTo>
                      <a:lnTo>
                        <a:pt x="279" y="58"/>
                      </a:lnTo>
                      <a:lnTo>
                        <a:pt x="282" y="40"/>
                      </a:lnTo>
                      <a:lnTo>
                        <a:pt x="284" y="26"/>
                      </a:lnTo>
                      <a:lnTo>
                        <a:pt x="289" y="15"/>
                      </a:lnTo>
                      <a:lnTo>
                        <a:pt x="298" y="6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4400">
                  <a:solidFill>
                    <a:srgbClr val="cce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916560" y="1991880"/>
                  <a:ext cx="148320" cy="372600"/>
                </a:xfrm>
                <a:custGeom>
                  <a:avLst/>
                  <a:gdLst/>
                  <a:ahLst/>
                  <a:rect l="l" t="t" r="r" b="b"/>
                  <a:pathLst>
                    <a:path w="319" h="750">
                      <a:moveTo>
                        <a:pt x="0" y="0"/>
                      </a:moveTo>
                      <a:lnTo>
                        <a:pt x="17" y="3"/>
                      </a:lnTo>
                      <a:lnTo>
                        <a:pt x="31" y="17"/>
                      </a:lnTo>
                      <a:lnTo>
                        <a:pt x="35" y="35"/>
                      </a:lnTo>
                      <a:lnTo>
                        <a:pt x="39" y="62"/>
                      </a:lnTo>
                      <a:lnTo>
                        <a:pt x="108" y="691"/>
                      </a:lnTo>
                      <a:lnTo>
                        <a:pt x="115" y="725"/>
                      </a:lnTo>
                      <a:lnTo>
                        <a:pt x="120" y="736"/>
                      </a:lnTo>
                      <a:lnTo>
                        <a:pt x="133" y="747"/>
                      </a:lnTo>
                      <a:lnTo>
                        <a:pt x="146" y="750"/>
                      </a:lnTo>
                      <a:lnTo>
                        <a:pt x="162" y="741"/>
                      </a:lnTo>
                      <a:lnTo>
                        <a:pt x="171" y="725"/>
                      </a:lnTo>
                      <a:lnTo>
                        <a:pt x="288" y="59"/>
                      </a:lnTo>
                      <a:lnTo>
                        <a:pt x="292" y="41"/>
                      </a:lnTo>
                      <a:lnTo>
                        <a:pt x="294" y="27"/>
                      </a:lnTo>
                      <a:lnTo>
                        <a:pt x="298" y="16"/>
                      </a:lnTo>
                      <a:lnTo>
                        <a:pt x="308" y="3"/>
                      </a:lnTo>
                      <a:lnTo>
                        <a:pt x="319" y="3"/>
                      </a:lnTo>
                    </a:path>
                  </a:pathLst>
                </a:custGeom>
                <a:noFill/>
                <a:ln w="14400">
                  <a:solidFill>
                    <a:srgbClr val="cce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068840" y="1991880"/>
                  <a:ext cx="143640" cy="372600"/>
                </a:xfrm>
                <a:custGeom>
                  <a:avLst/>
                  <a:gdLst/>
                  <a:ahLst/>
                  <a:rect l="l" t="t" r="r" b="b"/>
                  <a:pathLst>
                    <a:path w="309" h="749">
                      <a:moveTo>
                        <a:pt x="0" y="1"/>
                      </a:moveTo>
                      <a:lnTo>
                        <a:pt x="9" y="5"/>
                      </a:lnTo>
                      <a:lnTo>
                        <a:pt x="20" y="19"/>
                      </a:lnTo>
                      <a:lnTo>
                        <a:pt x="23" y="33"/>
                      </a:lnTo>
                      <a:lnTo>
                        <a:pt x="28" y="61"/>
                      </a:lnTo>
                      <a:lnTo>
                        <a:pt x="97" y="690"/>
                      </a:lnTo>
                      <a:lnTo>
                        <a:pt x="103" y="724"/>
                      </a:lnTo>
                      <a:lnTo>
                        <a:pt x="110" y="735"/>
                      </a:lnTo>
                      <a:lnTo>
                        <a:pt x="122" y="746"/>
                      </a:lnTo>
                      <a:lnTo>
                        <a:pt x="135" y="749"/>
                      </a:lnTo>
                      <a:lnTo>
                        <a:pt x="151" y="740"/>
                      </a:lnTo>
                      <a:lnTo>
                        <a:pt x="161" y="724"/>
                      </a:lnTo>
                      <a:lnTo>
                        <a:pt x="278" y="58"/>
                      </a:lnTo>
                      <a:lnTo>
                        <a:pt x="281" y="40"/>
                      </a:lnTo>
                      <a:lnTo>
                        <a:pt x="283" y="26"/>
                      </a:lnTo>
                      <a:lnTo>
                        <a:pt x="287" y="15"/>
                      </a:lnTo>
                      <a:lnTo>
                        <a:pt x="297" y="6"/>
                      </a:lnTo>
                      <a:lnTo>
                        <a:pt x="309" y="0"/>
                      </a:lnTo>
                    </a:path>
                  </a:pathLst>
                </a:custGeom>
                <a:noFill/>
                <a:ln w="14400">
                  <a:solidFill>
                    <a:srgbClr val="cce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212480" y="1991880"/>
                  <a:ext cx="148320" cy="372600"/>
                </a:xfrm>
                <a:custGeom>
                  <a:avLst/>
                  <a:gdLst/>
                  <a:ahLst/>
                  <a:rect l="l" t="t" r="r" b="b"/>
                  <a:pathLst>
                    <a:path w="319" h="750">
                      <a:moveTo>
                        <a:pt x="0" y="0"/>
                      </a:moveTo>
                      <a:lnTo>
                        <a:pt x="17" y="3"/>
                      </a:lnTo>
                      <a:lnTo>
                        <a:pt x="31" y="17"/>
                      </a:lnTo>
                      <a:lnTo>
                        <a:pt x="35" y="35"/>
                      </a:lnTo>
                      <a:lnTo>
                        <a:pt x="39" y="62"/>
                      </a:lnTo>
                      <a:lnTo>
                        <a:pt x="107" y="691"/>
                      </a:lnTo>
                      <a:lnTo>
                        <a:pt x="115" y="725"/>
                      </a:lnTo>
                      <a:lnTo>
                        <a:pt x="120" y="736"/>
                      </a:lnTo>
                      <a:lnTo>
                        <a:pt x="133" y="747"/>
                      </a:lnTo>
                      <a:lnTo>
                        <a:pt x="146" y="750"/>
                      </a:lnTo>
                      <a:lnTo>
                        <a:pt x="161" y="741"/>
                      </a:lnTo>
                      <a:lnTo>
                        <a:pt x="171" y="725"/>
                      </a:lnTo>
                      <a:lnTo>
                        <a:pt x="288" y="59"/>
                      </a:lnTo>
                      <a:lnTo>
                        <a:pt x="291" y="41"/>
                      </a:lnTo>
                      <a:lnTo>
                        <a:pt x="293" y="27"/>
                      </a:lnTo>
                      <a:lnTo>
                        <a:pt x="298" y="16"/>
                      </a:lnTo>
                      <a:lnTo>
                        <a:pt x="307" y="3"/>
                      </a:lnTo>
                      <a:lnTo>
                        <a:pt x="319" y="3"/>
                      </a:lnTo>
                    </a:path>
                  </a:pathLst>
                </a:custGeom>
                <a:noFill/>
                <a:ln w="14400">
                  <a:solidFill>
                    <a:srgbClr val="cce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367280" y="1990080"/>
                  <a:ext cx="143640" cy="373320"/>
                </a:xfrm>
                <a:custGeom>
                  <a:avLst/>
                  <a:gdLst/>
                  <a:ahLst/>
                  <a:rect l="l" t="t" r="r" b="b"/>
                  <a:pathLst>
                    <a:path w="310" h="751">
                      <a:moveTo>
                        <a:pt x="0" y="3"/>
                      </a:moveTo>
                      <a:lnTo>
                        <a:pt x="9" y="5"/>
                      </a:lnTo>
                      <a:lnTo>
                        <a:pt x="21" y="19"/>
                      </a:lnTo>
                      <a:lnTo>
                        <a:pt x="23" y="34"/>
                      </a:lnTo>
                      <a:lnTo>
                        <a:pt x="29" y="62"/>
                      </a:lnTo>
                      <a:lnTo>
                        <a:pt x="98" y="690"/>
                      </a:lnTo>
                      <a:lnTo>
                        <a:pt x="104" y="725"/>
                      </a:lnTo>
                      <a:lnTo>
                        <a:pt x="110" y="736"/>
                      </a:lnTo>
                      <a:lnTo>
                        <a:pt x="123" y="746"/>
                      </a:lnTo>
                      <a:lnTo>
                        <a:pt x="135" y="751"/>
                      </a:lnTo>
                      <a:lnTo>
                        <a:pt x="151" y="742"/>
                      </a:lnTo>
                      <a:lnTo>
                        <a:pt x="161" y="725"/>
                      </a:lnTo>
                      <a:lnTo>
                        <a:pt x="278" y="57"/>
                      </a:lnTo>
                      <a:lnTo>
                        <a:pt x="281" y="40"/>
                      </a:lnTo>
                      <a:lnTo>
                        <a:pt x="284" y="26"/>
                      </a:lnTo>
                      <a:lnTo>
                        <a:pt x="287" y="15"/>
                      </a:lnTo>
                      <a:lnTo>
                        <a:pt x="297" y="5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4400">
                  <a:solidFill>
                    <a:srgbClr val="cce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511280" y="1989000"/>
                  <a:ext cx="149400" cy="374760"/>
                </a:xfrm>
                <a:custGeom>
                  <a:avLst/>
                  <a:gdLst/>
                  <a:ahLst/>
                  <a:rect l="l" t="t" r="r" b="b"/>
                  <a:pathLst>
                    <a:path w="321" h="752">
                      <a:moveTo>
                        <a:pt x="0" y="0"/>
                      </a:moveTo>
                      <a:lnTo>
                        <a:pt x="18" y="4"/>
                      </a:lnTo>
                      <a:lnTo>
                        <a:pt x="31" y="17"/>
                      </a:lnTo>
                      <a:lnTo>
                        <a:pt x="35" y="35"/>
                      </a:lnTo>
                      <a:lnTo>
                        <a:pt x="39" y="63"/>
                      </a:lnTo>
                      <a:lnTo>
                        <a:pt x="109" y="691"/>
                      </a:lnTo>
                      <a:lnTo>
                        <a:pt x="115" y="726"/>
                      </a:lnTo>
                      <a:lnTo>
                        <a:pt x="121" y="737"/>
                      </a:lnTo>
                      <a:lnTo>
                        <a:pt x="134" y="747"/>
                      </a:lnTo>
                      <a:lnTo>
                        <a:pt x="146" y="752"/>
                      </a:lnTo>
                      <a:lnTo>
                        <a:pt x="161" y="743"/>
                      </a:lnTo>
                      <a:lnTo>
                        <a:pt x="171" y="726"/>
                      </a:lnTo>
                      <a:lnTo>
                        <a:pt x="290" y="58"/>
                      </a:lnTo>
                      <a:lnTo>
                        <a:pt x="292" y="41"/>
                      </a:lnTo>
                      <a:lnTo>
                        <a:pt x="296" y="27"/>
                      </a:lnTo>
                      <a:lnTo>
                        <a:pt x="299" y="16"/>
                      </a:lnTo>
                      <a:lnTo>
                        <a:pt x="308" y="4"/>
                      </a:lnTo>
                      <a:lnTo>
                        <a:pt x="321" y="3"/>
                      </a:lnTo>
                    </a:path>
                  </a:pathLst>
                </a:custGeom>
                <a:noFill/>
                <a:ln w="14400">
                  <a:solidFill>
                    <a:srgbClr val="cce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663560" y="1990080"/>
                  <a:ext cx="143640" cy="373320"/>
                </a:xfrm>
                <a:custGeom>
                  <a:avLst/>
                  <a:gdLst/>
                  <a:ahLst/>
                  <a:rect l="l" t="t" r="r" b="b"/>
                  <a:pathLst>
                    <a:path w="310" h="751">
                      <a:moveTo>
                        <a:pt x="0" y="3"/>
                      </a:moveTo>
                      <a:lnTo>
                        <a:pt x="9" y="5"/>
                      </a:lnTo>
                      <a:lnTo>
                        <a:pt x="21" y="19"/>
                      </a:lnTo>
                      <a:lnTo>
                        <a:pt x="24" y="34"/>
                      </a:lnTo>
                      <a:lnTo>
                        <a:pt x="28" y="62"/>
                      </a:lnTo>
                      <a:lnTo>
                        <a:pt x="97" y="690"/>
                      </a:lnTo>
                      <a:lnTo>
                        <a:pt x="104" y="725"/>
                      </a:lnTo>
                      <a:lnTo>
                        <a:pt x="110" y="736"/>
                      </a:lnTo>
                      <a:lnTo>
                        <a:pt x="123" y="746"/>
                      </a:lnTo>
                      <a:lnTo>
                        <a:pt x="135" y="751"/>
                      </a:lnTo>
                      <a:lnTo>
                        <a:pt x="151" y="742"/>
                      </a:lnTo>
                      <a:lnTo>
                        <a:pt x="160" y="725"/>
                      </a:lnTo>
                      <a:lnTo>
                        <a:pt x="278" y="57"/>
                      </a:lnTo>
                      <a:lnTo>
                        <a:pt x="282" y="40"/>
                      </a:lnTo>
                      <a:lnTo>
                        <a:pt x="285" y="26"/>
                      </a:lnTo>
                      <a:lnTo>
                        <a:pt x="288" y="15"/>
                      </a:lnTo>
                      <a:lnTo>
                        <a:pt x="298" y="5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4400">
                  <a:solidFill>
                    <a:srgbClr val="cce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807560" y="1989000"/>
                  <a:ext cx="100080" cy="374760"/>
                </a:xfrm>
                <a:custGeom>
                  <a:avLst/>
                  <a:gdLst/>
                  <a:ahLst/>
                  <a:rect l="l" t="t" r="r" b="b"/>
                  <a:pathLst>
                    <a:path w="217" h="752">
                      <a:moveTo>
                        <a:pt x="0" y="0"/>
                      </a:moveTo>
                      <a:lnTo>
                        <a:pt x="18" y="4"/>
                      </a:lnTo>
                      <a:lnTo>
                        <a:pt x="31" y="17"/>
                      </a:lnTo>
                      <a:lnTo>
                        <a:pt x="36" y="35"/>
                      </a:lnTo>
                      <a:lnTo>
                        <a:pt x="40" y="63"/>
                      </a:lnTo>
                      <a:lnTo>
                        <a:pt x="109" y="691"/>
                      </a:lnTo>
                      <a:lnTo>
                        <a:pt x="115" y="726"/>
                      </a:lnTo>
                      <a:lnTo>
                        <a:pt x="121" y="737"/>
                      </a:lnTo>
                      <a:lnTo>
                        <a:pt x="135" y="747"/>
                      </a:lnTo>
                      <a:lnTo>
                        <a:pt x="146" y="752"/>
                      </a:lnTo>
                      <a:lnTo>
                        <a:pt x="161" y="743"/>
                      </a:lnTo>
                      <a:lnTo>
                        <a:pt x="171" y="726"/>
                      </a:lnTo>
                      <a:lnTo>
                        <a:pt x="217" y="403"/>
                      </a:lnTo>
                    </a:path>
                  </a:pathLst>
                </a:custGeom>
                <a:noFill/>
                <a:ln w="14400">
                  <a:solidFill>
                    <a:srgbClr val="cce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9" name=""/>
            <p:cNvSpPr/>
            <p:nvPr/>
          </p:nvSpPr>
          <p:spPr>
            <a:xfrm>
              <a:off x="179280" y="2174400"/>
              <a:ext cx="1800360" cy="1080"/>
            </a:xfrm>
            <a:prstGeom prst="line">
              <a:avLst/>
            </a:prstGeom>
            <a:ln w="14400">
              <a:solidFill>
                <a:srgbClr val="3f00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129240" y="4214880"/>
            <a:ext cx="2445120" cy="799920"/>
            <a:chOff x="129240" y="4214880"/>
            <a:chExt cx="2445120" cy="799920"/>
          </a:xfrm>
        </p:grpSpPr>
        <p:grpSp>
          <p:nvGrpSpPr>
            <p:cNvPr id="151" name=""/>
            <p:cNvGrpSpPr/>
            <p:nvPr/>
          </p:nvGrpSpPr>
          <p:grpSpPr>
            <a:xfrm>
              <a:off x="250920" y="4507560"/>
              <a:ext cx="2304720" cy="216720"/>
              <a:chOff x="250920" y="4507560"/>
              <a:chExt cx="2304720" cy="216720"/>
            </a:xfrm>
          </p:grpSpPr>
          <p:grpSp>
            <p:nvGrpSpPr>
              <p:cNvPr id="152" name=""/>
              <p:cNvGrpSpPr/>
              <p:nvPr/>
            </p:nvGrpSpPr>
            <p:grpSpPr>
              <a:xfrm>
                <a:off x="250920" y="4507560"/>
                <a:ext cx="1152000" cy="216720"/>
                <a:chOff x="250920" y="4507560"/>
                <a:chExt cx="1152000" cy="216720"/>
              </a:xfrm>
            </p:grpSpPr>
            <p:cxnSp>
              <p:nvCxnSpPr>
                <p:cNvPr id="153" name=""/>
                <p:cNvCxnSpPr/>
                <p:nvPr/>
              </p:nvCxnSpPr>
              <p:spPr>
                <a:xfrm flipV="1" rot="10800000">
                  <a:off x="250920" y="4507560"/>
                  <a:ext cx="576360" cy="216360"/>
                </a:xfrm>
                <a:prstGeom prst="bentConnector3">
                  <a:avLst>
                    <a:gd name="adj1" fmla="val 49875"/>
                  </a:avLst>
                </a:prstGeom>
                <a:ln w="936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54" name=""/>
                <p:cNvCxnSpPr/>
                <p:nvPr/>
              </p:nvCxnSpPr>
              <p:spPr>
                <a:xfrm flipV="1" rot="10800000">
                  <a:off x="826200" y="4507560"/>
                  <a:ext cx="577080" cy="216360"/>
                </a:xfrm>
                <a:prstGeom prst="bentConnector3">
                  <a:avLst>
                    <a:gd name="adj1" fmla="val 49812"/>
                  </a:avLst>
                </a:prstGeom>
                <a:ln w="936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55" name=""/>
                <p:cNvCxnSpPr/>
                <p:nvPr/>
              </p:nvCxnSpPr>
              <p:spPr>
                <a:xfrm>
                  <a:off x="826560" y="4508280"/>
                  <a:ext cx="1080" cy="216360"/>
                </a:xfrm>
                <a:prstGeom prst="straightConnector1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</p:cxnSp>
          </p:grpSp>
          <p:grpSp>
            <p:nvGrpSpPr>
              <p:cNvPr id="156" name=""/>
              <p:cNvGrpSpPr/>
              <p:nvPr/>
            </p:nvGrpSpPr>
            <p:grpSpPr>
              <a:xfrm>
                <a:off x="1403280" y="4507560"/>
                <a:ext cx="1152360" cy="216720"/>
                <a:chOff x="1403280" y="4507560"/>
                <a:chExt cx="1152360" cy="216720"/>
              </a:xfrm>
            </p:grpSpPr>
            <p:grpSp>
              <p:nvGrpSpPr>
                <p:cNvPr id="157" name=""/>
                <p:cNvGrpSpPr/>
                <p:nvPr/>
              </p:nvGrpSpPr>
              <p:grpSpPr>
                <a:xfrm>
                  <a:off x="1403640" y="4507560"/>
                  <a:ext cx="1152000" cy="216720"/>
                  <a:chOff x="1403640" y="4507560"/>
                  <a:chExt cx="1152000" cy="216720"/>
                </a:xfrm>
              </p:grpSpPr>
              <p:cxnSp>
                <p:nvCxnSpPr>
                  <p:cNvPr id="158" name=""/>
                  <p:cNvCxnSpPr/>
                  <p:nvPr/>
                </p:nvCxnSpPr>
                <p:spPr>
                  <a:xfrm flipV="1" rot="10800000">
                    <a:off x="1403640" y="4507560"/>
                    <a:ext cx="576360" cy="216360"/>
                  </a:xfrm>
                  <a:prstGeom prst="bentConnector3">
                    <a:avLst>
                      <a:gd name="adj1" fmla="val 49875"/>
                    </a:avLst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cxnSp>
              <p:cxnSp>
                <p:nvCxnSpPr>
                  <p:cNvPr id="159" name=""/>
                  <p:cNvCxnSpPr/>
                  <p:nvPr/>
                </p:nvCxnSpPr>
                <p:spPr>
                  <a:xfrm flipV="1" rot="10800000">
                    <a:off x="1978920" y="4507560"/>
                    <a:ext cx="577080" cy="216360"/>
                  </a:xfrm>
                  <a:prstGeom prst="bentConnector3">
                    <a:avLst>
                      <a:gd name="adj1" fmla="val 49812"/>
                    </a:avLst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cxnSp>
              <p:cxnSp>
                <p:nvCxnSpPr>
                  <p:cNvPr id="160" name=""/>
                  <p:cNvCxnSpPr/>
                  <p:nvPr/>
                </p:nvCxnSpPr>
                <p:spPr>
                  <a:xfrm>
                    <a:off x="1979280" y="4508280"/>
                    <a:ext cx="1080" cy="216360"/>
                  </a:xfrm>
                  <a:prstGeom prst="straightConnector1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cxnSp>
            </p:grpSp>
            <p:cxnSp>
              <p:nvCxnSpPr>
                <p:cNvPr id="161" name=""/>
                <p:cNvCxnSpPr/>
                <p:nvPr/>
              </p:nvCxnSpPr>
              <p:spPr>
                <a:xfrm>
                  <a:off x="1403280" y="4508280"/>
                  <a:ext cx="1080" cy="216360"/>
                </a:xfrm>
                <a:prstGeom prst="straightConnector1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</p:cxnSp>
          </p:grpSp>
        </p:grpSp>
        <p:sp>
          <p:nvSpPr>
            <p:cNvPr id="162" name=""/>
            <p:cNvSpPr/>
            <p:nvPr/>
          </p:nvSpPr>
          <p:spPr>
            <a:xfrm>
              <a:off x="129240" y="4646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962720" y="4646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25840" y="4646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386360" y="4646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38560" y="4214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92360" y="421488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267280" y="4214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14920" y="4214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676160" y="162864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372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لكي تنتقل البيانات من حاسب إلى آخر عن طريق خط هاتفي يجب أن تحول هذه البيانات الخارجة من الحاسبات المرسل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sending comput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 من صورتها الرقمية إلى الشكل التناظري ومن ثم يعاد تحويلها من صورتها التناظرية إلى صورتها الرقمية في الحاسبات المستقبلة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7240" indent="-23724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هذه العملية تسمى تعديل الإشارات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Traditional Arabic"/>
              </a:rPr>
              <a:t>M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dul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 كاشف التعديل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Traditional Arabic"/>
              </a:rPr>
              <a:t>De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odulation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 ، و منها التسمية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MOD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72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Arial"/>
                <a:cs typeface="Traditional Arabic"/>
              </a:rPr>
              <a:t>تعديل الإشارة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raditional Arabic"/>
              </a:rPr>
              <a:t>Modulation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raditional Arab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7240" indent="-23724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يقوم بتحويل وتعديل الإشارات الرقمية إلى أشكال تناظرية لكي يمكن إرسال البيانات عبر خطوات الهات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72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Arial"/>
                <a:cs typeface="Traditional Arabic"/>
              </a:rPr>
              <a:t>كاشف التعديل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raditional Arabic"/>
              </a:rPr>
              <a:t>Demodulation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raditional Arab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7240" indent="-23724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يقوم بتحويل الإشارات التناظرية مرةً أخرى إلى أشكال رقمية لكي يتمكن استقبالها ومعالجتها بواسطة الحاسب المستقبل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900" spc="-1" strike="noStrike">
                <a:solidFill>
                  <a:srgbClr val="ffffff"/>
                </a:solidFill>
                <a:latin typeface="Arial"/>
              </a:rPr>
              <a:t> انتقال البيانات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115640" y="907920"/>
            <a:ext cx="728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هناك جهاز يقوم بهذه المهمة يعرف بالمودم أي المعدل /وكاشف التعديل وهو جهاز إضافي يتم تركبيه بمثابة حلقة وصل بين الحاسب الإلكتروني وبين شبكة الاتصالات العامة، وظيفته استقبال الإشارات الرقمية وإخراجها عن الطرف الآخر في الهيئة التناظر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حاسب المرسل يجب أن يكون موصل بمودوم "معدل كاشف التعديل" يقوم بتعديل الإشارات أو البيانات ، بينما يكون الحاسب المستقبل مرتبط بمودم " معدل /كاشف التعديل يقوم بكشف التعديل للبيانات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79280" y="4076640"/>
            <a:ext cx="8785440" cy="1009080"/>
            <a:chOff x="179280" y="4076640"/>
            <a:chExt cx="8785440" cy="1009080"/>
          </a:xfrm>
        </p:grpSpPr>
        <p:grpSp>
          <p:nvGrpSpPr>
            <p:cNvPr id="174" name=""/>
            <p:cNvGrpSpPr/>
            <p:nvPr/>
          </p:nvGrpSpPr>
          <p:grpSpPr>
            <a:xfrm>
              <a:off x="754560" y="4076640"/>
              <a:ext cx="1837800" cy="799920"/>
              <a:chOff x="754560" y="4076640"/>
              <a:chExt cx="1837800" cy="799920"/>
            </a:xfrm>
          </p:grpSpPr>
          <p:grpSp>
            <p:nvGrpSpPr>
              <p:cNvPr id="175" name=""/>
              <p:cNvGrpSpPr/>
              <p:nvPr/>
            </p:nvGrpSpPr>
            <p:grpSpPr>
              <a:xfrm>
                <a:off x="927720" y="4369320"/>
                <a:ext cx="1650600" cy="216720"/>
                <a:chOff x="927720" y="4369320"/>
                <a:chExt cx="1650600" cy="216720"/>
              </a:xfrm>
            </p:grpSpPr>
            <p:grpSp>
              <p:nvGrpSpPr>
                <p:cNvPr id="176" name=""/>
                <p:cNvGrpSpPr/>
                <p:nvPr/>
              </p:nvGrpSpPr>
              <p:grpSpPr>
                <a:xfrm>
                  <a:off x="927720" y="4369320"/>
                  <a:ext cx="825480" cy="216720"/>
                  <a:chOff x="927720" y="4369320"/>
                  <a:chExt cx="825480" cy="216720"/>
                </a:xfrm>
              </p:grpSpPr>
              <p:cxnSp>
                <p:nvCxnSpPr>
                  <p:cNvPr id="177" name=""/>
                  <p:cNvCxnSpPr/>
                  <p:nvPr/>
                </p:nvCxnSpPr>
                <p:spPr>
                  <a:xfrm flipV="1" rot="10800000">
                    <a:off x="927720" y="4369320"/>
                    <a:ext cx="412920" cy="216360"/>
                  </a:xfrm>
                  <a:prstGeom prst="bentConnector3">
                    <a:avLst>
                      <a:gd name="adj1" fmla="val 49825"/>
                    </a:avLst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cxnSp>
              <p:cxnSp>
                <p:nvCxnSpPr>
                  <p:cNvPr id="178" name=""/>
                  <p:cNvCxnSpPr/>
                  <p:nvPr/>
                </p:nvCxnSpPr>
                <p:spPr>
                  <a:xfrm flipV="1" rot="10800000">
                    <a:off x="1339920" y="4369320"/>
                    <a:ext cx="413280" cy="216360"/>
                  </a:xfrm>
                  <a:prstGeom prst="bentConnector3">
                    <a:avLst>
                      <a:gd name="adj1" fmla="val 49782"/>
                    </a:avLst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cxnSp>
              <p:cxnSp>
                <p:nvCxnSpPr>
                  <p:cNvPr id="179" name=""/>
                  <p:cNvCxnSpPr/>
                  <p:nvPr/>
                </p:nvCxnSpPr>
                <p:spPr>
                  <a:xfrm>
                    <a:off x="1340280" y="4370040"/>
                    <a:ext cx="1080" cy="216360"/>
                  </a:xfrm>
                  <a:prstGeom prst="straightConnector1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cxnSp>
            </p:grpSp>
            <p:grpSp>
              <p:nvGrpSpPr>
                <p:cNvPr id="180" name=""/>
                <p:cNvGrpSpPr/>
                <p:nvPr/>
              </p:nvGrpSpPr>
              <p:grpSpPr>
                <a:xfrm>
                  <a:off x="1752840" y="4369320"/>
                  <a:ext cx="825480" cy="216720"/>
                  <a:chOff x="1752840" y="4369320"/>
                  <a:chExt cx="825480" cy="216720"/>
                </a:xfrm>
              </p:grpSpPr>
              <p:grpSp>
                <p:nvGrpSpPr>
                  <p:cNvPr id="181" name=""/>
                  <p:cNvGrpSpPr/>
                  <p:nvPr/>
                </p:nvGrpSpPr>
                <p:grpSpPr>
                  <a:xfrm>
                    <a:off x="1752840" y="4369320"/>
                    <a:ext cx="825480" cy="216720"/>
                    <a:chOff x="1752840" y="4369320"/>
                    <a:chExt cx="825480" cy="216720"/>
                  </a:xfrm>
                </p:grpSpPr>
                <p:cxnSp>
                  <p:nvCxnSpPr>
                    <p:cNvPr id="182" name=""/>
                    <p:cNvCxnSpPr/>
                    <p:nvPr/>
                  </p:nvCxnSpPr>
                  <p:spPr>
                    <a:xfrm flipV="1" rot="10800000">
                      <a:off x="1752840" y="4369320"/>
                      <a:ext cx="412920" cy="216360"/>
                    </a:xfrm>
                    <a:prstGeom prst="bentConnector3">
                      <a:avLst>
                        <a:gd name="adj1" fmla="val 49825"/>
                      </a:avLst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cxnSp>
                <p:cxnSp>
                  <p:nvCxnSpPr>
                    <p:cNvPr id="183" name=""/>
                    <p:cNvCxnSpPr/>
                    <p:nvPr/>
                  </p:nvCxnSpPr>
                  <p:spPr>
                    <a:xfrm flipV="1" rot="10800000">
                      <a:off x="2165040" y="4369320"/>
                      <a:ext cx="413280" cy="216360"/>
                    </a:xfrm>
                    <a:prstGeom prst="bentConnector3">
                      <a:avLst>
                        <a:gd name="adj1" fmla="val 49782"/>
                      </a:avLst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cxnSp>
                <p:cxnSp>
                  <p:nvCxnSpPr>
                    <p:cNvPr id="184" name=""/>
                    <p:cNvCxnSpPr/>
                    <p:nvPr/>
                  </p:nvCxnSpPr>
                  <p:spPr>
                    <a:xfrm>
                      <a:off x="2165400" y="4370040"/>
                      <a:ext cx="1080" cy="216360"/>
                    </a:xfrm>
                    <a:prstGeom prst="straightConnector1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cxnSp>
              </p:grpSp>
              <p:cxnSp>
                <p:nvCxnSpPr>
                  <p:cNvPr id="185" name=""/>
                  <p:cNvCxnSpPr/>
                  <p:nvPr/>
                </p:nvCxnSpPr>
                <p:spPr>
                  <a:xfrm>
                    <a:off x="1753200" y="4370040"/>
                    <a:ext cx="1080" cy="216360"/>
                  </a:xfrm>
                  <a:prstGeom prst="straightConnector1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cxnSp>
            </p:grpSp>
          </p:grpSp>
          <p:sp>
            <p:nvSpPr>
              <p:cNvPr id="186" name=""/>
              <p:cNvSpPr/>
              <p:nvPr/>
            </p:nvSpPr>
            <p:spPr>
              <a:xfrm>
                <a:off x="754560" y="45082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067480" y="45082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251720" y="45082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654560" y="45082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046520" y="40766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960200" y="4076640"/>
                <a:ext cx="217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285280" y="40766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459440" y="40766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6336000" y="4286160"/>
              <a:ext cx="1837440" cy="799560"/>
              <a:chOff x="6336000" y="4286160"/>
              <a:chExt cx="1837440" cy="799560"/>
            </a:xfrm>
          </p:grpSpPr>
          <p:grpSp>
            <p:nvGrpSpPr>
              <p:cNvPr id="195" name=""/>
              <p:cNvGrpSpPr/>
              <p:nvPr/>
            </p:nvGrpSpPr>
            <p:grpSpPr>
              <a:xfrm>
                <a:off x="6509520" y="4579560"/>
                <a:ext cx="1649160" cy="215640"/>
                <a:chOff x="6509520" y="4579560"/>
                <a:chExt cx="1649160" cy="215640"/>
              </a:xfrm>
            </p:grpSpPr>
            <p:grpSp>
              <p:nvGrpSpPr>
                <p:cNvPr id="196" name=""/>
                <p:cNvGrpSpPr/>
                <p:nvPr/>
              </p:nvGrpSpPr>
              <p:grpSpPr>
                <a:xfrm>
                  <a:off x="6509520" y="4579560"/>
                  <a:ext cx="825480" cy="215640"/>
                  <a:chOff x="6509520" y="4579560"/>
                  <a:chExt cx="825480" cy="215640"/>
                </a:xfrm>
              </p:grpSpPr>
              <p:cxnSp>
                <p:nvCxnSpPr>
                  <p:cNvPr id="197" name=""/>
                  <p:cNvCxnSpPr/>
                  <p:nvPr/>
                </p:nvCxnSpPr>
                <p:spPr>
                  <a:xfrm flipV="1" rot="10800000">
                    <a:off x="6509520" y="4579200"/>
                    <a:ext cx="412920" cy="216000"/>
                  </a:xfrm>
                  <a:prstGeom prst="bentConnector3">
                    <a:avLst>
                      <a:gd name="adj1" fmla="val 49825"/>
                    </a:avLst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cxnSp>
              <p:cxnSp>
                <p:nvCxnSpPr>
                  <p:cNvPr id="198" name=""/>
                  <p:cNvCxnSpPr/>
                  <p:nvPr/>
                </p:nvCxnSpPr>
                <p:spPr>
                  <a:xfrm flipV="1" rot="10800000">
                    <a:off x="6921720" y="4579200"/>
                    <a:ext cx="413280" cy="216000"/>
                  </a:xfrm>
                  <a:prstGeom prst="bentConnector3">
                    <a:avLst>
                      <a:gd name="adj1" fmla="val 49782"/>
                    </a:avLst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cxnSp>
              <p:cxnSp>
                <p:nvCxnSpPr>
                  <p:cNvPr id="199" name=""/>
                  <p:cNvCxnSpPr/>
                  <p:nvPr/>
                </p:nvCxnSpPr>
                <p:spPr>
                  <a:xfrm>
                    <a:off x="6922080" y="4579560"/>
                    <a:ext cx="1080" cy="216000"/>
                  </a:xfrm>
                  <a:prstGeom prst="straightConnector1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cxn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7334640" y="4579560"/>
                  <a:ext cx="824040" cy="215640"/>
                  <a:chOff x="7334640" y="4579560"/>
                  <a:chExt cx="824040" cy="215640"/>
                </a:xfrm>
              </p:grpSpPr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7334640" y="4579560"/>
                    <a:ext cx="824040" cy="215640"/>
                    <a:chOff x="7334640" y="4579560"/>
                    <a:chExt cx="824040" cy="215640"/>
                  </a:xfrm>
                </p:grpSpPr>
                <p:cxnSp>
                  <p:nvCxnSpPr>
                    <p:cNvPr id="202" name=""/>
                    <p:cNvCxnSpPr/>
                    <p:nvPr/>
                  </p:nvCxnSpPr>
                  <p:spPr>
                    <a:xfrm flipV="1" rot="10800000">
                      <a:off x="7334280" y="4579200"/>
                      <a:ext cx="412560" cy="216000"/>
                    </a:xfrm>
                    <a:prstGeom prst="bentConnector3">
                      <a:avLst>
                        <a:gd name="adj1" fmla="val 49781"/>
                      </a:avLst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cxnSp>
                <p:cxnSp>
                  <p:nvCxnSpPr>
                    <p:cNvPr id="203" name=""/>
                    <p:cNvCxnSpPr/>
                    <p:nvPr/>
                  </p:nvCxnSpPr>
                  <p:spPr>
                    <a:xfrm flipV="1" rot="10800000">
                      <a:off x="7746120" y="4579200"/>
                      <a:ext cx="412920" cy="216000"/>
                    </a:xfrm>
                    <a:prstGeom prst="bentConnector3">
                      <a:avLst>
                        <a:gd name="adj1" fmla="val 49825"/>
                      </a:avLst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cxnSp>
                <p:cxnSp>
                  <p:nvCxnSpPr>
                    <p:cNvPr id="204" name=""/>
                    <p:cNvCxnSpPr/>
                    <p:nvPr/>
                  </p:nvCxnSpPr>
                  <p:spPr>
                    <a:xfrm>
                      <a:off x="7746480" y="4579560"/>
                      <a:ext cx="1080" cy="216000"/>
                    </a:xfrm>
                    <a:prstGeom prst="straightConnector1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cxnSp>
              </p:grpSp>
              <p:cxnSp>
                <p:nvCxnSpPr>
                  <p:cNvPr id="205" name=""/>
                  <p:cNvCxnSpPr/>
                  <p:nvPr/>
                </p:nvCxnSpPr>
                <p:spPr>
                  <a:xfrm>
                    <a:off x="7334640" y="4579560"/>
                    <a:ext cx="1080" cy="216000"/>
                  </a:xfrm>
                  <a:prstGeom prst="straightConnector1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cxnSp>
            </p:grpSp>
          </p:grpSp>
          <p:sp>
            <p:nvSpPr>
              <p:cNvPr id="206" name=""/>
              <p:cNvSpPr/>
              <p:nvPr/>
            </p:nvSpPr>
            <p:spPr>
              <a:xfrm>
                <a:off x="6336000" y="47174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648920" y="47174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833160" y="47174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235640" y="47174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627960" y="42861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541640" y="4286160"/>
                <a:ext cx="217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866360" y="42861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040880" y="42861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179280" y="4363920"/>
              <a:ext cx="792360" cy="431280"/>
            </a:xfrm>
            <a:prstGeom prst="rect">
              <a:avLst/>
            </a:prstGeom>
            <a:solidFill>
              <a:srgbClr val="0078f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ffffff"/>
                  </a:solidFill>
                  <a:latin typeface="Arial"/>
                  <a:cs typeface="Arial"/>
                </a:rPr>
                <a:t>حاسب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72360" y="4363920"/>
              <a:ext cx="792360" cy="431280"/>
            </a:xfrm>
            <a:prstGeom prst="rect">
              <a:avLst/>
            </a:prstGeom>
            <a:solidFill>
              <a:srgbClr val="0078f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ffffff"/>
                  </a:solidFill>
                  <a:latin typeface="Arial"/>
                  <a:cs typeface="Arial"/>
                </a:rPr>
                <a:t>حاسب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2556000" y="4363920"/>
              <a:ext cx="863640" cy="357840"/>
              <a:chOff x="2556000" y="4363920"/>
              <a:chExt cx="863640" cy="357840"/>
            </a:xfrm>
          </p:grpSpPr>
          <p:sp>
            <p:nvSpPr>
              <p:cNvPr id="217" name=""/>
              <p:cNvSpPr/>
              <p:nvPr/>
            </p:nvSpPr>
            <p:spPr>
              <a:xfrm>
                <a:off x="2700360" y="4363920"/>
                <a:ext cx="576360" cy="21528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800" spc="-1" strike="noStrike">
                    <a:solidFill>
                      <a:srgbClr val="ffffff"/>
                    </a:solidFill>
                    <a:latin typeface="Arial"/>
                    <a:cs typeface="Arial"/>
                  </a:rPr>
                  <a:t>مودم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556000" y="4579200"/>
                <a:ext cx="863640" cy="1425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5653080" y="4363920"/>
              <a:ext cx="863640" cy="357840"/>
              <a:chOff x="5653080" y="4363920"/>
              <a:chExt cx="863640" cy="357840"/>
            </a:xfrm>
          </p:grpSpPr>
          <p:sp>
            <p:nvSpPr>
              <p:cNvPr id="220" name=""/>
              <p:cNvSpPr/>
              <p:nvPr/>
            </p:nvSpPr>
            <p:spPr>
              <a:xfrm>
                <a:off x="5797440" y="4363920"/>
                <a:ext cx="576360" cy="21528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800" spc="-1" strike="noStrike">
                    <a:solidFill>
                      <a:srgbClr val="ffffff"/>
                    </a:solidFill>
                    <a:latin typeface="Arial"/>
                    <a:cs typeface="Arial"/>
                  </a:rPr>
                  <a:t>مودم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653080" y="4579200"/>
                <a:ext cx="863640" cy="1425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2556000" y="4363920"/>
              <a:ext cx="0" cy="215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6516720" y="4579200"/>
              <a:ext cx="0" cy="217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4" name=""/>
            <p:cNvGrpSpPr/>
            <p:nvPr/>
          </p:nvGrpSpPr>
          <p:grpSpPr>
            <a:xfrm>
              <a:off x="3276720" y="4389120"/>
              <a:ext cx="2447280" cy="379080"/>
              <a:chOff x="3276720" y="4389120"/>
              <a:chExt cx="2447280" cy="379080"/>
            </a:xfrm>
          </p:grpSpPr>
          <p:grpSp>
            <p:nvGrpSpPr>
              <p:cNvPr id="225" name=""/>
              <p:cNvGrpSpPr/>
              <p:nvPr/>
            </p:nvGrpSpPr>
            <p:grpSpPr>
              <a:xfrm>
                <a:off x="3417120" y="4389120"/>
                <a:ext cx="2208960" cy="379080"/>
                <a:chOff x="3417120" y="4389120"/>
                <a:chExt cx="2208960" cy="37908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3417120" y="4393800"/>
                  <a:ext cx="50040" cy="191520"/>
                </a:xfrm>
                <a:custGeom>
                  <a:avLst/>
                  <a:gdLst/>
                  <a:ahLst/>
                  <a:rect l="l" t="t" r="r" b="b"/>
                  <a:pathLst>
                    <a:path w="81" h="385">
                      <a:moveTo>
                        <a:pt x="0" y="385"/>
                      </a:moveTo>
                      <a:lnTo>
                        <a:pt x="50" y="58"/>
                      </a:lnTo>
                      <a:lnTo>
                        <a:pt x="53" y="41"/>
                      </a:lnTo>
                      <a:lnTo>
                        <a:pt x="55" y="27"/>
                      </a:lnTo>
                      <a:lnTo>
                        <a:pt x="60" y="16"/>
                      </a:lnTo>
                      <a:lnTo>
                        <a:pt x="69" y="7"/>
                      </a:lnTo>
                      <a:lnTo>
                        <a:pt x="81" y="0"/>
                      </a:lnTo>
                    </a:path>
                  </a:pathLst>
                </a:custGeom>
                <a:noFill/>
                <a:ln w="14400">
                  <a:solidFill>
                    <a:srgbClr val="cce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468600" y="4393080"/>
                  <a:ext cx="201960" cy="375120"/>
                </a:xfrm>
                <a:custGeom>
                  <a:avLst/>
                  <a:gdLst/>
                  <a:ahLst/>
                  <a:rect l="l" t="t" r="r" b="b"/>
                  <a:pathLst>
                    <a:path w="319" h="752">
                      <a:moveTo>
                        <a:pt x="0" y="0"/>
                      </a:moveTo>
                      <a:lnTo>
                        <a:pt x="17" y="5"/>
                      </a:lnTo>
                      <a:lnTo>
                        <a:pt x="31" y="19"/>
                      </a:lnTo>
                      <a:lnTo>
                        <a:pt x="35" y="36"/>
                      </a:lnTo>
                      <a:lnTo>
                        <a:pt x="39" y="63"/>
                      </a:lnTo>
                      <a:lnTo>
                        <a:pt x="108" y="692"/>
                      </a:lnTo>
                      <a:lnTo>
                        <a:pt x="115" y="728"/>
                      </a:lnTo>
                      <a:lnTo>
                        <a:pt x="120" y="737"/>
                      </a:lnTo>
                      <a:lnTo>
                        <a:pt x="133" y="748"/>
                      </a:lnTo>
                      <a:lnTo>
                        <a:pt x="146" y="752"/>
                      </a:lnTo>
                      <a:lnTo>
                        <a:pt x="162" y="744"/>
                      </a:lnTo>
                      <a:lnTo>
                        <a:pt x="171" y="728"/>
                      </a:lnTo>
                      <a:lnTo>
                        <a:pt x="289" y="59"/>
                      </a:lnTo>
                      <a:lnTo>
                        <a:pt x="292" y="42"/>
                      </a:lnTo>
                      <a:lnTo>
                        <a:pt x="294" y="28"/>
                      </a:lnTo>
                      <a:lnTo>
                        <a:pt x="298" y="17"/>
                      </a:lnTo>
                      <a:lnTo>
                        <a:pt x="308" y="5"/>
                      </a:lnTo>
                      <a:lnTo>
                        <a:pt x="319" y="4"/>
                      </a:lnTo>
                    </a:path>
                  </a:pathLst>
                </a:custGeom>
                <a:noFill/>
                <a:ln w="14400">
                  <a:solidFill>
                    <a:srgbClr val="cce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675600" y="4393800"/>
                  <a:ext cx="194040" cy="374040"/>
                </a:xfrm>
                <a:custGeom>
                  <a:avLst/>
                  <a:gdLst/>
                  <a:ahLst/>
                  <a:rect l="l" t="t" r="r" b="b"/>
                  <a:pathLst>
                    <a:path w="309" h="750">
                      <a:moveTo>
                        <a:pt x="0" y="4"/>
                      </a:moveTo>
                      <a:lnTo>
                        <a:pt x="10" y="6"/>
                      </a:lnTo>
                      <a:lnTo>
                        <a:pt x="20" y="20"/>
                      </a:lnTo>
                      <a:lnTo>
                        <a:pt x="23" y="36"/>
                      </a:lnTo>
                      <a:lnTo>
                        <a:pt x="28" y="62"/>
                      </a:lnTo>
                      <a:lnTo>
                        <a:pt x="97" y="690"/>
                      </a:lnTo>
                      <a:lnTo>
                        <a:pt x="103" y="726"/>
                      </a:lnTo>
                      <a:lnTo>
                        <a:pt x="110" y="735"/>
                      </a:lnTo>
                      <a:lnTo>
                        <a:pt x="122" y="746"/>
                      </a:lnTo>
                      <a:lnTo>
                        <a:pt x="135" y="750"/>
                      </a:lnTo>
                      <a:lnTo>
                        <a:pt x="151" y="742"/>
                      </a:lnTo>
                      <a:lnTo>
                        <a:pt x="161" y="726"/>
                      </a:lnTo>
                      <a:lnTo>
                        <a:pt x="278" y="58"/>
                      </a:lnTo>
                      <a:lnTo>
                        <a:pt x="281" y="41"/>
                      </a:lnTo>
                      <a:lnTo>
                        <a:pt x="283" y="27"/>
                      </a:lnTo>
                      <a:lnTo>
                        <a:pt x="287" y="16"/>
                      </a:lnTo>
                      <a:lnTo>
                        <a:pt x="297" y="7"/>
                      </a:lnTo>
                      <a:lnTo>
                        <a:pt x="309" y="0"/>
                      </a:lnTo>
                    </a:path>
                  </a:pathLst>
                </a:custGeom>
                <a:noFill/>
                <a:ln w="14400">
                  <a:solidFill>
                    <a:srgbClr val="cce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3871080" y="4393080"/>
                  <a:ext cx="201960" cy="375120"/>
                </a:xfrm>
                <a:custGeom>
                  <a:avLst/>
                  <a:gdLst/>
                  <a:ahLst/>
                  <a:rect l="l" t="t" r="r" b="b"/>
                  <a:pathLst>
                    <a:path w="320" h="752">
                      <a:moveTo>
                        <a:pt x="0" y="0"/>
                      </a:moveTo>
                      <a:lnTo>
                        <a:pt x="17" y="5"/>
                      </a:lnTo>
                      <a:lnTo>
                        <a:pt x="31" y="19"/>
                      </a:lnTo>
                      <a:lnTo>
                        <a:pt x="35" y="36"/>
                      </a:lnTo>
                      <a:lnTo>
                        <a:pt x="39" y="63"/>
                      </a:lnTo>
                      <a:lnTo>
                        <a:pt x="107" y="692"/>
                      </a:lnTo>
                      <a:lnTo>
                        <a:pt x="115" y="728"/>
                      </a:lnTo>
                      <a:lnTo>
                        <a:pt x="121" y="737"/>
                      </a:lnTo>
                      <a:lnTo>
                        <a:pt x="133" y="748"/>
                      </a:lnTo>
                      <a:lnTo>
                        <a:pt x="147" y="752"/>
                      </a:lnTo>
                      <a:lnTo>
                        <a:pt x="162" y="744"/>
                      </a:lnTo>
                      <a:lnTo>
                        <a:pt x="171" y="728"/>
                      </a:lnTo>
                      <a:lnTo>
                        <a:pt x="289" y="59"/>
                      </a:lnTo>
                      <a:lnTo>
                        <a:pt x="292" y="42"/>
                      </a:lnTo>
                      <a:lnTo>
                        <a:pt x="295" y="28"/>
                      </a:lnTo>
                      <a:lnTo>
                        <a:pt x="299" y="17"/>
                      </a:lnTo>
                      <a:lnTo>
                        <a:pt x="308" y="5"/>
                      </a:lnTo>
                      <a:lnTo>
                        <a:pt x="320" y="4"/>
                      </a:lnTo>
                    </a:path>
                  </a:pathLst>
                </a:custGeom>
                <a:noFill/>
                <a:ln w="14400">
                  <a:solidFill>
                    <a:srgbClr val="cce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083120" y="4392000"/>
                  <a:ext cx="195120" cy="372960"/>
                </a:xfrm>
                <a:custGeom>
                  <a:avLst/>
                  <a:gdLst/>
                  <a:ahLst/>
                  <a:rect l="l" t="t" r="r" b="b"/>
                  <a:pathLst>
                    <a:path w="310" h="749">
                      <a:moveTo>
                        <a:pt x="0" y="1"/>
                      </a:moveTo>
                      <a:lnTo>
                        <a:pt x="10" y="5"/>
                      </a:lnTo>
                      <a:lnTo>
                        <a:pt x="20" y="19"/>
                      </a:lnTo>
                      <a:lnTo>
                        <a:pt x="25" y="33"/>
                      </a:lnTo>
                      <a:lnTo>
                        <a:pt x="28" y="61"/>
                      </a:lnTo>
                      <a:lnTo>
                        <a:pt x="97" y="690"/>
                      </a:lnTo>
                      <a:lnTo>
                        <a:pt x="103" y="724"/>
                      </a:lnTo>
                      <a:lnTo>
                        <a:pt x="111" y="735"/>
                      </a:lnTo>
                      <a:lnTo>
                        <a:pt x="123" y="746"/>
                      </a:lnTo>
                      <a:lnTo>
                        <a:pt x="135" y="749"/>
                      </a:lnTo>
                      <a:lnTo>
                        <a:pt x="151" y="740"/>
                      </a:lnTo>
                      <a:lnTo>
                        <a:pt x="161" y="724"/>
                      </a:lnTo>
                      <a:lnTo>
                        <a:pt x="279" y="58"/>
                      </a:lnTo>
                      <a:lnTo>
                        <a:pt x="282" y="40"/>
                      </a:lnTo>
                      <a:lnTo>
                        <a:pt x="284" y="26"/>
                      </a:lnTo>
                      <a:lnTo>
                        <a:pt x="289" y="15"/>
                      </a:lnTo>
                      <a:lnTo>
                        <a:pt x="298" y="6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4400">
                  <a:solidFill>
                    <a:srgbClr val="cce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4278600" y="4392000"/>
                  <a:ext cx="201960" cy="372960"/>
                </a:xfrm>
                <a:custGeom>
                  <a:avLst/>
                  <a:gdLst/>
                  <a:ahLst/>
                  <a:rect l="l" t="t" r="r" b="b"/>
                  <a:pathLst>
                    <a:path w="319" h="750">
                      <a:moveTo>
                        <a:pt x="0" y="0"/>
                      </a:moveTo>
                      <a:lnTo>
                        <a:pt x="17" y="3"/>
                      </a:lnTo>
                      <a:lnTo>
                        <a:pt x="31" y="17"/>
                      </a:lnTo>
                      <a:lnTo>
                        <a:pt x="35" y="35"/>
                      </a:lnTo>
                      <a:lnTo>
                        <a:pt x="39" y="62"/>
                      </a:lnTo>
                      <a:lnTo>
                        <a:pt x="108" y="691"/>
                      </a:lnTo>
                      <a:lnTo>
                        <a:pt x="115" y="725"/>
                      </a:lnTo>
                      <a:lnTo>
                        <a:pt x="120" y="736"/>
                      </a:lnTo>
                      <a:lnTo>
                        <a:pt x="133" y="747"/>
                      </a:lnTo>
                      <a:lnTo>
                        <a:pt x="146" y="750"/>
                      </a:lnTo>
                      <a:lnTo>
                        <a:pt x="162" y="741"/>
                      </a:lnTo>
                      <a:lnTo>
                        <a:pt x="171" y="725"/>
                      </a:lnTo>
                      <a:lnTo>
                        <a:pt x="288" y="59"/>
                      </a:lnTo>
                      <a:lnTo>
                        <a:pt x="292" y="41"/>
                      </a:lnTo>
                      <a:lnTo>
                        <a:pt x="294" y="27"/>
                      </a:lnTo>
                      <a:lnTo>
                        <a:pt x="298" y="16"/>
                      </a:lnTo>
                      <a:lnTo>
                        <a:pt x="308" y="3"/>
                      </a:lnTo>
                      <a:lnTo>
                        <a:pt x="319" y="3"/>
                      </a:lnTo>
                    </a:path>
                  </a:pathLst>
                </a:custGeom>
                <a:noFill/>
                <a:ln w="14400">
                  <a:solidFill>
                    <a:srgbClr val="cce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4485600" y="4392000"/>
                  <a:ext cx="195120" cy="372960"/>
                </a:xfrm>
                <a:custGeom>
                  <a:avLst/>
                  <a:gdLst/>
                  <a:ahLst/>
                  <a:rect l="l" t="t" r="r" b="b"/>
                  <a:pathLst>
                    <a:path w="309" h="749">
                      <a:moveTo>
                        <a:pt x="0" y="1"/>
                      </a:moveTo>
                      <a:lnTo>
                        <a:pt x="9" y="5"/>
                      </a:lnTo>
                      <a:lnTo>
                        <a:pt x="20" y="19"/>
                      </a:lnTo>
                      <a:lnTo>
                        <a:pt x="23" y="33"/>
                      </a:lnTo>
                      <a:lnTo>
                        <a:pt x="28" y="61"/>
                      </a:lnTo>
                      <a:lnTo>
                        <a:pt x="97" y="690"/>
                      </a:lnTo>
                      <a:lnTo>
                        <a:pt x="103" y="724"/>
                      </a:lnTo>
                      <a:lnTo>
                        <a:pt x="110" y="735"/>
                      </a:lnTo>
                      <a:lnTo>
                        <a:pt x="122" y="746"/>
                      </a:lnTo>
                      <a:lnTo>
                        <a:pt x="135" y="749"/>
                      </a:lnTo>
                      <a:lnTo>
                        <a:pt x="151" y="740"/>
                      </a:lnTo>
                      <a:lnTo>
                        <a:pt x="161" y="724"/>
                      </a:lnTo>
                      <a:lnTo>
                        <a:pt x="278" y="58"/>
                      </a:lnTo>
                      <a:lnTo>
                        <a:pt x="281" y="40"/>
                      </a:lnTo>
                      <a:lnTo>
                        <a:pt x="283" y="26"/>
                      </a:lnTo>
                      <a:lnTo>
                        <a:pt x="287" y="15"/>
                      </a:lnTo>
                      <a:lnTo>
                        <a:pt x="297" y="6"/>
                      </a:lnTo>
                      <a:lnTo>
                        <a:pt x="309" y="0"/>
                      </a:lnTo>
                    </a:path>
                  </a:pathLst>
                </a:custGeom>
                <a:noFill/>
                <a:ln w="14400">
                  <a:solidFill>
                    <a:srgbClr val="cce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681080" y="4392000"/>
                  <a:ext cx="201960" cy="372960"/>
                </a:xfrm>
                <a:custGeom>
                  <a:avLst/>
                  <a:gdLst/>
                  <a:ahLst/>
                  <a:rect l="l" t="t" r="r" b="b"/>
                  <a:pathLst>
                    <a:path w="319" h="750">
                      <a:moveTo>
                        <a:pt x="0" y="0"/>
                      </a:moveTo>
                      <a:lnTo>
                        <a:pt x="17" y="3"/>
                      </a:lnTo>
                      <a:lnTo>
                        <a:pt x="31" y="17"/>
                      </a:lnTo>
                      <a:lnTo>
                        <a:pt x="35" y="35"/>
                      </a:lnTo>
                      <a:lnTo>
                        <a:pt x="39" y="62"/>
                      </a:lnTo>
                      <a:lnTo>
                        <a:pt x="107" y="691"/>
                      </a:lnTo>
                      <a:lnTo>
                        <a:pt x="115" y="725"/>
                      </a:lnTo>
                      <a:lnTo>
                        <a:pt x="120" y="736"/>
                      </a:lnTo>
                      <a:lnTo>
                        <a:pt x="133" y="747"/>
                      </a:lnTo>
                      <a:lnTo>
                        <a:pt x="146" y="750"/>
                      </a:lnTo>
                      <a:lnTo>
                        <a:pt x="161" y="741"/>
                      </a:lnTo>
                      <a:lnTo>
                        <a:pt x="171" y="725"/>
                      </a:lnTo>
                      <a:lnTo>
                        <a:pt x="288" y="59"/>
                      </a:lnTo>
                      <a:lnTo>
                        <a:pt x="291" y="41"/>
                      </a:lnTo>
                      <a:lnTo>
                        <a:pt x="293" y="27"/>
                      </a:lnTo>
                      <a:lnTo>
                        <a:pt x="298" y="16"/>
                      </a:lnTo>
                      <a:lnTo>
                        <a:pt x="307" y="3"/>
                      </a:lnTo>
                      <a:lnTo>
                        <a:pt x="319" y="3"/>
                      </a:lnTo>
                    </a:path>
                  </a:pathLst>
                </a:custGeom>
                <a:noFill/>
                <a:ln w="14400">
                  <a:solidFill>
                    <a:srgbClr val="cce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4891680" y="4390200"/>
                  <a:ext cx="195480" cy="373680"/>
                </a:xfrm>
                <a:custGeom>
                  <a:avLst/>
                  <a:gdLst/>
                  <a:ahLst/>
                  <a:rect l="l" t="t" r="r" b="b"/>
                  <a:pathLst>
                    <a:path w="310" h="751">
                      <a:moveTo>
                        <a:pt x="0" y="3"/>
                      </a:moveTo>
                      <a:lnTo>
                        <a:pt x="9" y="5"/>
                      </a:lnTo>
                      <a:lnTo>
                        <a:pt x="21" y="19"/>
                      </a:lnTo>
                      <a:lnTo>
                        <a:pt x="23" y="34"/>
                      </a:lnTo>
                      <a:lnTo>
                        <a:pt x="29" y="62"/>
                      </a:lnTo>
                      <a:lnTo>
                        <a:pt x="98" y="690"/>
                      </a:lnTo>
                      <a:lnTo>
                        <a:pt x="104" y="725"/>
                      </a:lnTo>
                      <a:lnTo>
                        <a:pt x="110" y="736"/>
                      </a:lnTo>
                      <a:lnTo>
                        <a:pt x="123" y="746"/>
                      </a:lnTo>
                      <a:lnTo>
                        <a:pt x="135" y="751"/>
                      </a:lnTo>
                      <a:lnTo>
                        <a:pt x="151" y="742"/>
                      </a:lnTo>
                      <a:lnTo>
                        <a:pt x="161" y="725"/>
                      </a:lnTo>
                      <a:lnTo>
                        <a:pt x="278" y="57"/>
                      </a:lnTo>
                      <a:lnTo>
                        <a:pt x="281" y="40"/>
                      </a:lnTo>
                      <a:lnTo>
                        <a:pt x="284" y="26"/>
                      </a:lnTo>
                      <a:lnTo>
                        <a:pt x="287" y="15"/>
                      </a:lnTo>
                      <a:lnTo>
                        <a:pt x="297" y="5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4400">
                  <a:solidFill>
                    <a:srgbClr val="cce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5087520" y="4389120"/>
                  <a:ext cx="203040" cy="375120"/>
                </a:xfrm>
                <a:custGeom>
                  <a:avLst/>
                  <a:gdLst/>
                  <a:ahLst/>
                  <a:rect l="l" t="t" r="r" b="b"/>
                  <a:pathLst>
                    <a:path w="321" h="752">
                      <a:moveTo>
                        <a:pt x="0" y="0"/>
                      </a:moveTo>
                      <a:lnTo>
                        <a:pt x="18" y="4"/>
                      </a:lnTo>
                      <a:lnTo>
                        <a:pt x="31" y="17"/>
                      </a:lnTo>
                      <a:lnTo>
                        <a:pt x="35" y="35"/>
                      </a:lnTo>
                      <a:lnTo>
                        <a:pt x="39" y="63"/>
                      </a:lnTo>
                      <a:lnTo>
                        <a:pt x="109" y="691"/>
                      </a:lnTo>
                      <a:lnTo>
                        <a:pt x="115" y="726"/>
                      </a:lnTo>
                      <a:lnTo>
                        <a:pt x="121" y="737"/>
                      </a:lnTo>
                      <a:lnTo>
                        <a:pt x="134" y="747"/>
                      </a:lnTo>
                      <a:lnTo>
                        <a:pt x="146" y="752"/>
                      </a:lnTo>
                      <a:lnTo>
                        <a:pt x="161" y="743"/>
                      </a:lnTo>
                      <a:lnTo>
                        <a:pt x="171" y="726"/>
                      </a:lnTo>
                      <a:lnTo>
                        <a:pt x="290" y="58"/>
                      </a:lnTo>
                      <a:lnTo>
                        <a:pt x="292" y="41"/>
                      </a:lnTo>
                      <a:lnTo>
                        <a:pt x="296" y="27"/>
                      </a:lnTo>
                      <a:lnTo>
                        <a:pt x="299" y="16"/>
                      </a:lnTo>
                      <a:lnTo>
                        <a:pt x="308" y="4"/>
                      </a:lnTo>
                      <a:lnTo>
                        <a:pt x="321" y="3"/>
                      </a:lnTo>
                    </a:path>
                  </a:pathLst>
                </a:custGeom>
                <a:noFill/>
                <a:ln w="14400">
                  <a:solidFill>
                    <a:srgbClr val="cce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5294520" y="4390200"/>
                  <a:ext cx="195480" cy="373680"/>
                </a:xfrm>
                <a:custGeom>
                  <a:avLst/>
                  <a:gdLst/>
                  <a:ahLst/>
                  <a:rect l="l" t="t" r="r" b="b"/>
                  <a:pathLst>
                    <a:path w="310" h="751">
                      <a:moveTo>
                        <a:pt x="0" y="3"/>
                      </a:moveTo>
                      <a:lnTo>
                        <a:pt x="9" y="5"/>
                      </a:lnTo>
                      <a:lnTo>
                        <a:pt x="21" y="19"/>
                      </a:lnTo>
                      <a:lnTo>
                        <a:pt x="24" y="34"/>
                      </a:lnTo>
                      <a:lnTo>
                        <a:pt x="28" y="62"/>
                      </a:lnTo>
                      <a:lnTo>
                        <a:pt x="97" y="690"/>
                      </a:lnTo>
                      <a:lnTo>
                        <a:pt x="104" y="725"/>
                      </a:lnTo>
                      <a:lnTo>
                        <a:pt x="110" y="736"/>
                      </a:lnTo>
                      <a:lnTo>
                        <a:pt x="123" y="746"/>
                      </a:lnTo>
                      <a:lnTo>
                        <a:pt x="135" y="751"/>
                      </a:lnTo>
                      <a:lnTo>
                        <a:pt x="151" y="742"/>
                      </a:lnTo>
                      <a:lnTo>
                        <a:pt x="160" y="725"/>
                      </a:lnTo>
                      <a:lnTo>
                        <a:pt x="278" y="57"/>
                      </a:lnTo>
                      <a:lnTo>
                        <a:pt x="282" y="40"/>
                      </a:lnTo>
                      <a:lnTo>
                        <a:pt x="285" y="26"/>
                      </a:lnTo>
                      <a:lnTo>
                        <a:pt x="288" y="15"/>
                      </a:lnTo>
                      <a:lnTo>
                        <a:pt x="298" y="5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4400">
                  <a:solidFill>
                    <a:srgbClr val="cce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5490000" y="4389120"/>
                  <a:ext cx="136080" cy="375120"/>
                </a:xfrm>
                <a:custGeom>
                  <a:avLst/>
                  <a:gdLst/>
                  <a:ahLst/>
                  <a:rect l="l" t="t" r="r" b="b"/>
                  <a:pathLst>
                    <a:path w="217" h="752">
                      <a:moveTo>
                        <a:pt x="0" y="0"/>
                      </a:moveTo>
                      <a:lnTo>
                        <a:pt x="18" y="4"/>
                      </a:lnTo>
                      <a:lnTo>
                        <a:pt x="31" y="17"/>
                      </a:lnTo>
                      <a:lnTo>
                        <a:pt x="36" y="35"/>
                      </a:lnTo>
                      <a:lnTo>
                        <a:pt x="40" y="63"/>
                      </a:lnTo>
                      <a:lnTo>
                        <a:pt x="109" y="691"/>
                      </a:lnTo>
                      <a:lnTo>
                        <a:pt x="115" y="726"/>
                      </a:lnTo>
                      <a:lnTo>
                        <a:pt x="121" y="737"/>
                      </a:lnTo>
                      <a:lnTo>
                        <a:pt x="135" y="747"/>
                      </a:lnTo>
                      <a:lnTo>
                        <a:pt x="146" y="752"/>
                      </a:lnTo>
                      <a:lnTo>
                        <a:pt x="161" y="743"/>
                      </a:lnTo>
                      <a:lnTo>
                        <a:pt x="171" y="726"/>
                      </a:lnTo>
                      <a:lnTo>
                        <a:pt x="217" y="403"/>
                      </a:lnTo>
                    </a:path>
                  </a:pathLst>
                </a:custGeom>
                <a:noFill/>
                <a:ln w="14400">
                  <a:solidFill>
                    <a:srgbClr val="cce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3276720" y="4574520"/>
                <a:ext cx="2447280" cy="0"/>
              </a:xfrm>
              <a:prstGeom prst="line">
                <a:avLst/>
              </a:prstGeom>
              <a:ln w="14400">
                <a:solidFill>
                  <a:srgbClr val="3f00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900" spc="-1" strike="noStrike">
                <a:solidFill>
                  <a:srgbClr val="ffffff"/>
                </a:solidFill>
                <a:latin typeface="Arial"/>
                <a:cs typeface="Traditional Arabic"/>
              </a:rPr>
              <a:t>أنواع وحدات المودم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 algn="r" rtl="1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داخلي  وخارج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r" rtl="1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سرعات المودم تقاس بالبت في الثانية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bp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442880" indent="-634680" algn="r" rtl="1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ffffff"/>
                </a:solidFill>
                <a:latin typeface="Arial"/>
                <a:ea typeface="Traditional Arabic"/>
              </a:rPr>
              <a:t>1.200</a:t>
            </a:r>
            <a:r>
              <a:rPr b="0" lang="ar-SA" sz="25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Traditional Arabic"/>
              </a:rPr>
              <a:t>KBPS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Traditional Arabic"/>
              </a:rPr>
              <a:t>	</a:t>
            </a:r>
            <a:r>
              <a:rPr b="0" lang="ar-SA" sz="2500" spc="-1" strike="noStrike">
                <a:solidFill>
                  <a:srgbClr val="ffffff"/>
                </a:solidFill>
                <a:latin typeface="Arial"/>
                <a:ea typeface="Traditional Arabic"/>
              </a:rPr>
              <a:t>4.800</a:t>
            </a:r>
            <a:r>
              <a:rPr b="0" lang="ar-SA" sz="2500" spc="-1" strike="noStrike">
                <a:solidFill>
                  <a:srgbClr val="ffffff"/>
                </a:solidFill>
                <a:latin typeface="Arial"/>
                <a:ea typeface="Traditional Arabic"/>
              </a:rPr>
              <a:t>	</a:t>
            </a:r>
            <a:r>
              <a:rPr b="0" lang="ar-SA" sz="25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Traditional Arabic"/>
              </a:rPr>
              <a:t>KBP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1442880" indent="-634680" algn="r" rtl="1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ffffff"/>
                </a:solidFill>
                <a:latin typeface="Arial"/>
                <a:ea typeface="Traditional Arabic"/>
              </a:rPr>
              <a:t>9.600</a:t>
            </a:r>
            <a:r>
              <a:rPr b="1" lang="ar-SA" sz="25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Traditional Arabic"/>
              </a:rPr>
              <a:t>KBPS</a:t>
            </a:r>
            <a:r>
              <a:rPr b="0" lang="ar-SA" sz="2500" spc="-1" strike="noStrike">
                <a:solidFill>
                  <a:srgbClr val="ffffff"/>
                </a:solidFill>
                <a:latin typeface="Arial"/>
                <a:ea typeface="Traditional Arabic"/>
              </a:rPr>
              <a:t>	</a:t>
            </a:r>
            <a:r>
              <a:rPr b="0" lang="ar-SA" sz="25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r>
              <a:rPr b="1" lang="ar-SA" sz="2500" spc="-1" strike="noStrike">
                <a:solidFill>
                  <a:srgbClr val="ffffff"/>
                </a:solidFill>
                <a:latin typeface="Arial"/>
                <a:ea typeface="Traditional Arabic"/>
              </a:rPr>
              <a:t>14.400</a:t>
            </a:r>
            <a:r>
              <a:rPr b="0" lang="ar-SA" sz="25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Traditional Arabic"/>
              </a:rPr>
              <a:t>KBP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1442880" indent="-634680" algn="r" rtl="1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ffffff"/>
                </a:solidFill>
                <a:latin typeface="Arial"/>
                <a:ea typeface="Traditional Arabic"/>
              </a:rPr>
              <a:t>19.200</a:t>
            </a:r>
            <a:r>
              <a:rPr b="1" lang="ar-SA" sz="25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Traditional Arabic"/>
              </a:rPr>
              <a:t>KBPS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Traditional Arabic"/>
              </a:rPr>
              <a:t>	</a:t>
            </a:r>
            <a:r>
              <a:rPr b="1" lang="ar-SA" sz="2500" spc="-1" strike="noStrike">
                <a:solidFill>
                  <a:srgbClr val="ffffff"/>
                </a:solidFill>
                <a:latin typeface="Arial"/>
                <a:ea typeface="Traditional Arabic"/>
              </a:rPr>
              <a:t>28.800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Traditional Arabic"/>
              </a:rPr>
              <a:t>KBP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1442880" indent="-634680" algn="r" rtl="1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ffffff"/>
                </a:solidFill>
                <a:latin typeface="Arial"/>
                <a:ea typeface="Traditional Arabic"/>
              </a:rPr>
              <a:t>38.400</a:t>
            </a:r>
            <a:r>
              <a:rPr b="1" lang="ar-SA" sz="25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Traditional Arabic"/>
              </a:rPr>
              <a:t>KBPS</a:t>
            </a:r>
            <a:r>
              <a:rPr b="0" lang="ar-SA" sz="2500" spc="-1" strike="noStrike">
                <a:solidFill>
                  <a:srgbClr val="ffffff"/>
                </a:solidFill>
                <a:latin typeface="Arial"/>
                <a:ea typeface="Traditional Arabic"/>
              </a:rPr>
              <a:t>  </a:t>
            </a:r>
            <a:r>
              <a:rPr b="0" lang="ar-SA" sz="2500" spc="-1" strike="noStrike">
                <a:solidFill>
                  <a:srgbClr val="ffffff"/>
                </a:solidFill>
                <a:latin typeface="Arial"/>
                <a:ea typeface="Traditional Arabic"/>
              </a:rPr>
              <a:t>	</a:t>
            </a:r>
            <a:r>
              <a:rPr b="1" lang="ar-SA" sz="2500" spc="-1" strike="noStrike">
                <a:solidFill>
                  <a:srgbClr val="ffffff"/>
                </a:solidFill>
                <a:latin typeface="Arial"/>
                <a:ea typeface="Traditional Arabic"/>
              </a:rPr>
              <a:t>56.000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Traditional Arabic"/>
              </a:rPr>
              <a:t>KBP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ffff"/>
                </a:solidFill>
                <a:latin typeface="바탕"/>
                <a:cs typeface="Traditional Arabic"/>
              </a:rPr>
              <a:t>تقنية الاتصالات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12480" y="1557360"/>
            <a:ext cx="8507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اتصالات هي عملية نقل المعلومات من مكان لآخر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عبارة عن مجموعة من أجهزة الاتصالات والبرامج الضرورية للتحكم بهذه الأجهزة والتي تقوم بوظائف الاتصالات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مكونات نظام الاتصالات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نظام الاتصالات عبارة عن شبكة من اجهزة الموصلات والبرامج التي تقوم بوظائف الاتصالات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وتتألف من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 algn="r" rtl="1">
              <a:lnSpc>
                <a:spcPct val="8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ffff00"/>
                </a:solidFill>
                <a:latin typeface="Arial"/>
                <a:cs typeface="Traditional Arabic"/>
              </a:rPr>
              <a:t>الحاسبات</a:t>
            </a:r>
            <a:r>
              <a:rPr b="0" lang="ar-SA" sz="2100" spc="-1" strike="noStrike">
                <a:solidFill>
                  <a:srgbClr val="ffffff"/>
                </a:solidFill>
                <a:latin typeface="Arial"/>
                <a:ea typeface="Traditional Arabic"/>
              </a:rPr>
              <a:t> التي تقدم المعلومات 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 algn="r" rtl="1">
              <a:lnSpc>
                <a:spcPct val="8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ffff00"/>
                </a:solidFill>
                <a:latin typeface="Arial"/>
                <a:cs typeface="Traditional Arabic"/>
              </a:rPr>
              <a:t>النهايات الطرفية</a:t>
            </a:r>
            <a:r>
              <a:rPr b="0" lang="ar-SA" sz="2100" spc="-1" strike="noStrike">
                <a:solidFill>
                  <a:srgbClr val="ffffff"/>
                </a:solidFill>
                <a:latin typeface="Arial"/>
                <a:ea typeface="Traditional Arabic"/>
              </a:rPr>
              <a:t>  أو أي أجهزة ادخال و إخراج التي ترسل وتستقبل البيانات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 algn="r" rtl="1">
              <a:lnSpc>
                <a:spcPct val="8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ffff00"/>
                </a:solidFill>
                <a:latin typeface="Arial"/>
                <a:cs typeface="Traditional Arabic"/>
              </a:rPr>
              <a:t>قنوات الاتصال</a:t>
            </a:r>
            <a:r>
              <a:rPr b="0" lang="ar-SA" sz="21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هي شبكة الروابط التي بواسطتها يتم نقل البيانات او الاتصالات الصوتية بين الأجهزة المرسلة والمستقبلة.  قنوات الاتصال تستخدم أنواع مختلفة من الوسائط مثل الأسلاك المجدولة والألياف الضوئية و الكوابل المحورية والموجات المتناهية الصغر و الأقمار الصناعية أو أي طريقة لنقل البيانات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 algn="r" rtl="1">
              <a:lnSpc>
                <a:spcPct val="8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ffff00"/>
                </a:solidFill>
                <a:latin typeface="Arial"/>
                <a:cs typeface="Traditional Arabic"/>
              </a:rPr>
              <a:t>أجهزة الاتصال</a:t>
            </a:r>
            <a:r>
              <a:rPr b="0" lang="ar-SA" sz="2100" spc="-1" strike="noStrike">
                <a:solidFill>
                  <a:srgbClr val="ffffff"/>
                </a:solidFill>
                <a:latin typeface="Arial"/>
                <a:ea typeface="Traditional Arabic"/>
              </a:rPr>
              <a:t> مثال المودم وعمليات المواجهة الأمامية والمجمعات والمركزات المضاعفات هذه الأدوات تقوم بالمساعدة لتحويل ونقل البيانات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 algn="r" rtl="1">
              <a:lnSpc>
                <a:spcPct val="8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ffff00"/>
                </a:solidFill>
                <a:latin typeface="Arial"/>
                <a:cs typeface="Traditional Arabic"/>
              </a:rPr>
              <a:t>برامج الاتصالات</a:t>
            </a:r>
            <a:r>
              <a:rPr b="0" lang="ar-SA" sz="21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التي تتحكم بأنشطه المدخلات والمخرجات والوظائف الأخرى للشبكات والاتصالات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ffff"/>
                </a:solidFill>
                <a:latin typeface="Arial"/>
                <a:cs typeface="Traditional Arabic"/>
              </a:rPr>
              <a:t>برامج الاتصالات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676160" y="177336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159120" indent="-15912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هي مجموعة خاصة من البرامج مطلوبة للتحكم والمساعدة في أنشطة الشبكة. وهي برامج لإدارة تحويل البيانات بين الحاسبات وبين الحاسبات والنهاية الطرف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591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وظيفة الرئيسة للبرامج الاتصال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59120" indent="-15912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Arial"/>
                <a:cs typeface="Traditional Arabic"/>
              </a:rPr>
              <a:t>إدارة شبكة الاتصالات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 algn="r" rtl="1">
              <a:lnSpc>
                <a:spcPct val="8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ffffff"/>
                </a:solidFill>
                <a:latin typeface="Arial"/>
                <a:cs typeface="Traditional Arabic"/>
              </a:rPr>
              <a:t>توجيه الرسائل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 algn="r" rtl="1">
              <a:lnSpc>
                <a:spcPct val="8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ffffff"/>
                </a:solidFill>
                <a:latin typeface="Arial"/>
                <a:cs typeface="Traditional Arabic"/>
              </a:rPr>
              <a:t>تحديد الشبكة أولوية التحويل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 algn="r" rtl="1">
              <a:lnSpc>
                <a:spcPct val="8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ffffff"/>
                </a:solidFill>
                <a:latin typeface="Arial"/>
                <a:cs typeface="Traditional Arabic"/>
              </a:rPr>
              <a:t>استمرار الاتصال بالشبكة والبحث عن أخطاء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59120" indent="-15912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Arial"/>
                <a:cs typeface="Traditional Arabic"/>
              </a:rPr>
              <a:t>التحكم بالدخول إلى الشبك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 algn="r" rtl="1">
              <a:lnSpc>
                <a:spcPct val="8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تحكم في سرعة تحويل البيانات واتجاهها ونوعها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 algn="r" rtl="1">
              <a:lnSpc>
                <a:spcPct val="8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ffffff"/>
                </a:solidFill>
                <a:latin typeface="Arial"/>
                <a:cs typeface="Traditional Arabic"/>
              </a:rPr>
              <a:t>بداية الاتصال و ربطها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59120" indent="-15912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Arial"/>
                <a:cs typeface="Traditional Arabic"/>
              </a:rPr>
              <a:t>التحكم بتحويل البيانات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 algn="r" rtl="1">
              <a:lnSpc>
                <a:spcPct val="8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ffffff"/>
                </a:solidFill>
                <a:latin typeface="Arial"/>
                <a:cs typeface="Traditional Arabic"/>
              </a:rPr>
              <a:t>يمكن الحاسبات والنهايات الطرفية من إرسال واستقبال البيانات البرامج ، والطلبات والرسائل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1692000" y="219384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Arial"/>
                <a:cs typeface="Traditional Arabic"/>
              </a:rPr>
              <a:t>اكتشاف الأخطاء وتصحيحه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raditional Arabic"/>
              </a:rPr>
              <a:t>يكتشف الأخطاء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raditional Arabic"/>
              </a:rPr>
              <a:t>تصحيح الأخطاء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raditional Arabic"/>
              </a:rPr>
              <a:t>إعادة إرسال البيانات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Arial"/>
                <a:cs typeface="Traditional Arabic"/>
              </a:rPr>
              <a:t>أمن الشبك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raditional Arabic"/>
              </a:rPr>
              <a:t>مسئوليتها الدخول إلى الشبكة والتأكد من شخصية المتصل ورقمه السري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raditional Arabic"/>
              </a:rPr>
              <a:t>جميع إجراءات الدخول ومنع الدخول الغير مصرح له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900" spc="-1" strike="noStrike">
                <a:solidFill>
                  <a:srgbClr val="ffffff"/>
                </a:solidFill>
                <a:latin typeface="Arial"/>
              </a:rPr>
              <a:t>برامج الاتصالات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5T13:29:53Z</dcterms:created>
  <dc:creator>Unknown User</dc:creator>
  <dc:description/>
  <dc:language>en-US</dc:language>
  <cp:lastModifiedBy>malsudairi</cp:lastModifiedBy>
  <dcterms:modified xsi:type="dcterms:W3CDTF">2003-09-20T14:52:59Z</dcterms:modified>
  <cp:revision>19</cp:revision>
  <dc:subject/>
  <dc:title>PowerPoint Presentation</dc:title>
</cp:coreProperties>
</file>