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E10C-45B2-4999-A748-B93C63681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C786-C44D-4A69-A73D-DA4FF97245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228B-E371-45F1-98E4-C6C65461AC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03A5-D6E7-49ED-B332-C4C201AAF5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884C-D804-4A79-9E85-C937587383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6BB1-251C-4D71-AFE3-8240C80F2F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918D-45DF-4DBD-A9BD-BC5AF1BA23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3AE7-E3F2-4A08-8A7F-2E26188E7D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B3FF-8A75-4F97-8A71-61A7F80902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FE1E-3ECD-484B-B700-11E2017103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E333-275E-4107-AE90-071E13EE48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6407-FA38-4ACD-B2A3-18C5788E9B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7AEF-8546-4212-9F51-BEB409F4A0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7F44-4018-4B96-9B67-2FE1A0EE47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E8D2-7BBA-4283-A6D3-90C698E3B8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0971-0B88-4850-BBD8-FA0ADAA4ED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5D0A-0095-4FAC-9168-827A17D854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AE8A-0962-476A-8DDE-4A03E563F2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246E-FFBC-4140-98B2-BA1AB2C75F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B670-0E08-4651-8361-E805722457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B8B-D7C2-4607-A59F-E41A1047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4CC-8590-41FE-8A8F-A763FB97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621-247C-4B89-8F1E-7AB1F4EC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96C-66EF-4B74-94F1-154B2771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DFD-5F00-43FC-AD27-957AE494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332-31F9-4262-A999-94A5728E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31F-0656-4032-8835-CFC9C47B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EB3-3BE0-4967-9584-83068777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EE1-A941-44E9-8E74-0959FC4D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673-9023-4797-AE25-596DC09B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F567-BCA0-4FCD-985D-39329BAD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36B-D8C7-4A11-B832-F85B5D37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3E70-91B9-44E9-9E13-3200222BBD7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cture 1: Introduction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ecture series based on the tex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4d4ce"/>
                </a:solidFill>
                <a:latin typeface="Arial"/>
              </a:rPr>
              <a:t>Essential MATLAB</a:t>
            </a:r>
            <a:r>
              <a:rPr b="0" i="1" lang="en-US" sz="3200" spc="-1" strike="noStrike">
                <a:solidFill>
                  <a:srgbClr val="d4d4c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4d4ce"/>
                </a:solidFill>
                <a:latin typeface="Arial"/>
              </a:rPr>
              <a:t>for Engineers and Scient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ce"/>
                </a:solidFill>
                <a:latin typeface="Arial"/>
              </a:rPr>
              <a:t>B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ce"/>
                </a:solidFill>
                <a:latin typeface="Arial"/>
              </a:rPr>
              <a:t>Hahn &amp; Valent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Hiding Outpu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us explore by doing exerci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clear; clc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whos  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 = 3;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b = 2;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c = a * b;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d = c^(b+1);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who    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63f147"/>
                </a:solidFill>
                <a:latin typeface="Courier New"/>
              </a:rPr>
              <a:t>% a, b, c, d are in workspace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a, b, c, d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Plot </a:t>
            </a:r>
            <a:r>
              <a:rPr b="0" i="1" lang="en-US" sz="4400" spc="-1" strike="noStrike">
                <a:solidFill>
                  <a:srgbClr val="d4d4ce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 versus </a:t>
            </a:r>
            <a:r>
              <a:rPr b="0" i="1" lang="en-US" sz="4400" spc="-1" strike="noStrike">
                <a:solidFill>
                  <a:srgbClr val="d4d4ce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on to plotting &amp; displaying 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ear; clc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 = 0:0.1:1;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 = x.^2;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os    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ot(x,y,x,y,’o’)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p(' '),disp('...... x ........ y .....'),disp([x‘ y'])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y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63f147"/>
                </a:solidFill>
                <a:latin typeface="Arial"/>
              </a:rPr>
              <a:t>% x and y are 1-by-11 arrays of number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rite a Simple Program</a:t>
            </a: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computing the volume of a con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= (pi.*r.^2.*h)./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us = 6 in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 = 12 in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command window key i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ear; clc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r = 6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h = 12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v = (pi.*r.^2.*h)./3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gt;&gt;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who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Editor &amp; M-File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-f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MATLAB is analogous to a txt-file in Microsoft Notepa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M-file is created in MATLAB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ext edi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-fi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save your programs (i.e., list of executable commands) as M-f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reopen and modify your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useful for “debugging” (correcting errors) as you develop your programs (your technical computing tool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omments in program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time you write a program to be saved, it is helpful for you to </a:t>
            </a:r>
            <a:r>
              <a:rPr b="0" lang="en-US" sz="2800" spc="-1" strike="noStrike">
                <a:solidFill>
                  <a:srgbClr val="63f147"/>
                </a:solidFill>
                <a:latin typeface="Arial"/>
              </a:rPr>
              <a:t>comment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.e., describe)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sert a comment on a line in the editor or in the Command Window, use the comment operator </a:t>
            </a:r>
            <a:r>
              <a:rPr b="0" lang="en-US" sz="2800" spc="-1" strike="noStrike">
                <a:solidFill>
                  <a:srgbClr val="63f147"/>
                </a:solidFill>
                <a:latin typeface="Arial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n type your com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not run lines that begin with the comment operator (</a:t>
            </a:r>
            <a:r>
              <a:rPr b="0" lang="en-US" sz="2400" spc="-1" strike="noStrike">
                <a:solidFill>
                  <a:srgbClr val="63f147"/>
                </a:solidFill>
                <a:latin typeface="Arial"/>
              </a:rPr>
              <a:t>in the editor comments appear in gre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ts allow you (and others) to more easily understand your progr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your lines of code are easy to understand, your code will be easier to use la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Art of well-written cod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ell-written program is like literature; it contains comments explain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your program requires as inp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he variables in the program repres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your program computes and displ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useful for you to add a set of header comments that include the name of the program, your name (as the programmer), and the date the program was created or modifi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aving code in an M-Fil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he editor b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ing the comm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command windo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click the white-sheet-of-paper icon in the upper left hand corner directly below f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enter the lines of code to find the volume of a co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r =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 = 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 = (pi.*r.^2.*h)./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MARK: If you save it, add header comments and comments explaining what the program do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you have typed in the code, save it as cone.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is is cone.m in the editor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4495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838080" y="2514600"/>
            <a:ext cx="5715000" cy="23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Tool to compute the volume of a con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A simple sample for a first lectur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B.H.&amp; Daniel........... January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54"/>
                </a:solidFill>
                <a:latin typeface="Courier New"/>
              </a:rPr>
              <a:t>rr = 4;  </a:t>
            </a: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radius of the c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54"/>
                </a:solidFill>
                <a:latin typeface="Courier New"/>
              </a:rPr>
              <a:t>h = 12; </a:t>
            </a: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height of the c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54"/>
                </a:solidFill>
                <a:latin typeface="Courier New"/>
              </a:rPr>
              <a:t>v = (pi.*r.^2.*h)./3  </a:t>
            </a: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Volume of the c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ecute an M-file as a Command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execute (or run) the program by pushing F5, or by typing on the command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e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by clicking the run button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ote that th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n butt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ooks like a page with a down arrow to its left. It can be found below help on the toolbar of the edit window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f you entered the code as written on the previous slide you will get an error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ent wro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air your progra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han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r = 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 = 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ave it, and run it ag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change the height to 24, save and run your program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can be used like a hand calculator to do arithmet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define (or assign) variables with numbers and expressions to do calculations as illustrated by the volume-of-cone exam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dvantage of saving programs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-fi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at you open it, make changes and/or execute it again without having to type it all over ag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cludes our overview of MATLAB and a taste of things to com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Objectives of cours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examine, explore and evaluate MATLA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o technical computing with MATLA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esign programs to solve technical problems via structure plan (i.e., a design methodology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to formulate algorithms for the steps of the structure pl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translate the steps into computer programs to solve engineering and scientific problem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Objective of this lectur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an overview of some of the features of MATLAB as a way to begin you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ion of this new technical computing to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ning in the art of computer programm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ing to use MATLAB as a notepad for mathematical computations that arise in engineering and science cour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MATLAB desktop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638680" y="1752480"/>
            <a:ext cx="28576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and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and History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spac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Directory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t 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6"/>
          <p:cNvGrpSpPr/>
          <p:nvPr/>
        </p:nvGrpSpPr>
        <p:grpSpPr>
          <a:xfrm>
            <a:off x="1219320" y="1600200"/>
            <a:ext cx="4267080" cy="4038480"/>
            <a:chOff x="1219320" y="1600200"/>
            <a:chExt cx="4267080" cy="4038480"/>
          </a:xfrm>
        </p:grpSpPr>
        <p:pic>
          <p:nvPicPr>
            <p:cNvPr id="57" name="Picture 3" descr=""/>
            <p:cNvPicPr/>
            <p:nvPr/>
          </p:nvPicPr>
          <p:blipFill>
            <a:blip r:embed="rId1"/>
            <a:srcRect l="0" t="0" r="48649" b="0"/>
            <a:stretch/>
          </p:blipFill>
          <p:spPr>
            <a:xfrm>
              <a:off x="1219320" y="1600200"/>
              <a:ext cx="426708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5"/>
            <p:cNvSpPr/>
            <p:nvPr/>
          </p:nvSpPr>
          <p:spPr>
            <a:xfrm>
              <a:off x="1243800" y="4116960"/>
              <a:ext cx="2015280" cy="134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ommand Window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mand Wind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the right is the main panel where you interact with MATLAB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key (or type) a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&lt;Enter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mands after the promp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MATLAB executes the commands and displays results (if requeste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commonly used tools and command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f147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7fb97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63f147"/>
                </a:solidFill>
                <a:latin typeface="Arial"/>
                <a:ea typeface="Times New Roman"/>
              </a:rPr>
              <a:t>up arr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returns last command input, can be repe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l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clears the scr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wh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shows list of vari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l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clears vari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Evaluation of MATLAB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S-ON with MATL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2+3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o the Command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clc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1" lang="en-US" sz="2800" spc="-1" strike="noStrike">
                <a:solidFill>
                  <a:srgbClr val="ff66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whos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Throughout the lecture, yellow text indicates what you should type into MATLA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ommand History Window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mand History Wind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gs all of the commands you enter in MATLA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have logg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Command History Window to reente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command window (use copy-and- paste or double click on 2+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useful to retrieve past comma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“Shift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ey to select multiple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Arithmetic with MATLAB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explore by doing exerci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–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*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/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\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^2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2/0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0/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*Inf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Algebraic-numeric computation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explore by doing exerci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 = 3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b = 2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 – b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 / b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^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c = a * b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d = c^(b+1)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w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Osama</cp:lastModifiedBy>
  <dcterms:modified xsi:type="dcterms:W3CDTF">2011-02-18T18:30:01Z</dcterms:modified>
  <cp:revision>111</cp:revision>
  <dc:subject/>
  <dc:title>ES100: Lecture 01 Introduction to ES100 and MATLAB</dc:title>
</cp:coreProperties>
</file>