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2409-EB1B-4CCA-B740-D41A2954A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24A0-DA06-4388-B6F1-F9796A33AB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F3AD-2072-4D5F-BCF1-4A0787B7E1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6AB7-B20F-4BA9-901F-656740CD1A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B284-7F3D-4B84-ADAA-7EC9A1E1B5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E86-18CB-410A-AB32-5AEC35C6A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3C65-6DD8-4DF0-8A1C-9FA60F1632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E52F-C980-4E3B-BF50-9FC8CFC692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4842-B280-4BAC-8A08-146B80D02C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C5B-D541-48DA-AE95-F3EAF7D115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B81-7ACE-41D8-9031-25EB239932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43CB-BE09-4FDF-B953-44FBD02CE7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8391-53F8-4A5E-B9A0-096A639445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3F71-A129-41D7-9CE9-A48BBE9D4C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D0D3-25AA-490C-8FE7-EED71B8330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FF02-15AF-43EF-AB6B-C1D227BA7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612F-22F9-4D34-AE3E-10EA72D83C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44A5-7D05-4287-A8C0-47941579F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024-B5BF-43EA-A201-6F05E7188E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711-7155-4FCC-80DD-24DE79F31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B3F-ED18-446C-9A4B-78C799FE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54A-A4CA-4487-90DE-F32DC661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15C-0028-44B6-9379-C64C070C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22F-494B-400F-9F43-88710808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B4C-AE09-407A-AFC2-F63CD0D5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1F0-5193-4898-805D-DBFE1CDB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3FC-F60D-4C3D-B947-B284E63E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5D7-DE62-44AA-9DB2-BF11E94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F49-E5CC-486C-B320-1D9C02B4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1B2-8C3D-4E8B-AD50-A4ED664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93F-BB13-4B36-A54E-508C9675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F37-E4D6-4DA7-B730-1BA269D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42A6-65B4-49F9-9691-E97246D3FA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1: Introduction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Hiding Outpu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whos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 = 3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b = 2;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c = a * b;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d = c^(b+1);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who    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400" spc="-1" strike="noStrike">
                <a:solidFill>
                  <a:srgbClr val="63f147"/>
                </a:solidFill>
                <a:latin typeface="Courier New"/>
              </a:rPr>
              <a:t>% a, b, c, d are in workspace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a, b, c, d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Plot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versus </a:t>
            </a:r>
            <a:r>
              <a:rPr b="0" i="1" lang="en-US" sz="4400" spc="-1" strike="noStrike">
                <a:solidFill>
                  <a:srgbClr val="d4d4ce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to plotting &amp; displaying 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= 0:0.1:1;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 = x.^2;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os    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ot(x,y,x,y,’o’)   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p(' '),disp('...... x ........ y .....'),disp([x‘ y'])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y 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% x and y are 1-by-11 arrays of numbe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rite a Simple Program</a:t>
            </a: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computing the volume of a co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(pi.*r.^2.*h)./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us = 6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 = 12 inc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command window key i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ear; clc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r = 6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h = 12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&gt;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v = (pi.*r.^2.*h)./3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who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ditor &amp; M-Fil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-fi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MATLAB is analogous to a txt-file in Microsoft Notepa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M-file is created in MATLAB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ext edi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-fi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save your programs (i.e., list of executable commands) as M-f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reopen and modify you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useful for “debugging” (correcting errors) as you develop your programs (your technical computing tool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ents in program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time you write a program to be saved, it is helpful for you to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comment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i.e., describe)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w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nsert a comment on a line in the editor or in the Command Window, use the comment operator </a:t>
            </a:r>
            <a:r>
              <a:rPr b="0" lang="en-US" sz="2800" spc="-1" strike="noStrike">
                <a:solidFill>
                  <a:srgbClr val="63f147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n type your com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not run lines that begin with the comment operator 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</a:rPr>
              <a:t>in the editor comments appear in gre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s allow you (and others) to more easily understand your progr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r lines of code are easy to understand, your code will be easier to use la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rt of well-written co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ell-written program is like literature; it contains comments explain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requires as inpu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he variables in the program repres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your program computes and displ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for you to add a set of header comments that include the name of the program, your name (as the programmer), and the date the program was created or modifi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aving code in an M-Fil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he editor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ing the comm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command window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click the white-sheet-of-paper icon in the upper left hand corner directly below fi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 enter the lines of code to find the volume of a co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r =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 = 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 = (pi.*r.^2.*h)./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MARK: If you save it, add header comments and comments explaining what the program do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you have typed in the code, save it as cone.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is is cone.m in the editor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449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838080" y="2514600"/>
            <a:ext cx="5715000" cy="233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Tool to compute the volume of a co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A simple sample for a first lectu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B.H.&amp; Daniel........... January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rr = 4;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radius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h = 12;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height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54"/>
                </a:solidFill>
                <a:latin typeface="Courier New"/>
              </a:rPr>
              <a:t>v = (pi.*r.^2.*h)./3  </a:t>
            </a:r>
            <a:r>
              <a:rPr b="1" lang="en-US" sz="1400" spc="-1" strike="noStrike">
                <a:solidFill>
                  <a:srgbClr val="17ef26"/>
                </a:solidFill>
                <a:latin typeface="Courier New"/>
              </a:rPr>
              <a:t>% Volume of the co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ecute an M-file as a Command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execute (or run) the program by pushing F5, or by typing on the command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e    &lt;Enter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by clicking the run button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te that th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n butt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ooks like a page with a down arrow to its left. It can be found below help on the toolbar of the edit window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f you entered the code as written on the previous slide you will get an error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 your progra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han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 = 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ve it, and run it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change the height to 24, save and run your program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an be used like a hand calculator to do arithmet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efine (or assign) variables with numbers and expressions to do calculations as illustrated by the volume-of-cone examp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dvantage of saving programs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-fi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at you open it, make changes and/or execute it again without having to type it all over agai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cludes our overview of MATLAB and a taste of things to com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xamine, explore and evaluate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programs to solve technical problems via structure plan (i.e., a design methodology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to formulate algorithms for the steps of the structure pl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ep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 of this lectur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n overview of some of the features of MATLAB as a way to begin you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ion of this new technical computing too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in the art of computer programm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ing to use MATLAB as a notepad for mathematical computations that arise in engineering and science cour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ATLAB desktop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5638680" y="1752480"/>
            <a:ext cx="2857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 His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spac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 Directory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t But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Group 6"/>
          <p:cNvGrpSpPr/>
          <p:nvPr/>
        </p:nvGrpSpPr>
        <p:grpSpPr>
          <a:xfrm>
            <a:off x="1219320" y="1600200"/>
            <a:ext cx="4267080" cy="4038480"/>
            <a:chOff x="1219320" y="1600200"/>
            <a:chExt cx="4267080" cy="4038480"/>
          </a:xfrm>
        </p:grpSpPr>
        <p:pic>
          <p:nvPicPr>
            <p:cNvPr id="57" name="Picture 3" descr=""/>
            <p:cNvPicPr/>
            <p:nvPr/>
          </p:nvPicPr>
          <p:blipFill>
            <a:blip r:embed="rId1"/>
            <a:srcRect l="0" t="0" r="48649" b="0"/>
            <a:stretch/>
          </p:blipFill>
          <p:spPr>
            <a:xfrm>
              <a:off x="1219320" y="1600200"/>
              <a:ext cx="42670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5"/>
            <p:cNvSpPr/>
            <p:nvPr/>
          </p:nvSpPr>
          <p:spPr>
            <a:xfrm>
              <a:off x="1243800" y="4116960"/>
              <a:ext cx="2015280" cy="134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the right is the main panel where you interact with MATLAB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key (or type)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&lt;Enter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mmands after the promp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 MATLAB executes the commands and displays results (if requested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commonly used tools and command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f147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7fb97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63f147"/>
                </a:solidFill>
                <a:latin typeface="Arial"/>
                <a:ea typeface="Times New Roman"/>
              </a:rPr>
              <a:t>up arr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returns last command input, can be repe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the scr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wh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shows list of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le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lears vari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Evaluation of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 with MAT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+3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o the Command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lc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whos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Throughout the lecture, yellow text indicates what you should type into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ommand History Window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mand History Wind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ogs all of the commands you enter in MATLA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have logged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Command History Window to reenter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+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command window (use copy-and- paste or double click on 2+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useful to retrieve past comma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“Shif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key to select multiple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rithmetic with MATLAB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–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\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^2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2/0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0/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3*Inf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Algebraic-numeric computation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t us explore by doing exerci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= 3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b = 2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–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 / b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a^2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c = a * b  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d = c^(b+1)   &lt;Enter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w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30:01Z</dcterms:modified>
  <cp:revision>111</cp:revision>
  <dc:subject/>
  <dc:title>ES100: Lecture 01 Introduction to ES100 and MATLAB</dc:title>
</cp:coreProperties>
</file>