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D784-EA0A-4A77-ACA7-92FCD351C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1C22-9896-4392-B870-7C3DD4C88C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79FE-C6FD-4555-9160-7F9C8E8900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E305-5E97-4A06-8AB7-94C38A9B9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D4A8-1205-40D7-82E9-112737ABF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B68A-04B7-4A5C-B7B7-B42AA082C0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E6FE-E96D-48E7-86EF-1801D1A4F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C0AA-7A51-475F-BBAC-8C59D99E04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29F7-9AC7-4D57-8FEE-E463811E7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9B53-B829-4843-86C1-DE0124036B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709-7901-449A-A754-FE555E3211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BA9-2184-4382-AC94-8BB5DAD7B9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1743-A687-45F3-98D0-176A643C67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BFFE-880F-4707-A4BD-C2EB73CDE4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EF1D-D4E5-4F8F-8D2B-5CCE06E1A6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80F7-9C51-4B38-A3E4-EB9ED93F6E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49B3-F357-48E8-8386-8E512B0E88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401E-3C97-49CE-8398-071DA9AE8B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1D85-CDFD-4F67-A0E2-6E46D3BC6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8980-11F2-4CC7-98C8-776087E7C4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248-9A0C-47CE-BCF2-1AEB75C1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81B-F897-4844-BC13-30F7FA98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36D-7A48-4B03-B972-6AF008FB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CFE-9B97-4441-9FEF-8AC6AED8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517-1323-410A-926C-4378AFF7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0B3-599C-4831-BF26-56EFE8E6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0D5-5682-4CBA-BF0D-19694614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CD7-0A15-4697-996D-FD4E1A19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091-9D3B-40A6-B5FA-85855D78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A66-AC72-40D3-AE35-EE97495C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E60-A556-4FA4-896E-C4F0416E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5DF-0056-419D-ABAD-39D6FB41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A510-FC21-4BCB-87EC-3435A7C369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1: Introduction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cture series based on the t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4d4ce"/>
                </a:solidFill>
                <a:latin typeface="Arial"/>
              </a:rPr>
              <a:t>Essential MATLAB</a:t>
            </a:r>
            <a:r>
              <a:rPr b="0" i="1" lang="en-US" sz="3200" spc="-1" strike="noStrike">
                <a:solidFill>
                  <a:srgbClr val="d4d4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4d4ce"/>
                </a:solidFill>
                <a:latin typeface="Arial"/>
              </a:rPr>
              <a:t>for Engineers and Scien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Hahn &amp; Valent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Hiding Outpu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lear; clc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whos  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 = 3;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b = 2;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 = a * b;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d = c^(b+1);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who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63f147"/>
                </a:solidFill>
                <a:latin typeface="Courier New"/>
              </a:rPr>
              <a:t>% a, b, c, d are in workspace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a, b, c, d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Plot </a:t>
            </a:r>
            <a:r>
              <a:rPr b="0" i="1" lang="en-US" sz="4400" spc="-1" strike="noStrike">
                <a:solidFill>
                  <a:srgbClr val="d4d4ce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 versus </a:t>
            </a:r>
            <a:r>
              <a:rPr b="0" i="1" lang="en-US" sz="4400" spc="-1" strike="noStrike">
                <a:solidFill>
                  <a:srgbClr val="d4d4ce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on to plotting &amp; displaying 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; clc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= 0:0.1:1;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 = x.^2;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os    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ot(x,y,x,y,’o’)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(' '),disp('...... x ........ y .....'),disp([x‘ y'])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y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</a:rPr>
              <a:t>% x and y are 1-by-11 arrays of numbe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rite a Simple Program</a:t>
            </a: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computing the volume of a co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= (pi.*r.^2.*h).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us = 6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= 12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ommand window key i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; clc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r = 6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h = 12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v = (pi.*r.^2.*h)./3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who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ditor &amp; M-File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-f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MATLAB is analogous to a txt-file in Microsoft Notepa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M-file is created in MATLAB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ext edi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-fi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save your programs (i.e., list of executable commands) as M-f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reopen and modify your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useful for “debugging” (correcting errors) as you develop your programs (your technical computing tool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ents in program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ime you write a program to be saved, it is helpful for you to </a:t>
            </a:r>
            <a:r>
              <a:rPr b="0" lang="en-US" sz="2800" spc="-1" strike="noStrike">
                <a:solidFill>
                  <a:srgbClr val="63f147"/>
                </a:solidFill>
                <a:latin typeface="Arial"/>
              </a:rPr>
              <a:t>comment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.e., describe)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sert a comment on a line in the editor or in the Command Window, use the comment operator </a:t>
            </a:r>
            <a:r>
              <a:rPr b="0" lang="en-US" sz="2800" spc="-1" strike="noStrike">
                <a:solidFill>
                  <a:srgbClr val="63f147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n type your com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not run lines that begin with the comment operator (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</a:rPr>
              <a:t>in the editor comments appear in gre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s allow you (and others) to more easily understand your progr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r lines of code are easy to understand, your code will be easier to use l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Art of well-written co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ll-written program is like literature; it contains comments explain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r program requires as inp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e variables in the program repres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r program computes and displ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seful for you to add a set of header comments that include the name of the program, your name (as the programmer), and the date the program was created or modif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aving code in an M-Fil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he editor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ing the comm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command wind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lick the white-sheet-of-paper icon in the upper left hand corner directly below f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enter the lines of code to find the volume of a co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r =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 =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 = (pi.*r.^2.*h)./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MARK: If you save it, add header comments and comments explaining what the program do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you have typed in the code, save it as cone.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is is cone.m in the editor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4495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838080" y="2514600"/>
            <a:ext cx="5715000" cy="23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Tool to compute the volume of a co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A simple sample for a first lectu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B.H.&amp; Daniel........... Januar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rr = 4; 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radius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h = 12;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height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v = (pi.*r.^2.*h)./3 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Volume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ecute an M-file as a Command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execute (or run) the program by pushing F5, or by typing on the command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e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by clicking the run butto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te that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 butt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ooks like a page with a down arrow to its left. It can be found below help on the toolbar of the edit window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f you entered the code as written on the previous slide you will get an error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ir your progra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han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r =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 =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ve it, and run it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change the height to 24, save and run your program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can be used like a hand calculator to do arithmet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define (or assign) variables with numbers and expressions to do calculations as illustrated by the volume-of-cone exam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dvantage of saving programs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-fi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at you open it, make changes and/or execute it again without having to type it all over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cludes our overview of MATLAB and a taste of things to com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s of cours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examine, explore and evaluate MATLA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o technical computing with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sign programs to solve technical problems via structure plan (i.e., a design methodology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to formulate algorithms for the steps of the structure pl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translate the steps into computer programs to solve engineering and scientific proble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 of this lectur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an overview of some of the features of MATLAB as a way to begin yo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on of this new technical computing t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in the art of computer programm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to use MATLAB as a notepad for mathematical computations that arise in engineering and science cour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ATLAB deskto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38680" y="1752480"/>
            <a:ext cx="2857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 History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pac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Directory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1219320" y="1600200"/>
            <a:ext cx="4267080" cy="4038480"/>
            <a:chOff x="1219320" y="1600200"/>
            <a:chExt cx="4267080" cy="4038480"/>
          </a:xfrm>
        </p:grpSpPr>
        <p:pic>
          <p:nvPicPr>
            <p:cNvPr id="57" name="Picture 3" descr=""/>
            <p:cNvPicPr/>
            <p:nvPr/>
          </p:nvPicPr>
          <p:blipFill>
            <a:blip r:embed="rId1"/>
            <a:srcRect l="0" t="0" r="48649" b="0"/>
            <a:stretch/>
          </p:blipFill>
          <p:spPr>
            <a:xfrm>
              <a:off x="1219320" y="1600200"/>
              <a:ext cx="42670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5"/>
            <p:cNvSpPr/>
            <p:nvPr/>
          </p:nvSpPr>
          <p:spPr>
            <a:xfrm>
              <a:off x="1243800" y="4116960"/>
              <a:ext cx="2015280" cy="134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and Window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mand Wind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right is the main panel where you interact with MATLA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key (or type)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Enter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ands after the promp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MATLAB executes the commands and displays results (if requeste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ommonly used tools and command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f147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7fb97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  <a:ea typeface="Times New Roman"/>
              </a:rPr>
              <a:t>up arr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returns last command input, can be repe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l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lears the sc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wh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shows list of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l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lears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valuation of MATLAB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-ON with MATL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2+3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o the Command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clc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800" spc="-1" strike="noStrike">
                <a:solidFill>
                  <a:srgbClr val="ff66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whos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Throughout the lecture, yellow text indicates what you should type into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and History Window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mand History Wind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gs all of the commands you enter in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have logg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Command History Window to reente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command window (use copy-and- paste or double click on 2+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useful to retrieve past comm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“Shif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ey to select multiple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Arithmetic with MATLAB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–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*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/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\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^2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2/0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0/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*Inf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Algebraic-numeric computation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= 3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b = 2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– b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/ b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^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c = a * b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d = c^(b+1)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w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Osama</cp:lastModifiedBy>
  <dcterms:modified xsi:type="dcterms:W3CDTF">2011-02-18T18:30:01Z</dcterms:modified>
  <cp:revision>111</cp:revision>
  <dc:subject/>
  <dc:title>ES100: Lecture 01 Introduction to ES100 and MATLAB</dc:title>
</cp:coreProperties>
</file>