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A5E8-9666-48BE-8CB1-809D1D66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651-2D3E-47FD-96CA-603954BDA9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4BE-AF1B-4774-92BF-2A1331F6D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3702-8BF4-49E6-946D-98CC43A06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6496-98B1-4A0A-A8F4-BFE03879F5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19F5-E4E9-43E4-AC89-7A3D72CAD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E582-BBC3-4A10-9D9D-5240D610BA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A88E-1B03-474E-AEF7-28C885D22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C32-824A-4563-925E-B2E0EC102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9981-39F4-43CF-BCD7-AC6E5334EF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26C1-06E0-4EE1-AFC6-51F915BCB0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5F53-5578-4FBC-A5B1-1D3E031D59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C8C-D600-4B8B-B8D9-62010F1D85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225F-3B9F-4C79-8DB4-B32BFD09D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13F-94F5-427E-8A59-B0E2ABCF4D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EC66-69C7-46B3-A18F-8FAD17586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4640-4FE8-43B7-B58F-F4AB1F4AFB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0EE-0B55-498D-ACCD-D002C1FF8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E4D7-71E6-47E5-A934-4550CAD1FC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C6A-7D9A-4573-8ED9-6188944131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48F-D6FA-4669-82CF-0D30D0AD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6C9-5FC2-4CFD-ABF2-E35E9139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AC7-E755-4E2B-AFA9-CF04C04D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7CE-AC28-40AA-8879-1CC42415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3D6-5C26-49A9-8E53-E50E5F16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6CA-F081-4004-B40F-292D747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86B-A67E-4437-8973-D511553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C35-89E4-41D6-BE29-DDF4857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EEAA-CEA4-471E-B20A-C511F568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E0E-1F41-4C32-9DA0-083C108C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FE9-3B57-4950-9AB1-940E855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7EB-9360-4EA4-B331-EC272282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90C-4F76-434B-A963-2B862A0A586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1: Introduction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Hiding Outpu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s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 = 3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b = 2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a * b;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d = c^(b+1);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who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63f147"/>
                </a:solidFill>
                <a:latin typeface="Courier New"/>
              </a:rPr>
              <a:t>% a, b, c, d are in workspace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, b, c, d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Plot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versus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to plotting &amp; displaying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= 0:0.1:1;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 = x.^2;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s  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ot(x,y,x,y,’o’)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(' '),disp('...... x ........ y .....'),disp([x‘ y'])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% x and y are 1-by-11 arrays of numb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rite a Simple Program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omputing the volume of a co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(pi.*r.^2.*h).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us = 6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= 12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mmand window key i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r = 6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 = 12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v = (pi.*r.^2.*h)./3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wh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ditor &amp; M-Fil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-f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MATLAB is analogous to a txt-file in Microsoft Notep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M-file is created in MATLAB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xt edi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-fi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ave your programs (i.e., list of executable commands) as M-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reopen and modify you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useful for “debugging” (correcting errors) as you develop your programs (your technical computing too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ents in progra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write a program to be saved, it is helpful for you to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commen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.e., describe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sert a comment on a line in the editor or in the Command Window, use the comment operator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ype your com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not run lines that begin with the comment operator 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in the editor comments appear in gr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allow you (and others) to more easily understand your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r lines of code are easy to understand, your code will be easier to us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rt of well-written co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ll-written program is like literature; it contains comments explai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requires as inp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 variables in the program repres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computes and displ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for you to add a set of header comments that include the name of the program, your name (as the programmer), and the date the program was created or modif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ving code in an M-Fi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editor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ng the comm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command wind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lick the white-sheet-of-paper icon in the upper left hand corner directly below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enter the lines of code to find the volume of a co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r =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 =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 = (pi.*r.^2.*h)./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MARK: If you save it, add header comments and comments explaining what the program do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you have typed in the code, save it as cone.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is is cone.m in the editor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838080" y="2514600"/>
            <a:ext cx="5715000" cy="23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Tool to compute the volume of a co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A simple sample for a first lectu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B.H.&amp; Daniel........... Januar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rr = 4;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radius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h = 12;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height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v = (pi.*r.^2.*h)./3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Volume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ecute an M-file as a Command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xecute (or run) the program by pushing F5, or by typing on the command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e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by clicking the run butt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e that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but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ooks like a page with a down arrow to its left. It can be found below help on the toolbar of the edit window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f you entered the code as written on the previous slide you will get an error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 your progra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ve it, and run it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hange the height to 24, save and run your program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an be used like a hand calculator to do arithmet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efine (or assign) variables with numbers and expressions to do calculations as illustrated by the volume-of-con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saving programs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-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at you open it, make changes and/or execute it again without having to type it all over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cludes our overview of MATLAB and a taste of things to co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xamine, explore and evaluate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programs to solve technical problems via structure plan (i.e., a design methodolog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to formulate algorithms for the steps of the structure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ep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 of this lectur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n overview of some of the features of MATLAB as a way to begin y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this new technical computing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in the art of computer programm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to use MATLAB as a notepad for mathematical computations that arise in engineering and science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ATLAB deskto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8680" y="1752480"/>
            <a:ext cx="285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His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pac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Direc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1219320" y="1600200"/>
            <a:ext cx="4267080" cy="4038480"/>
            <a:chOff x="1219320" y="1600200"/>
            <a:chExt cx="4267080" cy="403848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rcRect l="0" t="0" r="48649" b="0"/>
            <a:stretch/>
          </p:blipFill>
          <p:spPr>
            <a:xfrm>
              <a:off x="1219320" y="1600200"/>
              <a:ext cx="42670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5"/>
            <p:cNvSpPr/>
            <p:nvPr/>
          </p:nvSpPr>
          <p:spPr>
            <a:xfrm>
              <a:off x="1243800" y="4116960"/>
              <a:ext cx="2015280" cy="13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right is the main panel where you interact with MATLA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key (or type)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s after the promp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MATLAB executes the commands and displays results (if request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only used tools and comman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f147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7fb97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  <a:ea typeface="Times New Roman"/>
              </a:rPr>
              <a:t>up arr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returns last command input, can be repe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wh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shows list of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valuation of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 with MAT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+3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 the Command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lc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whos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Throughout the lecture, yellow text indicates what you should type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History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History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s all of the commands you enter in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have logg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Command History Window to reen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mmand window (use copy-and- paste or double click on 2+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useful to retrieve past com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Shif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y to select multiple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rithmetic with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–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\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^2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/0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0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Inf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lgebraic-numeric computation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= 3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b = 2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–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/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^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 = a * b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= c^(b+1)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30:01Z</dcterms:modified>
  <cp:revision>111</cp:revision>
  <dc:subject/>
  <dc:title>ES100: Lecture 01 Introduction to ES100 and MATLAB</dc:title>
</cp:coreProperties>
</file>