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C55-A16E-4601-B609-BDB01441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71F-5243-4558-BE46-6FF09506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EB4-CB19-43C6-B367-007679DC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CFA9-B046-41CC-90D2-99DDC0AD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9362-CF0B-4890-AF8C-9513B76B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35AE-639B-47CD-B42C-2010930F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DAC3-F1D0-405B-B948-F0578E54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A353-1BD8-4B82-8712-59B357BA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77FF-5158-49E3-BBC5-45B93CE4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EDB7-B92B-4A2B-86E8-34546510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2A5F-3AF4-4EF1-AABE-BE13293E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357-1D99-41EE-AF20-523F0871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EC01-3899-446B-A6F8-4C8E2C10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D5C9-0483-44D9-B012-51FAE8F9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8857-FE65-4791-AEA1-69F8B8E8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65F7-F863-4E05-8339-220D6456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9C81-C4A4-4CF7-BE2C-2316A1CE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FA3A-813C-4F12-9002-8C166F74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AE1-B735-4996-9E75-DF27F645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646-D36B-42B1-A22E-ABB674CA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1F4-1D39-4DBA-B797-B7EC86C3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79C-9331-4D69-A22F-DDE2F335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5CE-E70F-4D0E-A1E4-CA54CAF1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A8BC-138B-492F-8237-D152757A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2015-366F-49C9-AE82-8EF83D75B4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9DC3-6CFC-468E-A2CD-7008186F05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Lecture 3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reating </a:t>
            </a:r>
            <a:r>
              <a:rPr b="0" i="1" lang="en-US" sz="4800" spc="-1" strike="noStrike">
                <a:solidFill>
                  <a:srgbClr val="ccffff"/>
                </a:solidFill>
                <a:latin typeface="Tahoma"/>
              </a:rPr>
              <a:t>M-files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ming tool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/outpu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assign/graph-&amp;-displa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tition (f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ision (i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blem statemen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d the altitude of the hill at 0.5 meter intervals from -5 meters to 5 meters using the shape described and illustrated in the previous two slid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ulate the resul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ructure pla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ucture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ize the range of X in 0.5 meter interv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ute y, the altitude, with the formul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 = 1 – tanh(3*X/5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play the results in a t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 of the structure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the editor by typing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d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command windo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late plan into the M-file langu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1143000"/>
            <a:ext cx="5257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onsole"/>
                <a:ea typeface="Arial"/>
              </a:rPr>
              <a:t>This is from editor: It is lec3.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ki slope offsets for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HYPERBOLIC TANGENT 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by D.T. Valentine...January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Points at which the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is to be evalua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1: Input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x = -5:0.5:5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2: Compute the y offse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that is, the altitu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y = 1 - tanh(3.*x./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3: Display results in a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' ') </a:t>
            </a: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kips a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'       X        Y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[x' y'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838080"/>
            <a:ext cx="33526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</a:t>
            </a:r>
            <a:r>
              <a:rPr b="1" lang="es-ES" sz="1800" spc="-1" strike="noStrike">
                <a:solidFill>
                  <a:srgbClr val="ffff00"/>
                </a:solidFill>
                <a:latin typeface="Lucida Console"/>
                <a:ea typeface="Arial"/>
              </a:rPr>
              <a:t>Command window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X       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5.0000    1.99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4.5000    1.99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4.0000    1.98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3.5000    1.97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3.0000    1.946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2.5000    1.90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2.0000    1.83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1.5000    1.71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1.0000    1.53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0.5000    1.29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 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0    1.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0.5000    0.708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1.0000    0.46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1.5000    0.28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2.0000    0.16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2.5000    0.09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3.0000    0.053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3.5000    0.02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4.0000    0.01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4.5000    0.00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5.0000    0.0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0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Arial"/>
              </a:rPr>
              <a:t>SOLUTION TO IN-CLASS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se of repetition (‘for’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tition: In the previous example, the fastest way to compute y was used. An alternative way is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lac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 = 1 - tanh(3.*x./5); </a:t>
            </a:r>
            <a:r>
              <a:rPr b="0" lang="en-US" sz="2400" spc="-1" strike="noStrike">
                <a:solidFill>
                  <a:srgbClr val="0bff0b"/>
                </a:solidFill>
                <a:latin typeface="Tahoma"/>
              </a:rPr>
              <a:t>% This is “vectorized” approa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or n=1: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y(n) = 1 - tanh(3*x(n)/5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ark: Of course, the output is the sa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143000"/>
            <a:ext cx="5257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onsole"/>
                <a:ea typeface="Arial"/>
              </a:rPr>
              <a:t>This is from editor: It is lec3_2.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ki slope offsets for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HYPERBOLIC TANGENT 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by D.T. Valentine...January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Points at which the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is to be evalua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1: Input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x = -5:0.5:5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2: Compute the y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for n=1: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y(n) = 1 - tanh(3*x(n)/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tep 3: Display results in a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' ') </a:t>
            </a:r>
            <a:r>
              <a:rPr b="0" lang="en-US" sz="1800" spc="-1" strike="noStrike">
                <a:solidFill>
                  <a:srgbClr val="0bff0b"/>
                </a:solidFill>
                <a:latin typeface="Lucida Console"/>
                <a:ea typeface="Arial"/>
              </a:rPr>
              <a:t>% Skips a 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'       X        Y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disp([x' y'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838080"/>
            <a:ext cx="33526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</a:t>
            </a:r>
            <a:r>
              <a:rPr b="1" lang="es-ES" sz="1800" spc="-1" strike="noStrike">
                <a:solidFill>
                  <a:srgbClr val="ffff00"/>
                </a:solidFill>
                <a:latin typeface="Lucida Console"/>
                <a:ea typeface="Arial"/>
              </a:rPr>
              <a:t>Command window 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Lucida Console"/>
                <a:ea typeface="Arial"/>
              </a:rPr>
              <a:t>   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X        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5.0000    1.99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4.5000    1.99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4.0000    1.98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3.5000    1.97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3.0000    1.946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2.5000    1.90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2.0000    1.83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1.5000    1.71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1.0000    1.53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-0.5000    1.29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 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0    1.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0.5000    0.708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1.0000    0.46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1.5000    0.28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2.0000    0.16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2.5000    0.09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3.0000    0.053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3.5000    0.02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4.0000    0.01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4.5000    0.00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    </a:t>
            </a:r>
            <a:r>
              <a:rPr b="0" i="1" lang="es-ES" sz="1600" spc="-1" strike="noStrike">
                <a:solidFill>
                  <a:srgbClr val="ffffff"/>
                </a:solidFill>
                <a:latin typeface="Lucida Console"/>
                <a:ea typeface="Arial"/>
              </a:rPr>
              <a:t>5.0000    0.0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Arial"/>
              </a:rPr>
              <a:t>SOLUTION TO IN-CLASS EXERC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ecision: Application of ‘if’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erature conversion proble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vert C to F or F to 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209680"/>
            <a:ext cx="82296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 Temperature conversion from C to 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 or F to C as requested by the us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ec = input(' Which way?: 1 =&gt; C to F? 0 =&gt; F to C: 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mp = input(' What is the temperature you want to convert? 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ff0b"/>
                </a:solidFill>
                <a:latin typeface="Courier New"/>
              </a:rPr>
              <a:t>% Note the logical equals sgn (==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ec ==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TF = (9/5)*Temp + 3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isp(' Temperature in F: '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isp(T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TC = (5/9)*(Temp-32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isp(' Temperature in C: '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disp(T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Decision: Application of ‘if’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erature conversion problem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vert C to F or F to 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ed, by an example, the structure plan approach to design approaches to solve technical problem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: Assignment with and without ‘input’ ut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put: Graphical &amp; tabular were sh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lustrated array dot-operation, repetition (for) and decision (if) programming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view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 of numbers in brack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comma or space separates numbers (colum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semicolon separates r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eros and ones Matric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zeros()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es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x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row,colum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on Operato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nge of Data first:last  or  first:increment:la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ipulating Arrays &amp; Matr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po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p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input to array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number array &amp; scalar:               1 ×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=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w array &amp; row vector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1 × 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 = [1 3 2 5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umn array &amp; column vector:              n x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 = b’  </a:t>
            </a:r>
            <a:r>
              <a:rPr b="0" lang="en-US" sz="2400" spc="-1" strike="noStrike">
                <a:solidFill>
                  <a:srgbClr val="0bff0b"/>
                </a:solidFill>
                <a:latin typeface="Arial"/>
              </a:rPr>
              <a:t>% This an application of the transpos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ay of n rows x m columns &amp; Matrix:  n × 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03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 = [1 2 3; 4 5 6; 7 6 9]  </a:t>
            </a:r>
            <a:r>
              <a:rPr b="0" lang="en-US" sz="2400" spc="-1" strike="noStrike">
                <a:solidFill>
                  <a:srgbClr val="0bff0b"/>
                </a:solidFill>
                <a:latin typeface="Arial"/>
              </a:rPr>
              <a:t>% This example is 3 x 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asic elements of a progra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ize, define or assign numerical values to vari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of command expre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rations applied to input variables that lead to the desired resul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play (graphically or numerically) res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An example of technical computing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consider using the hyperbolic tangent to model a down-hill section of a snowboard or snow ski fac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first examine the hyperbolic tangent function by executing the comman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ezplot( </a:t>
            </a:r>
            <a:r>
              <a:rPr b="0" lang="en-US" sz="2800" spc="-1" strike="noStrike">
                <a:solidFill>
                  <a:srgbClr val="db97ed"/>
                </a:solidFill>
                <a:latin typeface="Tahoma"/>
              </a:rPr>
              <a:t>‘tanh(x)’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get the following grap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zplot(‘tanh(x)’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66680" y="1314360"/>
            <a:ext cx="693432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yperbolic tangent: tanh(X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erties (as illustrated in the figure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X approaches –Inf, tanh(X) approaches -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X approaches Inf, tanh(X) approaches +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 = 0, tanh(X) = 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tion from -1 to 1 is smooth and most rapid (roughly speaking) in the ran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2&lt;X&lt;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MARK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ith this familiarity with tanh(X), let us apply it to solve the following probl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blem backgrou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consider the design of a slope that is to be modeled by tanh(X). Consider the range -3&lt;X&lt;3, and assume the slope changes negligibly for |X|&gt;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s, for –3 &lt; X &lt; 3, –1 &lt; tanh(X) &lt; 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ant to design a downhill slope such that in 10 meters the hill drops 2 me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us, as shown next, the following formula is needed: y = 1 – tanh(3*X/5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ormula for snow hill shap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1-26T14:38:34Z</dcterms:modified>
  <cp:revision>79</cp:revision>
  <dc:subject/>
  <dc:title>Lecture 03 Matrices</dc:title>
</cp:coreProperties>
</file>