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3A0-CE06-43BC-834D-61D46D24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1E9-9856-41EC-A6F2-2C09E03C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B0D-ED60-4CC6-8A0D-26EF45CF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D5F-FEE4-47F6-896C-EA6CE239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CACC-15BD-4F79-AF6A-D7B8FC21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EDC0-11A8-437E-9A00-FF90A76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C1E9-9D58-4AF9-A7A0-EA1AAE66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A833-B270-4346-BCFC-F2B33929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622E-4B41-46E8-86C9-EEFFA940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FD0B-AFD6-4933-BF12-6421B6A5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364-A579-44EE-B257-45FC9E3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CA2-DFAD-454F-8E85-34CF538E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81C5-D5A6-418A-9BB6-F5DDB38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3942-2082-42BF-95E1-DDDAE7F5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175-33BF-4BA8-9925-5188A0DF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8FE4-55B3-464E-98DF-28439E42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28E3-92F9-4172-BAAD-C8421BEA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8C5-DFD7-4A28-8E2C-67863FD3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6F2-8E71-40E0-956D-2E219A52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4E2-0357-4B75-BE50-9BC2C18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189-F242-446F-859B-818B5BE6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9DC-82D8-4A3D-8EAE-26D02B7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57F-5807-4AF5-B4AB-C23EB58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599-8811-4652-BF30-F066A7FC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311-67BA-4B12-852D-E690A9DAD6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32FD-E0E1-466E-A41E-EC96EFCF6E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reating </a:t>
            </a:r>
            <a:r>
              <a:rPr b="0" i="1" lang="en-US" sz="4800" spc="-1" strike="noStrike">
                <a:solidFill>
                  <a:srgbClr val="ccffff"/>
                </a:solidFill>
                <a:latin typeface="Tahoma"/>
              </a:rPr>
              <a:t>M-fil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too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/outp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ssign/graph-&amp;-displ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 (f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(i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altitude of the hill at 0.5 meter intervals from -5 meters to 5 meters using the shape described and illustrated in the previous two slid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ulate the resul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e pla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 the range of X in 0.5 meter interv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 y, the altitude, with the formul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 = 1 – tanh(3*X/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the results in a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of the 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the editor by typ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and wind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e plan into the M-file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that is, the altit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y = 1 - tanh(3.*x.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 of repetition (‘for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: In the previous example, the fastest way to compute y was used. An alternative way i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 = 1 - tanh(3.*x./5); </a:t>
            </a:r>
            <a:r>
              <a:rPr b="0" lang="en-US" sz="2400" spc="-1" strike="noStrike">
                <a:solidFill>
                  <a:srgbClr val="0bff0b"/>
                </a:solidFill>
                <a:latin typeface="Tahoma"/>
              </a:rPr>
              <a:t>% This is “vectorized” appro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ark: Of course, the output is the sa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_2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20968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Temperature conversion from C to 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or F to C as requested by the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c = input(' Which way?: 1 =&gt; C to F? 0 =&gt; F to C: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mp = input(' What is the temperature you want to convert?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Note the logical equals sgn (==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c =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F = (9/5)*Temp + 3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F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C = (5/9)*(Temp-3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C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ed, by an example, the structure plan approach to design approaches to solve technical proble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: Assignment with and without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: Graphical &amp; tabular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d array dot-operation, repetition (for) and decision (if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 of numbers in brack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a or space separates numbers (colum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emicolon separates 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ros and ones Matric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eros(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s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x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ow,colum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n Operat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nge of Data first:last  or  first:increment:l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Arrays &amp; Matr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po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input to arr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number array &amp; scalar:               1 ×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 array &amp; row vec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1 ×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[1 3 2 5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n array &amp; column vector:              n x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b’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an application of the transpo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y of n rows x m columns &amp; Matrix:  n ×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= [1 2 3; 4 5 6; 7 6 9]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example is 3 x 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asic elements of a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, define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of command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n example of technical computing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using the hyperbolic tangent to model a down-hill section of a snowboard or snow ski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first examine the hyperbolic tangent function by executing the comm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zplot( </a:t>
            </a:r>
            <a:r>
              <a:rPr b="0" lang="en-US" sz="2800" spc="-1" strike="noStrike">
                <a:solidFill>
                  <a:srgbClr val="db97ed"/>
                </a:solidFill>
                <a:latin typeface="Tahoma"/>
              </a:rPr>
              <a:t>‘tanh(x)’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et the following 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zplot(‘tanh(x)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131436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yperbolic tangent: tanh(X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ties (as illustrated in the figur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–Inf, tanh(X) approaches -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Inf, tanh(X) approaches +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, tanh(X) 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from -1 to 1 is smooth and most rapid (roughly speaking) in the r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&lt;X&lt;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MAR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this familiarity with tanh(X), let us apply it to solve the following probl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backgro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the design of a slope that is to be modeled by tanh(X). Consider the range -3&lt;X&lt;3, and assume the slope changes negligibly for |X|&gt;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for –3 &lt; X &lt; 3, –1 &lt; tanh(X) &lt;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design a downhill slope such that in 10 meters the hill drops 2 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as shown next, the following formula is needed: y = 1 – tanh(3*X/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ula for snow hill shap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1-26T14:38:34Z</dcterms:modified>
  <cp:revision>79</cp:revision>
  <dc:subject/>
  <dc:title>Lecture 03 Matrices</dc:title>
</cp:coreProperties>
</file>