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4401-1D00-4A82-BEF5-52181BD5E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5B3B-723B-450F-8B84-A933C12E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CDD7-CF35-4A2D-9A20-B8DBF6F4D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EC18-2C3B-422A-B034-87418A0D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B0E8-F7B5-4889-9022-14DB48EA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1BF5-ED4A-4BB2-9321-B2392AE3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E1D7-3D21-40EC-A498-D819A154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4E45-D689-44BC-B61D-333F0D9B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E411-980F-45B3-97E3-96DD8462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E758-D076-4F9E-A4D0-DF5C4451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680C-9867-4935-9D6C-A6B4AE27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474D-965B-4717-B711-6D4A248B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711A-2C43-446A-91DC-8FAE6A2C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2A47-FFBE-4FDC-93E2-6AF0F681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B335-9767-49B2-A18B-E586D4C5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AE1A-A53B-4986-8269-4CE965502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64F0-5ADC-4286-A4F9-FB9BB8AA1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BA1B-D626-4DA1-8C92-F6E21F39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72CB-BCAE-48DC-AE85-494A04B4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B1A3-B215-4617-8883-B9562F22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B42C-2608-4FBA-9A48-F7EE1235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7D6B-E8F3-4269-B287-EA10DAF6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0AEA-0001-482E-AA61-0D2BB6A8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F999-3D4D-4893-A2A6-01619A1E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A528-C1F0-4704-932F-7A28A55039D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A05D-37CD-41FB-BB33-39360C20C90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Lecture 3</a:t>
            </a:r>
            <a:br>
              <a:rPr sz="4800"/>
            </a:b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Creating </a:t>
            </a:r>
            <a:r>
              <a:rPr b="0" i="1" lang="en-US" sz="4800" spc="-1" strike="noStrike">
                <a:solidFill>
                  <a:srgbClr val="ccffff"/>
                </a:solidFill>
                <a:latin typeface="Tahoma"/>
              </a:rPr>
              <a:t>M-files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amming tool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put/outpu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assign/graph-&amp;-displa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etition (fo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ision (if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5214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© 2007 Daniel Valentine. All rights reserved. Published by Elsevier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oblem statemen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altitude of the hill at 0.5 meter intervals from -5 meters to 5 meters using the shape described and illustrated in the previous two slid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bulate the resul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ructure pla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ucture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tialize the range of X in 0.5 meter interva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ute y, the altitude, with the formula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 = 1 – tanh(3*X/5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play the results in a ta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lementation of the structure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n the editor by typing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di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the command windo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late plan into the M-file langua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00" y="1143000"/>
            <a:ext cx="5257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onsole"/>
                <a:ea typeface="Arial"/>
              </a:rPr>
              <a:t>This is from editor: It is lec3.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Ski slope offsets for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HYPERBOLIC TANGENT DESIG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by D.T. Valentine...January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Points at which the 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is to be evaluat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Step 1: Input 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x = -5:0.5:5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Step 2: Compute the y offse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that is, the altitud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y = 1 - tanh(3.*x./5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Step 3: Display results in a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disp(' ') </a:t>
            </a: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Skips a 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disp('       X        Y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disp([x' y']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838080"/>
            <a:ext cx="335268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</a:t>
            </a:r>
            <a:r>
              <a:rPr b="1" lang="es-ES" sz="1800" spc="-1" strike="noStrike">
                <a:solidFill>
                  <a:srgbClr val="ffff00"/>
                </a:solidFill>
                <a:latin typeface="Lucida Console"/>
                <a:ea typeface="Arial"/>
              </a:rPr>
              <a:t>Command window OUT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  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X        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5.0000    1.995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4.5000    1.99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4.0000    1.983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3.5000    1.97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3.0000    1.946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2.5000    1.905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2.0000    1.833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1.5000    1.716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1.0000    1.53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0.5000    1.291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 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0    1.0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0.5000    0.708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1.0000    0.46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1.5000    0.283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2.0000    0.166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2.5000    0.094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3.0000    0.053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3.5000    0.02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4.0000    0.016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4.5000    0.00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5.0000    0.004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3808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ff"/>
                </a:solidFill>
                <a:latin typeface="Arial"/>
              </a:rPr>
              <a:t>SOLUTION TO IN-CLASS EXERC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se of repetition (‘for’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etition: In the previous example, the fastest way to compute y was used. An alternative way is as follow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plac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y = 1 - tanh(3.*x./5); </a:t>
            </a:r>
            <a:r>
              <a:rPr b="0" lang="en-US" sz="2400" spc="-1" strike="noStrike">
                <a:solidFill>
                  <a:srgbClr val="0bff0b"/>
                </a:solidFill>
                <a:latin typeface="Tahoma"/>
              </a:rPr>
              <a:t>% This is “vectorized” approac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th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for n=1:2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y(n) = 1 - tanh(3*x(n)/5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ark: Of course, the output is the sa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1143000"/>
            <a:ext cx="5257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onsole"/>
                <a:ea typeface="Arial"/>
              </a:rPr>
              <a:t>This is from editor: It is lec3_2.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Ski slope offsets for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HYPERBOLIC TANGENT DESIG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by D.T. Valentine...January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Points at which the 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is to be evaluat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Step 1: Input 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x = -5:0.5:5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Step 2: Compute the y off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for n=1: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y(n) = 1 - tanh(3*x(n)/5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Step 3: Display results in a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disp(' ') </a:t>
            </a: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Skips a 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disp('       X        Y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disp([x' y']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86400" y="838080"/>
            <a:ext cx="335268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</a:t>
            </a:r>
            <a:r>
              <a:rPr b="1" lang="es-ES" sz="1800" spc="-1" strike="noStrike">
                <a:solidFill>
                  <a:srgbClr val="ffff00"/>
                </a:solidFill>
                <a:latin typeface="Lucida Console"/>
                <a:ea typeface="Arial"/>
              </a:rPr>
              <a:t>Command window OUT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  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X        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5.0000    1.995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4.5000    1.99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4.0000    1.983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3.5000    1.97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3.0000    1.946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2.5000    1.905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2.0000    1.833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1.5000    1.716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1.0000    1.53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0.5000    1.291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 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0    1.0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0.5000    0.708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1.0000    0.46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1.5000    0.283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2.0000    0.166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2.5000    0.094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3.0000    0.053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3.5000    0.02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4.0000    0.016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4.5000    0.00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5.0000    0.004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3808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ff"/>
                </a:solidFill>
                <a:latin typeface="Arial"/>
              </a:rPr>
              <a:t>SOLUTION TO IN-CLASS EXERC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cision: Application of ‘if’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mperature conversion proble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vert C to F or F to 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2209680"/>
            <a:ext cx="82296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ff0b"/>
                </a:solidFill>
                <a:latin typeface="Courier New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ff0b"/>
                </a:solidFill>
                <a:latin typeface="Courier New"/>
              </a:rPr>
              <a:t>% Temperature conversion from C to 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ff0b"/>
                </a:solidFill>
                <a:latin typeface="Courier New"/>
              </a:rPr>
              <a:t>% or F to C as requested by the us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ff0b"/>
                </a:solidFill>
                <a:latin typeface="Courier New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ec = input(' Which way?: 1 =&gt; C to F? 0 =&gt; F to C: 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mp = input(' What is the temperature you want to convert? 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ff0b"/>
                </a:solidFill>
                <a:latin typeface="Courier New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ff0b"/>
                </a:solidFill>
                <a:latin typeface="Courier New"/>
              </a:rPr>
              <a:t>% Note the logical equals sgn (==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ffff"/>
                </a:solidFill>
                <a:latin typeface="Courier New"/>
              </a:rPr>
              <a:t>if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Dec ==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TF = (9/5)*Temp + 3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disp(' Temperature in F: '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disp(TF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ffff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TC = (5/9)*(Temp-32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disp(' Temperature in C: '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disp(T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Decision: Application of ‘if’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mperature conversion problem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vert C to F or F to 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LU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roduced, by an example, the structure plan approach to design approaches to solve technical problem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put: Assignment with and without ‘input’ ut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put: Graphical &amp; tabular were show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llustrated array dot-operation, repetition (for) and decision (if) programming too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view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ra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st of numbers in bracke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comma or space separates numbers (column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semicolon separates ro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eros and ones Matrice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zeros()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es(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ex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row,colum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lon Operator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ange of Data first:last  or  first:increment:la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ipulating Arrays &amp; Matr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anspo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p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of input to array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le number array &amp; scalar:               1 ×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=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w array &amp; row vector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1 × 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 = [1 3 2 5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umn array &amp; column vector:              n x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 = b’  </a:t>
            </a:r>
            <a:r>
              <a:rPr b="0" lang="en-US" sz="2400" spc="-1" strike="noStrike">
                <a:solidFill>
                  <a:srgbClr val="0bff0b"/>
                </a:solidFill>
                <a:latin typeface="Arial"/>
              </a:rPr>
              <a:t>% This an application of the transpos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ray of n rows x m columns &amp; Matrix:  n × 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 = [1 2 3; 4 5 6; 7 6 9]  </a:t>
            </a:r>
            <a:r>
              <a:rPr b="0" lang="en-US" sz="2400" spc="-1" strike="noStrike">
                <a:solidFill>
                  <a:srgbClr val="0bff0b"/>
                </a:solidFill>
                <a:latin typeface="Arial"/>
              </a:rPr>
              <a:t>% This example is 3 x 3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Basic elements of a progra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p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tialize, define or assign numerical values to variab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t of command expres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rations applied to input variables that lead to the desired resul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p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play (graphically or numerically) resul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An example of technical computing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 us consider using the hyperbolic tangent to model a down-hill section of a snowboard or snow ski fac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 us first examine the hyperbolic tangent function by executing the comman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&gt;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zplot( </a:t>
            </a:r>
            <a:r>
              <a:rPr b="0" lang="en-US" sz="2800" spc="-1" strike="noStrike">
                <a:solidFill>
                  <a:srgbClr val="db97ed"/>
                </a:solidFill>
                <a:latin typeface="Tahoma"/>
              </a:rPr>
              <a:t>‘tanh(x)’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get the following graph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zplot(‘tanh(x)’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66680" y="1314360"/>
            <a:ext cx="693432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yperbolic tangent: tanh(X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perties (as illustrated in the figure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X approaches –Inf, tanh(X) approaches -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X approaches Inf, tanh(X) approaches +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 = 0, tanh(X) = 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ition from -1 to 1 is smooth and most rapid (roughly speaking) in the rang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2&lt;X&lt;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REMARK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ith this familiarity with tanh(X), let us apply it to solve the following probl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oblem backgroun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 us consider the design of a slope that is to be modeled by tanh(X). Consider the range -3&lt;X&lt;3, and assume the slope changes negligibly for |X|&gt;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us, for –3 &lt; X &lt; 3, –1 &lt; tanh(X) &lt; 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ant to design a downhill slope such that in 10 meters the hill drops 2 met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us, as shown next, the following formula is needed: y = 1 – tanh(3*X/5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ormula for snow hill shap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3:02:08Z</dcterms:created>
  <dc:creator/>
  <dc:description/>
  <dc:language>en-US</dc:language>
  <cp:lastModifiedBy>eatonh</cp:lastModifiedBy>
  <dcterms:modified xsi:type="dcterms:W3CDTF">2007-01-26T14:38:34Z</dcterms:modified>
  <cp:revision>79</cp:revision>
  <dc:subject/>
  <dc:title>Lecture 03 Matrices</dc:title>
</cp:coreProperties>
</file>