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827C-8A7B-44F9-9771-842CC1E1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C541-0803-4F07-A5CD-EF5E6643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96FD-1BEF-4BF9-A4F6-980AA73B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925-3755-4230-9A36-16762A09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15BC-21CF-4E7F-AD23-2194DF43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045F-3F32-403C-A22F-33DBA3D4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5773-825F-4339-A876-67F2A72C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0B4A-7DDE-4F82-910F-AEA81641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D73E-BAB5-4CD6-9544-7BB0E3C2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6051-3E0B-453E-9CD0-67B04A23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BD68-539E-4245-B29A-9AF8B29E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C8CE-BDD6-4465-B807-76FDD9B3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8B9A-1BC7-4954-84DD-547BA34F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EA16-3CD3-4F2C-BCA0-13932CA1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4C21-7569-452D-9EDF-9FA13AAE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C350-38AD-4A96-B5CA-A55C0369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E39A-E81B-4B36-9D19-8BD1CECB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52E4-96E9-4530-B041-CA8BC334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B59B-C92B-4EAB-A49F-EB8E42B3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4E2-7987-442D-994C-981407A3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BA6A-56A9-41BE-B3ED-6F3C8D50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306-1F6F-4F84-AB1B-C08490FB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1643-8045-4085-AAFD-575A7591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603-A7EC-429D-837B-93A0009E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0701-09C3-4A01-920A-BDE6147F6CB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33D3-0E89-4319-9F53-79F20567B6A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ecture 4</a:t>
            </a:r>
            <a:br>
              <a:rPr sz="4800"/>
            </a:b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Structure plan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22860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 design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elements of cod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ut (assignment of variab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ence of expres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put (graphical or tabula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d approach to desig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521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© 2007 Daniel Valentine. All rights reserved. Published by Elsevier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is is the check at the end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1676520"/>
            <a:ext cx="693432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isp('check'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ef = [a b c]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s_of_quad = polyval(coef,[x1,x2]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ff0b"/>
                </a:solidFill>
                <a:latin typeface="Courier New"/>
              </a:rPr>
              <a:t>% Step 4: Stop </a:t>
            </a:r>
            <a:r>
              <a:rPr b="1" i="1" lang="en-US" sz="3200" spc="-1" strike="noStrike">
                <a:solidFill>
                  <a:srgbClr val="ff9900"/>
                </a:solidFill>
                <a:latin typeface="Courier New"/>
              </a:rPr>
              <a:t>SLIDE 3 of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4920" y="5105520"/>
            <a:ext cx="7628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Note: Evaluation and validation of a computer program is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ost time consuming and necessary effort to ensure that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tool produces reliable and correct resul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tructure pl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pproach to design computer codes for technical computing was introduced by an examp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Inp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ssignment was illustrated with and without the ‘input’ ut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phical &amp; tabular forms of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outpu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ere show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ustrated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array dot-ope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epeti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0099ff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and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deci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0099ff"/>
                </a:solidFill>
                <a:latin typeface="Courier New"/>
              </a:rPr>
              <a:t>i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programming too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view of basic elem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ize, define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que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or assign numerical values to variab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of comm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ons applied to input variables that lead to the desired resul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lay (graphically or numerically) resul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 technical computing proble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 us examine the problem of computing the roots of a quadratic equ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ant to write a computer program to compute the roots of the following equa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 .* x.^2 + b .* x + c =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ucture plan is provided in the text and will be utilized in this lec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tructure plan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 the structure plan, e.g.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(summary of Fig. 3.3 in the tex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ut data (a, b, 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= 0, b = 0, and c = 0, indetermina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= b = 0, no solu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= 0, x = -c/b; one root; equation is linea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b^2 &lt; 4ac, roots are comple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b^2 = 4ac, roots are equal, x = b/(2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b^2 &gt; 4ac, then the roots are: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1 = (-b + sqrt( b.^2 – 4.*a.*c)./(2.*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2 = (-b - sqrt( b.^2 – 4.*a.*c)./(2.*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late this plan to a program: Next sli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533520"/>
            <a:ext cx="6400800" cy="6129000"/>
          </a:xfrm>
          <a:prstGeom prst="rect">
            <a:avLst/>
          </a:prstGeom>
          <a:solidFill>
            <a:srgbClr val="0000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 Quadratic eq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   a .* x.^2 + b .* x + c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Step 1: 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 comp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Quadratic roots finder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Step 2: Inpu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= input(' Specify coefficients as follows: [a, b, c] = 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= A(1);b = A(2);c = A(3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Step 3: Evaluation of roo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==0 &amp; b==0 &amp; c=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Solution is indeterminate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seif a==0 &amp; b=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There is no solution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seif a=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 = -c/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Only one root: equation is linear.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seif b.^2 &lt; 4.*a.*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Complex roots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seif b.^2 == 4.*a.*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 = -b./(2.*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33920" y="0"/>
            <a:ext cx="5410080" cy="2226960"/>
          </a:xfrm>
          <a:prstGeom prst="rect">
            <a:avLst/>
          </a:prstGeom>
          <a:solidFill>
            <a:srgbClr val="0000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 A program to solve f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roots of quadratic equation giv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he coefficients a, b and c: Type this code in the editor and save it as quad_eqn.m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21920" y="3962520"/>
            <a:ext cx="4217760" cy="2562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Equal roots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se  </a:t>
            </a: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b.^2 &gt; 4.*a.*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1 = (-b + sqrt(b.^2-4.*a.*c) )./(2.*a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2 = (-b - sqrt(b.^2-4.*a.*c) )./(2.*a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' x1,x2 the two distinct roots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p([x1 x2]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Arial"/>
              </a:rPr>
              <a:t>% Step 4: 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valuation of the progra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A most important step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is program needs to be checked thoroughly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can be done with polyval(), a tool to  evaluate polynomials. Substitute the coefficients and computed roots into polyval as follow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ef = [a b c]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ots_of_quad = polyval(coef,[x1,x2]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Note: If results are zeros, then check is complet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xercis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e the quad_eqn.m program as described in  the previous slide: See next sl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ng the program numerous times evaluating the results and comparing with known answers is important.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You must be convinced, that every time you use the code to compute roots of a quadratic equation, it does it correctly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1371600"/>
            <a:ext cx="855036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8f812"/>
                </a:solidFill>
                <a:latin typeface="Courier New"/>
              </a:rPr>
              <a:t>% START OF CODE </a:t>
            </a:r>
            <a:r>
              <a:rPr b="1" lang="en-US" sz="1800" spc="-1" strike="noStrike">
                <a:solidFill>
                  <a:srgbClr val="28f812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dca0d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dca0d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dca0d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dca0d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dca0d"/>
                </a:solidFill>
                <a:latin typeface="Courier New"/>
              </a:rPr>
              <a:t>SLIDE 1 of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Quadratic equation roots bas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on the theoretical formula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the roots.   D.T.V. .. Feb.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   a .* x.^2 + b .* x + c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difications are in yello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Step 1: 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ear;cl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 comp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Quadratic roots finder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Step 2: Inpu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= input(' Specify coefficients as follows: [a, b, c] = 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= A(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 = A(2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= A(3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Quadratic equation code with complex roots displayed &amp; check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228600"/>
            <a:ext cx="853452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% Step 3: Evaluation of roots </a:t>
            </a: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bff0b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ff9900"/>
                </a:solidFill>
                <a:latin typeface="Courier New"/>
              </a:rPr>
              <a:t>SLIDE 2 of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f a==0 &amp; b==0 &amp; c=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Solution is indeterminate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seif a==0 &amp; b=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There is no solution 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seif a=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= -c/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1 = x; x2=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Only one root: equation is linear.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seif b.^2 &lt; 4.*a.*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1 = (-b + sqrt(b.^2-4.*a.*c) )./(2.*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2 = (-b - sqrt(b.^2-4.*a.*c) )./(2.*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isp(' Complex roots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seif b.^2 == 4.*a.*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= -b./(2.*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1=x;x2=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Equal roots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se  % b.^2 &gt; 4.*a.*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= (-b + sqrt(b.^2-4.*a.*c) )./(2.*a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 = (-b - sqrt(b.^2-4.*a.*c) )./(2.*a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' x1,x2 the two distinct roots'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p([x1 x2]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1T23:02:08Z</dcterms:created>
  <dc:creator/>
  <dc:description/>
  <dc:language>en-US</dc:language>
  <cp:lastModifiedBy>eatonh</cp:lastModifiedBy>
  <dcterms:modified xsi:type="dcterms:W3CDTF">2007-02-13T14:44:46Z</dcterms:modified>
  <cp:revision>96</cp:revision>
  <dc:subject/>
  <dc:title>Lecture 03 Matrices</dc:title>
</cp:coreProperties>
</file>