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359-0E08-41C3-A599-EA26A3B0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B68-2257-405D-91B9-2D0C49F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714-FA0C-440E-864B-4CDBC85C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FF8-6930-43FF-81E3-958036FB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57F-8946-403C-AB12-CBC742BD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78FF-A8E0-479F-928D-9D9401D0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369-90B4-4765-977D-8EA5439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7C68-59BD-4CAE-9A9D-BED7948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2988-7F50-4701-9601-6DB4F27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EF70-9154-49CE-89B8-58618F1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976-D297-4024-950B-EE5D53F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9A4-80DB-4D85-A6D8-613F77FE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8BFB-67E0-4BBA-A834-258E508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9FD1-0C92-412B-9081-F7FE182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FC9-3BBA-4FD6-82D2-8336C1C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C262-0885-414B-9F17-9C552031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AF2-B14F-4CF2-924F-FF94BD7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512-7E65-4046-9A4C-F6BD440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B17-C1C5-440C-B94E-878F5633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2D9-D231-4E8A-B635-6DD4191F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63E-E536-43F1-BCD4-C5013B63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478-F38E-45D1-812E-F447BC1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B6B-813A-4C72-BFC6-95E8CBB3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279-2071-4616-8670-E47051C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2A5-590B-4D9D-8141-A9D6A60B74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E91-3150-4FA1-A732-D6E4E8E843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tructure pla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sig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elements of co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(assignment of variab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(graphical or tabu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approach to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s is the check at the end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676520"/>
            <a:ext cx="6934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isp('check'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ef = [a b c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s_of_quad = polyval(coef,[x1,x2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ff0b"/>
                </a:solidFill>
                <a:latin typeface="Courier New"/>
              </a:rPr>
              <a:t>% Step 4: Stop </a:t>
            </a:r>
            <a:r>
              <a:rPr b="1" i="1" lang="en-US" sz="3200" spc="-1" strike="noStrike">
                <a:solidFill>
                  <a:srgbClr val="ff9900"/>
                </a:solidFill>
                <a:latin typeface="Courier New"/>
              </a:rPr>
              <a:t>SLIDE 3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920" y="510552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e: Evaluation and validation of a computer program is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st time consuming and necessary effort to ensure th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ool produces reliable and correct resul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ucture 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proach to design computer codes for technical computing was introduced by an exam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ignment was illustrated with and without the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&amp; tabular forms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rray dot-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pet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 of basic el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, defin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com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technical computing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xamine the problem of computing the roots of a quadrat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write a computer program to compute the roots of the following equ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.* x.^2 + b .* x + c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plan is provided in the text and will be utilized in this le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ructure pla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tructure plan, e.g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(summary of Fig. 3.3 in th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ata (a, b,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b = 0, and c = 0, indetermi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b = 0, no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x = -c/b; one root; equation is lin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lt; 4ac, roots are compl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= 4ac, roots are equal, x = b/(2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gt; 4ac, then the roots are: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1 = (-b +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2 = (-b -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plan to a program: Next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533520"/>
            <a:ext cx="6400800" cy="61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Quadratic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A(1);b = A(2);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3: Evaluation of ro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0"/>
            <a:ext cx="5410080" cy="2226960"/>
          </a:xfrm>
          <a:prstGeom prst="rect">
            <a:avLst/>
          </a:prstGeom>
          <a:solidFill>
            <a:srgbClr val="000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A program to solve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ots of quadratic equation giv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coefficients a, b and c: Type this code in the editor and save it as quad_eqn.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1920" y="3962520"/>
            <a:ext cx="421776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4: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A most important ste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rogram needs to be checked thorough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with polyval(), a tool to  evaluate polynomials. Substitute the coefficients and computed roots into polyval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ef = [a b c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_of_quad = polyval(coef,[x1,x2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results are zeros, then check is complet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quad_eqn.m program as described in  the previous slide: See next sl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ng the program numerous times evaluating the results and comparing with known answers is important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must be convinced, that every time you use the code to compute roots of a quadratic equation, it does it correct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71600"/>
            <a:ext cx="8550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f812"/>
                </a:solidFill>
                <a:latin typeface="Courier New"/>
              </a:rPr>
              <a:t>% START OF CODE </a:t>
            </a:r>
            <a:r>
              <a:rPr b="1" lang="en-US" sz="1800" spc="-1" strike="noStrike">
                <a:solidFill>
                  <a:srgbClr val="28f812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dca0d"/>
                </a:solidFill>
                <a:latin typeface="Courier New"/>
              </a:rPr>
              <a:t>SLIDE 1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Quadratic equation root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on the theoretical formula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the roots.   D.T.V. .. Feb.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difications are in yel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ear;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A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 = A(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adratic equation code with complex roots displayed &amp; check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5345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3: Evaluation of roots 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9900"/>
                </a:solidFill>
                <a:latin typeface="Courier New"/>
              </a:rPr>
              <a:t>SLIDE 2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x; 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(-b +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2 = (-b -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=x;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  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46Z</dcterms:modified>
  <cp:revision>96</cp:revision>
  <dc:subject/>
  <dc:title>Lecture 03 Matrices</dc:title>
</cp:coreProperties>
</file>