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1E93-F933-4F70-A5DB-E83B1A522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18C4-1ECC-4B4C-9E88-9387C91A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8F75-F0FB-4859-8439-5CE000144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9567-A91F-495E-8C79-1FC719CB3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A7FF-F880-4BC4-9356-093FA8740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D191-A632-44A9-AB19-4AF4FA78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585C-9B33-459C-A189-072AB3AE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DF3E8-CDBC-422A-A428-F4683BCE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6098-BD6A-48C1-A191-688CC8F4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348A-FCA4-4C41-A0B3-E1811539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5C1D-7E84-433A-9D82-4C8B8DC7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42FB-4BE9-4351-933B-53F8F688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4ADF9-2244-4DFA-8844-C9F2E46E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56AA-01AF-4A66-8AFA-889B808A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A3EA-EB8E-4E66-871A-D228AA7E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1A30-45AC-4C0A-9E5E-08B040654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BCAAE-642B-4E16-81D6-5ABF11E43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9D9B-6682-404C-9B0E-ECAF061A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5C24-1FA7-46F7-B7C8-484C5903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DEB4-FABE-4494-A7A4-82F02BC2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BCC4-6CD0-44E6-8235-33B21C39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EF1B-9D22-4D79-BA50-5FFA4BB3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C490-1A9E-4191-B115-7417E2FE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561C-5BDC-4A0F-8D83-13408BA0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50C3-D2B8-4838-9FB8-68A20138319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6F4D-B549-4E40-80F4-151802562C5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Lecture 4</a:t>
            </a:r>
            <a:br>
              <a:rPr sz="4800"/>
            </a:b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Structure plan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00200" y="228600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am design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 elements of cod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put (assignment of variabl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quence of express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put (graphical or tabula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ctured approach to desig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52140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© 2007 Daniel Valentine. All rights reserved. Published by Elsevier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is is the check at the end: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1676520"/>
            <a:ext cx="693432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disp('check'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coef = [a b c]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roots_of_quad = polyval(coef,[x1,x2]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ff0b"/>
                </a:solidFill>
                <a:latin typeface="Courier New"/>
              </a:rPr>
              <a:t>% Step 4: Stop </a:t>
            </a:r>
            <a:r>
              <a:rPr b="1" i="1" lang="en-US" sz="3200" spc="-1" strike="noStrike">
                <a:solidFill>
                  <a:srgbClr val="ff9900"/>
                </a:solidFill>
                <a:latin typeface="Courier New"/>
              </a:rPr>
              <a:t>SLIDE 3 of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4920" y="5105520"/>
            <a:ext cx="7628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Note: Evaluation and validation of a computer program is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most time consuming and necessary effort to ensure that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tool produces reliable and correct result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tructure pl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pproach to design computer codes for technical computing was introduced by an exampl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Inpu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ssignment was illustrated with and without the ‘input’ uti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phical &amp; tabular forms of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outpu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ere show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lustrated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array dot-oper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repeti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3200" spc="-1" strike="noStrike">
                <a:solidFill>
                  <a:srgbClr val="0099ff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and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deci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3200" spc="-1" strike="noStrike">
                <a:solidFill>
                  <a:srgbClr val="0099ff"/>
                </a:solidFill>
                <a:latin typeface="Courier New"/>
              </a:rPr>
              <a:t>i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programming too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view of basic elem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p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lize, define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eque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or assign numerical values to variab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of comma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rations applied to input variables that lead to the desired resul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lay (graphically or numerically) resul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 technical computing proble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us examine the problem of computing the roots of a quadratic equ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ant to write a computer program to compute the roots of the following equati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a .* x.^2 + b .* x + c =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ructure plan is provided in the text and will be utilized in this lectu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tructure plan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 the structure plan, e.g.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 (summary of Fig. 3.3 in the tex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put data (a, b, 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a = 0, b = 0, and c = 0, indeterminat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a = b = 0, no solu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a = 0, x = -c/b; one root; equation is linea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b^2 &lt; 4ac, roots are complex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b^2 = 4ac, roots are equal, x = b/(2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b^2 &gt; 4ac, then the roots are: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x1 = (-b + sqrt( b.^2 – 4.*a.*c)./(2.*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x2 = (-b - sqrt( b.^2 – 4.*a.*c)./(2.*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late this plan to a program: Next slid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8600" y="533520"/>
            <a:ext cx="6400800" cy="6129000"/>
          </a:xfrm>
          <a:prstGeom prst="rect">
            <a:avLst/>
          </a:prstGeom>
          <a:solidFill>
            <a:srgbClr val="0000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ff0b"/>
                </a:solidFill>
                <a:latin typeface="Arial"/>
              </a:rPr>
              <a:t>%  Quadratic eq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ff0b"/>
                </a:solidFill>
                <a:latin typeface="Arial"/>
              </a:rPr>
              <a:t>%    a .* x.^2 + b .* x + c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ff0b"/>
                </a:solidFill>
                <a:latin typeface="Arial"/>
              </a:rPr>
              <a:t>% Step 1: St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 compa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p(' 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p(' Quadratic roots finder 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p(' 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ff0b"/>
                </a:solidFill>
                <a:latin typeface="Arial"/>
              </a:rPr>
              <a:t>% Step 2: Input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= input(' Specify coefficients as follows: [a, b, c] = 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= A(1);b = A(2);c = A(3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ff0b"/>
                </a:solidFill>
                <a:latin typeface="Arial"/>
              </a:rPr>
              <a:t>% Step 3: Evaluation of roo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==0 &amp; b==0 &amp; c==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p(' Solution is indeterminate 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seif a==0 &amp; b==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p(' There is no solution 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seif a==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 = -c/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p(' Only one root: equation is linear.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seif b.^2 &lt; 4.*a.*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p(' Complex roots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seif b.^2 == 4.*a.*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 = -b./(2.*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33920" y="0"/>
            <a:ext cx="5410080" cy="2226960"/>
          </a:xfrm>
          <a:prstGeom prst="rect">
            <a:avLst/>
          </a:prstGeom>
          <a:solidFill>
            <a:srgbClr val="0000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 A program to solve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roots of quadratic equation giv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e coefficients a, b and c: Type this code in the editor and save it as quad_eqn.m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21920" y="3962520"/>
            <a:ext cx="4217760" cy="2562840"/>
          </a:xfrm>
          <a:prstGeom prst="rect">
            <a:avLst/>
          </a:prstGeom>
          <a:solidFill>
            <a:srgbClr val="0000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p(' Equal roots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se  </a:t>
            </a:r>
            <a:r>
              <a:rPr b="1" lang="en-US" sz="1800" spc="-1" strike="noStrike">
                <a:solidFill>
                  <a:srgbClr val="0bff0b"/>
                </a:solidFill>
                <a:latin typeface="Arial"/>
              </a:rPr>
              <a:t>% b.^2 &gt; 4.*a.*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1 = (-b + sqrt(b.^2-4.*a.*c) )./(2.*a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2 = (-b - sqrt(b.^2-4.*a.*c) )./(2.*a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p(' x1,x2 the two distinct roots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p([x1 x2]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ff0b"/>
                </a:solidFill>
                <a:latin typeface="Arial"/>
              </a:rPr>
              <a:t>% Step 4: S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valuation of the progra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A most important step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is program needs to be checked thoroughly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can be done with polyval(), a tool to  evaluate polynomials. Substitute the coefficients and computed roots into polyval as follow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ef = [a b c]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ots_of_quad = polyval(coef,[x1,x2]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Note: If results are zeros, then check is complete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xercis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aluate the quad_eqn.m program as described in  the previous slide: See next sli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ecuting the program numerous times evaluating the results and comparing with known answers is important.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You must be convinced, that every time you use the code to compute roots of a quadratic equation, it does it correctly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" y="1371600"/>
            <a:ext cx="855036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f812"/>
                </a:solidFill>
                <a:latin typeface="Courier New"/>
              </a:rPr>
              <a:t>% START OF CODE </a:t>
            </a:r>
            <a:r>
              <a:rPr b="1" lang="en-US" sz="1800" spc="-1" strike="noStrike">
                <a:solidFill>
                  <a:srgbClr val="28f812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dca0d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dca0d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dca0d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dca0d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dca0d"/>
                </a:solidFill>
                <a:latin typeface="Courier New"/>
              </a:rPr>
              <a:t>SLIDE 1 of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ff0b"/>
                </a:solidFill>
                <a:latin typeface="Courier New"/>
              </a:rPr>
              <a:t>% Quadratic equation roots bas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ff0b"/>
                </a:solidFill>
                <a:latin typeface="Courier New"/>
              </a:rPr>
              <a:t>% on the theoretical formula f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ff0b"/>
                </a:solidFill>
                <a:latin typeface="Courier New"/>
              </a:rPr>
              <a:t>% the roots.   D.T.V. .. Feb.2007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ff0b"/>
                </a:solidFill>
                <a:latin typeface="Courier New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ff0b"/>
                </a:solidFill>
                <a:latin typeface="Courier New"/>
              </a:rPr>
              <a:t>%    a .* x.^2 + b .* x + c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ff0b"/>
                </a:solidFill>
                <a:latin typeface="Courier New"/>
              </a:rPr>
              <a:t>%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difications are in yellow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ff0b"/>
                </a:solidFill>
                <a:latin typeface="Courier New"/>
              </a:rPr>
              <a:t>% Step 1: St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ear;cl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 compa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p(' 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p(' Quadratic roots finder 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p(' 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ff0b"/>
                </a:solidFill>
                <a:latin typeface="Courier New"/>
              </a:rPr>
              <a:t>% Step 2: Input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= input(' Specify coefficients as follows: [a, b, c] = 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= A(1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 = A(2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= A(3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Quadratic equation code with complex roots displayed &amp; check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09480" y="228600"/>
            <a:ext cx="853452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ff0b"/>
                </a:solidFill>
                <a:latin typeface="Courier New"/>
              </a:rPr>
              <a:t>% Step 3: Evaluation of roots </a:t>
            </a:r>
            <a:r>
              <a:rPr b="1" lang="en-US" sz="1800" spc="-1" strike="noStrike">
                <a:solidFill>
                  <a:srgbClr val="0bff0b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bff0b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9900"/>
                </a:solidFill>
                <a:latin typeface="Courier New"/>
              </a:rPr>
              <a:t>SLIDE 2 of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f a==0 &amp; b==0 &amp; c==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p(' Solution is indeterminate 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lseif a==0 &amp; b==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p(' There is no solution 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lseif a==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 = -c/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1 = x; x2=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p(' Only one root: equation is linear.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lseif b.^2 &lt; 4.*a.*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1 = (-b + sqrt(b.^2-4.*a.*c) )./(2.*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2 = (-b - sqrt(b.^2-4.*a.*c) )./(2.*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isp(' Complex roots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lseif b.^2 == 4.*a.*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 = -b./(2.*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1=x;x2=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p(' Equal roots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lse  % b.^2 &gt; 4.*a.*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1 = (-b + sqrt(b.^2-4.*a.*c) )./(2.*a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2 = (-b - sqrt(b.^2-4.*a.*c) )./(2.*a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p(' x1,x2 the two distinct roots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p([x1 x2]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23:02:08Z</dcterms:created>
  <dc:creator/>
  <dc:description/>
  <dc:language>en-US</dc:language>
  <cp:lastModifiedBy>eatonh</cp:lastModifiedBy>
  <dcterms:modified xsi:type="dcterms:W3CDTF">2007-02-13T14:44:46Z</dcterms:modified>
  <cp:revision>96</cp:revision>
  <dc:subject/>
  <dc:title>Lecture 03 Matrices</dc:title>
</cp:coreProperties>
</file>