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06C-DCF0-42A8-9E46-1E1FCE19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466-609C-442F-8F30-6A3DE9B2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A42-2901-4C3C-85EC-7C009450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95D-26C8-4858-B7F9-30D8C46E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A091-D396-4FE8-A896-5BE042A0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8841-A623-4F47-89B3-0A30109E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1D39-DECC-4EB5-887A-CD071749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1BAD-E0B0-45EB-A070-A329FC89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B423-1A32-4DED-929C-BD004230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80A0-A90B-4366-8452-812FFE81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AF92-DB41-46ED-9372-51E11F13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68F-C786-4AE6-AFCF-E6B45517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1202-3D71-4735-84A2-21AA74C0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1452-3502-4B44-BC90-D1B09ADF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E5CB-DE93-4990-ACB4-8C6C5968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6896-5ECA-45DC-8C1C-90A8DA03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705B-27F3-4701-846E-D9751C38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BB7-C129-4199-80CE-1182349F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732-7212-468D-B177-7C35F23D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A53-60B6-41F4-A0B2-F7D3A4DD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1A1-4CDB-47C5-8AA3-67B4D973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DA3-4D43-4B6F-A20D-0A3C3372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A88-694A-45F4-9EC3-C7B7A790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7C8-BE93-4EBE-ACB3-6E3FAEA9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2887-A309-48E1-985F-2FACEB78CFA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D83E-B22A-4C05-9B9A-CAC14FF108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4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tructure plan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22860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desig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elements of co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 (assignment of variab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ce of expres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(graphical or tabul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d approach to de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is is the check at the end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676520"/>
            <a:ext cx="69343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isp('check'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ef = [a b c]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s_of_quad = polyval(coef,[x1,x2]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ff0b"/>
                </a:solidFill>
                <a:latin typeface="Courier New"/>
              </a:rPr>
              <a:t>% Step 4: Stop </a:t>
            </a:r>
            <a:r>
              <a:rPr b="1" i="1" lang="en-US" sz="3200" spc="-1" strike="noStrike">
                <a:solidFill>
                  <a:srgbClr val="ff9900"/>
                </a:solidFill>
                <a:latin typeface="Courier New"/>
              </a:rPr>
              <a:t>SLIDE 3 of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4920" y="5105520"/>
            <a:ext cx="762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ote: Evaluation and validation of a computer program is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ost time consuming and necessary effort to ensure that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ool produces reliable and correct resul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tructure pl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pproach to design computer codes for technical computing was introduced by an examp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np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signment was illustrated with and without the ‘input’ ut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al &amp; tabular forms of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ere sh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trated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array dot-ope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pet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99ff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and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eci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99ff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programming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view of basic elem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ize, define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qu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assign numerical values to vari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of comm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s applied to input variables that lead to the desired resul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 (graphically or numerically) res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technical computing probl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examine the problem of computing the roots of a quadratic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to write a computer program to compute the roots of the following equa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 .* x.^2 + b .* x + c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plan is provided in the text and will be utilized in this lec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ructure plan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the structure plan, e.g.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(summary of Fig. 3.3 in the tex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data (a, b,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= 0, b = 0, and c = 0, indetermina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= b = 0, no s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= 0, x = -c/b; one root; equation is line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b^2 &lt; 4ac, roots are comple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b^2 = 4ac, roots are equal, x = b/(2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b^2 &gt; 4ac, then the roots are: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1 = (-b + sqrt( b.^2 – 4.*a.*c)./(2.*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2 = (-b - sqrt( b.^2 – 4.*a.*c)./(2.*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e this plan to a program: Next sl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533520"/>
            <a:ext cx="6400800" cy="61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 Quadratic eq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   a .* x.^2 + b .* x + c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Step 1: 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 comp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Quadratic roots finder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Step 2: In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= input(' Specify coefficients as follows: [a, b, c] = 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= A(1);b = A(2);c = A(3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Step 3: Evaluation of roo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==0 &amp; b==0 &amp; c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Solution is indeterminate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if a==0 &amp; b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There is no solution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if a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= -c/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Only one root: equation is linear.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if b.^2 &lt;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Complex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if b.^2 ==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= -b./(2.*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0"/>
            <a:ext cx="5410080" cy="2226960"/>
          </a:xfrm>
          <a:prstGeom prst="rect">
            <a:avLst/>
          </a:prstGeom>
          <a:solidFill>
            <a:srgbClr val="0000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A program to solve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oots of quadratic equation giv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coefficients a, b and c: Type this code in the editor and save it as quad_eqn.m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21920" y="3962520"/>
            <a:ext cx="4217760" cy="2562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Equal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  </a:t>
            </a: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b.^2 &gt;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1 = (-b + sqrt(b.^2-4.*a.*c) )./(2.*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2 = (-b - sqrt(b.^2-4.*a.*c) )./(2.*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x1,x2 the two distinct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[x1 x2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Step 4: 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valuation of the progra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A most important step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is program needs to be checked thoroughl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an be done with polyval(), a tool to  evaluate polynomials. Substitute the coefficients and computed roots into polyval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ef = [a b c]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s_of_quad = polyval(coef,[x1,x2]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ote: If results are zeros, then check is complet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 the quad_eqn.m program as described in  the previous slide: See next sl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ng the program numerous times evaluating the results and comparing with known answers is important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ou must be convinced, that every time you use the code to compute roots of a quadratic equation, it does it correctl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371600"/>
            <a:ext cx="85503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f812"/>
                </a:solidFill>
                <a:latin typeface="Courier New"/>
              </a:rPr>
              <a:t>% START OF CODE </a:t>
            </a:r>
            <a:r>
              <a:rPr b="1" lang="en-US" sz="1800" spc="-1" strike="noStrike">
                <a:solidFill>
                  <a:srgbClr val="28f812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dca0d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dca0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dca0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dca0d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dca0d"/>
                </a:solidFill>
                <a:latin typeface="Courier New"/>
              </a:rPr>
              <a:t>SLIDE 1 of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Quadratic equation roots bas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on the theoretical formula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the roots.   D.T.V. .. Feb.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   a .* x.^2 + b .* x + c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difications are in yell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Step 1: 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ear;c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 comp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Quadratic roots finder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Step 2: In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= input(' Specify coefficients as follows: [a, b, c] = 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= A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 = A(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= A(3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Quadratic equation code with complex roots displayed &amp; check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28600"/>
            <a:ext cx="853452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Step 3: Evaluation of roots </a:t>
            </a: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9900"/>
                </a:solidFill>
                <a:latin typeface="Courier New"/>
              </a:rPr>
              <a:t>SLIDE 2 of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f a==0 &amp; b==0 &amp; c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Solution is indeterminate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if a==0 &amp; b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There is no solution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if a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= -c/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1 = x; x2=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Only one root: equation is linear.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if b.^2 &lt;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1 = (-b + sqrt(b.^2-4.*a.*c) )./(2.*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2 = (-b - sqrt(b.^2-4.*a.*c) )./(2.*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isp(' Complex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if b.^2 ==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= -b./(2.*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1=x;x2=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Equal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  % b.^2 &gt;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= (-b + sqrt(b.^2-4.*a.*c) )./(2.*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 = (-b - sqrt(b.^2-4.*a.*c) )./(2.*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x1,x2 the two distinct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[x1 x2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4:46Z</dcterms:modified>
  <cp:revision>96</cp:revision>
  <dc:subject/>
  <dc:title>Lecture 03 Matrices</dc:title>
</cp:coreProperties>
</file>