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C8A-7104-45EE-A70B-83670F09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4C1-F292-42B9-8356-F5256D6C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2BD-EBD6-46E4-8622-96CA42B0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174-FC11-44EF-A804-F43BF09B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0F8D8-5129-42BD-A1AA-8C332646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B70E-C26A-49EA-A582-8540B6E9C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61A6-977E-40A5-8498-4BB9696B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06FD-5B93-425A-9037-5F6A0822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5AFA-5AAB-4F1B-A314-D3298991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9F73-A766-4AF1-9DE2-D4F9D7AE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3BAE-4D33-43E7-AF48-7FA7678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455-5E30-46EC-9277-EA462C6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A109-7946-4954-A29B-F62A845E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E7E3-5775-4093-B611-FF35F4EB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109E-DE22-4FFE-8D5A-D46B9E96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D142-05E0-4D0F-8B30-17DB2121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69C-09FF-4C14-9067-B087FC7B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DF7-434E-41CC-8FE8-A73A4BB0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BE3-B670-427C-93F3-BF0AED57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C4BE-5266-4F8A-BBBB-111DC890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1CB-1C75-45D2-9852-78E8161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2B2-55BE-4D53-BDA2-5008317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19D-E084-41FA-89FC-367A20E0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D56-805D-43C5-8E15-19A89795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A378-871C-4A3D-9BB0-28103A227E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3778-F4E6-457D-BA43-FEFC523713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5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Input and Output</a:t>
            </a: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print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365200"/>
            <a:ext cx="8595000" cy="83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216800" y="434340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miles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arah smiles 7 times a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600" y="2362320"/>
            <a:ext cx="9207720" cy="92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ng it displays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78120" y="4778280"/>
            <a:ext cx="901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month of birth (i.e. May):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umber day of birth: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our birthday is August 11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3324240"/>
            <a:ext cx="7207200" cy="714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print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used consecutively, MATLAB prints the results on the same line in the command windo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second execution of this comman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06360" y="4800600"/>
            <a:ext cx="87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arah smiles 7 times a day.Sarah smiles 7 times a day.&gt;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3510000"/>
            <a:ext cx="8777520" cy="833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\n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comman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ommand is a </a:t>
            </a:r>
            <a:r>
              <a:rPr b="0" lang="en-US" sz="3200" spc="-1" strike="noStrike">
                <a:solidFill>
                  <a:srgbClr val="ffe701"/>
                </a:solidFill>
                <a:latin typeface="Tahoma"/>
              </a:rPr>
              <a:t>linefe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It commands MATLAB to start on a new line so that sequential outputs are on separate lin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ahoma"/>
              </a:rPr>
              <a:t>Be sure to use \n, not /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78720" y="4408560"/>
            <a:ext cx="47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n ate 4 waffles to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idth &amp; precision fiel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width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minimum number of characters to be prin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precision fi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fies the number of those characters that will show up after the decimal poi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2280" y="3048120"/>
            <a:ext cx="7664400" cy="1019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%8.2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ecifies that there can be no less than 8 characters in the displayed output, and that two of them are to follow the decimal poi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the blank spaces in the second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f6600"/>
                </a:solidFill>
                <a:latin typeface="Courier New"/>
              </a:rPr>
              <a:t>%%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to have a % sign show up in out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4419720"/>
            <a:ext cx="883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e weight is                                           57638.75 pou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program tomodel a spring-mass system. The spring constant k (N/m), the  mass m (kg), amplitude x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), and time, t, elapsed (s) are the input. Display output [i.e., dispay the displacement x in meters of the system at the given conditions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ormula to use 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), where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sqrt(k/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ummary I/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in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variable = input('Please enter a value: 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string = input('Please enter a value: ', 's'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Tahoma"/>
              </a:rPr>
              <a:t>fprint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fprintf('format-string', vari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fixed poi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decimal)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xpon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ahoma"/>
              </a:rPr>
              <a:t>%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 whichever is shorter, %f or %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nput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 values to variables in a command line using the equal (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) sig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input function for interactive assignment of values to some of the variables within your computer progra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fun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a value after the displayed prompt; the variable now has been assigned the value that was enter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297080" y="22860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variable = input('Please enter a value: 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20760" y="373392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a valu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of a circ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e and see this display in Command Windo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471160" cy="10191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4267080"/>
            <a:ext cx="5867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the radius: 5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dius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.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rea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84.948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998200" cy="1247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ands 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falling objec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is into an m-f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e: See this display in Command Window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15840" y="4648320"/>
            <a:ext cx="738180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height (in meters): 2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time the object was in the air (in seconds): 3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Please enter the initial velocity (in meters): 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height_f =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84.14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put strings of tex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form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play in the Command window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used when the input is a string (e.g., names, months, etc.). The variable, in this case, is a  ‘char’ class (or typ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7280" y="2281320"/>
            <a:ext cx="72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string = input('Please enter your name: </a:t>
            </a:r>
            <a:r>
              <a:rPr b="1" lang="en-US" sz="1800" spc="-1" strike="noStrike">
                <a:solidFill>
                  <a:srgbClr val="ff9900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, 's'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2160" y="380988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lease enter your nam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splay variab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display the value of a variable in different way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ing “variable =” in the command wind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fprintf comma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 into an m-fil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cuting it displays in the Command Window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4543560"/>
            <a:ext cx="568332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1460520" cy="409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utput op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135160" y="326088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11480" y="567216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he value of x is 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printf(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mmand is one way to display the value of a variable with a lab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orma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e70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LAB co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fprintf('format-string', vari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Note: You can also use the disp() function to display results. See the help on disp() and the examples in the 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laceholders in </a:t>
            </a:r>
            <a:r>
              <a:rPr b="1" lang="en-US" sz="4400" spc="-1" strike="noStrike">
                <a:solidFill>
                  <a:srgbClr val="ccffff"/>
                </a:solidFill>
                <a:latin typeface="Courier New"/>
              </a:rPr>
              <a:t>fprintf(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print a variable in your display on the command window, its place must be indicted by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format-string followed by the format of presentation (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d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integ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xed poi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decimal)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used placehol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xponenti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%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whichever is shorter, %f or %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18Z</dcterms:modified>
  <cp:revision>63</cp:revision>
  <dc:subject/>
  <dc:title>ES100: Lecture 10  User Controlled Input and Output </dc:title>
</cp:coreProperties>
</file>