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E0AE-4DC2-4D51-9545-C3DB2F727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42A5-1EBD-43A6-95B5-13C9BE4B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9E3F-CC60-4169-84D9-279A0A1A6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DC96-C5B8-4D0F-93BE-60F7740F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3794-F8A6-42C7-BA56-EC7ADFBBF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613D-BDCD-4ADF-8206-F4121FCC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A6C7-CE0C-4E77-BD19-91EF6B66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D8C9-FDE8-4F22-972B-0D6E7812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F788-BE8D-4D7A-BC47-F38427FD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DF17-5D76-4C0B-8E4B-67E445A9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F8D9-0AE7-4E9E-996B-8CB81810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F499-31FC-47ED-A342-A90E4295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216E-4113-4488-995E-F888B5F2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1EA7-60C6-499E-A2AF-B9D2C324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3E23-3DD2-44F1-A160-DB750907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FA7F-A57C-4BC3-B7DD-86EE98C1C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4F8C-7082-43E3-9F20-50ECBF9E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C889-6BEA-4A97-90F4-EAF69974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B824-C27A-4CD2-96C6-7CA63AEE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A259-74F9-4045-B910-011BEED7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04B4-4A68-4F25-A534-6FE269AC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C8BB-1C23-4E58-8DB5-FF6541FE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E7F0-6572-4532-A784-B8C688D4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3AF5-45E1-45F5-8E51-55806EAF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6A1A-6362-4D0D-A1A9-E88539A6B1A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E17A-BF62-4FF6-BB91-0ADCB0BD441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Lecture 5 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Input and Output</a:t>
            </a: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p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print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21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© 2007 Daniel Valentine. All rights reserved. Published by Elsevier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9480" y="2365200"/>
            <a:ext cx="8595000" cy="8352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ands 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into an m-fi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cuting it displays in the command window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1216800" y="4343400"/>
            <a:ext cx="511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miles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arah smiles 7 times a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600" y="2362320"/>
            <a:ext cx="9207720" cy="9284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ands 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into an m-fi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cuting it displays in Command Window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78120" y="4778280"/>
            <a:ext cx="901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lease enter your number month of birth (i.e. May): Augu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lease enter your number day of birth: 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our birthday is August 11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880" y="3324240"/>
            <a:ext cx="7207200" cy="714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fprint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used consecutively, MATLAB prints the results on the same line in the command window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the second execution of this comman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306360" y="4800600"/>
            <a:ext cx="87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arah smiles 7 times a day.Sarah smiles 7 times a day.&gt;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0880" y="3510000"/>
            <a:ext cx="8777520" cy="8334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</a:t>
            </a: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\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comman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command is a </a:t>
            </a: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linefe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It commands MATLAB to start on a new line so that sequential outputs are on separate lin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Be sure to use \n, not /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378720" y="4408560"/>
            <a:ext cx="47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rin ate 4 waffles to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idth &amp; precision fiel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width fie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pecifies the minimum number of characters to be prin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precision fie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pecifies the number of those characters that will show up after the decimal poi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280" y="3048120"/>
            <a:ext cx="7664400" cy="10191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ands 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%8.2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ecifies that there can be no less than 8 characters in the displayed output, and that two of them are to follow the decimal poin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ice the blank spaces in the second outpu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Use </a:t>
            </a:r>
            <a:r>
              <a:rPr b="1" lang="en-US" sz="2400" spc="-1" strike="noStrike">
                <a:solidFill>
                  <a:srgbClr val="ff6600"/>
                </a:solidFill>
                <a:latin typeface="Courier New"/>
              </a:rPr>
              <a:t>%%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to have a % sign show up in outpu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165240" y="4419720"/>
            <a:ext cx="883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e weight is 57638.75 pou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e weight is                                           57638.75 pou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program tomodel a spring-mass system. The spring constant k (N/m), the  mass m (kg), amplitude 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m), and time, t, elapsed (s) are the input. Display output [i.e., dispay the displacement x in meters of the system at the given conditions]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rmula to use i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=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), where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sqrt(k/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ummary I/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inp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variable = input('Please enter a value: '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string = input('Please enter a value: ', 's'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fprint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fprintf('format-string', variabl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%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fixed poin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decimal) n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%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exponenti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%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= whichever is shorter, %f or %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nput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op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gn values to variables in a command line using the equal (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) sig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input function for interactive assignment of values to some of the variables within your computer progra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put fun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 forma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splay in the Command window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a value after the displayed prompt; the variable now has been assigned the value that was enter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297080" y="2286000"/>
            <a:ext cx="658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variable = input('Please enter a value: '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20760" y="3733920"/>
            <a:ext cx="33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lease enter a valu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of a circ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this into an m-fil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cute and see this display in Command Window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8471160" cy="10191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ands 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4267080"/>
            <a:ext cx="5867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lease enter the radius: 5.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adius 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5.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rea 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84.948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2362320"/>
            <a:ext cx="8998200" cy="12477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ands 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 falling objec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is into an m-fi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cute: See this display in Command Window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915840" y="4648320"/>
            <a:ext cx="738180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Please enter the initial height (in meters): 25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Please enter the time the object was in the air (in seconds): 3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Please enter the initial velocity (in meters): 5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height_f =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84.145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put strings of tex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format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isplay in the Command window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used when the input is a string (e.g., names, months, etc.). The variable, in this case, is a  ‘char’ class (or typ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7280" y="2281320"/>
            <a:ext cx="725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string = input('Please enter your name: </a:t>
            </a: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'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, 's'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92160" y="3809880"/>
            <a:ext cx="36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lease enter your nam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splay variabl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display the value of a variable in different way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ing “variable =” in the command wind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he fprintf comman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ype into an m-fil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ecuting it displays in the Command Window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09680" y="4543560"/>
            <a:ext cx="5683320" cy="714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133720" y="2971800"/>
            <a:ext cx="1460520" cy="4096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utput op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2135160" y="326088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x 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11480" y="5672160"/>
            <a:ext cx="35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he value of x is 5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fprintf(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fprintf(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mmand is one way to display the value of a variable with a lab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 forma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LAB cod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fprintf('format-string', variabl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51814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Note: You can also use the disp() function to display results. See the help on disp() and the examples in the tex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laceholders in </a:t>
            </a: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fprintf(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print a variable in your display on the command window, its place must be indicted by </a:t>
            </a: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format-string followed by the format of presentation (</a:t>
            </a: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d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e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%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integ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o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%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fixed poi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decimal) no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monly used placehol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%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exponenti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o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%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whichever is shorter, %f or %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eatonh</cp:lastModifiedBy>
  <dcterms:modified xsi:type="dcterms:W3CDTF">2007-02-13T14:46:18Z</dcterms:modified>
  <cp:revision>63</cp:revision>
  <dc:subject/>
  <dc:title>ES100: Lecture 10  User Controlled Input and Output </dc:title>
</cp:coreProperties>
</file>