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1C9-F0CB-4E8D-93A1-49F9324C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3A6-188A-4145-B88C-3C140A8E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FB9A-0BB0-4699-B9F1-29B94122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632-F5AB-4A36-BD7B-4C7979AD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584D-EB8F-4DE7-8727-E60A57EF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3552-8E99-4E1C-B9A0-E4158360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0DAF-0479-4AAE-969A-0C59544B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10B6-87B1-4397-9F65-E1458550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8A62-60FB-4804-948E-6FF921DD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5280-F7C3-4A92-B54D-58D395BE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520D-C045-4BF4-91FE-DCC0210E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7E5-4C95-4EC6-A50B-50339DCB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989C-69C4-4BC3-BAB7-5F84E2A8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ABDC-1E44-4F38-836F-FF4DCAFB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6F5F-7185-46BC-AA23-32BE7CB8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F93E-4279-4218-A1B5-958A69C1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0E43-2A51-41A1-AC5A-632857C9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B552-89DC-4E17-B2F9-C5B708EB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260-489B-471F-866D-57BC2214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989-76C1-45B0-B715-76FA7FDF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D9D7-F51C-4638-A851-35511247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FC2-5B1F-4B5A-9177-FBAC0F42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FB3-810E-4C30-A920-2BAE4B07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ADC-A44E-4410-8F20-99442C3D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0CB2-E962-4006-8FEB-418D319FEF8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EAC2-A2EB-4C93-8573-A51EAD2B7E1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ecture 5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nput and Output</a:t>
            </a: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print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2365200"/>
            <a:ext cx="8595000" cy="835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into an m-fi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ing it displays in the command window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216800" y="4343400"/>
            <a:ext cx="511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miles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arah smiles 7 times a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600" y="2362320"/>
            <a:ext cx="9207720" cy="928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into an m-fi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ing it displays in Command Window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78120" y="4778280"/>
            <a:ext cx="901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lease enter your number month of birth (i.e. May): Aug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lease enter your number day of birth: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our birthday is August 11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3324240"/>
            <a:ext cx="7207200" cy="714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fprint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used consecutively, MATLAB prints the results on the same line in the command window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second execution of this comman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06360" y="4800600"/>
            <a:ext cx="87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arah smiles 7 times a day.Sarah smiles 7 times a day.&gt;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0880" y="3510000"/>
            <a:ext cx="8777520" cy="833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\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comma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ommand is a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linefe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It commands MATLAB to start on a new line so that sequential outputs are on separate lin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Be sure to use \n, not /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78720" y="440856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rin ate 4 waffles to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idth &amp; precision fiel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width fie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pecifies the minimum number of characters to be prin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precision fie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pecifies the number of those characters that will show up after the decimal poi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3048120"/>
            <a:ext cx="7664400" cy="1019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8.2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ecifies that there can be no less than 8 characters in the displayed output, and that two of them are to follow the decimal poi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ce the blank spaces in the second out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%%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to have a % sign show up in out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4419720"/>
            <a:ext cx="883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e weight is 57638.75 pou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e weight is                                           57638.75 pou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program tomodel a spring-mass system. The spring constant k (N/m), the  mass m (kg), amplitude 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), and time, t, elapsed (s) are the input. Display output [i.e., dispay the displacement x in meters of the system at the given conditions]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rmula to use 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), where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sqrt(k/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 I/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in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variable = input('Please enter a value: '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string = input('Please enter a value: ', 's'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fprint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fprintf('format-string', variab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%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fixed poi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decimal) n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%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exponenti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%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whichever is shorter, %f or %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nput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p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 values to variables in a command line using the equal (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) sig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input function for interactive assignment of values to some of the variables within your computer progr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put fun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forma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play in the Command windo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 value after the displayed prompt; the variable now has been assigned the value that was enter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297080" y="2286000"/>
            <a:ext cx="658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variable = input('Please enter a value: '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20760" y="373392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lease enter a valu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of a circ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this into an m-fi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e and see this display in Command Window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71160" cy="10191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267080"/>
            <a:ext cx="586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lease enter the radius: 5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adius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5.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rea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84.94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8998200" cy="12477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falling objec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is into an m-fi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e: See this display in Command Window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915840" y="4648320"/>
            <a:ext cx="738180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Please enter the initial height (in meters): 2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Please enter the time the object was in the air (in seconds): 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Please enter the initial velocity (in meters): 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height_f =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84.145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put strings of tex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forma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isplay in the Command windo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used when the input is a string (e.g., names, months, etc.). The variable, in this case, is a  ‘char’ class (or typ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7280" y="2281320"/>
            <a:ext cx="725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string = input('Please enter your name: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, 's'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2160" y="380988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lease enter your na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play variab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display the value of a variable in different w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ng “variable =” in the command wind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fprintf comma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e into an m-fil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cuting it displays in the Command Window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4543560"/>
            <a:ext cx="5683320" cy="714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1460520" cy="409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utput op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135160" y="326088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11480" y="567216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he value of x is 5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fprintf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fprintf(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mmand is one way to display the value of a variable with a lab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forma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cod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fprintf('format-string', vari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1814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te: You can also use the disp() function to display results. See the help on disp() and the examples in the 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laceholders in 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fprintf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int a variable in your display on the command window, its place must be indicted by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format-string followed by the format of presentation (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d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e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%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integ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%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fixed poi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decimal) n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ly used placehol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%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exponenti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%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whichever is shorter, %f or %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6:18Z</dcterms:modified>
  <cp:revision>63</cp:revision>
  <dc:subject/>
  <dc:title>ES100: Lecture 10  User Controlled Input and Output </dc:title>
</cp:coreProperties>
</file>