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4ACA-11D8-4103-83D5-801A331D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134-0B75-40F7-A916-504843EC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7A45-9FE3-4D72-ACFF-8C353CD0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2020-011F-478E-A2D3-90D475AC2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B86C-839F-4486-97FC-075D2687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C782-C76B-4C43-B1B3-C60CE8BF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8A42-FB1B-4C54-B3B9-BE4B3DF8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9A3E-CF8C-4FF1-A8BE-CD942E52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B979-7FE8-4ADD-98D3-BA7BEB91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5AC5-F409-4E02-9C9E-B3812B5C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9862-8403-407C-9441-E09AF44B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58E3-7657-4694-8DE5-76C0DFE8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8111-3EB9-478B-BFA0-A726AAFA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5B61-9EF3-42EC-A29E-FAB2F371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03E3-B02C-4961-83B8-B44B4878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0CAF-F02B-4AF3-9651-C105F560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E852-1219-45E1-9A52-1D436071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410D-2FEB-4B0E-BF22-6AF14C61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5FB9-8458-459F-8D5F-7111D105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AE26-CCA6-4303-BF65-47633678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2F84-1C40-426E-BB77-7C05F075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0126-5711-42F1-8D4B-3557AA7F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79C6-4CD1-4A7F-83CF-13E4E9EE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BD34-A84C-47D0-A928-BF6A7F50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C67C-D1F5-4173-A94F-EC937240B1E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28B3-FFFD-4007-B5A2-C81DC6B358E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ecture 5 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nput and Output</a:t>
            </a: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print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2365200"/>
            <a:ext cx="8595000" cy="835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 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into an m-fi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cuting it displays in the command window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1216800" y="4343400"/>
            <a:ext cx="511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miles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arah smiles 7 times a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600" y="2362320"/>
            <a:ext cx="9207720" cy="9284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 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into an m-fi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cuting it displays in Command Window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78120" y="4778280"/>
            <a:ext cx="901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lease enter your number month of birth (i.e. May): Aug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lease enter your number day of birth: 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our birthday is August 11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3324240"/>
            <a:ext cx="7207200" cy="714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fprint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used consecutively, MATLAB prints the results on the same line in the command window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 second execution of this comman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06360" y="4800600"/>
            <a:ext cx="87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arah smiles 7 times a day.Sarah smiles 7 times a day.&gt;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0880" y="3510000"/>
            <a:ext cx="8777520" cy="8334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\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comman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command is a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linefe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It commands MATLAB to start on a new line so that sequential outputs are on separate lin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Be sure to use \n, not /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78720" y="440856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rin ate 4 waffles to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idth &amp; precision fiel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width fie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pecifies the minimum number of characters to be prin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precision fie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pecifies the number of those characters that will show up after the decimal poi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3048120"/>
            <a:ext cx="7664400" cy="1019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 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%8.2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ecifies that there can be no less than 8 characters in the displayed output, and that two of them are to follow the decimal poi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ice the blank spaces in the second outp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Use </a:t>
            </a:r>
            <a:r>
              <a:rPr b="1" lang="en-US" sz="2400" spc="-1" strike="noStrike">
                <a:solidFill>
                  <a:srgbClr val="ff6600"/>
                </a:solidFill>
                <a:latin typeface="Courier New"/>
              </a:rPr>
              <a:t>%%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to have a % sign show up in outp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65240" y="4419720"/>
            <a:ext cx="883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e weight is 57638.75 pou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e weight is                                           57638.75 pou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program tomodel a spring-mass system. The spring constant k (N/m), the  mass m (kg), amplitude 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), and time, t, elapsed (s) are the input. Display output [i.e., dispay the displacement x in meters of the system at the given conditions]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rmula to use i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), where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sqrt(k/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ummary I/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inp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variable = input('Please enter a value: '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string = input('Please enter a value: ', 's'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fprint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fprintf('format-string', variab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%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fixed poin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decimal) n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%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exponenti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%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 whichever is shorter, %f or %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nput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p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gn values to variables in a command line using the equal (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) sig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input function for interactive assignment of values to some of the variables within your computer progr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put fun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forma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splay in the Command window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 value after the displayed prompt; the variable now has been assigned the value that was enter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297080" y="2286000"/>
            <a:ext cx="658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variable = input('Please enter a value: '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20760" y="373392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lease enter a valu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of a circ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this into an m-fi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e and see this display in Command Window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471160" cy="10191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 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4267080"/>
            <a:ext cx="5867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lease enter the radius: 5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adius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5.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rea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84.948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8998200" cy="12477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 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 falling objec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is into an m-fi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cute: See this display in Command Window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915840" y="4648320"/>
            <a:ext cx="738180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Please enter the initial height (in meters): 25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Please enter the time the object was in the air (in seconds): 3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Please enter the initial velocity (in meters): 5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height_f =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84.145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put strings of tex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forma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isplay in the Command window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used when the input is a string (e.g., names, months, etc.). The variable, in this case, is a  ‘char’ class (or typ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7280" y="2281320"/>
            <a:ext cx="725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string = input('Please enter your name: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, 's'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2160" y="380988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lease enter your nam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splay variab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display the value of a variable in different wa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ng “variable =” in the command wind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fprintf comman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ype into an m-fil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cuting it displays in the Command Window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4543560"/>
            <a:ext cx="5683320" cy="714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1460520" cy="409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utput op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2135160" y="326088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x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11480" y="5672160"/>
            <a:ext cx="35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he value of x is 5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fprintf(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fprintf(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mmand is one way to display the value of a variable with a lab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forma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 cod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fprintf('format-string', variab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51814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ote: You can also use the disp() function to display results. See the help on disp() and the examples in the t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laceholders in 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fprintf(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rint a variable in your display on the command window, its place must be indicted by 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format-string followed by the format of presentation (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d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e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%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integ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%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fixed poi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decimal) n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ly used placehol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%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exponenti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%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whichever is shorter, %f or %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6:18Z</dcterms:modified>
  <cp:revision>63</cp:revision>
  <dc:subject/>
  <dc:title>ES100: Lecture 10  User Controlled Input and Output </dc:title>
</cp:coreProperties>
</file>