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40A-61CA-4D70-8897-77790FD5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27E-5341-4719-B815-41804BEE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09E-8887-4AD7-8F5F-70B6F2DB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A31-68CB-4B05-B6A4-8D3504B8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DFF7-80EB-41C3-A640-F38A72F6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DA7-B7E6-47DD-9457-DA6C52A8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7917-B88A-41ED-A2A7-EA04D44B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DF16-69B7-4372-91A3-C77D7033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1B42-8C78-408D-8740-69CB6706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27B5-70B0-4F71-BBB6-A1C7B37D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2998-4813-47C6-8918-CB1603EB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AFB-3B99-43F8-9A27-43A8CA4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57CB-D0D3-4D69-A271-31D5CFC8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289E-BD64-4AF0-AEB5-FC93AAD7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961A-758B-47FE-AD91-63B7E3F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91E-8D09-47BC-8AEE-527D3165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FEF9-69EE-4F8A-B64E-86029F6D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82E-D937-4AB6-80A7-9850ADBF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7D7-53A1-40A2-846E-A59FDCE7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038-F2AE-4C15-9C98-723EFF0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F42-C6C0-415F-84B1-30D30615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850A-A034-41D2-AA80-6F21EE9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B78-AC3F-4B6D-B629-BBEBDC78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A3C-0463-4213-B676-49E5E224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CBA9-826E-4654-9ECE-8E3FFC19F36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0332-A6D5-460E-839A-7C3A469711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6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 MATLAB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s of Built-in Function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Featur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ary Functions (e.g., Polynomials, Trigonometric Functions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Analysis, Random Number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Nu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elp Navigator windo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0666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52280"/>
            <a:ext cx="838440" cy="1981440"/>
          </a:xfrm>
          <a:prstGeom prst="line">
            <a:avLst/>
          </a:prstGeom>
          <a:ln w="63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can perform all of the operations that your calculator can and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 for the topic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mentary ma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Help Navigator just describ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he following in MATLAB to continue your exploration of MATLAB capabil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ns=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ans=1.945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course, try a few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47920" y="4800600"/>
            <a:ext cx="2222280" cy="592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5334120"/>
            <a:ext cx="3060720" cy="5918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Elementary Mathematical Func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times it is necessary to round numbers. MATLAB provides several utilities to do th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y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he exercises above with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place of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2755800" cy="1565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1536480" cy="83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ounding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 these functions d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re not sure, use the help fe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584600" cy="3391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screte-mathematics functions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rigonometric func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LAB can compute numerous trigonometric functions, for angles in radia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convert degrees to radians, the conversion is based on the relationship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180 degrees = pi × rad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ote: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pi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is a built-in constant in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EMARK: Numerical computations with decimal-point numbers are only approximate (just like your calculator). If you try to find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in(pi)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MATLAB will not return 0 as expected, but rather 1.2246e-01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sine of 360 degre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arccosine of -1 in degrees (the help function may be handy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to find the inverse tangent of x as x ranges from -1 to 1 in steps of 0.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ta analysis func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often necessary to analyze data statistical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has many statistical func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004440" y="3581280"/>
            <a:ext cx="174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ize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length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t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var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35812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ax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ea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media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581280"/>
            <a:ext cx="221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um(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pro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or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ortrow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largest number in vector x and where is it locate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median of the above vec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11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sum of the above vec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1536840" cy="411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14400" y="4419720"/>
            <a:ext cx="1612800" cy="411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62120" y="2819520"/>
            <a:ext cx="4051080" cy="763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09480" y="1447920"/>
            <a:ext cx="4432320" cy="469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ata analysis practic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915840" y="57913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 =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708440"/>
            <a:ext cx="15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ns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4920" y="3184560"/>
            <a:ext cx="566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lue = 10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est value is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osition = 4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cated in the 4th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 v in descending or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size of 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standard deviation of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the cumulative product of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rt the rows of y based on the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lum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4965840" cy="907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2908080" cy="4701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eration of random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rand(n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duces an n×n matrix of random numbers from 0 to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ahoma"/>
              </a:rPr>
              <a:t>rand(n,m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oduces an n×m matrix of random numbers between 0 and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use MATLAB to produce a random nu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tween 0 and 40, do the follow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is a built-in functio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mputational expression that uses one or more input values to produce an output valu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Functions have 3 component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out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e701"/>
                </a:solidFill>
                <a:latin typeface="Courier New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= tan(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e701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outpu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me of a built-in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in this case, it is the tangent function with argument in radia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8288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Complex numb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ake the form of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a+b*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s the real 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 is the imaginary 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re i = sqrt(-1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lex numbers can be assigned in MATLAB on command line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a = 2; b = 3;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Must assign a &amp; b bef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c = a+b*i     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 assigning c as show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c = complex(a,b)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% or this other w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lex numbers continue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re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imaginary compon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real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imag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absolute valu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modulu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bs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ind the 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angl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argu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xpressed in radians of a complex numb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angle(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usefu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clo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produces an array that tells year, month, day, hour, min, se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d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ells d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the number pi (3.141592653589…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maginary number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% i = sqrt(-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maginary number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% j = sqrt(-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ep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smallest difference between two numerically-computed, adjacent real (‘floating point’) numbers = 2.2204e-016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modulus (magnitude, abs) and angle (argument) of the complex number 3+4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a 4x4 array of random numbers between 0 and 10. Sort each column of the arr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MATLAB’s help function to find built-in functions to determ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ase 10 logarithm of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ant of p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Fe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Math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nding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ete Mathematics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gonometric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x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8080" y="5486400"/>
            <a:ext cx="2603520" cy="469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TLAB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Func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ke the form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variable = function(number or vari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has many functions stored in its file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use one of the built-in functions, you need to know its name and what the input values 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square root func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Courier New"/>
              </a:rPr>
              <a:t>sqrt(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quare root of 9 using MAT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 featu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may not always recall the name and syntax of a function you want to use since MATLAB has so many built-in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LAB has an indexed library of its built-in functions that you can access through 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typ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command window MATLAB provides a list of help top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ATLAB command window typ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we are interested in the elementary mathematics functions, we find it on the list of help topics (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wn) and click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st of commands appears with the description of what each one do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a few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146320" cy="4701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4762" t="0" r="19999" b="37233"/>
          <a:stretch/>
        </p:blipFill>
        <p:spPr>
          <a:xfrm>
            <a:off x="609480" y="1295280"/>
            <a:ext cx="7848720" cy="514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30492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ATLAB Hel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22440" y="3079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 specific help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help top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t ou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describes what the function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oes and provides helpful links to similar or related functions to assist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146320" cy="469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Hel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MATLAB help to find the exponential, natural logarithm, and logarithm base 2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ln(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 lo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1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3111480"/>
            <a:ext cx="1292400" cy="4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15000" y="4406760"/>
            <a:ext cx="1657440" cy="47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18240" y="3720960"/>
            <a:ext cx="1292040" cy="470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-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elp Navigato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on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tool bar at the top of MATLAB, and select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MATLAB He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ELP window will pop u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Help Naviga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the left of screen select 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ar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Search for specific help topics by typing your topic in the space after the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an also press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your keyboard to access the windowed hel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09Z</dcterms:modified>
  <cp:revision>85</cp:revision>
  <dc:subject/>
  <dc:title>ES100: Lecture 04  Built-in Functions</dc:title>
</cp:coreProperties>
</file>