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407-5DC5-4848-A380-5C6EB857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2A8-ED86-4008-A367-74BAC8D8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EB5-784F-4DD3-9707-A13B51C5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FD9-30C2-413C-BD31-DC07E2B9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A136-78CE-45DE-8A57-FD9FC2E3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652A-689F-438B-A0B1-992B0347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EDF6-5E1C-476A-BE4B-056D43A5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8DD9-4899-4AFC-87EA-CF73E052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CCBA-0121-4277-B2EF-E17EAA22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1EF6-3B55-4645-920E-8B8D5733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AB30-1105-4DA4-B8FB-58E09957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5A1-F26B-41EF-B7F0-51E9A255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EF49-EB76-4AB4-9C3B-FD271CD1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98C5-E47F-4885-8DC1-15CDFAC7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0227-46E9-49CA-B8D2-539CF3F6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B7D6-330A-429A-AC3D-2F7ABC80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C6D0-B8D4-47AD-A1E0-C36F121B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4B5-A90E-4EA7-B4D6-D4C75C36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794-2DB5-4FCA-9C98-0A959419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FEE-F1B0-4325-819B-D99AB9F6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A21-8629-47AE-88B8-72DDECE1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44E-6575-4FF4-9AD5-58038C8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899-1FD0-43C8-BBC8-ECB638CC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F41-B04D-485B-8A07-32D485E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D385-36B7-4605-B5F7-DDCA7AC431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9F17-66FA-4096-9EAF-6BEC8F58E7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6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MATLAB func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s of Built-in Function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Featur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ary Functions (e.g., Polynomials, Trigonometric Functions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nalysis, Random Number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Nu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lp Navigator windo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0666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52280"/>
            <a:ext cx="838440" cy="1981440"/>
          </a:xfrm>
          <a:prstGeom prst="line">
            <a:avLst/>
          </a:prstGeom>
          <a:ln w="63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can perform all of the operations that your calculator can and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the top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mentary m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Help Navigator just describ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he following in MATLAB to continue your exploration of MATLAB 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ns=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ns=1.945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course, try a few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4800600"/>
            <a:ext cx="2222280" cy="592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5334120"/>
            <a:ext cx="3060720" cy="591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lementary Mathematical Func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it is necessary to round numbers. MATLAB provides several utilities to do th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y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the exercises above with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place of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2755800" cy="156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1536480" cy="83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unding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se functions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re not sure, use the help fe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584600" cy="3391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rete-mathematics function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rigonometric func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LAB can compute numerous trigonometric functions, for angles in radi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nvert degrees to radians, the conversion is based on the relationshi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180 degrees = pi × rad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ote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pi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is a built-in constant in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MARK: Numerical computations with decimal-point numbers are only approximate (just like your calculator). If you try to find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in(pi)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MATLAB will not return 0 as expected, but rather 1.2246e-01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sine of 360 degre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arccosine of -1 in degrees (the help function may be hand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inverse tangent of x as x ranges from -1 to 1 in steps of 0.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ta analysis func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often necessary to analyze data statistical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has many statistical func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6004440" y="3581280"/>
            <a:ext cx="174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ize(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t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a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5812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ax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ea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edia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58128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um(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pro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or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ortrow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largest number in vector x and where is it locat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edian of the above vect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sum of the above vect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1536840" cy="411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1612800" cy="411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62120" y="2819520"/>
            <a:ext cx="4051080" cy="763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09480" y="1447920"/>
            <a:ext cx="4432320" cy="469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ta analysis practic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915840" y="57913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ns =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708440"/>
            <a:ext cx="15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ns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920" y="3184560"/>
            <a:ext cx="56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lue = 10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est value is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osition = 4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cated in the 4th col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 v in descending or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size of 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standard deviation of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cumulative product of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 the rows of y based on the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lum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965840" cy="907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2908080" cy="470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ration of random numb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ahoma"/>
              </a:rPr>
              <a:t>rand(n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duces an n×n matrix of random numbers from 0 to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ahoma"/>
              </a:rPr>
              <a:t>rand(n,m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duces an n×m matrix of random numbers between 0 and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use MATLAB to produce a random nu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0 and 40, do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 built-in functio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utational expression that uses one or more input values to produce an output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Functions have 3 compone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out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701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= tan(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e701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me of a built-in 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in this case, it is the tangent function with argument in radi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8288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Complex numb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ake the form of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a+b*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s the real 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is the imaginary 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i = sqrt(-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x numbers can be assigned in MATLAB on command lines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 = 2; b = 3;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Must assign a &amp; b bef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c = a+b*i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 assigning c as show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c = complex(a,b)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or this other w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lex numbers continu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re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imaginary compon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real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imag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absolute valu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modul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bs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ang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argu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pressed in radians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ngle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ther usefu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lo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oduces an array that tells year, month, day, hour, min, se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ells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he number pi (3.141592653589…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maginary number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% i = sqrt(-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maginary number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% j = sqrt(-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mallest difference between two numerically-computed, adjacent real (‘floating point’) numbers = 2.2204e-016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modulus (magnitude, abs) and angle (argument) of the complex number 3+4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a 4x4 array of random numbers between 0 and 10. Sort each column of the arr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MATLAB’s help function to find built-in functions to determi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se 10 logarithm of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ant of p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Fe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Math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ing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e Mathematics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onometric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5486400"/>
            <a:ext cx="2603520" cy="469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LAB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F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ke the form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variable = function(number or vari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has many functions stored in its fil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use one of the built-in functions, you need to know its name and what the input values 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square root 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sqrt(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quare root of 9 using MAT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 featu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not always recall the name and syntax of a function you want to use since MATLAB has so many built-in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has an indexed library of its built-in functions that you can access through 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typ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command window MATLAB provides a list of help top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TLAB command window ty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are interested in the elementary mathematics functions, we find it on the list of help topics (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wn) and click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st of commands appears with the description of what each one d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a fe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146320" cy="470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4762" t="0" r="19999" b="37233"/>
          <a:stretch/>
        </p:blipFill>
        <p:spPr>
          <a:xfrm>
            <a:off x="609480" y="1295280"/>
            <a:ext cx="7848720" cy="5145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30492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TLAB Hel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22440" y="3079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 specific help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help 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t ou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describes what the function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es and provides helpful links to similar or related functions to assist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146320" cy="469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Hel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help to find the exponential, natural logarithm, and logarithm base 2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ln(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3111480"/>
            <a:ext cx="1292400" cy="46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5000" y="4406760"/>
            <a:ext cx="1657440" cy="47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718240" y="3720960"/>
            <a:ext cx="1292040" cy="470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 Navigat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tool bar at the top of MATLAB, and select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MATLAB 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ELP window will pop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 Navig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left of screen select 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Search for specific help topics by typing your topic in the space after the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also press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your keyboard to access the windowed h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09Z</dcterms:modified>
  <cp:revision>85</cp:revision>
  <dc:subject/>
  <dc:title>ES100: Lecture 04  Built-in Functions</dc:title>
</cp:coreProperties>
</file>