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FA5-E48F-4DFD-B509-CA2C1EB3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F9C-762D-4483-9504-5630CFAF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C99-2869-4973-B22C-80798930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EA3B-03B6-47F2-B8C9-9F66F162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B8F-188B-4357-9EC5-E7C225B8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A190-16A6-4C8F-AD55-F7B562A6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4AC5-08C3-4873-B769-2D3D69D9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A3CE-4298-42DC-95AE-C0915ACF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FC2A-4756-4015-9415-C85706A1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4F4B-5597-43DD-8442-03E66F80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44E6-761E-4543-846E-49F56B4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A4D-3ACE-4E09-8B4C-57C11EB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8759-EF6B-4C29-9076-55AA7AE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5B9B-D424-4EEA-AC44-B70C049F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3F76-5071-40CA-8E55-403F6A54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4D5D-5F32-44D1-B0FC-F21EEF52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D9F3-0583-4A5F-8A8A-8351E0EA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EE8E-B2CE-4183-85FF-CBD8574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011-8845-471C-A462-561E9B3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1E1-89FA-467B-9061-B9AAD3C5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0E9-5D7D-4B69-8839-793B5E5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CED-CFC2-45D3-82E9-6542C199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FAF-FE59-4930-830E-B371689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421-B96C-46A7-A766-E65AA010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97DB-3B04-41D3-896B-D72482A554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28FA-39AC-41F1-986D-116B39DA7E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MATLAB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 of Built-in Func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Featu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ry Functions (e.g., Polynomials, Trigonometric Function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, Random Numb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lp Navigator wind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066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52280"/>
            <a:ext cx="838440" cy="1981440"/>
          </a:xfrm>
          <a:prstGeom prst="line">
            <a:avLst/>
          </a:prstGeom>
          <a:ln w="63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can perform all of the operations that your calculator can and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top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ary m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Help Navigator just descri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 following in MATLAB to continue your exploration of MATLAB 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1.94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course, try a few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2222280" cy="5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5334120"/>
            <a:ext cx="3060720" cy="59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lementary Mathematical Func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it is necessary to round numbers. MATLAB provides several utilities to do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he exercises above with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place of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75580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1536480" cy="83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unding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se functions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not sure, use the help fe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584600" cy="339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rete-mathematics function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rigonometric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can compute numerous trigonometric functions, for angles in radi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vert degrees to radians, the conversion is based on the relationshi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80 degrees = pi × 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te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pi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is a built-in constant in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MARK: Numerical computations with decimal-point numbers are only approximate (just like your calculator). If you try to find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in(pi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MATLAB will not return 0 as expected, but rather 1.2246e-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sine of 360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arccosine of -1 in degrees (the help function may be hand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inverse tangent of x as x ranges from -1 to 1 in steps of 0.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often necessary to analyze data statistical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statistical func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004440" y="3581280"/>
            <a:ext cx="17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ize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t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a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a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di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5812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um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pro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row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largest number in vector x and where is it loc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dian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m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1536840" cy="41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1612800" cy="411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4051080" cy="76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4432320" cy="46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pract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15840" y="5791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708440"/>
            <a:ext cx="15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920" y="3184560"/>
            <a:ext cx="56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lue = 10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st value is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tion = 4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ed in the 4th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v in descending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ize of 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tandard deviation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cumulative product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the rows of y based o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965840" cy="907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908080" cy="470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tion of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n matrix of random numbers from 0 to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,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m matrix of random numbers between 0 and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se MATLAB to produce a random nu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0 and 40, do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built-in functio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ational expression that uses one or more input values to produce an output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Functions have 3 compon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= tan(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 of a built-in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n this case, it is the tangent function with argument in radi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8288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Complex num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ke the form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a+b*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s the real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is the imaginary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i = sqrt(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numbers can be assigned in MATLAB on command line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 = 2; b = 3;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Must assign a &amp; b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a+b*i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 assigning c as sh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complex(a,b)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or this other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re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imaginary compon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real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imag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bsolute valu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modul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bs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ng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argu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pressed in radians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ngle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usefu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l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duces an array that tells year, month, day, hour, min, s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ells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number pi (3.141592653589…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i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j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mallest difference between two numerically-computed, adjacent real (‘floating point’) numbers = 2.2204e-01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modulus (magnitude, abs) and angle (argument) of the complex number 3+4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 4x4 array of random numbers between 0 and 10. Sort each column of the arr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ATLAB’s help function to find built-in functions to determ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e 10 logarithm of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ant of 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Fe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Math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 Mathematics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onometr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5486400"/>
            <a:ext cx="2603520" cy="469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the for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ariable = function(number or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functions stored in its fi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se one of the built-in functions, you need to know its name and what the input values 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square root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sqrt(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quare root of 9 using MAT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always recall the name and syntax of a function you want to use since MATLAB has so many built-i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has an indexed library of its built-in functions that you can access through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yp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command window MATLAB provides a list of help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TLAB command window ty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re interested in the elementary mathematics functions, we find it on the list of help topics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) and click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commands appears with the description of what each on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 f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146320" cy="47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4762" t="0" r="19999" b="37233"/>
          <a:stretch/>
        </p:blipFill>
        <p:spPr>
          <a:xfrm>
            <a:off x="609480" y="1295280"/>
            <a:ext cx="7848720" cy="514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3049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TLAB Hel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244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pecific help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help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t ou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describes what the function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es and provides helpful links to similar or related functions to assist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146320" cy="469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help to find the exponential, natural logarithm, and logarithm base 2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n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111480"/>
            <a:ext cx="1292400" cy="4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4406760"/>
            <a:ext cx="165744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18240" y="3720960"/>
            <a:ext cx="129204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Navig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tool bar at the top of MATLAB, and select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ATLAB 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LP window will po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 Navig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left of screen select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earch for specific help topics by typing your topic in the space after the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also press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your keyboard to access the window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9Z</dcterms:modified>
  <cp:revision>85</cp:revision>
  <dc:subject/>
  <dc:title>ES100: Lecture 04  Built-in Functions</dc:title>
</cp:coreProperties>
</file>