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FED-ED1D-4FDF-B64E-72D5F2F0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3C4-BF99-4556-9DE7-872AE5AD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E3D-61AB-4C81-BE41-12AF77B7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D55-2E6C-47DD-B30D-189CA5E6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2DEB-6C3C-43D5-B803-0F1F3D05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8E5D-5E91-47BB-A442-ECC5901C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9661-4C0B-43CB-B0EB-FBABEB1D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186-524E-4965-A4D4-9475D5C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D3E2-D9F9-4D86-BA74-3EB0D903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D74A-F92D-4F29-AA49-C1F16F9E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02A2-13F5-48D9-B3BF-C59900A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269-15DE-4F9C-88D8-C2554D5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6F40-C2F6-4D34-8D62-6099C08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11BD-C43E-40A2-AF1D-20CE3BA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452-8723-456A-9B98-422DD97E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D354-A740-4E73-8239-7F574627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A06A-A8F9-4FE8-8EEF-2052FD17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1C2-1C0C-4B59-A986-B66E3555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11B-B3BC-4FFE-AF35-B78F6240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3C0-236F-4A77-8931-1DA4EE18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E28-3745-4085-A2DD-FDEB255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02A-81CA-468A-820C-C4940F77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71D-B800-4F71-8555-D3EC8A77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2F1-0E72-4206-B5FC-F177366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894E-2F50-45ED-907C-C4D4171BD6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4E71-847A-45C6-96C7-CD7F213307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6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MATLAB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 of Built-in Function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Featur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ary Functions (e.g., Polynomials, Trigonometric Functions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, Random Numb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lp Navigator windo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0666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52280"/>
            <a:ext cx="838440" cy="1981440"/>
          </a:xfrm>
          <a:prstGeom prst="line">
            <a:avLst/>
          </a:prstGeom>
          <a:ln w="63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can perform all of the operations that your calculator can and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top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mentary m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Help Navigator just describ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he following in MATLAB to continue your exploration of MATLAB 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1.94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course, try a few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2222280" cy="59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5334120"/>
            <a:ext cx="3060720" cy="591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lementary Mathematical Func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it is necessary to round numbers. MATLAB provides several utilities to do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he exercises above with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place of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275580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1536480" cy="83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unding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se functions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not sure, use the help fe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584600" cy="339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rete-mathematics function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rigonometric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 can compute numerous trigonometric functions, for angles in radi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nvert degrees to radians, the conversion is based on the relationshi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80 degrees = pi × 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ote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pi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is a built-in constant in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MARK: Numerical computations with decimal-point numbers are only approximate (just like your calculator). If you try to find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in(pi)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MATLAB will not return 0 as expected, but rather 1.2246e-01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sine of 360 deg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arccosine of -1 in degrees (the help function may be hand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inverse tangent of x as x ranges from -1 to 1 in steps of 0.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func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often necessary to analyze data statistical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statistical func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004440" y="3581280"/>
            <a:ext cx="174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ize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t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a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5812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a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di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58128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um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pro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row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largest number in vector x and where is it loc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dian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um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1536840" cy="411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1612800" cy="411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4051080" cy="763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9480" y="1447920"/>
            <a:ext cx="4432320" cy="469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pract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15840" y="5791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708440"/>
            <a:ext cx="15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920" y="3184560"/>
            <a:ext cx="56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lue = 10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est value is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sition = 4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cated in the 4th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v in descending 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ize of 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tandard deviation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cumulative product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the rows of y based on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lum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965840" cy="907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2908080" cy="470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tion of random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n matrix of random numbers from 0 to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,m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m matrix of random numbers between 0 and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se MATLAB to produce a random nu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0 and 40, do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built-in functio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utational expression that uses one or more input values to produce an output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Functions have 3 compon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= tan(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 of a built-in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n this case, it is the tangent function with argument in radi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8288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Complex numb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ke the form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a+b*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s the real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is the imaginary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i = sqrt(-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numbers can be assigned in MATLAB on command line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 = 2; b = 3;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Must assign a &amp; b bef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a+b*i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 assigning c as sh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complex(a,b)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or this other 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 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re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imaginary compon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real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imag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bsolute valu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modul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bs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ng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argu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pressed in radians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ngle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usefu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l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oduces an array that tells year, month, day, hour, min, s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ells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number pi (3.141592653589…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i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j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mallest difference between two numerically-computed, adjacent real (‘floating point’) numbers = 2.2204e-01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modulus (magnitude, abs) and angle (argument) of the complex number 3+4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a 4x4 array of random numbers between 0 and 10. Sort each column of the arr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ATLAB’s help function to find built-in functions to determ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e 10 logarithm of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ant of 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Fe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Math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ing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 Mathematics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onometr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5486400"/>
            <a:ext cx="2603520" cy="469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ke the form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variable = function(number or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functions stored in its fil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se one of the built-in functions, you need to know its name and what the input values 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square root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sqrt(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quare root of 9 using MAT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fea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not always recall the name and syntax of a function you want to use since MATLAB has so many built-in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has an indexed library of its built-in functions that you can access through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yp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command window MATLAB provides a list of help top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TLAB command window ty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are interested in the elementary mathematics functions, we find it on the list of help topics (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wn) and click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of commands appears with the description of what each on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a fe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146320" cy="47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4762" t="0" r="19999" b="37233"/>
          <a:stretch/>
        </p:blipFill>
        <p:spPr>
          <a:xfrm>
            <a:off x="609480" y="1295280"/>
            <a:ext cx="7848720" cy="514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3049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TLAB Hel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2440" y="307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 specific help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help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t ou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describes what the function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es and provides helpful links to similar or related functions to assist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146320" cy="469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help to find the exponential, natural logarithm, and logarithm base 2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n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111480"/>
            <a:ext cx="1292400" cy="4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4406760"/>
            <a:ext cx="1657440" cy="47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18240" y="3720960"/>
            <a:ext cx="1292040" cy="47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Navig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tool bar at the top of MATLAB, and select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ATLAB 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LP window will pop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 Navig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left of screen select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earch for specific help topics by typing your topic in the space after the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also press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your keyboard to access the window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9Z</dcterms:modified>
  <cp:revision>85</cp:revision>
  <dc:subject/>
  <dc:title>ES100: Lecture 04  Built-in Functions</dc:title>
</cp:coreProperties>
</file>