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304B-F17C-4586-B412-97A1ECDDC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B0E8-21B9-44FB-B458-6AEE3F8DB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1E5A-18F7-427F-B30E-186FEE213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EF4A-2567-43DE-A34B-6D5AA5D65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30D80-AF2A-4140-AA1B-EB4DAD16B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C62A1-FB39-451F-81A5-A6E254D32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FB124-474B-458E-92C1-6B19C5C87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E02A6-9172-4B7C-9156-4637392B3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44420-CB21-4B61-A7E2-3248C5193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30FA8-FF11-4CBF-965C-94DF94B80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B1E3E-87EA-4734-92A6-CAED0F4B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D358-821E-49DB-A04B-1F85986C2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E1294-6769-4800-8AAD-DF029EA1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0B21E-7CD4-4B5A-BEA2-B6EF62B7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51A85-2092-4D98-B4F3-FE0850971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59214-D727-4ABC-85AD-54C0952EE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DB220-F283-45C0-AA26-E427A6CE1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169A-BA34-4AAF-99A9-A2DB67186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17D8-6E4F-46AB-955E-8EC329386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BDDD-950E-4335-BDFA-541DD3298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0E42-4E2C-43AC-AF7A-4E93E3436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568E-A4FB-46A7-916D-4DE1975D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73DA-77C2-4767-A7DA-F0E61B69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37FB-6B1D-4CFA-A489-A735F697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86448-EA99-47AE-990D-F5E46E70EF1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B0842-5FA0-4FB1-8278-E40253E318C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Lecture 7</a:t>
            </a:r>
            <a:br>
              <a:rPr sz="4800"/>
            </a:b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Debugging Code</a:t>
            </a:r>
            <a:br>
              <a:rPr sz="4800"/>
            </a:b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&amp; </a:t>
            </a:r>
            <a:br>
              <a:rPr sz="4800"/>
            </a:b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Data Import/Export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52140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Arial"/>
              </a:rPr>
              <a:t>© 2007 Daniel Valentine. All rights reserved. Published by Elsevier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xporting to Exce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array written in MATLAB can be exported to an Excel docum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yntax i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Courier New"/>
              </a:rPr>
              <a:t>xlswrite('filename.xls' , s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need to define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or any other array of data) before attempting to export data to an Excel readable fi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ands-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an array of odd numbers from 1-19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ve the array to an Excel docum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ear your workspace and import the array from the Excel readable file you just creat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Courier New"/>
              </a:rPr>
              <a:t>textrea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textrea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ows MATLAB to read ASCII fil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le must be formatted into columns, but each column can be a different data type. The construct i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[a,b,c,d…] = textread(‘filename’, ‘%f %d %d %d…’, n)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a,b,c,d…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epresent the names of each variable, filename is the name of the file,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‘%f %d %d %d…’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s a string indicating the format of the variables in the text file, and 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s number of rows to be read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s not included in the command, the entire file is rea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Courier New"/>
              </a:rPr>
              <a:t>textread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examp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the file ‘sports.dat’ contain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versity   Soccer   12    7   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versity   Hockey  15    7   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mmand you enter to read it i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[sport, wins, losses, ties]</a:t>
            </a:r>
            <a:r>
              <a:rPr b="1" lang="en-US" sz="2800" spc="-1" strike="noStrike">
                <a:solidFill>
                  <a:srgbClr val="0099ff"/>
                </a:solidFill>
                <a:latin typeface="Courier New"/>
              </a:rPr>
              <a:t>...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= textread(‘sports.dat’,’</a:t>
            </a:r>
            <a:r>
              <a:rPr b="1" lang="en-US" sz="2800" spc="-1" strike="noStrike">
                <a:solidFill>
                  <a:srgbClr val="0099ff"/>
                </a:solidFill>
                <a:latin typeface="Courier New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%*s,%s,%d,%d,%d’,2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%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notes that that column contains str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%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notes that that column contains integ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 %*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r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%*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eans that the column will not be read into MATLAB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ave &amp; load: *.mat fi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save filename var1 var2 var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load filena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filename is the name of the file and var1, var2, var3 are the variables to be saved in a MATLAB readable fi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the variables are not listed after the filename, save saves all the variables in the workspa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ave command saves data from the workspace into an </a:t>
            </a:r>
            <a:r>
              <a:rPr b="1" lang="en-US" sz="2800" spc="-1" strike="noStrike">
                <a:solidFill>
                  <a:srgbClr val="ff9900"/>
                </a:solidFill>
                <a:latin typeface="Courier New"/>
              </a:rPr>
              <a:t>*.ma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i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oad command loads the variables stored i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9900"/>
                </a:solidFill>
                <a:latin typeface="Courier New"/>
              </a:rPr>
              <a:t>filename.ma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le previously save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xercis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command window, define x as 6, t as 14.5, and r as 22. Save these variables to a file titled “work_data”.  Clear the workspace and then load the variabl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rite the table to an Excel file.  Load the file into matlab using xlsread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648320" y="1600200"/>
          <a:ext cx="4038480" cy="3809880"/>
        </p:xfrm>
        <a:graphic>
          <a:graphicData uri="http://schemas.openxmlformats.org/drawingml/2006/table">
            <a:tbl>
              <a:tblPr/>
              <a:tblGrid>
                <a:gridCol w="1523880"/>
                <a:gridCol w="1168560"/>
                <a:gridCol w="1346040"/>
              </a:tblGrid>
              <a:tr h="95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a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ss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5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5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rro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nta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n-ti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gic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exchan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ort wizar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orting from and exporting to Microsoft Exc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xtread fun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ving and loading fi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Debugging &amp; importing data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ter code design (debug errors)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bugging is a primary task in code design it is the task to correct errors &amp; validate a too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orting/exporting dat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many programs that deal with da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erent programs have their own strengths and weakness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y often, we use multiple programs and need to share data between the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44600" y="5105520"/>
            <a:ext cx="8699400" cy="6220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44600" y="3886200"/>
            <a:ext cx="8699400" cy="6224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yntax erro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rors in the MATLAB statement itself, such as spelling or punctuation erro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457200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b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3048120"/>
            <a:ext cx="8229600" cy="14605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un-time erro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curs when illegal mathematical operations are attempted during program execu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into an M-fil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4800600"/>
            <a:ext cx="8381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y running the program and enter a number ≤ 0.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Note: The run-time error is %2.3d because only the real part of the log is display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80880" y="2895480"/>
            <a:ext cx="8242560" cy="14605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Logical erro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cur when the program runs without displaying an error, but produces an unexpected resul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into an M-fil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4419720"/>
            <a:ext cx="87631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y running the program, enter 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sult will be 10, where is the erro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Note: If you enter 2 instead, you will see that it could be difficult to find logical err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ypical data file types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4343400" y="1600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85800" y="1219320"/>
          <a:ext cx="8001000" cy="534024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e701"/>
                          </a:solidFill>
                          <a:latin typeface="Tahoma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ffe701"/>
                          </a:solidFill>
                          <a:latin typeface="Tahoma"/>
                        </a:rPr>
                        <a:t>Binary”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e701"/>
                          </a:solidFill>
                          <a:latin typeface="Tahoma"/>
                        </a:rPr>
                        <a:t>ASCI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e701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“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chine language”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e701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st &amp; Effici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e701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 readily reada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e701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ually proprieta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e701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ually the “Native” format for a progra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e701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p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3" marL="137160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Tahoma"/>
                        <a:buChar char="–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xl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3" marL="137160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Tahoma"/>
                        <a:buChar char="–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do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3" marL="137160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Tahoma"/>
                        <a:buChar char="–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m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e701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“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 File”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e701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 be read in any text editor (e.g., MATLAB editor or  notepad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e701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od for shar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e701"/>
                        </a:buClr>
                        <a:buSzPct val="8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p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3" marL="137160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Tahoma"/>
                        <a:buChar char="–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tx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3" marL="137160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Tahoma"/>
                        <a:buChar char="–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d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3" marL="137160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Tahoma"/>
                        <a:buChar char="–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csv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mport Wizar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Import Wiza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a feature in MATLAB that determines the type of data file and determines the way to extract and display the information within MATLAB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can be used to extract data from ASCII files, Excel spreadsheet files, among other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ort Wizard is opened by double clicking on a file name in the current directory window of the deskto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Courier New"/>
              </a:rPr>
              <a:t>uiimpor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other way to open the Import Wizard is to typ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9900"/>
                </a:solidFill>
                <a:latin typeface="Courier New"/>
              </a:rPr>
              <a:t>uiimport(</a:t>
            </a:r>
            <a:r>
              <a:rPr b="1" lang="en-US" sz="3200" spc="-1" strike="noStrike">
                <a:solidFill>
                  <a:srgbClr val="ff6600"/>
                </a:solidFill>
                <a:latin typeface="Courier New"/>
              </a:rPr>
              <a:t>'</a:t>
            </a:r>
            <a:r>
              <a:rPr b="1" lang="en-US" sz="3200" spc="-1" strike="noStrike">
                <a:solidFill>
                  <a:srgbClr val="ff9900"/>
                </a:solidFill>
                <a:latin typeface="Courier New"/>
              </a:rPr>
              <a:t>filename.extension</a:t>
            </a:r>
            <a:r>
              <a:rPr b="1" lang="en-US" sz="3200" spc="-1" strike="noStrike">
                <a:solidFill>
                  <a:srgbClr val="ff6600"/>
                </a:solidFill>
                <a:latin typeface="Courier New"/>
              </a:rPr>
              <a:t>'</a:t>
            </a:r>
            <a:r>
              <a:rPr b="1" lang="en-US" sz="3200" spc="-1" strike="noStrike">
                <a:solidFill>
                  <a:srgbClr val="ff9900"/>
                </a:solidFill>
                <a:latin typeface="Courier New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command window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ingle quotes around the name of the file are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very importa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; the wizard will not run if they are omitted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mporting an Excel data fi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ourier New"/>
              </a:rPr>
              <a:t>	</a:t>
            </a:r>
            <a:r>
              <a:rPr b="0" lang="en-US" sz="3600" spc="-1" strike="noStrike">
                <a:solidFill>
                  <a:srgbClr val="ff9900"/>
                </a:solidFill>
                <a:latin typeface="Courier New"/>
              </a:rPr>
              <a:t>	</a:t>
            </a:r>
            <a:r>
              <a:rPr b="1" lang="en-US" sz="3600" spc="-1" strike="noStrike">
                <a:solidFill>
                  <a:srgbClr val="ff9900"/>
                </a:solidFill>
                <a:latin typeface="Courier New"/>
              </a:rPr>
              <a:t>xlsread('filename.xls'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fore you can use this command you need to ensure that where ever the file is stored is in your path. (File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et path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Note that if Excel is not installed on the computer MATLAB cannot use xlsread or xlswri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1T23:02:08Z</dcterms:created>
  <dc:creator>Greg Zenger</dc:creator>
  <dc:description/>
  <dc:language>en-US</dc:language>
  <cp:lastModifiedBy>eatonh</cp:lastModifiedBy>
  <dcterms:modified xsi:type="dcterms:W3CDTF">2007-02-13T14:45:00Z</dcterms:modified>
  <cp:revision>93</cp:revision>
  <dc:subject/>
  <dc:title>ES100: Lecture 01 Matrices (Part 1)</dc:title>
</cp:coreProperties>
</file>