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9A79-EC45-4A37-A5D3-611905967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C229-0DE1-4A75-8E54-63C69DAC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4E77-FF23-4D62-B40B-F2DE3D2D3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3729-D543-46CC-A35F-6801821A1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2A91-DC2D-4219-B965-C4A354B83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7A6E-5A0C-49C1-BA2D-F7C82A2D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92A9-4A07-4C53-80BA-6623D814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0120-57B8-4EE4-B0DE-046B4843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DD7B-FAFF-4DA0-A6BC-2B59C674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33C4-16C2-4CD6-AD5B-7122330E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9FFE-BDFE-4F4F-A614-9395A875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AEE0-7A77-4429-9AFC-CA04BE64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EACA-83B7-4372-9C5D-0B138F5E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00BB-09E1-482A-931D-EB2B284F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C20E-D0D7-4796-9A23-3F8B2604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6D30-2001-4997-9AAD-B4CA2E43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1752-1EB0-4D74-AF5D-CB7BDAE7A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B492-7749-4010-BCCC-4734D90B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ED7E-37A8-4F99-A2DF-4F015E89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E2BC-79F1-443F-A190-9494A112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F83F-EF25-49E8-B120-513B708A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DFFA-26C0-4205-9F3B-A50F61CF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0BDA-E3A0-4DDE-9328-10562AC1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EBA5-09EE-4413-9F59-026D5634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318A-58EA-4FE8-B12B-147E581A113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BBC8-CDA9-41B0-8212-13A9643339C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Lecture 7</a:t>
            </a:r>
            <a:br>
              <a:rPr sz="4800"/>
            </a:b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Debugging Code</a:t>
            </a:r>
            <a:br>
              <a:rPr sz="4800"/>
            </a:b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&amp; </a:t>
            </a:r>
            <a:br>
              <a:rPr sz="4800"/>
            </a:b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Data Import/Export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5214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© 2007 Daniel Valentine. All rights reserved. Published by Elsevier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porting to Exce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rray written in MATLAB can be exported to an Excel docu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yntax i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Courier New"/>
              </a:rPr>
              <a:t>xlswrite('filename.xls' , s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need to define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or any other array of data) before attempting to export data to an Excel readable fi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ands-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n array of odd numbers from 1-19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e the array to an Excel docu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ear your workspace and import the array from the Excel readable file you just crea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textrea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textrea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s MATLAB to read ASCII fi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le must be formatted into columns, but each column can be a different data type. The construct i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[a,b,c,d…] = textread(‘filename’, ‘%f %d %d %d…’, n)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a,b,c,d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present the names of each variable, filename is the name of the file,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‘%f %d %d %d…’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s a string indicating the format of the variables in the text file, and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s number of rows to be rea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s not included in the command, the entire file is re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textread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examp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file ‘sports.dat’ contai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ity   Soccer   12    7   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ity   Hockey  15    7  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mand you enter to read it i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[sport, wins, losses, ties]</a:t>
            </a:r>
            <a:r>
              <a:rPr b="1" lang="en-US" sz="2800" spc="-1" strike="noStrike">
                <a:solidFill>
                  <a:srgbClr val="0099ff"/>
                </a:solidFill>
                <a:latin typeface="Courier New"/>
              </a:rPr>
              <a:t>...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= textread(‘sports.dat’,’</a:t>
            </a:r>
            <a:r>
              <a:rPr b="1" lang="en-US" sz="2800" spc="-1" strike="noStrike">
                <a:solidFill>
                  <a:srgbClr val="0099ff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%*s,%s,%d,%d,%d’,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%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notes that that column contains str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%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notes that that column contains integ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 %*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%*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eans that the column will not be read into MATLAB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ave &amp; load: *.mat fi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save filename var1 var2 var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load filena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filename is the name of the file and var1, var2, var3 are the variables to be saved in a MATLAB readable fi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variables are not listed after the filename, save saves all the variables in the worksp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ave command saves data from the workspace into an </a:t>
            </a:r>
            <a:r>
              <a:rPr b="1" lang="en-US" sz="2800" spc="-1" strike="noStrike">
                <a:solidFill>
                  <a:srgbClr val="ff9900"/>
                </a:solidFill>
                <a:latin typeface="Courier New"/>
              </a:rPr>
              <a:t>*.m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i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oad command loads the variables stored i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9900"/>
                </a:solidFill>
                <a:latin typeface="Courier New"/>
              </a:rPr>
              <a:t>filename.ma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e previously save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command window, define x as 6, t as 14.5, and r as 22. Save these variables to a file titled “work_data”.  Clear the workspace and then load the variab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e the table to an Excel file.  Load the file into matlab using xlsrea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648320" y="1600200"/>
          <a:ext cx="4038480" cy="3809880"/>
        </p:xfrm>
        <a:graphic>
          <a:graphicData uri="http://schemas.openxmlformats.org/drawingml/2006/table">
            <a:tbl>
              <a:tblPr/>
              <a:tblGrid>
                <a:gridCol w="1523880"/>
                <a:gridCol w="1168560"/>
                <a:gridCol w="1346040"/>
              </a:tblGrid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s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r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ta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-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ic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excha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 wizar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ing from and exporting to Microsoft Exc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xtread f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ving and loading fi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Debugging &amp; importing data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 code design (debug errors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bugging is a primary task in code design it is the task to correct errors &amp; validate a too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ing/exporting dat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many programs that deal with da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 programs have their own strengths and weakness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often, we use multiple programs and need to share data between th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44600" y="5105520"/>
            <a:ext cx="8699400" cy="622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4600" y="3886200"/>
            <a:ext cx="8699400" cy="6224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yntax erro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rors in the MATLAB statement itself, such as spelling or punctuation erro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45720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b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8229600" cy="14605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un-time erro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rs when illegal mathematical operations are attempted during program execu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into an M-fil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4800600"/>
            <a:ext cx="8381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y running the program and enter a number ≤ 0.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Note: The run-time error is %2.3d because only the real part of the log is display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80880" y="2895480"/>
            <a:ext cx="8242560" cy="1460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ogical erro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r when the program runs without displaying an error, but produces an unexpected resul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into an M-fil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4419720"/>
            <a:ext cx="87631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y running the program, enter 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sult will be 10, where is the erro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Note: If you enter 2 instead, you will see that it could be difficult to find logical err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ypical data file types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1600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85800" y="1219320"/>
          <a:ext cx="8001000" cy="534024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e701"/>
                          </a:solidFill>
                          <a:latin typeface="Tahoma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ffe701"/>
                          </a:solidFill>
                          <a:latin typeface="Tahoma"/>
                        </a:rPr>
                        <a:t>Binary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e701"/>
                          </a:solidFill>
                          <a:latin typeface="Tahoma"/>
                        </a:rPr>
                        <a:t>ASCI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e701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“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chine language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e701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t &amp; Effici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e701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readily read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e701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ually proprieta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e701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ually the “Native” format for a progr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e701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3" marL="137160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Tahoma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x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3" marL="137160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Tahoma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do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3" marL="137160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Tahoma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m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e701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“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 File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e701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be read in any text editor (e.g., MATLAB editor or  notepad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e701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 for shar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e701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3" marL="137160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Tahoma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tx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3" marL="137160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Tahoma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d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3" marL="137160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Tahoma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cs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mport Wizar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Import Wiza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 feature in MATLAB that determines the type of data file and determines the way to extract and display the information within MATLAB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can be used to extract data from ASCII files, Excel spreadsheet files, among other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 Wizard is opened by double clicking on a file name in the current directory window of the deskto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uiimpor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way to open the Import Wizard is to typ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uiimport(</a:t>
            </a:r>
            <a:r>
              <a:rPr b="1" lang="en-US" sz="3200" spc="-1" strike="noStrike">
                <a:solidFill>
                  <a:srgbClr val="ff6600"/>
                </a:solidFill>
                <a:latin typeface="Courier New"/>
              </a:rPr>
              <a:t>'</a:t>
            </a: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filename.extension</a:t>
            </a:r>
            <a:r>
              <a:rPr b="1" lang="en-US" sz="3200" spc="-1" strike="noStrike">
                <a:solidFill>
                  <a:srgbClr val="ff6600"/>
                </a:solidFill>
                <a:latin typeface="Courier New"/>
              </a:rPr>
              <a:t>'</a:t>
            </a: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command windo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ingle quotes around the name of the file are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very importa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 the wizard will not run if they are omitted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mporting an Excel data fi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ff9900"/>
                </a:solidFill>
                <a:latin typeface="Courier New"/>
              </a:rPr>
              <a:t>	</a:t>
            </a:r>
            <a:r>
              <a:rPr b="1" lang="en-US" sz="3600" spc="-1" strike="noStrike">
                <a:solidFill>
                  <a:srgbClr val="ff9900"/>
                </a:solidFill>
                <a:latin typeface="Courier New"/>
              </a:rPr>
              <a:t>xlsread('filename.xls'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you can use this command you need to ensure that where ever the file is stored is in your path. (File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et path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Note that if Excel is not installed on the computer MATLAB cannot use xlsread or xlswri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23:02:08Z</dcterms:created>
  <dc:creator>Greg Zenger</dc:creator>
  <dc:description/>
  <dc:language>en-US</dc:language>
  <cp:lastModifiedBy>eatonh</cp:lastModifiedBy>
  <dcterms:modified xsi:type="dcterms:W3CDTF">2007-02-13T14:45:00Z</dcterms:modified>
  <cp:revision>93</cp:revision>
  <dc:subject/>
  <dc:title>ES100: Lecture 01 Matrices (Part 1)</dc:title>
</cp:coreProperties>
</file>