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9F1-3B8C-4184-BB06-331D0928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054-BD34-4E1C-8D4C-E5A286E6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BC9-E55C-428C-A13C-5CC4A53B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334-B410-4B21-9542-79DD99C2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B42-D1DE-449F-8A1D-862C0CC1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6BEE-CE3B-4149-990B-CB2F39BB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034D-305A-4289-A512-5A60DF19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B89-F441-4468-9698-19715582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472-AB09-4E70-859C-F8DCEBA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12AE-83BA-488E-91AB-0ACDCE5B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9527-B703-462C-98B6-AA63FCF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D10-DE36-4348-B619-702AB7D9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00DC-B4B0-40BE-95EC-14037FB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2F1E-4EE3-4DD1-BBD7-636CFDC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D6C3-0F48-4940-A7A4-8B34E353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2FD3-7AE4-4324-B317-D4B39E95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57FC-EC9C-4557-AEA1-A0D15AB7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A2D-0819-4B09-9299-E09A835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5A9-0813-4E0E-B806-B14AF790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CB2-C55C-4261-89A5-3F3F6E4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0B5-344E-4DD7-80AB-CE1CEC79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FF0-6BF2-4EB0-9291-19ED91E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35D-1561-4BE2-9A1B-716641EA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29F-D87E-4728-94D4-9481DDD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2FD6-4195-4F9D-8DAA-6857233B75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401E-0C95-43F3-B2DF-DD21E49784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7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ebugging Code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&amp; 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ta Import/Expor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orting to Exc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ray written in MATLAB can be exported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ntax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lswrite('filename.xls' , 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ed to defin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r any other array of data) before attempting to export data to an Excel readable f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array of odd numbers from 1-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he array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your workspace and import the array from the Excel readable file you just cr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textre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MATLAB to read ASCII fi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le must be formatted into columns, but each column can be a different data type. The construct 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[a,b,c,d…] = textread(‘filename’, ‘%f %d %d %d…’, n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,b,c,d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the names of each variable, filename is the name of the file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‘%f %d %d %d…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string indicating the format of the variables in the text file, and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umber of rows to be 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ot included in the command, the entire file is r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file ‘sports.dat’ contai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Soccer   12    7  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Hockey  15    7  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 you enter to read it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[sport, wins, losses, ties]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 textread(‘sports.dat’,’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*s,%s,%d,%d,%d’,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st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%*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*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ns that the column will not be read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ve &amp; load: *.mat 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ave filename var1 var2 var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ad file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filename is the name of the file and var1, var2, var3 are the variables to be saved in a MATLAB readable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variables are not listed after the filename, save saves all the variables in the work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ve command saves data from the workspace into an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*.m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ad command loads the variables stored 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filename.m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previously sa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ommand window, define x as 6, t as 14.5, and r as 22. Save these variables to a file titled “work_data”.  Clear the workspace and then load the vari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table to an Excel file.  Load the file into matlab using xls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8320" y="1600200"/>
          <a:ext cx="4038480" cy="3809880"/>
        </p:xfrm>
        <a:graphic>
          <a:graphicData uri="http://schemas.openxmlformats.org/drawingml/2006/table">
            <a:tbl>
              <a:tblPr/>
              <a:tblGrid>
                <a:gridCol w="1523880"/>
                <a:gridCol w="1168560"/>
                <a:gridCol w="134604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wiz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ing from and exporting to Microsoft 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read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and loading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bugging &amp; importing data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ode design (debug error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ugging is a primary task in code design it is the task to correct errors &amp; validate a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ing/exporting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grams that deal with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programs have their own strengths and weakn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often, we use multiple programs and need to share data betwee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4600" y="5105520"/>
            <a:ext cx="869940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4600" y="3886200"/>
            <a:ext cx="869940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ax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s in the MATLAB statement itself, such as spelling or punctuation err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1460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un-time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illegal mathematical operations are attempted during program exec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00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 and enter a number ≤ 0.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The run-time error is %2.3d because only the real part of the log is displa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8242560" cy="1460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when the program runs without displaying an error, but produces an unexpected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4197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, enter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will be 10, where is the e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you enter 2 instead, you will see that it could be difficult to find logical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ical data file type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600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219320"/>
          <a:ext cx="8001000" cy="5340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Binary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ASC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 languag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 &amp; 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dily read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propriet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the “Native” format for a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x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 Fil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read in any text editor (e.g., MATLAB editor or  notepa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ha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t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cs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 Wiz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mport Wiz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feature in MATLAB that determines the type of data file and determines the way to extract and display the information within MATLA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used to extract data from ASCII files, Excel spreadsheet files, among oth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Wizard is opened by double clicking on a file name in the current directory window of the deskto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uiim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way to open the Import Wizard is to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uiimport(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ilename.extension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ommand wind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ngle quotes around the name of the file ar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ery impor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the wizard will not run if they are omitte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ing an Excel data f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xlsread('filename.xls'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you can use this command you need to ensure that where ever the file is stored is in your path. (Fi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t pa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te that if Excel is not installed on the computer MATLAB cannot use xlsread or xlswr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>Greg Zenger</dc:creator>
  <dc:description/>
  <dc:language>en-US</dc:language>
  <cp:lastModifiedBy>eatonh</cp:lastModifiedBy>
  <dcterms:modified xsi:type="dcterms:W3CDTF">2007-02-13T14:45:00Z</dcterms:modified>
  <cp:revision>93</cp:revision>
  <dc:subject/>
  <dc:title>ES100: Lecture 01 Matrices (Part 1)</dc:title>
</cp:coreProperties>
</file>