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969-DBB1-4B64-B869-E1040546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648-F0A0-44D2-A991-24848DCD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C57-918B-4BC5-AD65-706DA578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1B9-373B-46E4-B852-6E108851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6E80-C87A-4B42-AD35-5F8F31A1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E492-2444-4EFD-A0C0-F842F902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302E-E417-46CC-B047-233B3814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C19D-C355-4872-B50F-CEC79EAD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9EDD-320B-48F4-A4AE-55A690B3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831B-0C46-4F83-A12F-9277043D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007F-8125-4F86-9A2C-84B9DF73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86D-8CD6-4DE3-9306-AD93A50B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F31F-B0A6-4ECF-931D-E2A94E8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13D5-1EFA-4C12-AEDA-A313133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A6D5-32AB-4BBB-B2F6-8B13766D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4115-D21C-4303-A6CD-F2E08C3B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5680-32CA-4228-8770-C478274F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B2C-209D-408B-A9A2-27DFB9D5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333-3662-4178-94E3-DCF7ADD4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6179-8A16-4513-8644-AF327AC8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E11-3C41-4883-BEE8-24FD4E96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B10-FC0C-4022-8B91-9BBED562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F92-BEA6-4328-985C-D45A426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87C-A535-43F5-98CE-C389B41C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06E5-F285-40EB-A250-7AAE87B4D6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D562-C261-45A2-A217-1277F2045D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7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ebugging Code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&amp; 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ata Import/Expor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orting to Exce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ray written in MATLAB can be exported to an Excel docu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ntax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lswrite('filename.xls' , 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ed to defin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r any other array of data) before attempting to export data to an Excel readable f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n array of odd numbers from 1-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the array to an Excel docu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your workspace and import the array from the Excel readable file you just cre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extre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textre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MATLAB to read ASCII fi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le must be formatted into columns, but each column can be a different data type. The construct 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[a,b,c,d…] = textread(‘filename’, ‘%f %d %d %d…’, n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a,b,c,d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 the names of each variable, filename is the name of the file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‘%f %d %d %d…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string indicating the format of the variables in the text file, and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number of rows to be rea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not included in the command, the entire file is r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extread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file ‘sports.dat’ contai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  Soccer   12    7  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  Hockey  15    7  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and you enter to read it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[sport, wins, losses, ties]</a:t>
            </a:r>
            <a:r>
              <a:rPr b="1" lang="en-US" sz="2800" spc="-1" strike="noStrike">
                <a:solidFill>
                  <a:srgbClr val="0099ff"/>
                </a:solidFill>
                <a:latin typeface="Courier New"/>
              </a:rPr>
              <a:t>...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 textread(‘sports.dat’,’</a:t>
            </a:r>
            <a:r>
              <a:rPr b="1" lang="en-US" sz="2800" spc="-1" strike="noStrike">
                <a:solidFill>
                  <a:srgbClr val="0099ff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*s,%s,%d,%d,%d’,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notes that that column contains st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notes that that column contains 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%*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*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ans that the column will not be read into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ave &amp; load: *.mat fi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ave filename var1 var2 var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ad file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filename is the name of the file and var1, var2, var3 are the variables to be saved in a MATLAB readable 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variables are not listed after the filename, save saves all the variables in the work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ve command saves data from the workspace into an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*.m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ad command loads the variables stored 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filename.m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previously sa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ommand window, define x as 6, t as 14.5, and r as 22. Save these variables to a file titled “work_data”.  Clear the workspace and then load the vari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table to an Excel file.  Load the file into matlab using xlsrea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48320" y="1600200"/>
          <a:ext cx="4038480" cy="3809880"/>
        </p:xfrm>
        <a:graphic>
          <a:graphicData uri="http://schemas.openxmlformats.org/drawingml/2006/table">
            <a:tbl>
              <a:tblPr/>
              <a:tblGrid>
                <a:gridCol w="1523880"/>
                <a:gridCol w="1168560"/>
                <a:gridCol w="134604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ex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wiz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ing from and exporting to Microsoft Exc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read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and loading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ebugging &amp; importing data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ode design (debug error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ugging is a primary task in code design it is the task to correct errors &amp; validate a t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ing/exporting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programs that deal with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programs have their own strengths and weakn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often, we use multiple programs and need to share data between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4600" y="5105520"/>
            <a:ext cx="869940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4600" y="3886200"/>
            <a:ext cx="869940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ax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s in the MATLAB statement itself, such as spelling or punctuation err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5720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229600" cy="1460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un-time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illegal mathematical operations are attempted during program exec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800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running the program and enter a number ≤ 0.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The run-time error is %2.3d because only the real part of the log is display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8242560" cy="1460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when the program runs without displaying an error, but produces an unexpected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4197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running the program, enter 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will be 10, where is the err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If you enter 2 instead, you will see that it could be difficult to find logical 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ical data file type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600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219320"/>
          <a:ext cx="8001000" cy="53402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Binary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ASC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hine languag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 &amp; Effi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adily read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propriet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the “Native” format for a pro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x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d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m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 Fil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read in any text editor (e.g., MATLAB editor or  notepa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ha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t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d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cs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ort Wizar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mport Wiz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feature in MATLAB that determines the type of data file and determines the way to extract and display the information within MATLA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used to extract data from ASCII files, Excel spreadsheet files, among oth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Wizard is opened by double clicking on a file name in the current directory window of the deskto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uiimpo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way to open the Import Wizard is to ty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uiimport(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'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ilename.extension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'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ommand wind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ngle quotes around the name of the file ar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ery impor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the wizard will not run if they are omitte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orting an Excel data f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xlsread('filename.xls'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you can use this command you need to ensure that where ever the file is stored is in your path. (Fil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t pat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te that if Excel is not installed on the computer MATLAB cannot use xlsread or xlswr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>Greg Zenger</dc:creator>
  <dc:description/>
  <dc:language>en-US</dc:language>
  <cp:lastModifiedBy>eatonh</cp:lastModifiedBy>
  <dcterms:modified xsi:type="dcterms:W3CDTF">2007-02-13T14:45:00Z</dcterms:modified>
  <cp:revision>93</cp:revision>
  <dc:subject/>
  <dc:title>ES100: Lecture 01 Matrices (Part 1)</dc:title>
</cp:coreProperties>
</file>