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67AB-BDBB-497D-B436-E2AC3E48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F00A-12BA-4F7B-B06D-320DCB7E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DD6B-F2C5-4CC6-8491-E891012A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9DB9-CCC2-45AD-A902-8CC7C802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6927-DF3E-46DA-BABC-7DB3EF0D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74B0-B17B-469D-9CB5-82DFF53C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9D3A-8739-458A-A205-FC740688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8094-5641-4A1D-A5B4-C3F43494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2C71-005C-4894-A966-FE95901E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B568-A134-469F-82AE-AF5D91DB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27BD-32ED-42E6-AB95-938DD86B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6EB9-58A7-460E-BD8D-5560CBF2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F8E2-F2FA-4428-9751-D34B2528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117A-0E7C-4788-8555-C8184369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AA7B-8486-4931-8406-09C27162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885F-C53B-47F4-900A-2C2A1089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5631-D7E1-4CE0-9327-95CB2391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8B7C-03AB-4174-B415-9E48D30A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2F9B-F295-4374-BE43-221872B0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D8BF-2976-4DBB-B75A-5B49A8F9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8C42-1412-4865-8451-7DA7B349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4763-118E-4680-B56C-515E4E74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2A10-2609-459A-B66E-6E7EEFD3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C2DB-100B-4774-9744-A7FA5D00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7B72-B816-40D9-B823-EFAEE009FA3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7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86"/>
                </a:gs>
                <a:gs pos="100000">
                  <a:srgbClr val="0000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A55E-028D-4512-86B5-CC64C30C37D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ecture 8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ogical Operation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ical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onal opera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ogical Fun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gical functions are MATLAB functions that implement logical oper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4871880"/>
            <a:ext cx="7086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w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l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298880" y="2887560"/>
            <a:ext cx="6533280" cy="1965600"/>
            <a:chOff x="1298880" y="2887560"/>
            <a:chExt cx="6533280" cy="1965600"/>
          </a:xfrm>
        </p:grpSpPr>
        <p:sp>
          <p:nvSpPr>
            <p:cNvPr id="126" name=""/>
            <p:cNvSpPr/>
            <p:nvPr/>
          </p:nvSpPr>
          <p:spPr>
            <a:xfrm>
              <a:off x="1322280" y="290052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09680" y="288756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32120" y="2900520"/>
              <a:ext cx="69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ind(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20960" y="2887560"/>
              <a:ext cx="695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Arial"/>
                </a:rPr>
                <a:t>find(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2240" y="2900520"/>
              <a:ext cx="511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unction returns the index numbers of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99640" y="2887560"/>
              <a:ext cx="511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unction returns the index numbers of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20840" y="3263760"/>
              <a:ext cx="647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matrix that meet the logical statement give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07880" y="3252960"/>
              <a:ext cx="647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e matrix that meet the logical statement given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15440" y="3760920"/>
              <a:ext cx="360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ype the following into MATLAB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09680" y="375120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08600" y="4165560"/>
              <a:ext cx="452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v = [1,3,5,6,3,4;6,36,6,7,843,5]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98880" y="4156200"/>
              <a:ext cx="4527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v = [1,3,5,6,3,4;6,36,6,7,843,5];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18680" y="457848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[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9320" y="4568760"/>
              <a:ext cx="13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[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54760" y="4578480"/>
              <a:ext cx="96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row,c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445400" y="4568760"/>
              <a:ext cx="96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row,co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11640" y="457848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] =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02280" y="456876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] =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55600" y="457848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ind(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47680" y="456876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find(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11400" y="457848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== 4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03480" y="4568760"/>
              <a:ext cx="68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== 4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Other Logical Fun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ischar(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ns 1 if () contains character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isinf(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ns 1 if () contains infinity 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n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isnan(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ns 1 if () contains not a number (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N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isnumeric(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ns 1 if () contains numeric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isempty(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urns 1 if () contains empty (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x = [ ]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function that takes anything as input and prints to the command window whether the input is 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inite nu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 nu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er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3276720"/>
            <a:ext cx="3581640" cy="2980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proper output would look lik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ogic_analysis(in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s Character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s Infinite: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s Not a Number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s Numeric: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s Empty: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371600"/>
            <a:ext cx="708660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gical Data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lational Operato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&lt;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Less 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Greater th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==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Equal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gical Operato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&amp;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nd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~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N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gical Func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ischar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isinf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isnan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isnumeric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isempty(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lational Opera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05740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Relational operato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rform element-by-element comparisons between two arrays. They return a logical array of the same size, with elements set to logical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tru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where the relation is true, and elements set to logical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fal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where it is n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Relational Operators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for Logical Operation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19810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Less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th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2438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Greater th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28954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Equal to (logical equa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32767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~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3809880"/>
            <a:ext cx="5639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lt;=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Less than or equal to ( ≤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&gt;=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Greater than or equal to ( ≥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~=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e701"/>
                </a:solidFill>
                <a:latin typeface="Tahoma"/>
              </a:rPr>
              <a:t>Not Equal to ( ≠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ogical Data Typ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3200400"/>
          <a:ext cx="7391160" cy="3105000"/>
        </p:xfrm>
        <a:graphic>
          <a:graphicData uri="http://schemas.openxmlformats.org/drawingml/2006/table">
            <a:tbl>
              <a:tblPr/>
              <a:tblGrid>
                <a:gridCol w="2463480"/>
                <a:gridCol w="2433600"/>
                <a:gridCol w="2494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Output: ans =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Data ty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4 &lt;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gical arr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4 &lt;=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gical arr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4 &gt;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gical arr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4 &gt;=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gical arr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imes New Roman"/>
                          <a:ea typeface="Times New Roman"/>
                        </a:rPr>
                        <a:t>4 ~=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gical arr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0" y="43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i="1" lang="en-US" sz="3200" spc="-1" strike="noStrike">
                <a:solidFill>
                  <a:srgbClr val="ff6600"/>
                </a:solidFill>
                <a:latin typeface="Tahoma"/>
              </a:rPr>
              <a:t>logical data typ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another MATLAB data type; it is either equal to 1 (true) or equal to 0 (false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lational operations and round-off errors in numerical computations</a:t>
            </a: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=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ff9900"/>
                </a:solidFill>
                <a:latin typeface="Courier New"/>
              </a:rPr>
              <a:t>~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mmands can produce puzzling results due to round-off err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exampl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717552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hat happened?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LAB computes sin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within 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ep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i.e, it  computes a number approximately zer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perator properly concludes that 0 and the computed value of sin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are differ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3886200"/>
            <a:ext cx="808992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Logical Operat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Logic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or Boolean, operators: a logical operand that produces a logical resul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35053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pera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38862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&amp;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Logical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4419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|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Logical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49528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urier New"/>
              </a:rPr>
              <a:t>~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Logical 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Logical Operators: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xampl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3276720"/>
            <a:ext cx="259056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 (Fals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 (Tru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3289320" cy="1781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35179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ierarchy Of Opera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ical Operators are evaluated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f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thmetic and relational oper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3200400"/>
            <a:ext cx="65530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Order of Op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ithmet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ational Oper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~ (Not) oper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&amp; (And) operators evaluated from left to r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| (Or) operators evaluated from left to rig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6:02Z</dcterms:modified>
  <cp:revision>54</cp:revision>
  <dc:subject/>
  <dc:title>ES100: Lecture 11 Logical Functions</dc:title>
</cp:coreProperties>
</file>