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2B1-A97C-4D75-973A-305DEB4E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553-2678-4865-BADE-8B1894F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171-56B6-4FA8-99A9-677759DC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30D-7B27-44F6-B57C-6A69367E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FAE-D646-4AE6-BF6A-94A6455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5D85-0683-41FC-AD47-2FED239A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863-1BD1-4E0B-99B7-365EAB19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2ED3-6F81-4F3C-90F4-A7E03D9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6FD-9347-4387-B6F2-747E7A7C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0B8-6273-42C2-92A4-8ABD616C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C55A-5089-49F3-A145-27B0796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2ED-5F2A-4AA1-8499-7DE1EA9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6A12-17B3-4523-9DDE-6807DBB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83B1-389B-489D-9953-A5AFCC0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D122-333C-4D0E-BEAD-64005A04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0F47-4347-4AD8-A3FB-023C34A0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5F8B-43BA-4804-86CD-4B34A36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A68-D542-4C27-AEA3-789E063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CBA-902C-4944-8F8D-54439E8D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2DD-09AC-4C9C-92BD-48C00B52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C69-CEF2-4CE0-92CE-5C6CCC5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40A-7433-4803-A5FA-51085AB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436-7A1B-4F5D-880C-C59565DD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AFE-0C43-4DBA-B075-3EE05BF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B1A-9806-4A4E-978F-12E3722BA6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219-28FF-412A-9423-A5FA3BCFC8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cture 8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functions are MATLAB functions that implement logical oper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87188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w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l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8880" y="2887560"/>
            <a:ext cx="6533280" cy="1965600"/>
            <a:chOff x="1298880" y="2887560"/>
            <a:chExt cx="6533280" cy="1965600"/>
          </a:xfrm>
        </p:grpSpPr>
        <p:sp>
          <p:nvSpPr>
            <p:cNvPr id="126" name=""/>
            <p:cNvSpPr/>
            <p:nvPr/>
          </p:nvSpPr>
          <p:spPr>
            <a:xfrm>
              <a:off x="1322280" y="290052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9680" y="288756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2120" y="290052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0960" y="288756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2240" y="290052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99640" y="288756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0840" y="32637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7880" y="32529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5440" y="3760920"/>
              <a:ext cx="360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ype the following into MATLA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9680" y="3751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8600" y="416556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8880" y="415620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8680" y="4578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9320" y="4568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4760" y="457848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5400" y="4568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1640" y="4578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02280" y="4568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5600" y="457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7680" y="4568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1400" y="45784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480" y="45687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char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character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inf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infinity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an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ot a number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umeric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umeri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empty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empty (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 = [ 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function that takes anything as input and prints to the command window whether the input is 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t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276720"/>
            <a:ext cx="3581640" cy="2980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proper output would look lik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gic_analysis(in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Charact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Infinite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ot a Numb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umeric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Empty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371600"/>
            <a:ext cx="70866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Data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on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ess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Greater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qual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char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inf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an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umeric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empty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0574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elational oper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form element-by-element comparisons between two arrays. They return a logical array of the same size, with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the relation is true, and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it is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Logical Oper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981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th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895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qual to (logical equa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809880"/>
            <a:ext cx="5639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 than or equal to ( ≤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 or equal to ( ≥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 Equal to ( ≠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Data Typ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3200400"/>
          <a:ext cx="7391160" cy="3105000"/>
        </p:xfrm>
        <a:graphic>
          <a:graphicData uri="http://schemas.openxmlformats.org/drawingml/2006/table">
            <a:tbl>
              <a:tblPr/>
              <a:tblGrid>
                <a:gridCol w="2463480"/>
                <a:gridCol w="2433600"/>
                <a:gridCol w="249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Output: an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~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logical data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another MATLAB data type; it is either equal to 1 (true) or equal to 0 (fals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ions and round-off errors in numerical computations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~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s can produce puzzling results due to round-off err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1755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happened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computes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within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e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.e, it  computes a number approximately z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rator properly concludes that 0 and the computed value of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re differ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80899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og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Boolean, operators: a logical operand that produces a logical res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505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886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ors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276720"/>
            <a:ext cx="2590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 (Fal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 (Tru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289320" cy="178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517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erarchy Of Op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Operators are evaluat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and relational oper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20040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der of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ithm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~ (Not)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&amp; (And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| (Or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2Z</dcterms:modified>
  <cp:revision>54</cp:revision>
  <dc:subject/>
  <dc:title>ES100: Lecture 11 Logical Functions</dc:title>
</cp:coreProperties>
</file>