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422-5AEC-4C6F-80CE-48803D38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630-1E48-4B4B-982C-D3C98B8B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769-1FFF-4E1B-B43D-70EDCE1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D92-7C22-4BDC-BF1C-BB1BAB4C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99D4-3250-4FFB-8E88-2D7B6F7E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66AE-305C-4578-A59D-89C82CAF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4D6D-7C01-45F3-BA8B-9183F76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F65E-B1E6-4F33-9B8C-03D0D128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2CF-CC9D-4A2A-AA6D-A14B1A7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05CE-4F8C-4A0A-9444-EF250E8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66EB-C5E5-4199-A070-560F994B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22A-3503-45B8-89B8-7E8AB9F2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F257-F170-4D3E-A4DF-A06EA1C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C23-5E19-4EC6-B6F1-723628E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EB3-D786-448D-B62D-4E8433FE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F0D-10E8-455D-A8B3-BC4A2FB0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04F1-A8C8-4573-832E-39347B0A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C4D-0213-42B2-A3B8-51E9ADA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B9C-A3F2-4331-9814-116F588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C47-51D1-4507-A378-2683B95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85B-651D-4860-812B-191EAE8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009-776D-4348-BF3A-5A697A0C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383-A80F-4FDD-BF71-7F5B1FF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15A-900D-4BE2-9152-94D3CF5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98A8-6247-495B-B1A8-294ADB1D61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D5A-BCD5-4338-8134-8E7CAC5FDE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cture 8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functions are MATLAB functions that implement logical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87188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w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l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8880" y="2887560"/>
            <a:ext cx="6533280" cy="1965600"/>
            <a:chOff x="1298880" y="2887560"/>
            <a:chExt cx="6533280" cy="1965600"/>
          </a:xfrm>
        </p:grpSpPr>
        <p:sp>
          <p:nvSpPr>
            <p:cNvPr id="126" name=""/>
            <p:cNvSpPr/>
            <p:nvPr/>
          </p:nvSpPr>
          <p:spPr>
            <a:xfrm>
              <a:off x="1322280" y="290052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9680" y="288756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2120" y="290052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0960" y="28875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2240" y="290052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9640" y="288756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0840" y="32637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7880" y="32529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5440" y="3760920"/>
              <a:ext cx="36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ype the following into MATLA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9680" y="3751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8600" y="41655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8880" y="415620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8680" y="4578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9320" y="4568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4760" y="457848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5400" y="4568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4578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2280" y="4568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600" y="457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7680" y="4568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1400" y="45784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480" y="45687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char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character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inf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infinity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an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ot a numb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umeric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umeri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empty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empty (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 = [ 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function that takes anything as input and prints to the command window whether the input is 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276720"/>
            <a:ext cx="3581640" cy="2980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proper output would look lik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gic_analysis(i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Charact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Infinite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ot a Numb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umeric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Empty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371600"/>
            <a:ext cx="70866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Data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on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ss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Greater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qual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char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inf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an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umeric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empty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0574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lational oper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 element-by-element comparisons between two arrays. They return a logical array of the same size, with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the relation is true, and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it is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Logical Oper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81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th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qual to (logical equa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809880"/>
            <a:ext cx="5639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 than or equal to ( ≤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 or equal to ( ≥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 Equal to ( ≠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Data Typ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3200400"/>
          <a:ext cx="7391160" cy="3105000"/>
        </p:xfrm>
        <a:graphic>
          <a:graphicData uri="http://schemas.openxmlformats.org/drawingml/2006/table">
            <a:tbl>
              <a:tblPr/>
              <a:tblGrid>
                <a:gridCol w="2463480"/>
                <a:gridCol w="2433600"/>
                <a:gridCol w="249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utput: an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~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logical data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another MATLAB data type; it is either equal to 1 (true) or equal to 0 (fals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ions and round-off errors in numerical computations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~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s can produce puzzling results due to round-off err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1755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happened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computes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within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e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.e, it  computes a number approximately z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rator properly concludes that 0 and the computed value of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re diffe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8089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og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Boolean, operators: a logical operand that produces a logical res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505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ors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276720"/>
            <a:ext cx="2590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 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89320" cy="17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517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erarchy Of Op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Operators are evaluat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and relational ope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20040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 of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ithm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~ (Not)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&amp; (And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| (Or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2Z</dcterms:modified>
  <cp:revision>54</cp:revision>
  <dc:subject/>
  <dc:title>ES100: Lecture 11 Logical Functions</dc:title>
</cp:coreProperties>
</file>