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FEC-288E-4755-8501-21F38B61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F65-DF33-462A-BC3A-1FE87BA2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7CD6-0A75-4C60-B3A2-A929260B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A8E-6E63-4312-BC14-ECEC2D37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96ED-4733-4460-A0F6-D203207B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1359-6245-4F2F-9451-7931A123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20F0-8573-4AA5-994A-D478E6F9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5540-5250-45A7-9254-084F6DBB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CE30-2F36-4EF0-8E52-F066CFAD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ABE3-B3A6-4561-885C-BCAFDB73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8A0-A8F7-4F7A-8F5F-76D6C81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219-F978-42DF-9ABA-573E66F7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FD28-4918-4B92-B0A8-5BEF01A9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AF9C-E5C1-4B1F-8EE6-BF12179F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4710-24D8-43AB-ACE0-8FBE0551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160A-0F55-4CE9-A18F-497F4B74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A61-E4EB-4833-BFC7-CC0B0EE1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B74-CFF8-49BE-82E5-12770E38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ACE-68B6-42FB-9B13-0A23FCCB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61C8-0F31-43AA-ADFA-B7C40393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FBC-1916-46A5-9322-3A432DEC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D70-5721-4D18-A741-99BEC918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228-77DA-4F4D-B181-4B6FB930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43D2-75D4-40D7-8A6E-9CE8BF4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C6ED-695C-4E33-B6B6-724198BC0F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4EA8-030E-471F-87D1-303CF6DD93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cture 8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Opera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al functions are MATLAB functions that implement logical oper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871880"/>
            <a:ext cx="7086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w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l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8880" y="2887560"/>
            <a:ext cx="6533280" cy="1965600"/>
            <a:chOff x="1298880" y="2887560"/>
            <a:chExt cx="6533280" cy="1965600"/>
          </a:xfrm>
        </p:grpSpPr>
        <p:sp>
          <p:nvSpPr>
            <p:cNvPr id="126" name=""/>
            <p:cNvSpPr/>
            <p:nvPr/>
          </p:nvSpPr>
          <p:spPr>
            <a:xfrm>
              <a:off x="1322280" y="290052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09680" y="288756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32120" y="290052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20960" y="288756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find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2240" y="2900520"/>
              <a:ext cx="511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nction returns the index numbers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99640" y="2887560"/>
              <a:ext cx="511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unction returns the index numbers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20840" y="3263760"/>
              <a:ext cx="64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matrix that meet the logical statement give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7880" y="3252960"/>
              <a:ext cx="64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matrix that meet the logical statement give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5440" y="3760920"/>
              <a:ext cx="360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ype the following into MATLA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09680" y="37512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08600" y="416556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 = [1,3,5,6,3,4;6,36,6,7,843,5]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8880" y="415620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v = [1,3,5,6,3,4;6,36,6,7,843,5]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8680" y="4578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[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9320" y="4568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[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54760" y="457848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ow,c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5400" y="45687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row,c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1640" y="45784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]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02280" y="45687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]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5600" y="4578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ind(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7680" y="45687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find(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1400" y="45784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== 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3480" y="45687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== 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ther Log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char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character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inf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infinity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n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nan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not a number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numeric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numeri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empty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empty (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x = [ ]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function that takes anything as input and prints to the command window whether the input is 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init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276720"/>
            <a:ext cx="3581640" cy="2980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proper output would look lik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gic_analysis(in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Character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Infinite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Not a Number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Numeric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Empty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371600"/>
            <a:ext cx="70866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Data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tional Oper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lt;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ess 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Greater 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qual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Oper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char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inf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nan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numeric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empty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lational Opera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0574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elational opera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form element-by-element comparisons between two arrays. They return a logical array of the same size, with elements set to log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here the relation is true, and elements set to log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here it is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lational Operators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Logical Opera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981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Less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th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Greater t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895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qual to (logical equa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276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~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809880"/>
            <a:ext cx="5639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Less than or equal to ( ≤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gt;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Greater than or equal to ( ≥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~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Not Equal to ( ≠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Data Typ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3200400"/>
          <a:ext cx="7391160" cy="3105000"/>
        </p:xfrm>
        <a:graphic>
          <a:graphicData uri="http://schemas.openxmlformats.org/drawingml/2006/table">
            <a:tbl>
              <a:tblPr/>
              <a:tblGrid>
                <a:gridCol w="2463480"/>
                <a:gridCol w="2433600"/>
                <a:gridCol w="249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Output: an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lt;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lt;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gt;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gt;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~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ff6600"/>
                </a:solidFill>
                <a:latin typeface="Tahoma"/>
              </a:rPr>
              <a:t>logical data ty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another MATLAB data type; it is either equal to 1 (true) or equal to 0 (fals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lational operations and round-off errors in numerical computations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~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s can produce puzzling results due to round-off err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1755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happened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LAB computes sin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within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e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.e, it  computes a number approximately ze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perator properly concludes that 0 and the computed value of sin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are differ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80899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Opera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Log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Boolean, operators: a logical operand that produces a logical resu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505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886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&amp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419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952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Operators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276720"/>
            <a:ext cx="25905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 (Fal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 (Tru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289320" cy="178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517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erarchy Of Oper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Operators are evaluate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and relational oper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200400"/>
            <a:ext cx="6553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rder of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ithme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~ (Not)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&amp; (And) operators evaluated from left to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| (Or) operators evaluated from left to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02Z</dcterms:modified>
  <cp:revision>54</cp:revision>
  <dc:subject/>
  <dc:title>ES100: Lecture 11 Logical Functions</dc:title>
</cp:coreProperties>
</file>