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8555-02C0-4107-88CC-CE48A237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A86A-AC0C-4C20-8C29-25A59F99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9F52-F2C0-4E82-A920-3A156EAA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C1CA-801F-4AE4-B315-A404E4F2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0F29-6E67-4C8D-BFDD-92F02E18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B783-A8E2-401F-BA8D-F0C1B1B3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47D9-855A-4A6F-85BC-C3714E77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09C9-6B6B-4E40-9860-5469AE32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075D-EFD3-45DC-B561-1793BFC8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60B3-0004-4681-A3E6-20AE510F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C8A6-F82A-4B9B-A54C-7832352E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6778-8D6C-4C2D-80B9-E9F88CB2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2843-FEB4-4443-9C5E-184B1FD0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A6E3-30C5-4A7E-82F6-20BB9B8C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E1F0-63EE-41E2-B9F0-09C6CCDA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4C03-6110-4BF9-B744-CF8FE727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2790-8763-40BB-81C5-078A06EF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B2F-7440-425D-AF57-824DA9A0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F9A-9C47-4380-A6E1-13D01EF5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190-2D4C-4254-A24A-F1E7A447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83EA-2C62-433B-897F-F8D6E762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E1E-91AD-47AB-851B-880E90B8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A64-CE7A-4211-9064-7333D3DF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44B7-51AF-4537-9245-D29F675F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5256-BE4C-4B9C-BBFF-82D4A8A1DE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1F68-8E4F-450B-AF40-1F67AE2A544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ecture 10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2D plotting &amp;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urve fitting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plo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2-D Plo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rve fit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6489720" cy="47242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ie char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Pie char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another useful way of reporting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ie(x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/(1+3+8+5+4+6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3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cyan sec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/(1+3+8+5+4+6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19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yellow sec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urve fitt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implest way to fit a set of 2D data is a straight 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Linear regress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method of fitting data with a straight 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ar regression minimizes the squared distance between data points and the equation modeling the data points. This prevents positive and negative “errors” from cancel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near approximation by ha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x = [0,1,2,3,4,5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y = [15,10,9,6,2,0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op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≈ (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-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)/(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-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) = (0-15) / (5-0) = -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rosses y axis at 15 (note the point (0,15) in our dat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han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= -3x + 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um_of_squares = sum((y - 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  <a:ea typeface="Times New Roman"/>
              </a:rPr>
              <a:t>ha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).^2) =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olyf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unction takes (x, y) data, and the degree n of a polynomial as input. It returns the coefficients of the polynomial of degree n that best fits the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our da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, 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L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-2.9143x + 14.285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_of_squares2 = sum((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L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y).^2) = 3.37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73600" y="3962520"/>
            <a:ext cx="5270400" cy="944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213000" cy="5317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olyfit fun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94400" cy="57596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est Fit Comparis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olynomial regress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Polynomial regress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used to fit a set of data with a polynom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olyf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unction can be used to find the best fit polynomial of a specified degree; the result is the coeffici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Warning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creasing the degree of the best fit polynomial can create mathematical models that ay fit the data better, but care must be taken in your interpretation of the resul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olyval fun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olyf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eturns the coefficients of a polynomial that best fits the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evaluate the polynomial at any value of x, use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olyv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un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olyv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equires two inputs: the array of coefficients and the array of x-values at the locations the polynomial is to be evalua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erring to the data from this lecture that we used from the polyfit exam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try plotting fitted_data vs. x and y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L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s. x. Identical graphs are genera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7327800" cy="531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62120" y="2743200"/>
            <a:ext cx="4736880" cy="531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5575320" cy="5302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ample using polyv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subplots to create normal and polar plots of y = cos(x) + sin(x) in the same figure window for –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≤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≤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Arial"/>
              </a:rPr>
              <a:t>polyf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to find a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degree polynomial to fit the following set of da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x = -5:1: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y = [-506.6, -262.88, -99.43, -36.78, 6.2, 7.11, 16.6, 51, 183, 427.97]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Plot the best fit curve and the data points on the same fig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 usage subplo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2-D plots: polar and logarithm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r charts and pie cha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ve fit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ar regression conce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yfit f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yval fun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Plotting and Curve Fitting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sualizing trends by plotting large sets of data from experiments or from computer calculations helps you interpret the data. There are numerous grapical tools available in MATLA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ve fitting is a powerful way to use a set of data to find a mathematical model that approximates the set of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bplo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Subpl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mmand allows you to put multiple graphs on one figure wind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90920" y="5334120"/>
          <a:ext cx="2971800" cy="103500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 =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 =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 =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 =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457200" y="3733920"/>
            <a:ext cx="708660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abl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dentifies the part of t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ndow where the plot is pla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666880"/>
            <a:ext cx="784872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ubplot(m,n,p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ivides figure wind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o a grid of m rows and n colum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4559400"/>
            <a:ext cx="2935440" cy="469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3340080"/>
            <a:ext cx="2935440" cy="469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3680" y="3949560"/>
            <a:ext cx="3117600" cy="470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57200" y="5092560"/>
            <a:ext cx="3117960" cy="470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57200" y="2806560"/>
            <a:ext cx="2935440" cy="470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4114800" y="2286000"/>
            <a:ext cx="5040360" cy="4724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amples of subplo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graph sin(x) and cos(x) on the same figure side-by-side do the follow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When a figure with a subplot is open, you must close it before opening a new figure in order for the new figure to display proper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ther utilities for 2-D plo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LAB supports several 2-D plotting utiliti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Polar plo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Logarithmic plo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Bar grap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Pie ch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44560" y="4267080"/>
            <a:ext cx="3117960" cy="47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2935440" cy="469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38080" y="2743200"/>
            <a:ext cx="3483000" cy="469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838080" y="3733920"/>
            <a:ext cx="2935440" cy="469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4114800" y="2133720"/>
            <a:ext cx="5040360" cy="47242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olar plo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LAB supports tools for plotting data in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polar coordina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886200" y="2133720"/>
            <a:ext cx="5411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garithmic plo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LAB has tools for three kinds of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logarithmic plo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semilog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semi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loglo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pltting utilities automatically replace linear scales with logarithmic sc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garithmic scales are useful when a variable ranges over many orders of magnitu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5245200"/>
            <a:ext cx="2935440" cy="469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38080" y="4330800"/>
            <a:ext cx="2935440" cy="469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28720" y="4788000"/>
            <a:ext cx="2752560" cy="469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838080" y="3416400"/>
            <a:ext cx="2935440" cy="46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838080" y="3809880"/>
            <a:ext cx="2752920" cy="470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838080" y="2079720"/>
            <a:ext cx="220500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838080" y="2959200"/>
            <a:ext cx="202248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838080" y="2502000"/>
            <a:ext cx="293544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838080" y="5638680"/>
            <a:ext cx="2387880" cy="47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838080" y="1676520"/>
            <a:ext cx="2570400" cy="396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3276720" y="1295280"/>
            <a:ext cx="6095880" cy="57135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Example: Logarithmic plots &amp; subplot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495680" y="2438280"/>
            <a:ext cx="5040360" cy="4724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495680" y="2438280"/>
            <a:ext cx="5040360" cy="4724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ar char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Bar graph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useful for reporting da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x = [1,3,8,5,4,6]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bar(x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generat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vertical bar grap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barh(x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 generat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horizontal bar grap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5:48Z</dcterms:modified>
  <cp:revision>62</cp:revision>
  <dc:subject/>
  <dc:title>ES100: Lecture 07 More Plotting in 2-D, Curve Fitting</dc:title>
</cp:coreProperties>
</file>