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994-F0BB-49BF-B730-0B02FAA1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C0F-EB54-4197-853A-7B0A6BF7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540-E6EF-4E68-8486-5ECD7B8D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E38-6FA0-4FFB-A250-31437416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60E8-1EC8-4566-8A27-C9CCC8DD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8AFC-419E-430C-B259-8C785833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028B-46EB-4812-B0CE-E02131C4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517C-3284-40D6-B295-FE42438C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59B7-7018-4763-AA95-AC15CF4A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29BC-231C-4992-9C77-C60DF6D8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E2E3-357C-49BE-9CA2-AC6A58B5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DE3-627A-49DA-9DE3-6422C2A0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549B-9411-408E-AD75-178667BF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DFE6-6D0C-405B-9C3B-62951E0E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7A9E-3480-4C9D-82D7-68EED48C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DF4A-48FC-4324-AC5B-6832884B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327E-5B3A-40A0-835D-31448928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6FC-FB6E-4BAA-88FA-2AE6FB08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A12-1923-4F02-B526-D34668F9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C60-DFBF-4297-9F07-2A4839C7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E81-E26D-4656-8BA5-7AEE546F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AD3-641D-4293-9F4F-5B5B7067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421-92D7-49BB-9870-5EF7275B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22B-54D5-44DA-AFB5-57E18ED1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142F-749D-4A50-8487-35BBA7CE6C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FD2E-447A-46D7-9F73-6470FB815B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10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2D plotting &amp;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urve fitting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pl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2-D Plo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rve fit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6489720" cy="4724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ie ch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Pie char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another useful way of reporting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ie(x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/(1+3+8+5+4+6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3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cyan sec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/(1+3+8+5+4+6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yellow sec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urve fitt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mplest way to fit a set of 2D data is a straight 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Linear regress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method of fitting data with a straight 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ar regression minimizes the squared distance between data points and the equation modeling the data points. This prevents positive and negative “errors” from cancel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near approximation by ha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x = [0,1,2,3,4,5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y = [15,10,9,6,2,0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p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≈ (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-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)/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-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) = (0-15) / (5-0) = -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rosses y axis at 15 (note the point (0,15) in our dat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h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= -3x + 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um_of_squares = sum((y - 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ha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).^2) =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yf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nction takes (x, y) data, and the degree n of a polynomial as input. It returns the coefficients of the polynomial of degree n that best fits the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our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, 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L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-2.9143x + 14.285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_of_squares2 = sum((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L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y).^2) = 3.37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73600" y="3962520"/>
            <a:ext cx="5270400" cy="944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213000" cy="5317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lyfit fun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94400" cy="5759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est Fit Comparis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lynomial regress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Polynomial regress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used to fit a set of data with a polynom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yf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nction can be used to find the best fit polynomial of a specified degree; the result is the coeffici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Warning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creasing the degree of the best fit polynomial can create mathematical models that ay fit the data better, but care must be taken in your interpretation of the res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lyval fun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yf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turns the coefficients of a polynomial that best fits the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valuate the polynomial at any value of x, use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yv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n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yv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quires two inputs: the array of coefficients and the array of x-values at the locations the polynomial is to be evalu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erring to the data from this lecture that we used from the polyfit 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try plotting fitted_data vs. x and 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L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s. x. Identical graphs are gener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7327800" cy="531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4736880" cy="531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5575320" cy="530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ample using polyv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subplots to create normal and polar plots of y = cos(x) + sin(x) in the same figure window for –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≤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≤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polyf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to find a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degree polynomial to fit the following set of 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x = -5:1: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 = [-506.6, -262.88, -99.43, -36.78, 6.2, 7.11, 16.6, 51, 183, 427.97]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Plot the best fit curve and the data points on the same fig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usage subpl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2-D plots: polar and logarithm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r charts and pie cha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ve f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ar regression conce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yfit 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yval 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Plotting and Curve Fitting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ualizing trends by plotting large sets of data from experiments or from computer calculations helps you interpret the data. There are numerous grapical tools available in MATL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ve fitting is a powerful way to use a set of data to find a mathematical model that approximates the set of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bplo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Subpl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 allows you to put multiple graphs on one figure wind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90920" y="5334120"/>
          <a:ext cx="2971800" cy="103500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 =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 =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457200" y="3733920"/>
            <a:ext cx="708660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bl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dentifies the part of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ndow where the plot is pla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666880"/>
            <a:ext cx="784872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ubplot(m,n,p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ivides figure 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o a grid of m rows and n colum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4559400"/>
            <a:ext cx="293544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3340080"/>
            <a:ext cx="2935440" cy="469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3680" y="3949560"/>
            <a:ext cx="3117600" cy="470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7200" y="5092560"/>
            <a:ext cx="3117960" cy="470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57200" y="2806560"/>
            <a:ext cx="2935440" cy="47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114800" y="2286000"/>
            <a:ext cx="5040360" cy="4724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amples of subplo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graph sin(x) and cos(x) on the same figure side-by-side do the follow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When a figure with a subplot is open, you must close it before opening a new figure in order for the new figure to display proper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her utilities for 2-D plo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LAB supports several 2-D plotting utiliti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Polar pl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Logarithmic pl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Bar grap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Pie ch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44560" y="4267080"/>
            <a:ext cx="3117960" cy="4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2935440" cy="469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38080" y="2743200"/>
            <a:ext cx="3483000" cy="469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838080" y="3733920"/>
            <a:ext cx="2935440" cy="469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114800" y="2133720"/>
            <a:ext cx="5040360" cy="4724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lar plo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LAB supports tools for plotting data in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polar coordin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886200" y="2133720"/>
            <a:ext cx="5411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garithmic plo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LAB has tools for three kinds of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logarithmic plo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semilog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semi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loglo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pltting utilities automatically replace linear scales with logarithmic sc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arithmic scales are useful when a variable ranges over many orders of magnitu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5245200"/>
            <a:ext cx="2935440" cy="469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38080" y="4330800"/>
            <a:ext cx="2935440" cy="469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28720" y="4788000"/>
            <a:ext cx="2752560" cy="469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838080" y="3416400"/>
            <a:ext cx="2935440" cy="46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838080" y="3809880"/>
            <a:ext cx="2752920" cy="470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838080" y="2079720"/>
            <a:ext cx="220500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838080" y="2959200"/>
            <a:ext cx="202248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838080" y="2502000"/>
            <a:ext cx="293544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838080" y="5638680"/>
            <a:ext cx="2387880" cy="47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838080" y="1676520"/>
            <a:ext cx="2570400" cy="396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3276720" y="1295280"/>
            <a:ext cx="6095880" cy="5713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Example: Logarithmic plots &amp; subplot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95680" y="2438280"/>
            <a:ext cx="5040360" cy="4724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95680" y="2438280"/>
            <a:ext cx="5040360" cy="4724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ar ch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Bar graph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useful for reporting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x = [1,3,8,5,4,6]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bar(x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generat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vertical bar grap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barh(x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generat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orizontal bar grap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5:48Z</dcterms:modified>
  <cp:revision>62</cp:revision>
  <dc:subject/>
  <dc:title>ES100: Lecture 07 More Plotting in 2-D, Curve Fitting</dc:title>
</cp:coreProperties>
</file>