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EE70-4B18-43B6-B9A8-267B057CC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74BB-135B-4C95-BA2A-A232CC02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D709-5AED-436A-8059-A8D52D220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10C6-CEA7-47E3-8D4F-C60339433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73C2-6340-491E-A700-DA5E5820C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BB08-356F-4DD7-9E8B-C46F962C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8200-33C5-49D8-9E59-DE99C0CE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E975-169C-4DE9-8E8B-E2E0ED99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D8A5-F644-4F51-8C53-1F56172B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1C83-63D8-4D44-80FE-80AD2568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38D5-967B-4520-AB1C-2BA3CACA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3E28-9BF0-4804-86C0-52D3E387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9C1C-A972-4C95-A553-A5F412F5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9D76-C960-41CD-9EE4-891DB9E5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0A22-4E56-4304-9347-EA0B0AF8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0E1A-A2C1-4C65-B001-F6DB114ED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F1AB-E2D5-41A6-8AD8-B14073354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5EE9-F721-4119-BB27-52722612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1DAB-017C-4559-A11E-B8343546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6EC7-5775-4549-A26B-F249C578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441A-7AED-4068-BC40-F50746B4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E479-F151-4EFB-AE0C-1CD8018F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6D0E-157D-4DC2-A0DB-635C65B4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F054-769E-4D8E-9C06-84EF58F4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3156-BD00-433F-97A5-3003867713A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67E9-DB3D-4134-98E6-8D84760793E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Lecture 11</a:t>
            </a:r>
            <a:br>
              <a:rPr sz="4800"/>
            </a:b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Loops for repetitive computations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fo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op constru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5214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© 2007 Daniel Valentine. All rights reserved. Published by Elsevier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cept of the</a:t>
            </a: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 for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for l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oop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s a MATLAB construct that allows a sequence of MATLAB statements to be</a:t>
            </a: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xecuted more than once</a:t>
            </a: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for l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oop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eats a block of commands for a specified number of times; the specified number is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stablished befo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 loop is execu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struction of</a:t>
            </a: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 for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p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op construc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for index = [</a:t>
            </a:r>
            <a:r>
              <a:rPr b="1" i="1" lang="en-US" sz="2000" spc="-1" strike="noStrike">
                <a:solidFill>
                  <a:srgbClr val="ffff00"/>
                </a:solidFill>
                <a:latin typeface="Courier New"/>
              </a:rPr>
              <a:t>range of values in array format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mmand #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mmand #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mmand #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8165880" cy="11998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 simple examp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50292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________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ahoma"/>
              </a:rPr>
              <a:t>Note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fter executing this script, change the steps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n = 1:5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to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n = 1:.5:5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and execute the script to show that  </a:t>
            </a:r>
            <a:r>
              <a:rPr b="0" lang="en-US" sz="1800" spc="-1" strike="noStrike">
                <a:solidFill>
                  <a:srgbClr val="ffff00"/>
                </a:solidFill>
                <a:latin typeface="Courier New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es not have to be an integ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2286000"/>
            <a:ext cx="6095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b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he output should look lik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he value of n is now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he value of n is now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he value of n is now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he value of n is now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he value of n is now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7556400" cy="16286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Hands o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4267080"/>
            <a:ext cx="65530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ctor_1 contains the values of n, i.e.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vector_1 = [1 2 3 4 5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ctor_2 contains the squares of n, i.e.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vector_2 = [1 4 9 16 25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137160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can use a loop to define, element by element, a vector; this illustrates how a for loop works. Try the following exercis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et us create a conversion char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grees-to-Radi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reate a table that converts angles from degrees to radians, from 0 to 360 degrees in increments of 10 degre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puts and Outpu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put: Define an array of angles in degre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utput: Display a table of angles in degrees and the corresponding values in radians. The conversion formula i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752480" y="4572000"/>
                <a:ext cx="513720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dian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egree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318520" cy="1776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33520" y="3962520"/>
            <a:ext cx="653760" cy="411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65200" y="3581280"/>
            <a:ext cx="8165880" cy="409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533520" y="3200400"/>
            <a:ext cx="5225760" cy="411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533520" y="2895480"/>
            <a:ext cx="3549600" cy="4096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conversion table co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Hands o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246060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ate a table that illustrates the relationship between temperature in degrees Celsius and the corresponding temperature in degrees Fahrenheit, from -40 to 100 degrees C in increments of 5 degrees. The conversion formula is as follow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246060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246060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246060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246060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246060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2460600"/>
                <a:tab algn="l" pos="4967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ck the temperatures that we all may know the conversion, e.g., 0 C = 32 F, and 100 C = 212 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971800" y="3429000"/>
                <a:ext cx="297180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°</m:t>
                    </m:r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°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701"/>
                </a:solidFill>
                <a:latin typeface="Tahoma"/>
              </a:rPr>
              <a:t>Loop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are MATLAB constructs that allow a sequence of MATLAB statements to be</a:t>
            </a:r>
            <a:r>
              <a:rPr b="0" lang="en-US" sz="2000" spc="-1" strike="noStrike">
                <a:solidFill>
                  <a:srgbClr val="ffe701"/>
                </a:solidFill>
                <a:latin typeface="Tahoma"/>
              </a:rPr>
              <a:t> executed more than on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Fo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loops repeat a block of commands for a specified number of times, </a:t>
            </a:r>
            <a:r>
              <a:rPr b="0" lang="en-US" sz="2000" spc="-1" strike="noStrike">
                <a:solidFill>
                  <a:srgbClr val="ffe701"/>
                </a:solidFill>
                <a:latin typeface="Tahoma"/>
              </a:rPr>
              <a:t>that is specified befor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he loop is execut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index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= [range of values in array format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mmand #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mmand #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3:02:08Z</dcterms:created>
  <dc:creator/>
  <dc:description/>
  <dc:language>en-US</dc:language>
  <cp:lastModifiedBy>eatonh</cp:lastModifiedBy>
  <dcterms:modified xsi:type="dcterms:W3CDTF">2007-02-13T14:45:41Z</dcterms:modified>
  <cp:revision>47</cp:revision>
  <dc:subject/>
  <dc:title>Lecture Loops for repetition</dc:title>
</cp:coreProperties>
</file>