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4DE-3BAF-4CAD-97F2-B6F0F758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3BD-F221-4432-939A-91D78A1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3FF-C46B-4CE2-8001-A0B6E987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8B5-2423-44B8-931B-7D6DD224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95B-59DC-434D-803E-C95898F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DE6-BFF9-43BB-BC43-F625E5D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CD21-0EB0-429C-B5B3-E1BB434B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063-40D4-47AE-B44A-F87083A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584-5998-468E-95A7-A12B3360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67D-2DFB-4929-BDD8-7B63BE4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3FA-54BC-49EE-A591-B9053030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DBE-4544-43C5-918B-9D5B90B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A14-9087-4F6B-9A97-454187D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8BA1-E374-4C1D-BC59-773E6D9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ABB8-8B41-403F-9B89-8BA9983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EA3-0981-4F5B-BCAC-3EE597B6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76DD-624D-407F-9B03-982C7200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E0E-2A94-4928-A675-AA09348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FF3-AE25-457F-9856-AB23FF5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430-1183-4123-96EC-2884B73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41B-A5EC-4BAF-BF01-6BDDA00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9A5-BE8B-4487-A4FF-7B487411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A8B-EAF7-464F-8BCC-70C1D86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90F-6355-4CA6-99F0-C8F2793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8E9-CC55-4EB5-8D95-B7E477FE70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5FAA-CF42-4CEC-9FA3-14CDAB46F6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1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oops for repetitive computa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f the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MATLAB construct that allows a sequence of MATLAB statements to b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s a block of commands for a specified number of times; the specified number is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ed 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truction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or index = [</a:t>
            </a:r>
            <a:r>
              <a:rPr b="1" i="1" lang="en-US" sz="2000" spc="-1" strike="noStrike">
                <a:solidFill>
                  <a:srgbClr val="ffff00"/>
                </a:solidFill>
                <a:latin typeface="Courier New"/>
              </a:rPr>
              <a:t>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5880" cy="119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029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fter executing this script, change the steps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.5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and execute the script to show that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have to be an inte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86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output should look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56400" cy="1628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6553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1 contains the valu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1 = [1 2 3 4 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2 contains the squar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2 = [1 4 9 16 2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371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use a loop to define, element by element, a vector; this illustrates how a for loop works. Try the following exerci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et us create a conversion cha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s-to-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table that converts angles from degrees to radians, from 0 to 360 degrees in increments of 10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s and Outp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: Define an array of angles in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 Display a table of angles in degrees and the corresponding values in radians. The conversion formula 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52480" y="4572000"/>
                <a:ext cx="51372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1852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65376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5200" y="3581280"/>
            <a:ext cx="8165880" cy="4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3200400"/>
            <a:ext cx="5225760" cy="41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3549600" cy="40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onversion table co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table that illustrates the relationship between temperature in degrees Celsius and the corresponding temperature in degrees Fahrenheit, from -40 to 100 degrees C in increments of 5 degrees. The conversion formula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e temperatures that we all may know the conversion, e.g., 0 C = 32 F, and 100 C = 212 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429000"/>
                <a:ext cx="29718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oops repeat a block of commands for a specified number of times, 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that is specified befo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nde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 [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1Z</dcterms:modified>
  <cp:revision>47</cp:revision>
  <dc:subject/>
  <dc:title>Lecture Loops for repetition</dc:title>
</cp:coreProperties>
</file>