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A1D-6D64-4D82-B015-89032287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582-7AFE-475F-B799-96901339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07E-C31C-4209-86FA-CDD38BA3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9D5B-1B2E-4F75-B64F-DBC05C1F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7ADE-97C2-4B29-B7B8-F126A9BC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8C79-36A6-4707-B4AB-F6DD3521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3A66-7F79-4251-8F9B-97DB24BE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5DC8-8BC0-419B-8EEE-D19A5F3F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06E6-EFA4-426E-B17B-8C183877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DB51-2D50-4178-A508-831957A3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0993-D8CB-40AF-87D7-096D22CF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118-072D-4FE0-9FC9-6FD1FAD5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B0A4-B1DD-448B-868C-80EA71B1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85DE-062E-4918-BCE3-6C53BE96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C2A9-9F4B-449A-B98B-B3F94495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16E3-BB5F-4EE0-B7F2-56F7C39A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BFF5-6BB3-4E15-8A5C-69A80AB2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A07-AF64-4382-94FE-0D7638B1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003-3DC9-495D-9005-F4C018D2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E97-B6F4-4D98-9329-6CA9D26F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FF8-B36A-487F-99DC-81653925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E24-2F2C-4B0B-BA68-EEFA27F0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DF31-8488-460D-93A5-59429A66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2FC-A7D4-481A-B3CB-F8066DA3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AE11-6AE5-4B7D-9E60-4C6E059D65A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34BD-CCD2-4ADE-AE5A-CB7A73FE92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1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oops for repetitive computa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f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constr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ept of the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 for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for l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o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MATLAB construct that allows a sequence of MATLAB statements to be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xecuted more than once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for l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op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s a block of commands for a specified number of times; the specified number is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stablished 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loop is execu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truction of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 for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p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construc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for index = [</a:t>
            </a:r>
            <a:r>
              <a:rPr b="1" i="1" lang="en-US" sz="2000" spc="-1" strike="noStrike">
                <a:solidFill>
                  <a:srgbClr val="ffff00"/>
                </a:solidFill>
                <a:latin typeface="Courier New"/>
              </a:rPr>
              <a:t>range of values in array format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65880" cy="1199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 simple exam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029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fter executing this script, change the steps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 = 1: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 = 1:.5: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and execute the script to show that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es not have to be an inte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86000"/>
            <a:ext cx="6095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output should look lik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556400" cy="1628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267080"/>
            <a:ext cx="6553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ctor_1 contains the values of n, i.e.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ector_1 = [1 2 3 4 5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ctor_2 contains the squares of n, i.e.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ector_2 = [1 4 9 16 25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3716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use a loop to define, element by element, a vector; this illustrates how a for loop works. Try the following exercis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et us create a conversion cha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grees-to-Rad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a table that converts angles from degrees to radians, from 0 to 360 degrees in increments of 10 degr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s and Outpu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put: Define an array of angles in degr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put: Display a table of angles in degrees and the corresponding values in radians. The conversion formula i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52480" y="4572000"/>
                <a:ext cx="513720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dian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gree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18520" cy="1776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653760" cy="41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65200" y="3581280"/>
            <a:ext cx="8165880" cy="4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3200400"/>
            <a:ext cx="5225760" cy="411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33520" y="2895480"/>
            <a:ext cx="3549600" cy="409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conversion table co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table that illustrates the relationship between temperature in degrees Celsius and the corresponding temperature in degrees Fahrenheit, from -40 to 100 degrees C in increments of 5 degrees. The conversion formula is as follow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the temperatures that we all may know the conversion, e.g., 0 C = 32 F, and 100 C = 212 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71800" y="3429000"/>
                <a:ext cx="29718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°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Loop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re MATLAB constructs that allow a sequence of MATLAB statements to be</a:t>
            </a: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 executed more than o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oops repeat a block of commands for a specified number of times, </a:t>
            </a: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that is specified befo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 loop is execut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nde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= [range of values in array format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41Z</dcterms:modified>
  <cp:revision>47</cp:revision>
  <dc:subject/>
  <dc:title>Lecture Loops for repetition</dc:title>
</cp:coreProperties>
</file>