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ECEC-7310-4EEF-8BB5-96A4F4FD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F615-261E-4A80-B273-0AF7FD1F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03E2-81C7-48DF-99AB-D7CDFCDB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FD8B-EC5F-4259-9506-7E53CF15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6E70-0EDE-4798-9917-4DD6B657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0C2F-2FD5-4A6E-925B-CFD203C6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54F2-F91D-4B92-935A-BD792937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AF1C-CD5F-4A41-B992-81FDF856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0143-F21D-4937-8329-E912F224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38AB-25D8-4050-A249-4D5279F8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3F70-0E09-491E-A21D-09B5E40B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E965-0ED7-48CE-9885-2945B35B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4C1B-A155-4207-AF9A-1D9530AE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D72E-E9FD-4AB9-BA90-25B10F0C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8CDE-D716-4B09-8B55-6E02B231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6777-7BBA-4C12-A9CA-CCAEA83A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8000-7631-4FFE-949B-883DC473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8CBB-C2DA-4E5A-9EF4-85C00535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FEF5-CA2F-4117-B61D-4879BF5B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ACD0-4C03-4086-AD63-D731F4B5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339C-C28C-4532-930D-CF8C32E8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A95-CBA3-4BE4-AE61-CBA63CBC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A451-BC79-4570-BF32-3E0CA672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DB08-AAB5-4E39-A0DC-993C1ECE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E266-0EF4-442E-A35E-24D958EBB01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0A49-9D0F-473D-B2BB-C50C52D95F3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Lecture 11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Loops for repetitive computations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fo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p constru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cept of the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 for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for l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oo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a MATLAB construct that allows a sequence of MATLAB statements to be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xecuted more than once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for l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oop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eats a block of commands for a specified number of times; the specified number is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stablished befo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loop is execu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struction of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 for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p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p construc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for index = [</a:t>
            </a:r>
            <a:r>
              <a:rPr b="1" i="1" lang="en-US" sz="2000" spc="-1" strike="noStrike">
                <a:solidFill>
                  <a:srgbClr val="ffff00"/>
                </a:solidFill>
                <a:latin typeface="Courier New"/>
              </a:rPr>
              <a:t>range of values in array format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165880" cy="1199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 simple examp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50292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fter executing this script, change the steps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n = 1: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o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n = 1:.5: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and execute the script to show that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es not have to be an inte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2286000"/>
            <a:ext cx="6095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b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output should look lik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556400" cy="1628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Hands o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4267080"/>
            <a:ext cx="65530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ctor_1 contains the values of n, i.e.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ector_1 = [1 2 3 4 5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ctor_2 contains the squares of n, i.e.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ector_2 = [1 4 9 16 25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13716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an use a loop to define, element by element, a vector; this illustrates how a for loop works. Try the following exercis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et us create a conversion char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grees-to-Rad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eate a table that converts angles from degrees to radians, from 0 to 360 degrees in increments of 10 degre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puts and Outpu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put: Define an array of angles in degre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utput: Display a table of angles in degrees and the corresponding values in radians. The conversion formula i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752480" y="4572000"/>
                <a:ext cx="513720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dian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gree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318520" cy="1776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653760" cy="411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65200" y="3581280"/>
            <a:ext cx="8165880" cy="409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33520" y="3200400"/>
            <a:ext cx="5225760" cy="411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33520" y="2895480"/>
            <a:ext cx="3549600" cy="4096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conversion table co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Hands o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a table that illustrates the relationship between temperature in degrees Celsius and the corresponding temperature in degrees Fahrenheit, from -40 to 100 degrees C in increments of 5 degrees. The conversion formula is as follow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the temperatures that we all may know the conversion, e.g., 0 C = 32 F, and 100 C = 212 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971800" y="3429000"/>
                <a:ext cx="297180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°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Tahoma"/>
              </a:rPr>
              <a:t>Loop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re MATLAB constructs that allow a sequence of MATLAB statements to be</a:t>
            </a:r>
            <a:r>
              <a:rPr b="0" lang="en-US" sz="2000" spc="-1" strike="noStrike">
                <a:solidFill>
                  <a:srgbClr val="ffe701"/>
                </a:solidFill>
                <a:latin typeface="Tahoma"/>
              </a:rPr>
              <a:t> executed more than on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Fo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loops repeat a block of commands for a specified number of times, </a:t>
            </a:r>
            <a:r>
              <a:rPr b="0" lang="en-US" sz="2000" spc="-1" strike="noStrike">
                <a:solidFill>
                  <a:srgbClr val="ffe701"/>
                </a:solidFill>
                <a:latin typeface="Tahoma"/>
              </a:rPr>
              <a:t>that is specified befor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he loop is execut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index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= [range of values in array format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5:41Z</dcterms:modified>
  <cp:revision>47</cp:revision>
  <dc:subject/>
  <dc:title>Lecture Loops for repetition</dc:title>
</cp:coreProperties>
</file>