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804-00A5-4CEE-AB3C-20B8E2AF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46-5360-4A09-B2AE-5594639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FD2-CDF8-4B59-BB89-6B0A7394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773-2D9F-4EF0-BD25-F5C3BEA7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0C01-3619-4B85-B1AF-316F4F06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D572-1301-4AD6-8771-E12CD47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2AA0-D1C8-41A7-8FF1-45FFE388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2C4-F369-4865-AE5E-B271ADD3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6897-CD28-4093-8240-53F365ED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59C-783F-4587-89A7-9544C87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6776-6889-47FB-8431-850C6933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133-044F-40CF-B740-AFBF74EB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6658-8773-4C90-B57C-101CC6C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229C-DEAD-4612-AE81-CB1DD087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BF5-4AE8-4664-92D9-0778CA12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503A-7E95-40AD-A274-4E1C6878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9501-693D-424C-BB15-256A6049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A7E-586E-4F13-A28A-B4F4B24E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29C9-2514-4B91-90BC-41E191D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287E-AB95-4A47-A9F1-128B4A83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760-886C-4224-9A3B-FD5F89B8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A75-CB63-4005-8672-4B67CBFC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C58-AB80-480A-9242-28C81A68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DAF-0AEF-42E8-AC41-D962995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E48-86CA-417D-BFC6-22E5E52DE1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E18-AC4D-49FA-B2E8-372B582C892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12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nother loop for repetitio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whil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While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loops repeat a block of commands as long as an </a:t>
            </a: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expression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1" lang="en-US" sz="2000" spc="-1" strike="noStrike">
                <a:solidFill>
                  <a:srgbClr val="ffe701"/>
                </a:solidFill>
                <a:latin typeface="Tahoma"/>
              </a:rPr>
              <a:t>true (1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while ex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ept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while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l from a previous lecture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loo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MATLAB constructs that allow a sequence of MATLAB commands to b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 whi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p repeat a block of commands as long as a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pres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rolling it is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rue (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ion of 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loop ends when “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alse (0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; at this point the commands following the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304812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de block is repeated whil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press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rue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9718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267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297180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23240" cy="1933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op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” 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ne way of controlling the loop is to define a counting index; in this case we start with n = 0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fter the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statement an expression is defined that allows the loop to execute as long as the expression is true (1); in this case the loop runs until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n &gt; 5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counter must, of course, be changed in the loop, or the loop will run forever. In this case </a:t>
            </a:r>
            <a:r>
              <a:rPr b="1" lang="en-US" sz="2200" spc="-1" strike="noStrike">
                <a:solidFill>
                  <a:srgbClr val="ffffff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is increased by 1 each time the block of commands in the loop is execute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Your output should look like this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5639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nother hands-on exampl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14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gram to sum a series of numbers input by a us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48640" y="1431720"/>
            <a:ext cx="8382960" cy="4645440"/>
            <a:chOff x="548640" y="1431720"/>
            <a:chExt cx="8382960" cy="4645440"/>
          </a:xfrm>
        </p:grpSpPr>
        <p:sp>
          <p:nvSpPr>
            <p:cNvPr id="107" name=""/>
            <p:cNvSpPr/>
            <p:nvPr/>
          </p:nvSpPr>
          <p:spPr>
            <a:xfrm>
              <a:off x="559800" y="144144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8640" y="14317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=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0160" y="181296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 = 0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9000" y="180180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 = 0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0160" y="21826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9000" y="21715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9120" y="218268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= 0.0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7960" y="21715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= 0.0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9800" y="292248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while a &gt;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" y="291132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while a &gt;=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9640" y="329220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58480" y="328284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79120" y="329220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put('En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7960" y="328284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input('Ent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60560" y="3292200"/>
              <a:ext cx="4725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a number to add to the running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9400" y="3282840"/>
              <a:ext cx="5182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a number to add to the running </a:t>
              </a:r>
              <a:r>
                <a:rPr b="0" lang="en-US" sz="2000" spc="-1" strike="noStrike">
                  <a:solidFill>
                    <a:srgbClr val="00ffff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02880" y="360180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total 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91720" y="359244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total 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69560" y="360180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e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58400" y="359244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e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79400" y="360180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# to end): '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68240" y="3592440"/>
              <a:ext cx="3353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# to end): '); </a:t>
              </a:r>
              <a:r>
                <a:rPr b="1" lang="en-US" sz="2000" spc="-1" strike="noStrike">
                  <a:solidFill>
                    <a:srgbClr val="ffff66"/>
                  </a:solidFill>
                  <a:latin typeface="Courier New"/>
                </a:rPr>
                <a:t>if a&gt;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69640" y="39718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8480" y="39607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8600" y="3971880"/>
              <a:ext cx="3056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77440" y="3960720"/>
              <a:ext cx="3056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3520" y="397188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82360" y="3960720"/>
              <a:ext cx="10674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myTo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12840" y="397188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+ a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1680" y="3960720"/>
              <a:ext cx="6102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+ a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69640" y="4341600"/>
              <a:ext cx="15246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 = n + 1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58480" y="433224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 = n + 1; </a:t>
              </a:r>
              <a:r>
                <a:rPr b="1" lang="en-US" sz="2000" spc="-1" strike="noStrike">
                  <a:solidFill>
                    <a:srgbClr val="ffff66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9800" y="471168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" y="4701960"/>
              <a:ext cx="4579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en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9800" y="545148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printf('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640" y="5441760"/>
              <a:ext cx="18295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fprintf('Th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1240" y="5451480"/>
              <a:ext cx="53348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 of the %d numbers you input i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46280" y="5441760"/>
              <a:ext cx="580248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sum of the %d numbers you input is </a:t>
              </a:r>
              <a:r>
                <a:rPr b="1" lang="en-US" sz="1800" spc="-1" strike="noStrike">
                  <a:solidFill>
                    <a:srgbClr val="00ffff"/>
                  </a:solidFill>
                  <a:latin typeface="Tahoma"/>
                </a:rPr>
                <a:t>. . .</a:t>
              </a: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02880" y="577188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%12.3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91720" y="5762520"/>
              <a:ext cx="91512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%12.3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7280" y="5771880"/>
              <a:ext cx="153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\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6120" y="5762520"/>
              <a:ext cx="15300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\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69560" y="577188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n',n,myTotal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58400" y="5762520"/>
              <a:ext cx="2134440" cy="30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Courier New"/>
                </a:rPr>
                <a:t>n',n,myTotal);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4952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% Note that the 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if &gt;= 0</a:t>
            </a: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 and </a:t>
            </a:r>
            <a:r>
              <a:rPr b="1" lang="en-US" sz="1800" spc="-1" strike="noStrike">
                <a:solidFill>
                  <a:srgbClr val="ffff66"/>
                </a:solidFill>
                <a:latin typeface="Courier New"/>
              </a:rPr>
              <a:t>end</a:t>
            </a:r>
            <a:r>
              <a:rPr b="1" lang="en-US" sz="1800" spc="-1" strike="noStrike">
                <a:solidFill>
                  <a:srgbClr val="00ffff"/>
                </a:solidFill>
                <a:latin typeface="Courier New"/>
              </a:rPr>
              <a:t> statements are needed in    % this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3173400"/>
            <a:ext cx="8731440" cy="1322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other Exampl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is example we want to ensure that the user inputs data in the correct rang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loop will repeat until the user has entered a non-negative number (n &gt;=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5867280"/>
            <a:ext cx="1384200" cy="411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79520" y="3200400"/>
            <a:ext cx="4584960" cy="2847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2286000" y="2895480"/>
            <a:ext cx="4159080" cy="40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function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calculates the factorial of a number using a while loo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a code that approximates the integral of sin(x)/x from 1 to 2. Use a while loop to sum the values of sin(x)/x from 1 to 2. Let the user input the increment to be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nt: Use the following approximat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erical value of this integral, to within four significant digits, is 0.659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379600" y="3692520"/>
                <a:ext cx="433872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nary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30Z</dcterms:modified>
  <cp:revision>56</cp:revision>
  <dc:subject/>
  <dc:title>ES100: Lecture 14 While Loops</dc:title>
</cp:coreProperties>
</file>