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75DA-806A-47D1-BA0C-FDEB5628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204E-2D0E-409E-AB9F-9981397B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188-3B21-4D11-A4A1-95584BB3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346-1981-4D1A-88FC-69AB4415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3656-B33B-4A5E-948C-41130F90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2BD1-78AE-4C11-A263-9CFAC1C6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0905-3087-4DE4-92FC-0350AAC5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4DEB-3FE2-4C98-B5BE-35EF4341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8146-4B1E-42B3-8886-85A5C720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9FA4-54DE-4D66-A8D6-2780D4FB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DBAC-B56C-4B8B-BDB5-9B0AF4A6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CB34-1C80-4641-A0C3-0A539CD2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810E-CADD-4ADA-AF10-D0389593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D19A-723B-49F8-93B2-4640D50E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C41C-6BAB-4F2A-A8AD-CE0D5F7F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3095-3FAE-4B6A-8402-B648EFCD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7022-D4B8-4DFE-A3BE-C4FD1F1D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DED-B584-41AD-8CF2-36C86AF9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1F8-D66A-40D8-B3FE-48EBC98E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CB1-C20C-451E-87A2-A321FCAF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5000-ECAB-40A0-AEF1-208B5285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E30-8B75-4BC5-8B55-A24EA181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8CE7-95E2-49ED-B815-A4624C93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694-74BB-41F0-8499-8AAC1757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4B10-AA81-4D39-AD2D-59FE8D97372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5806-50E1-4DA9-96E0-135EA3B8B80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cture 12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nother loop for repetition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whi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p constru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Tahoma"/>
              </a:rPr>
              <a:t>Loop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are MATLAB constructs that allow a sequence of MATLAB statements to be</a:t>
            </a:r>
            <a:r>
              <a:rPr b="1" lang="en-US" sz="2000" spc="-1" strike="noStrike">
                <a:solidFill>
                  <a:srgbClr val="ffe701"/>
                </a:solidFill>
                <a:latin typeface="Tahoma"/>
              </a:rPr>
              <a:t> executed more than o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While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loops repeat a block of commands as long as an 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expression</a:t>
            </a:r>
            <a:r>
              <a:rPr b="1" lang="en-US" sz="2000" spc="-1" strike="noStrike">
                <a:solidFill>
                  <a:srgbClr val="ffe701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1" lang="en-US" sz="2000" spc="-1" strike="noStrike">
                <a:solidFill>
                  <a:srgbClr val="ffe701"/>
                </a:solidFill>
                <a:latin typeface="Tahoma"/>
              </a:rPr>
              <a:t>true (1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while expres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cept of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 while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op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all from a previous lecture,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loo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MATLAB constructs that allow a sequence of MATLAB commands to be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executed more than once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 whi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p repeat a block of commands as long as an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xpres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rolling it is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rue (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while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op construc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ction of 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xpres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loop ends when “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false (0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; at this point the commands following the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of the loop is execut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304812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de block is repeated whil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press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rue 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29718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2670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297180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23240" cy="1933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“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op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”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ne way of controlling the loop is to define a counting index; in this case we start with n = 0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fter the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statement an expression is defined that allows the loop to execute as long as the expression is true (1); in this case the loop runs until </a:t>
            </a: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n &gt; 5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counter must, of course, be changed in the loop, or the loop will run forever. In this case </a:t>
            </a: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is increased by 1 each time the block of commands in the loop is execute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Your output should look like this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2057040"/>
            <a:ext cx="56390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other hands-on exampl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9144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gram to sum a series of numbers input by a us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48640" y="1431720"/>
            <a:ext cx="8382960" cy="4645440"/>
            <a:chOff x="548640" y="1431720"/>
            <a:chExt cx="8382960" cy="4645440"/>
          </a:xfrm>
        </p:grpSpPr>
        <p:sp>
          <p:nvSpPr>
            <p:cNvPr id="107" name=""/>
            <p:cNvSpPr/>
            <p:nvPr/>
          </p:nvSpPr>
          <p:spPr>
            <a:xfrm>
              <a:off x="559800" y="1441440"/>
              <a:ext cx="9151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 = 1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8640" y="1431720"/>
              <a:ext cx="9151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a = 1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0160" y="1812960"/>
              <a:ext cx="10674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 = 0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9000" y="1801800"/>
              <a:ext cx="10674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n = 0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0160" y="2182680"/>
              <a:ext cx="10674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myTot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9000" y="2171520"/>
              <a:ext cx="10674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myTot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79120" y="2182680"/>
              <a:ext cx="9151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= 0.0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7960" y="2171520"/>
              <a:ext cx="9151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= 0.0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9800" y="2922480"/>
              <a:ext cx="18295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while a &gt;=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" y="2911320"/>
              <a:ext cx="18295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while a &gt;=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69640" y="3292200"/>
              <a:ext cx="6102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58480" y="3282840"/>
              <a:ext cx="6102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a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79120" y="3292200"/>
              <a:ext cx="18295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put('Ent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67960" y="3282840"/>
              <a:ext cx="18295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input('Ent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60560" y="3292200"/>
              <a:ext cx="47250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 number to add to the running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49400" y="3282840"/>
              <a:ext cx="51822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a number to add to the running </a:t>
              </a:r>
              <a:r>
                <a:rPr b="0" lang="en-US" sz="2000" spc="-1" strike="noStrike">
                  <a:solidFill>
                    <a:srgbClr val="00ffff"/>
                  </a:solidFill>
                  <a:latin typeface="Courier New"/>
                </a:rPr>
                <a:t>..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02880" y="3601800"/>
              <a:ext cx="10674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total 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91720" y="3592440"/>
              <a:ext cx="10674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total 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69560" y="3601800"/>
              <a:ext cx="4579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e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58400" y="3592440"/>
              <a:ext cx="4579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ne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79400" y="3601800"/>
              <a:ext cx="213444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# to end): '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68240" y="3592440"/>
              <a:ext cx="33534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# to end): '); </a:t>
              </a:r>
              <a:r>
                <a:rPr b="1" lang="en-US" sz="2000" spc="-1" strike="noStrike">
                  <a:solidFill>
                    <a:srgbClr val="ffff66"/>
                  </a:solidFill>
                  <a:latin typeface="Courier New"/>
                </a:rPr>
                <a:t>if a&gt;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69640" y="3971880"/>
              <a:ext cx="10674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myTot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58480" y="3960720"/>
              <a:ext cx="10674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myTot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88600" y="3971880"/>
              <a:ext cx="30564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77440" y="3960720"/>
              <a:ext cx="30564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3520" y="3971880"/>
              <a:ext cx="10674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myTot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82360" y="3960720"/>
              <a:ext cx="10674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myTot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12840" y="3971880"/>
              <a:ext cx="6102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+ a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01680" y="3960720"/>
              <a:ext cx="6102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+ a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69640" y="4341600"/>
              <a:ext cx="15246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 = n + 1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58480" y="4332240"/>
              <a:ext cx="213444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n = n + 1; </a:t>
              </a:r>
              <a:r>
                <a:rPr b="1" lang="en-US" sz="2000" spc="-1" strike="noStrike">
                  <a:solidFill>
                    <a:srgbClr val="ffff66"/>
                  </a:solidFill>
                  <a:latin typeface="Courier New"/>
                </a:rPr>
                <a:t>en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9800" y="4711680"/>
              <a:ext cx="4579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8640" y="4701960"/>
              <a:ext cx="4579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en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9800" y="5451480"/>
              <a:ext cx="18295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printf('T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8640" y="5441760"/>
              <a:ext cx="18295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fprintf('T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41240" y="5451480"/>
              <a:ext cx="533484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um of the %d numbers you input i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46280" y="5441760"/>
              <a:ext cx="580248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sum of the %d numbers you input is </a:t>
              </a:r>
              <a:r>
                <a:rPr b="1" lang="en-US" sz="1800" spc="-1" strike="noStrike">
                  <a:solidFill>
                    <a:srgbClr val="00ffff"/>
                  </a:solidFill>
                  <a:latin typeface="Tahoma"/>
                </a:rPr>
                <a:t>. . .</a:t>
              </a: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02880" y="5771880"/>
              <a:ext cx="9151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%12.3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91720" y="5762520"/>
              <a:ext cx="9151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%12.3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17280" y="5771880"/>
              <a:ext cx="1530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\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6120" y="5762520"/>
              <a:ext cx="1530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\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69560" y="5771880"/>
              <a:ext cx="213444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',n,myTotal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58400" y="5762520"/>
              <a:ext cx="213444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n',n,myTotal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4952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urier New"/>
              </a:rPr>
              <a:t>% Note that the </a:t>
            </a:r>
            <a:r>
              <a:rPr b="1" lang="en-US" sz="1800" spc="-1" strike="noStrike">
                <a:solidFill>
                  <a:srgbClr val="ffff66"/>
                </a:solidFill>
                <a:latin typeface="Courier New"/>
              </a:rPr>
              <a:t>if &gt;= 0</a:t>
            </a:r>
            <a:r>
              <a:rPr b="1" lang="en-US" sz="1800" spc="-1" strike="noStrike">
                <a:solidFill>
                  <a:srgbClr val="00ffff"/>
                </a:solidFill>
                <a:latin typeface="Courier New"/>
              </a:rPr>
              <a:t> and </a:t>
            </a:r>
            <a:r>
              <a:rPr b="1" lang="en-US" sz="1800" spc="-1" strike="noStrike">
                <a:solidFill>
                  <a:srgbClr val="ffff66"/>
                </a:solidFill>
                <a:latin typeface="Courier New"/>
              </a:rPr>
              <a:t>end</a:t>
            </a:r>
            <a:r>
              <a:rPr b="1" lang="en-US" sz="1800" spc="-1" strike="noStrike">
                <a:solidFill>
                  <a:srgbClr val="00ffff"/>
                </a:solidFill>
                <a:latin typeface="Courier New"/>
              </a:rPr>
              <a:t> statements are needed in    % this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3173400"/>
            <a:ext cx="8731440" cy="13222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other Example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is example we want to ensure that the user inputs data in the correct rang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loop will repeat until the user has entered a non-negative number (n &gt;= 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0" y="5867280"/>
            <a:ext cx="1384200" cy="411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279520" y="3200400"/>
            <a:ext cx="4584960" cy="2847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286000" y="2895480"/>
            <a:ext cx="4159080" cy="409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function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t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calculates the factorial of a number using a while loo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a code that approximates the integral of sin(x)/x from 1 to 2. Use a while loop to sum the values of sin(x)/x from 1 to 2. Let the user input the increment to be u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nt: Use the following approxim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erical value of this integral, to within four significant digits, is 0.659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379600" y="3692520"/>
                <a:ext cx="433872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≈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5:30Z</dcterms:modified>
  <cp:revision>56</cp:revision>
  <dc:subject/>
  <dc:title>ES100: Lecture 14 While Loops</dc:title>
</cp:coreProperties>
</file>