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1B0-14C6-4B0D-A5F9-0C1490CA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E03-0DB5-497F-A99B-DCEEAE38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2E48-F14E-4E09-B3BF-2C1524AA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D39-822F-4730-9508-BA85B8BD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C947-A429-49AD-AA37-7EEE06E6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FE0F-864D-4674-8D5F-6E996507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0D75-19F7-4CB9-B8BE-F4C311C9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1D59-5EC5-4532-B072-33E5E70B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B875-688C-4765-B709-71A5A34C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D714-26B2-47F2-9F43-DC995A1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F676-AFDA-443C-A927-85498A29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26F-943F-49F1-A025-857FCADB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F5AD-E812-47E0-885D-88A41D3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28A3-029E-4FAE-AA41-621EA8F4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84A1-C5F1-4C77-90E3-51D4C734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DB52-9092-4124-B588-19855B3C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E166-EA7C-4936-9EC5-3C123424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A1BD-109A-4E28-B613-9ECCE460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952-C54F-4B24-BC8E-F5A20C4D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92B-1ABE-4E1B-9AE9-A9936F0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0F8-E192-4CA9-AA14-905D74A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5A2-213A-4746-A33C-6D11876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FC2-EE01-48FD-84F9-FC6B5862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077-1E5D-4AEB-B32F-B1E6E02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C6B4-411F-4D21-8DDE-2BD716482C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4584-BE19-4E08-B827-B744B8616D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1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Decision structur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if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state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s of 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if-e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cision construct is useful when relational operations are used to decide whether or not to execute a sequence of command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for displaying messag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 use them to prevent undesired operations, e.g., you may wish to skip the log(x) command for x≤0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(Of course, since MATLAB deals with complex numbers, the log of a negative number is a legitimate mathematical operation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7524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asic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if constru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s the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9040" y="2286000"/>
            <a:ext cx="845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f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381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it moves on to the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267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s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the program skips to the end state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4640" y="2895480"/>
            <a:ext cx="8469360" cy="1536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if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constructs with array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2952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the comparison includes an array, all elements are compared.  An if construct requires all elements to be tr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495680"/>
            <a:ext cx="8381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some elements of g are greater than 50 the statement is false so it skips to end.  There is no outp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73200" y="2743200"/>
            <a:ext cx="8470800" cy="26035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8686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 is another element in an if construct.  When the if comparison is false, the commands after else are execu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4100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e: MATLAB has a function to make the computer </a:t>
            </a: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bee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 You may use this as an error notice. You need to have your volume up to hear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elseif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37160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can be any number of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lauses, however there may only be one else clause.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useful when you have multiple comparisons to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447920"/>
            <a:ext cx="312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f grade&gt;=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'A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7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if grade&gt;=6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D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printf(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\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410080"/>
            <a:ext cx="7162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Note that the first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lseif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argument that is true will be execu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44792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function to determine if the length of a part is 10 cm with a 2% tole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vious problem write a function to permit input in inches. Note that 1 inch = 2.54 c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rite a program to ask for input of a temperature.  If the temperature is &gt; 25ºC, print ‘fan on’, otherwise print ‘fan off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previous problem ask for input in Fahrenhe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ma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if constru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 (i.e., comparis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if 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logical ope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w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possible action th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5:23Z</dcterms:modified>
  <cp:revision>52</cp:revision>
  <dc:subject/>
  <dc:title>ES100: Lecture 12 Selection Structures</dc:title>
</cp:coreProperties>
</file>