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5E4-DE25-4063-8CC6-52289736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72B-4901-4F24-BCB9-5E6B0489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4D7-C7AA-40AC-A098-CC14870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807-B835-4EE5-A503-35A0A032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CBE1-5A14-4E39-AD0C-CBAD8FF3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ED9-01CB-4185-AECF-A97DE357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C7A7-1CC0-4D0B-8D1E-243F3AA4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AD6-9128-4BA0-9AFA-F24613F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667-F9AC-4334-BA42-C8193925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7A0-D94E-464C-A3C8-0E2CDEBB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6B3-333C-4618-A03D-63647E9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7B8-73F8-4925-99C9-0EF9FDB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D8B6-B310-48DE-9337-3B2A7F5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B69B-FFD2-462F-906E-EE800BA6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8ED5-319F-4600-9732-76EC88AA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D865-0747-45A4-8268-79DD7545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5A08-7DB5-4A71-8A15-EB29A29D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5BC-1DEE-414A-BD64-8EC2BBCB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86F-F3AF-47F4-A719-8FF9F9D0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20E-9554-4B4F-90FD-262D6A9F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319-7043-4073-8D9F-08520EE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869-29D3-406A-8552-BBB9A46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66F-C476-4D86-8F8E-2A611C1C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C09-874A-4DD1-A1EE-F4B746F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13C-1FCF-40DA-A557-B9645025B3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B028-6936-47FE-A041-DBA84247D9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Decision structur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s of 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if-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ision construct is useful when relational operations are used to decide whether or not to execute a sequence of comman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for displaying messag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to prevent undesired operations, e.g., you may wish to skip the log(x) command for x≤0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Of course, since MATLAB deals with complex numbers, the log of a negative number is a legitimate mathematical operation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if 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the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2286000"/>
            <a:ext cx="845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f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t moves on to th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267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program skips to the end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4640" y="2895480"/>
            <a:ext cx="8469360" cy="1536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s with array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2952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ncludes an array, all elements are compared.  An if construct requires all elements to be tr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495680"/>
            <a:ext cx="838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some elements of g are greater than 50 the statement is false so it skips to end.  There is no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3200" y="2743200"/>
            <a:ext cx="847080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is another element in an if construct.  When the if comparison is false, the commands after else are execu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100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MATLAB has a function to make the computer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e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You may use this as an error notice. You need to have your volume up to hear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if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371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can be any number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auses, however there may only be one else clause.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useful when you have multiple comparisons to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447920"/>
            <a:ext cx="312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grade&gt;=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'A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te that the first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argument that is true will be exec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function to determine if the length of a part is 10 cm with a 2% tole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vious problem write a function to permit input in inches. Note that 1 inch = 2.54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program to ask for input of a temperature.  If the temperature is &gt; 25ºC, print ‘fan on’, otherwise print ‘fan off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previous problem ask for input in Fahrenhe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ma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f constr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 (i.e., compari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w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h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23Z</dcterms:modified>
  <cp:revision>52</cp:revision>
  <dc:subject/>
  <dc:title>ES100: Lecture 12 Selection Structures</dc:title>
</cp:coreProperties>
</file>