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0DBE-DC16-4578-BD1E-30E71EEF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3BF7-CFA8-4B84-9E10-A989A661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E9AF-5DD2-402C-A78B-04E6DA867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037-F6C7-4AD5-8AE4-2833FCE5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D75B-C427-470C-9A12-9A6A26F2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387F-BE7C-497A-92C6-1EEF91C4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A857-E59C-42E5-90AD-BB7FD09E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E707-938F-45FF-8840-154AAB31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F120-269D-472A-B89A-EEE9046A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6368-4F3A-4C4A-B0BB-49D72D0A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B10E-BD16-43CC-8A8A-192F2E86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A602-A1D8-4220-BAAB-7BEBCB9B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A233-BF5C-4B63-8DB9-7A72DCB5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D6A7-3A26-4F76-9767-48AF3F2B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B498-07BC-4495-A099-C892DC2F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01BA-43FC-431E-ADC9-29AA7D84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86DE-A744-45A7-8FBD-2DBF0BEB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E89A-5BD1-4730-9D45-CECEC61F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70E-A142-4C76-8A6F-6C2B512B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C864-CB3F-44DE-A9F1-035244E2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651-B8B2-439D-B0FA-6C77C220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247-AF5C-4E96-9827-4656E638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DA03-9A99-4FC5-A3C1-74E83973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BAB-EA6A-4148-9A6E-89AC7A31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CCC8-6797-4E30-9656-86335A886E8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9665-2B16-4655-8939-231B39FC04B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Lecture 13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Decision structures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i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uct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l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lsei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tatemen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ses of the 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construc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if-e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cision construct is useful when relational operations are used to decide whether or not to execute a sequence of command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 use them for displaying messag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 use them to prevent undesired operations, e.g., you may wish to skip the log(x) command for x≤0.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Of course, since MATLAB deals with complex numbers, the log of a negative number is a legitimate mathematical operation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construc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75248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sic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if construc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as the for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9040" y="2286000"/>
            <a:ext cx="8454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if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3526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he comparison is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tru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it moves on to the 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26708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he comparison is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fal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the program skips to the end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74640" y="2895480"/>
            <a:ext cx="8469360" cy="1536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constructs with array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29528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he comparison includes an array, all elements are compared.  An if construct requires all elements to be tr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495680"/>
            <a:ext cx="8381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ce some elements of g are greater than 50 the statement is false so it skips to end.  There is no out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73200" y="2743200"/>
            <a:ext cx="8470800" cy="2603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els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3000"/>
            <a:ext cx="8686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el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mmand is another element in an if construct.  When the if comparison is false, the commands after else are execu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4100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e: MATLAB has a function to make the computer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bee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 You may use this as an error notice. You need to have your volume up to hear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elseif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37160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can be any number of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elsei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lauses, however there may only be one else clause.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elsei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useful when you have multiple comparisons to t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1447920"/>
            <a:ext cx="3124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f grade&gt;=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printf('A\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lseif grade&gt;=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printf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\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lseif grade&gt;=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printf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\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lseif grade&gt;=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printf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\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printf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\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410080"/>
            <a:ext cx="7162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Note that the first 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elseif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argument that is true will be execu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44792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e a function to determine if the length of a part is 10 cm with a 2% toler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previous problem write a function to permit input in inches. Note that 1 inch = 2.54 c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e a program to ask for input of a temperature.  If the temperature is &gt; 25ºC, print ‘fan on’, otherwise print ‘fan off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previous problem ask for input in Fahrenhe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ision mak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if constru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if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logical operation (i.e., comparis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ossible action 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elseif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logical ope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ossible action tw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ossible action thr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5:23Z</dcterms:modified>
  <cp:revision>52</cp:revision>
  <dc:subject/>
  <dc:title>ES100: Lecture 12 Selection Structures</dc:title>
</cp:coreProperties>
</file>