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B092-7C5A-4ACB-A201-360060211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DEDA-5C61-4335-A4E3-E078156CD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60D1-5AA4-48DF-8254-46C5891FE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32DA-63ED-4C3A-8C13-10E4998DF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9C631-4AB4-4479-BC21-BCE319550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154A0-7EF5-4743-9262-4EBFF8A6E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D1CF8-F405-4AFE-AB35-14C5D6C70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AAE07-4DC2-47E9-BDCC-5731FA825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9E6C7-E007-4870-8A37-8C8F756EC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42539-5D16-4C12-9D0F-42DBB9735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9DA5C-505F-40DC-9D45-C176C930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FF34-4C44-4030-B6A8-E9C7F813C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6D099-B26A-411F-A97B-9A0E22A0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D1D40-73C5-4E61-9AA6-AF4F7F11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BE8F5-B6C8-43B3-AAB5-3D203F68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1A8B3-A637-43A5-AA67-553A18C5E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209BA-759F-4AC6-8164-503A42FD3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5F57-3AD3-494D-BABF-B4EB59438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813E-81C1-4003-B3E6-27CA26456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F4EC-09FD-4CF1-A7A5-EC9AFF304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4875-2D1D-4C22-9F64-6A6C2CEBC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66F2-C170-40C5-B5DF-9C51B190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496E-253A-4A72-9244-17CF6548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EB28-14A7-4F53-A9BB-CC299FC9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25F26-EA6E-4F4F-8EB8-8CCE8980449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9F86C-7088-4BC1-B91A-DD947B13B76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Tahoma"/>
              </a:rPr>
              <a:t>Lecture 13</a:t>
            </a:r>
            <a:br>
              <a:rPr sz="4800"/>
            </a:br>
            <a:r>
              <a:rPr b="0" lang="en-US" sz="4800" spc="-1" strike="noStrike">
                <a:solidFill>
                  <a:srgbClr val="ccffff"/>
                </a:solidFill>
                <a:latin typeface="Tahoma"/>
              </a:rPr>
              <a:t>Decision structures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236232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if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truct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els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tat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amp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elseif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tatemen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52140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Arial"/>
              </a:rPr>
              <a:t>© 2007 Daniel Valentine. All rights reserved. Published by Elsevier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ses of the </a:t>
            </a:r>
            <a:r>
              <a:rPr b="1" lang="en-US" sz="4400" spc="-1" strike="noStrike">
                <a:solidFill>
                  <a:srgbClr val="ccffff"/>
                </a:solidFill>
                <a:latin typeface="Courier New"/>
              </a:rPr>
              <a:t>if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 construc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 if-en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decision construct is useful when relational operations are used to decide whether or not to execute a sequence of commands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can use them for displaying messag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can use them to prevent undesired operations, e.g., you may wish to skip the log(x) command for x≤0.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(Of course, since MATLAB deals with complex numbers, the log of a negative number is a legitimate mathematical operation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ccffff"/>
                </a:solidFill>
                <a:latin typeface="Courier New"/>
              </a:rPr>
              <a:t>if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 construc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1752480"/>
            <a:ext cx="8381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basic </a:t>
            </a:r>
            <a:r>
              <a:rPr b="0" lang="en-US" sz="3200" spc="-1" strike="noStrike">
                <a:solidFill>
                  <a:srgbClr val="ffe701"/>
                </a:solidFill>
                <a:latin typeface="Tahoma"/>
              </a:rPr>
              <a:t>if construc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has the for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9040" y="2286000"/>
            <a:ext cx="8454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if compari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3352680"/>
            <a:ext cx="8381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the comparison is </a:t>
            </a:r>
            <a:r>
              <a:rPr b="0" lang="en-US" sz="3200" spc="-1" strike="noStrike">
                <a:solidFill>
                  <a:srgbClr val="ffe701"/>
                </a:solidFill>
                <a:latin typeface="Tahoma"/>
              </a:rPr>
              <a:t>tru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it moves on to the a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426708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the comparison is </a:t>
            </a:r>
            <a:r>
              <a:rPr b="0" lang="en-US" sz="3200" spc="-1" strike="noStrike">
                <a:solidFill>
                  <a:srgbClr val="ffe701"/>
                </a:solidFill>
                <a:latin typeface="Tahoma"/>
              </a:rPr>
              <a:t>fals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the program skips to the end stat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74640" y="2895480"/>
            <a:ext cx="8469360" cy="15368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Courier New"/>
              </a:rPr>
              <a:t>if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 constructs with array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1295280"/>
            <a:ext cx="83818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the comparison includes an array, all elements are compared.  An if construct requires all elements to be tru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4495680"/>
            <a:ext cx="83818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nce some elements of g are greater than 50 the statement is false so it skips to end.  There is no outp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73200" y="2743200"/>
            <a:ext cx="8470800" cy="26035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Courier New"/>
              </a:rPr>
              <a:t>els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143000"/>
            <a:ext cx="86868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3200" spc="-1" strike="noStrike">
                <a:solidFill>
                  <a:srgbClr val="ffe701"/>
                </a:solidFill>
                <a:latin typeface="Tahoma"/>
              </a:rPr>
              <a:t>els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ommand is another element in an if construct.  When the if comparison is false, the commands after else are execu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541008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te: MATLAB has a function to make the computer </a:t>
            </a: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bee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 You may use this as an error notice. You need to have your volume up to hear 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Courier New"/>
              </a:rPr>
              <a:t>elseif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1371600"/>
            <a:ext cx="4267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can be any number of </a:t>
            </a:r>
            <a:r>
              <a:rPr b="0" lang="en-US" sz="3200" spc="-1" strike="noStrike">
                <a:solidFill>
                  <a:srgbClr val="ffe701"/>
                </a:solidFill>
                <a:latin typeface="Tahoma"/>
              </a:rPr>
              <a:t>elseif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lauses, however there may only be one else clause. </a:t>
            </a:r>
            <a:r>
              <a:rPr b="0" lang="en-US" sz="3200" spc="-1" strike="noStrike">
                <a:solidFill>
                  <a:srgbClr val="ffe701"/>
                </a:solidFill>
                <a:latin typeface="Tahoma"/>
              </a:rPr>
              <a:t>elseif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useful when you have multiple comparisons to te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105520" y="1447920"/>
            <a:ext cx="31240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if grade&gt;=9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printf('A\n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'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lseif grade&gt;=8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printf(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'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B\n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'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lseif grade&gt;=7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printf(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'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\n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'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lseif grade&gt;=6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printf(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'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D\n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'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printf(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'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\n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'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5410080"/>
            <a:ext cx="7162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Note that the first </a:t>
            </a:r>
            <a:r>
              <a:rPr b="0" lang="en-US" sz="2400" spc="-1" strike="noStrike">
                <a:solidFill>
                  <a:srgbClr val="ffe701"/>
                </a:solidFill>
                <a:latin typeface="Tahoma"/>
              </a:rPr>
              <a:t>elseif</a:t>
            </a: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 argument that is true will be execu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ands 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1447920"/>
            <a:ext cx="83818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rite a function to determine if the length of a part is 10 cm with a 2% tolera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the previous problem write a function to permit input in inches. Note that 1 inch = 2.54 c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rite a program to ask for input of a temperature.  If the temperature is &gt; 25ºC, print ‘fan on’, otherwise print ‘fan off’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previous problem ask for input in Fahrenhe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cision mak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if constru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if 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logical operation (i.e., compariso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possible action o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elseif 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logical ope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possible action tw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possible action thre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1T23:02:08Z</dcterms:created>
  <dc:creator/>
  <dc:description/>
  <dc:language>en-US</dc:language>
  <cp:lastModifiedBy>eatonh</cp:lastModifiedBy>
  <dcterms:modified xsi:type="dcterms:W3CDTF">2007-02-13T14:45:23Z</dcterms:modified>
  <cp:revision>52</cp:revision>
  <dc:subject/>
  <dc:title>ES100: Lecture 12 Selection Structures</dc:title>
</cp:coreProperties>
</file>