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858-62FC-4158-9504-A8759E1D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CBC-C364-4E40-92F7-C69CF879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880-D908-466A-8B92-B639F1FD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207-57A6-4126-9EBB-2321E1F3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152B-E9BC-4694-B39A-3B00A5BA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8E1B-48B8-420D-9088-FAE69120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6C8A-7528-4B16-87CF-105C64D9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D010-7CF6-4974-AC5B-D37A81D8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FDA-0AD2-4237-9D14-4407CFA7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0427-2210-4DB2-A002-CA29592D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644F-4344-4D0C-930C-7FA88602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0EC-E5C7-4C61-910D-C7F78A95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F613-74A3-4EF0-A78C-F64E5CBD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30B5-7A3B-4F77-B9CC-7A9892CD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F80E-E04C-42CA-8ACA-D190D515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14BD-7226-42F1-B474-D71B47DF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A886-86A9-4F5B-A4F9-F63D8276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C27-CD3E-49C5-BB55-00D97438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470-19B9-4CCC-860D-37A8316D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1A9-066E-4944-8555-68CC7BBF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653-BEC7-496F-95B7-DDD91FF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521-5131-4AEF-972C-5CEDEB9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FC4-CB8A-46F1-86E3-4151B42A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723-2E60-4C8D-A72B-4C69210B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AF9D-0B92-4F66-9BEF-E47CA6FBC8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6FD5-EA87-48AE-96E6-1A004EEBDB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4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User-defined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 concept, syntax, and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5638680"/>
            <a:ext cx="1841760" cy="47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8280" y="5257800"/>
            <a:ext cx="458460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-12600" y="4572000"/>
            <a:ext cx="9156600" cy="83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Function with multiple inputs and output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celeration of a particle and the force acting on it are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= (v2-v1)/(t2-t1) </a:t>
            </a:r>
            <a:r>
              <a:rPr b="0" lang="en-US" sz="2800" spc="-1" strike="noStrike">
                <a:solidFill>
                  <a:srgbClr val="00b000"/>
                </a:solidFill>
                <a:latin typeface="Tahoma"/>
              </a:rPr>
              <a:t>% An approxima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= ma                  </a:t>
            </a:r>
            <a:r>
              <a:rPr b="0" lang="en-US" sz="2800" spc="-1" strike="noStrike">
                <a:solidFill>
                  <a:srgbClr val="00b000"/>
                </a:solidFill>
                <a:latin typeface="Tahoma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b000"/>
                </a:solidFill>
                <a:latin typeface="Tahoma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user-defined function can be created to perform both of the calcul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e acceleration_calculation function to calculate the acceleration and force on an object with the following propert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09680" y="2971800"/>
          <a:ext cx="4724640" cy="1035000"/>
        </p:xfrm>
        <a:graphic>
          <a:graphicData uri="http://schemas.openxmlformats.org/drawingml/2006/table">
            <a:tbl>
              <a:tblPr/>
              <a:tblGrid>
                <a:gridCol w="1629000"/>
                <a:gridCol w="1628640"/>
                <a:gridCol w="1467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1=4 m/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2=7 m/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= 2 kg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1= 0 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2= 10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04920" y="4114800"/>
            <a:ext cx="883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ince acceleration_calculation has two outputs, we must set it equal to two variables when we call it. The syntax i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acceleration, force]=acceleration_calculation(v2, v1, t2, t1, m)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e same method must be applied to all functions with multiple outputs in order for them to work proper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5562720"/>
            <a:ext cx="4889520" cy="46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6032520" cy="470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nctions with no in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need to access some constant value a number of times, instead of hard-coding the constant value every time it is needed, we can hard-code it once into a function that has no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constant is needed, its value is called via the fun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an example, if we needed, for whatever reason, the mass of the earth (in kg) multiple times, we could write a function to store it as follow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nctions with no out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 with no output can be used for many purposes, such as to plot figures from a set of input data or print input information to the command window (output here implies results from operations on input; no just display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ilt-in MATLAB function </a:t>
            </a:r>
            <a:r>
              <a:rPr b="0" lang="en-US" sz="3200" spc="-1" strike="noStrike">
                <a:solidFill>
                  <a:srgbClr val="5fd7b2"/>
                </a:solidFill>
                <a:latin typeface="Tahoma"/>
              </a:rPr>
              <a:t>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no output. It starts a timer going for use with another built-in MATLAB function, </a:t>
            </a:r>
            <a:r>
              <a:rPr b="0" lang="en-US" sz="3200" spc="-1" strike="noStrike">
                <a:solidFill>
                  <a:srgbClr val="5fd7b2"/>
                </a:solidFill>
                <a:latin typeface="Tahoma"/>
              </a:rPr>
              <a:t>to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Functions with no input or outpu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 with no input or output consists of some hard-coded information that is to be used in a specific proced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xample of this is a function that plots a specific figure. Plotting the figure is the only thing the function does; it does not have any input or operations that lead to computed values for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89880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3365280" cy="47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5041800" cy="835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1600200"/>
            <a:ext cx="4432320" cy="338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 Function with no input or outpu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457200"/>
            <a:ext cx="5649840" cy="4724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51055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the </a:t>
            </a:r>
            <a:r>
              <a:rPr b="0" lang="en-US" sz="2400" spc="-1" strike="noStrike">
                <a:solidFill>
                  <a:srgbClr val="5fd7b2"/>
                </a:solidFill>
                <a:latin typeface="Arial"/>
              </a:rPr>
              <a:t>st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nction generates a plot, in the strictest sense it does not have any output. If you try to evaluate the expression </a:t>
            </a:r>
            <a:r>
              <a:rPr b="0" lang="en-US" sz="2400" spc="-1" strike="noStrike">
                <a:solidFill>
                  <a:srgbClr val="5fd7b2"/>
                </a:solidFill>
                <a:latin typeface="Arial"/>
              </a:rPr>
              <a:t>A=st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MATLAB, you will get an error, because </a:t>
            </a:r>
            <a:r>
              <a:rPr b="0" lang="en-US" sz="2400" spc="-1" strike="noStrike">
                <a:solidFill>
                  <a:srgbClr val="5fd7b2"/>
                </a:solidFill>
                <a:latin typeface="Arial"/>
              </a:rPr>
              <a:t>st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no outp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tes on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bles that are created inside of a user-defined function may only be accessed from inside of that function. They are referred to as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local variab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function completes its operations, the local variables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are dele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mem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nly variable that appears in the workspace is the </a:t>
            </a: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outpu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f any, of the 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ely, functions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cess variables from the workspace (with the exception of any input parameters they might have or “global variables”---see MATLAB help on this matte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ype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mm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y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mand followed by the name of an M-file prints the contents of the M-file onto the Command Window. This includes any user-defined or built-in functions and command scripts available in MATLAB. Using the type command instead of the editor to view the contents of M-files can prevent you from accidentally changing the contents of your f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ype command is an alternative to using the Help Menu or editor for looking up details associated with functions &amp; comm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a function that converts Celsius temperatures into Fahrenhe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a function that takes force, displacement, and angle (in degrees) as input and outputs work. Use MATLAB help to find a cosine function that uses degre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concept and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 kinds of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input and 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input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output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no input or 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r-defined scripts &amp;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LAB is built around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comma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func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both sets are computer codes that accept input from the user and provide output. The latter does not use or save variables in the work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and M-file command scripts allow you to do technical computing efficiently; well designed code helps you to tasks multiple ti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necessary for you, as the programmer, to know exactly how a function performs its task; otherwise, how would you know that it is doing the task correc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ept on function M-fi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User-defined fun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similar to the MATLAB pre-defined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a certain number of inputs, perform some operation, and give output(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as with MATLAB built-in functions, we need to know what they are supposed to do, and know that it does it corre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yntax for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ing a user-defined 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y_function(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ng a user-defined 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function </a:t>
            </a: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= my_function(</a:t>
            </a: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value that is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my_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my_fun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forms a functional op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value that is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outpu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my_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 written in M-files. The M-file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ve the same name as the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tes on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convention for naming func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same as for variables. A function name must start with a letter, should be meaningful, should not use the name of an existing function, and should not be excessively l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rtant that you giv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meaningful variable nam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variables inside a function that you write, so that you and others can understand what the function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Com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ome extremely important in functions. Comments help both you and anyone who might use the function to understand what it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amples of function M-fi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volume = volume_sphere(radi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9810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= (4/3)*pi.*(radius^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666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 perimeter = perimeter_square(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4290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124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meter = 4 .* side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657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 root = square_ro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114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 = x.^(1/2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3365640" cy="4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4952880"/>
            <a:ext cx="3365640" cy="409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Using a function in the Command Window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-defined functions are accessed in the same way as any MATLAB built-in fun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unction M-file, in this case the perimeter_square function from the previous slide, must be saved as “perimeter_square.m” in your current directory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(otherwise it must be in the path)*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use it by typing in the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7913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*Note: The directory that your function is saved in MUST be in the path; otherwise MATLAB will not be able to find and run the fi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/output &amp;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kinds of functions can be created with different combinations of input and/or outp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input and output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input arguments and no output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output arguments and no input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neither input arguments nor output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5715000"/>
            <a:ext cx="6566040" cy="46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96880" y="5257800"/>
            <a:ext cx="7632720" cy="469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Function with multiple input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-defined functions can have a number of input parameters. They can also have a number of output para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all the constant acceleration equation  of free fa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+ (1/2)a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equation can be coded as a user-defined MATLAB function as follow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15Z</dcterms:modified>
  <cp:revision>57</cp:revision>
  <dc:subject/>
  <dc:title>ES100: Lecture 09 User-Defined Functions</dc:title>
</cp:coreProperties>
</file>