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9F2-8FE1-48CC-B477-FDA24A4B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4B8-CBF9-43BF-A056-A84AE18A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ADF-898A-401E-8351-DE799B95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444-27B0-4FF8-B50E-B3D1B4EF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40C1-A895-43F2-9A64-02814874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74DB-33E1-49F4-BD9F-A5695A01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55AA-B978-4E38-B8F1-EC88101E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A67A-E42E-47B4-AFE8-681BECB8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295B-BDC7-4490-BEDE-FDB755D2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8DD5-1AE9-4E0B-86F6-91845C33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AC1-412D-4295-AA48-327712B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2F8-A158-4856-B72F-6ED814CF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79AA-F1FA-44EA-86D9-F0C3011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1025-E358-4B52-9E56-C30BD0C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424D-10E6-4F65-A6E0-835AFCD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B5B-2318-403D-9108-C28E39E2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8E1-3EF6-4954-8E9C-E599BCFD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40E-42B9-4A18-9E32-56DB4F97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00B-A0E7-43C1-9AB5-B1EA6B9D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09D-977E-4B3B-B0D5-5BBD36A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F19-E838-46E2-B25B-D7428160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239-A004-4E61-BF0D-2CBD3943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9D9-691B-45DC-BCE2-2C28A784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7BF-9D4C-4743-8612-195C889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8C09-F95D-4B46-9EE6-CD6AADAC9E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3F41-F564-448B-BC57-0100A110D5C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4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User-defined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: concept, syntax, and exam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5638680"/>
            <a:ext cx="1841760" cy="47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68280" y="5257800"/>
            <a:ext cx="4584600" cy="46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-12600" y="4572000"/>
            <a:ext cx="9156600" cy="83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Function with multiple inputs and output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cceleration of a particle and the force acting on it are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= (v2-v1)/(t2-t1) </a:t>
            </a:r>
            <a:r>
              <a:rPr b="0" lang="en-US" sz="2800" spc="-1" strike="noStrike">
                <a:solidFill>
                  <a:srgbClr val="00b000"/>
                </a:solidFill>
                <a:latin typeface="Tahoma"/>
              </a:rPr>
              <a:t>% An approxima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 = ma                  </a:t>
            </a:r>
            <a:r>
              <a:rPr b="0" lang="en-US" sz="2800" spc="-1" strike="noStrike">
                <a:solidFill>
                  <a:srgbClr val="00b000"/>
                </a:solidFill>
                <a:latin typeface="Tahoma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00"/>
                </a:solidFill>
                <a:latin typeface="Tahoma"/>
              </a:rPr>
              <a:t>Newton’s second l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user-defined function can be created to perform both of the calcul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he acceleration_calculation function to calculate the acceleration and force on an object with the following propert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09680" y="2971800"/>
          <a:ext cx="4724640" cy="1035000"/>
        </p:xfrm>
        <a:graphic>
          <a:graphicData uri="http://schemas.openxmlformats.org/drawingml/2006/table">
            <a:tbl>
              <a:tblPr/>
              <a:tblGrid>
                <a:gridCol w="1629000"/>
                <a:gridCol w="1628640"/>
                <a:gridCol w="1467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1=4 m/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2=7 m/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= 2 kg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1= 0 s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2= 10 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304920" y="411480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ince acceleration_calculation has two outputs, we must set it equal to two variables when we call it. The syntax is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acceleration, force]=acceleration_calculation(v2, v1, t2, t1, m)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The same method must be applied to all functions with multiple outputs in order for them to work proper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71600" y="5562720"/>
            <a:ext cx="4889520" cy="46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066680" y="5181480"/>
            <a:ext cx="6032520" cy="4701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nctions with no in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need to access some constant value a number of times, instead of hard-coding the constant value every time it is needed, we can hard-code it once into a function that has no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the constant is needed, its value is called via the fun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an example, if we needed, for whatever reason, the mass of the earth (in kg) multiple times, we could write a function to store it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nctions with no out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 with no output can be used for many purposes, such as to plot figures from a set of input data or print input information to the command window (output here implies results from operations on input; no just display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uilt-in MATLAB function </a:t>
            </a:r>
            <a:r>
              <a:rPr b="0" lang="en-US" sz="3200" spc="-1" strike="noStrike">
                <a:solidFill>
                  <a:srgbClr val="5fd7b2"/>
                </a:solidFill>
                <a:latin typeface="Tahoma"/>
              </a:rPr>
              <a:t>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no output. It starts a timer going for use with another built-in MATLAB function, </a:t>
            </a:r>
            <a:r>
              <a:rPr b="0" lang="en-US" sz="3200" spc="-1" strike="noStrike">
                <a:solidFill>
                  <a:srgbClr val="5fd7b2"/>
                </a:solidFill>
                <a:latin typeface="Tahoma"/>
              </a:rPr>
              <a:t>to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Functions with no input or outpu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unction with no input or output consists of some hard-coded information that is to be used in a specific proced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example of this is a function that plots a specific figure. Plotting the figure is the only thing the function does; it does not have any input or operations that lead to computed values for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89880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365280" cy="47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5041800" cy="835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1600200"/>
            <a:ext cx="4432320" cy="3380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 Function with no input or outpu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7200"/>
            <a:ext cx="5649840" cy="4724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51055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the </a:t>
            </a:r>
            <a:r>
              <a:rPr b="0" lang="en-US" sz="2400" spc="-1" strike="noStrike">
                <a:solidFill>
                  <a:srgbClr val="5fd7b2"/>
                </a:solidFill>
                <a:latin typeface="Arial"/>
              </a:rPr>
              <a:t>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nction generates a plot, in the strictest sense it does not have any output. If you try to evaluate the expression </a:t>
            </a:r>
            <a:r>
              <a:rPr b="0" lang="en-US" sz="2400" spc="-1" strike="noStrike">
                <a:solidFill>
                  <a:srgbClr val="5fd7b2"/>
                </a:solidFill>
                <a:latin typeface="Arial"/>
              </a:rPr>
              <a:t>A=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MATLAB, you will get an error, because </a:t>
            </a:r>
            <a:r>
              <a:rPr b="0" lang="en-US" sz="2400" spc="-1" strike="noStrike">
                <a:solidFill>
                  <a:srgbClr val="5fd7b2"/>
                </a:solidFill>
                <a:latin typeface="Arial"/>
              </a:rPr>
              <a:t>st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no outp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tes on variab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ables that are created inside of a user-defined function may only be accessed from inside of that function. They are referred to as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local variab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 function completes its operations, the local variables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are dele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rom memo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nly variable that appears in the workspace is the </a:t>
            </a: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f any, of the 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sely, functions 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ccess variables from the workspace (with the exception of any input parameters they might have or “global variables”---see MATLAB help on this matt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yp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mm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mand followed by the name of an M-file prints the contents of the M-file onto the Command Window. This includes any user-defined or built-in functions and command scripts available in MATLAB. Using the type command instead of the editor to view the contents of M-files can prevent you from accidentally changing the contents of your f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type command is an alternative to using the Help Menu or editor for looking up details associated with functions &amp; comma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 function that converts Celsius temperatures into Fahrenhe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a function that takes force, displacement, and angle (in degrees) as input and outputs work. Use MATLAB help to find a cosine function that uses deg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concept and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kinds of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and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output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no input or out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r-defined scripts &amp;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is built around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comma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fun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both sets are computer codes that accept input from the user and provide output. The latter does not use or save variables in the work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and M-file command scripts allow you to do technical computing efficiently; well designed code helps you to tasks multiple ti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necessary for you, as the programmer, to know exactly how a function performs its task; otherwise, how would you know that it is doing the task correct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ept on function M-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User-defined func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re similar to the MATLAB pre-defined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a certain number of inputs, perform some operation, and give output(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as with MATLAB built-in functions, we need to know what they are supposed to do, and know that it does it correc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yntax for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ing a user-defined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my_function(x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ng a user-defined func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unction </a:t>
            </a: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= my_function(</a:t>
            </a: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value that is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my_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my_func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forms a functional op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d7b2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value that is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my_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s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e written in M-files. The M-file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mu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ve the same name as the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otes on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convention for naming fun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the same as for variables. A function name must start with a letter, should be meaningful, should not use the name of an existing function, and should not be excessively l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important that you giv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meaningful variable nam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variables inside a function that you write, so that you and others can understand what the function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Comm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ecome extremely important in functions. Comments help both you and anyone who might use the function to understand what it do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s of function M-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nction volume = volume_sphere(radi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981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= (4/3)*pi.*(radius^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66688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 perimeter = perimeter_square(s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42900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meter = 4 .* side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657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 root = square_root(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4114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 = x.^(1/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3365640" cy="4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4952880"/>
            <a:ext cx="3365640" cy="4096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Using a function in the Command Window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r-defined functions are accessed in the same way as any MATLAB built-in func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unction M-file, in this case the perimeter_square function from the previous slide, must be saved as “perimeter_square.m” in your current directory </a:t>
            </a: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(otherwise it must be in the path)*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use it by typing in the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7913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ahoma"/>
              </a:rPr>
              <a:t>*Note: The directory that your function is saved in MUST be in the path; otherwise MATLAB will not be able to find and run the fi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/output &amp;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ral kinds of functions can be created with different combinations of input and/or outpu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and out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input arguments and no out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output arguments and no in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tions with neither input arguments nor output argu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5715000"/>
            <a:ext cx="6566040" cy="469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96880" y="5257800"/>
            <a:ext cx="7632720" cy="469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Function with multiple input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-defined functions can have a number of input parameters. They can also have a number of output para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all the constant acceleration equation  of free fa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+ 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 + (1/2)a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equation can be coded as a user-defined MATLAB function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15Z</dcterms:modified>
  <cp:revision>57</cp:revision>
  <dc:subject/>
  <dc:title>ES100: Lecture 09 User-Defined Functions</dc:title>
</cp:coreProperties>
</file>