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8DDD-1855-454C-931C-9399B029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B566-A1BD-43D6-BDF0-ADEFC9C8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6FB0-3485-46E5-B517-9B4D5C5F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8580-B176-4BBC-BC34-B285EEE5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AA02-1FFA-48DA-990A-B9C06B05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2EA4-F37A-4D94-85FA-EA53A37D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B0A0-172F-4FC8-BDFD-461F397C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581F-C920-42EF-8D06-9A6091DD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983A-AEFF-48AE-B5CB-AC2A7FD5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55EF-2A40-444B-BB56-1B31BDB4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F206-4CAC-44AB-915F-512CF40D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ECAF-9AE0-4D46-85AA-CB05E66A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8A62-591F-4A48-9837-01C58094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0077-1ADF-4559-A3F7-0D7392DF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892E-0BF2-40FC-B745-C2188D96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D2BC-0A96-4C8E-B411-2E0E983F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BAD4-C749-4EFB-8AC6-5C31F472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1B1C-2554-4B33-850B-0DF14B5F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E1F2-D871-40F4-9573-42E8B0A1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D2DA-0930-45F3-A108-34C4705D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0ED8-311D-4B76-BD4B-7ECBED71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BFAA-B797-4779-8A58-5279D9FB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2AD7-B6C9-4F81-933B-0F70F43A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9837-0CE4-4633-8A3F-2767A772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B0D2-53C1-4692-B8D1-041FAFA7C5F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646C-31BF-4327-8D6A-8C2AD06CE6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Lecture 15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Practice &amp; exploration 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functions: Functions within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essing Game”: A hands-on exercise in evolutionary desig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9156600" cy="2695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dding a 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loo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ollowing modification lets the user guess until the secret number is foun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ple ru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ter a guess: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oo l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ter a guess: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oo hi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ter a guess: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oo hi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ter a guess: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oo hi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ter a guess: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orrect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1600200"/>
            <a:ext cx="4495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ame is more interactive now. However, we always know that the right answer is two. Now add a randomly generated number as the secret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3370320"/>
            <a:ext cx="4127760" cy="592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dding random numb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lace the hard-coded secret number with the following line; this is intended to give a randomly generated secret numb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will not do the trick for the reasons described nex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Random number generato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rand(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unction generates random numbers from 0 to 1. Used appropriately, we can determine random numbers of an size. This is illustrated nex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Adding random integ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ollowing formula generates random numbers over a range from “low” to “high”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secret = (high – low)*rand() + l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 we need to round the random number for the game, so that we have an integer instead of a decimal numb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secret = round((high – low)*rand() + l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us set the limits of the game to a guess of an integer from 1 to 10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ple ru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ter a guess: 5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oo hi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ter a guess: 2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oo l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ter a guess: 3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oo l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ter a guess: 4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oo l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ter a guess: 4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oo hi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ter a guess: 4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oo hi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ter a guess: 4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orrect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xercis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lines to your guessing game to keep track of the number of guesses it took to get the right answer. Also, add a subfunction with input parameters to allow the user to pick a new range of integers  from which to gue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lecture we learned how to use subfunctions within functi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lecture we learned to use MATLAB as a notepad to develop ideas and code that uses the random number capability of MATLA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ark: This exploratory work ould play important roles in the step of the program design procedure via the Structure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Application of the tools in MATLAB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gramming tools investigated in this course are, of course, intended to be combined in your computer programs to solve your technical computing probl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, as an engineer or scientist,  need to write a program in MATLAB to accomplish a technical computing task, the more you learn about MATLAB the better; we have only touched the surface of the capabilities of MATLAB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Subfunction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Subfunc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functions that are used by other functions. They allow you to separate tasks within your progra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functions are often used as “utility functions” to perform calculations within a main fun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use for subfunctions is printing values to the command window. This is used to separate the mathematical tasks of a function from the print-statement output task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3520" y="4724280"/>
            <a:ext cx="3517920" cy="409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280" y="5457960"/>
            <a:ext cx="774720" cy="409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3520" y="5076720"/>
            <a:ext cx="4279680" cy="409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447920" y="4038480"/>
            <a:ext cx="2832120" cy="409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33520" y="4343400"/>
            <a:ext cx="1003320" cy="409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33520" y="3171960"/>
            <a:ext cx="3136680" cy="409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533520" y="3629160"/>
            <a:ext cx="3365280" cy="409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4876920" y="2762280"/>
            <a:ext cx="4127400" cy="1047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152280" y="2790720"/>
            <a:ext cx="2908440" cy="4096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xample of subfun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5927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ean is 0.453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295280"/>
            <a:ext cx="8226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ider writing a function that calculates the me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 a set of random numbers. You can write a function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te the random numbers and a subfunction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culate their mean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uessing Game Exercis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exercise you are going to combine many of the concepts you have learned to build a guessing game fun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pproach taken in this exercise is exploratory. MATLAB is used like a note pad to explore the development of a ga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itially the game we design will be very simple; the design will evolve by re-building it in attempts to enhance its capabili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3949560"/>
            <a:ext cx="3137040" cy="470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295280" y="4267080"/>
            <a:ext cx="2603520" cy="470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282680" y="5184720"/>
            <a:ext cx="7251840" cy="835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282680" y="4648320"/>
            <a:ext cx="6413400" cy="469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itial desig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itial game: A “secret number” will be hard-coded into the function. It will prompt the user for a guess and indicate whether it is or is not the secret numb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ple ru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3188880"/>
            <a:ext cx="8229600" cy="28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game is not very interactive (of course); w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y guess once before the game ends. Also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ame does not check to see if the gu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too high, too low, or correct. We c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d code to extend the tool to accomplish th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5238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ter a guess: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Your guess was 3. The secret number was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28800" y="3129120"/>
            <a:ext cx="5194440" cy="35002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dding if statem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the following set of if statements so that the game tells the user if the guess is too high, too low, or corr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ple ru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ter a guess: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oo hi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Your guess was 4. The secret number was 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365760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uessing game now tells the user if the guess is too high or too low. However, it allows only one guess. Add a while loop to allow for multiple guesses until the guess is corr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5:07Z</dcterms:modified>
  <cp:revision>62</cp:revision>
  <dc:subject/>
  <dc:title>ES100: Lecture 16 Function Practice</dc:title>
</cp:coreProperties>
</file>