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910-CD1E-4291-8177-CD549020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302-5415-4DAD-B62E-C32634DE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021-3983-43D2-9FD3-1742F4DA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4EC-51F3-4F56-AA86-DB90290B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C853-0F01-4096-9048-B0587CB4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9931-86B5-45DB-9638-1E96F435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9FFE-FFE2-40E0-8943-CBC8C564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316D-4D9A-4BFA-9063-68050BB4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B563-1D22-4E0F-BC0F-22EC442F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7E78-29C4-454B-B2F6-9ED95C5B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AA94-1EC6-4D18-A226-CF3ACC7A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624-FDE3-4330-9D99-DE1D3CCF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B42C-C05D-4CB5-851A-91E0BF84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7F63-7134-4666-9F01-73C2945D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7FBE-95F0-446A-AE89-408D8C2E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BD94-C459-4FD1-BE08-7646E512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5F69-E2F5-4D9A-8576-85043A12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0D3F-0CB1-4368-9DC3-F103B96A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0B9-BEA6-4770-9ED3-9B794974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643-BD1B-402B-A899-6FDF946E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9CBF-7FE1-4486-815C-54CC984A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6C1-5E3C-4FA4-9A58-B46EC632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9B8B-AD22-49C9-896A-8C855851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58D-4FE9-4B9B-A046-9155739A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6992-A133-4309-BFB5-8BD1064AFB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5C6C-D608-496A-90CB-2DCE4F7560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5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Practice &amp; exploration 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functions: Functions within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essing Game”: A hands-on exercise in evolutionary 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9156600" cy="2695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ding a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loo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ollowing modification lets the user guess until the secret number is fou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ple ru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00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orrec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1600200"/>
            <a:ext cx="4495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ame is more interactive now. However, we always know that the right answer is two. Now add a randomly generated number as the secret nu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3370320"/>
            <a:ext cx="4127760" cy="592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ding random numb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lace the hard-coded secret number with the following line; this is intended to give a randomly generated secret numb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will not do the trick for the reasons described n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andom number generato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rand(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unction generates random numbers from 0 to 1. Used appropriately, we can determine random numbers of an size. This is illustrated nex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Adding random integ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ollowing formula generates random numbers over a range from “low” to “high”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ecret = (high – low)*rand() +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we need to round the random number for the game, so that we have an integer instead of a decimal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ecret = round((high – low)*rand() + l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us set the limits of the game to a guess of an integer from 1 to 10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ple ru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2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3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orrec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lines to your guessing game to keep track of the number of guesses it took to get the right answer. Also, add a subfunction with input parameters to allow the user to pick a new range of integers  from which to gue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lecture we learned how to use subfunctions within func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lecture we learned to use MATLAB as a notepad to develop ideas and code that uses the random number capability of MATL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ark: This exploratory work ould play important roles in the step of the program design procedure via the Structure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Application of the tools in MATLAB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gramming tools investigated in this course are, of course, intended to be combined in your computer programs to solve your technical computing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, as an engineer or scientist,  need to write a program in MATLAB to accomplish a technical computing task, the more you learn about MATLAB the better; we have only touched the surface of the capabilities of MATLAB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ubfunc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Subfunc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functions that are used by other functions. They allow you to separate tasks within your progra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functions are often used as “utility functions” to perform calculations within a main fun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use for subfunctions is printing values to the command window. This is used to separate the mathematical tasks of a function from the print-statement output task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3517920" cy="40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5457960"/>
            <a:ext cx="774720" cy="409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3520" y="5076720"/>
            <a:ext cx="4279680" cy="409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447920" y="4038480"/>
            <a:ext cx="2832120" cy="4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33520" y="4343400"/>
            <a:ext cx="1003320" cy="409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33520" y="3171960"/>
            <a:ext cx="3136680" cy="409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33520" y="3629160"/>
            <a:ext cx="3365280" cy="409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4876920" y="2762280"/>
            <a:ext cx="4127400" cy="104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152280" y="2790720"/>
            <a:ext cx="2908440" cy="409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ample of sub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927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ean is 0.453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295280"/>
            <a:ext cx="8226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 writing a function that calculates the me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a set of random numbers. You can write a function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te the random numbers and a subfunction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culate their mean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Guessing Game Exerci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exercise you are going to combine many of the concepts you have learned to build a guessing game fun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pproach taken in this exercise is exploratory. MATLAB is used like a note pad to explore the development of a ga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itially the game we design will be very simple; the design will evolve by re-building it in attempts to enhance its capabili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3949560"/>
            <a:ext cx="3137040" cy="47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4267080"/>
            <a:ext cx="2603520" cy="47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82680" y="5184720"/>
            <a:ext cx="7251840" cy="835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82680" y="4648320"/>
            <a:ext cx="6413400" cy="469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itial desig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nitial game: A “secret number” will be hard-coded into the function. It will prompt the user for a guess and indicate whether it is or is not the secret numb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ple ru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188880"/>
            <a:ext cx="8229600" cy="28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game is not very interactive (of course); w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guess once before the game ends. Also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ame does not check to see if the gu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too high, too low, or correct. We c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 code to extend the tool to accomplish th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523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our guess was 3. The secret number was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3129120"/>
            <a:ext cx="5194440" cy="3500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dding if statem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the following set of if statements so that the game tells the user if the guess is too high, too low, or corr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ple ru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er a guess: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oo hi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our guess was 4. The secret number was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65760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uessing game now tells the user if the guess is too high or too low. However, it allows only one guess. Add a while loop to allow for multiple guesses until the guess is corr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07Z</dcterms:modified>
  <cp:revision>62</cp:revision>
  <dc:subject/>
  <dc:title>ES100: Lecture 16 Function Practice</dc:title>
</cp:coreProperties>
</file>